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8413-68EC-40E4-8D59-51E7F1673B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A045-AB24-48FD-AD3D-67D5ED5166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МЕРНОСТЬ СОЗНАНИЯ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3C50-4F90-4A39-BD80-56A6EB2379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мещение теософической и Агни-Йогический поз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Философский язык Живот Этики – Агни Йоги, конечно, не лишен восточной терминологии и оригинальной стилистики по сравнению с теософией. Однако по многим своим параметрам он оказался проще и доступнее языка теософского текста 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века. Так, в частности, теософска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емиуровне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тологических паттернов космической реальности в Живой Этике трансформируется в более просту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трехуровневую мод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и уровни реальности называются «Плотный мир», «Тонкий мир» и «Огненный мир»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Р.Абле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4A87-ABE3-49A5-AFAA-98B492B39E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бъединения многомерности сознания разных традиций 7 + 4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E1BB-1E4F-4B6C-9C7C-51D224FDF2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ы (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в данной статье сводится воедино современная физическая картина мира (многомерность сознания) с древняя эзотерической доктриной. Решение этого внешнего противоречия пока является теоретическим и ждет проверки практикой. Хотя в приложении к сознанию это будет сделать крайне трудно. Но, тем не менее, гипотеза есть. Пусть это будет малым приближением в осмыслении великого понятия Сознания, которое ведет человечество в эволюцию. Ведь не даром сказано, что «Это есть ЕДИНАЯ ЖИЗНЬ, вечная, невидимая и, в то же время, вездесущая, без начала и конца, но периодичная в своих регулярных проявлениях, между которыми царствует мрак тайны Не-Бытия; несознательное, вместе с тем Абсолютное Сознание, непостижимая, тем не менее, единая самосущая Реальность; истинно, Хаос для чувств, Космос для разума. На эзотерическом языке ее единое абсолютное свойство, вечно непрекращающееся Движение, называется Великим Дыханием, и является непрестанным движением Вселенной в смысле беспредельного, вечносущего Пространства. То, что лишено движения не может быть Божественным. Но фактически и в действительности нет ничего абсолютно неподвижного во Вселенской Душе». Е.П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 (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идет время, когда скрытые тайны природы и Высшее знание, находящееся ныне в обладании Великих Учителей, станут доступными массам. К этому ведут человечество те, кто идет впереди, непосредственно руководимые Владыками Света. И конечно, и прежде всего Сами Великие Учителя, время от времени приходящие на Землю и живущие среди людей. Цель их одна – дать людям знание, и притом так, чтобы они им не злоупотребили. Опасность этого злоупотребления велика. Могут уничтожить Землю. Потому путями непосредственного познавания Ведем лишь немногих избранных, проверенных и испытанных на протяжении тысячелетий совместной работы. Только им Доверяем и Будем давать через них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 Агни Йоги 195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8E0A-2492-49DC-AD0A-DB39FDA3E4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нонс рабо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анализированы древнейшие теории состава человека и его сознания, а также современные физические теории.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гументирована гипотеза  объединения эзотерической и современной физической картины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посильный вклад в приближение к выполнению завета Агни Йоги о том, ч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древние символы знания должны превратиться в научные формулы»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гни Йога, Братство, Ч.1, 4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6D12-9194-4371-B597-2B292CE133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0447-7B94-479F-B986-C990E10542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ановка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88B5-B08B-4054-8A06-AE0986AD4E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670C-B8E1-42AA-BD26-09C5F924A4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ак что верно 7-3-11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319C-EA58-4F99-A692-6E77629C78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ановка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мертная триа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3C6D-6B2D-439B-9F2E-8B1D9D0414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7682-C078-40D5-83D2-82BD7D6BEF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софическая традиц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яснения Е.И.Рерих Том III (1935 г.). «К семеричному подразделению тела челове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1. Физическое т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Эфирный двойник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ываемый низшим астральным телом). Многие феномены на спиритических сеансах совершаются при помощи, именно, эфирного двойника меди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Пран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жизненный принцип, нераздельный от всех проявлений в Космо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4. Кам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животная душа (или высшее астральное тело, через которое проявляется желание в двух аспектах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Кама-Манас - низший ум или интелл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Кама-Рупа - форма (субъективная форма ментальных и физических желаний и мыслей, или мыслитель в действии).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5. Манас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самосознание или мыслитель (Высший Разу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6. Буддх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духовность, духовная душа - в отличие от человеческо-животной души - проводник, через который проявляется Ат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7. Атм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Дух, или огненное начало, или энергия, разлитая во всем Космос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24B-4E6E-4C00-BE29-01AB972F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6E3-56AB-40BE-A3AB-BDE924CF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F62-B3A0-4954-A8CA-29B70C2B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706E-2840-430E-80D9-15F48825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8213-5680-485A-919B-75B1CA7C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C755-F87F-4E88-BC51-ED04DCDA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D2E3-820B-48B3-9995-3C95CD1F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E656-448B-4AE0-89A5-233E5984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E1CD-5922-40AA-A38C-8FECA818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DF07-EF90-403C-9820-85D848AB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652C-05B5-4BE3-8BBC-1C318833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CDFB-B176-437C-AAD8-3C5AB159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690C-B31D-42FF-AD42-1866485F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6B4D-BD00-4180-B063-2C1D931D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F474-A56F-43D3-89E9-6A871C27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6465-0CA5-4B14-9923-120F637A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6F2B-4DC7-4F78-AED3-2A9EA866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87D-E4E1-4FC5-AC25-C25B2936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ACE-23B2-48A5-A757-BF51BDA1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56F1-DEE2-4DED-BDF0-66979374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D9F-21A0-4B12-96AC-ED416AA5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2A22-7AC0-4D8F-BEDC-35088FA9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279-3931-4F5B-9F47-DD73F1B5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90F-3D25-404F-8D66-0B523519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78B8-373F-43F3-9205-E3C26820235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CF6C-6649-411F-AA97-DDE4A4A90AA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ru.wikipedia.org/wiki/&#1060;&#1072;&#1081;&#1083;:Angelsatmamre-trinity-rublev-1410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68482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НОГОМЕРНОСТЬ СОЗНАНИЯ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564000" y="3049560"/>
            <a:ext cx="353376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58" name="Picture 8" descr="donntu_gerb1"/>
          <p:cNvPicPr/>
          <p:nvPr/>
        </p:nvPicPr>
        <p:blipFill>
          <a:blip r:embed="rId1"/>
          <a:stretch/>
        </p:blipFill>
        <p:spPr>
          <a:xfrm>
            <a:off x="7451640" y="549360"/>
            <a:ext cx="1479600" cy="2087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logo2_new"/>
          <p:cNvPicPr/>
          <p:nvPr/>
        </p:nvPicPr>
        <p:blipFill>
          <a:blip r:embed="rId2"/>
          <a:stretch/>
        </p:blipFill>
        <p:spPr>
          <a:xfrm>
            <a:off x="324000" y="2924280"/>
            <a:ext cx="3095640" cy="24508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Совмещение теософической и Агни-Йогический позиции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Философский язык Живот Этики – Агни Йоги, конечно, не лишен восточной терминологии и оригинальной стилистики по сравнению с теософией. Однако по многим своим параметрам он оказался проще и доступнее языка теософского текста 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века. Так, в частности, теософская 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семиуровнев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нтологических паттернов космической реальности в Живой Этике трансформируется в более простую 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трехуровневую модель</a:t>
            </a: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и уровни реальности называются «Плотный мир», «Тонкий мир» и «Огненный мир»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Р.Аб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Гипотеза объединения многомерности сознания разных традиций 7 + 4 = 11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4" descr="2"/>
          <p:cNvPicPr/>
          <p:nvPr/>
        </p:nvPicPr>
        <p:blipFill>
          <a:blip r:embed="rId1"/>
          <a:stretch/>
        </p:blipFill>
        <p:spPr>
          <a:xfrm>
            <a:off x="4643280" y="1557360"/>
            <a:ext cx="4159440" cy="4680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1_"/>
          <p:cNvPicPr/>
          <p:nvPr/>
        </p:nvPicPr>
        <p:blipFill>
          <a:blip r:embed="rId2"/>
          <a:stretch/>
        </p:blipFill>
        <p:spPr>
          <a:xfrm>
            <a:off x="539640" y="1628640"/>
            <a:ext cx="4160880" cy="4399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423px-Banner_of_Peace_from_the_Roerich_Pact.svg.png"/>
          <p:cNvPicPr/>
          <p:nvPr/>
        </p:nvPicPr>
        <p:blipFill>
          <a:blip r:embed="rId3"/>
          <a:stretch/>
        </p:blipFill>
        <p:spPr>
          <a:xfrm>
            <a:off x="4284720" y="17733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Выводы (1)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в данной статье сводится воедино современная физическая картина мира (многомерность сознания) с древняя эзотерической доктриной. Решение этого внешнего противоречия пока является теоретическим и ждет проверки практикой. Хотя в приложении к сознанию это будет сделать крайне трудно. Но, тем не менее, гипотеза есть. Пусть это будет малым приближением в осмыслении великого понятия Сознания, которое ведет человечество в эволюцию. Ведь не даром сказано, что «Это есть ЕДИНАЯ ЖИЗНЬ, вечная, невидимая и, в то же время, вездесущая, без начала и конца, но периодичная в своих регулярных проявлениях, между которыми царствует мрак тайны Не-Бытия; несознательное, вместе с тем Абсолютное Сознание, непостижимая, тем не менее, единая самосущая Реальность; истинно, Хаос для чувств, Космос для разума. На эзотерическом языке ее единое абсолютное свойство, вечно непрекращающееся Движение, называется Великим Дыханием, и является непрестанным движением Вселенной в смысле беспредельного, вечносущего Пространства. То, что лишено движения не может быть Божественным. Но фактически и в действительности нет ничего абсолютно неподвижного во Вселенской Душе». Е.П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Выводы (2)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идет время, когда скрытые тайны природы и Высшее знание, находящееся ныне в обладании Великих Учителей, станут доступными массам. К этому ведут человечество те, кто идет впереди, непосредственно руководимые Владыками Света. И конечно, и прежде всего Сами Великие Учителя, время от времени приходящие на Землю и живущие среди людей. Цель их одна – дать людям знание, и притом так, чтобы они им не злоупотребили. Опасность этого злоупотребления велика. Могут уничтожить Землю. Потому путями непосредственного познавания Ведем лишь немногих избранных, проверенных и испытанных на протяжении тысячелетий совместной работы. Только им Доверяем и Будем давать через них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 Агни Йоги 195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Анонс работ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Проанализированы древнейшие теории состава человека и его сознания, а также современные физические теории. 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Аргументирована гипотеза  объединения эзотерической и современной физической картины мир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Это посильный вклад в приближение к выполнению завета Агни Йоги о том, что </a:t>
            </a:r>
            <a:r>
              <a:rPr b="1" i="1" lang="ru-RU" sz="2700" spc="-1" strike="noStrike">
                <a:solidFill>
                  <a:srgbClr val="330066"/>
                </a:solidFill>
                <a:latin typeface="Arial"/>
              </a:rPr>
              <a:t>«древние символы знания должны превратиться в научные формулы».</a:t>
            </a:r>
            <a:r>
              <a:rPr b="1" lang="ru-RU" sz="27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Агни Йога, Братство, Ч.1, 42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43848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1"/>
          <p:cNvPicPr/>
          <p:nvPr/>
        </p:nvPicPr>
        <p:blipFill>
          <a:blip r:embed="rId1"/>
          <a:stretch/>
        </p:blipFill>
        <p:spPr>
          <a:xfrm>
            <a:off x="395280" y="189000"/>
            <a:ext cx="4313160" cy="63514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5003640" y="981000"/>
            <a:ext cx="338472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«физическая и психическая реальности имеют неразрывную взаимосвязь и являются лишь частными случаями еще мало осмысленной в своей многомерной сложности интегральной космической Реа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С.Р.Абл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Так что верно 7-3-11 ??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21" descr="1_"/>
          <p:cNvPicPr/>
          <p:nvPr/>
        </p:nvPicPr>
        <p:blipFill>
          <a:blip r:embed="rId1"/>
          <a:stretch/>
        </p:blipFill>
        <p:spPr>
          <a:xfrm>
            <a:off x="0" y="1628640"/>
            <a:ext cx="3819600" cy="4038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3" descr="423px-Banner_of_Peace_from_the_Roerich_Pact.svg.png"/>
          <p:cNvPicPr/>
          <p:nvPr/>
        </p:nvPicPr>
        <p:blipFill>
          <a:blip r:embed="rId2"/>
          <a:stretch/>
        </p:blipFill>
        <p:spPr>
          <a:xfrm>
            <a:off x="4067280" y="2060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5" descr="m_orif"/>
          <p:cNvPicPr/>
          <p:nvPr/>
        </p:nvPicPr>
        <p:blipFill>
          <a:blip r:embed="rId3"/>
          <a:stretch/>
        </p:blipFill>
        <p:spPr>
          <a:xfrm>
            <a:off x="6516720" y="1700280"/>
            <a:ext cx="2333520" cy="381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Angelsatmamre-trinity-rublev-141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1989000"/>
            <a:ext cx="2857320" cy="35625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ессмертная триад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3" name="Picture 5" descr="Фото М. В. Нестеров. Троица Ветхозаветная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1557360"/>
            <a:ext cx="7272360" cy="476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423px-Banner_of_Peace_from_the_Roerich_Pact.svg.png"/>
          <p:cNvPicPr/>
          <p:nvPr/>
        </p:nvPicPr>
        <p:blipFill>
          <a:blip r:embed="rId3"/>
          <a:stretch/>
        </p:blipFill>
        <p:spPr>
          <a:xfrm>
            <a:off x="6300720" y="3333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Теософическая традиция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(пояснения Е.И.Рерих Том III (1935 г.). «К семеричному подразделению тела человека»: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1. Физическое те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2. Эфирный двойник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ываемый низшим астральным телом). Многие феномены на спиритических сеансах совершаются при помощи, именно, эфирного двойника медиу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3. Пран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жизненный принцип, нераздельный от всех проявлений в Космо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4. Ка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животная душа (или высшее астральное тело, через которое проявляется желание в двух аспектах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Кама-Манас - низший ум или интелл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Кама-Рупа - форма (субъективная форма ментальных и физических желаний и мыслей, или мыслитель в действии).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5. Мана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самосознание или мыслитель (Высший Разу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6. Буддх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духовность, духовная душа - в отличие от человеческо-животной души - проводник, через который проявляется Ат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7. Ат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Дух, или огненное начало, или энергия, разлитая во всем Космос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8:35:35Z</dcterms:created>
  <dc:creator>Fernando Merello</dc:creator>
  <dc:description/>
  <dc:language>en-US</dc:language>
  <cp:lastModifiedBy>LEGION</cp:lastModifiedBy>
  <dcterms:modified xsi:type="dcterms:W3CDTF">2014-11-11T07:57:02Z</dcterms:modified>
  <cp:revision>46</cp:revision>
  <dc:subject/>
  <dc:title>COIN Project: lessons learned during the first year of the project</dc:title>
</cp:coreProperties>
</file>