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34E9-3C15-4EDC-B49E-B30ADCAEC1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2EFB-72B2-45B6-9B8B-B5574FF845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МЕРНОСТЬ СОЗНАНИЯ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F146-65D3-4CA9-8256-FB6CBD3886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мещение теософической и Агни-Йогический пози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Философский язык Живот Этики – Агни Йоги, конечно, не лишен восточной терминологии и оригинальной стилистики по сравнению с теософией. Однако по многим своим параметрам он оказался проще и доступнее языка теософского текста 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века. Так, в частности, теософска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емиуровне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нтологических паттернов космической реальности в Живой Этике трансформируется в более просту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трехуровневую мод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и уровни реальности называются «Плотный мир», «Тонкий мир» и «Огненный мир»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Р.Абле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79BC-DA77-4026-8256-518EAEEDE8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бъединения многомерности сознания разных традиций 7 + 4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AC1F-AA97-4E7A-A156-EA928CB79C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ы (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в данной статье сводится воедино современная физическая картина мира (многомерность сознания) с древняя эзотерической доктриной. Решение этого внешнего противоречия пока является теоретическим и ждет проверки практикой. Хотя в приложении к сознанию это будет сделать крайне трудно. Но, тем не менее, гипотеза есть. Пусть это будет малым приближением в осмыслении великого понятия Сознания, которое ведет человечество в эволюцию. Ведь не даром сказано, что «Это есть ЕДИНАЯ ЖИЗНЬ, вечная, невидимая и, в то же время, вездесущая, без начала и конца, но периодичная в своих регулярных проявлениях, между которыми царствует мрак тайны Не-Бытия; несознательное, вместе с тем Абсолютное Сознание, непостижимая, тем не менее, единая самосущая Реальность; истинно, Хаос для чувств, Космос для разума. На эзотерическом языке ее единое абсолютное свойство, вечно непрекращающееся Движение, называется Великим Дыханием, и является непрестанным движением Вселенной в смысле беспредельного, вечносущего Пространства. То, что лишено движения не может быть Божественным. Но фактически и в действительности нет ничего абсолютно неподвижного во Вселенской Душе». Е.П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 (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ридет время, когда скрытые тайны природы и Высшее знание, находящееся ныне в обладании Великих Учителей, станут доступными массам. К этому ведут человечество те, кто идет впереди, непосредственно руководимые Владыками Света. И конечно, и прежде всего Сами Великие Учителя, время от времени приходящие на Землю и живущие среди людей. Цель их одна – дать людям знание, и притом так, чтобы они им не злоупотребили. Опасность этого злоупотребления велика. Могут уничтожить Землю. Потому путями непосредственного познавания Ведем лишь немногих избранных, проверенных и испытанных на протяжении тысячелетий совместной работы. Только им Доверяем и Будем давать через них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ни Агни Йоги 1957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AC6A-1604-40C0-A72B-5708888139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нонс рабо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анализированы древнейшие теории состава человека и его сознания, а также современные физические теории.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гументирована гипотеза  объединения эзотерической и современной физической картины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посильный вклад в приближение к выполнению завета Агни Йоги о том, ч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древние символы знания должны превратиться в научные формулы»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гни Йога, Братство, Ч.1, 4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D828-9F4E-46D3-A4AB-EACDF15575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E2EA-2A6E-477C-9454-080F55ECF0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ановка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D4BA-47AB-4D57-B1D3-C0B81EB088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F95E-9572-4050-B91D-2DDAA76763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ак что верно 7-3-11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21D1-9A0D-4A71-8C8C-5BF182497E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ановка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мертная триа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5FB9-7E70-442B-B7BE-C7B080FE48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11D4-C3D3-464E-9A28-FBC855E0BB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софическая традиц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яснения Е.И.Рерих Том III (1935 г.). «К семеричному подразделению тела челове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1. Физическое т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Эфирный двойник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ываемый низшим астральным телом). Многие феномены на спиритических сеансах совершаются при помощи, именно, эфирного двойника меди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Пран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жизненный принцип, нераздельный от всех проявлений в Космо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4. Кам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животная душа (или высшее астральное тело, через которое проявляется желание в двух аспектах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Кама-Манас - низший ум или интелл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Кама-Рупа - форма (субъективная форма ментальных и физических желаний и мыслей, или мыслитель в действии).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5. Манас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самосознание или мыслитель (Высший Разу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6. Буддх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духовность, духовная душа - в отличие от человеческо-животной души - проводник, через который проявляется Ат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7. Атм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Дух, или огненное начало, или энергия, разлитая во всем Космос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B5F-CCF2-431F-A8AF-0773DAD6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CF56-8DD6-40F3-9AF2-66C8E4EB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745-8713-492C-BC0E-95836527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ADF-ED4B-4584-89FE-C47F3BBB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712A-6911-4E69-8A70-1204384E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D40C-D250-4015-9202-4F1236E9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457F-AB70-4046-BBA1-8F7FD486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C443-2ADF-4550-9A2A-9D5CF661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CB10-49C2-43E3-A528-EC63E18D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D80E-9DC2-4FBF-B8A2-649012C0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76FA-5D7E-49E3-B619-E598D0B2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B8E3-65FA-473C-92EC-8F343FAF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A768-E22E-440F-9076-3F28BE2A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9005-F6C9-4073-8DCD-682BD88F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E141-AE28-4522-A206-1D082A88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5D67-DD01-4A5D-B657-2F3E553F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60DC-2572-4DD0-B018-B6AA1D56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676-E607-4D93-B846-B1928AD4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5D3-42C4-419E-BD6D-486F2BAA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3A6-56E4-485B-92F9-60590212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C427-44FF-4905-9926-01032F9B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A20C-B567-46AA-95F9-4288CA59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0832-B10E-43E5-9332-5A85FA5B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85C-BE2E-47B9-90DF-3F972348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560E-9CAE-4748-BC0C-8BE30DF40D7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D52A-2B70-4722-BB7B-58D0C41C10B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ru.wikipedia.org/wiki/&#1060;&#1072;&#1081;&#1083;:Angelsatmamre-trinity-rublev-1410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68482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МНОГОМЕРНОСТЬ СОЗНАНИЯ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564000" y="3049560"/>
            <a:ext cx="353376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58" name="Picture 8" descr="donntu_gerb1"/>
          <p:cNvPicPr/>
          <p:nvPr/>
        </p:nvPicPr>
        <p:blipFill>
          <a:blip r:embed="rId1"/>
          <a:stretch/>
        </p:blipFill>
        <p:spPr>
          <a:xfrm>
            <a:off x="7451640" y="549360"/>
            <a:ext cx="1479600" cy="2087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logo2_new"/>
          <p:cNvPicPr/>
          <p:nvPr/>
        </p:nvPicPr>
        <p:blipFill>
          <a:blip r:embed="rId2"/>
          <a:stretch/>
        </p:blipFill>
        <p:spPr>
          <a:xfrm>
            <a:off x="324000" y="2924280"/>
            <a:ext cx="3095640" cy="24508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66"/>
                </a:solidFill>
                <a:latin typeface="Arial"/>
              </a:rPr>
              <a:t>Совмещение теософической и Агни-Йогический позиции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Философский язык Живот Этики – Агни Йоги, конечно, не лишен восточной терминологии и оригинальной стилистики по сравнению с теософией. Однако по многим своим параметрам он оказался проще и доступнее языка теософского текста 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 века. Так, в частности, теософская 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семиуровнев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нтологических паттернов космической реальности в Живой Этике трансформируется в более простую 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трехуровневую модель</a:t>
            </a: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и уровни реальности называются «Плотный мир», «Тонкий мир» и «Огненный мир»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Р.Абле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Гипотеза объединения многомерности сознания разных традиций 7 + 4 = 11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4" descr="2"/>
          <p:cNvPicPr/>
          <p:nvPr/>
        </p:nvPicPr>
        <p:blipFill>
          <a:blip r:embed="rId1"/>
          <a:stretch/>
        </p:blipFill>
        <p:spPr>
          <a:xfrm>
            <a:off x="4643280" y="1557360"/>
            <a:ext cx="4159440" cy="4680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1_"/>
          <p:cNvPicPr/>
          <p:nvPr/>
        </p:nvPicPr>
        <p:blipFill>
          <a:blip r:embed="rId2"/>
          <a:stretch/>
        </p:blipFill>
        <p:spPr>
          <a:xfrm>
            <a:off x="539640" y="1628640"/>
            <a:ext cx="4160880" cy="4399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423px-Banner_of_Peace_from_the_Roerich_Pact.svg.png"/>
          <p:cNvPicPr/>
          <p:nvPr/>
        </p:nvPicPr>
        <p:blipFill>
          <a:blip r:embed="rId3"/>
          <a:stretch/>
        </p:blipFill>
        <p:spPr>
          <a:xfrm>
            <a:off x="4284720" y="177336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Выводы (1)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в данной статье сводится воедино современная физическая картина мира (многомерность сознания) с древняя эзотерической доктриной. Решение этого внешнего противоречия пока является теоретическим и ждет проверки практикой. Хотя в приложении к сознанию это будет сделать крайне трудно. Но, тем не менее, гипотеза есть. Пусть это будет малым приближением в осмыслении великого понятия Сознания, которое ведет человечество в эволюцию. Ведь не даром сказано, что «Это есть ЕДИНАЯ ЖИЗНЬ, вечная, невидимая и, в то же время, вездесущая, без начала и конца, но периодичная в своих регулярных проявлениях, между которыми царствует мрак тайны Не-Бытия; несознательное, вместе с тем Абсолютное Сознание, непостижимая, тем не менее, единая самосущая Реальность; истинно, Хаос для чувств, Космос для разума. На эзотерическом языке ее единое абсолютное свойство, вечно непрекращающееся Движение, называется Великим Дыханием, и является непрестанным движением Вселенной в смысле беспредельного, вечносущего Пространства. То, что лишено движения не может быть Божественным. Но фактически и в действительности нет ничего абсолютно неподвижного во Вселенской Душе». Е.П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Выводы (2)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ридет время, когда скрытые тайны природы и Высшее знание, находящееся ныне в обладании Великих Учителей, станут доступными массам. К этому ведут человечество те, кто идет впереди, непосредственно руководимые Владыками Света. И конечно, и прежде всего Сами Великие Учителя, время от времени приходящие на Землю и живущие среди людей. Цель их одна – дать людям знание, и притом так, чтобы они им не злоупотребили. Опасность этого злоупотребления велика. Могут уничтожить Землю. Потому путями непосредственного познавания Ведем лишь немногих избранных, проверенных и испытанных на протяжении тысячелетий совместной работы. Только им Доверяем и Будем давать через них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ни Агни Йоги 1957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Анонс работ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Проанализированы древнейшие теории состава человека и его сознания, а также современные физические теории. 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Аргументирована гипотеза  объединения эзотерической и современной физической картины мир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Это посильный вклад в приближение к выполнению завета Агни Йоги о том, что </a:t>
            </a:r>
            <a:r>
              <a:rPr b="1" i="1" lang="ru-RU" sz="2700" spc="-1" strike="noStrike">
                <a:solidFill>
                  <a:srgbClr val="330066"/>
                </a:solidFill>
                <a:latin typeface="Arial"/>
              </a:rPr>
              <a:t>«древние символы знания должны превратиться в научные формулы».</a:t>
            </a:r>
            <a:r>
              <a:rPr b="1" lang="ru-RU" sz="27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Агни Йога, Братство, Ч.1, 42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остановка задач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43848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1"/>
          <p:cNvPicPr/>
          <p:nvPr/>
        </p:nvPicPr>
        <p:blipFill>
          <a:blip r:embed="rId1"/>
          <a:stretch/>
        </p:blipFill>
        <p:spPr>
          <a:xfrm>
            <a:off x="395280" y="189000"/>
            <a:ext cx="4313160" cy="63514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5003640" y="981000"/>
            <a:ext cx="3384720" cy="56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«физическая и психическая реальности имеют неразрывную взаимосвязь и являются лишь частными случаями еще мало осмысленной в своей многомерной сложности интегральной космической Реа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С.Р.Абл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Так что верно 7-3-11 ??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Picture 21" descr="1_"/>
          <p:cNvPicPr/>
          <p:nvPr/>
        </p:nvPicPr>
        <p:blipFill>
          <a:blip r:embed="rId1"/>
          <a:stretch/>
        </p:blipFill>
        <p:spPr>
          <a:xfrm>
            <a:off x="0" y="1628640"/>
            <a:ext cx="3819600" cy="4038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3" descr="423px-Banner_of_Peace_from_the_Roerich_Pact.svg.png"/>
          <p:cNvPicPr/>
          <p:nvPr/>
        </p:nvPicPr>
        <p:blipFill>
          <a:blip r:embed="rId2"/>
          <a:stretch/>
        </p:blipFill>
        <p:spPr>
          <a:xfrm>
            <a:off x="4067280" y="2060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5" descr="m_orif"/>
          <p:cNvPicPr/>
          <p:nvPr/>
        </p:nvPicPr>
        <p:blipFill>
          <a:blip r:embed="rId3"/>
          <a:stretch/>
        </p:blipFill>
        <p:spPr>
          <a:xfrm>
            <a:off x="6516720" y="1700280"/>
            <a:ext cx="2333520" cy="381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7" descr="Angelsatmamre-trinity-rublev-141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1989000"/>
            <a:ext cx="2857320" cy="35625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остановка задач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ессмертная триад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3" name="Picture 5" descr="Фото М. В. Нестеров. Троица Ветхозаветная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1557360"/>
            <a:ext cx="7272360" cy="476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423px-Banner_of_Peace_from_the_Roerich_Pact.svg.png"/>
          <p:cNvPicPr/>
          <p:nvPr/>
        </p:nvPicPr>
        <p:blipFill>
          <a:blip r:embed="rId3"/>
          <a:stretch/>
        </p:blipFill>
        <p:spPr>
          <a:xfrm>
            <a:off x="6300720" y="33336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Теософическая традиция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(пояснения Е.И.Рерих Том III (1935 г.). «К семеричному подразделению тела человека»: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1. Физическое те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2. Эфирный двойник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ываемый низшим астральным телом). Многие феномены на спиритических сеансах совершаются при помощи, именно, эфирного двойника медиу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3. Пран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жизненный принцип, нераздельный от всех проявлений в Космо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4. Ка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животная душа (или высшее астральное тело, через которое проявляется желание в двух аспектах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Кама-Манас - низший ум или интелл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Кама-Рупа - форма (субъективная форма ментальных и физических желаний и мыслей, или мыслитель в действии).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5. Мана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самосознание или мыслитель (Высший Разу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6. Буддх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духовность, духовная душа - в отличие от человеческо-животной души - проводник, через который проявляется Ат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7. Ат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Дух, или огненное начало, или энергия, разлитая во всем Космос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8:35:35Z</dcterms:created>
  <dc:creator>Fernando Merello</dc:creator>
  <dc:description/>
  <dc:language>en-US</dc:language>
  <cp:lastModifiedBy>LEGION</cp:lastModifiedBy>
  <dcterms:modified xsi:type="dcterms:W3CDTF">2014-11-11T07:57:02Z</dcterms:modified>
  <cp:revision>46</cp:revision>
  <dc:subject/>
  <dc:title>COIN Project: lessons learned during the first year of the project</dc:title>
</cp:coreProperties>
</file>