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673E-29C1-4387-895F-B732F118A6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2C2E-4F9D-4C2C-923F-5AE6787790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CE65-D4FF-459C-B4C5-AC9D77CAB8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84A0-B9A1-4E68-8379-B7E3BB202B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4D6F-9A33-48A2-A17B-434E1154C4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2638-7675-4BDA-99EC-57E62222D8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3060-13A4-40EA-B4C2-582E261732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C3CB-61FD-45C0-8713-60CA79CF76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35D5-9042-4FC0-BCB3-F0AC2D7B3C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93D4-06F9-43A6-9850-C441613F27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76CF-8BEE-4778-AB04-41C8AF8589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6B50-E136-4D5E-9245-5A263A791B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3005-B995-4075-945F-040BB6A658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B342-10BC-4257-AA6A-12666C0B90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E748-9C1C-46C9-BFA3-837194C9CD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2492-1E51-46BA-B806-409CAD3E15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1614-1588-4DB0-A486-176D8FF3D6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F068-1B0C-41A4-8F0A-283E581F2C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2793-7217-4B02-B184-C4D7AA6D19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5F9C-4DC4-41BC-B1B6-3E9D626703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69CD-5C70-4C8C-B3E2-F1DF5E627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12DF-2CA5-44DA-811B-03B9065371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8BED-1E5C-47DC-8913-15C41DBD38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C374-14D7-48A8-9C2B-BEA9B18404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A80-D745-4DC5-BA52-236188C9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3E9-63E6-4156-AA73-E5F46600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CB3-F70C-4618-BC4D-89F429A4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CBD-0E68-4A7E-87E2-147C35B5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0926A-5E55-4754-8957-9E464F93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F2D52-EE8B-4EBA-AE30-3A233B73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32A7E-F987-4113-BC7C-8925696C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1B751-00F7-4465-9240-6F9C0B99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8075B-A8D2-40BB-B1B1-29458108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9DB0E-B987-4A8F-83C6-6DC32F8F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8B90F-29CD-4EC8-B35C-CAF668E1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619-FE8C-4CA7-8C95-D962B178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1EA0D-42FD-4C88-B0B1-95DC1761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4C7EC-1A78-4C72-8E24-0ADE288E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C873B-D821-440C-B056-9EC8BE83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D2C3E-896B-4A13-916C-1626CF4D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22832-4157-48A2-8A08-F8D93375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C03C-02D1-42B1-9571-002ED17F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532B-64BF-4122-80C2-78EB7E2A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BDD5-8F5F-4984-9F5B-53440AF9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8258C-4BC2-4E45-9CDE-A6C76AD5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66F88-50F7-4669-A190-F32DBE0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52E-3629-4D70-9F6F-4FD36196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DE58-9743-45D5-B2E6-BC919969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A1CA-B927-464B-B632-8BD86D22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6B3E-52AA-4FFE-BFA9-6E29871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6209-1002-4903-A1F5-198B971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7ADE-42E2-4701-9965-1F212AFD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DE8C-B5EA-4571-93F6-2F9998C0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14217-EA28-478D-8557-30C47AEB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EE802-1C31-4008-9DE6-58B460F6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386CF-65BB-49D9-821A-EACE9A83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7FE48-D8DE-48D0-9E48-FFB20297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785-BE89-4A53-A1B1-8895140A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B7B0-17AC-45D8-8874-14B3C4BC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F480D-E94D-4646-9A5E-21B597F8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E0D1B-574F-4F37-8082-D428A6DC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27F9D-31D5-45A5-8118-980AA68E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4DFFC-7FF4-4601-82DA-6AF758BC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07723-00A0-43AD-915F-A606D33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3D9D8-7A54-40B8-9575-97A9F9A9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7B6AB-D27B-4777-9A39-FF59846C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4D57A-595F-4B6D-9753-159ED5E1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4CF63-1068-441D-AD4A-81B92CB9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1A6-35E3-4B26-A6A0-068FDDC9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08C8C-8BDA-4C6D-8737-F91EBF5C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E40EB-BCB8-4375-8D01-11C84E83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79DC3-2C9A-437B-8DB2-3809C6FB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E60B9-F90F-4026-8EDD-7F301391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71D28-EFC0-416E-9BDC-9725ECD3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789E6-194E-4F4B-A5DF-CE19EF99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73391-D193-4A83-873E-84B918DC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C5841-88CF-48F1-86A3-C2AE7672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B9FEA-1BA5-4B47-B957-3BD8425A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DCF64-1CB5-47AC-8333-10BC9E01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43E-7A77-4439-88ED-63EE0E93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6EA35-E972-4BC0-A85F-D5D59012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9C9A1-86B7-4E26-8FCF-62159502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DBB86-718C-4C5D-86B4-9601CF6F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F864F-92ED-4CE5-B509-CF951399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31F16-ABCC-49F4-B265-35C42F28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361CA-98A8-4C2F-9CFC-0DA30212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D78F9-462F-4BAC-B576-EE2DC2BF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BE3ED-E78C-4611-BEB2-922BC258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B5282-6739-48F7-9F84-8B19EDC1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678A-B8F8-445A-9EB0-C5AB64F8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5B2-42F9-46EA-8D9D-DD3F0436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70699-7A52-4CBD-9816-56BF0CDC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76C54-3FA4-42B3-B98C-134E8B08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C174B-57AF-4478-8A74-35175EC4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0BF-BD57-4D66-B233-9601C9CB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E97-C2E6-45C4-A02C-FC5EBCFE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D1EA-5660-470E-A613-657861E7468D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A2BB-A22A-4D35-84D3-1513330468E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5046-2B14-478D-8C8D-E5F80D2AAE2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D5A1-6850-4B2E-9BE8-3694531FD268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9D54-4C5B-4C3B-BA50-6F9B7332660C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09A4-0AD8-44EC-B348-2E0147E589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0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56BC-4DB9-4EA6-B383-81D6999D69A1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E091-A487-416C-901E-FBF4973405D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1390-8E34-4E85-905E-FE989D6CE3C3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FBF8-49B6-4FE0-AACA-B0C46EB624F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53FB-19C8-4740-AF7D-F19115F21FDE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E8FD-0409-4A2B-8F6C-64A4831588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28920" y="464328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" descr=""/>
          <p:cNvPicPr/>
          <p:nvPr/>
        </p:nvPicPr>
        <p:blipFill>
          <a:blip r:embed="rId1"/>
          <a:stretch/>
        </p:blipFill>
        <p:spPr>
          <a:xfrm>
            <a:off x="1779480" y="1182600"/>
            <a:ext cx="5364360" cy="249408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357120" y="857160"/>
            <a:ext cx="414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2" descr="00018529.jpg"/>
          <p:cNvPicPr/>
          <p:nvPr/>
        </p:nvPicPr>
        <p:blipFill>
          <a:blip r:embed="rId1"/>
          <a:stretch/>
        </p:blipFill>
        <p:spPr>
          <a:xfrm>
            <a:off x="5072040" y="1214280"/>
            <a:ext cx="3865680" cy="434340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4572000" y="78588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" descr="00018345.jpg"/>
          <p:cNvPicPr/>
          <p:nvPr/>
        </p:nvPicPr>
        <p:blipFill>
          <a:blip r:embed="rId1"/>
          <a:stretch/>
        </p:blipFill>
        <p:spPr>
          <a:xfrm>
            <a:off x="285840" y="1785960"/>
            <a:ext cx="4114800" cy="3214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2"/>
          <p:cNvSpPr/>
          <p:nvPr/>
        </p:nvSpPr>
        <p:spPr>
          <a:xfrm>
            <a:off x="5286240" y="785880"/>
            <a:ext cx="385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Фотографии живой природы &quot;Волки&quot;"/>
          <p:cNvPicPr/>
          <p:nvPr/>
        </p:nvPicPr>
        <p:blipFill>
          <a:blip r:embed="rId1"/>
          <a:stretch/>
        </p:blipFill>
        <p:spPr>
          <a:xfrm>
            <a:off x="357120" y="171468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285840" y="625320"/>
            <a:ext cx="4071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http://image.css-nkp.net/images/4570017j.jpg"/>
          <p:cNvPicPr/>
          <p:nvPr/>
        </p:nvPicPr>
        <p:blipFill>
          <a:blip r:embed="rId1"/>
          <a:stretch/>
        </p:blipFill>
        <p:spPr>
          <a:xfrm>
            <a:off x="4606920" y="171468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"/>
          <p:cNvSpPr/>
          <p:nvPr/>
        </p:nvSpPr>
        <p:spPr>
          <a:xfrm>
            <a:off x="214200" y="28875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 (500x259, 44Kb)"/>
          <p:cNvPicPr/>
          <p:nvPr/>
        </p:nvPicPr>
        <p:blipFill>
          <a:blip r:embed="rId1"/>
          <a:stretch/>
        </p:blipFill>
        <p:spPr>
          <a:xfrm>
            <a:off x="1643040" y="285840"/>
            <a:ext cx="5000760" cy="259056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214200" y="4287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http://img-fotki.yandex.ru/get/4511/30141762.674/0_7c05a_7867772f_XL"/>
          <p:cNvPicPr/>
          <p:nvPr/>
        </p:nvPicPr>
        <p:blipFill>
          <a:blip r:embed="rId1"/>
          <a:stretch/>
        </p:blipFill>
        <p:spPr>
          <a:xfrm>
            <a:off x="4714920" y="1571760"/>
            <a:ext cx="4143240" cy="3744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4786200" y="0"/>
            <a:ext cx="435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214200" y="1571760"/>
            <a:ext cx="4286520" cy="32097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214960" y="857160"/>
            <a:ext cx="3643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http://forum.materinstvo.ru/uploads/1206806182/post-40296-1206998163.jpg"/>
          <p:cNvPicPr/>
          <p:nvPr/>
        </p:nvPicPr>
        <p:blipFill>
          <a:blip r:embed="rId1"/>
          <a:stretch/>
        </p:blipFill>
        <p:spPr>
          <a:xfrm>
            <a:off x="0" y="178596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4572000" y="42861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lifeglobe.net/media/entry/1078/image_59.png"/>
          <p:cNvPicPr/>
          <p:nvPr/>
        </p:nvPicPr>
        <p:blipFill>
          <a:blip r:embed="rId1"/>
          <a:stretch/>
        </p:blipFill>
        <p:spPr>
          <a:xfrm>
            <a:off x="214200" y="357120"/>
            <a:ext cx="5248440" cy="394344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14200" y="30168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7000_d05c013204_84.252.140.65_36411.jpg"/>
          <p:cNvPicPr/>
          <p:nvPr/>
        </p:nvPicPr>
        <p:blipFill>
          <a:blip r:embed="rId1"/>
          <a:stretch/>
        </p:blipFill>
        <p:spPr>
          <a:xfrm>
            <a:off x="1785960" y="300024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43000" y="333360"/>
            <a:ext cx="5072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Тороп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3" descr="24_135370_profile.gif"/>
          <p:cNvPicPr/>
          <p:nvPr/>
        </p:nvPicPr>
        <p:blipFill>
          <a:blip r:embed="rId1"/>
          <a:stretch/>
        </p:blipFill>
        <p:spPr>
          <a:xfrm>
            <a:off x="5211720" y="1139760"/>
            <a:ext cx="3571920" cy="39862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225360" y="29289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Рисунок 2" descr="00018593.jpg"/>
          <p:cNvPicPr/>
          <p:nvPr/>
        </p:nvPicPr>
        <p:blipFill>
          <a:blip r:embed="rId1"/>
          <a:stretch/>
        </p:blipFill>
        <p:spPr>
          <a:xfrm>
            <a:off x="4786200" y="214200"/>
            <a:ext cx="4143600" cy="323712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1"/>
          <p:cNvSpPr/>
          <p:nvPr/>
        </p:nvSpPr>
        <p:spPr>
          <a:xfrm>
            <a:off x="571680" y="857160"/>
            <a:ext cx="4000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Рисунок 3" descr="6ba316d3b900.png"/>
          <p:cNvPicPr/>
          <p:nvPr/>
        </p:nvPicPr>
        <p:blipFill>
          <a:blip r:embed="rId1"/>
          <a:stretch/>
        </p:blipFill>
        <p:spPr>
          <a:xfrm>
            <a:off x="4572000" y="1285920"/>
            <a:ext cx="4276800" cy="4465440"/>
          </a:xfrm>
          <a:prstGeom prst="rect">
            <a:avLst/>
          </a:prstGeom>
          <a:ln w="0">
            <a:noFill/>
          </a:ln>
        </p:spPr>
      </p:pic>
      <p:sp>
        <p:nvSpPr>
          <p:cNvPr id="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1"/>
          <p:cNvSpPr/>
          <p:nvPr/>
        </p:nvSpPr>
        <p:spPr>
          <a:xfrm>
            <a:off x="4572000" y="142884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2" descr="10964.jpg"/>
          <p:cNvPicPr/>
          <p:nvPr/>
        </p:nvPicPr>
        <p:blipFill>
          <a:blip r:embed="rId1"/>
          <a:stretch/>
        </p:blipFill>
        <p:spPr>
          <a:xfrm>
            <a:off x="357120" y="1500120"/>
            <a:ext cx="3997440" cy="4267440"/>
          </a:xfrm>
          <a:prstGeom prst="rect">
            <a:avLst/>
          </a:prstGeom>
          <a:ln w="0">
            <a:noFill/>
          </a:ln>
        </p:spPr>
      </p:pic>
      <p:sp>
        <p:nvSpPr>
          <p:cNvPr id="4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000080" y="1182600"/>
            <a:ext cx="7504200" cy="517536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5286240" y="500040"/>
            <a:ext cx="3857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http://img1.liveinternet.ru/images/foto/b/1/621/1520621/f_4234735.jpg"/>
          <p:cNvPicPr/>
          <p:nvPr/>
        </p:nvPicPr>
        <p:blipFill>
          <a:blip r:embed="rId1"/>
          <a:stretch/>
        </p:blipFill>
        <p:spPr>
          <a:xfrm>
            <a:off x="0" y="1571760"/>
            <a:ext cx="5054760" cy="328608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857760" y="214308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00018501.jpg"/>
          <p:cNvPicPr/>
          <p:nvPr/>
        </p:nvPicPr>
        <p:blipFill>
          <a:blip r:embed="rId1"/>
          <a:stretch/>
        </p:blipFill>
        <p:spPr>
          <a:xfrm>
            <a:off x="285840" y="1071720"/>
            <a:ext cx="3165480" cy="435744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14200" y="1000080"/>
            <a:ext cx="4714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5072040" y="1285920"/>
            <a:ext cx="3862440" cy="42591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4205160" y="16826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2" descr="00018517.jpg"/>
          <p:cNvPicPr/>
          <p:nvPr/>
        </p:nvPicPr>
        <p:blipFill>
          <a:blip r:embed="rId1"/>
          <a:stretch/>
        </p:blipFill>
        <p:spPr>
          <a:xfrm>
            <a:off x="500040" y="1928880"/>
            <a:ext cx="3705120" cy="309564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3786120" y="114300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D:\Мои документы\Рисунки и анимашки\Волк\84124022_0_103d7_612626cb_XL.jpg"/>
          <p:cNvPicPr/>
          <p:nvPr/>
        </p:nvPicPr>
        <p:blipFill>
          <a:blip r:embed="rId1"/>
          <a:srcRect l="4712" t="0" r="18298" b="0"/>
          <a:stretch/>
        </p:blipFill>
        <p:spPr>
          <a:xfrm>
            <a:off x="214200" y="1785960"/>
            <a:ext cx="3500640" cy="30114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000080" y="42876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2" descr="00018590.jpg"/>
          <p:cNvPicPr/>
          <p:nvPr/>
        </p:nvPicPr>
        <p:blipFill>
          <a:blip r:embed="rId1"/>
          <a:stretch/>
        </p:blipFill>
        <p:spPr>
          <a:xfrm>
            <a:off x="2286000" y="357192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286160" y="157176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Рисунок 2" descr="78гее54к.jpg"/>
          <p:cNvPicPr/>
          <p:nvPr/>
        </p:nvPicPr>
        <p:blipFill>
          <a:blip r:embed="rId1"/>
          <a:stretch/>
        </p:blipFill>
        <p:spPr>
          <a:xfrm>
            <a:off x="714240" y="1285920"/>
            <a:ext cx="3260880" cy="454356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09:09Z</dcterms:created>
  <dc:creator>школа</dc:creator>
  <dc:description/>
  <dc:language>en-US</dc:language>
  <cp:lastModifiedBy>LEGION2</cp:lastModifiedBy>
  <dcterms:modified xsi:type="dcterms:W3CDTF">2015-04-23T07:57:07Z</dcterms:modified>
  <cp:revision>26</cp:revision>
  <dc:subject/>
  <dc:title>Волки.</dc:title>
</cp:coreProperties>
</file>