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1890-D57D-4B16-8C14-259B2251696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МБОУ «Алексеев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Прокопьева Л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ED05-F271-4D85-9AE6-649AB51FAC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воют на рассвете или в сумерках, но не каждый день. Начинается вой с сольного завывания вожака, которое существенно отличается от завывания других членов стаи. Остальные присоединяются чуть позже. Хоровой вой обычно заканчивается тявкающим визгливым л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38E4-51AF-45ED-AAD1-9A3D8EF42F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ое голосовое творчество стаи является признаком общественной жизни. Пристрастие волков к нему имеет эмоциональную основу и обостряет чувство принадлежности к стае. Также это средство общения с другими стаями и отбившимися собрать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8E0E-451F-44F1-B16E-6007B7F0EA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жак господствует над самцами стаи, а его подруга поддерживает порядок среди волчиц. Вожаки постоянно напоминают своим «подчиненным», кто в стае хозяин: рычат на них, кусают, гоняют и даже сбивают с ног, предпочитая проделывать это на глазах у всей ста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64D3-4548-4272-92E1-C9C0CE4943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развивает скорость до 56 км/ч, совершает прыжки на 4,8 м. Добычей служит почти любой зверь – от мыши до оленя, но основа рациона – грызуны и зайцеобразные. Хищник очень прожорлив – за один раз он съедает до 8 кг мяса, которого ему хватает на несколько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080E-94E4-4103-91DE-742AD34A03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созданы для охоты самой природой. Зимой волк на снегу оставляют аккуратную цепочку следов – он ставит заднюю лапу точно за передней. Благодаря такой поступи он может бегать по любой местности и даже по глубокому снегу. Волчица трусит впереди, за ней гуськом, стараясь попасть след в след, тянутся волчата, а позади них старший волк. Пройдет по снежному полю весь выводок, а посмотришь на след - и кажется, что здесь пробежал только один зве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F321-D560-424E-A5DE-7A5D886700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жие волка - это зубы. Их в его пасти целых 42. Впереди торчат 4 острых, кривых 5-ти сантиметровых клыка - по два сверху и снизу. Ими волк может прокусить плотную шкуру жертвы. А хищными, или плотоядными, зубами - так называют коренные зубы всех хищников - взрослый волк разгрызает даже бедренную кость ло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D94A-3D21-432D-AC68-C613A4A7ED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ищет себе пару. В это время самцы становятся непримиримыми. Они громко рычат, шерсть на спине становится дыбом, хвост агрессивно поджат – так  самцы выясняют, кто же из них сильнее. Победителю и суждено продолжить волчий род. Проигравший продолжает поиск самок. Бывает, что один из соперников погибает в жестоком сраж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CA40-E9A1-401F-8BC8-43BD59131D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ки приносят от 3 до 10-13 слепых волчат, прозревающих на 12-13 день. Подросших волчат родители кормят отрыжкой из съеденного мяса, позже - убитой   добычей. В выкармливании волчат принимает участие вся ст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56A3-2B71-4F91-A493-1742A378FB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волки внимательно заботятся о своём потомстве, до 60-80 % щенков погибают в первый год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9A89-1FB3-40FA-9D60-EBBDD9D53C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ь имеет высокоразвитую психику. Отличное чутьё, великолепное зрение и замечательный слух. Иначе быть не может: борьба за существование! Зверь очень хорошо видит и днем и ночью. К особенностям его зрения относится способность замечать даже малейшие следы на снегу, в лесу, на траве и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C293-68B6-4448-8B9B-8E33683CC3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имний хмурый день холо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т – бродит зверь голод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лесам, полям он рыщ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ду себе он ищ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азках «серым» он зовё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му там достаё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обманет вдруг ли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верит в чуд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ути он ей попался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хвоста чуть не остал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обман – поди узнай-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вот трусишка-за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за нос в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гда из лап уход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 всех добра не жд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кричит: «Ну, погоди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егко ему живё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же этот зверь зовёт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F445-6AE9-461F-8771-219EDAC4BB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 - достаточно территориальное существо. Размножающиеся пары, а нередко и стаи, живут оседло на определённых участках, границы которых обозначаются пахучими ме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A808-71A1-46AD-BFA8-29EC15BC5A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фах, фольклоре и волшебных сказках волк олицетворяет свирепость, коварство, жестокость, зло, но также храбрость и победу. Кроме того, при определенных обстоятельствах волк мог стать могучим защитником беспомощных созданий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25A4-DEAD-423B-83EB-1242586AFF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ристианстве волк – зло, жестокость, хитрость и ересь, дьявол, угрожающий верующим. Лишь святым дана сила любвеобильного убеждения, чтобы приручить дикость свирепого зве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E894-D6B9-4ABB-A5C3-3889C9C9DA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EBAC-D954-41E8-9837-216B26CFC9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, или серый волк, или обыкновенный волк – хищное  млекопитающее семейства псовых. Ученые уверяют, что волки обитают на Земле уже достаточно давно, произошли они от плотоядных хищников, живших 100 миллионов лет наза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2E31-4E51-40D4-A3D6-510DA26C66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ть этого хищника? Самое распространённое — Серый или Разбойник. Нередко эти слова стоят рядом. Более современное название — Санитар леса. Как мы видим, оценки противоположные. И на это есть свои прич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101A-A7F7-465D-AE5B-B27B957C84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олков ежегодно погибает очень много лосей, благородных оленей, косуль, кабанов и других животных. Огромный вред наносит хищник, животноводству и охотничьему хозяйству. Но в то же время санитар леса неоценим для экосистемы: он уничтожает больных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C4E9-66B0-40F2-869E-B3F1C93B65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принадлежит к семейству псовых. Издали его можно принять за крупную собаку . Вес старого матерого зверя достигает 50 килограммов. А изредка встречаются гиганты до 80 кг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86B7-2CE8-4254-B6AF-DFF4BCDC7B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всего хищников в России – около ста тысяч особ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стране Серая братия обитает повсюду: в тундре, в равнинных лесах, в горах, степях, даже в пустыне. Они живут там, где есть для них еда. По лесам бродят хищники серо-бурого цвета, в тундре они светлые, в горах Азии  живет очень редкий Красный вол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9E4A-09D8-4C1A-A51F-D226E1E87A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 у волков густой, довольно длинный и состоит из двух слоёв, из-за чего иногда животное выглядит крупнее, чем оно есть на самом деле. Первый слой шерсти состоит из жёстких остевых волос, которые отталкивают воду и грязь. Второй слой, называемый подшёрстком, включает в себя водонепроницаемый пух, согревающий животн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1DC0-9B6E-42CF-B5BF-803EA3738B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й весной или ранним летом пух комочками отслаивается от тела (линька), при этом животные трутся о камни или ветки деревьев ради облегчения эт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B02B-BB30-4090-9D3E-ABABDF1BB2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CBE-810B-4CA6-97A1-EA9B85AE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6212-06CB-41B4-A1DC-ED594E88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3C71-60AA-48AD-8064-14D29334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6BD1-2137-4FFC-BF64-D2BE0E7F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D8276-6C2A-42E2-B56D-E888A747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9341C-B995-4624-B675-9E206FA1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C4459-548B-4CF3-A553-12426CDE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2619C-76D9-4932-B9C7-D7C821B9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1A527-00FF-46AB-AE4F-135D32DE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6974D-3554-4624-B2E1-DA822958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95207-FCED-4D78-861B-5CB15A9C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E1AB-2446-4DA0-96BB-2C7CDE86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76E1F-9165-4F36-B750-D86E4931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1C089-C266-42A2-B3EE-C297671D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3262B-02D9-4B4C-BA2E-28C0659A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0E161-E0B1-4970-BB67-BE09310A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7D802-EDDB-4B61-8302-57192386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1B5DC-E279-4A23-A3E9-5E05C486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CA479-09AA-49C3-B649-459D619B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7D963-38A0-4B9A-AEB8-F59D0A66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D38BE-DF16-430D-B3C7-1827868B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DC642-591D-4590-A0A5-083BFFF9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28AB-9569-4007-B253-A365D687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DEEDA-61F3-4235-BE28-00640CC8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08014-5045-41AC-88EA-B2CA8EEE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15535-A869-47BD-B1A2-9A46CCF7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4C9C6-E3CD-4DA6-9456-A1B3E323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A9378-4525-483C-B725-2B6C1919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811B4-F00F-4046-B133-564FFA6D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E4E7B-9339-45F0-A96F-F4585B15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C74D8-5052-4920-A8B7-1458635F1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E2940-E272-4593-8AD0-15C58660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6BA05-92CA-4FCA-8147-F0AED8AF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BF1D-5492-4936-BE8C-255EC9EA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6A681-86F1-429F-AFFD-6A066562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271FE-A814-4586-A65C-3D440801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D39C0-7663-4891-82D0-DC2A72D8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82DBD-0154-4135-A00A-A5D4839B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27953-1BB6-4CDB-8A8C-B7E9B74D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5FFB5-7658-42A9-9700-B17B5B48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3BD73-A803-4DCB-AC1C-566953A2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DDEFA-1F7E-47F9-87C5-34BCB4D5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89518-FC94-4CF7-9B3E-17E13263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48612-F6B1-4FED-BF43-15690E93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8CE5-8E33-403A-B295-003D1499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D2B3B-3D70-4817-B515-6DE46589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6C76A-9C3B-486C-99CA-1FDE2FDB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B0667-5BA6-497E-A6A8-7F95B923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95157-1893-4DAA-BA5C-72DFE8B6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AD88F-D84C-4D59-933A-7B0A8733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F5AF2-7727-432B-8120-FC5CBA19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EEF3A-F78A-4324-9F61-7E3A30D3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03B95-D310-484A-81CC-0705F623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B7EC7-DF63-4EA0-8AD8-A8A0173A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512BA-3D58-460F-A061-A7405F24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107C-91A6-4D6B-81AE-ACBD70C3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D05C2-6A93-4049-A81C-DBD7F4B74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91172-64ED-43A2-B6BB-E2E0E34E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4CD8C-D4A4-4144-81D9-9C309DB4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1D387-A976-4525-AF0E-645BD47A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2EBA8-6748-405D-9580-3FE03E26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0C7C6-69E6-4F98-81ED-807AB22B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DAAC3-014B-4202-958E-6373156D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B4194-AFFD-4F1A-B25C-AB35BA5D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59B77-1C6B-4DA9-BF72-06ED6F07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BBA2E-9D87-4A9C-80EC-6C90666D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C567-2242-405A-B2A5-6B1D58A6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8F313-9694-4ACD-B61D-0D519FE9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D7473-564D-4D5B-B94A-BEA57366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B63BC-15CD-472C-B29B-96685B7E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575F-B752-4262-AF1D-D5E0139E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FBD2-2AFE-4BAA-B015-8B002083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a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fa9d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fa9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4970-1384-4525-8B67-21BCFC3E70FE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3DA4-971A-4464-A6C5-3B50C68BB0C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D1E3-B207-4F19-BF92-0CF7B07B1B8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2A9F-147B-4CE9-9B0B-FDC69126086D}" type="datetime">
              <a:rPr b="0" lang="ru-RU" sz="1000" spc="-1" strike="noStrike">
                <a:solidFill>
                  <a:srgbClr val="ffffff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6d63"/>
            </a:gs>
            <a:gs pos="100000">
              <a:srgbClr val="a5bd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18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5f7164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728778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879b8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8bf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a675e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3847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ac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5750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615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dc3b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697c6e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9786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5c54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6d63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82958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55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897d"/>
                  </a:gs>
                  <a:gs pos="100000">
                    <a:srgbClr val="a5bd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bdac"/>
                  </a:gs>
                  <a:gs pos="100000">
                    <a:srgbClr val="adc3b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09E0-FCFE-4E7A-A4F5-A48349F71045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0CE3-22EB-4BE8-AE49-3CCB77D900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a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99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200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206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8A9D-93A5-4FF6-953B-56E7D75DACFA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0D29-E30D-403D-8DD5-82608A679AC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5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D3C6-4B79-4DC6-9994-ECFE881C6103}" type="datetime">
              <a:rPr b="0" lang="ru-RU" sz="1000" spc="-1" strike="noStrike">
                <a:solidFill>
                  <a:srgbClr val="ffffff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4F19-28EF-4D3E-8389-16C59114086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6d63"/>
            </a:gs>
            <a:gs pos="100000">
              <a:srgbClr val="a5bd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1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5f7164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728778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879b8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8bf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a675e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3847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ac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5750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615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dc3b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697c6e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9786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5c54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6d63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82958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5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897d"/>
                  </a:gs>
                  <a:gs pos="100000">
                    <a:srgbClr val="a5bd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bdac"/>
                  </a:gs>
                  <a:gs pos="100000">
                    <a:srgbClr val="adc3b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48AF-D4E7-40E7-B450-7568C501AD0A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11AE-5049-4EF4-A581-C53E7CF0475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2428920" y="4643280"/>
            <a:ext cx="640080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Авто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МБОУ «Алексеевская СОШ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Прокопьева Л.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Прямоугольник 3" descr=""/>
          <p:cNvPicPr/>
          <p:nvPr/>
        </p:nvPicPr>
        <p:blipFill>
          <a:blip r:embed="rId1"/>
          <a:stretch/>
        </p:blipFill>
        <p:spPr>
          <a:xfrm>
            <a:off x="1779480" y="1182600"/>
            <a:ext cx="5364360" cy="249408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Прямоугольник 1"/>
          <p:cNvSpPr/>
          <p:nvPr/>
        </p:nvSpPr>
        <p:spPr>
          <a:xfrm>
            <a:off x="357120" y="857160"/>
            <a:ext cx="4143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воют на рассвете или в сумерках, но не каждый день. Начинается вой с сольного завывания вожака, которое существенно отличается от завывания других членов стаи. Остальные присоединяются чуть позже. Хоровой вой обычно заканчивается тявкающим визгливым ла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Рисунок 2" descr="00018529.jpg"/>
          <p:cNvPicPr/>
          <p:nvPr/>
        </p:nvPicPr>
        <p:blipFill>
          <a:blip r:embed="rId1"/>
          <a:stretch/>
        </p:blipFill>
        <p:spPr>
          <a:xfrm>
            <a:off x="5072040" y="1214280"/>
            <a:ext cx="3865680" cy="4343400"/>
          </a:xfrm>
          <a:prstGeom prst="rect">
            <a:avLst/>
          </a:prstGeom>
          <a:ln w="0">
            <a:noFill/>
          </a:ln>
        </p:spPr>
      </p:pic>
      <p:sp>
        <p:nvSpPr>
          <p:cNvPr id="4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1"/>
          <p:cNvSpPr/>
          <p:nvPr/>
        </p:nvSpPr>
        <p:spPr>
          <a:xfrm>
            <a:off x="4572000" y="78588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ое голосовое творчество стаи является признаком общественной жизни. Пристрастие волков к нему имеет эмоциональную основу и обостряет чувство принадлежности к стае. Также это средство общения с другими стаями и отбившимися собрать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Рисунок 2" descr="00018345.jpg"/>
          <p:cNvPicPr/>
          <p:nvPr/>
        </p:nvPicPr>
        <p:blipFill>
          <a:blip r:embed="rId1"/>
          <a:stretch/>
        </p:blipFill>
        <p:spPr>
          <a:xfrm>
            <a:off x="285840" y="1785960"/>
            <a:ext cx="4114800" cy="3214800"/>
          </a:xfrm>
          <a:prstGeom prst="rect">
            <a:avLst/>
          </a:prstGeom>
          <a:ln w="0">
            <a:noFill/>
          </a:ln>
        </p:spPr>
      </p:pic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2"/>
          <p:cNvSpPr/>
          <p:nvPr/>
        </p:nvSpPr>
        <p:spPr>
          <a:xfrm>
            <a:off x="5286240" y="785880"/>
            <a:ext cx="3857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жак господствует над самцами стаи, а его подруга поддерживает порядок среди волчиц. Вожаки постоянно напоминают своим «подчиненным», кто в стае хозяин: рычат на них, кусают, гоняют и даже сбивают с ног, предпочитая проделывать это на глазах у всей ста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4" descr="Фотографии живой природы &quot;Волки&quot;"/>
          <p:cNvPicPr/>
          <p:nvPr/>
        </p:nvPicPr>
        <p:blipFill>
          <a:blip r:embed="rId1"/>
          <a:stretch/>
        </p:blipFill>
        <p:spPr>
          <a:xfrm>
            <a:off x="357120" y="1714680"/>
            <a:ext cx="4762440" cy="357156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Прямоугольник 1"/>
          <p:cNvSpPr/>
          <p:nvPr/>
        </p:nvSpPr>
        <p:spPr>
          <a:xfrm>
            <a:off x="285840" y="625320"/>
            <a:ext cx="4071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развивает скорость до 56 км/ч, совершает прыжки на 4,8 м. Добычей служит почти любой зверь – от мыши до оленя, но основа рациона – грызуны и зайцеобразные. Хищник очень прожорлив – за один раз он съедает до 8 кг мяса, которого ему хватает на несколько д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http://image.css-nkp.net/images/4570017j.jpg"/>
          <p:cNvPicPr/>
          <p:nvPr/>
        </p:nvPicPr>
        <p:blipFill>
          <a:blip r:embed="rId1"/>
          <a:stretch/>
        </p:blipFill>
        <p:spPr>
          <a:xfrm>
            <a:off x="4606920" y="1714680"/>
            <a:ext cx="4286160" cy="321444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1"/>
          <p:cNvSpPr/>
          <p:nvPr/>
        </p:nvSpPr>
        <p:spPr>
          <a:xfrm>
            <a:off x="214200" y="2887560"/>
            <a:ext cx="8929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созданы для охоты самой природой. Зимой волк на снегу оставляют аккуратную цепочку следов – он ставит заднюю лапу точно за передней. Благодаря такой поступи он может бегать по любой местности и даже по глубокому снегу. Волчица трусит впереди, за ней гуськом, стараясь попасть след в след, тянутся волчата, а позади них старший волк. Пройдет по снежному полю весь выводок, а посмотришь на след - и кажется, что здесь пробежал только один зве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2" descr=" (500x259, 44Kb)"/>
          <p:cNvPicPr/>
          <p:nvPr/>
        </p:nvPicPr>
        <p:blipFill>
          <a:blip r:embed="rId1"/>
          <a:stretch/>
        </p:blipFill>
        <p:spPr>
          <a:xfrm>
            <a:off x="1643040" y="285840"/>
            <a:ext cx="5000760" cy="2590560"/>
          </a:xfrm>
          <a:prstGeom prst="rect">
            <a:avLst/>
          </a:prstGeom>
          <a:ln w="0">
            <a:noFill/>
          </a:ln>
        </p:spPr>
      </p:pic>
      <p:sp>
        <p:nvSpPr>
          <p:cNvPr id="4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Прямоугольник 1"/>
          <p:cNvSpPr/>
          <p:nvPr/>
        </p:nvSpPr>
        <p:spPr>
          <a:xfrm>
            <a:off x="214200" y="42876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жие волка - это зубы. Их в его пасти целых 42. Впереди торчат 4 острых, кривых 5-ти сантиметровых клыка - по два сверху и снизу. Ими волк может прокусить плотную шкуру жертвы. А хищными, или плотоядными, зубами - так называют коренные зубы всех хищников - взрослый волк разгрызает даже бедренную кость ло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" descr="http://img-fotki.yandex.ru/get/4511/30141762.674/0_7c05a_7867772f_XL"/>
          <p:cNvPicPr/>
          <p:nvPr/>
        </p:nvPicPr>
        <p:blipFill>
          <a:blip r:embed="rId1"/>
          <a:stretch/>
        </p:blipFill>
        <p:spPr>
          <a:xfrm>
            <a:off x="4714920" y="1571760"/>
            <a:ext cx="4143240" cy="374472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1"/>
          <p:cNvSpPr/>
          <p:nvPr/>
        </p:nvSpPr>
        <p:spPr>
          <a:xfrm>
            <a:off x="4786200" y="0"/>
            <a:ext cx="4357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ищет себе пару. В это время самцы становятся непримиримыми. Они громко рычат, шерсть на спине становится дыбом, хвост агрессивно поджат – так  самцы выясняют, кто же из них сильнее. Победителю и суждено продолжить волчий род. Проигравший продолжает поиск самок. Бывает, что один из соперников погибает в жестоком сра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" descr="Волк, или серый волк, или обыкновенный волк"/>
          <p:cNvPicPr/>
          <p:nvPr/>
        </p:nvPicPr>
        <p:blipFill>
          <a:blip r:embed="rId1"/>
          <a:stretch/>
        </p:blipFill>
        <p:spPr>
          <a:xfrm>
            <a:off x="214200" y="1571760"/>
            <a:ext cx="4286520" cy="3209760"/>
          </a:xfrm>
          <a:prstGeom prst="rect">
            <a:avLst/>
          </a:prstGeom>
          <a:ln w="0">
            <a:noFill/>
          </a:ln>
        </p:spPr>
      </p:pic>
      <p:sp>
        <p:nvSpPr>
          <p:cNvPr id="4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2"/>
          <p:cNvSpPr/>
          <p:nvPr/>
        </p:nvSpPr>
        <p:spPr>
          <a:xfrm>
            <a:off x="5214960" y="857160"/>
            <a:ext cx="3643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ки приносят от 3 до 10-13 слепых волчат, прозревающих на 12-13 день. Подросших волчат родители кормят отрыжкой из съеденного мяса, позже - убитой   добычей. В выкармливании волчат принимает участие вся ст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http://forum.materinstvo.ru/uploads/1206806182/post-40296-1206998163.jpg"/>
          <p:cNvPicPr/>
          <p:nvPr/>
        </p:nvPicPr>
        <p:blipFill>
          <a:blip r:embed="rId1"/>
          <a:stretch/>
        </p:blipFill>
        <p:spPr>
          <a:xfrm>
            <a:off x="0" y="1785960"/>
            <a:ext cx="5048280" cy="3786120"/>
          </a:xfrm>
          <a:prstGeom prst="rect">
            <a:avLst/>
          </a:prstGeom>
          <a:ln w="0">
            <a:noFill/>
          </a:ln>
        </p:spPr>
      </p:pic>
      <p:sp>
        <p:nvSpPr>
          <p:cNvPr id="4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Box 1"/>
          <p:cNvSpPr/>
          <p:nvPr/>
        </p:nvSpPr>
        <p:spPr>
          <a:xfrm>
            <a:off x="4572000" y="428616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волки внимательно заботятся о своём потомстве, до 60-80 % щенков погибают в первый год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2" descr="http://lifeglobe.net/media/entry/1078/image_59.png"/>
          <p:cNvPicPr/>
          <p:nvPr/>
        </p:nvPicPr>
        <p:blipFill>
          <a:blip r:embed="rId1"/>
          <a:stretch/>
        </p:blipFill>
        <p:spPr>
          <a:xfrm>
            <a:off x="214200" y="357120"/>
            <a:ext cx="5248440" cy="3943440"/>
          </a:xfrm>
          <a:prstGeom prst="rect">
            <a:avLst/>
          </a:prstGeom>
          <a:ln w="0">
            <a:noFill/>
          </a:ln>
        </p:spPr>
      </p:pic>
      <p:sp>
        <p:nvSpPr>
          <p:cNvPr id="45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1"/>
          <p:cNvSpPr/>
          <p:nvPr/>
        </p:nvSpPr>
        <p:spPr>
          <a:xfrm>
            <a:off x="214200" y="301680"/>
            <a:ext cx="871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ь имеет высокоразвитую психику. Отличное чутьё, великолепное зрение и замечательный слух. Иначе быть не может: борьба за существование! Зверь очень хорошо видит и днем и ночью. К особенностям его зрения относится способность замечать даже малейшие следы на снегу, в лесу, на траве и на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Рисунок 2" descr="7000_d05c013204_84.252.140.65_36411.jpg"/>
          <p:cNvPicPr/>
          <p:nvPr/>
        </p:nvPicPr>
        <p:blipFill>
          <a:blip r:embed="rId1"/>
          <a:stretch/>
        </p:blipFill>
        <p:spPr>
          <a:xfrm>
            <a:off x="1785960" y="3000240"/>
            <a:ext cx="4857840" cy="3643560"/>
          </a:xfrm>
          <a:prstGeom prst="rect">
            <a:avLst/>
          </a:prstGeom>
          <a:ln w="0">
            <a:noFill/>
          </a:ln>
        </p:spPr>
      </p:pic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1"/>
          <p:cNvSpPr/>
          <p:nvPr/>
        </p:nvSpPr>
        <p:spPr>
          <a:xfrm>
            <a:off x="1143000" y="333360"/>
            <a:ext cx="507204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имний хмурый день холод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т – бродит зверь голод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лесам, полям он рыще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ду себе он ищ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азках «серым» он зовётс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му там достаё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обманет вдруг лис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верит в чудес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ути он ей попался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хвоста чуть не остал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обман – поди узнай-ка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вот трусишка-зай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за нос вод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гда из лап уходи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 всех добра не жди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кричит: «Ну, погоди!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егко ему живё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же этот зверь зовётся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наида Торопч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Рисунок 3" descr="24_135370_profile.gif"/>
          <p:cNvPicPr/>
          <p:nvPr/>
        </p:nvPicPr>
        <p:blipFill>
          <a:blip r:embed="rId1"/>
          <a:stretch/>
        </p:blipFill>
        <p:spPr>
          <a:xfrm>
            <a:off x="5211720" y="1139760"/>
            <a:ext cx="3571920" cy="398628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рямоугольник 1"/>
          <p:cNvSpPr/>
          <p:nvPr/>
        </p:nvSpPr>
        <p:spPr>
          <a:xfrm>
            <a:off x="225360" y="292896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 - достаточно территориальное существо. Размножающиеся пары, а нередко и стаи, живут оседло на определённых участках, границы которых обозначаются пахучими мет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Рисунок 2" descr="00018593.jpg"/>
          <p:cNvPicPr/>
          <p:nvPr/>
        </p:nvPicPr>
        <p:blipFill>
          <a:blip r:embed="rId1"/>
          <a:stretch/>
        </p:blipFill>
        <p:spPr>
          <a:xfrm>
            <a:off x="4786200" y="214200"/>
            <a:ext cx="4143600" cy="3237120"/>
          </a:xfrm>
          <a:prstGeom prst="rect">
            <a:avLst/>
          </a:prstGeom>
          <a:ln w="0">
            <a:noFill/>
          </a:ln>
        </p:spPr>
      </p:pic>
      <p:sp>
        <p:nvSpPr>
          <p:cNvPr id="4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Прямоугольник 1"/>
          <p:cNvSpPr/>
          <p:nvPr/>
        </p:nvSpPr>
        <p:spPr>
          <a:xfrm>
            <a:off x="571680" y="857160"/>
            <a:ext cx="4000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фах, фольклоре и волшебных сказках волк олицетворяет свирепость, коварство, жестокость, зло, но также храбрость и победу. Кроме того, при определенных обстоятельствах волк мог стать могучим защитником беспомощных созданий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Рисунок 3" descr="6ba316d3b900.png"/>
          <p:cNvPicPr/>
          <p:nvPr/>
        </p:nvPicPr>
        <p:blipFill>
          <a:blip r:embed="rId1"/>
          <a:stretch/>
        </p:blipFill>
        <p:spPr>
          <a:xfrm>
            <a:off x="4572000" y="1285920"/>
            <a:ext cx="4276800" cy="4465440"/>
          </a:xfrm>
          <a:prstGeom prst="rect">
            <a:avLst/>
          </a:prstGeom>
          <a:ln w="0">
            <a:noFill/>
          </a:ln>
        </p:spPr>
      </p:pic>
      <p:sp>
        <p:nvSpPr>
          <p:cNvPr id="4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Прямоугольник 1"/>
          <p:cNvSpPr/>
          <p:nvPr/>
        </p:nvSpPr>
        <p:spPr>
          <a:xfrm>
            <a:off x="4572000" y="1428840"/>
            <a:ext cx="4071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ристианстве волк – зло, жестокость, хитрость и ересь, дьявол, угрожающий верующим. Лишь святым дана сила любвеобильного убеждения, чтобы приручить дикость свирепого зве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Рисунок 2" descr="10964.jpg"/>
          <p:cNvPicPr/>
          <p:nvPr/>
        </p:nvPicPr>
        <p:blipFill>
          <a:blip r:embed="rId1"/>
          <a:stretch/>
        </p:blipFill>
        <p:spPr>
          <a:xfrm>
            <a:off x="357120" y="1500120"/>
            <a:ext cx="3997440" cy="4267440"/>
          </a:xfrm>
          <a:prstGeom prst="rect">
            <a:avLst/>
          </a:prstGeom>
          <a:ln w="0">
            <a:noFill/>
          </a:ln>
        </p:spPr>
      </p:pic>
      <p:sp>
        <p:nvSpPr>
          <p:cNvPr id="4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Прямоугольник 3" descr=""/>
          <p:cNvPicPr/>
          <p:nvPr/>
        </p:nvPicPr>
        <p:blipFill>
          <a:blip r:embed="rId1"/>
          <a:stretch/>
        </p:blipFill>
        <p:spPr>
          <a:xfrm>
            <a:off x="1000080" y="1182600"/>
            <a:ext cx="7504200" cy="5175360"/>
          </a:xfrm>
          <a:prstGeom prst="rect">
            <a:avLst/>
          </a:prstGeom>
          <a:ln w="0">
            <a:noFill/>
          </a:ln>
        </p:spPr>
      </p:pic>
      <p:sp>
        <p:nvSpPr>
          <p:cNvPr id="4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5286240" y="500040"/>
            <a:ext cx="3857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, или серый волк, или обыкновенный волк – хищное  млекопитающее семейства псовых. Ученые уверяют, что волки обитают на Земле уже достаточно давно, произошли они от плотоядных хищников, живших 100 миллионов лет 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http://img1.liveinternet.ru/images/foto/b/1/621/1520621/f_4234735.jpg"/>
          <p:cNvPicPr/>
          <p:nvPr/>
        </p:nvPicPr>
        <p:blipFill>
          <a:blip r:embed="rId1"/>
          <a:stretch/>
        </p:blipFill>
        <p:spPr>
          <a:xfrm>
            <a:off x="0" y="1571760"/>
            <a:ext cx="5054760" cy="3286080"/>
          </a:xfrm>
          <a:prstGeom prst="rect">
            <a:avLst/>
          </a:prstGeom>
          <a:ln w="0">
            <a:noFill/>
          </a:ln>
        </p:spPr>
      </p:pic>
      <p:sp>
        <p:nvSpPr>
          <p:cNvPr id="4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1"/>
          <p:cNvSpPr/>
          <p:nvPr/>
        </p:nvSpPr>
        <p:spPr>
          <a:xfrm>
            <a:off x="3857760" y="2143080"/>
            <a:ext cx="5072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ть этого хищника? Самое распространённое — Серый или Разбойник. Нередко эти слова стоят рядом. Более современное название — Санитар леса. Как мы видим, оценки противоположные. И на это есть свои причи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Рисунок 2" descr="00018501.jpg"/>
          <p:cNvPicPr/>
          <p:nvPr/>
        </p:nvPicPr>
        <p:blipFill>
          <a:blip r:embed="rId1"/>
          <a:stretch/>
        </p:blipFill>
        <p:spPr>
          <a:xfrm>
            <a:off x="285840" y="1071720"/>
            <a:ext cx="3165480" cy="4357440"/>
          </a:xfrm>
          <a:prstGeom prst="rect">
            <a:avLst/>
          </a:prstGeom>
          <a:ln w="0">
            <a:noFill/>
          </a:ln>
        </p:spPr>
      </p:pic>
      <p:sp>
        <p:nvSpPr>
          <p:cNvPr id="4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214200" y="1000080"/>
            <a:ext cx="4714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олков ежегодно погибает очень много лосей, благородных оленей, косуль, кабанов и других животных. Огромный вред наносит хищник, животноводству и охотничьему хозяйству. Но в то же время санитар леса неоценим для экосистемы: он уничтожает больных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Волк, или серый волк, или обыкновенный волк"/>
          <p:cNvPicPr/>
          <p:nvPr/>
        </p:nvPicPr>
        <p:blipFill>
          <a:blip r:embed="rId1"/>
          <a:stretch/>
        </p:blipFill>
        <p:spPr>
          <a:xfrm>
            <a:off x="5072040" y="1285920"/>
            <a:ext cx="3862440" cy="4259160"/>
          </a:xfrm>
          <a:prstGeom prst="rect">
            <a:avLst/>
          </a:prstGeom>
          <a:ln w="0">
            <a:noFill/>
          </a:ln>
        </p:spPr>
      </p:pic>
      <p:sp>
        <p:nvSpPr>
          <p:cNvPr id="4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1"/>
          <p:cNvSpPr/>
          <p:nvPr/>
        </p:nvSpPr>
        <p:spPr>
          <a:xfrm>
            <a:off x="4205160" y="1682640"/>
            <a:ext cx="4643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принадлежит к семейству псовых. Издали его можно принять за крупную собаку . Вес старого матерого зверя достигает 50 килограммов. А изредка встречаются гиганты до 80 кг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Рисунок 2" descr="00018517.jpg"/>
          <p:cNvPicPr/>
          <p:nvPr/>
        </p:nvPicPr>
        <p:blipFill>
          <a:blip r:embed="rId1"/>
          <a:stretch/>
        </p:blipFill>
        <p:spPr>
          <a:xfrm>
            <a:off x="500040" y="1928880"/>
            <a:ext cx="3705120" cy="309564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1"/>
          <p:cNvSpPr/>
          <p:nvPr/>
        </p:nvSpPr>
        <p:spPr>
          <a:xfrm>
            <a:off x="3786120" y="1143000"/>
            <a:ext cx="5072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всего хищников в России – около ста тысяч ос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стране Серая братия обитает повсюду: в тундре, в равнинных лесах, в горах, степях, даже в пустыне. Они живут там, где есть для них еда. По лесам бродят хищники серо-бурого цвета, в тундре они светлые, в горах Азии  живет очень редкий Красный вол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" descr="D:\Мои документы\Рисунки и анимашки\Волк\84124022_0_103d7_612626cb_XL.jpg"/>
          <p:cNvPicPr/>
          <p:nvPr/>
        </p:nvPicPr>
        <p:blipFill>
          <a:blip r:embed="rId1"/>
          <a:srcRect l="4712" t="0" r="18298" b="0"/>
          <a:stretch/>
        </p:blipFill>
        <p:spPr>
          <a:xfrm>
            <a:off x="214200" y="1785960"/>
            <a:ext cx="3500640" cy="301140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оугольник 1"/>
          <p:cNvSpPr/>
          <p:nvPr/>
        </p:nvSpPr>
        <p:spPr>
          <a:xfrm>
            <a:off x="1000080" y="428760"/>
            <a:ext cx="7858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 у волков густой, довольно длинный и состоит из двух слоёв, из-за чего иногда животное выглядит крупнее, чем оно есть на самом деле. Первый слой шерсти состоит из жёстких остевых волос, которые отталкивают воду и грязь. Второй слой, называемый подшёрстком, включает в себя водонепроницаемый пух, согревающий животн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Рисунок 2" descr="00018590.jpg"/>
          <p:cNvPicPr/>
          <p:nvPr/>
        </p:nvPicPr>
        <p:blipFill>
          <a:blip r:embed="rId1"/>
          <a:stretch/>
        </p:blipFill>
        <p:spPr>
          <a:xfrm>
            <a:off x="2286000" y="3571920"/>
            <a:ext cx="4714920" cy="314316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1"/>
          <p:cNvSpPr/>
          <p:nvPr/>
        </p:nvSpPr>
        <p:spPr>
          <a:xfrm>
            <a:off x="4286160" y="157176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й весной или ранним летом пух комочками отслаивается от тела (линька), при этом животные трутся о камни или ветки деревьев ради облегчения этого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Рисунок 2" descr="78гее54к.jpg"/>
          <p:cNvPicPr/>
          <p:nvPr/>
        </p:nvPicPr>
        <p:blipFill>
          <a:blip r:embed="rId1"/>
          <a:stretch/>
        </p:blipFill>
        <p:spPr>
          <a:xfrm>
            <a:off x="714240" y="1285920"/>
            <a:ext cx="3260880" cy="4543560"/>
          </a:xfrm>
          <a:prstGeom prst="rect">
            <a:avLst/>
          </a:prstGeom>
          <a:ln w="0">
            <a:noFill/>
          </a:ln>
        </p:spPr>
      </p:pic>
      <p:sp>
        <p:nvSpPr>
          <p:cNvPr id="4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4:09:09Z</dcterms:created>
  <dc:creator>школа</dc:creator>
  <dc:description/>
  <dc:language>en-US</dc:language>
  <cp:lastModifiedBy>LEGION2</cp:lastModifiedBy>
  <dcterms:modified xsi:type="dcterms:W3CDTF">2015-04-23T07:57:07Z</dcterms:modified>
  <cp:revision>26</cp:revision>
  <dc:subject/>
  <dc:title>Волки.</dc:title>
</cp:coreProperties>
</file>