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89B6-F9D9-4E8F-A13F-1B6C93607D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аленькие голова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езентация для 1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4F83-2006-4882-82E3-8CD7A5CD49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 нарисуем голова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B8EF-B8AD-4607-AC92-53C26F3CC0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т таких головастиков мы часто видим в пру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14CB-53B0-4FED-A86F-88C0AA07A5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ачала у головастика появляются задние лап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9A12-3104-4B58-9BB9-A02A0922E0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еперь у малыша появились и передние лап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5A01-1751-4A49-971B-5BCE31AF36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6052-D4C9-4A5E-8D38-93398088F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AE74-5983-4B4F-859F-069326D5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1040-DA91-4BC4-9A96-353466738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9D02-C27D-48AD-9728-33885434B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BA6A-1AEC-4CB4-B65E-6B0A0DDB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F965-714B-49D3-873E-985EEA61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2C93-BA39-40C8-9595-E87318FB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7CE2-B4D9-4C68-8881-DCE794D4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CFFC-5AD8-4624-BFBB-7A6A1C2C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4C0E-DC7C-41E1-879B-72FF3A75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2C8D-4D97-4E85-8166-9487576B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8809-D89E-40F2-9FE3-7F5AD073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F791-F7B0-4760-8ED2-33DCB5B1AE0D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Маленькие головас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езентация для 1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авайте нарисуем головас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tumblr_l5m7ngRU241qawpgg"/>
          <p:cNvPicPr/>
          <p:nvPr/>
        </p:nvPicPr>
        <p:blipFill>
          <a:blip r:embed="rId1"/>
          <a:stretch/>
        </p:blipFill>
        <p:spPr>
          <a:xfrm>
            <a:off x="1403280" y="1628640"/>
            <a:ext cx="6194520" cy="45561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т таких головастиков мы часто видим в пруд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0_6a910_4eb43b5a_XL"/>
          <p:cNvPicPr/>
          <p:nvPr/>
        </p:nvPicPr>
        <p:blipFill>
          <a:blip r:embed="rId1"/>
          <a:stretch/>
        </p:blipFill>
        <p:spPr>
          <a:xfrm>
            <a:off x="1116000" y="1536840"/>
            <a:ext cx="6840720" cy="533700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tads030404"/>
          <p:cNvPicPr/>
          <p:nvPr/>
        </p:nvPicPr>
        <p:blipFill>
          <a:blip r:embed="rId1"/>
          <a:stretch/>
        </p:blipFill>
        <p:spPr>
          <a:xfrm>
            <a:off x="250920" y="130320"/>
            <a:ext cx="8642160" cy="648972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0_6fa6a_a7009121_XL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653724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начала у головастика появляются задние лап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final_FL005491"/>
          <p:cNvPicPr/>
          <p:nvPr/>
        </p:nvPicPr>
        <p:blipFill>
          <a:blip r:embed="rId1"/>
          <a:stretch/>
        </p:blipFill>
        <p:spPr>
          <a:xfrm>
            <a:off x="539640" y="1413000"/>
            <a:ext cx="7993080" cy="524988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woodfrog_rana_sylvatica_larva_500"/>
          <p:cNvPicPr/>
          <p:nvPr/>
        </p:nvPicPr>
        <p:blipFill>
          <a:blip r:embed="rId1"/>
          <a:stretch/>
        </p:blipFill>
        <p:spPr>
          <a:xfrm>
            <a:off x="250920" y="115920"/>
            <a:ext cx="8642160" cy="656892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 теперь у малыша появились и передние лап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0_59970_701ab2e7_XL"/>
          <p:cNvPicPr/>
          <p:nvPr/>
        </p:nvPicPr>
        <p:blipFill>
          <a:blip r:embed="rId1"/>
          <a:stretch/>
        </p:blipFill>
        <p:spPr>
          <a:xfrm>
            <a:off x="1476360" y="1700280"/>
            <a:ext cx="5992920" cy="462276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kids-tadpole"/>
          <p:cNvPicPr/>
          <p:nvPr/>
        </p:nvPicPr>
        <p:blipFill>
          <a:blip r:embed="rId1"/>
          <a:stretch/>
        </p:blipFill>
        <p:spPr>
          <a:xfrm>
            <a:off x="179280" y="404640"/>
            <a:ext cx="8785440" cy="579924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0_630bd_d12c93e4_XL"/>
          <p:cNvPicPr/>
          <p:nvPr/>
        </p:nvPicPr>
        <p:blipFill>
          <a:blip r:embed="rId1"/>
          <a:stretch/>
        </p:blipFill>
        <p:spPr>
          <a:xfrm>
            <a:off x="179280" y="209520"/>
            <a:ext cx="8713800" cy="6448320"/>
          </a:xfrm>
          <a:prstGeom prst="rect">
            <a:avLst/>
          </a:prstGeom>
          <a:ln w="0">
            <a:noFill/>
          </a:ln>
        </p:spPr>
      </p:pic>
      <p:pic>
        <p:nvPicPr>
          <p:cNvPr id="74" name="MS902967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5" name="MS902968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6" name="MS902969.wav" descr=""/>
          <p:cNvPicPr/>
          <p:nvPr/>
        </p:nvPicPr>
        <p:blipFill>
          <a:blip r:embed="rId4"/>
          <a:stretch/>
        </p:blipFill>
        <p:spPr>
          <a:xfrm>
            <a:off x="826920" y="981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68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2268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2268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15:22:50Z</dcterms:created>
  <dc:creator>Мама</dc:creator>
  <dc:description/>
  <dc:language>en-US</dc:language>
  <cp:lastModifiedBy>LEGION2</cp:lastModifiedBy>
  <dcterms:modified xsi:type="dcterms:W3CDTF">2015-04-23T08:35:53Z</dcterms:modified>
  <cp:revision>4</cp:revision>
  <dc:subject/>
  <dc:title>Слайд 1</dc:title>
</cp:coreProperties>
</file>