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0761-B334-4251-A6F3-3D58953168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6146-AF71-4EB4-9C3B-EE268DC2FC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вред или поль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лыгина М.Д., 2 «В»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Вода испарилась, а соль осталась, образовав мельчайшие кристалл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C686-6033-447C-83CB-B5942775D5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ристаллов соли показано на фот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B464-3F88-4E30-8204-5AE8007D7A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E811-A08D-4721-96D6-5A6FAA1068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A533-DD90-4105-A2AC-A4A6FC5662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накомство» с солью (история, получение соли, применение сол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войств соли (проведение опытов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щивание кристаллов поваренной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1D0F-41FF-4235-B9E5-ACF22FF968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л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рошлом соль э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обря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 достатка и благополуч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4011-4F9F-4B4E-ACDD-0B03FFC596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для организма человека и живот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ая роль в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рв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ищеваритель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вижения мышц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спасает организм от обезвожи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Избыточное потребление соли ведет к болезням сердца и сосуд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отребления соли для человек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граммов в с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быт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права для различных блю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ервант пищевых продуктов (рыба, мясо, овощи, грибы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медицин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недостатка йода  и фтора в организм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зиологический раств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промышленности и техник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ление пластмасс, алюминия, бумаги, мыла, стекла, аккумуля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при обработке мехов и ко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гент для борьбы с гололе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314E-FD60-4CFA-8532-78B696C960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менная или твердая – добывается шахтным или карьерным способ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садочная или озерная - добывается на дне солевых оз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дочная – при испарении воды под воздействием солнца, соль оседает на дне бассейн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арочная – получается выпариванием воды из рассо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6092-10ED-4FF9-BDFB-38C3D80FC5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йства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ый кристалл не имеющий запаха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растворяется в воде.</a:t>
            </a: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C50A-48E8-424C-97C9-E106D4023C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увеличивает плотность во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3446-3FB6-4A40-B644-C08FB930EE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заставила таять лед вокруг спички, потому что </a:t>
            </a: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температура замерзания соленой воды ниже, чем пресно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леный раствор постепенно стекает в миску, и спичка примерзает к кусочку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DB35-1A1C-4F0C-85D4-F185661FFF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9C6-CBF1-4815-A139-8AF6210F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E1F-92CB-4835-80CA-5555F55E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C4D-3076-45F9-BDB2-BF071E71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7DE-EDAB-4617-867F-E5FB014A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0612-0C0E-4E22-AF7D-7A681CB8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D64F-EDE0-4F7A-A2EF-A5B69D0A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D4F-AB45-41FC-9890-CA807FD0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C537-BE1D-473E-A135-8009EA52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379E-1491-4743-8A99-5C2471E8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D97E-47C7-4F82-8A74-2867FDDB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B28D-7AF2-4925-847C-D86D05FB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2FB-C12E-4ACD-A1B4-A17DFB3C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F6F5-6D91-4DEC-B686-8329ABC6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4766-1574-45EC-A81F-753EEEE9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A6A8-B8E9-402B-A37D-D3002D84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FFA7-6514-4B84-9C60-036F994F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AFA7-941E-432D-8BDE-8BEAE46D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12B-3798-49B9-AF7E-06291DAE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DF6-C2F7-44D1-A85A-0A7DA5D5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DB9-42E5-47F4-AE1E-359EA986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DF0-2494-4EC1-A593-8A18F997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3BB-3898-4D1D-9F55-B9887B5F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DC9-EE06-4110-A2CC-A06DC559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E20-F488-44AC-A5D7-09C6409E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9779-710E-41E6-B055-5DE4C71365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39CA-7964-4D92-BAB9-27F2AEE5917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s://s3-eu-west-1.amazonaws.com/uploads.drugiegoroda.ru/44/files/2010/11/12c060d5a4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380600"/>
            <a:ext cx="665172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– вред или польз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76720" y="6021360"/>
            <a:ext cx="38880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ыгина М.Д., 2 «В»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рис солью"/>
          <p:cNvPicPr/>
          <p:nvPr/>
        </p:nvPicPr>
        <p:blipFill>
          <a:blip r:embed="rId1"/>
          <a:stretch/>
        </p:blipFill>
        <p:spPr>
          <a:xfrm>
            <a:off x="2397240" y="2111400"/>
            <a:ext cx="4297320" cy="322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1150920" y="208080"/>
            <a:ext cx="75042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4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1163520" y="5481720"/>
            <a:ext cx="74916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ода испарилась, а соль осталась, образовав мельчайшие кристалли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через 2 нед"/>
          <p:cNvPicPr/>
          <p:nvPr/>
        </p:nvPicPr>
        <p:blipFill>
          <a:blip r:embed="rId1"/>
          <a:stretch/>
        </p:blipFill>
        <p:spPr>
          <a:xfrm>
            <a:off x="4014720" y="2065320"/>
            <a:ext cx="4498920" cy="1320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через нед 1"/>
          <p:cNvPicPr/>
          <p:nvPr/>
        </p:nvPicPr>
        <p:blipFill>
          <a:blip r:embed="rId2"/>
          <a:stretch/>
        </p:blipFill>
        <p:spPr>
          <a:xfrm>
            <a:off x="839880" y="2549520"/>
            <a:ext cx="2954160" cy="3308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150920" y="208080"/>
            <a:ext cx="75042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5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ормирование кристаллов соли показано на фот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1" descr="через 3 нед 1"/>
          <p:cNvPicPr/>
          <p:nvPr/>
        </p:nvPicPr>
        <p:blipFill>
          <a:blip r:embed="rId3"/>
          <a:stretch/>
        </p:blipFill>
        <p:spPr>
          <a:xfrm>
            <a:off x="4029120" y="3449520"/>
            <a:ext cx="4597200" cy="30639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22440" y="687240"/>
            <a:ext cx="475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4640" y="2635200"/>
            <a:ext cx="85122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360" y="2421000"/>
            <a:ext cx="7491600" cy="29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«знакомство» с солью (история, получение соли, применение соли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зучение свойств соли (проведение опытов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ращивание кристаллов поваренной со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00120" y="115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такое сол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491600" cy="20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прошлом соль эт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лю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ъект обря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знак достатка и благополуч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403360" y="3344760"/>
            <a:ext cx="565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ейчас соль это недорогой и распространенный продук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476360" y="4365720"/>
            <a:ext cx="74916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называю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галитом в минералог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варенной или пищевой в технике и в бы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хлоридом натрия в хим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59418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для организма человека и животн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491600" cy="44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жная роль в рабо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ерв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ищеваритель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вижения мышц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оль спасает организм от обезвожи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Избыточное потребление соли ведет к болезням сердца и сосудов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орма потребления соли для человека –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5 граммов в су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411280" y="26028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нение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403280" y="1195560"/>
            <a:ext cx="7491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быт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иправа для различных блюд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сервант пищевых продуктов (рыба, мясо, овощи, грибы и т.д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403280" y="3068640"/>
            <a:ext cx="7491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медицин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недостатка йода  и фтора в организм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изиологический раство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403280" y="4522680"/>
            <a:ext cx="749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промышленности и техни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зготовление пластмасс, алюминия, бумаги, мыла, стекла, аккумулято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спользование при обработке мехов и кож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еагент для борьбы с гололе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246320" y="1835280"/>
            <a:ext cx="74912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каменная или твердая – добывается шахтным или карьерным способом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мосадочная или озерная - добывается на дне солевых озер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дочная – при испарении воды под воздействием солнца, соль оседает на дне бассейнов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выварочная – получается выпариванием воды из рассолов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9" descr="1374633827_012[1]"/>
          <p:cNvPicPr/>
          <p:nvPr/>
        </p:nvPicPr>
        <p:blipFill>
          <a:blip r:embed="rId1"/>
          <a:stretch/>
        </p:blipFill>
        <p:spPr>
          <a:xfrm>
            <a:off x="971640" y="4076640"/>
            <a:ext cx="3779640" cy="256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365119147_img[1]"/>
          <p:cNvPicPr/>
          <p:nvPr/>
        </p:nvPicPr>
        <p:blipFill>
          <a:blip r:embed="rId2"/>
          <a:stretch/>
        </p:blipFill>
        <p:spPr>
          <a:xfrm>
            <a:off x="5292720" y="4005360"/>
            <a:ext cx="3255840" cy="26082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йства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1952640"/>
            <a:ext cx="7491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– прозрачный кристалл не имеющий запах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0001-001-Soli[1]"/>
          <p:cNvPicPr/>
          <p:nvPr/>
        </p:nvPicPr>
        <p:blipFill>
          <a:blip r:embed="rId1"/>
          <a:stretch/>
        </p:blipFill>
        <p:spPr>
          <a:xfrm>
            <a:off x="2733840" y="2403360"/>
            <a:ext cx="3301920" cy="302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50920" y="5551560"/>
            <a:ext cx="8713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1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растворяется в воде.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163520" y="208080"/>
            <a:ext cx="74916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2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9" descr="яйцо"/>
          <p:cNvPicPr/>
          <p:nvPr/>
        </p:nvPicPr>
        <p:blipFill>
          <a:blip r:embed="rId1"/>
          <a:stretch/>
        </p:blipFill>
        <p:spPr>
          <a:xfrm>
            <a:off x="297000" y="2216160"/>
            <a:ext cx="3168360" cy="303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яйцо 1"/>
          <p:cNvPicPr/>
          <p:nvPr/>
        </p:nvPicPr>
        <p:blipFill>
          <a:blip r:embed="rId2"/>
          <a:stretch/>
        </p:blipFill>
        <p:spPr>
          <a:xfrm>
            <a:off x="3571920" y="2201760"/>
            <a:ext cx="2531880" cy="304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https://s3-eu-west-1.amazonaws.com/uploads.drugiegoroda.ru/44/files/2010/11/12c060d5a4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9440" y="2244600"/>
            <a:ext cx="2760480" cy="2955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1163520" y="5361120"/>
            <a:ext cx="7491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увеличивает плотность воды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спич"/>
          <p:cNvPicPr/>
          <p:nvPr/>
        </p:nvPicPr>
        <p:blipFill>
          <a:blip r:embed="rId1"/>
          <a:stretch/>
        </p:blipFill>
        <p:spPr>
          <a:xfrm>
            <a:off x="498600" y="2076480"/>
            <a:ext cx="3970080" cy="329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спич1"/>
          <p:cNvPicPr/>
          <p:nvPr/>
        </p:nvPicPr>
        <p:blipFill>
          <a:blip r:embed="rId2"/>
          <a:stretch/>
        </p:blipFill>
        <p:spPr>
          <a:xfrm>
            <a:off x="4708440" y="2116080"/>
            <a:ext cx="4040280" cy="3262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1163520" y="208080"/>
            <a:ext cx="74916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3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104840" y="5313240"/>
            <a:ext cx="7550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заставила таять лед вокруг спички, потому что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температура замерзания соленой воды ниже, чем пресной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оленый раствор постепенно стекает в миску, и спичка примерзает к кусочку ль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4:01:22Z</dcterms:created>
  <dc:creator>Koretskiy</dc:creator>
  <dc:description/>
  <dc:language>en-US</dc:language>
  <cp:lastModifiedBy>LEGION2</cp:lastModifiedBy>
  <dcterms:modified xsi:type="dcterms:W3CDTF">2015-04-23T09:21:47Z</dcterms:modified>
  <cp:revision>35</cp:revision>
  <dc:subject/>
  <dc:title>Соль – вред или польз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