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A5F8-A3D0-4A4D-8F9C-D8E36EEFB00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Мораль </a:t>
            </a: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XXI </a:t>
            </a: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4B8D-F1E0-4673-8352-400C898F85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200"/>
            </a:br>
            <a:br>
              <a:rPr sz="11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. Установить правильные приоритеты в своей жизни, понимая, что первая и основная обязанность – это личное развитие, поскольку дать что-то ценное миру и людям можно, только став настоящим, завершенным человеком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2. Быть преданным добру и собственному дух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3. Признать свою нечестность.</a:t>
            </a:r>
            <a:br>
              <a:rPr sz="1100"/>
            </a:b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    </a:t>
            </a:r>
            <a:r>
              <a:rPr b="0" i="1" lang="ru-RU" sz="10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000" spc="-1" strike="noStrike">
                <a:solidFill>
                  <a:srgbClr val="ffffff"/>
                </a:solidFill>
                <a:latin typeface="ArbatC"/>
              </a:rPr>
              <a:t>рио Салас Соммэр           </a:t>
            </a:r>
            <a:br>
              <a:rPr sz="10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C0F7-DF98-4C3D-8B96-3F7F9AC13F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4. Эмоционально ставить себя на место других, научиться понимать их и быть терпимым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5. Контролировать негативные эмоции и уметь "подставлять другую щеку"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6. Выйти из своей "ментальной норы", покинуть ее тесный мирок и открыть для себя другую реальность.</a:t>
            </a:r>
            <a:br>
              <a:rPr sz="1200"/>
            </a:br>
            <a:br>
              <a:rPr sz="1200"/>
            </a:br>
            <a:br>
              <a:rPr sz="1100"/>
            </a:br>
            <a:br>
              <a:rPr sz="1000"/>
            </a:br>
            <a:r>
              <a:rPr b="0" i="1" lang="ru-RU" sz="10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000"/>
            </a:br>
            <a:r>
              <a:rPr b="0" i="1" lang="ru-RU" sz="10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r>
              <a:rPr b="0" i="1" lang="ru-RU" sz="1000" spc="-1" strike="noStrike">
                <a:solidFill>
                  <a:srgbClr val="ffffff"/>
                </a:solidFill>
                <a:latin typeface="AdventureC"/>
              </a:rPr>
              <a:t>      Да</a:t>
            </a:r>
            <a:r>
              <a:rPr b="0" i="1" lang="ru-RU" sz="10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9CDA-1D50-4ACF-A3AF-500E3253FC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7. Развивать волю и закалять характер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8. Жить в гармонии с Природо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9. Следовать закону "эквивалентного равенства"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0. Не доверять первому впечатлению и пытаться найти более глубокую истину. 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1FF5-F212-4EDE-800C-2CCF627881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обходимо вернуться к традиционным ценностям человечества, таким, как 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упорный труд, настойчивость, честность, добродетель, готовность к самопожертвованию, сплоченность семьи, терпимость, доброта, любовь, справедливость, дружба и альтруизм».       </a:t>
            </a: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         </a:t>
            </a: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                               Дарио Салас Соммэр                                       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140B-B84D-4087-8534-EDED82F3DF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Важность морали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ногие современные ученые приходят к выводу, что у человечества нет будущего, если оно не будет руководствоваться моралью и не начнет выполнять законы Природы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Единственный выход – изучать законы морали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чищать и воспитывать себя с помощью нашего созн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ля достижения этого людям необходимо развить сознание, являющееся основным богатством во Вселенной. 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6CDB-6E98-4AA4-A0E3-857D60E4BA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Что такое мораль?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бычная человеческая мораль никогда не была всеохватывающей, её меняли и приспосабливали в различных культурах и сообществах на протяжении всей истории цивилизации: каннибализм, инквизиция, войны, конфликты религий, народов, политических систем и т.д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месте с тем в природе существуют непреложные законы, не подчиненные времени и текущим социальным и общественным мнениям, которые представляют собой мораль космическую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385B-4943-4C64-B9C4-253EE23D2C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 (Заголовки)"/>
              </a:rPr>
              <a:t>Основы мор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Мораль челове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зменчива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убъ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правдывает людски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Фрагмент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граничена рамками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Мораль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е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из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праведли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сегда стоит выше эго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Ц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инна в любой точке времени и прост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FE24-2B32-47C3-8090-9F7A8E50BA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арио Салас Соммэр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"..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Некоторые считают, что все равно каким быть — хорошим или плохим, и что это только вопрос предпочтений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Думаю, что новая Мораль должна основываться на научных постулатах, которые покажут: быть плохим, в конечном счете, крайне убыточно, а действовать согласно принципами добра — выгодно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Я убежден, что серьезные нарушения морали вызывают состояние хаоса и органического распада, порождает энергию, которая входит в диссонанс с порядком и гармонией Природы, чем наносится серьезный вред телу и мозгу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Годы наблюдений и опытов убедили меня, что человек без высшего сознания — это робот, слепо идущий по жизни и ограниченный выполнением программы, которая находится в его мозге". 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A6D1-9474-4686-99F3-68D9ED7530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вое научное направление,  использующее синергию древней философской традиции и современной нау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анная наука позволяет людям сознательно и целенаправленно взаимодействовать с Природой, не противопоставляя себя ей, а сотрудничая с ней и достигая, таким образом, как личного, так и всеобщего благ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овременные достижения квантовой физики позволяют научным языком описать и подтвердить эти законы. 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8B6F-874E-4364-8352-5FBB1898AF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Автор научной идеи о физических основах морали Дарио Салас Соммэр научно обосновал, что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ораль объективна, описывается законами квантовой физики и представляет собой совокупность неизменных законов Природы, лежащих в основе существования Вселенно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облюдение этих законов способствует развитию высшего сознания, а их нарушение вызывает падение жизненной силы и деградацию человека.</a:t>
            </a:r>
            <a:br>
              <a:rPr sz="1200"/>
            </a:b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BE39-28CE-46F0-AD0E-01CB4A5ECF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Физика 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(φύσις) с древнегреческого языка переводится как 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Природа. 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 данном случае «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Физика Морали»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есть объяснение 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Природы Морали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ри этом под словом 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Мораль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онимается свод вечных и неизменных законов Природы, лежащих в основе существования Вселенно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Это не новый набор искусственных запрещающих правил, а научное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бъяснение механизмов взаимодействия человека и Природы.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305F-141B-4A0B-920A-675F91A7A0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«Физика морали»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арио Салас предложил в своей книге </a:t>
            </a:r>
            <a:r>
              <a:rPr b="1" lang="ru-RU" sz="1200" spc="-1" strike="noStrike">
                <a:solidFill>
                  <a:srgbClr val="7f7f7f"/>
                </a:solidFill>
                <a:latin typeface="Calibri"/>
              </a:rPr>
              <a:t>«Мораль XXI века»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ораль, излагаемая в этой книге представляет собой описание трансцендентальных ценносте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акже в этой книге впервые научно доказывается, что быть моральным выгодно и единственное, что делает человека человеком — это высокий уровень сознания.</a:t>
            </a:r>
            <a:br>
              <a:rPr sz="1200"/>
            </a:br>
            <a:br>
              <a:rPr sz="12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ArbatC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1A7D-43BC-4412-9F84-53C5CB0059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CC3-A7D9-4CA9-85F2-AC4750E3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31E-DCCC-4AE3-85F2-97046EEE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6E4-4B2E-4A55-A388-31549AFC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175-6459-48F1-9069-1AB214C5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FEBB-3A15-429C-99A6-C37055B9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5019-3838-4EDB-BC15-A6832C2E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256A-0BB1-4D1F-9884-6DADB844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B8BD-D79A-4D47-A80B-5BBC18DA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AF8B-8257-47B0-9B1D-80577199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DE95-86F6-4FA7-95AE-9EBBE9FF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CF9E-BCB7-4494-A6D6-6F308E79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C66-4B4A-4FEF-B3F6-FD60C6C1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0146-1E75-44E3-A8C1-307C7ACC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869B-1D6B-4E11-AA9B-48121FF5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4AC0-5C9F-4C0B-ADC2-6392C57D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B626-75E3-47DA-B1F0-BE0695BF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D650-0D3C-497C-BAA1-9C28DFB9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8440-6CCA-4162-AAC5-E0158F44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E06D-F352-4FA8-A67D-BBAF65EC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3D67-AF07-411C-B6E5-31E7D7F4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AFA76-16DA-4601-AEA4-F35E03B5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313E-1635-4187-862D-7CAED26F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774-0C40-47B2-80E9-FE64DCD9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F27E0-0010-4892-AEC8-5B307E9A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14457-5CC1-4FFD-9052-D54239FD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E287D-79DA-42BB-88C8-09A13AE2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A035E-EA28-4918-BA18-A4740E27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1B72E-6150-4D86-A66D-F1683AAC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879A9-17CF-4BAD-89AC-6C66DCC2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04FF6-72F0-4F51-930B-3F5D5C15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063AE-2C28-41E4-9617-1611599B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BE230-AD47-4ED0-8488-BADF0643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49D09-DA1B-4C88-A9A9-AD335943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C68-2BC2-4ECB-B145-F007F128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A65B6-5E44-4E11-AD5B-E0D77BDD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2D87D-8F73-4D09-ADE4-C9718D65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C2D7C-E623-45C3-A99F-407540F6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288C9-1FF0-46E3-BE53-29F1F898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B3873-DDF2-436F-96F8-51EE228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BCDC6-24F4-4BCC-B6D6-06087C80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56653-8902-4886-AFA1-70032CAA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4E03C-D90C-40C6-99F7-F838C745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D6A69-550F-404C-AE43-C6C7D5BB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BED5B-BE4A-4F2F-9F75-93A726AE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9AF-A36F-48F0-B2D2-C0001AA7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C5A15-F7F2-4424-A303-860021A1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9A088-A201-493C-8E9B-527C25F0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5EC76-4345-40CD-B9F6-915780EB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D3F3E-7B41-49FD-B13E-50570DE4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F546B-E631-452A-9B7E-E13789FA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CE5BE-674F-4548-90E2-476512CE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DCD1-5911-4AD8-8B26-3CB3045D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DC2E3-F59B-4FC1-9A43-7BAE1572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C96A1-CB61-4E26-8E73-B13B0663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885CE-EF97-4C7B-8500-F8DA7631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B9A-03A6-4C0F-BBFB-9CA80B30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01864-B09C-41FD-8C94-C28C9318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5787F-4BE3-428A-AA7D-175050C9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E6016-9777-4EF2-8E57-542F5999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0982C-157C-48F9-9482-1B771452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6E552-5B1B-4F10-A619-8CD74ABF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8090D-BA05-4C40-BDD2-A16ED465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7F063-17E6-4DB8-9E42-94EAC59C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75027-2E94-4C96-B0DA-1A9BE6E6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41AB3-1BE9-4DBF-B13C-2ADE490E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D828F-EA3B-40A4-99A3-6B1B0599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D6B-93D4-4737-A7A8-6E09BB19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BD1C3-D9C8-4A27-92BC-42DF7215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F9940-5C17-4B0C-817A-23D7CCD9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54395-0E9C-4AB6-A923-F9C7F723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DC7F8-1AB9-4112-9EAA-92089507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61991-47B5-4B5D-81BD-DB93FD88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F6D56-08DC-4779-B811-4EF54333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FC9CB-7235-4696-8790-1899BB25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064FF-DBD2-48C7-9F33-FA59368B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80C3F-81A9-42A2-95C0-C013A90B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D16C9-5746-4AC8-8629-5AB59C24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BA9-0D5F-4669-8745-D7558C78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3D989-B6B7-4D7C-B7F0-9B7CA940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021A3-84F0-4524-9994-C785C179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592E4-F293-4BBC-BC51-236E8F03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9E930-3716-420F-814C-4666C102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90D03-DA60-4FAE-87F7-B0458BB5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59439-2190-4E96-910A-614E65CF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A20A7-B57F-42E0-88EB-1C2C59C8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A60B9-072D-4F2D-9428-9AA80861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15AC9-CF6C-4119-86CE-BF10A9F2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1B81D-7AF0-4287-8E29-06750166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CB4-F766-44C7-AEA8-8AEE702A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7518E-05E7-4A64-8529-079F74C4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D211E-4EE0-43D8-B552-144905E0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71D83-8581-45CE-866B-07F48E28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8C940-BE1B-440F-8781-F92F41C9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81E32-DD33-43A3-93B7-578D783F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E762E-13D2-4DFE-9C35-A35320C7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4CD69-9D74-4072-B253-B3355258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6255-8DAD-4062-8BF0-782C1E438623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1C4F-81C0-4CC5-AE7B-564A5ABB287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E6F3-AEE2-41FD-982E-90753F585F04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3312-6172-4053-8145-EA20FEB4C74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689A-AB9C-43A5-8B39-DD2AC2B46C9E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6C0E-B712-4D73-9F1B-E079E79B843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E6D7-429F-414C-A057-4522B0D773D6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0776-F590-4DDC-B9D3-0BA0D9C3A4E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AA97-243B-4A49-AB0C-83FF6AFDCB1E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70FE-4579-49B3-AA32-C1CD79BE303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A0BB-C1A3-4257-8596-1702C8A9A1FD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FD1D-75BB-48D0-AD69-AF86C576782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A612-370A-438A-B842-5705D9FC0B84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3FA1-C1B8-4941-9434-BBE67CFA972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69FC-A742-4315-8628-7C527AA05894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373E-4C7D-428B-94AC-880C926719E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699320" cy="19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Мораль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XXI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века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547640" y="5589720"/>
            <a:ext cx="6264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ndara"/>
              </a:rPr>
              <a:t>«Основы духовно-нравственной культуры народов Росс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27640" y="115560"/>
            <a:ext cx="4248000" cy="626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900"/>
            </a:br>
            <a:br>
              <a:rPr sz="18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1. Установить правильные приоритеты в своей жизни, понимая, что первая и основная обязанность – это личное развитие, поскольку дать что-то ценное миру и людям можно, только став настоящим, завершенным человеком.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 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 2. Быть преданным добру и собственному духу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3. Признать свою нечестность.</a:t>
            </a:r>
            <a:br>
              <a:rPr sz="1700"/>
            </a:br>
            <a:br>
              <a:rPr sz="17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8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8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          </a:t>
            </a:r>
            <a:br>
              <a:rPr sz="1600"/>
            </a:br>
            <a:br>
              <a:rPr sz="1700"/>
            </a:br>
            <a:br>
              <a:rPr sz="1700"/>
            </a:br>
            <a:br>
              <a:rPr sz="19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7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4. Эмоционально ставить себя на место других, научиться понимать их и быть терпимыми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5. Контролировать негативные эмоции и уметь "подставлять другую щеку"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6. Выйти из своей "ментальной норы", покинуть ее тесный мирок и открыть для себя другую реальность.</a:t>
            </a:r>
            <a:br>
              <a:rPr sz="1900"/>
            </a:br>
            <a:br>
              <a:rPr sz="1900"/>
            </a:br>
            <a:br>
              <a:rPr sz="1700"/>
            </a:br>
            <a:br>
              <a:rPr sz="1600"/>
            </a:br>
            <a:r>
              <a:rPr b="0" i="1" lang="ru-RU" sz="16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600"/>
            </a:br>
            <a:r>
              <a:rPr b="0" i="1" lang="ru-RU" sz="16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      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6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27640" y="189000"/>
            <a:ext cx="4248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7. Развивать волю и закалять характер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8. Жить в гармонии с Природой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9. Следовать закону "эквивалентного равенства"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10. Не доверять первому впечатлению и пытаться найти более глубокую истину. </a:t>
            </a:r>
            <a:br>
              <a:rPr sz="21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0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5"/>
          <p:cNvSpPr/>
          <p:nvPr/>
        </p:nvSpPr>
        <p:spPr>
          <a:xfrm>
            <a:off x="6345360" y="5516640"/>
            <a:ext cx="22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5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7640" y="115560"/>
            <a:ext cx="4248000" cy="64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«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Необходимо вернуться к традиционным ценностям человечества, таким, как 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упорный труд, настойчивость, честность, добродетель, готовность к самопожертвованию, сплоченность семьи, терпимость, доброта, любовь, справедливость, дружба и альтруизм».       </a:t>
            </a: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         </a:t>
            </a: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                               Дарио Салас Соммэр                                       </a:t>
            </a:r>
            <a:br>
              <a:rPr sz="16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5" name="Прямоугольник 8"/>
          <p:cNvSpPr/>
          <p:nvPr/>
        </p:nvSpPr>
        <p:spPr>
          <a:xfrm>
            <a:off x="0" y="620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Важность морали</a:t>
            </a:r>
            <a:br>
              <a:rPr sz="2000"/>
            </a:br>
            <a:br>
              <a:rPr sz="20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ногие современные ученые приходят к выводу, что у человечества нет будущего, если оно не будет руководствоваться моралью и не начнет выполнять законы Природы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Единственный выход – изучать законы морали</a:t>
            </a:r>
            <a:r>
              <a:rPr b="0" lang="en-US" sz="1900" spc="-1" strike="noStrike">
                <a:solidFill>
                  <a:srgbClr val="7f7f7f"/>
                </a:solidFill>
                <a:latin typeface="Candara"/>
              </a:rPr>
              <a:t>,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чищать и воспитывать себя с помощью нашего сознания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ля достижения этого людям необходимо развить сознание, являющееся основным богатством во Вселенной.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Что такое мораль?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бычная человеческая мораль никогда не была всеохватывающей, её меняли и приспосабливали в различных культурах и сообществах на протяжении всей истории цивилизации: каннибализм, инквизиция, войны, конфликты религий, народов, политических систем и т.д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Вместе с тем в природе существуют непреложные законы, не подчиненные времени и текущим социальным и общественным мнениям, которые представляют собой мораль космическую.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 (Заголовки)"/>
              </a:rPr>
              <a:t>Основы морал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640" y="2677680"/>
            <a:ext cx="3959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ndara"/>
              </a:rPr>
              <a:t>Мораль челове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77880" y="3429000"/>
            <a:ext cx="381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ремен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Изменчивая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Субъектив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Оправдывает людские порок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Фрагментар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Ограничена рамками планет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427280" y="2677680"/>
            <a:ext cx="4043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ndara"/>
              </a:rPr>
              <a:t>Мораль Косми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45080" y="3429000"/>
            <a:ext cx="38224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еч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Неизмен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Справедлив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сегда стоит выше эгоизм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Цель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Истинна в любой точке времени и пространств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Дарио Салас Соммэр</a:t>
            </a:r>
            <a:r>
              <a:rPr b="0" lang="en-US" sz="2400" spc="-1" strike="noStrike">
                <a:solidFill>
                  <a:srgbClr val="c00000"/>
                </a:solidFill>
                <a:latin typeface="Candara"/>
              </a:rPr>
              <a:t>:</a:t>
            </a: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"...</a:t>
            </a: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Некоторые считают, что все равно каким быть — хорошим или плохим, и что это только вопрос предпочтений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Думаю, что новая Мораль должна основываться на научных постулатах, которые покажут: быть плохим, в конечном счете, крайне убыточно, а действовать согласно принципами добра — выгодно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Я убежден, что серьезные нарушения морали вызывают состояние хаоса и органического распада, порождает энергию, которая входит в диссонанс с порядком и гармонией Природы, чем наносится серьезный вред телу и мозгу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Годы наблюдений и опытов убедили меня, что человек без высшего сознания — это робот, слепо идущий по жизни и ограниченный выполнением программы, которая находится в его мозге". 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6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Новое научное направление,  использующее синергию древней философской традиции и современной науки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анная наука позволяет людям сознательно и целенаправленно взаимодействовать с Природой, не противопоставляя себя ей, а сотрудничая с ней и достигая, таким образом, как личного, так и всеобщего блага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Современные достижения квантовой физики позволяют научным языком описать и подтвердить эти законы. </a:t>
            </a:r>
            <a:br>
              <a:rPr sz="16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6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Автор научной идеи о физических основах морали Дарио Салас Соммэр научно обосновал, что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ораль объективна, описывается законами квантовой физики и представляет собой совокупность неизменных законов Природы, лежащих в основе существования Вселенно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Соблюдение этих законов способствует развитию высшего сознания, а их нарушение вызывает падение жизненной силы и деградацию человека.</a:t>
            </a:r>
            <a:br>
              <a:rPr sz="1900"/>
            </a:br>
            <a:br>
              <a:rPr sz="19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0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Физика 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(φύσις) с древнегреческого языка переводится как 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Природа. 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В данном случае «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Физика Морали»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 есть объяснение 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Природы Морали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При этом под словом 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Мораль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понимается свод вечных и неизменных законов Природы, лежащих в основе существования Вселенно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Это не новый набор искусственных запрещающих правил, а научное</a:t>
            </a:r>
            <a:r>
              <a:rPr b="0" lang="en-US" sz="1900" spc="-1" strike="noStrike">
                <a:solidFill>
                  <a:srgbClr val="7f7f7f"/>
                </a:solidFill>
                <a:latin typeface="Candara"/>
              </a:rPr>
              <a:t>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бъяснение механизмов взаимодействия человека и Природы. </a:t>
            </a:r>
            <a:br>
              <a:rPr sz="1900"/>
            </a:br>
            <a:br>
              <a:rPr sz="1900"/>
            </a:br>
            <a:br>
              <a:rPr sz="19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4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Термин 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«Физика морали»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арио Салас предложил в своей книге </a:t>
            </a:r>
            <a:r>
              <a:rPr b="1" lang="ru-RU" sz="1900" spc="-1" strike="noStrike">
                <a:solidFill>
                  <a:srgbClr val="7f7f7f"/>
                </a:solidFill>
                <a:latin typeface="Candara"/>
              </a:rPr>
              <a:t>«Мораль XXI века».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 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ораль, излагаемая в этой книге представляет собой описание трансцендентальных ценносте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Также в этой книге впервые научно доказывается, что быть моральным выгодно и единственное, что делает человека человеком — это высокий уровень сознания.</a:t>
            </a:r>
            <a:br>
              <a:rPr sz="1900"/>
            </a:br>
            <a:br>
              <a:rPr sz="1900"/>
            </a:br>
            <a:br>
              <a:rPr sz="14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batC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Прямоугольник 8"/>
          <p:cNvSpPr/>
          <p:nvPr/>
        </p:nvSpPr>
        <p:spPr>
          <a:xfrm>
            <a:off x="0" y="620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LEGION</cp:lastModifiedBy>
  <dcterms:modified xsi:type="dcterms:W3CDTF">2014-11-11T07:57:54Z</dcterms:modified>
  <cp:revision>167</cp:revision>
  <dc:subject/>
  <dc:title>Образовательно-воспитательная программа «Я -гражданин России» как основа воспитательной системы класса</dc:title>
</cp:coreProperties>
</file>