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5AE8-776F-47EA-8AA6-EC5098DA6F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Мораль </a:t>
            </a: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XXI </a:t>
            </a: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272C-96C8-411E-A31D-528819F305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200"/>
            </a:br>
            <a:br>
              <a:rPr sz="11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. Установить правильные приоритеты в своей жизни, понимая, что первая и основная обязанность – это личное развитие, поскольку дать что-то ценное миру и людям можно, только став настоящим, завершенным человеком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2. Быть преданным добру и собственному дух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3. Признать свою нечестность.</a:t>
            </a:r>
            <a:br>
              <a:rPr sz="1100"/>
            </a:b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    </a:t>
            </a:r>
            <a:r>
              <a:rPr b="0" i="1" lang="ru-RU" sz="10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000" spc="-1" strike="noStrike">
                <a:solidFill>
                  <a:srgbClr val="ffffff"/>
                </a:solidFill>
                <a:latin typeface="ArbatC"/>
              </a:rPr>
              <a:t>рио Салас Соммэр           </a:t>
            </a:r>
            <a:br>
              <a:rPr sz="10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4CBB-46DA-4312-B436-EE15D0BFA7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4. Эмоционально ставить себя на место других, научиться понимать их и быть терпимым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5. Контролировать негативные эмоции и уметь "подставлять другую щеку"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6. Выйти из своей "ментальной норы", покинуть ее тесный мирок и открыть для себя другую реальность.</a:t>
            </a:r>
            <a:br>
              <a:rPr sz="1200"/>
            </a:br>
            <a:br>
              <a:rPr sz="1200"/>
            </a:br>
            <a:br>
              <a:rPr sz="1100"/>
            </a:br>
            <a:br>
              <a:rPr sz="1000"/>
            </a:br>
            <a:r>
              <a:rPr b="0" i="1" lang="ru-RU" sz="10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000"/>
            </a:br>
            <a:r>
              <a:rPr b="0" i="1" lang="ru-RU" sz="10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r>
              <a:rPr b="0" i="1" lang="ru-RU" sz="1000" spc="-1" strike="noStrike">
                <a:solidFill>
                  <a:srgbClr val="ffffff"/>
                </a:solidFill>
                <a:latin typeface="AdventureC"/>
              </a:rPr>
              <a:t>      Да</a:t>
            </a:r>
            <a:r>
              <a:rPr b="0" i="1" lang="ru-RU" sz="10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C6AC-A212-4AC2-A7AF-6FF323AE4D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7. Развивать волю и закалять характер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8. Жить в гармонии с Природо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9. Следовать закону "эквивалентного равенства"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0. Не доверять первому впечатлению и пытаться найти более глубокую истину. 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8A27-A9AA-4574-AB3C-E40138F468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обходимо вернуться к традиционным ценностям человечества, таким, как 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упорный труд, настойчивость, честность, добродетель, готовность к самопожертвованию, сплоченность семьи, терпимость, доброта, любовь, справедливость, дружба и альтруизм».       </a:t>
            </a: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         </a:t>
            </a: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                               Дарио Салас Соммэр                                       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7F57-ACD4-4690-BAE8-331EB209BD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Важность морали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ногие современные ученые приходят к выводу, что у человечества нет будущего, если оно не будет руководствоваться моралью и не начнет выполнять законы Природы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Единственный выход – изучать законы морали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чищать и воспитывать себя с помощью нашего созн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ля достижения этого людям необходимо развить сознание, являющееся основным богатством во Вселенной. 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87C2-823E-411F-AAED-2C621C3A0E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Что такое мораль?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бычная человеческая мораль никогда не была всеохватывающей, её меняли и приспосабливали в различных культурах и сообществах на протяжении всей истории цивилизации: каннибализм, инквизиция, войны, конфликты религий, народов, политических систем и т.д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месте с тем в природе существуют непреложные законы, не подчиненные времени и текущим социальным и общественным мнениям, которые представляют собой мораль космическую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8253-15FA-41B6-BD2B-3CD70B7E55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 (Заголовки)"/>
              </a:rPr>
              <a:t>Основы мор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Мораль челове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зменчива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убъ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правдывает людски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Фрагмент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граничена рамками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Мораль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е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из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праведли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сегда стоит выше эго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Ц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инна в любой точке времени и прост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E75B-E27E-4289-8408-C4C1BA44C6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арио Салас Соммэр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"..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Некоторые считают, что все равно каким быть — хорошим или плохим, и что это только вопрос предпочтений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Думаю, что новая Мораль должна основываться на научных постулатах, которые покажут: быть плохим, в конечном счете, крайне убыточно, а действовать согласно принципами добра — выгодно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Я убежден, что серьезные нарушения морали вызывают состояние хаоса и органического распада, порождает энергию, которая входит в диссонанс с порядком и гармонией Природы, чем наносится серьезный вред телу и мозгу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Годы наблюдений и опытов убедили меня, что человек без высшего сознания — это робот, слепо идущий по жизни и ограниченный выполнением программы, которая находится в его мозге". 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6673-BF5B-4813-8A6C-CA317B166B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вое научное направление,  использующее синергию древней философской традиции и современной нау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анная наука позволяет людям сознательно и целенаправленно взаимодействовать с Природой, не противопоставляя себя ей, а сотрудничая с ней и достигая, таким образом, как личного, так и всеобщего благ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овременные достижения квантовой физики позволяют научным языком описать и подтвердить эти законы. 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CCE0-67BA-44EA-A5D0-605E05FD2B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Автор научной идеи о физических основах морали Дарио Салас Соммэр научно обосновал, что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ораль объективна, описывается законами квантовой физики и представляет собой совокупность неизменных законов Природы, лежащих в основе существования Вселенно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облюдение этих законов способствует развитию высшего сознания, а их нарушение вызывает падение жизненной силы и деградацию человека.</a:t>
            </a:r>
            <a:br>
              <a:rPr sz="1200"/>
            </a:b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7A73-5FD9-4EA4-8CFB-6DF186AF44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Физика 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(φύσις) с древнегреческого языка переводится как 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Природа. 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 данном случае «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Физика Морали»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есть объяснение 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Природы Морали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ри этом под словом 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Мораль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онимается свод вечных и неизменных законов Природы, лежащих в основе существования Вселенно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Это не новый набор искусственных запрещающих правил, а научное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бъяснение механизмов взаимодействия человека и Природы.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2B7E-DEBF-4E88-8819-3E38DEEC87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«Физика морали»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арио Салас предложил в своей книге </a:t>
            </a:r>
            <a:r>
              <a:rPr b="1" lang="ru-RU" sz="1200" spc="-1" strike="noStrike">
                <a:solidFill>
                  <a:srgbClr val="7f7f7f"/>
                </a:solidFill>
                <a:latin typeface="Calibri"/>
              </a:rPr>
              <a:t>«Мораль XXI века»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ораль, излагаемая в этой книге представляет собой описание трансцендентальных ценносте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акже в этой книге впервые научно доказывается, что быть моральным выгодно и единственное, что делает человека человеком — это высокий уровень сознания.</a:t>
            </a:r>
            <a:br>
              <a:rPr sz="1200"/>
            </a:br>
            <a:br>
              <a:rPr sz="12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ArbatC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74CD-7255-4B59-A890-9A3BF72D66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283-A6BF-4ABC-A322-AC59D3EF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EC1-AC95-400E-AA47-34B50B8A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C2C-C5A7-42C9-AC8C-A42E4108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8CF-2195-498C-9E63-CC8194D4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2BF4-F647-4CC8-94F9-FD587519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8063-6892-43F9-B06C-A3A7C22A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38B5-0E86-4174-B200-1EDD10E2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2232-DD08-4ACC-BC80-366F4988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C716-2283-4B17-91D2-465348E4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1C01-E4DC-4036-8566-45CE5EF2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AD55-C7A4-46F3-BE7C-421F475D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8CF-A3E7-4C9C-9781-60AC98EF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215A-24E7-41E6-9A12-DF995597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5393-3AE9-476A-9CC7-71DDE316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31AC-0716-4538-8E28-20481814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CC0B-E996-4D3F-ADEC-39816B5E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9FC6-AF11-4178-892B-C87FC4AE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C5A87-4692-4789-97E5-91F89FA5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C6395-619C-4BEF-93D1-476CC7ED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C8E3-C6CC-4EEC-8F77-612581BD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B4B1-770A-43E2-BCB7-D7FE3DAE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6D6D-7761-48FA-AD74-66D6EEA0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184-DBD8-47B3-B92A-9A2540D4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F946E-DE12-47ED-8374-57816A52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B727-08B0-44B3-BBA2-A90ED032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C00FE-D661-41F2-B213-AA2C3018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B8E8B-EBCF-4ABE-8C39-F3D71746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CC6C-A542-4699-BA93-21075F46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5804E-746F-4CB9-B4D5-3775325D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EA7A-79B6-4029-9DD2-ECB9B7D9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EDD88-216A-48C4-B511-B0D4DD57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8227F-6451-4CA6-81D7-9EE473C7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789B2-9D44-4D2C-82E2-E1D04D3C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AEA-2C4B-41EA-A299-F6F63106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71C49-DC09-4CE0-B4F7-CBC84A2E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B0FD6-F671-4D06-92EA-E4B07184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927F4-12D2-49E4-B84C-7B42ECE8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9382E-5610-448C-B083-7C2A92E7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7425E-CBEF-4AFE-9C90-C9B6ADD7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056F7-1BF2-4CDF-B907-AF8C7CF9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1261D-B5AC-4DD5-A551-A022A77C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B70B0-8CDC-4DEB-BDC0-423C53B2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4FC29-698A-4445-9312-1BAD71C2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ADEFF-89E0-46FB-ADCB-D44B62F2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6FD-7419-47D6-B5CD-E9CC13FD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FCD6D-81B1-4C7B-B054-4ECD233F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CA0A0-1F3B-4B07-BC4A-E6F1E28B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2284A-D5F2-400C-89BE-0B785496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AE5D8-C1F1-42C6-BDD0-3A744D26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526D6-8175-479F-8848-83FA5392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82D35-017D-4558-978A-8BDC1F09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EE138-D99C-41E8-8419-D5FE75B8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217A6-BA9D-42BF-96C0-5CE599A7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CD347-E4E0-4664-BC43-D2FEFE98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F9BEB-CAA8-45D5-A8AD-2E4C7D5C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C57-526E-4C30-BE01-BA87AAA3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ED803-5F56-49DF-8096-0B28EA93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AE8CF-F708-4276-8989-BE91BE73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93FBE-B6BE-488D-AA86-C4017CA4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69528-531B-4FA7-AAD7-F3034139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CD7AD-418F-45F6-BD77-340CCDF5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AAD07-B9E9-4865-8DED-D455F80A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877A3-6070-454E-B57C-5059E452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B9076-AF7A-4BBC-A134-8647285B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8A67B-1F76-4DDE-98B1-2A1394BD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EF5A2-BD59-4664-BB74-6C123208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EFB-2F84-4EB0-B41E-A17788B5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4C886-2628-4E23-8C12-4B13C3C2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CFAB0-E87A-4FD3-9701-872F6C43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D1EA8-D53F-41FF-9BC5-C90B3DB8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54ED9-2E91-4664-A303-4A860477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150F2-FF31-4741-83B6-9BB4B672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A2114-6132-4B26-A64C-AE45E60D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F699C-873D-46E6-BD50-125D454F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24F0C-759B-4A1F-A0F4-0C802F03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AE465-D690-4A66-9FBC-061D5A7F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23659-A0C2-4507-A1F5-E90C6F0D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8A8-A489-48AC-A1E1-BEF45D44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EF20C-61BB-4D19-8A2D-0C99A7CA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95239-03FC-4FC3-883A-E0856162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E3DC8-34DD-4F36-9AF3-F0A4F33C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7F120-E010-47E2-B15D-DF47C3FE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A4D87-44E5-434F-89D5-3E7335AE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95AF7-C38C-4845-8739-A8860ADD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D8E52-E9DC-4BDD-B2E9-F1D5DD19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91DF3-B8CE-4C7E-95C7-676FB179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ED343-6929-49E1-9740-C88B282E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83D70-9D79-4992-A11F-9BC92D08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3F0-2807-4D1E-86D7-BB52739A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43045-B78F-4E2A-8519-3BC06B36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48A76-48DE-452F-963C-CFC0125C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1A3C2-5915-4EEC-B046-2968E44D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CB774-E101-420B-A6AE-78AA63DC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102ED-9179-466C-B131-EF8AD157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9772E-8F37-448A-BF45-CA9DDA22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A910C-6387-4E05-ACB7-C55E7293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70EF-A57F-4532-910B-37DE06FBF0F9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A71F-2C36-42D6-BDA7-CB2B755BA18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89E0-C7FD-4533-8B33-0EAFA55B499B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0610-9089-42BF-BFB2-91F8007A232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FACE-B782-4F0D-BD76-5675AA825685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5A3F-1D62-4AFC-9315-D71BE19F109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7119-5199-4C39-B9D5-3724BF9338D0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34C2-2037-42AE-8D63-6E15F8C8ABA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A342-232C-40F1-B680-F725A568EC91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682E-0108-41DF-9A4E-60912C677BF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7D6D-C856-44B4-ACAE-5BE200E11DBD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5CE5-6F77-400B-95C0-DF4D2328986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D251-3706-4357-BCD2-48E5D25D5095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12FF-935E-44A3-A1DE-21A1CC9F160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D120-7CC2-43E4-807F-499A21D6C20F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E108-45F5-4866-BA32-BF2AD1265E9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699320" cy="19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Мораль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XXI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века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547640" y="5589720"/>
            <a:ext cx="6264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ndara"/>
              </a:rPr>
              <a:t>«Основы духовно-нравственной культуры народов Росс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27640" y="115560"/>
            <a:ext cx="4248000" cy="626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900"/>
            </a:br>
            <a:br>
              <a:rPr sz="18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1. Установить правильные приоритеты в своей жизни, понимая, что первая и основная обязанность – это личное развитие, поскольку дать что-то ценное миру и людям можно, только став настоящим, завершенным человеком.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 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 2. Быть преданным добру и собственному духу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3. Признать свою нечестность.</a:t>
            </a:r>
            <a:br>
              <a:rPr sz="1700"/>
            </a:br>
            <a:br>
              <a:rPr sz="17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8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8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          </a:t>
            </a:r>
            <a:br>
              <a:rPr sz="1600"/>
            </a:br>
            <a:br>
              <a:rPr sz="1700"/>
            </a:br>
            <a:br>
              <a:rPr sz="1700"/>
            </a:br>
            <a:br>
              <a:rPr sz="19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7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4. Эмоционально ставить себя на место других, научиться понимать их и быть терпимыми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5. Контролировать негативные эмоции и уметь "подставлять другую щеку"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6. Выйти из своей "ментальной норы", покинуть ее тесный мирок и открыть для себя другую реальность.</a:t>
            </a:r>
            <a:br>
              <a:rPr sz="1900"/>
            </a:br>
            <a:br>
              <a:rPr sz="1900"/>
            </a:br>
            <a:br>
              <a:rPr sz="1700"/>
            </a:br>
            <a:br>
              <a:rPr sz="1600"/>
            </a:br>
            <a:r>
              <a:rPr b="0" i="1" lang="ru-RU" sz="16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600"/>
            </a:br>
            <a:r>
              <a:rPr b="0" i="1" lang="ru-RU" sz="16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      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6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27640" y="189000"/>
            <a:ext cx="4248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7. Развивать волю и закалять характер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8. Жить в гармонии с Природой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9. Следовать закону "эквивалентного равенства"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10. Не доверять первому впечатлению и пытаться найти более глубокую истину. </a:t>
            </a:r>
            <a:br>
              <a:rPr sz="21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0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5"/>
          <p:cNvSpPr/>
          <p:nvPr/>
        </p:nvSpPr>
        <p:spPr>
          <a:xfrm>
            <a:off x="6345360" y="5516640"/>
            <a:ext cx="22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5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7640" y="115560"/>
            <a:ext cx="4248000" cy="64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«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Необходимо вернуться к традиционным ценностям человечества, таким, как 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упорный труд, настойчивость, честность, добродетель, готовность к самопожертвованию, сплоченность семьи, терпимость, доброта, любовь, справедливость, дружба и альтруизм».       </a:t>
            </a: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         </a:t>
            </a: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                               Дарио Салас Соммэр                                       </a:t>
            </a:r>
            <a:br>
              <a:rPr sz="16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5" name="Прямоугольник 8"/>
          <p:cNvSpPr/>
          <p:nvPr/>
        </p:nvSpPr>
        <p:spPr>
          <a:xfrm>
            <a:off x="0" y="620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Важность морали</a:t>
            </a:r>
            <a:br>
              <a:rPr sz="2000"/>
            </a:br>
            <a:br>
              <a:rPr sz="20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ногие современные ученые приходят к выводу, что у человечества нет будущего, если оно не будет руководствоваться моралью и не начнет выполнять законы Природы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Единственный выход – изучать законы морали</a:t>
            </a:r>
            <a:r>
              <a:rPr b="0" lang="en-US" sz="1900" spc="-1" strike="noStrike">
                <a:solidFill>
                  <a:srgbClr val="7f7f7f"/>
                </a:solidFill>
                <a:latin typeface="Candara"/>
              </a:rPr>
              <a:t>,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чищать и воспитывать себя с помощью нашего сознания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ля достижения этого людям необходимо развить сознание, являющееся основным богатством во Вселенной.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Что такое мораль?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бычная человеческая мораль никогда не была всеохватывающей, её меняли и приспосабливали в различных культурах и сообществах на протяжении всей истории цивилизации: каннибализм, инквизиция, войны, конфликты религий, народов, политических систем и т.д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Вместе с тем в природе существуют непреложные законы, не подчиненные времени и текущим социальным и общественным мнениям, которые представляют собой мораль космическую.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 (Заголовки)"/>
              </a:rPr>
              <a:t>Основы морал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640" y="2677680"/>
            <a:ext cx="3959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ndara"/>
              </a:rPr>
              <a:t>Мораль челове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77880" y="3429000"/>
            <a:ext cx="381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ремен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Изменчивая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Субъектив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Оправдывает людские порок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Фрагментар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Ограничена рамками планет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427280" y="2677680"/>
            <a:ext cx="4043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ndara"/>
              </a:rPr>
              <a:t>Мораль Косми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45080" y="3429000"/>
            <a:ext cx="38224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еч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Неизмен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Справедлив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сегда стоит выше эгоизм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Цель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Истинна в любой точке времени и пространств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Дарио Салас Соммэр</a:t>
            </a:r>
            <a:r>
              <a:rPr b="0" lang="en-US" sz="2400" spc="-1" strike="noStrike">
                <a:solidFill>
                  <a:srgbClr val="c00000"/>
                </a:solidFill>
                <a:latin typeface="Candara"/>
              </a:rPr>
              <a:t>:</a:t>
            </a: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"...</a:t>
            </a: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Некоторые считают, что все равно каким быть — хорошим или плохим, и что это только вопрос предпочтений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Думаю, что новая Мораль должна основываться на научных постулатах, которые покажут: быть плохим, в конечном счете, крайне убыточно, а действовать согласно принципами добра — выгодно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Я убежден, что серьезные нарушения морали вызывают состояние хаоса и органического распада, порождает энергию, которая входит в диссонанс с порядком и гармонией Природы, чем наносится серьезный вред телу и мозгу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Годы наблюдений и опытов убедили меня, что человек без высшего сознания — это робот, слепо идущий по жизни и ограниченный выполнением программы, которая находится в его мозге". 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6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Новое научное направление,  использующее синергию древней философской традиции и современной науки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анная наука позволяет людям сознательно и целенаправленно взаимодействовать с Природой, не противопоставляя себя ей, а сотрудничая с ней и достигая, таким образом, как личного, так и всеобщего блага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Современные достижения квантовой физики позволяют научным языком описать и подтвердить эти законы. </a:t>
            </a:r>
            <a:br>
              <a:rPr sz="16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6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Автор научной идеи о физических основах морали Дарио Салас Соммэр научно обосновал, что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ораль объективна, описывается законами квантовой физики и представляет собой совокупность неизменных законов Природы, лежащих в основе существования Вселенно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Соблюдение этих законов способствует развитию высшего сознания, а их нарушение вызывает падение жизненной силы и деградацию человека.</a:t>
            </a:r>
            <a:br>
              <a:rPr sz="1900"/>
            </a:br>
            <a:br>
              <a:rPr sz="19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0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Физика 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(φύσις) с древнегреческого языка переводится как 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Природа. 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В данном случае «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Физика Морали»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 есть объяснение 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Природы Морали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При этом под словом 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Мораль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понимается свод вечных и неизменных законов Природы, лежащих в основе существования Вселенно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Это не новый набор искусственных запрещающих правил, а научное</a:t>
            </a:r>
            <a:r>
              <a:rPr b="0" lang="en-US" sz="1900" spc="-1" strike="noStrike">
                <a:solidFill>
                  <a:srgbClr val="7f7f7f"/>
                </a:solidFill>
                <a:latin typeface="Candara"/>
              </a:rPr>
              <a:t>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бъяснение механизмов взаимодействия человека и Природы. </a:t>
            </a:r>
            <a:br>
              <a:rPr sz="1900"/>
            </a:br>
            <a:br>
              <a:rPr sz="1900"/>
            </a:br>
            <a:br>
              <a:rPr sz="19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4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Термин 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«Физика морали»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арио Салас предложил в своей книге </a:t>
            </a:r>
            <a:r>
              <a:rPr b="1" lang="ru-RU" sz="1900" spc="-1" strike="noStrike">
                <a:solidFill>
                  <a:srgbClr val="7f7f7f"/>
                </a:solidFill>
                <a:latin typeface="Candara"/>
              </a:rPr>
              <a:t>«Мораль XXI века».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 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ораль, излагаемая в этой книге представляет собой описание трансцендентальных ценносте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Также в этой книге впервые научно доказывается, что быть моральным выгодно и единственное, что делает человека человеком — это высокий уровень сознания.</a:t>
            </a:r>
            <a:br>
              <a:rPr sz="1900"/>
            </a:br>
            <a:br>
              <a:rPr sz="1900"/>
            </a:br>
            <a:br>
              <a:rPr sz="14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batC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Прямоугольник 8"/>
          <p:cNvSpPr/>
          <p:nvPr/>
        </p:nvSpPr>
        <p:spPr>
          <a:xfrm>
            <a:off x="0" y="620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LEGION</cp:lastModifiedBy>
  <dcterms:modified xsi:type="dcterms:W3CDTF">2014-11-11T07:57:54Z</dcterms:modified>
  <cp:revision>167</cp:revision>
  <dc:subject/>
  <dc:title>Образовательно-воспитательная программа «Я -гражданин России» как основа воспитательной системы класса</dc:title>
</cp:coreProperties>
</file>