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6FFF-E306-451B-938D-7B7A200311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 по окружающему миру</a:t>
            </a: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«В пустыне Афри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8F34-B633-4937-938A-5B8FA0C9C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0675-9BDD-4A29-B9DA-C270EC714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8E48-652E-4D1E-BB8E-5C14AB25B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C880-7333-406C-97C9-F61AA2531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лан знакомства с пустыней Африк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оря и океаны, омывающие Афр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годные усло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собенности раститель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и живот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сновные занят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25B-2140-4D2D-ADE1-BB8BF7FFE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F72C-DB05-4D4C-B7BB-07292B689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8E12-CEDB-4A3F-8D55-646D845B3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3D28-D593-4C26-83E8-381512357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44A9-C9B6-4BD0-9566-553250270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DA7-CBFA-4D9A-9193-1EBE5E89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36C-4B9E-4CB6-9A91-6D7A9101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FDF-91DB-4C7D-AB4A-EB1FCBB9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629-1AD1-4C23-AA80-B4BEA855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414B-0514-46AE-832C-E13EE0D8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0AC4-3FCD-4162-A139-41796AF7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4AE8-272A-4D82-A5E0-134630D2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CDE8-DA15-41E8-ADB0-9CFBB7BA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8F4A-12A2-4B51-BD78-9D0289E1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AB89-91CA-4AA8-8C43-B8E88565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350D-F50E-4935-A1D8-BD5CE8C5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961-4805-4E2C-83D8-D6079995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6766-5F6B-4030-859B-BFD66C39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ACB1-B17D-4E05-B20E-5ADEBFF6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42BF-5C6E-4333-B1D1-D427839C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30D0-1204-4566-8FB1-A15BBA1E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1508-FB0B-4967-8839-21FC0EDF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12D1-C0D7-4B54-92F0-F15E710C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F56E-BA2E-4530-86DA-3307822B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7FF2-E43B-4988-9FF9-B2096998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2A94-D45D-4C39-BA58-E5BD80FA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CC6D-6556-45B1-9031-63B8C8CB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8E6-C7F4-47B2-A510-10F5E50F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331F-B2AF-4F27-A863-E569BB06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96A8-C7E3-4F19-AB4F-BE8F5CF8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D755-0EC8-43F0-BEF3-6EBBBFD4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4729-A3A6-4E54-9521-8B26AB41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F382-EA1A-4986-A8BD-4243E2D0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B816-3029-48E1-916C-CF298D1B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C20D-04C5-4FF5-8141-B500F42B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14EE-99A3-4EB3-82FC-19B7C8C1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33A14-4062-4953-8185-646D60DD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71A0-1E91-41C1-8B43-27D4D746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37E-DE5F-4E82-9E64-BD0A4909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2C944-26D1-4E02-9A54-7879089F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550E8-7EC1-4689-8E39-CCE90032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4A1B-E593-4DD6-8659-609F055C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6010-A8BD-49B0-A898-9FE3B8B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F15AF-00E3-4F32-91B0-F00647B7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3796-4E27-485A-8EB0-C461EBFD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1348-644A-4F7B-A39C-D5B0D5D4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0399D-3BC6-4D7E-AE30-48C08838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4A2E-68B4-4CF9-8BD4-70284854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A53-94FA-4768-B080-99337778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2E5-98DF-498E-BE28-54D7BFF6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C05-A70F-483B-82AD-82E2E1A6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025-D4E0-41F6-92F0-5B8D4778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BE0-7B65-4A4A-B688-0E8ADB3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F09C-BE82-441D-A2D8-2CDF440B465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90F8-8B7C-4E2B-9F6E-DD89B50EC7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794E-C1A4-418B-80B8-E15056233C6C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C00F-E861-43CE-8CE2-24C593226B6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EE51-9324-4DE2-B3D3-31015074271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6508-A30D-4455-A53A-C81CCFF34E4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EF3C-F985-4621-8259-62945DCAACFA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B69D-74F0-4865-862C-E246BC57763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73120" y="701640"/>
            <a:ext cx="7851600" cy="1114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81111_zhivotnye_afrika_dikaya_2560x1777_(www.GdeFon.ru).jpg"/>
          <p:cNvPicPr/>
          <p:nvPr/>
        </p:nvPicPr>
        <p:blipFill>
          <a:blip r:embed="rId2"/>
          <a:stretch/>
        </p:blipFill>
        <p:spPr>
          <a:xfrm>
            <a:off x="4572000" y="2928960"/>
            <a:ext cx="4572000" cy="3173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africa.jpg"/>
          <p:cNvPicPr/>
          <p:nvPr/>
        </p:nvPicPr>
        <p:blipFill>
          <a:blip r:embed="rId3"/>
          <a:stretch/>
        </p:blipFill>
        <p:spPr>
          <a:xfrm>
            <a:off x="214200" y="2357280"/>
            <a:ext cx="4429080" cy="42753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0_835c5_3b6f0893_orig.jpg"/>
          <p:cNvPicPr/>
          <p:nvPr/>
        </p:nvPicPr>
        <p:blipFill>
          <a:blip r:embed="rId1"/>
          <a:stretch/>
        </p:blipFill>
        <p:spPr>
          <a:xfrm>
            <a:off x="0" y="285840"/>
            <a:ext cx="913932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img_0731cd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ea8892f2c29e8f50fcd75f17edace027_580_0_0.jpg"/>
          <p:cNvPicPr/>
          <p:nvPr/>
        </p:nvPicPr>
        <p:blipFill>
          <a:blip r:embed="rId1"/>
          <a:stretch/>
        </p:blipFill>
        <p:spPr>
          <a:xfrm>
            <a:off x="0" y="142920"/>
            <a:ext cx="5524560" cy="3666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058759_367.jpg"/>
          <p:cNvPicPr/>
          <p:nvPr/>
        </p:nvPicPr>
        <p:blipFill>
          <a:blip r:embed="rId2"/>
          <a:stretch/>
        </p:blipFill>
        <p:spPr>
          <a:xfrm>
            <a:off x="3071880" y="2805120"/>
            <a:ext cx="6072120" cy="4052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42920" y="100008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524240" y="28584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amels-444-2.jpg"/>
          <p:cNvPicPr/>
          <p:nvPr/>
        </p:nvPicPr>
        <p:blipFill>
          <a:blip r:embed="rId1"/>
          <a:stretch/>
        </p:blipFill>
        <p:spPr>
          <a:xfrm>
            <a:off x="3571920" y="15001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7918560" cy="24447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1-3-11-b.jpg"/>
          <p:cNvPicPr/>
          <p:nvPr/>
        </p:nvPicPr>
        <p:blipFill>
          <a:blip r:embed="rId1"/>
          <a:stretch/>
        </p:blipFill>
        <p:spPr>
          <a:xfrm>
            <a:off x="0" y="142920"/>
            <a:ext cx="9085320" cy="6500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Африка-зак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000080" y="5572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-171360" y="871560"/>
            <a:ext cx="9315360" cy="4329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357120" y="285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1283838316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f_007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684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714240" y="5429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ерблюжья колю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images.jpeg"/>
          <p:cNvPicPr/>
          <p:nvPr/>
        </p:nvPicPr>
        <p:blipFill>
          <a:blip r:embed="rId1"/>
          <a:stretch/>
        </p:blipFill>
        <p:spPr>
          <a:xfrm>
            <a:off x="428760" y="1357200"/>
            <a:ext cx="4857480" cy="3638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dherb127.jpg"/>
          <p:cNvPicPr/>
          <p:nvPr/>
        </p:nvPicPr>
        <p:blipFill>
          <a:blip r:embed="rId2"/>
          <a:stretch/>
        </p:blipFill>
        <p:spPr>
          <a:xfrm>
            <a:off x="5786280" y="357120"/>
            <a:ext cx="25052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28760" y="5000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28840" y="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254039077.jpg"/>
          <p:cNvPicPr/>
          <p:nvPr/>
        </p:nvPicPr>
        <p:blipFill>
          <a:blip r:embed="rId1"/>
          <a:stretch/>
        </p:blipFill>
        <p:spPr>
          <a:xfrm>
            <a:off x="142920" y="1285920"/>
            <a:ext cx="4532400" cy="4357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skara01.jpg"/>
          <p:cNvPicPr/>
          <p:nvPr/>
        </p:nvPicPr>
        <p:blipFill>
          <a:blip r:embed="rId2"/>
          <a:stretch/>
        </p:blipFill>
        <p:spPr>
          <a:xfrm>
            <a:off x="4929120" y="1285920"/>
            <a:ext cx="361944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aa226728ff41t.jpg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kobra-rezba-po-derevu-eksklyuziv_34645314_3_F.jpg"/>
          <p:cNvPicPr/>
          <p:nvPr/>
        </p:nvPicPr>
        <p:blipFill>
          <a:blip r:embed="rId2"/>
          <a:stretch/>
        </p:blipFill>
        <p:spPr>
          <a:xfrm>
            <a:off x="5072040" y="857160"/>
            <a:ext cx="3965760" cy="528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292184088_img-c4eb9.jpg"/>
          <p:cNvPicPr/>
          <p:nvPr/>
        </p:nvPicPr>
        <p:blipFill>
          <a:blip r:embed="rId3"/>
          <a:stretch/>
        </p:blipFill>
        <p:spPr>
          <a:xfrm>
            <a:off x="142920" y="2943360"/>
            <a:ext cx="4714920" cy="3771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857160" y="1429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b56319682e914de0777e811b965baad0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1325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6:39Z</dcterms:created>
  <dc:creator>User</dc:creator>
  <dc:description/>
  <dc:language>en-US</dc:language>
  <cp:lastModifiedBy>LEGION2</cp:lastModifiedBy>
  <dcterms:modified xsi:type="dcterms:W3CDTF">2015-04-24T07:40:34Z</dcterms:modified>
  <cp:revision>6</cp:revision>
  <dc:subject/>
  <dc:title>Слайд 1</dc:title>
</cp:coreProperties>
</file>