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7.png" ContentType="image/png"/>
  <Override PartName="/ppt/media/image26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F828-3118-4EFB-8462-FEA7E1EE9A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рок по окружающему миру</a:t>
            </a:r>
            <a:br>
              <a:rPr sz="1200"/>
            </a:b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«В пустыне Африки»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BB9B-706B-482F-85E2-E3CF817720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План рассказа о верблюд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1. Внешний 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2. Повад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3. 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4. Польза, зна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412A-582F-4336-A9C9-8DD252CA1E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F090-BF7C-4D2C-802F-6FA672D3FA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В пустыне Афр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217A-E9F8-426C-929D-CF5FF7448A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лан знакомства с пустыней Африки: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Моря и океаны, омывающие Африку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годные услов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собенности растительного ми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обенности животного ми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Основные занятия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5B9F-FF03-4297-BD7E-DF29FCB86C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Растительный мир Афр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1F13-B47C-466B-A82C-5DEE87ED53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Гран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2BBF-5F18-428B-8A41-035D6AE0F5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Животный мир Афр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4098-560B-4283-992A-C15BF93673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Занятия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3579-5A79-4432-BC1A-F2C88EE165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355F-F7F3-4FAD-96DF-A20C1FAA0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7675-6DF5-4845-9FE8-ADC33A37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3E44-EBCD-4917-9B13-263285BF4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FB00-8C52-4285-8533-1C71E2F6D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0CED-219A-42B5-B198-D3A984948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06CA-AAF1-419F-8251-B28004EB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D37E-1920-481F-9F0E-0A52129B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26B9-A49D-4AA4-A029-FF2B2AE8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5DC3-8F19-423D-A503-C3A111F4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C994F-E509-434F-8A9B-68B32B37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2CDF-EE6C-484B-ACEA-33313949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2093-F80D-4CB6-BF07-A82113ED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F2A2-D361-4735-98F6-365DD982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C58B-4EFE-4153-BDCC-9BD85187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C05A-5293-44C7-9047-1011C514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05F7-C39D-4F63-A910-DB0A7193F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2E07-A4BD-4E45-8B8F-D2177C173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09933-38E3-406C-A634-78956F057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C206B-932D-40DC-BE8C-9AD2BCBC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0F5A5-EB33-438E-81EC-D95BD52C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D8F17-ABF0-4952-8176-A4DCF3DD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C73BB-AB93-4CFD-A563-141CF68F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9DFC-B3A1-4D16-8280-7604B82E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C385C-FC0C-4C03-9A9D-532692B6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7E93F-C45B-4491-AAE5-32F54467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F56B8-C143-445C-B194-C9631D16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17040-259A-4BAF-82B4-83330A3E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2EAE7-2E3D-461A-B6D5-3A4C6849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73A2B-886A-43D6-92FC-0AC30DA9F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7D95F-6A7F-403E-B59C-1C9D9B73B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FE106-6004-49B1-9D1B-479B946C2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BDD70-2F2C-4CBE-A350-7D411CFA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96BDF-347F-4A39-B99B-5BFB3629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86C2-9435-4C5E-BC15-20B64ED7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B0B7F-1A03-44D8-999F-A2DA064A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3BC68-B4A3-414E-B1C3-88FC9CF2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80F50-88C9-46E6-BFD8-26687DB2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A2C8E-784E-435D-89FB-5C70F863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D538C-7EA8-42E6-8DBF-E6DCBCE0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164A3-6164-42F3-98C2-D358B1A2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D589C-3315-4AEC-A56A-76FBEDCC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92033-841B-4BCA-AAAB-C50E55D2F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810C3-8DB2-4307-B57B-697396240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079C-0C44-484C-A086-B27925E7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67F5-24A6-473A-8D98-AA48BAC8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7867-C42F-477D-84F7-FF2DC640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DBC0-BAEC-48C7-A1BA-09FABDF5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F6A7-F699-472C-8A72-F76B694D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D156-D9BA-4746-AC47-2C9A2CC607D1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2C36-DAD7-4A05-9767-D6E656B7B66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9C23-F992-49C2-A30B-9BCFC97739BD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48FB-2234-4550-9085-755F6C74BF0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C4ED-6A5B-4F22-9804-58038CD8DF90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743C-E555-4873-A645-DF461509F85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9B3E-6197-4EE5-87D5-1E7BFDF90008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678E-4D93-41A8-914E-00F317BE5F0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73120" y="701640"/>
            <a:ext cx="7851600" cy="111456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3" descr="81111_zhivotnye_afrika_dikaya_2560x1777_(www.GdeFon.ru).jpg"/>
          <p:cNvPicPr/>
          <p:nvPr/>
        </p:nvPicPr>
        <p:blipFill>
          <a:blip r:embed="rId2"/>
          <a:stretch/>
        </p:blipFill>
        <p:spPr>
          <a:xfrm>
            <a:off x="4572000" y="2928960"/>
            <a:ext cx="4572000" cy="317340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5" descr="africa.jpg"/>
          <p:cNvPicPr/>
          <p:nvPr/>
        </p:nvPicPr>
        <p:blipFill>
          <a:blip r:embed="rId3"/>
          <a:stretch/>
        </p:blipFill>
        <p:spPr>
          <a:xfrm>
            <a:off x="214200" y="2357280"/>
            <a:ext cx="4429080" cy="427536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3" descr="0_835c5_3b6f0893_orig.jpg"/>
          <p:cNvPicPr/>
          <p:nvPr/>
        </p:nvPicPr>
        <p:blipFill>
          <a:blip r:embed="rId1"/>
          <a:stretch/>
        </p:blipFill>
        <p:spPr>
          <a:xfrm>
            <a:off x="0" y="285840"/>
            <a:ext cx="9139320" cy="607212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4" descr="img_0731cd.jpg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10704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3" descr="ea8892f2c29e8f50fcd75f17edace027_580_0_0.jpg"/>
          <p:cNvPicPr/>
          <p:nvPr/>
        </p:nvPicPr>
        <p:blipFill>
          <a:blip r:embed="rId1"/>
          <a:stretch/>
        </p:blipFill>
        <p:spPr>
          <a:xfrm>
            <a:off x="0" y="142920"/>
            <a:ext cx="5524560" cy="366696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4" descr="058759_367.jpg"/>
          <p:cNvPicPr/>
          <p:nvPr/>
        </p:nvPicPr>
        <p:blipFill>
          <a:blip r:embed="rId2"/>
          <a:stretch/>
        </p:blipFill>
        <p:spPr>
          <a:xfrm>
            <a:off x="3071880" y="2805120"/>
            <a:ext cx="6072120" cy="40528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Box 3"/>
          <p:cNvSpPr/>
          <p:nvPr/>
        </p:nvSpPr>
        <p:spPr>
          <a:xfrm>
            <a:off x="142920" y="1000080"/>
            <a:ext cx="585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1. Внешний в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2. Пова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3. 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4. Польза, зна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5"/>
          <p:cNvSpPr/>
          <p:nvPr/>
        </p:nvSpPr>
        <p:spPr>
          <a:xfrm>
            <a:off x="1524240" y="285840"/>
            <a:ext cx="681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План рассказа о верблюд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Рисунок 6" descr="camels-444-2.jpg"/>
          <p:cNvPicPr/>
          <p:nvPr/>
        </p:nvPicPr>
        <p:blipFill>
          <a:blip r:embed="rId1"/>
          <a:stretch/>
        </p:blipFill>
        <p:spPr>
          <a:xfrm>
            <a:off x="3571920" y="1500120"/>
            <a:ext cx="5429160" cy="407196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457200" y="1785960"/>
            <a:ext cx="7918560" cy="244476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Рисунок 4" descr="1-3-11-b.jpg"/>
          <p:cNvPicPr/>
          <p:nvPr/>
        </p:nvPicPr>
        <p:blipFill>
          <a:blip r:embed="rId1"/>
          <a:stretch/>
        </p:blipFill>
        <p:spPr>
          <a:xfrm>
            <a:off x="0" y="142920"/>
            <a:ext cx="9085320" cy="650088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3" descr="Африка-закат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4"/>
          <p:cNvSpPr/>
          <p:nvPr/>
        </p:nvSpPr>
        <p:spPr>
          <a:xfrm>
            <a:off x="1000080" y="5572080"/>
            <a:ext cx="7500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onstantia"/>
              </a:rPr>
              <a:t>В пустыне Афри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-171360" y="871560"/>
            <a:ext cx="9315360" cy="432900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3"/>
          <p:cNvSpPr/>
          <p:nvPr/>
        </p:nvSpPr>
        <p:spPr>
          <a:xfrm>
            <a:off x="357120" y="28584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астительный мир Афр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Рисунок 4" descr="1283838316_01.jpg"/>
          <p:cNvPicPr/>
          <p:nvPr/>
        </p:nvPicPr>
        <p:blipFill>
          <a:blip r:embed="rId1"/>
          <a:stretch/>
        </p:blipFill>
        <p:spPr>
          <a:xfrm>
            <a:off x="285840" y="1143000"/>
            <a:ext cx="4286160" cy="428616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5" descr="f_007.jpg"/>
          <p:cNvPicPr/>
          <p:nvPr/>
        </p:nvPicPr>
        <p:blipFill>
          <a:blip r:embed="rId2"/>
          <a:stretch/>
        </p:blipFill>
        <p:spPr>
          <a:xfrm>
            <a:off x="5214960" y="1143000"/>
            <a:ext cx="3429000" cy="4684680"/>
          </a:xfrm>
          <a:prstGeom prst="rect">
            <a:avLst/>
          </a:prstGeom>
          <a:ln w="0">
            <a:noFill/>
          </a:ln>
        </p:spPr>
      </p:pic>
      <p:sp>
        <p:nvSpPr>
          <p:cNvPr id="216" name="TextBox 7"/>
          <p:cNvSpPr/>
          <p:nvPr/>
        </p:nvSpPr>
        <p:spPr>
          <a:xfrm>
            <a:off x="714240" y="542916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Верблюжья колю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3" descr="images.jpeg"/>
          <p:cNvPicPr/>
          <p:nvPr/>
        </p:nvPicPr>
        <p:blipFill>
          <a:blip r:embed="rId1"/>
          <a:stretch/>
        </p:blipFill>
        <p:spPr>
          <a:xfrm>
            <a:off x="428760" y="1357200"/>
            <a:ext cx="4857480" cy="363852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4" descr="medherb127.jpg"/>
          <p:cNvPicPr/>
          <p:nvPr/>
        </p:nvPicPr>
        <p:blipFill>
          <a:blip r:embed="rId2"/>
          <a:stretch/>
        </p:blipFill>
        <p:spPr>
          <a:xfrm>
            <a:off x="5786280" y="357120"/>
            <a:ext cx="2505240" cy="5905440"/>
          </a:xfrm>
          <a:prstGeom prst="rect">
            <a:avLst/>
          </a:prstGeom>
          <a:ln w="0">
            <a:noFill/>
          </a:ln>
        </p:spPr>
      </p:pic>
      <p:sp>
        <p:nvSpPr>
          <p:cNvPr id="220" name="TextBox 5"/>
          <p:cNvSpPr/>
          <p:nvPr/>
        </p:nvSpPr>
        <p:spPr>
          <a:xfrm>
            <a:off x="428760" y="500076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Гран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1428840" y="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Животный мир Афр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4" descr="254039077.jpg"/>
          <p:cNvPicPr/>
          <p:nvPr/>
        </p:nvPicPr>
        <p:blipFill>
          <a:blip r:embed="rId1"/>
          <a:stretch/>
        </p:blipFill>
        <p:spPr>
          <a:xfrm>
            <a:off x="142920" y="1285920"/>
            <a:ext cx="4532400" cy="435780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5" descr="skara01.jpg"/>
          <p:cNvPicPr/>
          <p:nvPr/>
        </p:nvPicPr>
        <p:blipFill>
          <a:blip r:embed="rId2"/>
          <a:stretch/>
        </p:blipFill>
        <p:spPr>
          <a:xfrm>
            <a:off x="4929120" y="1285920"/>
            <a:ext cx="3619440" cy="46530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3" descr="aa226728ff41t.jpg"/>
          <p:cNvPicPr/>
          <p:nvPr/>
        </p:nvPicPr>
        <p:blipFill>
          <a:blip r:embed="rId1"/>
          <a:stretch/>
        </p:blipFill>
        <p:spPr>
          <a:xfrm>
            <a:off x="142920" y="0"/>
            <a:ext cx="4357800" cy="326880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4" descr="kobra-rezba-po-derevu-eksklyuziv_34645314_3_F.jpg"/>
          <p:cNvPicPr/>
          <p:nvPr/>
        </p:nvPicPr>
        <p:blipFill>
          <a:blip r:embed="rId2"/>
          <a:stretch/>
        </p:blipFill>
        <p:spPr>
          <a:xfrm>
            <a:off x="5072040" y="857160"/>
            <a:ext cx="3965760" cy="528660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5" descr="1292184088_img-c4eb9.jpg"/>
          <p:cNvPicPr/>
          <p:nvPr/>
        </p:nvPicPr>
        <p:blipFill>
          <a:blip r:embed="rId3"/>
          <a:stretch/>
        </p:blipFill>
        <p:spPr>
          <a:xfrm>
            <a:off x="142920" y="2943360"/>
            <a:ext cx="4714920" cy="377172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3"/>
          <p:cNvSpPr/>
          <p:nvPr/>
        </p:nvSpPr>
        <p:spPr>
          <a:xfrm>
            <a:off x="857160" y="14292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Занятия насе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4" descr="b56319682e914de0777e811b965baad0.jpg"/>
          <p:cNvPicPr/>
          <p:nvPr/>
        </p:nvPicPr>
        <p:blipFill>
          <a:blip r:embed="rId1"/>
          <a:stretch/>
        </p:blipFill>
        <p:spPr>
          <a:xfrm>
            <a:off x="714240" y="1214280"/>
            <a:ext cx="7715520" cy="513252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17:36:39Z</dcterms:created>
  <dc:creator>User</dc:creator>
  <dc:description/>
  <dc:language>en-US</dc:language>
  <cp:lastModifiedBy>LEGION2</cp:lastModifiedBy>
  <dcterms:modified xsi:type="dcterms:W3CDTF">2015-04-24T07:40:34Z</dcterms:modified>
  <cp:revision>6</cp:revision>
  <dc:subject/>
  <dc:title>Слайд 1</dc:title>
</cp:coreProperties>
</file>