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C325-0221-408B-8006-C234B262B7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Ю. Быст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DBF4-4461-48C8-BD8B-4C2F878300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424E-31A5-4F60-9F1D-E14B7A5ED6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B373-5BC9-49C8-9505-488C61764F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7971-A6FD-4B5E-8AB3-DC29F5EBB4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A7C5-49F5-49B7-8F65-EEB53257BD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81A4-EC11-411B-8797-257415D3B9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AEA1-D9B7-440D-A472-C06602C66D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5B7B-88F2-45F1-9FEC-2AAE1E4E45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4E81-5FAE-4FD0-A571-25E1797158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E769-1E94-4713-8407-685960471D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2CF5-F649-4223-8B15-2DC71F8B75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F94D-D236-4E6B-A1BF-AA40AB977F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59BC-CDD5-4DCF-85AD-03C765759D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295B-2B8C-4DA2-92B6-2B6CE68471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814-1945-4405-9265-20425E22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9E8-BAD2-403D-979F-DA8F94B5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874-62CA-4662-8BD5-3F0692B7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E0C-A05A-417B-B767-BC9B0123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926-7C12-4847-B7AF-A3FF81F4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3D8-0B07-42CE-953A-C973F2A7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EF9-8D06-4ED1-9492-E4867FBC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A6B-2987-40EC-998C-8FA53DA7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6D0-19C7-4A03-8B27-4E5E489C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8A9-F1DA-41D9-B9CD-DAA702AF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8C8-CC19-4EE7-AFA7-51238E47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987-01BA-4BCE-8DF6-1CFFE7CC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89C6-26E1-4B1A-BC9C-5CF0DC55BEF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A1FB-BB29-408F-9712-C1967A403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Т. Ю. Быст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4:09:34Z</dcterms:created>
  <dc:creator>Admin</dc:creator>
  <dc:description/>
  <dc:language>en-US</dc:language>
  <cp:lastModifiedBy>LEGION</cp:lastModifiedBy>
  <dcterms:modified xsi:type="dcterms:W3CDTF">2014-11-11T07:58:43Z</dcterms:modified>
  <cp:revision>19</cp:revision>
  <dc:subject/>
  <dc:title>Национальные особенности русской философии</dc:title>
</cp:coreProperties>
</file>