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6B7F-453D-4A71-9FC3-39083D0008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особенности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 Ю. Быст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E8FE-7FA7-4C3D-8E66-CAA2629076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синтетичность мысли. Установка на преодоление спора в позициях; синтез научного, художественного, религиозного подходов; познание целого и участие всех познавательных способностей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34BD-5523-4CDB-B8AA-2423225C46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. В. Емельянову, трактовка человека преимущественно не как индивида, а как части целого. Проблемы индивидуализма, субъективности, «Я» – на втором плане. Чаще всего «Мы»-философия (С. Л. Франк). Тема соборности, единства (В. С. Соловьев, А. С. Хомяков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5DF3-DB94-4D6D-A49B-C35863D806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рано – о месте человека, человечества и России во вселенной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усской мысли, который выражается в т.ч. через художественную и архитектурную практику (А. Скрябин, И. Леонидов). Сциентистское, научно техническое направление: К. Циолковский, В. Вернадски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005C-2E39-40EB-ACF6-870C8A0BC5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лософия сердца». Высокий эмоциональный накал. Мировоззренческий поступок. Исповед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E145-8F58-4658-A85D-E465063DCA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. В. Емельянову, заинтересованность в читателе, слушателе, открытость философского знания. Малые жанры, рецензии, статьи, открытые письма, философская публицистика. Использование периодических изданий. Отсюда – простота из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0C20-F2B8-4B60-A135-6E6675E4AA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не принадлежим ни к одному из великих семейств человеческого рода, мы не принадлежим ни к Западу, ни к Востоку, и у нас нет традиций ни того, ни другого. Стоя как бы вне времени, мы не были затронуты всемирным воспитанием человеческого род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принадлежим к числу наций, которые как бы не входят в состав человечества, а существуют лишь для того, чтобы дать миру какой-нибудь важный ур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Я. Чаадаев «Философические письм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4F9B-6110-482F-9246-F0BB6CA2CC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ня мало интересует продукт моего творчества, его совершенство. Меня интересовало выразить себя и крикнуть миру то, что мне открывает внутренний голос как истин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 А. Берд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йдите и разместите здесь цитату какого-либо русского философа, характеризующую, с вашей точки зрения, своеобразие русской мы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7859-EE28-4CD2-AE0B-06EC899837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д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развитие философской мысли в религиозном миросозерцании. Запад – наследники античности и средневековья, с готовой философской терминологией. В России 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– совместить ученичество и свободное собственное твор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1D8C-0A1D-47D9-87AF-7E6A3DC071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не столько гносеология, скольк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т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«Философия есть там, где есть искание единства духовной жизни на путях ее рационализации». В России познание признается лишь частью и функцией «нашего действования в мире». Его смысл, задачи и возможности определяются из общего отношения человека к миру. Русский онтологизм выражает не примат «реальности» над познанием, а включенность познания в наше отношение к миру, «действование» в 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5C5B-A10E-450C-A97A-16E31E4382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. В. Емельянову, социальная ориентированность русской мысли. Мысль в гуще жизни, пытается не только анализировать ее, но и влиять на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29E0-779D-4F44-80B5-09CDC2908A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тропоцентриз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ого философствования. Тема человека. Доминирование моральной установки. Внимание к социальной проблематике. В анализ действительности привносится оценочный момент. Отсюда невозможность разделять теоретическую и практическую сферу. (Т.Б.: например, осмысление иконописи как «умозрения в красках» у П. А. Флоренског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62B6-7E17-4132-8247-0A22742AE7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С. Соловьев: В человеке «вся тайна абсолютно становящегося». «В человеке природа перерастает саму себя и переходит (в сознании) в область бытия абсолютного» // Чтения о Богочеловеч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D68F-0B6E-42C8-B7A1-9BD3EEB187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А. Флоренский: «Ведь художник есть чистое простое око, взирающее на мир, чистое око человечества, которым оно созерцает реальность. И, изучая чистые линии реальности, художник показывает их нам, и тогда мы начинаем видеть их». «Цель художества – преодоление чувственной видимости, натуралистической коры случайного, и проявление устойчивого, неизменного, общеценного и общезначимого действительности» // Анализ пространственности в художественно-изобразительных произве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E9D8-9C46-4591-BB80-9FAEECBDAD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7F22-9467-4547-9FF6-EC0C4DB0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993E-CA94-41DC-9FE4-2FDC6D0C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0911-7ED6-454F-A304-4439FE27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A692-BBB1-441B-ACE6-CDCCC2D0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72E3-4809-4B80-8EB7-1BB8C183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2BC1-CEF2-4B80-95D8-9EA4D17F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43D-24AD-496E-A697-E60352B6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9612-CED0-4A83-BF47-9DEA847B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FE2C-A14F-4646-9C82-64239EA5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1C77-BC65-495B-A77B-4DC78588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3682-C8B3-4EAF-8440-6D250A51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C73F-88D3-4C63-B73F-C1189409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D635-E80C-4537-B97A-76E2D1662D9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8565-D568-41DF-B81D-23601A5843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циональные особенности русской философ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Т. Ю. Быстр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В. В. Зеньковскому, синтетичность мысли. Установка на преодоление спора в позициях; синтез научного, художественного, религиозного подходов; познание целого и участие всех познавательных способностей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Б. В. Емельянову, трактовка человека преимущественно не как индивида, а как части целого. Проблемы индивидуализма, субъективности, «Я» – на втором плане. Чаще всего «Мы»-философия (С. Л. Франк). Тема соборности, единства (В. С. Соловьев, А. С. Хомяков и др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чень рано – о месте человека, человечества и России во вселенной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смиз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усской мысли, который выражается в т.ч. через художественную и архитектурную практику (А. Скрябин, И. Леонидов). Сциентистское, научно техническое направление: К. Циолковский, В. Вернадский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Философия сердца». Высокий эмоциональный накал. Мировоззренческий поступок. Исповедаль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Б. В. Емельянову, заинтересованность в читателе, слушателе, открытость философского знания. Малые жанры, рецензии, статьи, открытые письма, философская публицистика. Использование периодических изданий. Отсюда – простота из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Мы не принадлежим ни к одному из великих семейств человеческого рода, мы не принадлежим ни к Западу, ни к Востоку, и у нас нет традиций ни того, ни другого. Стоя как бы вне времени, мы не были затронуты всемирным воспитанием человеческого рода…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Мы принадлежим к числу наций, которые как бы не входят в состав человечества, а существуют лишь для того, чтобы дать миру какой-нибудь важный урок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. Я. Чаадаев «Философические письма»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Меня мало интересует продукт моего творчества, его совершенство. Меня интересовало выразить себя и крикнуть миру то, что мне открывает внутренний голос как истину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. А. Бердяе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Найдите и разместите здесь цитату какого-либо русского философа, характеризующую, с вашей точки зрения, своеобразие русской мыс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В. В. Зеньковскому, д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ека развитие философской мысли в религиозном миросозерцании. Запад – наследники античности и средневековья, с готовой философской терминологией. В России с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. – совместить ученичество и свободное собственное творчест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В. В. Зеньковскому, не столько гносеология, сколько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нтолог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«Философия есть там, где есть искание единства духовной жизни на путях ее рационализации». В России познание признается лишь частью и функцией «нашего действования в мире». Его смысл, задачи и возможности определяются из общего отношения человека к миру. Русский онтологизм выражает не примат «реальности» над познанием, а включенность познания в наше отношение к миру, «действование» в не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Б. В. Емельянову, социальная ориентированность русской мысли. Мысль в гуще жизни, пытается не только анализировать ее, но и влиять на н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В. В. Зеньковскому,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нтропоцентризм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усского философствования. Тема человека. Доминирование моральной установки. Внимание к социальной проблематике. В анализ действительности привносится оценочный момент. Отсюда невозможность разделять теоретическую и практическую сферу. (Т.Б.: например, осмысление иконописи как «умозрения в красках» у П. А. Флоренского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С. Соловьев: В человеке «вся тайна абсолютно становящегося». «В человеке природа перерастает саму себя и переходит (в сознании) в область бытия абсолютного» // Чтения о Богочеловече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. А. Флоренский: «Ведь художник есть чистое простое око, взирающее на мир, чистое око человечества, которым оно созерцает реальность. И, изучая чистые линии реальности, художник показывает их нам, и тогда мы начинаем видеть их». «Цель художества – преодоление чувственной видимости, натуралистической коры случайного, и проявление устойчивого, неизменного, общеценного и общезначимого действительности» // Анализ пространственности в художественно-изобразительных произведениях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4:09:34Z</dcterms:created>
  <dc:creator>Admin</dc:creator>
  <dc:description/>
  <dc:language>en-US</dc:language>
  <cp:lastModifiedBy>LEGION</cp:lastModifiedBy>
  <dcterms:modified xsi:type="dcterms:W3CDTF">2014-11-11T07:58:43Z</dcterms:modified>
  <cp:revision>19</cp:revision>
  <dc:subject/>
  <dc:title>Национальные особенности русской философии</dc:title>
</cp:coreProperties>
</file>