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A70D-354F-4972-8C91-DE02B045BB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рофессии наших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ворческий проект учащихся 2 «б» класса МОУ СОШ №21 ЦПО г. Якут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C63C-8F1F-47A4-A9E1-63AEC90399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 классе был проведен классный час, на котором ребята представили результаты своей работы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сле представления работ ребята делились впечатлениями, выражали свое мнение о полученных результа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Был собран 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55BE-2B00-4B79-8C2A-4811ACBAB7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Узнавая профессии своих родителей, мы получаем первое впечатление о мире профессий и начинаем ориентироваться в данном социальном вопр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ажно знать профессии своих родителей, так как видя их отношение к работе, мы также будем относиться к своей будущей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AF4E-6640-4B1A-88C9-4A6C4B9A50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Визитка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едметная область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окружающ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стники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учащиеся 2 «б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ип проекта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твор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одукт: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одолжительность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3 не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1DEF-1EB1-480A-A87E-A61FFA54BE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Задач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узнать у родителей об их профе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сделать экскурсию на место работы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дготовить сообщение по итогам экскур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формить 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4BB5-815E-44CB-9CB9-E0673B762C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Этапы работы над проек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гружение в про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рганизацио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существлени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бработка и оформление 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22A3-A382-4296-8833-5BA85C3D65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Погружение в про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было проведено анкетирование учащих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Ребятам было предложено ответить на два во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1. Знаешь ли ты, кем работают твои родит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2. В чем заключается работа твоих родител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37FD-1DD3-4D7A-9B0C-458E99C27D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Результаты анке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Анкетирование показало, что  60</a:t>
            </a:r>
            <a:r>
              <a:rPr b="1" lang="en-US" sz="12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щихся знают профессии своих родителей, но 80</a:t>
            </a:r>
            <a:r>
              <a:rPr b="1" lang="en-US" sz="12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щихся не знают, в чем заключается их работа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аким образом, возникла необходимость решения данно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A2A7-916C-403F-BC03-E2838996C4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рганизацио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Для решения возникшей проблемы, совместно был разработан план мероприят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1. Сделать экскурсию на работу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2. Узнать (используя вопросник) у родителей, в чем заключается их раб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3. Оформить полученн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6348-03EC-403F-BF5A-63B6F354B1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существлени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ребята собирали данные, проводили интервью с родителями, делали экскурсии на место работы своих ро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27E1-4073-4C80-A739-B83AD77C50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бработка и оформление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ребята писали сочинения, готовили презентации, делали рисунки, подбирали сти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1E4E-BB23-49AE-AF1A-312F0C14B9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C5CA-ABCF-4799-B4F8-2FDC7B76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2126-753E-48BB-BFC5-1E6809C8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E0D-6636-4E83-9C0A-27E3EC6C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41A6-0EF2-46BE-9DCD-456ECFAB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EF2-869A-48F3-BE3F-2425FDEC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11D-6E07-4FF4-A8C7-86BAF946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DD16-8670-439C-9867-F85C7954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69DB-7632-4342-A39B-7A7F6408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7BF3-F0CB-4BAE-A699-25128852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E7CF-A9EC-4A7C-9B96-50BFABA4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1FDE-C39E-426D-8159-7A204B69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E469-CD77-46C2-9185-D9638E01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74C6-49DB-42D3-9ACB-4D3CB76DDC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Профессии наших родител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5444640"/>
            <a:ext cx="806436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Творческий проект учащихся 2 «б» класса МОУ СОШ №21 ЦПО г. Якут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untitled"/>
          <p:cNvPicPr/>
          <p:nvPr/>
        </p:nvPicPr>
        <p:blipFill>
          <a:blip r:embed="rId1"/>
          <a:stretch/>
        </p:blipFill>
        <p:spPr>
          <a:xfrm>
            <a:off x="2928960" y="2857680"/>
            <a:ext cx="3327480" cy="2160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В классе был проведен классный час, на котором ребята представили результаты своей работы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сле представления работ ребята делились впечатлениями, выражали свое мнение о полученных результат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Был собран 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Узнавая профессии своих родителей, мы получаем первое впечатление о мире профессий и начинаем ориентироваться в данном социальном вопрос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Важно знать профессии своих родителей, так как видя их отношение к работе, мы также будем относиться к своей будуще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изитка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едметная область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Участники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учащиеся 2 «б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Тип проекта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твор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одукт: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одолжительность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3 не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узнать у родителей об их профе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сделать экскурсию на место работы роди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дготовить сообщение по итогам экскур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формить 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39640" y="260280"/>
            <a:ext cx="813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Цель проекта:</a:t>
            </a: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знакомиться </a:t>
            </a: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с профессиями своих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Этапы работы над проекто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гружение в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рганизацион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существление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бработка и оформление  получен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огружение в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было проведено анкетирование учащих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Ребятам было предложено ответить на два вопро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1. Знаешь ли ты, кем работают твои родите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2. В чем заключается работа твоих родител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Результаты анкет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4"/>
          <p:cNvGraphicFramePr/>
          <p:nvPr/>
        </p:nvGraphicFramePr>
        <p:xfrm>
          <a:off x="826920" y="765000"/>
          <a:ext cx="770580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765000"/>
                    <a:ext cx="77058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9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Анкетирование показало, что  60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чащихся знают профессии своих родителей, но 80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чащихся не знают, в чем заключается их работа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Таким образом, возникла необходимость решения данной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рганизацион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Для решения возникшей проблемы, совместно был разработан план мероприят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1. Сделать экскурсию на работу роди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2. Узнать (используя вопросник) у родителей, в чем заключается их раб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3. Оформить получен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существление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ребята собирали данные, проводили интервью с родителями, делали экскурсии на место работы своих роди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Изображение 011"/>
          <p:cNvPicPr/>
          <p:nvPr/>
        </p:nvPicPr>
        <p:blipFill>
          <a:blip r:embed="rId1"/>
          <a:stretch/>
        </p:blipFill>
        <p:spPr>
          <a:xfrm>
            <a:off x="684360" y="4005360"/>
            <a:ext cx="1944720" cy="244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Изображение 007"/>
          <p:cNvPicPr/>
          <p:nvPr/>
        </p:nvPicPr>
        <p:blipFill>
          <a:blip r:embed="rId2"/>
          <a:stretch/>
        </p:blipFill>
        <p:spPr>
          <a:xfrm>
            <a:off x="6443640" y="3860640"/>
            <a:ext cx="2089080" cy="273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Изображение 001"/>
          <p:cNvPicPr/>
          <p:nvPr/>
        </p:nvPicPr>
        <p:blipFill>
          <a:blip r:embed="rId3"/>
          <a:stretch/>
        </p:blipFill>
        <p:spPr>
          <a:xfrm>
            <a:off x="3132000" y="4437000"/>
            <a:ext cx="2881440" cy="194328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бработка и оформление полученных результ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ребята писали сочинения, готовили презентации, делали рисунки, подбирали сти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Изображение 009"/>
          <p:cNvPicPr/>
          <p:nvPr/>
        </p:nvPicPr>
        <p:blipFill>
          <a:blip r:embed="rId1"/>
          <a:stretch/>
        </p:blipFill>
        <p:spPr>
          <a:xfrm>
            <a:off x="4356000" y="5300640"/>
            <a:ext cx="2016360" cy="125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Изображение 006"/>
          <p:cNvPicPr/>
          <p:nvPr/>
        </p:nvPicPr>
        <p:blipFill>
          <a:blip r:embed="rId2"/>
          <a:stretch/>
        </p:blipFill>
        <p:spPr>
          <a:xfrm>
            <a:off x="6588000" y="3789360"/>
            <a:ext cx="2087640" cy="2730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Изображение 004"/>
          <p:cNvPicPr/>
          <p:nvPr/>
        </p:nvPicPr>
        <p:blipFill>
          <a:blip r:embed="rId3"/>
          <a:stretch/>
        </p:blipFill>
        <p:spPr>
          <a:xfrm>
            <a:off x="3564000" y="3789360"/>
            <a:ext cx="2016000" cy="12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Изображение 010"/>
          <p:cNvPicPr/>
          <p:nvPr/>
        </p:nvPicPr>
        <p:blipFill>
          <a:blip r:embed="rId4"/>
          <a:stretch/>
        </p:blipFill>
        <p:spPr>
          <a:xfrm>
            <a:off x="1619280" y="5373720"/>
            <a:ext cx="215892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Изображение"/>
          <p:cNvPicPr/>
          <p:nvPr/>
        </p:nvPicPr>
        <p:blipFill>
          <a:blip r:embed="rId5"/>
          <a:stretch/>
        </p:blipFill>
        <p:spPr>
          <a:xfrm>
            <a:off x="539640" y="3860640"/>
            <a:ext cx="2232000" cy="1440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4:36:38Z</dcterms:created>
  <dc:creator>User</dc:creator>
  <dc:description/>
  <dc:language>en-US</dc:language>
  <cp:lastModifiedBy>LEGION2</cp:lastModifiedBy>
  <dcterms:modified xsi:type="dcterms:W3CDTF">2015-04-24T08:35:22Z</dcterms:modified>
  <cp:revision>8</cp:revision>
  <dc:subject/>
  <dc:title>Профессии наших родителей</dc:title>
</cp:coreProperties>
</file>