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F5E4-19EA-49C5-96B6-4A142030CD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6375-EAC5-4450-A68F-242028A841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9A76-D2BB-4982-AC54-DADDB92C59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3A54-1D10-4058-AEDD-46312B8FF9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47C5-B085-48F5-BAD4-61A0038483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2948-D4AF-4295-BCC5-FB20B66B3E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7DDA-4689-4017-B1C9-97B4E4296F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C60E-99B9-415B-9639-96DF68FEA3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0C4D-1728-43D9-AFF2-217EA2F0D2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AF1F-1CD0-44C7-BE1A-04E204CB51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6980-01EC-407B-BABE-3A635EFB93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A8F9-763F-4E66-9332-08CE5C722B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3F73-1B69-4523-83A7-D677B841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B26-C893-4EB4-8BBA-966107BC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E8E-9353-4B46-B166-60F644DB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33F-85ED-4E1C-930C-52A7E4B8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78E-DEC2-46E1-84A6-5D1FBC7F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7CA-0D2B-4040-BD3C-A94C932A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2F7-96F8-4E42-BD15-EB361AA6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1BBE-A960-4E6E-A4BD-EB1E6B3D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657-6E60-4DF9-B753-009E25BD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53B-BA60-4FA3-8648-69BC9C9C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F39-1F08-479C-99EC-1CEA6C8C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D03-93A0-425F-A7BF-5D2113D7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C02D-45D7-4E12-AE56-99DCC550F9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5444640"/>
            <a:ext cx="80643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untitled"/>
          <p:cNvPicPr/>
          <p:nvPr/>
        </p:nvPicPr>
        <p:blipFill>
          <a:blip r:embed="rId1"/>
          <a:stretch/>
        </p:blipFill>
        <p:spPr>
          <a:xfrm>
            <a:off x="2928960" y="2857680"/>
            <a:ext cx="3327480" cy="2160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9640" y="260280"/>
            <a:ext cx="81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Цель проекта:</a:t>
            </a: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 профессиями своих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826920" y="765000"/>
          <a:ext cx="77058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65000"/>
                    <a:ext cx="77058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9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Изображение 011"/>
          <p:cNvPicPr/>
          <p:nvPr/>
        </p:nvPicPr>
        <p:blipFill>
          <a:blip r:embed="rId1"/>
          <a:stretch/>
        </p:blipFill>
        <p:spPr>
          <a:xfrm>
            <a:off x="684360" y="4005360"/>
            <a:ext cx="194472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Изображение 007"/>
          <p:cNvPicPr/>
          <p:nvPr/>
        </p:nvPicPr>
        <p:blipFill>
          <a:blip r:embed="rId2"/>
          <a:stretch/>
        </p:blipFill>
        <p:spPr>
          <a:xfrm>
            <a:off x="6443640" y="3860640"/>
            <a:ext cx="2089080" cy="273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Изображение 001"/>
          <p:cNvPicPr/>
          <p:nvPr/>
        </p:nvPicPr>
        <p:blipFill>
          <a:blip r:embed="rId3"/>
          <a:stretch/>
        </p:blipFill>
        <p:spPr>
          <a:xfrm>
            <a:off x="3132000" y="4437000"/>
            <a:ext cx="2881440" cy="19432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Изображение 009"/>
          <p:cNvPicPr/>
          <p:nvPr/>
        </p:nvPicPr>
        <p:blipFill>
          <a:blip r:embed="rId1"/>
          <a:stretch/>
        </p:blipFill>
        <p:spPr>
          <a:xfrm>
            <a:off x="4356000" y="5300640"/>
            <a:ext cx="2016360" cy="125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Изображение 006"/>
          <p:cNvPicPr/>
          <p:nvPr/>
        </p:nvPicPr>
        <p:blipFill>
          <a:blip r:embed="rId2"/>
          <a:stretch/>
        </p:blipFill>
        <p:spPr>
          <a:xfrm>
            <a:off x="6588000" y="3789360"/>
            <a:ext cx="2087640" cy="273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Изображение 004"/>
          <p:cNvPicPr/>
          <p:nvPr/>
        </p:nvPicPr>
        <p:blipFill>
          <a:blip r:embed="rId3"/>
          <a:stretch/>
        </p:blipFill>
        <p:spPr>
          <a:xfrm>
            <a:off x="3564000" y="3789360"/>
            <a:ext cx="2016000" cy="12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Изображение 010"/>
          <p:cNvPicPr/>
          <p:nvPr/>
        </p:nvPicPr>
        <p:blipFill>
          <a:blip r:embed="rId4"/>
          <a:stretch/>
        </p:blipFill>
        <p:spPr>
          <a:xfrm>
            <a:off x="1619280" y="5373720"/>
            <a:ext cx="215892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Изображение"/>
          <p:cNvPicPr/>
          <p:nvPr/>
        </p:nvPicPr>
        <p:blipFill>
          <a:blip r:embed="rId5"/>
          <a:stretch/>
        </p:blipFill>
        <p:spPr>
          <a:xfrm>
            <a:off x="539640" y="3860640"/>
            <a:ext cx="2232000" cy="1440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36:38Z</dcterms:created>
  <dc:creator>User</dc:creator>
  <dc:description/>
  <dc:language>en-US</dc:language>
  <cp:lastModifiedBy>LEGION2</cp:lastModifiedBy>
  <dcterms:modified xsi:type="dcterms:W3CDTF">2015-04-24T08:35:22Z</dcterms:modified>
  <cp:revision>8</cp:revision>
  <dc:subject/>
  <dc:title>Профессии наших родителей</dc:title>
</cp:coreProperties>
</file>