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E847-6F7A-4B48-8AD2-7E04BB50FE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о учениц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а А Грибановой Мари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5EB6-3265-4F94-8F5B-E37FD2150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– внутренний голос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1F19-F02B-45AC-AAE9-3A528499D4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CDD2-65C4-4374-895D-98A854502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71C2-A02B-44C2-B8AF-61A571580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60F6-E6B7-4968-BF72-639F7DE66C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9CD9-F53C-4197-B6E8-72137D44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CFA-FEF5-4A01-AB89-AF8CA97A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2BF-D428-4A8A-BAA6-860B1B12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46D-B4D6-4670-94B6-4A40A66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A989-8E1C-4809-93FA-1C2C4A3E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4AC3-A5B9-45A8-BDE7-0EDFABB9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8609-92D0-4F73-A5F2-F2BB98F9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0D1A-96C8-4F9A-98AF-F237295B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057E-5F16-4027-8728-AF5168D9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1CE9-729C-4EB5-90F5-E648E7D6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36FC-AD70-47E4-8BFD-8B2B6980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62D-932B-45DB-A819-8AA9990E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043-A0DE-40D9-AB41-8B581A9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10E0-7CB2-4900-B501-3AFEFA30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34C-3C02-4E58-8614-E609C9E0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974-9718-411F-9EF2-C208C1CC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AD57-FCAA-41AA-9E92-A316080D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450-5A4D-4351-9EDE-515727E1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B59-689B-4030-B656-3BD86CD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D71C-5DEF-44D4-9D4C-63D29401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A08-A70A-4849-97E8-9A1A379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AC5-4885-4AD6-AA52-B0FFE1BC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18E-2B74-4DD9-8678-DF54DAC0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61F-2818-4749-A655-57D0605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DE2C-91A8-411B-8D6E-212817EC99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8D7-8298-41A8-A29C-3A7F036154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Совесть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о учениц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класса А Грибановой Мар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весть – внутренний голос человек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есть — это внутренний голос человека, который предостерегает его от совершения дурных поступков. Если человек всё же поступает дурно, его мучают угрызения совест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Картинка 99 из 158740"/>
          <p:cNvPicPr/>
          <p:nvPr/>
        </p:nvPicPr>
        <p:blipFill>
          <a:blip r:embed="rId1"/>
          <a:stretch/>
        </p:blipFill>
        <p:spPr>
          <a:xfrm>
            <a:off x="5245200" y="2205000"/>
            <a:ext cx="2851200" cy="31687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щё в древности философы и мудрецы размышляли об этом голосе: откуда он исходит и какова его природа? Выдвигались различные предположения и теории. Особые проблемы наличие этого голоса создавало философам и учёным «нового времени», которые видят в человеке существо только материальное и отрицают существование душ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Картинка 140 из 158740"/>
          <p:cNvPicPr/>
          <p:nvPr/>
        </p:nvPicPr>
        <p:blipFill>
          <a:blip r:embed="rId1"/>
          <a:stretch/>
        </p:blipFill>
        <p:spPr>
          <a:xfrm>
            <a:off x="5292720" y="2565360"/>
            <a:ext cx="2521080" cy="2521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и дарвинисты, которые утверждали, что совесть — лишнее чувство, от которого следует избавить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Картинка 17 из 158743"/>
          <p:cNvPicPr/>
          <p:nvPr/>
        </p:nvPicPr>
        <p:blipFill>
          <a:blip r:embed="rId1"/>
          <a:stretch/>
        </p:blipFill>
        <p:spPr>
          <a:xfrm>
            <a:off x="5364000" y="198900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точник голоса совести — изначально добрая природа человека. Когда человек отклоняется от прямого пути, в глубине сердца он чувствует это и страдает, жалеет о том, что сделал неправильно. Это ощущение страдания и называется «муками совест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2920" y="1700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Картинка 5 из 158743"/>
          <p:cNvPicPr/>
          <p:nvPr/>
        </p:nvPicPr>
        <p:blipFill>
          <a:blip r:embed="rId1"/>
          <a:stretch/>
        </p:blipFill>
        <p:spPr>
          <a:xfrm>
            <a:off x="4356000" y="2421000"/>
            <a:ext cx="4535640" cy="31986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70131563_1261500567"/>
          <p:cNvPicPr/>
          <p:nvPr/>
        </p:nvPicPr>
        <p:blipFill>
          <a:blip r:embed="rId1"/>
          <a:stretch/>
        </p:blipFill>
        <p:spPr>
          <a:xfrm>
            <a:off x="1403280" y="620640"/>
            <a:ext cx="6191280" cy="53863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03:15Z</dcterms:created>
  <dc:creator>лена</dc:creator>
  <dc:description/>
  <dc:language>en-US</dc:language>
  <cp:lastModifiedBy>LEGION2</cp:lastModifiedBy>
  <dcterms:modified xsi:type="dcterms:W3CDTF">2015-04-24T08:38:31Z</dcterms:modified>
  <cp:revision>5</cp:revision>
  <dc:subject/>
  <dc:title>Совесть </dc:title>
</cp:coreProperties>
</file>