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9C50-FE78-4175-8C13-814969CDCE2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ено учениц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класса А Грибановой Мари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9680-45C1-466B-9A40-F775D60A98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сть – внутренний голос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сть — это внутренний голос человека, который предостерегает его от совершения дурных поступков. Если человек всё же поступает дурно, его мучают угрызения сове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C06F-8DD2-412F-A607-68EFB2A2D6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в древности философы и мудрецы размышляли об этом голосе: откуда он исходит и какова его природа? Выдвигались различные предположения и теории. Особые проблемы наличие этого голоса создавало философам и учёным «нового времени», которые видят в человеке существо только материальное и отрицают существование ду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9AAB-15A1-4E60-B8F0-99DE9F0B18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и дарвинисты, которые утверждали, что совесть — лишнее чувство, от которого следует избав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CFF6-B7F4-4FE5-9B6F-7F45709E18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голоса совести — изначально добрая природа человека. Когда человек отклоняется от прямого пути, в глубине сердца он чувствует это и страдает, жалеет о том, что сделал неправильно. Это ощущение страдания и называется «муками совест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1B29-EC9E-466B-9F57-113D6E3B58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343A-A3B5-431E-A175-FC3ACDDA5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6035-7A52-4F8F-BF1F-228E42F8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CC98-78AE-43B8-A5B5-4795009A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3C8F-2D91-447C-A9CB-F88CBA01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41C8-6423-4BED-BE62-989BB5A5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B867-A8C4-489D-8F00-815BEB8B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077B-2C1F-46E5-B602-8F405B75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202B-B81F-49D6-AE69-3377E4BC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650E-2C25-4FBA-99CD-0B3BC1AA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EDB2-03A6-4397-B34A-0D7D6FBB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1D5B-4D10-4F7B-885C-B2255553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6FD4-73DD-41EB-9C9C-8CC12660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E777-611E-4F5B-A223-D027E043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37E5-B0AB-4FC1-AB28-0C262741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D89B-F8F7-49E2-A8F3-E424D859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D025-D06B-4056-B9C1-5A0718578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1061-2FBB-48CF-AAB1-ACD8771D9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E23B-B5E4-4DD4-B768-4BE68434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72C2-DD68-4C55-ACA0-CF64AC0A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3A7C-DC61-44FB-8F8E-A935580A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CD4A-E741-46E5-AFCD-FC2640E7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09D2-3743-42D5-8C00-3F3CADD5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4037-5F6A-42A6-9EC1-E6E5B5ED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5840-2E22-4B4E-B440-09806F92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5809-AFFE-4BF8-95A0-10C70555863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E4F6-0B71-4810-9A02-111C04E07F8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Совесть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ено учениц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ласса А Грибановой Мари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весть – внутренний голос челове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весть — это внутренний голос человека, который предостерегает его от совершения дурных поступков. Если человек всё же поступает дурно, его мучают угрызения сове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42920" y="1700280"/>
            <a:ext cx="40388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Картинка 99 из 158740"/>
          <p:cNvPicPr/>
          <p:nvPr/>
        </p:nvPicPr>
        <p:blipFill>
          <a:blip r:embed="rId1"/>
          <a:stretch/>
        </p:blipFill>
        <p:spPr>
          <a:xfrm>
            <a:off x="5245200" y="2205000"/>
            <a:ext cx="2851200" cy="316872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щё в древности философы и мудрецы размышляли об этом голосе: откуда он исходит и какова его природа? Выдвигались различные предположения и теории. Особые проблемы наличие этого голоса создавало философам и учёным «нового времени», которые видят в человеке существо только материальное и отрицают существование душ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Картинка 140 из 158740"/>
          <p:cNvPicPr/>
          <p:nvPr/>
        </p:nvPicPr>
        <p:blipFill>
          <a:blip r:embed="rId1"/>
          <a:stretch/>
        </p:blipFill>
        <p:spPr>
          <a:xfrm>
            <a:off x="5292720" y="2565360"/>
            <a:ext cx="2521080" cy="25210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ыли дарвинисты, которые утверждали, что совесть — лишнее чувство, от которого следует избавить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Картинка 17 из 158743"/>
          <p:cNvPicPr/>
          <p:nvPr/>
        </p:nvPicPr>
        <p:blipFill>
          <a:blip r:embed="rId1"/>
          <a:stretch/>
        </p:blipFill>
        <p:spPr>
          <a:xfrm>
            <a:off x="5364000" y="1989000"/>
            <a:ext cx="2667240" cy="38102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точник голоса совести — изначально добрая природа человека. Когда человек отклоняется от прямого пути, в глубине сердца он чувствует это и страдает, жалеет о том, что сделал неправильно. Это ощущение страдания и называется «муками совести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42920" y="1700280"/>
            <a:ext cx="40388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Картинка 5 из 158743"/>
          <p:cNvPicPr/>
          <p:nvPr/>
        </p:nvPicPr>
        <p:blipFill>
          <a:blip r:embed="rId1"/>
          <a:stretch/>
        </p:blipFill>
        <p:spPr>
          <a:xfrm>
            <a:off x="4356000" y="2421000"/>
            <a:ext cx="4535640" cy="31986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70131563_1261500567"/>
          <p:cNvPicPr/>
          <p:nvPr/>
        </p:nvPicPr>
        <p:blipFill>
          <a:blip r:embed="rId1"/>
          <a:stretch/>
        </p:blipFill>
        <p:spPr>
          <a:xfrm>
            <a:off x="1403280" y="620640"/>
            <a:ext cx="6191280" cy="538632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3:03:15Z</dcterms:created>
  <dc:creator>лена</dc:creator>
  <dc:description/>
  <dc:language>en-US</dc:language>
  <cp:lastModifiedBy>LEGION2</cp:lastModifiedBy>
  <dcterms:modified xsi:type="dcterms:W3CDTF">2015-04-24T08:38:31Z</dcterms:modified>
  <cp:revision>5</cp:revision>
  <dc:subject/>
  <dc:title>Совесть </dc:title>
</cp:coreProperties>
</file>