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E538-37BC-4768-B05F-612C368CD3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«Красная книг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ий мир» 2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19EA-7871-4E6D-96B1-6589811CB9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ров подкармливали зимой, следи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ни не болели, тщательно ох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ли, особенно молодняк. Зубров спас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прошло около 8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ой является чрезмерная добы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, охота, разрушение мест о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D93D-18BF-482B-9CB2-CB70E2A4D7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елый журав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тер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 семейства ж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линых. Масса т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6-8 кг, выс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-1,4 метра. Сте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чис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, находя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рани исчез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90CA-8383-4AA6-A3B4-C25FD23676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318-4E25-4046-8A10-7423175805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епард и ягу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ходятся на грани исчез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9E4F-9C78-4597-BBB2-AF2B6EA19E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абочка адмир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аска пестр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ет на лес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шках, в садах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ах. Гусеницы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листьях крапив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полоха, культу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м не вре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баб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5DD-22A4-40E4-A8AD-C5DB913FBA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Женьш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 с китайского «кор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, человек-кор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тение широко и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ется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доро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DA86-3BA6-4713-A5CA-C39AD7CA36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паль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вропейс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цветок в Удмур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италма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к назван куп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ей за то, что расте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лажных мест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т воду, люби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– берега р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отистые луга.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жалостно рвут э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, купальница с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м растением,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есена в Красную кни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4D9-8154-4176-9E4B-5F0EBF23F5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ая книга» - это не совсем обы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а. Цвет переплёта у этой книг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. Что символизирует кра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? Это сигнал тревоги, опасности, п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преждения. Он, как красный цвет св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фора, предупреждает: «Остор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случиться бед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2BB9-E3E2-4D70-B5B5-13EC8B66EA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от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ое, красиво цветущее водное или околоводное раст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0AD1-3C63-47C0-8AF8-E6AE937691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ниге перечислены животны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которые могут безвозврат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уть. И, если мы не защитим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ия и животных, попавших в Крас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у, они погибнут. Спасение их невоз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без специальных мер: запр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ы, охраны в заповедниках, заботы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ёныш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22DE-C445-4D39-9EAB-694A1B42D3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юл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ём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или 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и. Длина их тела о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 метров, масса от 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 до 5 тонн. Тюлени п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ют в приполяр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ах. В России оби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9 видов настоя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A6E1-EE27-491D-88EB-FF64B42B5F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 питаются р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, моллюсками, 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бразными. Числе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ть тюлений сок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ается и не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ходятся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79AB-669E-41B2-A46F-D5E31CB782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л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и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арнокопы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копитающих 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шадей. У кулана 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шо развиты зр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х, обоняние. Ще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ок фотоаппарата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ышат на рассто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 60 метров. Кул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чаливы и редко к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т. Стада куланов п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ся сейчас только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ведниках Туркм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. Сейчас кулана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яют в нов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4D2-3C2C-425A-8F42-6649E2876A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Зуб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ились в 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 Белоруссии. В н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ле 20 века лю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истре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зубров. Оста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звери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 в зоопарках, - 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ук. Надо было сроч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пасать зубров.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тили в запов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 – Беловежс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3D8-0CC6-4380-ADEC-60A9C59E55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01A-FFAD-4E3A-9A3B-2F738A6B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9C6-C82A-4918-B3C5-86CDCC9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86F-584F-4DF1-A31A-29D7EB6A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13D-B713-4E1B-B638-F2CABB56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85F54-93BF-4F01-BBC2-5565ED49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3A74C-28DB-4478-AA6B-586A2AC9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7C8B3-3F88-4F36-81EF-FC94ADD6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1B787-64E1-4840-A544-D5F91695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067C1-1863-4250-A183-B6D52177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B67FB-5E9B-4CA5-AD18-7A870159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53E91-512D-496F-9245-B6D94C80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B86-6882-4093-BB29-2D4CBD27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79B84-2BB3-4B19-B9B8-E1A3CB10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297B5-C754-40F1-B0F6-38B7735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69E1F-75EB-45D5-8FC5-99139E29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1E922-DF02-40DC-A35E-9CF05019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B569D-70D6-404E-B431-C09D49C9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1B0-03BA-4146-9399-36BA755B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F0D-7452-4CA2-8BCF-3520E904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78F-E223-4D83-875F-AC608CA8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833-D631-4E73-BEC3-E9019256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C62-6A09-48EF-8B80-D3D1CA21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AA9-74DF-47A4-A58B-81CC5A64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CB6-E6B6-432E-A957-A044C2C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57A3-E1A1-4BDB-89E1-83493ABF73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F26-0CA5-46F9-B722-298BC44BAF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«Красная книга»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кружающий мир» 2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ров подкармливали зимой, следи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ни не болели, тщательно охра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яли, особенно молодняк. Зубров спас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едь прошло около 8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розой является чрезмерная добы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ых, охота, разрушение мест об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Белый журав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стер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семейства ж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линых. Масса т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6-8 кг, высо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-1,4 метра. Ст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ится к чис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ов, находя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грани исчезнов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6360" cy="46814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32360" cy="511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888000" cy="52578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79800" cy="489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5076720" y="188928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032000" cy="468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743640" cy="46083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Гепард и ягуар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находятся на грани исчезнове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527640" cy="407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745080" cy="3816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716000" y="907560"/>
            <a:ext cx="3970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абочка адмир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раска пест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итает на лес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ушках, в садах,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ках. Гусеницы жив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стьях крапи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тополоха, культур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тениям не вред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енность баб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214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5352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Женьш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 перев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 с китайского «кор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, человек-кор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растение широко 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ется в медиц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источ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репления здоров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левает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33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/>
          <p:cNvPicPr/>
          <p:nvPr/>
        </p:nvPicPr>
        <p:blipFill>
          <a:blip r:embed="rId2"/>
          <a:stretch/>
        </p:blipFill>
        <p:spPr>
          <a:xfrm>
            <a:off x="6048360" y="3618000"/>
            <a:ext cx="309564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пальниц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вропей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цветок в Удму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италма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ок назван купа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цей за то, что растет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влажных мест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 воду, люб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а – берега р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отистые луга. 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жалостно рвут э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, купальница с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ким растением, 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есена в Красн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ая книга» - это не совсем обыч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. Цвет переплёта у этой книги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ый. Что символизирует крас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? Это сигнал тревоги, опасности, пр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реждения. Он, как красный цвет св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фора, предупреждает: «Осторож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случиться беда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529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от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кое, красиво цветущее водное или околоводное раст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166920" cy="25923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489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72000" cy="43657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й книге перечислены животны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, которые могут безвозврат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чезнуть. И, если мы не защитим р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ия и животных, попавших в Крас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у, они погибнут. Спасение их невоз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без специальных мер: запр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оты, охраны в заповедниках, заботы 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ёныш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00720" y="404280"/>
            <a:ext cx="4186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юл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ьшинстве своём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или сред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ри. Длина их тела о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6 метров, масса от 2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 до 5 тонн. Тюлени 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ают в приполя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тах. В России оби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т 9 видов настоя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ю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426240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юлени питаются р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й, моллюсками, 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бразными. Числ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сть тюлений сок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ается и некотор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находятся п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ра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895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859280" y="620280"/>
            <a:ext cx="382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ла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арнокопы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екопитающих р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шадей. У кулана х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шо развиты з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х, обоняние. Ще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к фотоаппарата 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ышат на рассто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 60 метров. Кул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чаливы и редко к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т. Стада куланов п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ся сейчас только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ведниках Туркм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. Сейчас кулана р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яют в новые м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21440" cy="5327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468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74508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3800" cy="47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уб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одились в л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 Белоруссии. В 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ле 20 века лю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и истреб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 зубров. Ост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звери, кото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 в зоопарках, -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тук. Надо было сроч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пасать зубров.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тили в заповед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 – Беловежск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2:43:32Z</dcterms:created>
  <dc:creator>USER</dc:creator>
  <dc:description/>
  <dc:language>en-US</dc:language>
  <cp:lastModifiedBy>LEGION2</cp:lastModifiedBy>
  <dcterms:modified xsi:type="dcterms:W3CDTF">2015-04-24T09:19:06Z</dcterms:modified>
  <cp:revision>11</cp:revision>
  <dc:subject/>
  <dc:title>«Красная книга»</dc:title>
</cp:coreProperties>
</file>