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0F96-ABA7-442D-AA83-C123A99AF8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«Красная книг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кружающий мир» 2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F8DD-E2C9-46F9-A35C-0394114DB5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убров подкармливали зимой, следи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ни не болели, тщательно ох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яли, особенно молодняк. Зубров спасл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прошло около 8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ой является чрезмерная добы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, охота, разрушение мест о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A139-65AC-4DF8-A326-529F05D6DF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елый журав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тер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тица семейства жу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линых. Масса т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6-8 кг, выс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-1,4 метра. Сте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чис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ов, находя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грани исчез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FB41-0C99-4A6A-B2E0-EAEC3DDEB51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6240-E823-452F-85C8-E04A9CED3F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епард и ягу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ходятся на грани исчез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8CAF-8028-43FB-A612-7353839C5D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абочка адмир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аска пестр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тает на лес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шках, в садах,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ках. Гусеницы жив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листьях крапив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полоха, культур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м не вре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баб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BA84-2700-4D61-9511-CDD9A4CF07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Женьше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 с китайского «кор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, человек-коре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растение широко и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ется в медиц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доро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евает жи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B727-D6D7-481E-BE7B-72201BA386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паль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вропейск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цветок в Удмур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ют италма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ок назван куп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ей за то, что растет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влажных мест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ит воду, люби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а – берега р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отистые луга.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жалостно рвут э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ы, купальница с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м растением,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есена в Красную кни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2780-CE91-42A8-B94D-91BDBB8D6C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ая книга» - это не совсем обыч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а. Цвет переплёта у этой книг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. Что символизирует крас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? Это сигнал тревоги, опасности, пр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преждения. Он, как красный цвет св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фора, предупреждает: «Остор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случиться беда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56E4-73C7-46C4-896E-01C3628854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от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ое, красиво цветущее водное или околоводное раст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8920-2647-4514-B618-016D4580CDE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ниге перечислены животны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, которые могут безвозврат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уть. И, если мы не защитим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ия и животных, попавших в Крас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игу, они погибнут. Спасение их невоз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без специальных мер: запр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ы, охраны в заповедниках, заботы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ёныш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3C0-EF7A-47C8-8129-DB6A1D26D5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юл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ём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или сред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ери. Длина их тела от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6 метров, масса от 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 до 5 тонн. Тюлени пр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ют в приполяр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тах. В России обит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т 9 видов настоя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C608-B944-411D-89A2-BB6E6CFA98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юлени питаются р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й, моллюсками, 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бразными. Числен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ть тюлений сокр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ается и некотор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находятся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4129-0AA7-4558-8DD9-E59B32D491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ула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и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арнокопы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копитающих 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шадей. У кулана х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шо развиты зр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х, обоняние. Ще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ок фотоаппарата 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ышат на рассто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 60 метров. Кул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чаливы и редко к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т. Стада куланов п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ся сейчас только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ведниках Туркм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и. Сейчас кулана рас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яют в новые ме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396F-01AC-496C-ACEA-C302092B4C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Зуб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ились в л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х Белоруссии. В н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ле 20 века люд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 истреб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зубров. Остали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звери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 в зоопарках, - 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ук. Надо было сроч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пасать зубров. 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тили в заповед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 – Беловежск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щ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A6C9-9BC3-479A-A5D3-F79A96D3B9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95C-69F9-4B7C-8439-5C4A4B39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1B5A-DEA4-400C-987F-704CE44D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CA6-73BB-42ED-AC57-B7E9E055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188B-E563-4D03-9BE7-8757AA03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7E7A2-2053-42DA-A330-132BE490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A9826-F540-4421-9F9A-A4003AC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A91769-92E8-4046-A103-D5873E14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76765-FB5D-456E-9C5C-A424BA45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6F820-C939-4A04-B99E-0E804782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34D3E-F7F9-4574-AD65-A3B20990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31F9E-5FB5-4C2D-B7B8-60BB7D24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762-8069-4590-BE21-6DB79458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76547-DAF8-4B44-9571-2B566D02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1D2C7-020B-4B91-A9FA-09EFB7ED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2B8AC-4015-499F-B3C5-38AE4918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C026F-4866-41EF-8FC4-CE798BB0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151DC-2551-4558-AA02-4783D4AF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E9DE-22AC-4853-857C-677624B6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7AE-765B-490D-999F-49301AD6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7C0-98F5-453E-B153-1B65274E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C9D-2FF8-4652-90F1-F6EA99D1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60E8-4145-4BEE-BDDF-6A8DDFBE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C971-83C3-4289-ACAA-57D10109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6DA0-4D4B-4435-99BF-E712DBCF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420E-C597-4B02-A095-1549A6E4C0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3AB3-CF78-4412-BCF8-281E9540FA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«Красная книга»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кружающий мир» 2 клас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бров подкармливали зимой, следи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ни не болели, тщательно охра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яли, особенно молодняк. Зубров спасл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ведь прошло около 80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розой является чрезмерная добыч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тных, охота, разрушение мест оби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ни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Белый журав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(стерх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тица семейства ж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влиных. Масса те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6-8 кг, высо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-1,4 метра. Стер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сится к чис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ов, находящих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грани исчезнов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16360" cy="468144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32360" cy="511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888000" cy="525780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79800" cy="489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"/>
          <p:cNvPicPr/>
          <p:nvPr/>
        </p:nvPicPr>
        <p:blipFill>
          <a:blip r:embed="rId2"/>
          <a:stretch/>
        </p:blipFill>
        <p:spPr>
          <a:xfrm>
            <a:off x="5076720" y="188928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032000" cy="468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743640" cy="460836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Гепард и ягуар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находятся на грани исчезновения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3527640" cy="407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3745080" cy="3816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716000" y="907560"/>
            <a:ext cx="3970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абочка адмир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раска пестр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итает на лес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ушках, в садах,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ках. Гусеницы жив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листьях крапив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тополоха, культурн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тениям не вредя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исленность бабоч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кращае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214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2"/>
          <a:stretch/>
        </p:blipFill>
        <p:spPr>
          <a:xfrm>
            <a:off x="5076720" y="1916280"/>
            <a:ext cx="3743280" cy="424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453528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Женьшен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в перев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 с китайского «кор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, человек-корен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растение широко ис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ьзуется в медици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источник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репления здоровь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левает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311640" cy="3384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"/>
          <p:cNvPicPr/>
          <p:nvPr/>
        </p:nvPicPr>
        <p:blipFill>
          <a:blip r:embed="rId2"/>
          <a:stretch/>
        </p:blipFill>
        <p:spPr>
          <a:xfrm>
            <a:off x="6048360" y="3618000"/>
            <a:ext cx="3095640" cy="3240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7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45600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пальниц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европей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т цветок в Удму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италма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ок назван купал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цей за то, что растет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влажных местах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 воду, люб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ста – берега р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отистые луга. Люд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жалостно рвут э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веты, купальница с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дким растением, 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есена в Красную кни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1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3384360" cy="3024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ая книга» - это не совсем обыч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. Цвет переплёта у этой книги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сный. Что символизирует красн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вет? Это сигнал тревоги, опасности, пр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реждения. Он, как красный цвет све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фора, предупреждает: «Осторожно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 случиться беда!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5290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Лот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дкое, красиво цветущее водное или околоводное раст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11" descr=""/>
          <p:cNvPicPr/>
          <p:nvPr/>
        </p:nvPicPr>
        <p:blipFill>
          <a:blip r:embed="rId2"/>
          <a:stretch/>
        </p:blipFill>
        <p:spPr>
          <a:xfrm>
            <a:off x="611280" y="4149720"/>
            <a:ext cx="3166920" cy="259236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4464000" cy="489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672000" cy="436572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этой книге перечислены животны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, которые могут безвозвратн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чезнуть. И, если мы не защитим рас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ния и животных, попавших в Красну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у, они погибнут. Спасение их невоз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без специальных мер: запрет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оты, охраны в заповедниках, заботы 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ёныш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00720" y="404280"/>
            <a:ext cx="4186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Тюл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большинстве своём э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пные или сред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вери. Длина их тела от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 6 метров, масса от 2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г до 5 тонн. Тюлени пр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ают в приполяр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иротах. В России оби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т 9 видов настоящ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ю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4262400" cy="5041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юлени питаются ры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й, моллюсками, 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бразными. Числе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сть тюлений сокр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щается и некоторы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находятся п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хра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8956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859280" y="620280"/>
            <a:ext cx="382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ула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ви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арнокопы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лекопитающих р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шадей. У кулана х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шо развиты зре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х, обоняние. Щел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ок фотоаппарата о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ышат на расстоя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 60 метров. Кул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лчаливы и редко к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т. Стада куланов п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ся сейчас только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ведниках Туркм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ии. Сейчас кулана рас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ляют в новые ме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21440" cy="5327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9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468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745080" cy="5472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3800" cy="4752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4859280" y="2276640"/>
            <a:ext cx="396072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убр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одились в ле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х Белоруссии. В на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ле 20 века люд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и истреб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 зубров. Осталис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ько звери, котор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ли в зоопарках, - 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тук. Надо было сроч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 спасать зубров. 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пустили в заповед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ик – Беловежск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ущ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60720" cy="5329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2:43:32Z</dcterms:created>
  <dc:creator>USER</dc:creator>
  <dc:description/>
  <dc:language>en-US</dc:language>
  <cp:lastModifiedBy>LEGION2</cp:lastModifiedBy>
  <dcterms:modified xsi:type="dcterms:W3CDTF">2015-04-24T09:19:06Z</dcterms:modified>
  <cp:revision>11</cp:revision>
  <dc:subject/>
  <dc:title>«Красная книга»</dc:title>
</cp:coreProperties>
</file>