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DD9C-A8CF-423E-91C3-AAC7DB1F4A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рода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D206-0C13-4183-9426-7F3AEC579D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Красная кни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A722-CFE0-4F46-A87C-D66502F281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Экологические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и различный мусор попадают в море и загрязняют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1E28-0D25-4111-A843-C3103317A1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Человек у мо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DD81-E9DD-4891-A401-EC11AA99BB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чвы Черноморского побережья Кавказа плодородны, а растительность богата</a:t>
            </a:r>
            <a:r>
              <a:rPr b="1" lang="ru-RU" sz="1000" spc="-1" strike="noStrike">
                <a:solidFill>
                  <a:srgbClr val="ffc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964C-D95A-404B-B34F-E966BD421C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Растения Черноморского побережья Кав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лесах на склонах гор растут широколиственные деревья – дуб, бук, каштан настоя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423F-4FB9-4EDD-A11E-751D325E40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182D-AF17-437E-B1AF-9A9A9C4CA6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адах зреют грецкие орехи, инжир, абрикосы, перс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89B0-EC2D-4312-B58B-26AACBEAC8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Животный мир Черноморского побережья Кавказа очень разнообразен</a:t>
            </a:r>
            <a:r>
              <a:rPr b="1" lang="ru-RU" sz="1100" spc="-1" strike="noStrike">
                <a:solidFill>
                  <a:srgbClr val="00b050"/>
                </a:solidFill>
                <a:latin typeface="Calibri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лека слышны стрекотание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икад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питаются соком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B2ED-8DB4-4F22-AC5C-12D3E6F859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зеленых листь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чется хищ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гомол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жид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ычу – мух 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й крупный ж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казская жужел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ется улит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170A-EC8E-4E7F-AFC8-A821528A20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П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берегу моря живут чайки, бакланы, которые кормятся ры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6950-9595-4090-9DE7-436DA97DA9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Calibri"/>
              </a:rPr>
              <a:t>Морские обит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д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ие иг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а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рской конё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льф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C0D3-7F21-4518-8AAA-4D4F817815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51D-63ED-466B-8B59-20570BE7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E62-39F2-4EAC-AD55-91951C84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5A7-EE01-4A78-922D-AE70977B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9C3-AE3B-4C6F-BA9F-5C2D61C5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B28F-DBA2-4EF2-9492-9FFF6C79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422-E97B-4E6A-ADD2-F9E6161C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B22-4138-4909-A681-1086611C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195-691F-4680-BFF2-C73097ED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248-DFC7-402B-B727-D593EBDF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1AA-2295-4238-8DCA-6086BDB5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D68-B31A-431F-9511-EECFE778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DF3-720A-4158-B4FB-4CC070BA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9D2F-8B14-4CC4-9210-ADBA1401C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ирода Черноморского побережья Кавка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892080" y="5268960"/>
            <a:ext cx="64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лотников Данила  4 «А»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Красная кни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09480" y="3352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с яго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809880" y="3352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л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1905120" y="5791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уже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781680" y="3429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ш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55627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1328760" y="4114800"/>
            <a:ext cx="22525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2248200" cy="1523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"/>
          <p:cNvPicPr/>
          <p:nvPr/>
        </p:nvPicPr>
        <p:blipFill>
          <a:blip r:embed="rId3"/>
          <a:stretch/>
        </p:blipFill>
        <p:spPr>
          <a:xfrm>
            <a:off x="3429000" y="1752480"/>
            <a:ext cx="2133720" cy="1447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"/>
          <p:cNvPicPr/>
          <p:nvPr/>
        </p:nvPicPr>
        <p:blipFill>
          <a:blip r:embed="rId4"/>
          <a:stretch/>
        </p:blipFill>
        <p:spPr>
          <a:xfrm>
            <a:off x="6286680" y="1752480"/>
            <a:ext cx="2095200" cy="144792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"/>
          <p:cNvPicPr/>
          <p:nvPr/>
        </p:nvPicPr>
        <p:blipFill>
          <a:blip r:embed="rId5"/>
          <a:stretch/>
        </p:blipFill>
        <p:spPr>
          <a:xfrm>
            <a:off x="419040" y="1752480"/>
            <a:ext cx="2438640" cy="1471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Экологические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очные воды и различный мусор попадают в море и загрязняют 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33520" y="2819520"/>
            <a:ext cx="822960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юди, приезжающие сюда              отдыхать, не всегда относятся к природе береж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Человек у м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рега Чёрного моря – это место, куда приезжают для отдыха и лечения многие тысячи людей. Здесь расположен красивейший город – курорт Сочи. В нём построены многочисленные санатории, дома отдыха, пансион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 из главных достопримечательностей города Сочи – Дендрарий. Это красивый парк, где собраны растения со всего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C:\Users\Оксана\Desktop\Рисунок3.jpg"/>
          <p:cNvPicPr/>
          <p:nvPr/>
        </p:nvPicPr>
        <p:blipFill>
          <a:blip r:embed="rId1"/>
          <a:stretch/>
        </p:blipFill>
        <p:spPr>
          <a:xfrm>
            <a:off x="1371600" y="4038480"/>
            <a:ext cx="6113520" cy="242424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2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52280" y="1676520"/>
            <a:ext cx="8143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года на черноморском побережье Кавказа очень тёплая. Здесь умеренно жаркое лето. Зима здесь тёплая благодаря морю и горам. Море за лето нагревается, а зимой отдаёт своё тепло воздуху. Горы не пропускают сюда холодных северных в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очвы Черноморского побережья Кавказа плодородны, а растительность богата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Растения Черноморского побережья Кавк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66640" y="556272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есах на склонах гор растут широколиственные деревья – дуб, бук, каштан настоящ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963720" y="4870440"/>
            <a:ext cx="18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ш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7097760" y="483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6573960" y="1906560"/>
            <a:ext cx="2417760" cy="29275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2"/>
          <a:stretch/>
        </p:blipFill>
        <p:spPr>
          <a:xfrm>
            <a:off x="3333600" y="1857240"/>
            <a:ext cx="2914920" cy="29768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3"/>
          <a:stretch/>
        </p:blipFill>
        <p:spPr>
          <a:xfrm>
            <a:off x="297000" y="1857240"/>
            <a:ext cx="2759040" cy="297684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4493160" y="49165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рках и на городских улицах растут красивые растения, привезённые из разных тёплых стран: кипарисы, магнолии, пальмы. Эти растения остаются круглый год зелё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42960" y="5867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ипа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581280" y="5867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но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858000" y="5867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ль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3429000" y="2279520"/>
            <a:ext cx="2666880" cy="33688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380880" y="2270160"/>
            <a:ext cx="2819520" cy="3308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3"/>
          <a:stretch/>
        </p:blipFill>
        <p:spPr>
          <a:xfrm>
            <a:off x="6248520" y="2279520"/>
            <a:ext cx="2743200" cy="33688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адах зреют грецкие орехи, инжир, абрикосы, перс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3048120" cy="2743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714960" y="48769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рик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2676600" cy="2743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4348080" y="48769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ж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7" descr=""/>
          <p:cNvPicPr/>
          <p:nvPr/>
        </p:nvPicPr>
        <p:blipFill>
          <a:blip r:embed="rId3"/>
          <a:stretch/>
        </p:blipFill>
        <p:spPr>
          <a:xfrm>
            <a:off x="6248520" y="1905120"/>
            <a:ext cx="268272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8"/>
          <p:cNvSpPr/>
          <p:nvPr/>
        </p:nvSpPr>
        <p:spPr>
          <a:xfrm>
            <a:off x="7398360" y="4876920"/>
            <a:ext cx="14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с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Животный мир Черноморского побережья Кавказа очень разнообразен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далека слышны стрекотание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икад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питаются соком раст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Оксана\Desktop\Рисунок7.jpg"/>
          <p:cNvPicPr/>
          <p:nvPr/>
        </p:nvPicPr>
        <p:blipFill>
          <a:blip r:embed="rId1"/>
          <a:stretch/>
        </p:blipFill>
        <p:spPr>
          <a:xfrm>
            <a:off x="2414520" y="3213000"/>
            <a:ext cx="4403880" cy="27194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23800" y="3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и зеленых листь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чется хищ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гомол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жи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ычу – мух и друг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дкий крупный ж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вказская жужел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ется улит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2828880" cy="2509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ти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ерегу моря живут чайки, бакланы, которые кормятся ры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257480" y="5592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к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095880" y="5791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3048120" cy="2735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200400" cy="271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Морские обит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7010280" y="63054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ьф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4143240" y="518796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811080" y="63054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ие иг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1193760" y="34290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у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6400800" y="34290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ской конё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6534000" y="4343400"/>
            <a:ext cx="1955880" cy="1962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"/>
          <p:cNvPicPr/>
          <p:nvPr/>
        </p:nvPicPr>
        <p:blipFill>
          <a:blip r:embed="rId2"/>
          <a:stretch/>
        </p:blipFill>
        <p:spPr>
          <a:xfrm>
            <a:off x="851040" y="1447920"/>
            <a:ext cx="1904760" cy="1935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"/>
          <p:cNvPicPr/>
          <p:nvPr/>
        </p:nvPicPr>
        <p:blipFill>
          <a:blip r:embed="rId3"/>
          <a:stretch/>
        </p:blipFill>
        <p:spPr>
          <a:xfrm>
            <a:off x="3838680" y="2971800"/>
            <a:ext cx="1904760" cy="20750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"/>
          <p:cNvPicPr/>
          <p:nvPr/>
        </p:nvPicPr>
        <p:blipFill>
          <a:blip r:embed="rId4"/>
          <a:stretch/>
        </p:blipFill>
        <p:spPr>
          <a:xfrm>
            <a:off x="851040" y="434340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6" descr=""/>
          <p:cNvPicPr/>
          <p:nvPr/>
        </p:nvPicPr>
        <p:blipFill>
          <a:blip r:embed="rId5"/>
          <a:stretch/>
        </p:blipFill>
        <p:spPr>
          <a:xfrm>
            <a:off x="6534000" y="1447920"/>
            <a:ext cx="195588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la</dc:creator>
  <dc:description/>
  <dc:language>en-US</dc:language>
  <cp:lastModifiedBy>LEGION2</cp:lastModifiedBy>
  <dcterms:modified xsi:type="dcterms:W3CDTF">2015-04-24T09:21:1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