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201A-3586-4A11-B9AC-A9EABBB2DAD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i="1" lang="ru-RU" sz="1200" spc="-1" strike="noStrike">
                <a:solidFill>
                  <a:srgbClr val="008000"/>
                </a:solidFill>
                <a:latin typeface="Calibri"/>
              </a:rPr>
              <a:t>Моя се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i="1" lang="ru-RU" sz="1200" spc="-1" strike="noStrike">
                <a:solidFill>
                  <a:srgbClr val="c00000"/>
                </a:solidFill>
                <a:latin typeface="Calibri"/>
              </a:rPr>
              <a:t>«Дерево «Моя сем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33D1-0381-43D8-8ADD-45CC65A3A76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Физминут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дедуш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бабуш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пап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мам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Этот пальчик – 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от и вся моя се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A2ADB-796B-4EE6-B6D4-3AD262D186C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Дерево «Моя семь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теп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в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ува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з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улыб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по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добр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00"/>
                </a:solidFill>
                <a:latin typeface="Calibri"/>
              </a:rPr>
              <a:t>любов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55411-4A40-42B2-9A46-773F8D91E47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ехника безопасности при работе с ножницами</a:t>
            </a: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Обращайтесь с ножниц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чень осторож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зать кончиками - нельз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ерединкой – можно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. Если нужно инструме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едать друг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о колечки от себ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ы спокойно поверн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, за кончики держис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ожницы ему верни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3. Когда   выполнишь работу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ут  же  ножницы     закро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тоб  до  острых  краеш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  коснулся  кто  другой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5C656-CD15-4267-8451-5390761DAC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Этапы выпо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Вырезать и приклеить  ство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66"/>
                </a:solidFill>
                <a:latin typeface="Calibri"/>
              </a:rPr>
              <a:t>нения работы</a:t>
            </a:r>
            <a:r>
              <a:rPr b="0" i="1" lang="en-US" sz="1200" spc="-1" strike="noStrike">
                <a:solidFill>
                  <a:srgbClr val="ff0066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6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риклеить лист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иклеить фотограф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7F31-E23F-4794-9AA4-312428A4FA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егодня наш урок, друзь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Про удивительных семь «Я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Кто они мне подскажи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Тему вы определит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061E-A2D7-44EF-A33D-D7D49169F0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0355-5422-4128-AE31-05BB15991F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66"/>
                </a:solidFill>
                <a:latin typeface="Calibri"/>
              </a:rPr>
              <a:t>Сем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FECF-D369-4B65-B999-9D19C3756A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a50021"/>
                </a:solidFill>
                <a:latin typeface="Calibri"/>
              </a:rPr>
              <a:t>СЕМЬЯ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Очень люблю, когда все собираю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Белой скатертью стол накрывается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Бабушка с мамой, папа и 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8000"/>
                </a:solidFill>
                <a:latin typeface="Calibri"/>
              </a:rPr>
              <a:t>Мы называемся вместе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61A4-58DD-4555-8630-A1CE4D07420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Пожел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Семь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все были здоровы</a:t>
            </a:r>
            <a:r>
              <a:rPr b="0" lang="en-US" sz="1200" spc="-1" strike="noStrike">
                <a:solidFill>
                  <a:srgbClr val="a50021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Желаю счастья, здоров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 мы все вместе жи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родители не ссори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мы всей семьёй поехали отдых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Желаю, чтобы моя семья всегда была счастлива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Чтобы моя семья была всегда дружна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50021"/>
                </a:solidFill>
                <a:latin typeface="Calibri"/>
              </a:rPr>
              <a:t>Я бы хотел маленькую сестрён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0BEC-137F-4E19-B6C9-A6BD2E811E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8374-195F-4F72-A6C0-3491D0C862B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D91BE-6DFE-43C9-8DFE-0214A7B1D7D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C7C25-A737-4E3E-8C2A-1C602155D4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5C61-5874-41BE-96E4-76CEF483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3A02-32B9-4724-8984-97DFC9F6E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A473-839D-427A-9083-73AA4734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B826-8D24-40BF-B041-F3BB47DAA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3B00-DDF7-4505-9BDA-D5B19DB67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597-5EBD-4DA6-93E9-6D72E697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793A-FBEB-47D9-9AEB-435E0E47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B33-D6C2-4FB3-A43D-98FA06955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AA11-41A8-4308-B51C-BA632EDD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05F-9519-4D0D-B778-2EC52F18B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785-FCB7-44DF-B01D-8E6AD40B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1E86-0838-409D-8F31-A81C291FD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B3CC0-AA12-45BE-994D-2A2B6DDCF0B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EB06F-AC4C-4849-A092-3E21F9EB84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Скругленный прямоугольник 6"/>
          <p:cNvGrpSpPr/>
          <p:nvPr/>
        </p:nvGrpSpPr>
        <p:grpSpPr>
          <a:xfrm>
            <a:off x="115920" y="158760"/>
            <a:ext cx="8912160" cy="6595920"/>
            <a:chOff x="115920" y="158760"/>
            <a:chExt cx="8912160" cy="6595920"/>
          </a:xfrm>
        </p:grpSpPr>
        <p:pic>
          <p:nvPicPr>
            <p:cNvPr id="6" name="Скругленный прямоугольник 6" descr=""/>
            <p:cNvPicPr/>
            <p:nvPr/>
          </p:nvPicPr>
          <p:blipFill>
            <a:blip r:embed="rId2"/>
            <a:stretch/>
          </p:blipFill>
          <p:spPr>
            <a:xfrm>
              <a:off x="115920" y="158760"/>
              <a:ext cx="8912160" cy="659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" name=""/>
            <p:cNvSpPr/>
            <p:nvPr/>
          </p:nvSpPr>
          <p:spPr>
            <a:xfrm>
              <a:off x="495360" y="504720"/>
              <a:ext cx="8153280" cy="584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Rectangle 1"/>
          <p:cNvSpPr/>
          <p:nvPr/>
        </p:nvSpPr>
        <p:spPr>
          <a:xfrm>
            <a:off x="8640" y="6596280"/>
            <a:ext cx="16210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6a6a6"/>
                </a:solidFill>
                <a:latin typeface="Arial"/>
                <a:ea typeface="Calibri"/>
              </a:rPr>
              <a:t>FokinaLida.75@mail.r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Рисунок 8" descr="ромашка оранжевая отрисованная--.png"/>
          <p:cNvPicPr/>
          <p:nvPr/>
        </p:nvPicPr>
        <p:blipFill>
          <a:blip r:embed="rId3"/>
          <a:stretch/>
        </p:blipFill>
        <p:spPr>
          <a:xfrm>
            <a:off x="7812000" y="5229360"/>
            <a:ext cx="916200" cy="122076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D:\Лидия\шаблоны\для работы\Хорошее настроение\а.gif"/>
          <p:cNvPicPr/>
          <p:nvPr/>
        </p:nvPicPr>
        <p:blipFill>
          <a:blip r:embed="rId4"/>
          <a:stretch/>
        </p:blipFill>
        <p:spPr>
          <a:xfrm>
            <a:off x="395280" y="404640"/>
            <a:ext cx="1135080" cy="92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2286000" y="141300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Ур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окружающего ми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80"/>
                </a:solidFill>
                <a:latin typeface="Arial"/>
              </a:rPr>
              <a:t>в 1 класс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1476360" y="2697120"/>
            <a:ext cx="5975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ма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008000"/>
                </a:solidFill>
                <a:latin typeface="Arial"/>
              </a:rPr>
              <a:t>Моя семь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</a:rPr>
              <a:t>«Дерево «Моя семь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3995640" y="4653000"/>
            <a:ext cx="46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2143080" y="1844640"/>
            <a:ext cx="6429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дед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бабушк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пап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мам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Этот пальчик – 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Вот и вся моя сем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700360" y="692280"/>
            <a:ext cx="403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f0066"/>
                </a:solidFill>
                <a:latin typeface="Arial"/>
              </a:rPr>
              <a:t>Физминутк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Рисунок 3" descr="Рисунок1.jpg"/>
          <p:cNvPicPr/>
          <p:nvPr/>
        </p:nvPicPr>
        <p:blipFill>
          <a:blip r:embed="rId1"/>
          <a:stretch/>
        </p:blipFill>
        <p:spPr>
          <a:xfrm>
            <a:off x="357120" y="3000240"/>
            <a:ext cx="3071880" cy="32734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2143080" y="260280"/>
            <a:ext cx="585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0066"/>
                </a:solidFill>
                <a:latin typeface="Arial"/>
              </a:rPr>
              <a:t>Дерево «Моя семь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 rot="21145800">
            <a:off x="434880" y="1854360"/>
            <a:ext cx="183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теп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 rot="262200">
            <a:off x="468000" y="299736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вер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 rot="21322800">
            <a:off x="324000" y="4292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 rot="461400">
            <a:off x="323640" y="544500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за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 rot="609000">
            <a:off x="7013160" y="162684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улы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 rot="20991000">
            <a:off x="6804000" y="2707920"/>
            <a:ext cx="23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8000"/>
                </a:solidFill>
                <a:latin typeface="Arial"/>
              </a:rPr>
              <a:t>по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 rot="206400">
            <a:off x="6803640" y="386028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добр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7"/>
          <p:cNvSpPr/>
          <p:nvPr/>
        </p:nvSpPr>
        <p:spPr>
          <a:xfrm rot="21300000">
            <a:off x="6876720" y="4930920"/>
            <a:ext cx="179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Arial"/>
              </a:rPr>
              <a:t>любов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2011-11-22 15-21-35_0063"/>
          <p:cNvPicPr/>
          <p:nvPr/>
        </p:nvPicPr>
        <p:blipFill>
          <a:blip r:embed="rId1"/>
          <a:stretch/>
        </p:blipFill>
        <p:spPr>
          <a:xfrm rot="21105600">
            <a:off x="2383920" y="1306080"/>
            <a:ext cx="2125800" cy="25243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2" descr="Scan-120115-0005.jpg"/>
          <p:cNvPicPr/>
          <p:nvPr/>
        </p:nvPicPr>
        <p:blipFill>
          <a:blip r:embed="rId2"/>
          <a:stretch/>
        </p:blipFill>
        <p:spPr>
          <a:xfrm rot="949200">
            <a:off x="3686040" y="3670200"/>
            <a:ext cx="2149560" cy="27147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2" descr="Scan-120115-0014.jpg"/>
          <p:cNvPicPr/>
          <p:nvPr/>
        </p:nvPicPr>
        <p:blipFill>
          <a:blip r:embed="rId3"/>
          <a:stretch/>
        </p:blipFill>
        <p:spPr>
          <a:xfrm rot="642600">
            <a:off x="5000760" y="1357200"/>
            <a:ext cx="1838160" cy="235764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1332000" y="450720"/>
            <a:ext cx="66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Техника безопасности при работе с ножниц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3"/>
          <p:cNvSpPr/>
          <p:nvPr/>
        </p:nvSpPr>
        <p:spPr>
          <a:xfrm>
            <a:off x="395280" y="1341360"/>
            <a:ext cx="37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Обращайтесь с ножниц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чень остор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зать кончиками - нельз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единкой – мож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5076720" y="3141720"/>
            <a:ext cx="3598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Если нужно инстру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ть друг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о колечки от себя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ы спокойно поверн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, за кончики держись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ожницы ему верн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468360" y="4508640"/>
            <a:ext cx="431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Когда   выполнишь работ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ут  же  ножницы     зак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б  до  острых  краеш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  коснулся  кто  другой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Рисунок2"/>
          <p:cNvPicPr/>
          <p:nvPr/>
        </p:nvPicPr>
        <p:blipFill>
          <a:blip r:embed="rId1"/>
          <a:stretch/>
        </p:blipFill>
        <p:spPr>
          <a:xfrm>
            <a:off x="4427640" y="1268280"/>
            <a:ext cx="1627200" cy="143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Рисунок1"/>
          <p:cNvPicPr/>
          <p:nvPr/>
        </p:nvPicPr>
        <p:blipFill>
          <a:blip r:embed="rId2"/>
          <a:stretch/>
        </p:blipFill>
        <p:spPr>
          <a:xfrm>
            <a:off x="6588000" y="1268280"/>
            <a:ext cx="1597320" cy="14385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Рисунок3"/>
          <p:cNvPicPr/>
          <p:nvPr/>
        </p:nvPicPr>
        <p:blipFill>
          <a:blip r:embed="rId3"/>
          <a:stretch/>
        </p:blipFill>
        <p:spPr>
          <a:xfrm>
            <a:off x="971640" y="2997360"/>
            <a:ext cx="2846160" cy="12366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6"/>
          <p:cNvSpPr/>
          <p:nvPr/>
        </p:nvSpPr>
        <p:spPr>
          <a:xfrm>
            <a:off x="571680" y="4869000"/>
            <a:ext cx="22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Вырезать и приклеить  ство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3708360" y="486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риклеить лист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9"/>
          <p:cNvSpPr/>
          <p:nvPr/>
        </p:nvSpPr>
        <p:spPr>
          <a:xfrm>
            <a:off x="6300720" y="4869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. Приклеить фотограф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1428840" y="54936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0066"/>
                </a:solidFill>
                <a:latin typeface="Arial"/>
              </a:rPr>
              <a:t>Этапы выполнения рабо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Рисунок 9" descr="Scan-120115-0003.jpg"/>
          <p:cNvPicPr/>
          <p:nvPr/>
        </p:nvPicPr>
        <p:blipFill>
          <a:blip r:embed="rId1"/>
          <a:stretch/>
        </p:blipFill>
        <p:spPr>
          <a:xfrm>
            <a:off x="714240" y="1785960"/>
            <a:ext cx="1960560" cy="2786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0" descr="Scan-120115-0004.jpg"/>
          <p:cNvPicPr/>
          <p:nvPr/>
        </p:nvPicPr>
        <p:blipFill>
          <a:blip r:embed="rId2"/>
          <a:stretch/>
        </p:blipFill>
        <p:spPr>
          <a:xfrm>
            <a:off x="3357720" y="1785960"/>
            <a:ext cx="2077920" cy="278604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11" descr="Scan-120115-0005.jpg"/>
          <p:cNvPicPr/>
          <p:nvPr/>
        </p:nvPicPr>
        <p:blipFill>
          <a:blip r:embed="rId3"/>
          <a:stretch/>
        </p:blipFill>
        <p:spPr>
          <a:xfrm>
            <a:off x="6143760" y="1857240"/>
            <a:ext cx="2000160" cy="271476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WordArt 4"/>
          <p:cNvSpPr txBox="1"/>
          <p:nvPr/>
        </p:nvSpPr>
        <p:spPr>
          <a:xfrm>
            <a:off x="2195640" y="2205000"/>
            <a:ext cx="4824360" cy="14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пасибо за работу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5"/>
          <p:cNvSpPr/>
          <p:nvPr/>
        </p:nvSpPr>
        <p:spPr>
          <a:xfrm>
            <a:off x="304920" y="1370520"/>
            <a:ext cx="6248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Сегодня наш урок, друзь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Про удивительных семь «Я»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Кто они мне подскажит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504d"/>
                </a:solidFill>
                <a:latin typeface="Arial"/>
              </a:rPr>
              <a:t>Тему вы определи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304920" y="434340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0" spc="-1" strike="noStrike">
                <a:solidFill>
                  <a:srgbClr val="ff0066"/>
                </a:solidFill>
                <a:latin typeface="Verdana"/>
              </a:rPr>
              <a:t>Семья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4071960" y="2743200"/>
            <a:ext cx="3786120" cy="52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ff0066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ff9900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fcf600"/>
                </a:solidFill>
                <a:latin typeface="Monotype Corsiv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9600" spc="-1" strike="noStrike">
                <a:solidFill>
                  <a:srgbClr val="0000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3399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0000ff"/>
                </a:solidFill>
                <a:latin typeface="Monotype Corsiva"/>
              </a:rPr>
              <a:t>Я</a:t>
            </a:r>
            <a:r>
              <a:rPr b="1" i="1" lang="ru-RU" sz="96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i="1" lang="ru-RU" sz="9600" spc="-1" strike="noStrike">
                <a:solidFill>
                  <a:srgbClr val="6600cc"/>
                </a:solidFill>
                <a:latin typeface="Monotype Corsiva"/>
              </a:rPr>
              <a:t>Я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Calibri"/>
              </a:rPr>
              <a:t>Моя сем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Рисунок3.jpg"/>
          <p:cNvPicPr/>
          <p:nvPr/>
        </p:nvPicPr>
        <p:blipFill>
          <a:blip r:embed="rId1"/>
          <a:stretch/>
        </p:blipFill>
        <p:spPr>
          <a:xfrm rot="303000">
            <a:off x="3292200" y="928800"/>
            <a:ext cx="3309840" cy="190800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6"/>
          <p:cNvSpPr/>
          <p:nvPr/>
        </p:nvSpPr>
        <p:spPr>
          <a:xfrm>
            <a:off x="1571760" y="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66"/>
                </a:solidFill>
                <a:latin typeface="Arial"/>
              </a:rPr>
              <a:t>Моя семь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714240" y="6286680"/>
            <a:ext cx="350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00"/>
                </a:solidFill>
                <a:latin typeface="Arial"/>
              </a:rPr>
              <a:t>Работа 1 групп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Рисунок 8" descr="Рисунок5.jpg"/>
          <p:cNvPicPr/>
          <p:nvPr/>
        </p:nvPicPr>
        <p:blipFill>
          <a:blip r:embed="rId2"/>
          <a:stretch/>
        </p:blipFill>
        <p:spPr>
          <a:xfrm>
            <a:off x="2786040" y="2857680"/>
            <a:ext cx="2757600" cy="176688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9" descr="Рисунок1.png"/>
          <p:cNvPicPr/>
          <p:nvPr/>
        </p:nvPicPr>
        <p:blipFill>
          <a:blip r:embed="rId3"/>
          <a:stretch/>
        </p:blipFill>
        <p:spPr>
          <a:xfrm rot="517200">
            <a:off x="6324120" y="1725480"/>
            <a:ext cx="2181240" cy="163368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10" descr="Рисунок2.jpg"/>
          <p:cNvPicPr/>
          <p:nvPr/>
        </p:nvPicPr>
        <p:blipFill>
          <a:blip r:embed="rId4"/>
          <a:stretch/>
        </p:blipFill>
        <p:spPr>
          <a:xfrm>
            <a:off x="3643200" y="4643280"/>
            <a:ext cx="2571840" cy="178596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11" descr="Рисунок3.jpg"/>
          <p:cNvPicPr/>
          <p:nvPr/>
        </p:nvPicPr>
        <p:blipFill>
          <a:blip r:embed="rId5"/>
          <a:stretch/>
        </p:blipFill>
        <p:spPr>
          <a:xfrm rot="21118200">
            <a:off x="326520" y="2877840"/>
            <a:ext cx="2462400" cy="179532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12" descr="Scan-120115-0006.jpg"/>
          <p:cNvPicPr/>
          <p:nvPr/>
        </p:nvPicPr>
        <p:blipFill>
          <a:blip r:embed="rId6"/>
          <a:stretch/>
        </p:blipFill>
        <p:spPr>
          <a:xfrm rot="21150600">
            <a:off x="520560" y="1179000"/>
            <a:ext cx="2868840" cy="1614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13" descr="Рисунок1.jpg"/>
          <p:cNvPicPr/>
          <p:nvPr/>
        </p:nvPicPr>
        <p:blipFill>
          <a:blip r:embed="rId7"/>
          <a:stretch/>
        </p:blipFill>
        <p:spPr>
          <a:xfrm rot="21417600">
            <a:off x="755280" y="4718160"/>
            <a:ext cx="2847960" cy="164448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4" descr="Scan-120115-0007.jpg"/>
          <p:cNvPicPr/>
          <p:nvPr/>
        </p:nvPicPr>
        <p:blipFill>
          <a:blip r:embed="rId8"/>
          <a:stretch/>
        </p:blipFill>
        <p:spPr>
          <a:xfrm rot="413400">
            <a:off x="6071760" y="214200"/>
            <a:ext cx="2463840" cy="15400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5" descr="Рисунок6.jpg"/>
          <p:cNvPicPr/>
          <p:nvPr/>
        </p:nvPicPr>
        <p:blipFill>
          <a:blip r:embed="rId9"/>
          <a:stretch/>
        </p:blipFill>
        <p:spPr>
          <a:xfrm rot="667800">
            <a:off x="5346360" y="3173400"/>
            <a:ext cx="3438360" cy="1701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6" descr="Рисунок7.jpg"/>
          <p:cNvPicPr/>
          <p:nvPr/>
        </p:nvPicPr>
        <p:blipFill>
          <a:blip r:embed="rId10"/>
          <a:stretch/>
        </p:blipFill>
        <p:spPr>
          <a:xfrm rot="357000">
            <a:off x="5994000" y="4900320"/>
            <a:ext cx="2273400" cy="1530360"/>
          </a:xfrm>
          <a:prstGeom prst="rect">
            <a:avLst/>
          </a:prstGeom>
          <a:ln w="0">
            <a:noFill/>
          </a:ln>
        </p:spPr>
      </p:pic>
      <p:sp>
        <p:nvSpPr>
          <p:cNvPr id="75" name="TextBox 17"/>
          <p:cNvSpPr/>
          <p:nvPr/>
        </p:nvSpPr>
        <p:spPr>
          <a:xfrm rot="21137400">
            <a:off x="713880" y="2373120"/>
            <a:ext cx="257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66"/>
                </a:solidFill>
                <a:latin typeface="Arial"/>
              </a:rPr>
              <a:t>Наша семья друж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8"/>
          <p:cNvSpPr/>
          <p:nvPr/>
        </p:nvSpPr>
        <p:spPr>
          <a:xfrm rot="544800">
            <a:off x="5498640" y="4465800"/>
            <a:ext cx="30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8000"/>
                </a:solidFill>
                <a:latin typeface="Arial"/>
              </a:rPr>
              <a:t>Наша семья счастли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0066"/>
                </a:solidFill>
                <a:latin typeface="Calibri"/>
              </a:rPr>
              <a:t>Семья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5700600"/>
            <a:ext cx="822960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Что обозначает это слово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8" descr="семья0001"/>
          <p:cNvPicPr/>
          <p:nvPr/>
        </p:nvPicPr>
        <p:blipFill>
          <a:blip r:embed="rId1"/>
          <a:stretch/>
        </p:blipFill>
        <p:spPr>
          <a:xfrm>
            <a:off x="1428840" y="1357200"/>
            <a:ext cx="6551640" cy="4183200"/>
          </a:xfrm>
          <a:prstGeom prst="rect">
            <a:avLst/>
          </a:prstGeom>
          <a:ln w="38160">
            <a:solidFill>
              <a:srgbClr val="336600"/>
            </a:solidFill>
            <a:miter/>
          </a:ln>
        </p:spPr>
      </p:pic>
      <p:sp>
        <p:nvSpPr>
          <p:cNvPr id="81" name="Text Box 9"/>
          <p:cNvSpPr/>
          <p:nvPr/>
        </p:nvSpPr>
        <p:spPr>
          <a:xfrm>
            <a:off x="324000" y="5530680"/>
            <a:ext cx="84801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8000"/>
                </a:solidFill>
                <a:latin typeface="Comic Sans MS"/>
              </a:rPr>
              <a:t>Группа родственников, живущих вместе</a:t>
            </a: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Словарь С.И.Ожегов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80880" y="761760"/>
            <a:ext cx="70106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Очень люблю, когда все собираютс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Белой скатертью стол накрывается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Бабушка с мамой, папа и я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alibri"/>
              </a:rPr>
              <a:t>Мы называемся вместе –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7" descr="stol"/>
          <p:cNvPicPr/>
          <p:nvPr/>
        </p:nvPicPr>
        <p:blipFill>
          <a:blip r:embed="rId1"/>
          <a:stretch/>
        </p:blipFill>
        <p:spPr>
          <a:xfrm>
            <a:off x="1295280" y="2971800"/>
            <a:ext cx="5629320" cy="37879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5257800" y="2209680"/>
            <a:ext cx="22860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a50021"/>
                </a:solidFill>
                <a:latin typeface="Calibri"/>
              </a:rPr>
              <a:t>СЕМЬЯ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Line 8"/>
          <p:cNvSpPr/>
          <p:nvPr/>
        </p:nvSpPr>
        <p:spPr>
          <a:xfrm>
            <a:off x="457200" y="2209680"/>
            <a:ext cx="1328760" cy="504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9"/>
          <p:cNvSpPr/>
          <p:nvPr/>
        </p:nvSpPr>
        <p:spPr>
          <a:xfrm>
            <a:off x="2071800" y="2214720"/>
            <a:ext cx="11430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0"/>
          <p:cNvSpPr/>
          <p:nvPr/>
        </p:nvSpPr>
        <p:spPr>
          <a:xfrm>
            <a:off x="3357720" y="2214720"/>
            <a:ext cx="64296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2"/>
          <p:cNvSpPr/>
          <p:nvPr/>
        </p:nvSpPr>
        <p:spPr>
          <a:xfrm>
            <a:off x="4429080" y="2214720"/>
            <a:ext cx="21420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Овал 2"/>
          <p:cNvSpPr/>
          <p:nvPr/>
        </p:nvSpPr>
        <p:spPr>
          <a:xfrm>
            <a:off x="3286080" y="2428920"/>
            <a:ext cx="2428920" cy="214308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Пожел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сем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 rot="4275600">
            <a:off x="2563920" y="1155240"/>
            <a:ext cx="2195640" cy="5004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Желаю счастья, здоров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4"/>
          <p:cNvSpPr/>
          <p:nvPr/>
        </p:nvSpPr>
        <p:spPr>
          <a:xfrm rot="1325400">
            <a:off x="484200" y="2117520"/>
            <a:ext cx="3000240" cy="5014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все были здоров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 rot="20793000">
            <a:off x="5803920" y="2555640"/>
            <a:ext cx="300024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родители не ссорилис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7"/>
          <p:cNvSpPr/>
          <p:nvPr/>
        </p:nvSpPr>
        <p:spPr>
          <a:xfrm rot="20431800">
            <a:off x="795240" y="4128840"/>
            <a:ext cx="257184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Я бы хотел маленькую сестрён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9"/>
          <p:cNvSpPr/>
          <p:nvPr/>
        </p:nvSpPr>
        <p:spPr>
          <a:xfrm rot="1141200">
            <a:off x="5575320" y="4233600"/>
            <a:ext cx="3286080" cy="57312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мы всей семьёй поехали отдых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1"/>
          <p:cNvSpPr/>
          <p:nvPr/>
        </p:nvSpPr>
        <p:spPr>
          <a:xfrm rot="18412200">
            <a:off x="1765800" y="5332680"/>
            <a:ext cx="266868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моя семья была всегда друж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2"/>
          <p:cNvSpPr/>
          <p:nvPr/>
        </p:nvSpPr>
        <p:spPr>
          <a:xfrm rot="18300000">
            <a:off x="4603680" y="967680"/>
            <a:ext cx="2949480" cy="57168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Чтобы  мы все вместе жил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3"/>
          <p:cNvSpPr/>
          <p:nvPr/>
        </p:nvSpPr>
        <p:spPr>
          <a:xfrm rot="3573000">
            <a:off x="4259160" y="5400720"/>
            <a:ext cx="2549520" cy="673200"/>
          </a:xfrm>
          <a:prstGeom prst="rect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a50021"/>
                </a:solidFill>
                <a:latin typeface="Calibri"/>
              </a:rPr>
              <a:t>Желаю, чтобы моя семья всегда была счастливая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597600" y="5457960"/>
            <a:ext cx="804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праздник, семейные дат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Подарки, покупки, приятные трат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280" y="5418000"/>
            <a:ext cx="828036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счастье, любовь и удача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летом поездки на  дач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8" descr="45"/>
          <p:cNvPicPr/>
          <p:nvPr/>
        </p:nvPicPr>
        <p:blipFill>
          <a:blip r:embed="rId1"/>
          <a:stretch/>
        </p:blipFill>
        <p:spPr>
          <a:xfrm>
            <a:off x="1547640" y="404640"/>
            <a:ext cx="6481800" cy="4862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45"/>
          <p:cNvPicPr/>
          <p:nvPr/>
        </p:nvPicPr>
        <p:blipFill>
          <a:blip r:embed="rId2"/>
          <a:stretch/>
        </p:blipFill>
        <p:spPr>
          <a:xfrm>
            <a:off x="125892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8000" y="537372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Рождение детей, первый шаг, первый лепе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Мечты о хорошем, волнение и треп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45"/>
          <p:cNvPicPr/>
          <p:nvPr/>
        </p:nvPicPr>
        <p:blipFill>
          <a:blip r:embed="rId1"/>
          <a:stretch/>
        </p:blipFill>
        <p:spPr>
          <a:xfrm>
            <a:off x="1332000" y="404640"/>
            <a:ext cx="6624720" cy="49690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6"/>
          <p:cNvSpPr/>
          <p:nvPr/>
        </p:nvSpPr>
        <p:spPr>
          <a:xfrm>
            <a:off x="650880" y="5373720"/>
            <a:ext cx="787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труд, друг о друге забота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Семья – это много домашней работы.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45"/>
          <p:cNvPicPr/>
          <p:nvPr/>
        </p:nvPicPr>
        <p:blipFill>
          <a:blip r:embed="rId2"/>
          <a:stretch/>
        </p:blipFill>
        <p:spPr>
          <a:xfrm>
            <a:off x="1258920" y="404640"/>
            <a:ext cx="6626160" cy="49705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4797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ва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omic Sans MS"/>
              </a:rPr>
              <a:t>Семья – это слож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omic Sans MS"/>
              </a:rPr>
              <a:t>Но счастливо жить одному невозможно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4" descr="45"/>
          <p:cNvPicPr/>
          <p:nvPr/>
        </p:nvPicPr>
        <p:blipFill>
          <a:blip r:embed="rId1"/>
          <a:stretch/>
        </p:blipFill>
        <p:spPr>
          <a:xfrm>
            <a:off x="1619280" y="404640"/>
            <a:ext cx="5905440" cy="4429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1T16:12:48Z</dcterms:created>
  <dc:creator>User</dc:creator>
  <dc:description/>
  <dc:language>en-US</dc:language>
  <cp:lastModifiedBy>LEGION2</cp:lastModifiedBy>
  <dcterms:modified xsi:type="dcterms:W3CDTF">2015-04-24T09:36:09Z</dcterms:modified>
  <cp:revision>66</cp:revision>
  <dc:subject/>
  <dc:title>Слайд 1</dc:title>
</cp:coreProperties>
</file>