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140F-9EC4-4739-B51A-31322E856E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«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00D6-8C89-4064-8214-F80F10FCED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дед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баб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пап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мам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т и вся 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210D-92EF-4CFD-B271-1890F44F6C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еп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в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лыб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б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люб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932A-C03E-45D6-B0F9-3F1B22DFEB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аботе с ножницами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бращайтесь с нож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остор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ать кончиками - нельз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единкой – можно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Если нужно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ать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колечки от себ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 спокойно повер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, за кончики держи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жницы ему вер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огда   выполнишь рабо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т  же  ножницы     зак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б  до  острых  краеш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 коснулся  кто  друг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2593-0F61-4953-A5DF-CC39DA2518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Этапы вып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резать и приклеить  ст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нения работы</a:t>
            </a: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клеить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клеить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843F-0EAC-48CE-9F69-3DB51FBC3F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егодня наш урок, друз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 удивительных семь «Я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то они мне подскаж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ему вы определит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FFF5-69CB-4F4B-8A00-A0C935CE48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EA8-98A3-4A57-9E8D-3F9334BAD2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4851-2360-400C-B11E-EDD28EE07B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6AD3-0B1B-4EAA-B638-82FCF6E07C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68D5-D9C3-412C-8759-A18B9E7272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331A-2AA5-4E7E-8C55-25F16EAE65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DBD7-A8E9-45A9-8C77-0EBBF4F618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B374-A3F0-4CCD-A06A-E80B4CAD89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78C-F9B6-4CD6-BA31-50547C10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DA4-02BF-4717-A52B-9A23D4C3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518-5262-4663-B5E2-A6F47F8C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B9A-C826-4111-8887-24E6815C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A1C-4EE1-4727-9607-423ACC29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94D-A268-4F70-B6A9-318F3316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0B3-4A20-4DD0-8742-375FCAAF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59E-7B89-4AEA-905C-4AEBEE2D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F71-CC8A-47B0-8017-5F32A945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79C-2F20-47BB-8ADF-BE3DADF2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B73-9762-40BE-8A70-B5C4BEBB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DB8-C291-4C3D-A507-D3B45911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D024-FC65-49D9-9A3B-F4523665583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25E0-BE47-4FC2-862A-A1E04E4D6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ромашка оранжевая отрисованная--.png"/>
          <p:cNvPicPr/>
          <p:nvPr/>
        </p:nvPicPr>
        <p:blipFill>
          <a:blip r:embed="rId3"/>
          <a:stretch/>
        </p:blipFill>
        <p:spPr>
          <a:xfrm>
            <a:off x="7812000" y="5229360"/>
            <a:ext cx="916200" cy="1220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Хорошее настроение\а.gif"/>
          <p:cNvPicPr/>
          <p:nvPr/>
        </p:nvPicPr>
        <p:blipFill>
          <a:blip r:embed="rId4"/>
          <a:stretch/>
        </p:blipFill>
        <p:spPr>
          <a:xfrm>
            <a:off x="395280" y="404640"/>
            <a:ext cx="1135080" cy="9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286000" y="141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окружающего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в 1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476360" y="2697120"/>
            <a:ext cx="5975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о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«Дерево «Моя сем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95640" y="46530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143080" y="1844640"/>
            <a:ext cx="64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па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от и вся моя 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700360" y="692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Физ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357120" y="3000240"/>
            <a:ext cx="3071880" cy="32734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143080" y="26028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Дерево «Моя сем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 rot="21145800">
            <a:off x="434880" y="1854360"/>
            <a:ext cx="18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 rot="262200">
            <a:off x="468000" y="2997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ве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 rot="21322800">
            <a:off x="324000" y="4292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 rot="461400">
            <a:off x="323640" y="54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 rot="609000">
            <a:off x="7013160" y="16268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лы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 rot="20991000">
            <a:off x="6804000" y="27079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 rot="206400">
            <a:off x="6803640" y="38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 rot="21300000">
            <a:off x="6876720" y="49309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011-11-22 15-21-35_0063"/>
          <p:cNvPicPr/>
          <p:nvPr/>
        </p:nvPicPr>
        <p:blipFill>
          <a:blip r:embed="rId1"/>
          <a:stretch/>
        </p:blipFill>
        <p:spPr>
          <a:xfrm rot="21105600">
            <a:off x="2383920" y="1306080"/>
            <a:ext cx="2125800" cy="2524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2" descr="Scan-120115-0005.jpg"/>
          <p:cNvPicPr/>
          <p:nvPr/>
        </p:nvPicPr>
        <p:blipFill>
          <a:blip r:embed="rId2"/>
          <a:stretch/>
        </p:blipFill>
        <p:spPr>
          <a:xfrm rot="949200">
            <a:off x="3686040" y="3670200"/>
            <a:ext cx="2149560" cy="2714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2" descr="Scan-120115-0014.jpg"/>
          <p:cNvPicPr/>
          <p:nvPr/>
        </p:nvPicPr>
        <p:blipFill>
          <a:blip r:embed="rId3"/>
          <a:stretch/>
        </p:blipFill>
        <p:spPr>
          <a:xfrm rot="642600">
            <a:off x="5000760" y="1357200"/>
            <a:ext cx="1838160" cy="235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332000" y="45072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ика безопасности при работе с нож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95280" y="1341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бращайтесь с ножни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остор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ать кончиками - нельз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единкой – 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076720" y="314172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Если нужно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ть друг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колечки от себ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спокойно повер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за кончики держ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жницы ему вер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45086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гда   выполнишь рабо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 же  ножницы     зак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 до  острых  краеш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 коснулся  кто  друг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Рисунок2"/>
          <p:cNvPicPr/>
          <p:nvPr/>
        </p:nvPicPr>
        <p:blipFill>
          <a:blip r:embed="rId1"/>
          <a:stretch/>
        </p:blipFill>
        <p:spPr>
          <a:xfrm>
            <a:off x="4427640" y="1268280"/>
            <a:ext cx="1627200" cy="143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Рисунок1"/>
          <p:cNvPicPr/>
          <p:nvPr/>
        </p:nvPicPr>
        <p:blipFill>
          <a:blip r:embed="rId2"/>
          <a:stretch/>
        </p:blipFill>
        <p:spPr>
          <a:xfrm>
            <a:off x="6588000" y="1268280"/>
            <a:ext cx="1597320" cy="143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Рисунок3"/>
          <p:cNvPicPr/>
          <p:nvPr/>
        </p:nvPicPr>
        <p:blipFill>
          <a:blip r:embed="rId3"/>
          <a:stretch/>
        </p:blipFill>
        <p:spPr>
          <a:xfrm>
            <a:off x="971640" y="2997360"/>
            <a:ext cx="2846160" cy="12366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571680" y="486900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резать и приклеить  ст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708360" y="486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клеить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30072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иклеить фот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428840" y="5493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Этапы выполн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Scan-120115-0003.jpg"/>
          <p:cNvPicPr/>
          <p:nvPr/>
        </p:nvPicPr>
        <p:blipFill>
          <a:blip r:embed="rId1"/>
          <a:stretch/>
        </p:blipFill>
        <p:spPr>
          <a:xfrm>
            <a:off x="714240" y="1785960"/>
            <a:ext cx="196056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Scan-120115-0004.jpg"/>
          <p:cNvPicPr/>
          <p:nvPr/>
        </p:nvPicPr>
        <p:blipFill>
          <a:blip r:embed="rId2"/>
          <a:stretch/>
        </p:blipFill>
        <p:spPr>
          <a:xfrm>
            <a:off x="3357720" y="1785960"/>
            <a:ext cx="2077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Scan-120115-0005.jpg"/>
          <p:cNvPicPr/>
          <p:nvPr/>
        </p:nvPicPr>
        <p:blipFill>
          <a:blip r:embed="rId3"/>
          <a:stretch/>
        </p:blipFill>
        <p:spPr>
          <a:xfrm>
            <a:off x="6143760" y="1857240"/>
            <a:ext cx="2000160" cy="2714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195640" y="2205000"/>
            <a:ext cx="482436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04920" y="137052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егодня наш урок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Про удивительных семь «Я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Кто они мне подскаж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Тему вы определ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04920" y="4343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Verdana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071960" y="2743200"/>
            <a:ext cx="37861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cf600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3399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6600cc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Рисунок3.jpg"/>
          <p:cNvPicPr/>
          <p:nvPr/>
        </p:nvPicPr>
        <p:blipFill>
          <a:blip r:embed="rId1"/>
          <a:stretch/>
        </p:blipFill>
        <p:spPr>
          <a:xfrm rot="303000">
            <a:off x="3292200" y="928800"/>
            <a:ext cx="3309840" cy="190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1571760" y="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Моя сем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14240" y="62866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Работа 1 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8" descr="Рисунок5.jpg"/>
          <p:cNvPicPr/>
          <p:nvPr/>
        </p:nvPicPr>
        <p:blipFill>
          <a:blip r:embed="rId2"/>
          <a:stretch/>
        </p:blipFill>
        <p:spPr>
          <a:xfrm>
            <a:off x="2786040" y="2857680"/>
            <a:ext cx="2757600" cy="1766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Рисунок1.png"/>
          <p:cNvPicPr/>
          <p:nvPr/>
        </p:nvPicPr>
        <p:blipFill>
          <a:blip r:embed="rId3"/>
          <a:stretch/>
        </p:blipFill>
        <p:spPr>
          <a:xfrm rot="517200">
            <a:off x="6324120" y="1725480"/>
            <a:ext cx="2181240" cy="1633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Рисунок2.jpg"/>
          <p:cNvPicPr/>
          <p:nvPr/>
        </p:nvPicPr>
        <p:blipFill>
          <a:blip r:embed="rId4"/>
          <a:stretch/>
        </p:blipFill>
        <p:spPr>
          <a:xfrm>
            <a:off x="3643200" y="464328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Рисунок3.jpg"/>
          <p:cNvPicPr/>
          <p:nvPr/>
        </p:nvPicPr>
        <p:blipFill>
          <a:blip r:embed="rId5"/>
          <a:stretch/>
        </p:blipFill>
        <p:spPr>
          <a:xfrm rot="21118200">
            <a:off x="326520" y="2877840"/>
            <a:ext cx="2462400" cy="1795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2" descr="Scan-120115-0006.jpg"/>
          <p:cNvPicPr/>
          <p:nvPr/>
        </p:nvPicPr>
        <p:blipFill>
          <a:blip r:embed="rId6"/>
          <a:stretch/>
        </p:blipFill>
        <p:spPr>
          <a:xfrm rot="21150600">
            <a:off x="520560" y="1179000"/>
            <a:ext cx="2868840" cy="1614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Рисунок1.jpg"/>
          <p:cNvPicPr/>
          <p:nvPr/>
        </p:nvPicPr>
        <p:blipFill>
          <a:blip r:embed="rId7"/>
          <a:stretch/>
        </p:blipFill>
        <p:spPr>
          <a:xfrm rot="21417600">
            <a:off x="755280" y="4718160"/>
            <a:ext cx="2847960" cy="1644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4" descr="Scan-120115-0007.jpg"/>
          <p:cNvPicPr/>
          <p:nvPr/>
        </p:nvPicPr>
        <p:blipFill>
          <a:blip r:embed="rId8"/>
          <a:stretch/>
        </p:blipFill>
        <p:spPr>
          <a:xfrm rot="413400">
            <a:off x="6071760" y="214200"/>
            <a:ext cx="2463840" cy="1540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5" descr="Рисунок6.jpg"/>
          <p:cNvPicPr/>
          <p:nvPr/>
        </p:nvPicPr>
        <p:blipFill>
          <a:blip r:embed="rId9"/>
          <a:stretch/>
        </p:blipFill>
        <p:spPr>
          <a:xfrm rot="667800">
            <a:off x="5346360" y="3173400"/>
            <a:ext cx="3438360" cy="1701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Рисунок7.jpg"/>
          <p:cNvPicPr/>
          <p:nvPr/>
        </p:nvPicPr>
        <p:blipFill>
          <a:blip r:embed="rId10"/>
          <a:stretch/>
        </p:blipFill>
        <p:spPr>
          <a:xfrm rot="357000">
            <a:off x="5994000" y="4900320"/>
            <a:ext cx="2273400" cy="1530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 rot="21137400">
            <a:off x="713880" y="2373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Arial"/>
              </a:rPr>
              <a:t>Наша семья д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 rot="544800">
            <a:off x="5498640" y="4465800"/>
            <a:ext cx="30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Наша семья счастли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700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семья0001"/>
          <p:cNvPicPr/>
          <p:nvPr/>
        </p:nvPicPr>
        <p:blipFill>
          <a:blip r:embed="rId1"/>
          <a:stretch/>
        </p:blipFill>
        <p:spPr>
          <a:xfrm>
            <a:off x="1428840" y="1357200"/>
            <a:ext cx="6551640" cy="41832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324000" y="5530680"/>
            <a:ext cx="848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Группа родственников, живущих вместе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ловарь С.И.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stol"/>
          <p:cNvPicPr/>
          <p:nvPr/>
        </p:nvPicPr>
        <p:blipFill>
          <a:blip r:embed="rId1"/>
          <a:stretch/>
        </p:blipFill>
        <p:spPr>
          <a:xfrm>
            <a:off x="1295280" y="2971800"/>
            <a:ext cx="5629320" cy="3787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25780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" y="2209680"/>
            <a:ext cx="1328760" cy="50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071800" y="2214720"/>
            <a:ext cx="11430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357720" y="2214720"/>
            <a:ext cx="64296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4429080" y="2214720"/>
            <a:ext cx="2142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Овал 2"/>
          <p:cNvSpPr/>
          <p:nvPr/>
        </p:nvSpPr>
        <p:spPr>
          <a:xfrm>
            <a:off x="3286080" y="2428920"/>
            <a:ext cx="2428920" cy="2143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 rot="4275600">
            <a:off x="2563920" y="1155240"/>
            <a:ext cx="2195640" cy="500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 rot="1325400">
            <a:off x="484200" y="2117520"/>
            <a:ext cx="3000240" cy="501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 rot="20793000">
            <a:off x="5803920" y="2555640"/>
            <a:ext cx="30002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 rot="20431800">
            <a:off x="795240" y="4128840"/>
            <a:ext cx="25718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 rot="1141200">
            <a:off x="5575320" y="4233600"/>
            <a:ext cx="3286080" cy="573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 rot="18412200">
            <a:off x="1765800" y="5332680"/>
            <a:ext cx="26686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 rot="18300000">
            <a:off x="4603680" y="967680"/>
            <a:ext cx="29494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 rot="3573000">
            <a:off x="4259160" y="5400720"/>
            <a:ext cx="2549520" cy="673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97600" y="5457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праздник, семейные да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одарки, покупки, приятные тр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1800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45"/>
          <p:cNvPicPr/>
          <p:nvPr/>
        </p:nvPicPr>
        <p:blipFill>
          <a:blip r:embed="rId1"/>
          <a:stretch/>
        </p:blipFill>
        <p:spPr>
          <a:xfrm>
            <a:off x="1547640" y="40464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8000" y="537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ождение детей, первый шаг, первый леп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Мечты о хорошем, волнение и треп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45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50880" y="537372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6160" cy="4970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45"/>
          <p:cNvPicPr/>
          <p:nvPr/>
        </p:nvPicPr>
        <p:blipFill>
          <a:blip r:embed="rId1"/>
          <a:stretch/>
        </p:blipFill>
        <p:spPr>
          <a:xfrm>
            <a:off x="1619280" y="404640"/>
            <a:ext cx="5905440" cy="4429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12:48Z</dcterms:created>
  <dc:creator>User</dc:creator>
  <dc:description/>
  <dc:language>en-US</dc:language>
  <cp:lastModifiedBy>LEGION2</cp:lastModifiedBy>
  <dcterms:modified xsi:type="dcterms:W3CDTF">2015-04-24T09:36:09Z</dcterms:modified>
  <cp:revision>66</cp:revision>
  <dc:subject/>
  <dc:title>Слайд 1</dc:title>
</cp:coreProperties>
</file>