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29.png" ContentType="image/png"/>
  <Override PartName="/ppt/media/image31.png" ContentType="image/png"/>
  <Override PartName="/ppt/media/Whoosh.wav" ContentType="audio/x-wav"/>
  <Override PartName="/ppt/media/image42.png" ContentType="image/png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CE82-5634-43B2-85CC-EB6150B511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0174-45F4-49C3-821B-361249930E5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1856-11C4-412D-B88D-3A702CE7378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F640-2FE5-4624-B58C-275A7953288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51E1-07D0-446F-812D-6E192686C89F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7168-C437-45AA-89A9-10BF7972234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6A6B-C344-45DB-8A16-B3FF2C3081A9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3E60-2244-4F7D-AAAA-C60B7850976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12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5C1E-3B8A-4048-97A3-715CECAA51F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C07A-F0F8-48B7-B147-B80A7BF92D5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CD0F-0981-4CDA-9A37-BBA1F458AA9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8A41-9ACF-4FAF-A8C3-DFEB1A1239E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я 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AE68-6829-4227-BF5F-38684CFC56F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C9E3-ECB5-40C5-8857-0D58F3C6C6D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A2EC-92BC-45A2-9DD6-FBE36FFF52C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спом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9CB4-DB41-421D-8691-2788FFE772FF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то «лишний»</a:t>
            </a:r>
            <a:r>
              <a:rPr b="1" lang="en-US" sz="12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6F26-6FBA-403E-A50B-06A8D9512759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равь ошиб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6186-63C0-408F-AB62-FC3590F1A5A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97E5-0236-4814-8890-F79C4D9568C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EA3F-A24F-4F55-9F2C-57C1ADE750FC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ие насекомые б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1320-AEC4-4A06-871F-C0A99B7865F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1B00-2A56-4F3D-B69B-310D171A873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ED17-93C9-42C0-96CD-9183E07142E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01D2-E94F-4687-A29D-B81E97B977B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1E03-A8E0-47FF-98EA-9069CDF59B89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F85-9EA4-4492-B3B1-D8952779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B87-BD10-4F7A-8922-ABF9EC78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07D-95BD-4A62-A23B-3C1959A7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927-6614-4D4E-A6DF-66DA9DA0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E02-6EC1-4049-8CCE-78AD85F5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CC4-6047-4DFE-96E2-98237118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45B-2D3F-4F1A-A798-41AC4AF2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9F7-D856-4E33-A9E5-6BFD8A9B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27C-840F-42E5-B24B-72BF437B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880-A98A-41E0-BC4C-45F24BF4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A20-92DC-4677-A687-93735D40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09C-9EFE-4F11-A8DA-9A626B49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261D-8CAE-47C6-B927-A5F85D4A3D77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71640" y="368280"/>
            <a:ext cx="7205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1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Окружающий мир</a:t>
            </a:r>
            <a:br>
              <a:rPr sz="7000"/>
            </a:br>
            <a:br>
              <a:rPr sz="7000"/>
            </a:b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Насекомые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2232000" y="1033560"/>
          <a:ext cx="5029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33560"/>
                    <a:ext cx="5029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носорог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373480" y="982800"/>
            <a:ext cx="4397040" cy="4892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8400" y="367920"/>
            <a:ext cx="720576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6760" y="-359280"/>
            <a:ext cx="7205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узнечик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50920" y="1268280"/>
          <a:ext cx="708660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268280"/>
                    <a:ext cx="70866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7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9880" y="-349560"/>
            <a:ext cx="7203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1357200" y="1270080"/>
            <a:ext cx="6429600" cy="431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2382840" y="993600"/>
            <a:ext cx="4290840" cy="4775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2050920" y="1268280"/>
          <a:ext cx="579132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79132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3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13"/>
          <p:cNvGraphicFramePr/>
          <p:nvPr/>
        </p:nvGraphicFramePr>
        <p:xfrm>
          <a:off x="1562040" y="907920"/>
          <a:ext cx="6019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907920"/>
                    <a:ext cx="6019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6"/>
          <p:cNvSpPr/>
          <p:nvPr/>
        </p:nvSpPr>
        <p:spPr>
          <a:xfrm>
            <a:off x="304920" y="48006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276720" y="57150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781680" y="472428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6781680" y="579132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4572000" y="1989000"/>
            <a:ext cx="2438280" cy="411480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H="1" flipV="1">
            <a:off x="3132000" y="4149720"/>
            <a:ext cx="1440000" cy="20145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1511280" y="2168640"/>
            <a:ext cx="3060720" cy="2936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4572000" y="2529000"/>
            <a:ext cx="3060720" cy="2520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 flipV="1">
            <a:off x="2362320" y="3789360"/>
            <a:ext cx="2209680" cy="22161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5472000" y="1088640"/>
            <a:ext cx="1440000" cy="4770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 flipH="1" flipV="1">
            <a:off x="3851280" y="1088640"/>
            <a:ext cx="3006720" cy="49309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380880" y="571500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7920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5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48920"/>
            <a:ext cx="720432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73560" y="2773440"/>
            <a:ext cx="344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585720" y="1336680"/>
          <a:ext cx="4807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336680"/>
                    <a:ext cx="4807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6"/>
          <p:cNvGraphicFramePr/>
          <p:nvPr/>
        </p:nvGraphicFramePr>
        <p:xfrm>
          <a:off x="1509840" y="1407960"/>
          <a:ext cx="606420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407960"/>
                    <a:ext cx="606420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1449360" y="5673600"/>
            <a:ext cx="668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5"/>
          <p:cNvGraphicFramePr/>
          <p:nvPr/>
        </p:nvGraphicFramePr>
        <p:xfrm>
          <a:off x="2262240" y="1236600"/>
          <a:ext cx="484668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1236600"/>
                    <a:ext cx="48466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205760" cy="23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40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Живая природа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ff0000"/>
                </a:solidFill>
                <a:latin typeface="Times New Roman"/>
              </a:rPr>
              <a:t>растения</a:t>
            </a:r>
            <a:endParaRPr b="0" lang="en-US" sz="7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Rectangle 1028"/>
          <p:cNvSpPr/>
          <p:nvPr/>
        </p:nvSpPr>
        <p:spPr>
          <a:xfrm>
            <a:off x="4572000" y="54936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9900cc"/>
                </a:solidFill>
                <a:latin typeface="Times New Roman"/>
              </a:rPr>
              <a:t>животные</a:t>
            </a:r>
            <a:r>
              <a:rPr b="0" lang="ru-RU" sz="75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Rectangle 1029"/>
          <p:cNvSpPr/>
          <p:nvPr/>
        </p:nvSpPr>
        <p:spPr>
          <a:xfrm>
            <a:off x="228600" y="48690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ff0066"/>
                </a:solidFill>
                <a:latin typeface="Times New Roman"/>
              </a:rPr>
              <a:t>бактерии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5292720" y="486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006600"/>
                </a:solidFill>
                <a:latin typeface="Times New Roman"/>
              </a:rPr>
              <a:t>грибы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Line 1036"/>
          <p:cNvSpPr/>
          <p:nvPr/>
        </p:nvSpPr>
        <p:spPr>
          <a:xfrm flipH="1" flipV="1">
            <a:off x="2743200" y="1989000"/>
            <a:ext cx="18288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Line 1037"/>
          <p:cNvSpPr/>
          <p:nvPr/>
        </p:nvSpPr>
        <p:spPr>
          <a:xfrm flipV="1">
            <a:off x="4572000" y="1989000"/>
            <a:ext cx="16002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Line 1038"/>
          <p:cNvSpPr/>
          <p:nvPr/>
        </p:nvSpPr>
        <p:spPr>
          <a:xfrm>
            <a:off x="4572000" y="3789360"/>
            <a:ext cx="205740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Line 1039"/>
          <p:cNvSpPr/>
          <p:nvPr/>
        </p:nvSpPr>
        <p:spPr>
          <a:xfrm flipH="1">
            <a:off x="2590560" y="3789360"/>
            <a:ext cx="198108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Picture 1041" descr=""/>
          <p:cNvPicPr/>
          <p:nvPr/>
        </p:nvPicPr>
        <p:blipFill>
          <a:blip r:embed="rId2"/>
          <a:stretch/>
        </p:blipFill>
        <p:spPr>
          <a:xfrm>
            <a:off x="5111640" y="18900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42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425680" cy="27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3" descr=""/>
          <p:cNvPicPr/>
          <p:nvPr/>
        </p:nvPicPr>
        <p:blipFill>
          <a:blip r:embed="rId4"/>
          <a:stretch/>
        </p:blipFill>
        <p:spPr>
          <a:xfrm>
            <a:off x="792000" y="3968640"/>
            <a:ext cx="3421080" cy="2552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2509920" y="824040"/>
          <a:ext cx="382896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824040"/>
                    <a:ext cx="38289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 rot="852600">
            <a:off x="3076560" y="728280"/>
            <a:ext cx="2989440" cy="2111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0" y="2333520"/>
            <a:ext cx="3451320" cy="229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 rot="492600">
            <a:off x="3024360" y="432108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6192720" y="2349360"/>
            <a:ext cx="26751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5"/>
          <a:stretch/>
        </p:blipFill>
        <p:spPr>
          <a:xfrm rot="1174200">
            <a:off x="3806640" y="2521080"/>
            <a:ext cx="2046240" cy="20635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7"/>
          <p:cNvGraphicFramePr/>
          <p:nvPr/>
        </p:nvGraphicFramePr>
        <p:xfrm>
          <a:off x="806400" y="1274760"/>
          <a:ext cx="37656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274760"/>
                    <a:ext cx="37656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572000" y="1362240"/>
          <a:ext cx="3665520" cy="49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62240"/>
                    <a:ext cx="36655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4130640" y="2579760"/>
          <a:ext cx="952560" cy="12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0640" y="2579760"/>
                    <a:ext cx="952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"/>
          <p:cNvGraphicFramePr/>
          <p:nvPr/>
        </p:nvGraphicFramePr>
        <p:xfrm>
          <a:off x="4165560" y="3654360"/>
          <a:ext cx="849240" cy="288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65560" y="3654360"/>
                    <a:ext cx="8492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8"/>
          <p:cNvGraphicFramePr/>
          <p:nvPr/>
        </p:nvGraphicFramePr>
        <p:xfrm>
          <a:off x="4259160" y="2165400"/>
          <a:ext cx="6955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9160" y="2165400"/>
                    <a:ext cx="695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9"/>
          <p:cNvGraphicFramePr/>
          <p:nvPr/>
        </p:nvGraphicFramePr>
        <p:xfrm>
          <a:off x="4572000" y="1449360"/>
          <a:ext cx="84780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449360"/>
                    <a:ext cx="8478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3924360" y="1533600"/>
          <a:ext cx="647640" cy="71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1533600"/>
                    <a:ext cx="647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222720" y="2743200"/>
          <a:ext cx="2762280" cy="20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22720" y="2743200"/>
                    <a:ext cx="2762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4"/>
          <p:cNvSpPr/>
          <p:nvPr/>
        </p:nvSpPr>
        <p:spPr>
          <a:xfrm>
            <a:off x="880920" y="368280"/>
            <a:ext cx="73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80"/>
                </a:solidFill>
                <a:latin typeface="Arial"/>
              </a:rPr>
              <a:t>вспомним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Кто «лишний»</a:t>
            </a:r>
            <a:r>
              <a:rPr b="1" lang="en-US" sz="41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6" name="Object 9"/>
          <p:cNvGraphicFramePr/>
          <p:nvPr/>
        </p:nvGraphicFramePr>
        <p:xfrm>
          <a:off x="3311640" y="728640"/>
          <a:ext cx="194292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728640"/>
                    <a:ext cx="194292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11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2066760" cy="180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4"/>
          <a:stretch/>
        </p:blipFill>
        <p:spPr>
          <a:xfrm>
            <a:off x="611280" y="907920"/>
            <a:ext cx="2066760" cy="16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5"/>
          <a:stretch/>
        </p:blipFill>
        <p:spPr>
          <a:xfrm>
            <a:off x="3686040" y="2708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6"/>
          <a:stretch/>
        </p:blipFill>
        <p:spPr>
          <a:xfrm>
            <a:off x="6551640" y="4329000"/>
            <a:ext cx="177156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7"/>
          <p:cNvGraphicFramePr/>
          <p:nvPr/>
        </p:nvGraphicFramePr>
        <p:xfrm>
          <a:off x="3492360" y="4869000"/>
          <a:ext cx="2159280" cy="15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869000"/>
                    <a:ext cx="215928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18"/>
          <p:cNvSpPr/>
          <p:nvPr/>
        </p:nvSpPr>
        <p:spPr>
          <a:xfrm>
            <a:off x="43164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951280" y="907920"/>
            <a:ext cx="54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19272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132000" y="270828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540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3851280" y="558972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7993080" y="378936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9"/>
          <a:stretch/>
        </p:blipFill>
        <p:spPr>
          <a:xfrm>
            <a:off x="792000" y="4329000"/>
            <a:ext cx="1800360" cy="206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1841E-006 L 0.31493 -0.25555 E">
                                      <p:cBhvr>
                                        <p:cTn id="61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Исправь ошибку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8293" t="0" r="7272" b="0"/>
          <a:stretch/>
        </p:blipFill>
        <p:spPr>
          <a:xfrm rot="852600">
            <a:off x="431280" y="2373120"/>
            <a:ext cx="2524320" cy="2111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rcRect l="10442" t="0" r="11324" b="0"/>
          <a:stretch/>
        </p:blipFill>
        <p:spPr>
          <a:xfrm>
            <a:off x="3492360" y="1138320"/>
            <a:ext cx="2700360" cy="22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 rot="492600">
            <a:off x="6213600" y="230652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>
            <a:off x="3492360" y="4338720"/>
            <a:ext cx="2675160" cy="2519280"/>
          </a:xfrm>
          <a:prstGeom prst="rect">
            <a:avLst/>
          </a:prstGeom>
          <a:ln w="0">
            <a:noFill/>
          </a:ln>
        </p:spPr>
      </p:pic>
      <p:cxnSp>
        <p:nvCxnSpPr>
          <p:cNvPr id="238" name="AutoShape 12"/>
          <p:cNvCxnSpPr>
            <a:stCxn id="234" idx="0"/>
          </p:cNvCxnSpPr>
          <p:nvPr/>
        </p:nvCxnSpPr>
        <p:spPr>
          <a:xfrm flipH="1" flipV="1" rot="5400000">
            <a:off x="2386440" y="1373760"/>
            <a:ext cx="597600" cy="146592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9" name="AutoShape 13"/>
          <p:cNvCxnSpPr>
            <a:endCxn id="236" idx="0"/>
          </p:cNvCxnSpPr>
          <p:nvPr/>
        </p:nvCxnSpPr>
        <p:spPr>
          <a:xfrm>
            <a:off x="6372360" y="1449360"/>
            <a:ext cx="1465920" cy="86904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AutoShape 14"/>
          <p:cNvCxnSpPr>
            <a:stCxn id="236" idx="2"/>
            <a:endCxn id="237" idx="3"/>
          </p:cNvCxnSpPr>
          <p:nvPr/>
        </p:nvCxnSpPr>
        <p:spPr>
          <a:xfrm rot="5400000">
            <a:off x="6311520" y="4392720"/>
            <a:ext cx="1062720" cy="135108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AutoShape 15"/>
          <p:cNvCxnSpPr>
            <a:endCxn id="234" idx="2"/>
          </p:cNvCxnSpPr>
          <p:nvPr/>
        </p:nvCxnSpPr>
        <p:spPr>
          <a:xfrm rot="10800000">
            <a:off x="1432800" y="4450680"/>
            <a:ext cx="1880280" cy="95796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3469E-006 L 0.31476 -0.23613 E">
                                      <p:cBhvr>
                                        <p:cTn id="63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34135E-006 L 0.32622 -0.31591 E">
                                      <p:cBhvr>
                                        <p:cTn id="6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9 0.00024 L -0.32517 0.31522 E">
                                      <p:cBhvr>
                                        <p:cTn id="63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1 0.06915 L -0.40364 0.21948 E">
                                      <p:cBhvr>
                                        <p:cTn id="63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Times New Roman"/>
              </a:rPr>
              <a:t>животн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85800" y="609480"/>
            <a:ext cx="3352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шерстью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5111640" y="549360"/>
            <a:ext cx="3353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перьями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57200" y="4114800"/>
            <a:ext cx="3886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Тело покрыто скользкой чешуёй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Text Box 35"/>
          <p:cNvSpPr/>
          <p:nvPr/>
        </p:nvSpPr>
        <p:spPr>
          <a:xfrm rot="16200000">
            <a:off x="628560" y="2545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Picture 40" descr=""/>
          <p:cNvPicPr/>
          <p:nvPr/>
        </p:nvPicPr>
        <p:blipFill>
          <a:blip r:embed="rId1"/>
          <a:stretch/>
        </p:blipFill>
        <p:spPr>
          <a:xfrm rot="20725800">
            <a:off x="1150920" y="367920"/>
            <a:ext cx="3029040" cy="30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7" descr=""/>
          <p:cNvPicPr/>
          <p:nvPr/>
        </p:nvPicPr>
        <p:blipFill>
          <a:blip r:embed="rId2"/>
          <a:stretch/>
        </p:blipFill>
        <p:spPr>
          <a:xfrm>
            <a:off x="4392720" y="189000"/>
            <a:ext cx="3960720" cy="271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"/>
          <p:cNvPicPr/>
          <p:nvPr/>
        </p:nvPicPr>
        <p:blipFill>
          <a:blip r:embed="rId3"/>
          <a:stretch/>
        </p:blipFill>
        <p:spPr>
          <a:xfrm>
            <a:off x="1150920" y="3968640"/>
            <a:ext cx="3421080" cy="20685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1"/>
          <p:cNvSpPr txBox="1"/>
          <p:nvPr/>
        </p:nvSpPr>
        <p:spPr>
          <a:xfrm rot="5400000">
            <a:off x="-82944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В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4" name="WordArt 52"/>
          <p:cNvSpPr txBox="1"/>
          <p:nvPr/>
        </p:nvSpPr>
        <p:spPr>
          <a:xfrm rot="5400000">
            <a:off x="691272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" name="WordArt 53"/>
          <p:cNvSpPr txBox="1"/>
          <p:nvPr/>
        </p:nvSpPr>
        <p:spPr>
          <a:xfrm rot="5400000">
            <a:off x="-829440" y="468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" name="Text Box 56"/>
          <p:cNvSpPr/>
          <p:nvPr/>
        </p:nvSpPr>
        <p:spPr>
          <a:xfrm>
            <a:off x="6012000" y="3968640"/>
            <a:ext cx="180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00"/>
                </a:solidFill>
                <a:latin typeface="Tunga"/>
                <a:ea typeface="Tunga"/>
              </a:rPr>
              <a:t>?</a:t>
            </a:r>
            <a:endParaRPr b="0" lang="en-US" sz="2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392720" y="3789360"/>
            <a:ext cx="3894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Шесть лапок, есть 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WordArt 63"/>
          <p:cNvSpPr txBox="1"/>
          <p:nvPr/>
        </p:nvSpPr>
        <p:spPr>
          <a:xfrm>
            <a:off x="5111640" y="4508640"/>
            <a:ext cx="360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 rot="5400000">
            <a:off x="6913080" y="4508280"/>
            <a:ext cx="3060720" cy="90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0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250920" y="368280"/>
            <a:ext cx="3149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89000"/>
            <a:ext cx="8353440" cy="5887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 rot="18424800">
            <a:off x="3733560" y="3366000"/>
            <a:ext cx="4284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Arial"/>
              </a:rPr>
              <a:t>Энциклопедия</a:t>
            </a:r>
            <a:r>
              <a:rPr b="0" lang="ru-RU" sz="33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1640" y="1267920"/>
            <a:ext cx="6332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насеком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31640" y="3100320"/>
            <a:ext cx="9417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31640" y="3968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31640" y="5589720"/>
            <a:ext cx="846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31640" y="4869000"/>
            <a:ext cx="900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0.22039 L -0.11424 -0.30528 E">
                                      <p:cBhvr>
                                        <p:cTn id="18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05551 L -0.28056 -0.39084 E">
                                      <p:cBhvr>
                                        <p:cTn id="1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17" descr="e001"/>
          <p:cNvPicPr/>
          <p:nvPr/>
        </p:nvPicPr>
        <p:blipFill>
          <a:blip r:embed="rId1"/>
          <a:stretch/>
        </p:blipFill>
        <p:spPr>
          <a:xfrm>
            <a:off x="1150920" y="907920"/>
            <a:ext cx="7543800" cy="463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2232000" y="728640"/>
          <a:ext cx="548640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728640"/>
                    <a:ext cx="54864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3" name="Object 8"/>
          <p:cNvGraphicFramePr/>
          <p:nvPr/>
        </p:nvGraphicFramePr>
        <p:xfrm>
          <a:off x="2209680" y="1066680"/>
          <a:ext cx="48769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48769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6" descr="e003"/>
          <p:cNvPicPr/>
          <p:nvPr/>
        </p:nvPicPr>
        <p:blipFill>
          <a:blip r:embed="rId1"/>
          <a:stretch/>
        </p:blipFill>
        <p:spPr>
          <a:xfrm>
            <a:off x="1692360" y="1089000"/>
            <a:ext cx="6781680" cy="4108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2232000" y="1089000"/>
          <a:ext cx="5815080" cy="46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89000"/>
                    <a:ext cx="581508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11"/>
          <p:cNvSpPr/>
          <p:nvPr/>
        </p:nvSpPr>
        <p:spPr>
          <a:xfrm>
            <a:off x="279072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5-04-24T11:28:04Z</dcterms:modified>
  <cp:revision>12</cp:revision>
  <dc:subject/>
  <dc:title>Окружающий мир  1 класс</dc:title>
</cp:coreProperties>
</file>