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camera.wav" ContentType="audio/x-wav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29.png" ContentType="image/png"/>
  <Override PartName="/ppt/media/image31.png" ContentType="image/png"/>
  <Override PartName="/ppt/media/Whoosh.wav" ContentType="audio/x-wav"/>
  <Override PartName="/ppt/media/image42.png" ContentType="image/png"/>
  <Override PartName="/ppt/media/image43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711E-30E3-4FD2-9FB2-E87A487470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ко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9D1D-DCC2-43E6-ACD8-43DAE53E9ECD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Жук-ол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1B38-6282-4777-BCDE-0B2694B86200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201F-4E44-4616-B622-1B3A803F8B07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AA5B-A780-4934-BE81-79F319680A8D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Пчел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D156-D74D-42BA-87EC-FB6215727DC5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Жук-плаву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AEAD-C95C-48FC-82F5-2FF82EABC42F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Стрек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97AB-70AE-4450-9372-25EA42CBF9BE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Times New Roman"/>
              </a:rPr>
              <a:t>Части</a:t>
            </a:r>
            <a:r>
              <a:rPr b="0" lang="ru-RU" sz="12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ff00"/>
                </a:solidFill>
                <a:latin typeface="Times New Roman"/>
              </a:rPr>
              <a:t>насеко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Го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Брюш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Крылья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99"/>
                </a:solidFill>
                <a:latin typeface="Times New Roman"/>
              </a:rPr>
              <a:t>Грудь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99"/>
                </a:solidFill>
                <a:latin typeface="Times New Roman"/>
              </a:rPr>
              <a:t>Усики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0C90-9D01-4DBC-B7E0-89D4708BF9B3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Превращение баб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ЯЙЦО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547E-D629-4C88-A964-D4ADA998BF45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ГУСЕНИЦА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FA53-B136-41A8-ACA3-AB2393BA6BC4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КУКОЛКА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B714-E989-4EC6-AB45-F579467CA280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ая при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3154-CF9A-42B8-A3D6-771DC1793297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БАБОЧКА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040A-80D4-4E72-910E-8284DB1246F6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евращение баб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73E5-E376-42DC-BC67-E16FE0FD646E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спом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EB86-ABC6-4381-84B1-CF8C6DFC2875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то «лишний»</a:t>
            </a:r>
            <a:r>
              <a:rPr b="1" lang="en-US" sz="1200" spc="-1" strike="noStrike">
                <a:solidFill>
                  <a:srgbClr val="800080"/>
                </a:solidFill>
                <a:latin typeface="Tunga"/>
                <a:ea typeface="Tunga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C8AE-8ED2-490E-BF38-F6AEB6FEE653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справь ошиб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A32B-EEFF-485B-BEFC-C2DE4064AD57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08CD-4970-4B89-9AB4-10D67E118AE2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насеко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Wingdings"/>
                <a:ea typeface="Wingdings"/>
              </a:rPr>
              <a:t>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Почему насекомые так назыв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Wingdings"/>
                <a:ea typeface="Wingdings"/>
              </a:rPr>
              <a:t>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fff00"/>
                </a:solidFill>
                <a:latin typeface="Times New Roman"/>
              </a:rPr>
              <a:t>Какие насекомые быв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ff00"/>
                </a:solidFill>
                <a:latin typeface="Wingdings"/>
                <a:ea typeface="Wingdings"/>
              </a:rPr>
              <a:t>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Times New Roman"/>
              </a:rPr>
              <a:t>Из каких частей состоит насеком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00080"/>
                </a:solidFill>
                <a:latin typeface="Wingdings"/>
                <a:ea typeface="Wingdings"/>
              </a:rPr>
              <a:t>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Как на свет появляются бабоч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6036-ABCB-4C9D-A14B-C02578CD3D14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ие насекомые бы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Бабочка-крапив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95CD-23DE-4964-92F1-76F55BBA16D5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Бабочка-капуст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867F-2F92-48C9-9C82-50553874ADB3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Водомер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98A4-ADAD-4251-B3BC-18D96A0F68BA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Мурав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AF2C-D082-427E-A469-ECCC45BAD87B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Божья коро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F44C-9F24-4AE5-A5A9-8BD5D6E0D666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33A7-7831-41C1-8016-89DC43FC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DE58-B1B3-4020-9826-40F31A89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CF01-F32C-4272-BCF3-9B2255CF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0B9C-FC57-454D-897E-8DD26482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9264-68FA-44E9-96DE-E71D43EA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20C4-1D76-462F-B97A-5D4E0DCF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EA52-8FB7-48D7-BD06-A908454B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42FF-3545-4D93-921D-14E3D4B6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9D46-696E-477D-8FD2-C74207BA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E32D-281F-4CEE-B4AC-758692C7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D199-3D2F-4789-AB88-F07E649B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A75D-56C8-4B74-A723-977C2BFE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C3FA-BE53-467F-8F11-F2CFFF33159E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971640" y="368280"/>
            <a:ext cx="72054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20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1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4c2b"/>
                </a:solidFill>
                <a:latin typeface="Times New Roman"/>
              </a:rPr>
              <a:t>Окружающий мир</a:t>
            </a:r>
            <a:br>
              <a:rPr sz="7000"/>
            </a:br>
            <a:br>
              <a:rPr sz="7000"/>
            </a:br>
            <a:r>
              <a:rPr b="0" lang="ru-RU" sz="7000" spc="-1" strike="noStrike">
                <a:solidFill>
                  <a:srgbClr val="004c2b"/>
                </a:solidFill>
                <a:latin typeface="Times New Roman"/>
              </a:rPr>
              <a:t>Насекомые</a:t>
            </a:r>
            <a:endParaRPr b="0" lang="en-US" sz="7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Жук-олень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20" name="Object 6"/>
          <p:cNvGraphicFramePr/>
          <p:nvPr/>
        </p:nvGraphicFramePr>
        <p:xfrm>
          <a:off x="2232000" y="1033560"/>
          <a:ext cx="502920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1033560"/>
                    <a:ext cx="502920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8400" y="549000"/>
            <a:ext cx="7205760" cy="2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Жук-носорог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2373480" y="982800"/>
            <a:ext cx="4397040" cy="48924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68400" y="367920"/>
            <a:ext cx="720576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96760" y="-359280"/>
            <a:ext cx="72057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Кузнечик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32" name="Object 6"/>
          <p:cNvGraphicFramePr/>
          <p:nvPr/>
        </p:nvGraphicFramePr>
        <p:xfrm>
          <a:off x="1150920" y="1268280"/>
          <a:ext cx="7086600" cy="43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1268280"/>
                    <a:ext cx="708660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Rectangle 7"/>
          <p:cNvSpPr/>
          <p:nvPr/>
        </p:nvSpPr>
        <p:spPr>
          <a:xfrm>
            <a:off x="685800" y="368280"/>
            <a:ext cx="7772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29880" y="-349560"/>
            <a:ext cx="72039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Пчела 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8" name="Picture 14" descr=""/>
          <p:cNvPicPr/>
          <p:nvPr/>
        </p:nvPicPr>
        <p:blipFill>
          <a:blip r:embed="rId1"/>
          <a:stretch/>
        </p:blipFill>
        <p:spPr>
          <a:xfrm>
            <a:off x="1357200" y="1270080"/>
            <a:ext cx="6429600" cy="43164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5"/>
          <p:cNvSpPr/>
          <p:nvPr/>
        </p:nvSpPr>
        <p:spPr>
          <a:xfrm>
            <a:off x="685800" y="368280"/>
            <a:ext cx="7772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8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981080" y="5715000"/>
            <a:ext cx="5105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Жук-плавунец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1"/>
          <a:stretch/>
        </p:blipFill>
        <p:spPr>
          <a:xfrm>
            <a:off x="2382840" y="993600"/>
            <a:ext cx="4290840" cy="47754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2"/>
          <p:cNvGraphicFramePr/>
          <p:nvPr/>
        </p:nvGraphicFramePr>
        <p:xfrm>
          <a:off x="2050920" y="1268280"/>
          <a:ext cx="5791320" cy="40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268280"/>
                    <a:ext cx="579132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3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981080" y="5715000"/>
            <a:ext cx="5105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Стрекоз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13"/>
          <p:cNvGraphicFramePr/>
          <p:nvPr/>
        </p:nvGraphicFramePr>
        <p:xfrm>
          <a:off x="1562040" y="907920"/>
          <a:ext cx="6019920" cy="41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907920"/>
                    <a:ext cx="601992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16"/>
          <p:cNvSpPr/>
          <p:nvPr/>
        </p:nvSpPr>
        <p:spPr>
          <a:xfrm>
            <a:off x="304920" y="4800600"/>
            <a:ext cx="2666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Голова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3276720" y="5715000"/>
            <a:ext cx="2666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Крылья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6781680" y="4724280"/>
            <a:ext cx="266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Грудь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6781680" y="5791320"/>
            <a:ext cx="266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Усики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Line 21"/>
          <p:cNvSpPr/>
          <p:nvPr/>
        </p:nvSpPr>
        <p:spPr>
          <a:xfrm flipV="1">
            <a:off x="4572000" y="1989000"/>
            <a:ext cx="2438280" cy="411480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Line 22"/>
          <p:cNvSpPr/>
          <p:nvPr/>
        </p:nvSpPr>
        <p:spPr>
          <a:xfrm flipH="1" flipV="1">
            <a:off x="3132000" y="4149720"/>
            <a:ext cx="1440000" cy="201456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Line 23"/>
          <p:cNvSpPr/>
          <p:nvPr/>
        </p:nvSpPr>
        <p:spPr>
          <a:xfrm flipV="1">
            <a:off x="1511280" y="2168640"/>
            <a:ext cx="3060720" cy="293688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Line 24"/>
          <p:cNvSpPr/>
          <p:nvPr/>
        </p:nvSpPr>
        <p:spPr>
          <a:xfrm flipH="1" flipV="1">
            <a:off x="4572000" y="2529000"/>
            <a:ext cx="3060720" cy="252072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Line 25"/>
          <p:cNvSpPr/>
          <p:nvPr/>
        </p:nvSpPr>
        <p:spPr>
          <a:xfrm flipV="1">
            <a:off x="2362320" y="3789360"/>
            <a:ext cx="2209680" cy="221616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Line 26"/>
          <p:cNvSpPr/>
          <p:nvPr/>
        </p:nvSpPr>
        <p:spPr>
          <a:xfrm flipH="1" flipV="1">
            <a:off x="5472000" y="1088640"/>
            <a:ext cx="1440000" cy="477036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Line 27"/>
          <p:cNvSpPr/>
          <p:nvPr/>
        </p:nvSpPr>
        <p:spPr>
          <a:xfrm flipH="1" flipV="1">
            <a:off x="3851280" y="1088640"/>
            <a:ext cx="3006720" cy="493092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Text Box 28"/>
          <p:cNvSpPr/>
          <p:nvPr/>
        </p:nvSpPr>
        <p:spPr>
          <a:xfrm>
            <a:off x="380880" y="5715000"/>
            <a:ext cx="266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Брюшко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04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7" name="Rectangle 32"/>
          <p:cNvSpPr/>
          <p:nvPr/>
        </p:nvSpPr>
        <p:spPr>
          <a:xfrm>
            <a:off x="792000" y="368280"/>
            <a:ext cx="7772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ff00"/>
                </a:solidFill>
                <a:latin typeface="Times New Roman"/>
              </a:rPr>
              <a:t>Части</a:t>
            </a:r>
            <a:r>
              <a:rPr b="0" lang="ru-RU" sz="5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ru-RU" sz="5000" spc="-1" strike="noStrike">
                <a:solidFill>
                  <a:srgbClr val="00ff00"/>
                </a:solidFill>
                <a:latin typeface="Times New Roman"/>
              </a:rPr>
              <a:t>насекомого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448920"/>
            <a:ext cx="7204320" cy="2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a50021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173560" y="2773440"/>
            <a:ext cx="344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ЯЙЦО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585720" y="1336680"/>
          <a:ext cx="480708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20" y="1336680"/>
                    <a:ext cx="480708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Object 6"/>
          <p:cNvGraphicFramePr/>
          <p:nvPr/>
        </p:nvGraphicFramePr>
        <p:xfrm>
          <a:off x="1509840" y="1407960"/>
          <a:ext cx="6064200" cy="35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9840" y="1407960"/>
                    <a:ext cx="6064200" cy="35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8"/>
          <p:cNvSpPr/>
          <p:nvPr/>
        </p:nvSpPr>
        <p:spPr>
          <a:xfrm>
            <a:off x="1449360" y="5673600"/>
            <a:ext cx="668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1263600" y="5232240"/>
            <a:ext cx="665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ГУСЕНИЦА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Object 5"/>
          <p:cNvGraphicFramePr/>
          <p:nvPr/>
        </p:nvGraphicFramePr>
        <p:xfrm>
          <a:off x="2262240" y="1236600"/>
          <a:ext cx="4846680" cy="40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2240" y="1236600"/>
                    <a:ext cx="484668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92000" y="549000"/>
            <a:ext cx="7205760" cy="23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263600" y="5232240"/>
            <a:ext cx="665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КУКОЛКА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40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270036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70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0000"/>
                </a:solidFill>
                <a:latin typeface="Times New Roman"/>
              </a:rPr>
              <a:t>Живая природа</a:t>
            </a:r>
            <a:endParaRPr b="0" lang="en-US" sz="7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ff0000"/>
                </a:solidFill>
                <a:latin typeface="Times New Roman"/>
              </a:rPr>
              <a:t>растения</a:t>
            </a:r>
            <a:endParaRPr b="0" lang="en-US" sz="7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Rectangle 1028"/>
          <p:cNvSpPr/>
          <p:nvPr/>
        </p:nvSpPr>
        <p:spPr>
          <a:xfrm>
            <a:off x="4572000" y="549360"/>
            <a:ext cx="4876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7500" spc="-1" strike="noStrike">
                <a:solidFill>
                  <a:srgbClr val="9900cc"/>
                </a:solidFill>
                <a:latin typeface="Times New Roman"/>
              </a:rPr>
              <a:t>животные</a:t>
            </a:r>
            <a:r>
              <a:rPr b="0" lang="ru-RU" sz="75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7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Rectangle 1029"/>
          <p:cNvSpPr/>
          <p:nvPr/>
        </p:nvSpPr>
        <p:spPr>
          <a:xfrm>
            <a:off x="228600" y="4869000"/>
            <a:ext cx="43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7500" spc="-1" strike="noStrike">
                <a:solidFill>
                  <a:srgbClr val="ff0066"/>
                </a:solidFill>
                <a:latin typeface="Times New Roman"/>
              </a:rPr>
              <a:t>бактерии</a:t>
            </a:r>
            <a:endParaRPr b="0" lang="en-US" sz="7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Rectangle 1030"/>
          <p:cNvSpPr/>
          <p:nvPr/>
        </p:nvSpPr>
        <p:spPr>
          <a:xfrm>
            <a:off x="5292720" y="4869000"/>
            <a:ext cx="304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7500" spc="-1" strike="noStrike">
                <a:solidFill>
                  <a:srgbClr val="006600"/>
                </a:solidFill>
                <a:latin typeface="Times New Roman"/>
              </a:rPr>
              <a:t>грибы</a:t>
            </a:r>
            <a:endParaRPr b="0" lang="en-US" sz="7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Line 1036"/>
          <p:cNvSpPr/>
          <p:nvPr/>
        </p:nvSpPr>
        <p:spPr>
          <a:xfrm flipH="1" flipV="1">
            <a:off x="2743200" y="1989000"/>
            <a:ext cx="1828800" cy="106704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Line 1037"/>
          <p:cNvSpPr/>
          <p:nvPr/>
        </p:nvSpPr>
        <p:spPr>
          <a:xfrm flipV="1">
            <a:off x="4572000" y="1989000"/>
            <a:ext cx="1600200" cy="106704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Line 1038"/>
          <p:cNvSpPr/>
          <p:nvPr/>
        </p:nvSpPr>
        <p:spPr>
          <a:xfrm>
            <a:off x="4572000" y="3789360"/>
            <a:ext cx="2057400" cy="91440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Line 1039"/>
          <p:cNvSpPr/>
          <p:nvPr/>
        </p:nvSpPr>
        <p:spPr>
          <a:xfrm flipH="1">
            <a:off x="2590560" y="3789360"/>
            <a:ext cx="1981080" cy="91440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1" name="Picture 1041" descr=""/>
          <p:cNvPicPr/>
          <p:nvPr/>
        </p:nvPicPr>
        <p:blipFill>
          <a:blip r:embed="rId2"/>
          <a:stretch/>
        </p:blipFill>
        <p:spPr>
          <a:xfrm>
            <a:off x="5111640" y="189000"/>
            <a:ext cx="3600720" cy="268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42" descr=""/>
          <p:cNvPicPr/>
          <p:nvPr/>
        </p:nvPicPr>
        <p:blipFill>
          <a:blip r:embed="rId3"/>
          <a:stretch/>
        </p:blipFill>
        <p:spPr>
          <a:xfrm>
            <a:off x="5651640" y="3789360"/>
            <a:ext cx="2425680" cy="2700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43" descr=""/>
          <p:cNvPicPr/>
          <p:nvPr/>
        </p:nvPicPr>
        <p:blipFill>
          <a:blip r:embed="rId4"/>
          <a:stretch/>
        </p:blipFill>
        <p:spPr>
          <a:xfrm>
            <a:off x="792000" y="3968640"/>
            <a:ext cx="3421080" cy="25527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2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2509920" y="824040"/>
          <a:ext cx="3828960" cy="47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920" y="824040"/>
                    <a:ext cx="3828960" cy="47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7"/>
          <p:cNvSpPr/>
          <p:nvPr/>
        </p:nvSpPr>
        <p:spPr>
          <a:xfrm>
            <a:off x="1263600" y="5232240"/>
            <a:ext cx="665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БАБОЧКА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2440" y="24444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5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1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 rot="852600">
            <a:off x="3076560" y="728280"/>
            <a:ext cx="2989440" cy="2111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2"/>
          <a:stretch/>
        </p:blipFill>
        <p:spPr>
          <a:xfrm>
            <a:off x="0" y="2333520"/>
            <a:ext cx="3451320" cy="2291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"/>
          <p:cNvPicPr/>
          <p:nvPr/>
        </p:nvPicPr>
        <p:blipFill>
          <a:blip r:embed="rId3"/>
          <a:stretch/>
        </p:blipFill>
        <p:spPr>
          <a:xfrm rot="492600">
            <a:off x="3024360" y="4321080"/>
            <a:ext cx="2930400" cy="2243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"/>
          <p:cNvPicPr/>
          <p:nvPr/>
        </p:nvPicPr>
        <p:blipFill>
          <a:blip r:embed="rId4"/>
          <a:stretch/>
        </p:blipFill>
        <p:spPr>
          <a:xfrm>
            <a:off x="6192720" y="2349360"/>
            <a:ext cx="2675160" cy="2519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"/>
          <p:cNvPicPr/>
          <p:nvPr/>
        </p:nvPicPr>
        <p:blipFill>
          <a:blip r:embed="rId5"/>
          <a:stretch/>
        </p:blipFill>
        <p:spPr>
          <a:xfrm rot="1174200">
            <a:off x="3806640" y="2521080"/>
            <a:ext cx="2046240" cy="206352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5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7"/>
          <p:cNvGraphicFramePr/>
          <p:nvPr/>
        </p:nvGraphicFramePr>
        <p:xfrm>
          <a:off x="806400" y="1274760"/>
          <a:ext cx="376560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1274760"/>
                    <a:ext cx="37656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6"/>
          <p:cNvGraphicFramePr/>
          <p:nvPr/>
        </p:nvGraphicFramePr>
        <p:xfrm>
          <a:off x="4572000" y="1362240"/>
          <a:ext cx="3665520" cy="498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362240"/>
                    <a:ext cx="3665520" cy="49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3"/>
          <p:cNvGraphicFramePr/>
          <p:nvPr/>
        </p:nvGraphicFramePr>
        <p:xfrm>
          <a:off x="4130640" y="2579760"/>
          <a:ext cx="952560" cy="120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30640" y="2579760"/>
                    <a:ext cx="95256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5"/>
          <p:cNvGraphicFramePr/>
          <p:nvPr/>
        </p:nvGraphicFramePr>
        <p:xfrm>
          <a:off x="4165560" y="3654360"/>
          <a:ext cx="849240" cy="288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65560" y="3654360"/>
                    <a:ext cx="84924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8"/>
          <p:cNvGraphicFramePr/>
          <p:nvPr/>
        </p:nvGraphicFramePr>
        <p:xfrm>
          <a:off x="4259160" y="2165400"/>
          <a:ext cx="695520" cy="55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59160" y="2165400"/>
                    <a:ext cx="6955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9"/>
          <p:cNvGraphicFramePr/>
          <p:nvPr/>
        </p:nvGraphicFramePr>
        <p:xfrm>
          <a:off x="4572000" y="1449360"/>
          <a:ext cx="847800" cy="71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8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1449360"/>
                    <a:ext cx="8478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11"/>
          <p:cNvGraphicFramePr/>
          <p:nvPr/>
        </p:nvGraphicFramePr>
        <p:xfrm>
          <a:off x="3924360" y="1533600"/>
          <a:ext cx="647640" cy="714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0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24360" y="1533600"/>
                    <a:ext cx="6476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13"/>
          <p:cNvGraphicFramePr/>
          <p:nvPr/>
        </p:nvGraphicFramePr>
        <p:xfrm>
          <a:off x="3222720" y="2743200"/>
          <a:ext cx="2762280" cy="202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22720" y="2743200"/>
                    <a:ext cx="276228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14"/>
          <p:cNvSpPr/>
          <p:nvPr/>
        </p:nvSpPr>
        <p:spPr>
          <a:xfrm>
            <a:off x="880920" y="368280"/>
            <a:ext cx="738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800080"/>
                </a:solidFill>
                <a:latin typeface="Arial"/>
              </a:rPr>
              <a:t>вспомним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800080"/>
                </a:solidFill>
                <a:latin typeface="Times New Roman"/>
              </a:rPr>
              <a:t>Кто «лишний»</a:t>
            </a:r>
            <a:r>
              <a:rPr b="1" lang="en-US" sz="4100" spc="-1" strike="noStrike">
                <a:solidFill>
                  <a:srgbClr val="800080"/>
                </a:solidFill>
                <a:latin typeface="Tunga"/>
                <a:ea typeface="Tunga"/>
              </a:rPr>
              <a:t>?</a:t>
            </a:r>
            <a:endParaRPr b="0" lang="en-US" sz="41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16" name="Object 9"/>
          <p:cNvGraphicFramePr/>
          <p:nvPr/>
        </p:nvGraphicFramePr>
        <p:xfrm>
          <a:off x="3311640" y="728640"/>
          <a:ext cx="1942920" cy="18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1640" y="728640"/>
                    <a:ext cx="1942920" cy="18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Picture 11" descr=""/>
          <p:cNvPicPr/>
          <p:nvPr/>
        </p:nvPicPr>
        <p:blipFill>
          <a:blip r:embed="rId3"/>
          <a:stretch/>
        </p:blipFill>
        <p:spPr>
          <a:xfrm>
            <a:off x="6372360" y="907920"/>
            <a:ext cx="2066760" cy="1800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"/>
          <p:cNvPicPr/>
          <p:nvPr/>
        </p:nvPicPr>
        <p:blipFill>
          <a:blip r:embed="rId4"/>
          <a:stretch/>
        </p:blipFill>
        <p:spPr>
          <a:xfrm>
            <a:off x="611280" y="907920"/>
            <a:ext cx="2066760" cy="1621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"/>
          <p:cNvPicPr/>
          <p:nvPr/>
        </p:nvPicPr>
        <p:blipFill>
          <a:blip r:embed="rId5"/>
          <a:stretch/>
        </p:blipFill>
        <p:spPr>
          <a:xfrm>
            <a:off x="3686040" y="270828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"/>
          <p:cNvPicPr/>
          <p:nvPr/>
        </p:nvPicPr>
        <p:blipFill>
          <a:blip r:embed="rId6"/>
          <a:stretch/>
        </p:blipFill>
        <p:spPr>
          <a:xfrm>
            <a:off x="6551640" y="4329000"/>
            <a:ext cx="1771560" cy="19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Object 7"/>
          <p:cNvGraphicFramePr/>
          <p:nvPr/>
        </p:nvGraphicFramePr>
        <p:xfrm>
          <a:off x="3492360" y="4869000"/>
          <a:ext cx="2159280" cy="1506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92360" y="4869000"/>
                    <a:ext cx="2159280" cy="15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Text Box 18"/>
          <p:cNvSpPr/>
          <p:nvPr/>
        </p:nvSpPr>
        <p:spPr>
          <a:xfrm>
            <a:off x="431640" y="216864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2951280" y="907920"/>
            <a:ext cx="54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6192720" y="216864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Text Box 22"/>
          <p:cNvSpPr/>
          <p:nvPr/>
        </p:nvSpPr>
        <p:spPr>
          <a:xfrm>
            <a:off x="3132000" y="270828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2771640" y="540864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3851280" y="558972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7993080" y="378936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1" name="Picture 15" descr=""/>
          <p:cNvPicPr/>
          <p:nvPr/>
        </p:nvPicPr>
        <p:blipFill>
          <a:blip r:embed="rId9"/>
          <a:stretch/>
        </p:blipFill>
        <p:spPr>
          <a:xfrm>
            <a:off x="792000" y="4329000"/>
            <a:ext cx="1800360" cy="20671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11841E-006 L 0.31493 -0.25555 E">
                                      <p:cBhvr>
                                        <p:cTn id="610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2" dur="2000" fill="hold"/>
                                        <p:tgtEl>
                                          <p:spTgt spid="23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2440" y="24444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5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800080"/>
                </a:solidFill>
                <a:latin typeface="Times New Roman"/>
              </a:rPr>
              <a:t>Исправь ошибку</a:t>
            </a:r>
            <a:endParaRPr b="0" lang="en-US" sz="41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rcRect l="8293" t="0" r="7272" b="0"/>
          <a:stretch/>
        </p:blipFill>
        <p:spPr>
          <a:xfrm rot="852600">
            <a:off x="431280" y="2373120"/>
            <a:ext cx="2524320" cy="2111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rcRect l="10442" t="0" r="11324" b="0"/>
          <a:stretch/>
        </p:blipFill>
        <p:spPr>
          <a:xfrm>
            <a:off x="3492360" y="1138320"/>
            <a:ext cx="2700360" cy="2290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3"/>
          <a:stretch/>
        </p:blipFill>
        <p:spPr>
          <a:xfrm rot="492600">
            <a:off x="6213600" y="2306520"/>
            <a:ext cx="2930400" cy="2243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4"/>
          <a:stretch/>
        </p:blipFill>
        <p:spPr>
          <a:xfrm>
            <a:off x="3492360" y="4338720"/>
            <a:ext cx="2675160" cy="2519280"/>
          </a:xfrm>
          <a:prstGeom prst="rect">
            <a:avLst/>
          </a:prstGeom>
          <a:ln w="0">
            <a:noFill/>
          </a:ln>
        </p:spPr>
      </p:pic>
      <p:cxnSp>
        <p:nvCxnSpPr>
          <p:cNvPr id="238" name="AutoShape 12"/>
          <p:cNvCxnSpPr>
            <a:stCxn id="234" idx="0"/>
          </p:cNvCxnSpPr>
          <p:nvPr/>
        </p:nvCxnSpPr>
        <p:spPr>
          <a:xfrm flipH="1" flipV="1" rot="5400000">
            <a:off x="2386440" y="1373760"/>
            <a:ext cx="597600" cy="146592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9" name="AutoShape 13"/>
          <p:cNvCxnSpPr>
            <a:endCxn id="236" idx="0"/>
          </p:cNvCxnSpPr>
          <p:nvPr/>
        </p:nvCxnSpPr>
        <p:spPr>
          <a:xfrm>
            <a:off x="6372360" y="1449360"/>
            <a:ext cx="1465920" cy="86904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0" name="AutoShape 14"/>
          <p:cNvCxnSpPr>
            <a:stCxn id="236" idx="2"/>
            <a:endCxn id="237" idx="3"/>
          </p:cNvCxnSpPr>
          <p:nvPr/>
        </p:nvCxnSpPr>
        <p:spPr>
          <a:xfrm rot="5400000">
            <a:off x="6311520" y="4392720"/>
            <a:ext cx="1062720" cy="135108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1" name="AutoShape 15"/>
          <p:cNvCxnSpPr>
            <a:endCxn id="234" idx="2"/>
          </p:cNvCxnSpPr>
          <p:nvPr/>
        </p:nvCxnSpPr>
        <p:spPr>
          <a:xfrm rot="10800000">
            <a:off x="1432800" y="4450680"/>
            <a:ext cx="1880280" cy="95796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53469E-006 L 0.31476 -0.23613 E">
                                      <p:cBhvr>
                                        <p:cTn id="632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34135E-006 L 0.32622 -0.31591 E">
                                      <p:cBhvr>
                                        <p:cTn id="634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9 0.00024 L -0.32517 0.31522 E">
                                      <p:cBhvr>
                                        <p:cTn id="636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51 0.06915 L -0.40364 0.21948 E">
                                      <p:cBhvr>
                                        <p:cTn id="63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8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990099"/>
                </a:solidFill>
                <a:latin typeface="Times New Roman"/>
              </a:rPr>
              <a:t>животные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685800" y="609480"/>
            <a:ext cx="33526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Тело покрыто шерстью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Text Box 32"/>
          <p:cNvSpPr/>
          <p:nvPr/>
        </p:nvSpPr>
        <p:spPr>
          <a:xfrm>
            <a:off x="5111640" y="549360"/>
            <a:ext cx="33530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Тело покрыто перьями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457200" y="4114800"/>
            <a:ext cx="3886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Times New Roman"/>
              </a:rPr>
              <a:t>Тело покрыто скользкой чешуёй.</a:t>
            </a:r>
            <a:endParaRPr b="0" lang="en-US" sz="4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Text Box 35"/>
          <p:cNvSpPr/>
          <p:nvPr/>
        </p:nvSpPr>
        <p:spPr>
          <a:xfrm rot="16200000">
            <a:off x="628560" y="2545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0" name="Picture 40" descr=""/>
          <p:cNvPicPr/>
          <p:nvPr/>
        </p:nvPicPr>
        <p:blipFill>
          <a:blip r:embed="rId1"/>
          <a:stretch/>
        </p:blipFill>
        <p:spPr>
          <a:xfrm rot="20725800">
            <a:off x="1150920" y="367920"/>
            <a:ext cx="3029040" cy="3060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7" descr=""/>
          <p:cNvPicPr/>
          <p:nvPr/>
        </p:nvPicPr>
        <p:blipFill>
          <a:blip r:embed="rId2"/>
          <a:stretch/>
        </p:blipFill>
        <p:spPr>
          <a:xfrm>
            <a:off x="4392720" y="189000"/>
            <a:ext cx="3960720" cy="2717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8" descr=""/>
          <p:cNvPicPr/>
          <p:nvPr/>
        </p:nvPicPr>
        <p:blipFill>
          <a:blip r:embed="rId3"/>
          <a:stretch/>
        </p:blipFill>
        <p:spPr>
          <a:xfrm>
            <a:off x="1150920" y="3968640"/>
            <a:ext cx="3421080" cy="2068560"/>
          </a:xfrm>
          <a:prstGeom prst="rect">
            <a:avLst/>
          </a:prstGeom>
          <a:ln w="0">
            <a:noFill/>
          </a:ln>
        </p:spPr>
      </p:pic>
      <p:sp>
        <p:nvSpPr>
          <p:cNvPr id="73" name="WordArt 51"/>
          <p:cNvSpPr txBox="1"/>
          <p:nvPr/>
        </p:nvSpPr>
        <p:spPr>
          <a:xfrm rot="5400000">
            <a:off x="-829440" y="1448640"/>
            <a:ext cx="28814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ВЕР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4" name="WordArt 52"/>
          <p:cNvSpPr txBox="1"/>
          <p:nvPr/>
        </p:nvSpPr>
        <p:spPr>
          <a:xfrm rot="5400000">
            <a:off x="6912720" y="1448640"/>
            <a:ext cx="28814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ТИ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5" name="WordArt 53"/>
          <p:cNvSpPr txBox="1"/>
          <p:nvPr/>
        </p:nvSpPr>
        <p:spPr>
          <a:xfrm rot="5400000">
            <a:off x="-829440" y="4688640"/>
            <a:ext cx="28814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РЫ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6" name="Text Box 56"/>
          <p:cNvSpPr/>
          <p:nvPr/>
        </p:nvSpPr>
        <p:spPr>
          <a:xfrm>
            <a:off x="6012000" y="3968640"/>
            <a:ext cx="1800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0000"/>
                </a:solidFill>
                <a:latin typeface="Tunga"/>
                <a:ea typeface="Tunga"/>
              </a:rPr>
              <a:t>?</a:t>
            </a:r>
            <a:endParaRPr b="0" lang="en-US" sz="2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Text Box 62"/>
          <p:cNvSpPr/>
          <p:nvPr/>
        </p:nvSpPr>
        <p:spPr>
          <a:xfrm>
            <a:off x="4392720" y="3789360"/>
            <a:ext cx="38941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Шесть лапок, есть крылья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WordArt 63"/>
          <p:cNvSpPr txBox="1"/>
          <p:nvPr/>
        </p:nvSpPr>
        <p:spPr>
          <a:xfrm>
            <a:off x="5111640" y="4508640"/>
            <a:ext cx="3600720" cy="90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4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секом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9" name="WordArt 64"/>
          <p:cNvSpPr txBox="1"/>
          <p:nvPr/>
        </p:nvSpPr>
        <p:spPr>
          <a:xfrm rot="5400000">
            <a:off x="6913080" y="4508280"/>
            <a:ext cx="3060720" cy="90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24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секом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0" dur="1" fill="hold"/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1" descr=""/>
          <p:cNvPicPr/>
          <p:nvPr/>
        </p:nvPicPr>
        <p:blipFill>
          <a:blip r:embed="rId1"/>
          <a:stretch/>
        </p:blipFill>
        <p:spPr>
          <a:xfrm>
            <a:off x="250920" y="368280"/>
            <a:ext cx="3149640" cy="2685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0" y="189000"/>
            <a:ext cx="8353440" cy="58878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"/>
          <p:cNvSpPr/>
          <p:nvPr/>
        </p:nvSpPr>
        <p:spPr>
          <a:xfrm rot="18424800">
            <a:off x="3733560" y="3366000"/>
            <a:ext cx="4284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00"/>
                </a:solidFill>
                <a:latin typeface="Arial"/>
              </a:rPr>
              <a:t>Энциклопедия</a:t>
            </a:r>
            <a:r>
              <a:rPr b="0" lang="ru-RU" sz="33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31640" y="1267920"/>
            <a:ext cx="63327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Times New Roman"/>
              </a:rPr>
              <a:t>насекомые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431640" y="3100320"/>
            <a:ext cx="94172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Wingdings"/>
                <a:ea typeface="Wingdings"/>
              </a:rPr>
              <a:t>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700" spc="-1" strike="noStrike">
                <a:solidFill>
                  <a:srgbClr val="ff0000"/>
                </a:solidFill>
                <a:latin typeface="Times New Roman"/>
              </a:rPr>
              <a:t>Почему насекомые так называются?</a:t>
            </a:r>
            <a:endParaRPr b="0" lang="en-US" sz="3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431640" y="396864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Wingdings"/>
                <a:ea typeface="Wingdings"/>
              </a:rPr>
              <a:t>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Какие насекомые бывают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431640" y="5589720"/>
            <a:ext cx="84614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80"/>
                </a:solidFill>
                <a:latin typeface="Wingdings"/>
                <a:ea typeface="Wingdings"/>
              </a:rPr>
              <a:t>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3700" spc="-1" strike="noStrike">
                <a:solidFill>
                  <a:srgbClr val="800080"/>
                </a:solidFill>
                <a:latin typeface="Times New Roman"/>
              </a:rPr>
              <a:t>Как на свет появляются бабочки?</a:t>
            </a:r>
            <a:endParaRPr b="0" lang="en-US" sz="3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431640" y="4869000"/>
            <a:ext cx="90014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ff00"/>
                </a:solidFill>
                <a:latin typeface="Wingdings"/>
                <a:ea typeface="Wingdings"/>
              </a:rPr>
              <a:t></a:t>
            </a: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3700" spc="-1" strike="noStrike">
                <a:solidFill>
                  <a:srgbClr val="00ff00"/>
                </a:solidFill>
                <a:latin typeface="Times New Roman"/>
              </a:rPr>
              <a:t>Из каких частей состоит насекомое?</a:t>
            </a:r>
            <a:endParaRPr b="0" lang="en-US" sz="3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73 0.22039 L -0.11424 -0.30528 E">
                                      <p:cBhvr>
                                        <p:cTn id="186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01 0.05551 L -0.28056 -0.39084 E">
                                      <p:cBhvr>
                                        <p:cTn id="188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23000" y="23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23000" y="23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2"/>
          <p:cNvSpPr/>
          <p:nvPr/>
        </p:nvSpPr>
        <p:spPr>
          <a:xfrm>
            <a:off x="1905120" y="57913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1143000" y="5638680"/>
            <a:ext cx="6781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99"/>
                </a:solidFill>
                <a:latin typeface="Times New Roman"/>
              </a:rPr>
              <a:t>Бабочка-крапивниц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2" name="Picture 17" descr="e001"/>
          <p:cNvPicPr/>
          <p:nvPr/>
        </p:nvPicPr>
        <p:blipFill>
          <a:blip r:embed="rId1"/>
          <a:stretch/>
        </p:blipFill>
        <p:spPr>
          <a:xfrm>
            <a:off x="1150920" y="907920"/>
            <a:ext cx="7543800" cy="4632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5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Бабочка-капустниц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97" name="Object 7"/>
          <p:cNvGraphicFramePr/>
          <p:nvPr/>
        </p:nvGraphicFramePr>
        <p:xfrm>
          <a:off x="2232000" y="728640"/>
          <a:ext cx="548640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728640"/>
                    <a:ext cx="548640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1905120" y="57913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143000" y="5638680"/>
            <a:ext cx="6781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Водомерк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03" name="Object 8"/>
          <p:cNvGraphicFramePr/>
          <p:nvPr/>
        </p:nvGraphicFramePr>
        <p:xfrm>
          <a:off x="2209680" y="1066680"/>
          <a:ext cx="487692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066680"/>
                    <a:ext cx="487692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6760" y="390240"/>
            <a:ext cx="7205760" cy="51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1905120" y="57913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143000" y="5638680"/>
            <a:ext cx="6781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Муравей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9" name="Picture 6" descr="e003"/>
          <p:cNvPicPr/>
          <p:nvPr/>
        </p:nvPicPr>
        <p:blipFill>
          <a:blip r:embed="rId1"/>
          <a:stretch/>
        </p:blipFill>
        <p:spPr>
          <a:xfrm>
            <a:off x="1692360" y="1089000"/>
            <a:ext cx="6781680" cy="41083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96760" y="390240"/>
            <a:ext cx="7205760" cy="2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Божья коровк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13" name="Object 9"/>
          <p:cNvGraphicFramePr/>
          <p:nvPr/>
        </p:nvGraphicFramePr>
        <p:xfrm>
          <a:off x="2232000" y="1089000"/>
          <a:ext cx="5815080" cy="46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1089000"/>
                    <a:ext cx="581508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11"/>
          <p:cNvSpPr/>
          <p:nvPr/>
        </p:nvSpPr>
        <p:spPr>
          <a:xfrm>
            <a:off x="279072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8400" y="549000"/>
            <a:ext cx="7205760" cy="2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5-04-24T11:28:04Z</dcterms:modified>
  <cp:revision>12</cp:revision>
  <dc:subject/>
  <dc:title>Окружающий мир  1 класс</dc:title>
</cp:coreProperties>
</file>