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71156C-F003-4CB8-9B96-3ED4D2549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: ученица 3 класса «Б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ь Маргар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ECF0B2-E2E2-4E9A-8591-123057D3949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212202-77DE-4BF1-8A63-56FD8BA54D3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Фармацевты изготавливают разнообразные антибиотики, вакцины, ферменты, витамины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972757-E52F-42A2-96BF-E0E56FD5644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0C592A-9DF4-4A79-B0DC-CEE404C02B7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вызывают различны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369A30-FBAC-49AB-9E1B-63985B4D98E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молочнокислые бактерии сквашивают свежее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96CE1A-41F0-4470-B1C1-04D92779DBE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дрожжи приводят к брожению и закисанию соков и пл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8F633F-89FD-47C9-8321-8FB01421000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одукты покрываются плесен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6B6AB1-45ED-4443-B281-482447A86C6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обезопасить себя от вредных бактерий и подружиться с полезными нуж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руки перед едой и после возвращения домой откуда бы то ни был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овощи и фру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ледить за сроками годности проду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 период эпидемий ограничивать контакт с возможными носителям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1D3190-E9B9-4AF7-A2DB-9902F492F7B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ЛИТЕРАТУРА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vnssr.my1.ru/news/ljudi_protiv_bakterij_mediki_proigryvajut/2011-06-19-2343 </a:t>
            </a:r>
            <a:br>
              <a:rPr sz="1200"/>
            </a:b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pavlo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info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categ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_4/31166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ml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arbyz.com/post.php?cat=22&amp;mir=9319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zeftera.ru/tag/rany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home-edu.ru/user/uatml/00000540/rot/tolstyj.htm?page=print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www.zakvaska.in.ua/posts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utno.ru/2009-11-14-19-27-29/870-recipe-for-yeast-dough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ed3.ru/vlogenie/10/11.php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zahystroslyn.com.ua/ru/tag/ximiya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findmapplaces.com/9393423_силосные+ямы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edomosti.ru/newsline/2009/10/05/2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pressfoto.ru/photo.html?p_id=19102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oman.mobus.com/sec/mednews?order=popular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ovary.com/page/63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cosmoisida.ru/zdorove/190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ostok.spb.ru/catalog64/models65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batfx.com/lofiversion/index.php/t1103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adlingercys.livejournal.com/140521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ml52.ru/sml/fiziko-mehanicheskie-svoystva/antiseptichnost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htiziatr.ru/news/?pag=11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newsland.ru/index/news/cat/37/ord/9/tag/0/page/264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8a.ru/print/23532.php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ribalych.ru/2010/11/22/obshhie-svedeniya-o-bakteriyax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allwomens.ru/5541-kakie-byvayut-poleznye-bakterii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knowbiology.ru/mikroorganizmi/poleznye--bakterii.html</a:t>
            </a:r>
            <a:br>
              <a:rPr sz="105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A6B760-3165-4864-ABA5-2E2AEDDBCCE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о форме различают бактерии шаровидные и палочков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B5FB78-4527-45D2-A123-F2A56978964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 неподвижные и подвижные  (активно передвигающиеся при помощи жгут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986BA0-F4A6-4EEB-AFF2-951F54427D9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полез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опас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EFDDA5-86F6-4948-949D-D07980108C2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BE8D88-ABF5-4CB6-89E8-5C095D95238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Скисание молока в разнообразные кисломолочные продук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7CD5FD-E318-4A56-9759-954E71A4ABF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сделали хлеб из дрожжевого теста пышным, лучше пропекаем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6882DD-93B3-4DA1-929F-669283C3B89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ез бактерий не было бы маринованных ово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6296F3-1D93-4E6F-835D-ED0600267E5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64DAD4-56B7-4443-9443-2BBA7B18B3F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2B3-5DFB-4661-829E-CF3F34F7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6AC-5846-4EA6-A407-102757C9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C33-57D6-483C-8A22-56708D49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730-9220-476F-B762-09AFABAD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7C98-A396-453D-9A1D-27CFC923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443B-E5F3-4DA6-8EB2-C04ABD39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805A-9583-4905-A302-7A77EE05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5FF8-6E6B-42D4-976B-D5ECE295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B446-6379-42E2-8BAF-9C9A5FF9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F7F9-3FC0-4509-A037-9EED7C9B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9D4E-DA68-41B3-B493-14239999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A44-925B-43D2-A24C-ED6F1E3B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2FA4-30FC-4682-B48B-B8B3CDB5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5965-BD89-4581-AF4B-83ABFAD3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AFA5-9361-40BC-9C16-C57A1674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6271-65AD-4DD6-807C-ACDE9B66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B032-B9C8-4715-B796-B36A7A0A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386D3-B515-46FD-8B28-3825300E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C67F9-B9E6-45A2-A2E7-D943CB80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E549-6DDA-478B-9C2D-13373A1C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8301-69AB-4C7C-ACF9-2944CA07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D5F9-88EF-4FF9-AF58-73DA068F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CF2-B331-440D-9E5E-BBEA7984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3F4C-E57D-4C88-B0CE-1D760562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D911-CBE4-4A38-A139-3492DA15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F15D4-DAA2-496F-BBEA-B47EB5EA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0633-BFD7-4F9A-AF0A-C5E6727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FCB8-9228-4B93-938E-46A988A5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65D06-358E-4E1D-A354-145F9C79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47875-1210-4D50-BB32-C8BBC4CC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66C2A-5379-428E-B89E-9BC90CB0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CB43-5B12-406E-9E8B-95480F15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9927-C6F4-4980-8587-ABE6C4C8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7BC-989E-41F1-9D85-D91DAE78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ABA9-CB41-4DB1-BE41-AF5290D3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6D503-2272-4D29-9618-0F81328B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5B5D-9BB6-4921-A7AE-56E03014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AD07-E749-47FF-8496-8137AE7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D1F1-D895-4E60-91A7-9477A07B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DF32D-42F4-4854-A554-C8C2C21E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D72F-805F-429F-B1EF-F05466E3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759D1-24BB-48E8-938C-75412AE7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CBE9E-289D-4073-BB0E-2D985E27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486-9229-4C39-ADBF-9B9C443D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FF8-82B0-4120-BB7B-D3A0D5F1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464-3BF0-48D2-BA65-96158C4C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2F7-8AF3-46B2-9BD6-A336F6CA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018-F3AE-4F4A-B04A-65DFB515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ОБРАЗЕЦ  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866804-A755-4AD8-A5AA-C814A8F785E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A03E80-5E76-4D57-9E23-CBDD65FFC43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031BF8-EA8E-481B-86D9-3BB6D4BFF00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EF1E7E-097D-4241-9CFE-1285189049F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ibalych.ru/wp-content/uploads/2010/11/Mychota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БАКТЕРИИ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00200" y="5500800"/>
            <a:ext cx="6400440" cy="120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Выполнила: ученица 3 класса «Б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              </a:t>
            </a: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Биль Маргар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" name="Содержимое 6" descr="silosnie-yami_397509.jpg"/>
          <p:cNvPicPr/>
          <p:nvPr/>
        </p:nvPicPr>
        <p:blipFill>
          <a:blip r:embed="rId1"/>
          <a:stretch/>
        </p:blipFill>
        <p:spPr>
          <a:xfrm>
            <a:off x="1785960" y="2214720"/>
            <a:ext cx="5730840" cy="42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армацевты изготавливают разнообразные антибиотики, вакцины, ферменты, витамины..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Содержимое 5" descr="436905_53390411.jpg"/>
          <p:cNvPicPr/>
          <p:nvPr/>
        </p:nvPicPr>
        <p:blipFill>
          <a:blip r:embed="rId1"/>
          <a:stretch/>
        </p:blipFill>
        <p:spPr>
          <a:xfrm>
            <a:off x="2286000" y="2143080"/>
            <a:ext cx="5111280" cy="42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392868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Содержимое 6" descr="stock-photo-viruses-54416914.jpg"/>
          <p:cNvPicPr/>
          <p:nvPr/>
        </p:nvPicPr>
        <p:blipFill>
          <a:blip r:embed="rId1"/>
          <a:stretch/>
        </p:blipFill>
        <p:spPr>
          <a:xfrm>
            <a:off x="4357800" y="1428840"/>
            <a:ext cx="445356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вызывают различные инфекционные заболевания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Содержимое 5" descr="difteriya.jpg"/>
          <p:cNvPicPr/>
          <p:nvPr/>
        </p:nvPicPr>
        <p:blipFill>
          <a:blip r:embed="rId1"/>
          <a:stretch/>
        </p:blipFill>
        <p:spPr>
          <a:xfrm>
            <a:off x="1643040" y="2000160"/>
            <a:ext cx="5878800" cy="43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лочнокислые бактерии сквашивают свежее молоко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Содержимое 6" descr="P8174944.jpg"/>
          <p:cNvPicPr/>
          <p:nvPr/>
        </p:nvPicPr>
        <p:blipFill>
          <a:blip r:embed="rId1"/>
          <a:stretch/>
        </p:blipFill>
        <p:spPr>
          <a:xfrm>
            <a:off x="2643120" y="209052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ожжи приводят к брожению и закисанию соков и плодов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Содержимое 5" descr="609.jpg"/>
          <p:cNvPicPr/>
          <p:nvPr/>
        </p:nvPicPr>
        <p:blipFill>
          <a:blip r:embed="rId1"/>
          <a:stretch/>
        </p:blipFill>
        <p:spPr>
          <a:xfrm>
            <a:off x="2000160" y="2428920"/>
            <a:ext cx="5357520" cy="40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дукты покрываются плесенью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Содержимое 6" descr="Botrytis_cinerea_1_JS20040705.jpg"/>
          <p:cNvPicPr/>
          <p:nvPr/>
        </p:nvPicPr>
        <p:blipFill>
          <a:blip r:embed="rId1"/>
          <a:stretch/>
        </p:blipFill>
        <p:spPr>
          <a:xfrm>
            <a:off x="2214720" y="1714320"/>
            <a:ext cx="5111280" cy="427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Дом\Pictures\22229.jpg"/>
          <p:cNvPicPr/>
          <p:nvPr/>
        </p:nvPicPr>
        <p:blipFill>
          <a:blip r:embed="rId1"/>
          <a:stretch/>
        </p:blipFill>
        <p:spPr>
          <a:xfrm>
            <a:off x="4714920" y="3286080"/>
            <a:ext cx="4214520" cy="3396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Дом\Pictures\iCADGUW4A.jpg"/>
          <p:cNvPicPr/>
          <p:nvPr/>
        </p:nvPicPr>
        <p:blipFill>
          <a:blip r:embed="rId2"/>
          <a:stretch/>
        </p:blipFill>
        <p:spPr>
          <a:xfrm>
            <a:off x="214200" y="3500280"/>
            <a:ext cx="2999880" cy="299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Чтобы обезопасить себя от вредных бактерий и подружиться с полезными нужно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руки перед едой и после возвращения домой откуда бы то ни было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овощи и фрукты;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следить за сроками годности продуктов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 период эпидемий ограничивать контакт с возможными носителями инфекци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1" name="Picture 3" descr="C:\Users\Дом\Pictures\Beauty-Kitchen-6.jpg"/>
          <p:cNvPicPr/>
          <p:nvPr/>
        </p:nvPicPr>
        <p:blipFill>
          <a:blip r:embed="rId3"/>
          <a:stretch/>
        </p:blipFill>
        <p:spPr>
          <a:xfrm>
            <a:off x="1785960" y="4000680"/>
            <a:ext cx="3762000" cy="250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3577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ЛИТЕРАТУРА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vnssr.my1.ru/news/ljudi_protiv_bakterij_mediki_proigryvajut/2011-06-19-2343 </a:t>
            </a:r>
            <a:br>
              <a:rPr sz="1600"/>
            </a:b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:/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pavlo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info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categ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_4/31166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ml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arbyz.com/post.php?cat=22&amp;mir=9319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zeftera.ru/tag/rany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home-edu.ru/user/uatml/00000540/rot/tolstyj.htm?page=print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www.zakvaska.in.ua/posts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utno.ru/2009-11-14-19-27-29/870-recipe-for-yeast-dough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ed3.ru/vlogenie/10/11.php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zahystroslyn.com.ua/ru/tag/ximiya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findmapplaces.com/9393423_силосные+ямы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edomosti.ru/newsline/2009/10/05/2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pressfoto.ru/photo.html?p_id=19102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oman.mobus.com/sec/mednews?order=popular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ovary.com/page/63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cosmoisida.ru/zdorove/190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ostok.spb.ru/catalog64/models65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batfx.com/lofiversion/index.php/t1103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adlingercys.livejournal.com/140521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ml52.ru/sml/fiziko-mehanicheskie-svoystva/antiseptichnost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htiziatr.ru/news/?pag=11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newsland.ru/index/news/cat/37/ord/9/tag/0/page/264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8a.ru/print/23532.php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ribalych.ru/2010/11/22/obshhie-svedeniya-o-bakteriyax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allwomens.ru/5541-kakie-byvayut-poleznye-bakterii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knowbiology.ru/mikroorganizmi/poleznye--bakterii.html</a:t>
            </a:r>
            <a:br>
              <a:rPr sz="1200"/>
            </a:br>
            <a:br>
              <a:rPr sz="14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400600" cy="20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форме различают бактерии шаровидные и палочковид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Содержимое 6" descr="бактер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3500280"/>
            <a:ext cx="3857400" cy="2561760"/>
          </a:xfrm>
          <a:prstGeom prst="rect">
            <a:avLst/>
          </a:prstGeom>
          <a:ln w="9525">
            <a:noFill/>
          </a:ln>
        </p:spPr>
      </p:pic>
      <p:pic>
        <p:nvPicPr>
          <p:cNvPr id="179" name="Рисунок 7" descr="Полезные  бактерии"/>
          <p:cNvPicPr/>
          <p:nvPr/>
        </p:nvPicPr>
        <p:blipFill>
          <a:blip r:embed="rId3"/>
          <a:stretch/>
        </p:blipFill>
        <p:spPr>
          <a:xfrm>
            <a:off x="5286240" y="3143160"/>
            <a:ext cx="3329640" cy="332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36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бывают неподвижные и подвижные  (активно передвигающиеся при помощи жгутик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одержимое 6" descr="fee22c7023124124e303f817cce6e148_nfee22c7023124124e303f817cce6e148.jpg"/>
          <p:cNvPicPr/>
          <p:nvPr/>
        </p:nvPicPr>
        <p:blipFill>
          <a:blip r:embed="rId1"/>
          <a:stretch/>
        </p:blipFill>
        <p:spPr>
          <a:xfrm>
            <a:off x="457200" y="2570760"/>
            <a:ext cx="4039920" cy="315900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9" descr="ecoli.jpg"/>
          <p:cNvPicPr/>
          <p:nvPr/>
        </p:nvPicPr>
        <p:blipFill>
          <a:blip r:embed="rId2"/>
          <a:stretch/>
        </p:blipFill>
        <p:spPr>
          <a:xfrm>
            <a:off x="5044680" y="2174760"/>
            <a:ext cx="3241800" cy="395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4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ктерии бывают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8571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ез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8571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Содержимое 10" descr="1363-Meyveler.jpg"/>
          <p:cNvPicPr/>
          <p:nvPr/>
        </p:nvPicPr>
        <p:blipFill>
          <a:blip r:embed="rId1"/>
          <a:stretch/>
        </p:blipFill>
        <p:spPr>
          <a:xfrm>
            <a:off x="214200" y="1500120"/>
            <a:ext cx="4029480" cy="30222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6" descr="i.jpg"/>
          <p:cNvPicPr/>
          <p:nvPr/>
        </p:nvPicPr>
        <p:blipFill>
          <a:blip r:embed="rId2"/>
          <a:stretch/>
        </p:blipFill>
        <p:spPr>
          <a:xfrm>
            <a:off x="857160" y="3000240"/>
            <a:ext cx="2857320" cy="342864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13" descr="genericwarning.jpg"/>
          <p:cNvPicPr/>
          <p:nvPr/>
        </p:nvPicPr>
        <p:blipFill>
          <a:blip r:embed="rId3"/>
          <a:stretch/>
        </p:blipFill>
        <p:spPr>
          <a:xfrm>
            <a:off x="4714920" y="1500120"/>
            <a:ext cx="4041360" cy="354276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7" descr="iCAW8CVZS.jpg"/>
          <p:cNvPicPr/>
          <p:nvPr/>
        </p:nvPicPr>
        <p:blipFill>
          <a:blip r:embed="rId4"/>
          <a:stretch/>
        </p:blipFill>
        <p:spPr>
          <a:xfrm>
            <a:off x="4572000" y="3071880"/>
            <a:ext cx="4041360" cy="3044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4" descr="4desktop_ru_Klenoviy_listok_1152_4814.jpg"/>
          <p:cNvPicPr/>
          <p:nvPr/>
        </p:nvPicPr>
        <p:blipFill>
          <a:blip r:embed="rId1"/>
          <a:stretch/>
        </p:blipFill>
        <p:spPr>
          <a:xfrm>
            <a:off x="2143080" y="2643120"/>
            <a:ext cx="5111280" cy="3833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исание молока в разнообразные кисломолочные продукт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Содержимое 8" descr="main_big.jpg"/>
          <p:cNvPicPr/>
          <p:nvPr/>
        </p:nvPicPr>
        <p:blipFill>
          <a:blip r:embed="rId1"/>
          <a:stretch/>
        </p:blipFill>
        <p:spPr>
          <a:xfrm>
            <a:off x="1750320" y="1998720"/>
            <a:ext cx="6257520" cy="39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сделали хлеб из дрожжевого теста пышным, лучше пропекаемым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Содержимое 7" descr="bread-dough-rising2.jpg"/>
          <p:cNvPicPr/>
          <p:nvPr/>
        </p:nvPicPr>
        <p:blipFill>
          <a:blip r:embed="rId1"/>
          <a:stretch/>
        </p:blipFill>
        <p:spPr>
          <a:xfrm>
            <a:off x="500040" y="1857240"/>
            <a:ext cx="4000320" cy="299988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5" descr="3286.jpg"/>
          <p:cNvPicPr/>
          <p:nvPr/>
        </p:nvPicPr>
        <p:blipFill>
          <a:blip r:embed="rId2"/>
          <a:stretch/>
        </p:blipFill>
        <p:spPr>
          <a:xfrm>
            <a:off x="4786200" y="3308760"/>
            <a:ext cx="4196520" cy="32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 бактерий не было бы маринованных овощей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2" name="Содержимое 6" descr="getImage171.jpg"/>
          <p:cNvPicPr/>
          <p:nvPr/>
        </p:nvPicPr>
        <p:blipFill>
          <a:blip r:embed="rId1"/>
          <a:stretch/>
        </p:blipFill>
        <p:spPr>
          <a:xfrm>
            <a:off x="2286000" y="1714320"/>
            <a:ext cx="4959720" cy="456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Содержимое 5" descr="untitled.bmp"/>
          <p:cNvPicPr/>
          <p:nvPr/>
        </p:nvPicPr>
        <p:blipFill>
          <a:blip r:embed="rId1"/>
          <a:stretch/>
        </p:blipFill>
        <p:spPr>
          <a:xfrm>
            <a:off x="1785960" y="2357280"/>
            <a:ext cx="6103800" cy="39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EED2AD17-0933-4FEA-80AE-39DDD5107638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P102609783_template</Template>
  <TotalTime>234</TotalTime>
  <Application>LibreOffice/7.4.7.2$Linux_X86_64 LibreOffice_project/40$Build-2</Application>
  <AppVersion>15.0000</AppVersion>
  <Words>625</Words>
  <Paragraphs>12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05:30Z</dcterms:created>
  <dc:creator>Дом</dc:creator>
  <dc:description/>
  <dc:language>en-US</dc:language>
  <cp:lastModifiedBy>LEGION2</cp:lastModifiedBy>
  <dcterms:modified xsi:type="dcterms:W3CDTF">2015-04-28T07:36:08Z</dcterms:modified>
  <cp:revision>41</cp:revision>
  <dc:subject/>
  <dc:title>ЗАГОЛОВОК 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  <property fmtid="{D5CDD505-2E9C-101B-9397-08002B2CF9AE}" pid="5" name="_TemplateID">
    <vt:lpwstr>TC026097849991</vt:lpwstr>
  </property>
</Properties>
</file>