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33C29A-A18D-46D6-8F9F-D880D6BAC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а: ученица 3 класса «Б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ль Маргар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55F6EB-C4D2-45A6-BC83-D36D661375D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Зоотехники готовят питательные и долго хранящиеся корма для сельскохозяйственных животных                    (такие как сило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24E61E-C21F-40E0-B7A3-9206AD0BA4D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Фармацевты изготавливают разнообразные антибиотики, вакцины, ферменты, витамины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33A194-F130-488C-AA23-1A93425113D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живут на человеке и в человеке. Больше всего бактерий проживает в кишечнике, где они трудятся на благо человека. Одни помогают переваривать пищу, другие вырабатывают витамины, третьи убивают вредные микро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390565-B6DD-4169-B630-2CA7B8116F3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вызывают различные инфекционные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A032F0-8FAF-4D68-89C5-21DE5DF2710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иводят к порче продуктов пит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молочнокислые бактерии сквашивают свежее моло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3EB7E4-7CE2-4B6F-885D-37296FAEF59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иводят к порче продуктов пит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дрожжи приводят к брожению и закисанию соков и пл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079B7D-0FA2-458C-9B99-8BB954F9CC2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одукты покрываются плесен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B41DA6-FDA6-4CA9-A520-79F8D515FDE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обезопасить себя от вредных бактерий и подружиться с полезными нуж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мыть руки перед едой и после возвращения домой откуда бы то ни был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мыть овощи и фрук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следить за сроками годности проду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 период эпидемий ограничивать контакт с возможными носителями 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6FCDB1-DB70-434C-B27F-4A778958E73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ЛИТЕРАТУРА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vnssr.my1.ru/news/ljudi_protiv_bakterij_mediki_proigryvajut/2011-06-19-2343 </a:t>
            </a:r>
            <a:br>
              <a:rPr sz="1200"/>
            </a:b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:/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pavlonews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info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news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categ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_4/31166.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ml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http://arbyz.com/post.php?cat=22&amp;mir=9319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zeftera.ru/tag/rany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home-edu.ru/user/uatml/00000540/rot/tolstyj.htm?page=print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http://www.zakvaska.in.ua/posts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sutno.ru/2009-11-14-19-27-29/870-recipe-for-yeast-dough.html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ed3.ru/vlogenie/10/11.php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zahystroslyn.com.ua/ru/tag/ximiya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findmapplaces.com/9393423_силосные+ямы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vedomosti.ru/newsline/2009/10/05/2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pressfoto.ru/photo.html?p_id=191024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oman.mobus.com/sec/mednews?order=popular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povary.com/page/63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cosmoisida.ru/zdorove/190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vostok.spb.ru/catalog64/models65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batfx.com/lofiversion/index.php/t1103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adlingercys.livejournal.com/140521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sml52.ru/sml/fiziko-mehanicheskie-svoystva/antiseptichnost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phtiziatr.ru/news/?pag=114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newsland.ru/index/news/cat/37/ord/9/tag/0/page/264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8a.ru/print/23532.php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ribalych.ru/2010/11/22/obshhie-svedeniya-o-bakteriyax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allwomens.ru/5541-kakie-byvayut-poleznye-bakterii.html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knowbiology.ru/mikroorganizmi/poleznye--bakterii.html</a:t>
            </a:r>
            <a:br>
              <a:rPr sz="105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312B9E-6B35-471A-8AA2-ADA1B1DBF76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- мельчайшие, микроскопической величины организмы, принадлежащие к отдельному царств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о форме различают бактерии шаровидные и палочкови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40821B-B260-474F-94A4-27996CF3440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бывают неподвижные и подвижные  (активно передвигающиеся при помощи жгути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2036C0-4E19-460C-8E39-669C32F20D6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быв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+mn-lt"/>
              </a:rPr>
              <a:t>полез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+mn-lt"/>
              </a:rPr>
              <a:t>опас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38CFE7-38A9-463A-BE65-AD5E34F69A7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круговорот веществ происходит с участием бактерий: если бы эти маленькие труженики однажды исчезли, планета очень быстро оказалась бы завалена остатками отмерших растений и погибших живот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949993-FF11-48C8-AAA7-6C3DF4B6FAB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Скисание молока в разнообразные кисломолочные продук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CB1794-E2F3-4CC2-9C79-59DB04A6068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сделали хлеб из дрожжевого теста пышным, лучше пропекаем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2CEDB6-3949-4081-9396-8E59AC57997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ез бактерий не было бы маринованных ово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55E216-8ABC-4267-AE26-13BE6B40100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Агрономы используют бактериальные препараты для борьбы с болезнями и вредителями культур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21A0C7-2280-4405-B7C1-30CA1939FB5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1041-5CBA-4D9B-8443-E58F99C7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97D-2555-41CF-A174-CD4D9666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0B0-D641-402B-BA58-7C01C5A9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DF1-45EC-493A-ADC3-74C16872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7B57-1CCC-4061-8D2F-7C55BC21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1828-69A7-41F2-AB78-14B0416C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B89B-083B-4F1D-87B1-3AE20A38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D4C1-C01C-4172-89D8-706D1474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304D-5FE0-45ED-983D-67FB7470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B0BF-2AE2-433F-91BF-44076AB5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8684-A944-41E6-8910-81FF83C9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A68-A5A3-479B-8DDD-C24868F1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CB65-4468-4610-BFAC-8788481E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7D4D-C58D-40E7-BA4E-64FD1C54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A962-E98F-4FBF-AEDC-F09071F5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D3D9-F847-401D-8C4D-BE98E2EE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607D-E55F-4705-A246-77E77185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921ED-AD97-4C54-805A-DBC49A63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7423-F759-48F4-99BE-4D4A33D3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F907C-E2E2-4E8E-93C2-F0226328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F5B44-F80A-4CB6-8ABC-EE887B89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6FA95-24E5-4F59-8DA9-FEA9E6E1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A0B-1C3B-4083-B57C-3FF83479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0A21E-707C-41DC-AF85-22D9113D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DFF35-BA99-426B-90E6-CE90EC85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5E208-1346-47CF-B8D6-459E78BD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CB15B-CBF9-4A12-A788-F4B2722D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31A4-2A38-46C7-B82A-222CEBCE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239F-6FCD-4B00-AB7F-FBD5221A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3F09-F804-4E98-9BC8-79F6C10D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FB3D6-E430-4B0F-8B73-8BA9A576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D5C9B-9BCA-4FFA-BAA7-487715B1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4F94B-1ABC-4E68-AA88-4FC3C88C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3FC-4226-4FCD-9DFB-516A90BA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F2DCD-926C-4755-B33F-58B56896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3B95E-B4B1-4576-BA62-0CA2E5BE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57EE5-41DA-4D10-A029-5E996BE1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6E543-3204-406C-8CBA-19F3A1C2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B5BFB-3F8F-41B8-9BE6-4039C176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3EEF1-CE88-4006-B25D-539C7CCE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7C2F6-B015-4466-A2BC-B7277F1F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668E5-5118-46B4-A8B3-805B6B33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160ED-B28C-469A-A3CD-9C320613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610-FBB5-42C9-B881-D3FDCFEB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0D63-0407-46A9-9CAE-37A20433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BEC-63D8-431D-AA89-77BF4C39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6A7-8E19-4390-B9C3-7256B336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F83-D718-4681-975E-4BE1280F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1500120"/>
            <a:ext cx="8496720" cy="20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6">
                    <a:lumMod val="75000"/>
                  </a:schemeClr>
                </a:solidFill>
                <a:latin typeface="Franklin Gothic Heavy"/>
              </a:rPr>
              <a:t>ОБРАЗЕЦ   ЗАГОЛОВК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09A9D8-54EB-40EB-981D-AE724E8C1CE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305D0E-EE41-4721-93B3-1D263334AEC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1A8B02-5874-4AA6-8A4F-449F76F37F0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E2E329-492F-459E-AA40-93D28B26F1F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ibalych.ru/wp-content/uploads/2010/11/Mychota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1500120"/>
            <a:ext cx="8496720" cy="20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6">
                    <a:lumMod val="75000"/>
                  </a:schemeClr>
                </a:solidFill>
                <a:latin typeface="Franklin Gothic Heavy"/>
              </a:rPr>
              <a:t>БАКТЕРИИ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00200" y="5500800"/>
            <a:ext cx="6400440" cy="120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Выполнила: ученица 3 класса «Б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              </a:t>
            </a: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Биль Маргар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оотехники готовят питательные и долго хранящиеся корма для сельскохозяйственных животных                    (такие как силос)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8" name="Содержимое 6" descr="silosnie-yami_397509.jpg"/>
          <p:cNvPicPr/>
          <p:nvPr/>
        </p:nvPicPr>
        <p:blipFill>
          <a:blip r:embed="rId1"/>
          <a:stretch/>
        </p:blipFill>
        <p:spPr>
          <a:xfrm>
            <a:off x="1785960" y="2214720"/>
            <a:ext cx="5730840" cy="428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армацевты изготавливают разнообразные антибиотики, вакцины, ферменты, витамины..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Содержимое 5" descr="436905_53390411.jpg"/>
          <p:cNvPicPr/>
          <p:nvPr/>
        </p:nvPicPr>
        <p:blipFill>
          <a:blip r:embed="rId1"/>
          <a:stretch/>
        </p:blipFill>
        <p:spPr>
          <a:xfrm>
            <a:off x="2286000" y="2143080"/>
            <a:ext cx="5111280" cy="42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392868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живут на человеке и в человеке. Больше всего бактерий проживает в кишечнике, где они трудятся на благо человека. Одни помогают переваривать пищу, другие вырабатывают витамины, третьи убивают вредные микробы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Содержимое 6" descr="stock-photo-viruses-54416914.jpg"/>
          <p:cNvPicPr/>
          <p:nvPr/>
        </p:nvPicPr>
        <p:blipFill>
          <a:blip r:embed="rId1"/>
          <a:stretch/>
        </p:blipFill>
        <p:spPr>
          <a:xfrm>
            <a:off x="4357800" y="1428840"/>
            <a:ext cx="4453560" cy="45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вызывают различные инфекционные заболевания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Содержимое 5" descr="difteriya.jpg"/>
          <p:cNvPicPr/>
          <p:nvPr/>
        </p:nvPicPr>
        <p:blipFill>
          <a:blip r:embed="rId1"/>
          <a:stretch/>
        </p:blipFill>
        <p:spPr>
          <a:xfrm>
            <a:off x="1643040" y="2000160"/>
            <a:ext cx="5878800" cy="43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водят к порче продуктов питания: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лочнокислые бактерии сквашивают свежее молоко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0" name="Содержимое 6" descr="P8174944.jpg"/>
          <p:cNvPicPr/>
          <p:nvPr/>
        </p:nvPicPr>
        <p:blipFill>
          <a:blip r:embed="rId1"/>
          <a:stretch/>
        </p:blipFill>
        <p:spPr>
          <a:xfrm>
            <a:off x="2643120" y="2090520"/>
            <a:ext cx="3357360" cy="44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водят к порче продуктов питания: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ожжи приводят к брожению и закисанию соков и плодов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Содержимое 5" descr="609.jpg"/>
          <p:cNvPicPr/>
          <p:nvPr/>
        </p:nvPicPr>
        <p:blipFill>
          <a:blip r:embed="rId1"/>
          <a:stretch/>
        </p:blipFill>
        <p:spPr>
          <a:xfrm>
            <a:off x="2000160" y="2428920"/>
            <a:ext cx="5357520" cy="40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дукты покрываются плесенью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6" name="Содержимое 6" descr="Botrytis_cinerea_1_JS20040705.jpg"/>
          <p:cNvPicPr/>
          <p:nvPr/>
        </p:nvPicPr>
        <p:blipFill>
          <a:blip r:embed="rId1"/>
          <a:stretch/>
        </p:blipFill>
        <p:spPr>
          <a:xfrm>
            <a:off x="2214720" y="1714320"/>
            <a:ext cx="5111280" cy="427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C:\Users\Дом\Pictures\22229.jpg"/>
          <p:cNvPicPr/>
          <p:nvPr/>
        </p:nvPicPr>
        <p:blipFill>
          <a:blip r:embed="rId1"/>
          <a:stretch/>
        </p:blipFill>
        <p:spPr>
          <a:xfrm>
            <a:off x="4714920" y="3286080"/>
            <a:ext cx="4214520" cy="3396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Дом\Pictures\iCADGUW4A.jpg"/>
          <p:cNvPicPr/>
          <p:nvPr/>
        </p:nvPicPr>
        <p:blipFill>
          <a:blip r:embed="rId2"/>
          <a:stretch/>
        </p:blipFill>
        <p:spPr>
          <a:xfrm>
            <a:off x="214200" y="3500280"/>
            <a:ext cx="2999880" cy="299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71424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Franklin Gothic Demi"/>
              </a:rPr>
              <a:t>Чтобы обезопасить себя от вредных бактерий и подружиться с полезными нужно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ыть руки перед едой и после возвращения домой откуда бы то ни было;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ыть овощи и фрукты;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следить за сроками годности продуктов;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 период эпидемий ограничивать контакт с возможными носителями инфекци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1" name="Picture 3" descr="C:\Users\Дом\Pictures\Beauty-Kitchen-6.jpg"/>
          <p:cNvPicPr/>
          <p:nvPr/>
        </p:nvPicPr>
        <p:blipFill>
          <a:blip r:embed="rId3"/>
          <a:stretch/>
        </p:blipFill>
        <p:spPr>
          <a:xfrm>
            <a:off x="1785960" y="4000680"/>
            <a:ext cx="3762000" cy="250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35776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ЛИТЕРАТУРА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vnssr.my1.ru/news/ljudi_protiv_bakterij_mediki_proigryvajut/2011-06-19-2343 </a:t>
            </a:r>
            <a:br>
              <a:rPr sz="1600"/>
            </a:b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:/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pavlonews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.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info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news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categ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_4/31166.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ml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http://arbyz.com/post.php?cat=22&amp;mir=9319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zeftera.ru/tag/rany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home-edu.ru/user/uatml/00000540/rot/tolstyj.htm?page=print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http://www.zakvaska.in.ua/posts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sutno.ru/2009-11-14-19-27-29/870-recipe-for-yeast-dough.html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ed3.ru/vlogenie/10/11.php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zahystroslyn.com.ua/ru/tag/ximiya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findmapplaces.com/9393423_силосные+ямы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vedomosti.ru/newsline/2009/10/05/2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pressfoto.ru/photo.html?p_id=191024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oman.mobus.com/sec/mednews?order=popular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povary.com/page/63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cosmoisida.ru/zdorove/190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vostok.spb.ru/catalog64/models65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batfx.com/lofiversion/index.php/t1103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adlingercys.livejournal.com/140521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sml52.ru/sml/fiziko-mehanicheskie-svoystva/antiseptichnost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phtiziatr.ru/news/?pag=114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newsland.ru/index/news/cat/37/ord/9/tag/0/page/264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8a.ru/print/23532.php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ribalych.ru/2010/11/22/obshhie-svedeniya-o-bakteriyax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allwomens.ru/5541-kakie-byvayut-poleznye-bakterii.html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knowbiology.ru/mikroorganizmi/poleznye--bakterii.html</a:t>
            </a:r>
            <a:br>
              <a:rPr sz="1200"/>
            </a:br>
            <a:br>
              <a:rPr sz="1400"/>
            </a:b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400600" cy="20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терии - мельчайшие, микроскопической величины организмы, принадлежащие к отдельному царству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 форме различают бактерии шаровидные и палочковид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8" name="Содержимое 6" descr="бактер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3500280"/>
            <a:ext cx="3857400" cy="2561760"/>
          </a:xfrm>
          <a:prstGeom prst="rect">
            <a:avLst/>
          </a:prstGeom>
          <a:ln w="9525">
            <a:noFill/>
          </a:ln>
        </p:spPr>
      </p:pic>
      <p:pic>
        <p:nvPicPr>
          <p:cNvPr id="179" name="Рисунок 7" descr="Полезные  бактерии"/>
          <p:cNvPicPr/>
          <p:nvPr/>
        </p:nvPicPr>
        <p:blipFill>
          <a:blip r:embed="rId3"/>
          <a:stretch/>
        </p:blipFill>
        <p:spPr>
          <a:xfrm>
            <a:off x="5286240" y="3143160"/>
            <a:ext cx="3329640" cy="332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240" cy="136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терии бывают неподвижные и подвижные  (активно передвигающиеся при помощи жгутиков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Содержимое 6" descr="fee22c7023124124e303f817cce6e148_nfee22c7023124124e303f817cce6e148.jpg"/>
          <p:cNvPicPr/>
          <p:nvPr/>
        </p:nvPicPr>
        <p:blipFill>
          <a:blip r:embed="rId1"/>
          <a:stretch/>
        </p:blipFill>
        <p:spPr>
          <a:xfrm>
            <a:off x="457200" y="2570760"/>
            <a:ext cx="4039920" cy="315900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9" descr="ecoli.jpg"/>
          <p:cNvPicPr/>
          <p:nvPr/>
        </p:nvPicPr>
        <p:blipFill>
          <a:blip r:embed="rId2"/>
          <a:stretch/>
        </p:blipFill>
        <p:spPr>
          <a:xfrm>
            <a:off x="5044680" y="2174760"/>
            <a:ext cx="3241800" cy="395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04348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ктерии бывают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8571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лез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85716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пас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Содержимое 10" descr="1363-Meyveler.jpg"/>
          <p:cNvPicPr/>
          <p:nvPr/>
        </p:nvPicPr>
        <p:blipFill>
          <a:blip r:embed="rId1"/>
          <a:stretch/>
        </p:blipFill>
        <p:spPr>
          <a:xfrm>
            <a:off x="214200" y="1500120"/>
            <a:ext cx="4029480" cy="302220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6" descr="i.jpg"/>
          <p:cNvPicPr/>
          <p:nvPr/>
        </p:nvPicPr>
        <p:blipFill>
          <a:blip r:embed="rId2"/>
          <a:stretch/>
        </p:blipFill>
        <p:spPr>
          <a:xfrm>
            <a:off x="857160" y="3000240"/>
            <a:ext cx="2857320" cy="342864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13" descr="genericwarning.jpg"/>
          <p:cNvPicPr/>
          <p:nvPr/>
        </p:nvPicPr>
        <p:blipFill>
          <a:blip r:embed="rId3"/>
          <a:stretch/>
        </p:blipFill>
        <p:spPr>
          <a:xfrm>
            <a:off x="4714920" y="1500120"/>
            <a:ext cx="4041360" cy="354276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7" descr="iCAW8CVZS.jpg"/>
          <p:cNvPicPr/>
          <p:nvPr/>
        </p:nvPicPr>
        <p:blipFill>
          <a:blip r:embed="rId4"/>
          <a:stretch/>
        </p:blipFill>
        <p:spPr>
          <a:xfrm>
            <a:off x="4572000" y="3071880"/>
            <a:ext cx="4041360" cy="3044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Содержимое 4" descr="4desktop_ru_Klenoviy_listok_1152_4814.jpg"/>
          <p:cNvPicPr/>
          <p:nvPr/>
        </p:nvPicPr>
        <p:blipFill>
          <a:blip r:embed="rId1"/>
          <a:stretch/>
        </p:blipFill>
        <p:spPr>
          <a:xfrm>
            <a:off x="2143080" y="2643120"/>
            <a:ext cx="5111280" cy="3833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9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руговорот веществ происходит с участием бактерий: если бы эти маленькие труженики однажды исчезли, планета очень быстро оказалась бы завалена остатками отмерших растений и погибших животных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9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исание молока в разнообразные кисломолочные продукты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5" name="Содержимое 8" descr="main_big.jpg"/>
          <p:cNvPicPr/>
          <p:nvPr/>
        </p:nvPicPr>
        <p:blipFill>
          <a:blip r:embed="rId1"/>
          <a:stretch/>
        </p:blipFill>
        <p:spPr>
          <a:xfrm>
            <a:off x="1750320" y="1998720"/>
            <a:ext cx="6257520" cy="39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сделали хлеб из дрожжевого теста пышным, лучше пропекаемым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Содержимое 7" descr="bread-dough-rising2.jpg"/>
          <p:cNvPicPr/>
          <p:nvPr/>
        </p:nvPicPr>
        <p:blipFill>
          <a:blip r:embed="rId1"/>
          <a:stretch/>
        </p:blipFill>
        <p:spPr>
          <a:xfrm>
            <a:off x="500040" y="1857240"/>
            <a:ext cx="4000320" cy="2999880"/>
          </a:xfrm>
          <a:prstGeom prst="rect">
            <a:avLst/>
          </a:prstGeom>
          <a:ln w="0">
            <a:noFill/>
          </a:ln>
        </p:spPr>
      </p:pic>
      <p:pic>
        <p:nvPicPr>
          <p:cNvPr id="199" name="Содержимое 5" descr="3286.jpg"/>
          <p:cNvPicPr/>
          <p:nvPr/>
        </p:nvPicPr>
        <p:blipFill>
          <a:blip r:embed="rId2"/>
          <a:stretch/>
        </p:blipFill>
        <p:spPr>
          <a:xfrm>
            <a:off x="4786200" y="3308760"/>
            <a:ext cx="4196520" cy="327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ез бактерий не было бы маринованных овощей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2" name="Содержимое 6" descr="getImage171.jpg"/>
          <p:cNvPicPr/>
          <p:nvPr/>
        </p:nvPicPr>
        <p:blipFill>
          <a:blip r:embed="rId1"/>
          <a:stretch/>
        </p:blipFill>
        <p:spPr>
          <a:xfrm>
            <a:off x="2286000" y="1714320"/>
            <a:ext cx="4959720" cy="456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грономы используют бактериальные препараты для борьбы с болезнями и вредителями культурных растений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Содержимое 5" descr="untitled.bmp"/>
          <p:cNvPicPr/>
          <p:nvPr/>
        </p:nvPicPr>
        <p:blipFill>
          <a:blip r:embed="rId1"/>
          <a:stretch/>
        </p:blipFill>
        <p:spPr>
          <a:xfrm>
            <a:off x="1785960" y="2357280"/>
            <a:ext cx="6103800" cy="39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EED2AD17-0933-4FEA-80AE-39DDD5107638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TP102609783_template</Template>
  <TotalTime>234</TotalTime>
  <Application>LibreOffice/7.4.7.2$Linux_X86_64 LibreOffice_project/40$Build-2</Application>
  <AppVersion>15.0000</AppVersion>
  <Words>625</Words>
  <Paragraphs>12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6:05:30Z</dcterms:created>
  <dc:creator>Дом</dc:creator>
  <dc:description/>
  <dc:language>en-US</dc:language>
  <cp:lastModifiedBy>LEGION2</cp:lastModifiedBy>
  <dcterms:modified xsi:type="dcterms:W3CDTF">2015-04-28T07:36:08Z</dcterms:modified>
  <cp:revision>41</cp:revision>
  <dc:subject/>
  <dc:title>ЗАГОЛОВОК 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8</vt:r8>
  </property>
  <property fmtid="{D5CDD505-2E9C-101B-9397-08002B2CF9AE}" pid="3" name="PresentationFormat">
    <vt:lpwstr>Екран (4:3)</vt:lpwstr>
  </property>
  <property fmtid="{D5CDD505-2E9C-101B-9397-08002B2CF9AE}" pid="4" name="Slides">
    <vt:r8>18</vt:r8>
  </property>
  <property fmtid="{D5CDD505-2E9C-101B-9397-08002B2CF9AE}" pid="5" name="_TemplateID">
    <vt:lpwstr>TC026097849991</vt:lpwstr>
  </property>
</Properties>
</file>