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72F34-750B-4822-AEEF-F79574F06EB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Impact"/>
              </a:rPr>
              <a:t>История развития хи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Широко распростирает химия руки свои  в де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ческие… Куда не посмотрим, куда 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лянемся, везде обращаются пред  очами  наши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пехи ее прилежания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. В. Ломоно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E3E50-7E0B-4AE3-B333-5167F7266F21}" type="slidenum">
              <a:rPr b="0" lang="uk-UA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"/>
              </a:rPr>
              <a:t>Хим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omic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то наука,  которая существовала уже за 3-4 тыс. лет до нашей эры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B0C03-E680-4C3B-880F-0AA01B3E8D09}" type="slidenum">
              <a:rPr b="0" lang="uk-UA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Греческий философ </a:t>
            </a: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Демокрит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(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V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в. до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Все тела состоят из мельчайших, невидимых, неделимых и вечно движущихся частиц-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АТОМ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7777"/>
                </a:solidFill>
                <a:latin typeface="Calibri"/>
              </a:rPr>
              <a:t>Греческий философ Аристотель (</a:t>
            </a:r>
            <a:r>
              <a:rPr b="0" lang="en-US" sz="1200" spc="-1" strike="noStrike">
                <a:solidFill>
                  <a:srgbClr val="777777"/>
                </a:solidFill>
                <a:latin typeface="Calibri"/>
              </a:rPr>
              <a:t>IV</a:t>
            </a:r>
            <a:r>
              <a:rPr b="0" lang="ru-RU" sz="1200" spc="-1" strike="noStrike">
                <a:solidFill>
                  <a:srgbClr val="777777"/>
                </a:solidFill>
                <a:latin typeface="Calibri"/>
              </a:rPr>
              <a:t> в. до н. э.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Calibri"/>
              </a:rPr>
              <a:t>… </a:t>
            </a:r>
            <a:r>
              <a:rPr b="1" lang="ru-RU" sz="1200" spc="-1" strike="noStrike">
                <a:solidFill>
                  <a:srgbClr val="4d4d4d"/>
                </a:solidFill>
                <a:latin typeface="Calibri"/>
              </a:rPr>
              <a:t>в основе окружающей природы лежит вечная ПЕРВОМАТЕ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17E0E-C392-42F2-9FA6-2914681C8E42}" type="slidenum">
              <a:rPr b="0" lang="uk-UA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Алхими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это  темная, дьявольская нау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C8895-5605-47C5-8E4D-F20B9F759A5B}" type="slidenum">
              <a:rPr b="0" lang="uk-UA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Он создал первый университет. Он лучше сказать, сам был первым нашим университе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</a:rPr>
              <a:t>А. С.Пушкин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В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1748 г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.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сформулировал важнейший закон химии – закон сохранения массы вещества в химических реакц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7777"/>
                </a:solidFill>
                <a:latin typeface="Calibri"/>
              </a:rPr>
              <a:t>Масса веществ,  вступивших в реакцию, равна массе веществ, получившихся в результате 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8D46B-9EFB-4D86-9BD1-4301E4F4845E}" type="slidenum">
              <a:rPr b="0" lang="uk-UA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7777"/>
                </a:solidFill>
                <a:latin typeface="Calibri"/>
              </a:rPr>
              <a:t>А. М. Бутлеров химик орга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Calibri"/>
              </a:rPr>
              <a:t>В </a:t>
            </a:r>
            <a:r>
              <a:rPr b="1" lang="ru-RU" sz="1400" spc="-1" strike="noStrike">
                <a:solidFill>
                  <a:srgbClr val="4d4d4d"/>
                </a:solidFill>
                <a:latin typeface="Calibri"/>
              </a:rPr>
              <a:t>1861 г</a:t>
            </a:r>
            <a:r>
              <a:rPr b="1" lang="ru-RU" sz="1200" spc="-1" strike="noStrike">
                <a:solidFill>
                  <a:srgbClr val="4d4d4d"/>
                </a:solidFill>
                <a:latin typeface="Calibri"/>
              </a:rPr>
              <a:t>. создал – теорию строения органических веще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Calibri"/>
              </a:rPr>
              <a:t>Систематизировать органически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Calibri"/>
              </a:rPr>
              <a:t>Создания полимерных материа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A0D60-4486-4F8D-8EE4-6F788C474A2B}" type="slidenum">
              <a:rPr b="0" lang="uk-UA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Calibri"/>
              </a:rPr>
              <a:t>В 1869 г. открыл основополагающий закон химии – Периодический зак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BFEAF-ED1A-4E1B-8D3D-10D11084E60D}" type="slidenum">
              <a:rPr b="0" lang="uk-UA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8635-9795-4F7F-B46D-DB484BEBC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6C05-7679-4E97-AE88-CC3A75A63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8443-6E1C-4045-BBBE-4529DE700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A844-7D3A-4D63-9B88-535736436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AF6A9-222E-4B2D-9DCD-530353301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5EEC2-5E1D-4FF3-9DF5-29953383C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F76B3-2D1D-4EF8-9935-B8D215404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7216F-0D0A-417C-A05E-37D67AA7C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ED0BC-4818-4E6F-BB43-C6C15267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8B8DF-6EF7-4E94-8250-CDD152744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D1E36-83AB-45B3-9BC1-022B1412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AEAC-C8DA-42B6-8DFA-367455F0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84D87-A08D-4001-B8FC-89F5C9BF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B129D-4BF6-4CA7-ADC3-CFFCE535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C23A2-E8E4-41C3-A134-DB3C23802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2A198-8C92-4AC4-87BF-18CE6F597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8D797-95FB-416F-87A6-CF42CDA59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DA43-CA3E-4CDB-840E-4AE7ACDF6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8B26-07D0-43BD-AB4B-60D15C1C9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4BFC-D21B-43C2-87EF-0AC689B2F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B468-A415-4F0C-AA27-A12A0FDA8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D9E8-EF17-437B-98DC-CD0C00E4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1059-A35C-45D4-84CC-F50D04E1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DDD6-A9DE-4F18-AA80-FA0F7CBE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d58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33254-8605-44B9-805F-10409A98088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d58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Freeform 25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Freeform 26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Freeform 29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Freeform 30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Freeform 31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</a:path>
                    <a:path stroke="0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</a:path>
                    <a:path stroke="0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36CD7-C15E-4EDE-8056-9A69ECAD580D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4"/>
          <p:cNvSpPr txBox="1"/>
          <p:nvPr/>
        </p:nvSpPr>
        <p:spPr>
          <a:xfrm>
            <a:off x="1763640" y="476280"/>
            <a:ext cx="698508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тория развития хим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cc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2264400" y="2421000"/>
            <a:ext cx="6878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«Широко распростирает химия руки свои  в дела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человеческие… Куда не посмотрим, куда не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оглянемся, везде обращаются пред  очами  нашими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успехи ее прилежания»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М. В. Ломоносов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500120" y="1523520"/>
            <a:ext cx="66722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00"/>
                </a:solidFill>
                <a:latin typeface="comic"/>
              </a:rPr>
              <a:t>Химия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00"/>
                </a:solidFill>
                <a:latin typeface="comic"/>
              </a:rPr>
              <a:t>   </a:t>
            </a:r>
            <a:r>
              <a:rPr b="1" lang="ru-RU" sz="3600" spc="-1" strike="noStrike">
                <a:solidFill>
                  <a:srgbClr val="333300"/>
                </a:solidFill>
                <a:latin typeface="comic"/>
              </a:rPr>
              <a:t>-</a:t>
            </a:r>
            <a:r>
              <a:rPr b="1" lang="ru-RU" sz="3600" spc="-1" strike="noStrike">
                <a:solidFill>
                  <a:srgbClr val="333300"/>
                </a:solidFill>
                <a:latin typeface="Arial"/>
              </a:rPr>
              <a:t> это наука,  которая существовала уже за 3-4 тыс. лет до нашей эры.</a:t>
            </a:r>
            <a:br>
              <a:rPr sz="3600"/>
            </a:b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73" name="Picture 4" descr="пирамида1"/>
          <p:cNvPicPr/>
          <p:nvPr/>
        </p:nvPicPr>
        <p:blipFill>
          <a:blip r:embed="rId1"/>
          <a:stretch/>
        </p:blipFill>
        <p:spPr>
          <a:xfrm>
            <a:off x="6012000" y="333360"/>
            <a:ext cx="2592360" cy="206064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демокрит"/>
          <p:cNvPicPr/>
          <p:nvPr/>
        </p:nvPicPr>
        <p:blipFill>
          <a:blip r:embed="rId1"/>
          <a:stretch/>
        </p:blipFill>
        <p:spPr>
          <a:xfrm>
            <a:off x="6300720" y="836640"/>
            <a:ext cx="2530440" cy="2087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аристотель"/>
          <p:cNvPicPr/>
          <p:nvPr/>
        </p:nvPicPr>
        <p:blipFill>
          <a:blip r:embed="rId2"/>
          <a:stretch/>
        </p:blipFill>
        <p:spPr>
          <a:xfrm>
            <a:off x="380880" y="3581280"/>
            <a:ext cx="2721240" cy="30225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4"/>
          <p:cNvSpPr/>
          <p:nvPr/>
        </p:nvSpPr>
        <p:spPr>
          <a:xfrm>
            <a:off x="1332000" y="333360"/>
            <a:ext cx="533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еческий философ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емокри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. до н.э.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1116000" y="1700280"/>
            <a:ext cx="51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69696"/>
                </a:solidFill>
                <a:latin typeface="Times New Roman"/>
              </a:rPr>
              <a:t>Все тела состоят из мельчайших, невидимых, неделимых и вечно движущихся частиц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ТОМОВ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3505320" y="358128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7777"/>
                </a:solidFill>
                <a:latin typeface="Times New Roman"/>
              </a:rPr>
              <a:t>Греческий философ Аристотель (</a:t>
            </a:r>
            <a:r>
              <a:rPr b="0" lang="en-US" sz="2400" spc="-1" strike="noStrike">
                <a:solidFill>
                  <a:srgbClr val="777777"/>
                </a:solidFill>
                <a:latin typeface="Times New Roman"/>
              </a:rPr>
              <a:t>IV</a:t>
            </a:r>
            <a:r>
              <a:rPr b="0" lang="ru-RU" sz="2400" spc="-1" strike="noStrike">
                <a:solidFill>
                  <a:srgbClr val="777777"/>
                </a:solidFill>
                <a:latin typeface="Times New Roman"/>
              </a:rPr>
              <a:t> в. до н. э. 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3429000" y="47242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3733920" y="46483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Times New Roman"/>
              </a:rPr>
              <a:t>… </a:t>
            </a:r>
            <a:r>
              <a:rPr b="1" lang="ru-RU" sz="2400" spc="-1" strike="noStrike">
                <a:solidFill>
                  <a:srgbClr val="4d4d4d"/>
                </a:solidFill>
                <a:latin typeface="Times New Roman"/>
              </a:rPr>
              <a:t>в основе окружающей природы лежит вечная ПЕРВОМАТЕРИЯ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380880" y="30492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Times New Roman"/>
              </a:rPr>
              <a:t>Алхимия </a:t>
            </a:r>
            <a:r>
              <a:rPr b="1" lang="ru-RU" sz="2400" spc="-1" strike="noStrike">
                <a:solidFill>
                  <a:srgbClr val="333300"/>
                </a:solidFill>
                <a:latin typeface="Times New Roman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то  темная, дьявольская наука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2666880" y="144792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96969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e5d58a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e5d58a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     </a:t>
            </a:r>
            <a:r>
              <a:rPr b="1" lang="ru-RU" sz="3600" spc="-1" strike="noStrike">
                <a:solidFill>
                  <a:srgbClr val="333300"/>
                </a:solidFill>
                <a:latin typeface="Times New Roman"/>
              </a:rPr>
              <a:t>философский камень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3886200" y="3200400"/>
            <a:ext cx="19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длинить жизнь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6858000" y="2590920"/>
            <a:ext cx="19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сцелить болезни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4267080" y="48769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БЕССМЕРТИЕ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8" name="AutoShape 10"/>
          <p:cNvSpPr/>
          <p:nvPr/>
        </p:nvSpPr>
        <p:spPr>
          <a:xfrm flipV="1">
            <a:off x="2590920" y="1675800"/>
            <a:ext cx="723960" cy="228600"/>
          </a:xfrm>
          <a:custGeom>
            <a:avLst/>
            <a:gdLst>
              <a:gd name="textAreaLeft" fmla="*/ 90360 w 723960"/>
              <a:gd name="textAreaRight" fmla="*/ 633600 w 723960"/>
              <a:gd name="textAreaTop" fmla="*/ 56880 h 228600"/>
              <a:gd name="textAreaBottom" fmla="*/ 1713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00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Text Box 11"/>
          <p:cNvSpPr/>
          <p:nvPr/>
        </p:nvSpPr>
        <p:spPr>
          <a:xfrm>
            <a:off x="609480" y="152388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AutoShape 13"/>
          <p:cNvSpPr/>
          <p:nvPr/>
        </p:nvSpPr>
        <p:spPr>
          <a:xfrm>
            <a:off x="4495680" y="2133720"/>
            <a:ext cx="228600" cy="976320"/>
          </a:xfrm>
          <a:prstGeom prst="downArrow">
            <a:avLst>
              <a:gd name="adj1" fmla="val 50000"/>
              <a:gd name="adj2" fmla="val 106772"/>
            </a:avLst>
          </a:prstGeom>
          <a:solidFill>
            <a:srgbClr val="000000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AutoShape 14"/>
          <p:cNvSpPr/>
          <p:nvPr/>
        </p:nvSpPr>
        <p:spPr>
          <a:xfrm>
            <a:off x="6095880" y="2286000"/>
            <a:ext cx="304920" cy="2514600"/>
          </a:xfrm>
          <a:prstGeom prst="downArrow">
            <a:avLst>
              <a:gd name="adj1" fmla="val 50000"/>
              <a:gd name="adj2" fmla="val 206169"/>
            </a:avLst>
          </a:prstGeom>
          <a:solidFill>
            <a:srgbClr val="000000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AutoShape 15"/>
          <p:cNvSpPr/>
          <p:nvPr/>
        </p:nvSpPr>
        <p:spPr>
          <a:xfrm>
            <a:off x="7620120" y="1981080"/>
            <a:ext cx="228600" cy="609840"/>
          </a:xfrm>
          <a:prstGeom prst="downArrow">
            <a:avLst>
              <a:gd name="adj1" fmla="val 50000"/>
              <a:gd name="adj2" fmla="val 66693"/>
            </a:avLst>
          </a:prstGeom>
          <a:solidFill>
            <a:srgbClr val="000000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ломоносов"/>
          <p:cNvPicPr/>
          <p:nvPr/>
        </p:nvPicPr>
        <p:blipFill>
          <a:blip r:embed="rId1"/>
          <a:stretch/>
        </p:blipFill>
        <p:spPr>
          <a:xfrm>
            <a:off x="1258920" y="1484280"/>
            <a:ext cx="2219400" cy="285912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3"/>
          <p:cNvSpPr/>
          <p:nvPr/>
        </p:nvSpPr>
        <p:spPr>
          <a:xfrm>
            <a:off x="3809880" y="609480"/>
            <a:ext cx="4876920" cy="13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н создал первый университет. Он лучше сказать, сам был первым нашим университетом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. С.Пушкин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3962520" y="2514600"/>
            <a:ext cx="45720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748 г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формулировал важнейший закон химии – закон сохранения массы вещества в химических реакциях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1295280" y="47973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7777"/>
                </a:solidFill>
                <a:latin typeface="Times New Roman"/>
              </a:rPr>
              <a:t>Масса веществ,  вступивших в реакцию, равна массе веществ, получившихся в результате ее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бутлеров"/>
          <p:cNvPicPr/>
          <p:nvPr/>
        </p:nvPicPr>
        <p:blipFill>
          <a:blip r:embed="rId1"/>
          <a:stretch/>
        </p:blipFill>
        <p:spPr>
          <a:xfrm>
            <a:off x="5618160" y="533520"/>
            <a:ext cx="2936880" cy="403848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3"/>
          <p:cNvSpPr/>
          <p:nvPr/>
        </p:nvSpPr>
        <p:spPr>
          <a:xfrm>
            <a:off x="1258920" y="62064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7777"/>
                </a:solidFill>
                <a:latin typeface="Times New Roman"/>
              </a:rPr>
              <a:t>А. М. Бутлеров химик органик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900000" y="1557360"/>
            <a:ext cx="4800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Times New Roman"/>
              </a:rPr>
              <a:t>В </a:t>
            </a:r>
            <a:r>
              <a:rPr b="1" lang="ru-RU" sz="3200" spc="-1" strike="noStrike">
                <a:solidFill>
                  <a:srgbClr val="4d4d4d"/>
                </a:solidFill>
                <a:latin typeface="Times New Roman"/>
              </a:rPr>
              <a:t>1861 г</a:t>
            </a:r>
            <a:r>
              <a:rPr b="1" lang="ru-RU" sz="2800" spc="-1" strike="noStrike">
                <a:solidFill>
                  <a:srgbClr val="4d4d4d"/>
                </a:solidFill>
                <a:latin typeface="Times New Roman"/>
              </a:rPr>
              <a:t>. создал – теорию строения органических веществ.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971640" y="3500280"/>
            <a:ext cx="449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Times New Roman"/>
              </a:rPr>
              <a:t>Систематизировать органические вещества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1835280" y="5013360"/>
            <a:ext cx="419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Times New Roman"/>
              </a:rPr>
              <a:t>Создания полимерных материалов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менделеев"/>
          <p:cNvPicPr/>
          <p:nvPr/>
        </p:nvPicPr>
        <p:blipFill>
          <a:blip r:embed="rId1"/>
          <a:stretch/>
        </p:blipFill>
        <p:spPr>
          <a:xfrm>
            <a:off x="5562720" y="2362320"/>
            <a:ext cx="3030480" cy="400032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3"/>
          <p:cNvSpPr/>
          <p:nvPr/>
        </p:nvSpPr>
        <p:spPr>
          <a:xfrm>
            <a:off x="914400" y="586728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7777"/>
                </a:solidFill>
                <a:latin typeface="Times New Roman"/>
              </a:rPr>
              <a:t>Д. И. Менделеев русский химик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1219320" y="54936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Times New Roman"/>
              </a:rPr>
              <a:t>В 1869 г. открыл основополагающий закон химии – Периодический закон.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8" name="Picture 5" descr="таблица"/>
          <p:cNvPicPr/>
          <p:nvPr/>
        </p:nvPicPr>
        <p:blipFill>
          <a:blip r:embed="rId2"/>
          <a:stretch/>
        </p:blipFill>
        <p:spPr>
          <a:xfrm>
            <a:off x="826920" y="1989000"/>
            <a:ext cx="4724640" cy="354348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3T17:34:23Z</dcterms:created>
  <dc:creator> Слюсарь А.П.</dc:creator>
  <dc:description/>
  <dc:language>en-US</dc:language>
  <cp:lastModifiedBy>LEGION</cp:lastModifiedBy>
  <dcterms:modified xsi:type="dcterms:W3CDTF">2015-05-01T09:27:37Z</dcterms:modified>
  <cp:revision>4</cp:revision>
  <dc:subject/>
  <dc:title>Законы хим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02000000000001024140</vt:lpwstr>
  </property>
</Properties>
</file>