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00BA3-012C-4115-BB9D-EE4F27DB28A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9900"/>
                </a:solidFill>
                <a:latin typeface="Impact"/>
              </a:rPr>
              <a:t>История развития хим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Широко распростирает химия руки свои  в де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ческие… Куда не посмотрим, куда 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лянемся, везде обращаются пред  очами  наши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пехи ее прилежания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. В. Ломоно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10746-3D92-4082-8315-D2AD50E5EB5A}" type="slidenum">
              <a:rPr b="0" lang="uk-UA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"/>
              </a:rPr>
              <a:t>Хим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omic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то наука,  которая существовала уже за 3-4 тыс. лет до нашей эры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CB59E-7A8F-492C-A185-B24DBC538946}" type="slidenum">
              <a:rPr b="0" lang="uk-UA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Греческий философ </a:t>
            </a: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Демокрит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(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V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в. до н.э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Calibri"/>
              </a:rPr>
              <a:t>Все тела состоят из мельчайших, невидимых, неделимых и вечно движущихся частиц-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АТОМ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77777"/>
                </a:solidFill>
                <a:latin typeface="Calibri"/>
              </a:rPr>
              <a:t>Греческий философ Аристотель (</a:t>
            </a:r>
            <a:r>
              <a:rPr b="0" lang="en-US" sz="1200" spc="-1" strike="noStrike">
                <a:solidFill>
                  <a:srgbClr val="777777"/>
                </a:solidFill>
                <a:latin typeface="Calibri"/>
              </a:rPr>
              <a:t>IV</a:t>
            </a:r>
            <a:r>
              <a:rPr b="0" lang="ru-RU" sz="1200" spc="-1" strike="noStrike">
                <a:solidFill>
                  <a:srgbClr val="777777"/>
                </a:solidFill>
                <a:latin typeface="Calibri"/>
              </a:rPr>
              <a:t> в. до н. э.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Calibri"/>
              </a:rPr>
              <a:t>… </a:t>
            </a:r>
            <a:r>
              <a:rPr b="1" lang="ru-RU" sz="1200" spc="-1" strike="noStrike">
                <a:solidFill>
                  <a:srgbClr val="4d4d4d"/>
                </a:solidFill>
                <a:latin typeface="Calibri"/>
              </a:rPr>
              <a:t>в основе окружающей природы лежит вечная ПЕРВОМАТЕ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035D1-7190-4553-A965-090A8C8187A3}" type="slidenum">
              <a:rPr b="0" lang="uk-UA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Алхими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это  темная, дьявольская нау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F8E27-62C2-4546-8803-1DC15C6386AF}" type="slidenum">
              <a:rPr b="0" lang="uk-UA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Он создал первый университет. Он лучше сказать, сам был первым нашим университе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Calibri"/>
              </a:rPr>
              <a:t>А. С.Пушкин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В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1748 г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.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сформулировал важнейший закон химии – закон сохранения массы вещества в химических реакц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7777"/>
                </a:solidFill>
                <a:latin typeface="Calibri"/>
              </a:rPr>
              <a:t>Масса веществ,  вступивших в реакцию, равна массе веществ, получившихся в результате 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3CF82-FE73-43C1-BA78-A9B1390C68ED}" type="slidenum">
              <a:rPr b="0" lang="uk-UA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77777"/>
                </a:solidFill>
                <a:latin typeface="Calibri"/>
              </a:rPr>
              <a:t>А. М. Бутлеров химик орга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Calibri"/>
              </a:rPr>
              <a:t>В </a:t>
            </a:r>
            <a:r>
              <a:rPr b="1" lang="ru-RU" sz="1400" spc="-1" strike="noStrike">
                <a:solidFill>
                  <a:srgbClr val="4d4d4d"/>
                </a:solidFill>
                <a:latin typeface="Calibri"/>
              </a:rPr>
              <a:t>1861 г</a:t>
            </a:r>
            <a:r>
              <a:rPr b="1" lang="ru-RU" sz="1200" spc="-1" strike="noStrike">
                <a:solidFill>
                  <a:srgbClr val="4d4d4d"/>
                </a:solidFill>
                <a:latin typeface="Calibri"/>
              </a:rPr>
              <a:t>. создал – теорию строения органических веще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Calibri"/>
              </a:rPr>
              <a:t>Систематизировать органические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Calibri"/>
              </a:rPr>
              <a:t>Создания полимерных материа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8EC88-1D60-4464-8127-5B86FDE6D792}" type="slidenum">
              <a:rPr b="0" lang="uk-UA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Calibri"/>
              </a:rPr>
              <a:t>В 1869 г. открыл основополагающий закон химии – Периодический зак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35753-CDD6-4F7E-9A7C-000F2A8BE472}" type="slidenum">
              <a:rPr b="0" lang="uk-UA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F7C0-39D4-42ED-BF01-DC6C5511C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22C2-FA55-4081-ACEC-9DCF11AEF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653C-46D7-4796-B233-396B2935F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4480-433A-4194-A9AD-9F1CFDF2C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2AF04-3BF9-4AF3-8718-9BB3A2E91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DAE00-D5F1-436B-9CD6-E43EF73EC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AA670-A80F-4535-A155-3356E7BFF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36521-E542-447C-8114-F67078403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BE3CB-D28A-4B4D-A1CE-D7889DB1B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9C365-DA65-4D18-8B31-FF7B9410E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D2B30-C293-4EDC-BAA7-E720A086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94E1-0A16-4C0A-868B-95E1B44E5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43B47-5F4F-4AE1-A05A-336D955D7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1BB62-BD37-43BE-82EE-0BB21D69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FBA16-4587-4A4D-9D0D-611CEA64D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A29C9-ABBB-46E7-A50C-894D0911A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DB854-7976-443F-ACA7-D1EDEE5B4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13A0-7B3B-4E2C-A7ED-86C59488D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1B2A-ED2A-41B1-A274-3E9BC4039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C682-D74E-4C81-BA82-AF800916D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67E5-21D9-4A3E-A3A6-A646EB3AB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D380-AB46-4C47-A653-933C8A8F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6036-8A34-44F0-99A8-008D860F8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AE48-62FC-4A16-BDFA-5889EE63B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d58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603EE-22F9-4FEF-A149-88DC93AA206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d58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2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Freeform 25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Freeform 26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Freeform 29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Freeform 30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Freeform 31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1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2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3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4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5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6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5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</a:path>
                    <a:path stroke="0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</a:path>
                    <a:path stroke="0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  <a:lnTo>
                        <a:pt x="21600" y="21600"/>
                      </a:lnTo>
                      <a:lnTo>
                        <a:pt x="21600" y="432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a6340"/>
                    </a:gs>
                    <a:gs pos="5000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64866-E3BB-4C74-A85F-E8D35F939195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WordArt 4"/>
          <p:cNvSpPr txBox="1"/>
          <p:nvPr/>
        </p:nvSpPr>
        <p:spPr>
          <a:xfrm>
            <a:off x="1763640" y="476280"/>
            <a:ext cx="6985080" cy="10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cc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стория развития хими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cc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2264400" y="2421000"/>
            <a:ext cx="6878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«Широко распростирает химия руки свои  в дела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человеческие… Куда не посмотрим, куда не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оглянемся, везде обращаются пред  очами  нашими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успехи ее прилежания»</a:t>
            </a: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М. В. Ломоносов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500120" y="1523520"/>
            <a:ext cx="66722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00"/>
                </a:solidFill>
                <a:latin typeface="comic"/>
              </a:rPr>
              <a:t>Химия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00"/>
                </a:solidFill>
                <a:latin typeface="comic"/>
              </a:rPr>
              <a:t>   </a:t>
            </a:r>
            <a:r>
              <a:rPr b="1" lang="ru-RU" sz="3600" spc="-1" strike="noStrike">
                <a:solidFill>
                  <a:srgbClr val="333300"/>
                </a:solidFill>
                <a:latin typeface="comic"/>
              </a:rPr>
              <a:t>-</a:t>
            </a:r>
            <a:r>
              <a:rPr b="1" lang="ru-RU" sz="3600" spc="-1" strike="noStrike">
                <a:solidFill>
                  <a:srgbClr val="333300"/>
                </a:solidFill>
                <a:latin typeface="Arial"/>
              </a:rPr>
              <a:t> это наука,  которая существовала уже за 3-4 тыс. лет до нашей эры.</a:t>
            </a:r>
            <a:br>
              <a:rPr sz="3600"/>
            </a:b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73" name="Picture 4" descr="пирамида1"/>
          <p:cNvPicPr/>
          <p:nvPr/>
        </p:nvPicPr>
        <p:blipFill>
          <a:blip r:embed="rId1"/>
          <a:stretch/>
        </p:blipFill>
        <p:spPr>
          <a:xfrm>
            <a:off x="6012000" y="333360"/>
            <a:ext cx="2592360" cy="206064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демокрит"/>
          <p:cNvPicPr/>
          <p:nvPr/>
        </p:nvPicPr>
        <p:blipFill>
          <a:blip r:embed="rId1"/>
          <a:stretch/>
        </p:blipFill>
        <p:spPr>
          <a:xfrm>
            <a:off x="6300720" y="836640"/>
            <a:ext cx="2530440" cy="20876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аристотель"/>
          <p:cNvPicPr/>
          <p:nvPr/>
        </p:nvPicPr>
        <p:blipFill>
          <a:blip r:embed="rId2"/>
          <a:stretch/>
        </p:blipFill>
        <p:spPr>
          <a:xfrm>
            <a:off x="380880" y="3581280"/>
            <a:ext cx="2721240" cy="302256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4"/>
          <p:cNvSpPr/>
          <p:nvPr/>
        </p:nvSpPr>
        <p:spPr>
          <a:xfrm>
            <a:off x="1332000" y="333360"/>
            <a:ext cx="533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реческий философ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емокри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. до н.э.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1116000" y="1700280"/>
            <a:ext cx="518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69696"/>
                </a:solidFill>
                <a:latin typeface="Times New Roman"/>
              </a:rPr>
              <a:t>Все тела состоят из мельчайших, невидимых, неделимых и вечно движущихся частиц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ТОМОВ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3505320" y="358128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77777"/>
                </a:solidFill>
                <a:latin typeface="Times New Roman"/>
              </a:rPr>
              <a:t>Греческий философ Аристотель (</a:t>
            </a:r>
            <a:r>
              <a:rPr b="0" lang="en-US" sz="2400" spc="-1" strike="noStrike">
                <a:solidFill>
                  <a:srgbClr val="777777"/>
                </a:solidFill>
                <a:latin typeface="Times New Roman"/>
              </a:rPr>
              <a:t>IV</a:t>
            </a:r>
            <a:r>
              <a:rPr b="0" lang="ru-RU" sz="2400" spc="-1" strike="noStrike">
                <a:solidFill>
                  <a:srgbClr val="777777"/>
                </a:solidFill>
                <a:latin typeface="Times New Roman"/>
              </a:rPr>
              <a:t> в. до н. э. 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3429000" y="472428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3733920" y="46483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Times New Roman"/>
              </a:rPr>
              <a:t>… </a:t>
            </a:r>
            <a:r>
              <a:rPr b="1" lang="ru-RU" sz="2400" spc="-1" strike="noStrike">
                <a:solidFill>
                  <a:srgbClr val="4d4d4d"/>
                </a:solidFill>
                <a:latin typeface="Times New Roman"/>
              </a:rPr>
              <a:t>в основе окружающей природы лежит вечная ПЕРВОМАТЕРИЯ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380880" y="30492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Times New Roman"/>
              </a:rPr>
              <a:t>Алхимия </a:t>
            </a:r>
            <a:r>
              <a:rPr b="1" lang="ru-RU" sz="2400" spc="-1" strike="noStrike">
                <a:solidFill>
                  <a:srgbClr val="333300"/>
                </a:solidFill>
                <a:latin typeface="Times New Roman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то  темная, дьявольская наука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2666880" y="144792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969696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e5d58a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e5d58a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     </a:t>
            </a:r>
            <a:r>
              <a:rPr b="1" lang="ru-RU" sz="3600" spc="-1" strike="noStrike">
                <a:solidFill>
                  <a:srgbClr val="333300"/>
                </a:solidFill>
                <a:latin typeface="Times New Roman"/>
              </a:rPr>
              <a:t>философский камень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3886200" y="3200400"/>
            <a:ext cx="198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длинить жизнь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6858000" y="2590920"/>
            <a:ext cx="198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сцелить болезни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4267080" y="48769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БЕССМЕРТИЕ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8" name="AutoShape 10"/>
          <p:cNvSpPr/>
          <p:nvPr/>
        </p:nvSpPr>
        <p:spPr>
          <a:xfrm flipV="1">
            <a:off x="2590920" y="1675800"/>
            <a:ext cx="723960" cy="228600"/>
          </a:xfrm>
          <a:custGeom>
            <a:avLst/>
            <a:gdLst>
              <a:gd name="textAreaLeft" fmla="*/ 90360 w 723960"/>
              <a:gd name="textAreaRight" fmla="*/ 633600 w 723960"/>
              <a:gd name="textAreaTop" fmla="*/ 56880 h 228600"/>
              <a:gd name="textAreaBottom" fmla="*/ 1713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3300"/>
          </a:solidFill>
          <a:ln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Text Box 11"/>
          <p:cNvSpPr/>
          <p:nvPr/>
        </p:nvSpPr>
        <p:spPr>
          <a:xfrm>
            <a:off x="609480" y="152388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Цель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AutoShape 13"/>
          <p:cNvSpPr/>
          <p:nvPr/>
        </p:nvSpPr>
        <p:spPr>
          <a:xfrm>
            <a:off x="4495680" y="2133720"/>
            <a:ext cx="228600" cy="976320"/>
          </a:xfrm>
          <a:prstGeom prst="downArrow">
            <a:avLst>
              <a:gd name="adj1" fmla="val 50000"/>
              <a:gd name="adj2" fmla="val 106772"/>
            </a:avLst>
          </a:prstGeom>
          <a:solidFill>
            <a:srgbClr val="000000"/>
          </a:solidFill>
          <a:ln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AutoShape 14"/>
          <p:cNvSpPr/>
          <p:nvPr/>
        </p:nvSpPr>
        <p:spPr>
          <a:xfrm>
            <a:off x="6095880" y="2286000"/>
            <a:ext cx="304920" cy="2514600"/>
          </a:xfrm>
          <a:prstGeom prst="downArrow">
            <a:avLst>
              <a:gd name="adj1" fmla="val 50000"/>
              <a:gd name="adj2" fmla="val 206169"/>
            </a:avLst>
          </a:prstGeom>
          <a:solidFill>
            <a:srgbClr val="000000"/>
          </a:solidFill>
          <a:ln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AutoShape 15"/>
          <p:cNvSpPr/>
          <p:nvPr/>
        </p:nvSpPr>
        <p:spPr>
          <a:xfrm>
            <a:off x="7620120" y="1981080"/>
            <a:ext cx="228600" cy="609840"/>
          </a:xfrm>
          <a:prstGeom prst="downArrow">
            <a:avLst>
              <a:gd name="adj1" fmla="val 50000"/>
              <a:gd name="adj2" fmla="val 66693"/>
            </a:avLst>
          </a:prstGeom>
          <a:solidFill>
            <a:srgbClr val="000000"/>
          </a:solidFill>
          <a:ln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ломоносов"/>
          <p:cNvPicPr/>
          <p:nvPr/>
        </p:nvPicPr>
        <p:blipFill>
          <a:blip r:embed="rId1"/>
          <a:stretch/>
        </p:blipFill>
        <p:spPr>
          <a:xfrm>
            <a:off x="1258920" y="1484280"/>
            <a:ext cx="2219400" cy="285912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3"/>
          <p:cNvSpPr/>
          <p:nvPr/>
        </p:nvSpPr>
        <p:spPr>
          <a:xfrm>
            <a:off x="3809880" y="609480"/>
            <a:ext cx="4876920" cy="13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н создал первый университет. Он лучше сказать, сам был первым нашим университетом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. С.Пушкин.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3962520" y="2514600"/>
            <a:ext cx="45720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748 г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формулировал важнейший закон химии – закон сохранения массы вещества в химических реакциях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1295280" y="479736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77777"/>
                </a:solidFill>
                <a:latin typeface="Times New Roman"/>
              </a:rPr>
              <a:t>Масса веществ,  вступивших в реакцию, равна массе веществ, получившихся в результате ее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бутлеров"/>
          <p:cNvPicPr/>
          <p:nvPr/>
        </p:nvPicPr>
        <p:blipFill>
          <a:blip r:embed="rId1"/>
          <a:stretch/>
        </p:blipFill>
        <p:spPr>
          <a:xfrm>
            <a:off x="5618160" y="533520"/>
            <a:ext cx="2936880" cy="403848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3"/>
          <p:cNvSpPr/>
          <p:nvPr/>
        </p:nvSpPr>
        <p:spPr>
          <a:xfrm>
            <a:off x="1258920" y="62064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77777"/>
                </a:solidFill>
                <a:latin typeface="Times New Roman"/>
              </a:rPr>
              <a:t>А. М. Бутлеров химик органик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900000" y="1557360"/>
            <a:ext cx="4800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4d4d"/>
                </a:solidFill>
                <a:latin typeface="Times New Roman"/>
              </a:rPr>
              <a:t>В </a:t>
            </a:r>
            <a:r>
              <a:rPr b="1" lang="ru-RU" sz="3200" spc="-1" strike="noStrike">
                <a:solidFill>
                  <a:srgbClr val="4d4d4d"/>
                </a:solidFill>
                <a:latin typeface="Times New Roman"/>
              </a:rPr>
              <a:t>1861 г</a:t>
            </a:r>
            <a:r>
              <a:rPr b="1" lang="ru-RU" sz="2800" spc="-1" strike="noStrike">
                <a:solidFill>
                  <a:srgbClr val="4d4d4d"/>
                </a:solidFill>
                <a:latin typeface="Times New Roman"/>
              </a:rPr>
              <a:t>. создал – теорию строения органических веществ.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971640" y="3500280"/>
            <a:ext cx="449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4d4d"/>
                </a:solidFill>
                <a:latin typeface="Times New Roman"/>
              </a:rPr>
              <a:t>Систематизировать органические вещества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1835280" y="5013360"/>
            <a:ext cx="419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4d4d"/>
                </a:solidFill>
                <a:latin typeface="Times New Roman"/>
              </a:rPr>
              <a:t>Создания полимерных материалов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менделеев"/>
          <p:cNvPicPr/>
          <p:nvPr/>
        </p:nvPicPr>
        <p:blipFill>
          <a:blip r:embed="rId1"/>
          <a:stretch/>
        </p:blipFill>
        <p:spPr>
          <a:xfrm>
            <a:off x="5562720" y="2362320"/>
            <a:ext cx="3030480" cy="400032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3"/>
          <p:cNvSpPr/>
          <p:nvPr/>
        </p:nvSpPr>
        <p:spPr>
          <a:xfrm>
            <a:off x="914400" y="586728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77777"/>
                </a:solidFill>
                <a:latin typeface="Times New Roman"/>
              </a:rPr>
              <a:t>Д. И. Менделеев русский химик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1219320" y="54936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4d4d"/>
                </a:solidFill>
                <a:latin typeface="Times New Roman"/>
              </a:rPr>
              <a:t>В 1869 г. открыл основополагающий закон химии – Периодический закон.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8" name="Picture 5" descr="таблица"/>
          <p:cNvPicPr/>
          <p:nvPr/>
        </p:nvPicPr>
        <p:blipFill>
          <a:blip r:embed="rId2"/>
          <a:stretch/>
        </p:blipFill>
        <p:spPr>
          <a:xfrm>
            <a:off x="826920" y="1989000"/>
            <a:ext cx="4724640" cy="3543480"/>
          </a:xfrm>
          <a:prstGeom prst="rect">
            <a:avLst/>
          </a:prstGeom>
          <a:ln w="0">
            <a:noFill/>
          </a:ln>
        </p:spPr>
      </p:pic>
      <p:sp>
        <p:nvSpPr>
          <p:cNvPr id="209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3T17:34:23Z</dcterms:created>
  <dc:creator> Слюсарь А.П.</dc:creator>
  <dc:description/>
  <dc:language>en-US</dc:language>
  <cp:lastModifiedBy>LEGION</cp:lastModifiedBy>
  <dcterms:modified xsi:type="dcterms:W3CDTF">2015-05-01T09:27:37Z</dcterms:modified>
  <cp:revision>4</cp:revision>
  <dc:subject/>
  <dc:title>Законы хим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02000000000001024140</vt:lpwstr>
  </property>
</Properties>
</file>