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E29C-1CE5-4C46-9BA0-72A4861929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ДЕ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СОЦИАЛЬНАЯ ФИЛОСО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3036-47BF-43BF-84A6-0C518B131E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Социальное развит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87D7-8C36-4D49-B8FA-E0C76D3D1E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Исторические этапы познания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F0C3-3FAF-4D03-ACD3-2205DBF2DD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e1a1a"/>
                </a:solidFill>
                <a:latin typeface="Times New Roman"/>
              </a:rPr>
              <a:t>Тема 17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de1a1a"/>
                </a:solidFill>
                <a:latin typeface="Times New Roman"/>
              </a:rPr>
              <a:t>Общество как объект позн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фика социального по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ятийный аппарат социальной философ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рические этапы познания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AD5A-C601-4E70-ACBD-A9DC013F60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улин В.С. Социальная философия: Учебник для вузов. 2-е изд. М.: ФАИР-ПРЕСС, 1999. 560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ьюи Дж. Общество и его проблемы. М.: Идея-Пресс, 2002. 160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мджян К.Х. Социум. Общество. История: Учебное пособие для студентов и аспирантов. М.: Наука, 1994. 239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сонс Т. Понятие социальн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пер К. Нищета историциз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ффлер А. Футурошок. Спб.: Лань, 1997. 464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нк С. Духовные основы общ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сперс К. Схема мировой истор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A6B7-BAA1-43C4-BDA1-FD664AF3CF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Социальная философия изучае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обще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схождение обще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у обще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даментальные закономерности 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ы общественного 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мерности функционирования обществен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8330-BF66-48BB-BD42-E9B1A993DF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Обществ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форма разумно организованной, культурной жизни и деятельности людей, объединенных общими потребностями, интересами и целям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DEB7-40E5-43FB-B77A-590F28D1AC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Характеристики обще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ост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организуем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ч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особность развивать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мер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управляем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ADEC-F6CB-41ED-9C82-AEC3890366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Специфика социального по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D44F-6E8A-46BE-BE3C-C5CB16F149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Понятийный аппарат социальной философ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1500-446D-47E8-8FC7-36FBBCDFC2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199B-AE38-4D5E-A88E-74308A72FF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D1C9-DAF9-4E97-B36C-A7BCFFF2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B566-D9D2-462F-8E10-0DED9AFB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8D23-A9AE-4721-91AC-DE29756A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B06F-A8C1-4A3C-AC5A-D7E7CD29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5E9E-3218-43A9-A390-03C36D0A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1B43-1496-4D1C-97F1-975CEBC4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4CE9-D1AD-4BCF-AE2B-A45CFE33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71F9-76C5-47CF-BF07-22993196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9D7A-4208-4A20-8080-4B0635E0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F115-3291-466B-8FC3-08EDE28D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B6EB-9BD8-436B-B99F-50EEA20F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E6D6-A101-4012-A207-44BF7206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18BC-76C8-4C94-A8F9-7AE10B19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BCF5-9B79-406E-8256-58A17143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4823-FC36-4F95-AB08-A26049D3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23AF-4D1A-4286-ACB9-9CA1871C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0C14-A2FD-4418-8C7C-B5EA4EC5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4AC9-3B0D-4E57-84A6-90B28C04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D1F5-8D66-43CB-9ED9-AE792A7A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DD69-3B75-4044-A5A8-620C44CA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975E-6EE9-4E2C-B48A-BAD0E020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4C7A-CB73-466E-9F2C-203D8266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681-6AA8-408E-B87C-4D9C1FBB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6278-0517-4B25-AA49-1C52738C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2183-C6CE-46B8-B16A-D0CBB346B8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8006-32E7-495D-9055-8FAEA20F28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e1a1a"/>
                </a:solidFill>
                <a:latin typeface="Times New Roman"/>
              </a:rPr>
              <a:t>ДЕ 6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e1a1a"/>
                </a:solidFill>
                <a:latin typeface="Tahoma"/>
              </a:rPr>
              <a:t>СОЦИАЛЬНАЯ ФИЛОСОФИЯ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685800" y="22860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Times New Roman"/>
              </a:rPr>
              <a:t>Социальное развит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Object 3"/>
          <p:cNvGraphicFramePr/>
          <p:nvPr/>
        </p:nvGraphicFramePr>
        <p:xfrm>
          <a:off x="457200" y="1295280"/>
          <a:ext cx="8229600" cy="47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22960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Исторические этапы познания общества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609480" y="5105520"/>
            <a:ext cx="1981440" cy="16002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есиод (8 в д.н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фей (8-7 в д.н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ерекид (7-6 в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2819520" y="3809880"/>
            <a:ext cx="2438280" cy="28195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крат (470-399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атон (428-348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ристотель (384-322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киавелли Н.(1469-152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нтескье(1689-175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р Т.(1477-153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етле Л.(1796-187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5562720" y="2209680"/>
            <a:ext cx="2895480" cy="43434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т О. (1798-185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енсер Г. (1820-19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ркс К. (1818-188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бер А. (1868-195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бер М. (1864-19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юркгейм (1858-19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стер У. (1841-19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рд Г. (1843-19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ето В. (1848-192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рокин П. (1889-196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валевский М. (1851-19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ид Г. (1863-193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сонс Т. (19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ртон Р.К.(19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рендорв Ф.Р. (192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зарсфельд П.Ф. (19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685800" y="41148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лигиоз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п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3218040" y="2743200"/>
            <a:ext cx="150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лософск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иче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5608800" y="1600200"/>
            <a:ext cx="26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циональный (науч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e1a1a"/>
                </a:solidFill>
                <a:latin typeface="Times New Roman"/>
              </a:rPr>
              <a:t>Тема 17.</a:t>
            </a:r>
            <a:r>
              <a:rPr b="0" i="1" lang="ru-RU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de1a1a"/>
                </a:solidFill>
                <a:latin typeface="Times New Roman"/>
              </a:rPr>
              <a:t>Общество как объект познания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ецифика социального позн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нятийный аппарат социальной философ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торические этапы познания обще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99"/>
                </a:solidFill>
                <a:latin typeface="Times New Roman"/>
              </a:rPr>
              <a:t>Литература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рулин В.С. Социальная философия: Учебник для вузов. 2-е изд. М.: ФАИР-ПРЕСС, 1999. 560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ьюи Дж. Общество и его проблемы. М.: Идея-Пресс, 2002. 160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мджян К.Х. Социум. Общество. История: Учебное пособие для студентов и аспирантов. М.: Наука, 1994. 239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рсонс Т. Понятие социаль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ппер К. Нищета историциз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ффлер А. Футурошок. Спб.: Лань, 1997. 464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ранк С. Духовные основы обще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сперс К. Схема мировой истор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Times New Roman"/>
              </a:rPr>
              <a:t>Социальная философия изучает: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щность общ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исхождение общ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уктуру общ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ундаментальные закономерности разви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спективы общественного разви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ономерности функционирования общественной систе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99"/>
                </a:solidFill>
                <a:latin typeface="Times New Roman"/>
              </a:rPr>
              <a:t>Общество</a:t>
            </a:r>
            <a:br>
              <a:rPr sz="4400"/>
            </a:b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- форма разумно организованной, культурной жизни и деятельности людей, объединенных общими потребностями, интересами и целями</a:t>
            </a: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99"/>
                </a:solidFill>
                <a:latin typeface="Times New Roman"/>
              </a:rPr>
              <a:t>Характеристики общества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94920" y="1295280"/>
            <a:ext cx="7162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лост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моорганизуем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намич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ность развиватьс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ономер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моуправляем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Times New Roman"/>
              </a:rPr>
              <a:t>Специфика социального познания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0" y="1752480"/>
            <a:ext cx="3809880" cy="21337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ая философ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это система теоретическ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ния о наиболее общ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омерностях и тенденция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аимодействия социаль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ений, функционирова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развития обще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4"/>
          <p:cNvSpPr/>
          <p:nvPr/>
        </p:nvSpPr>
        <p:spPr>
          <a:xfrm>
            <a:off x="4343400" y="1676520"/>
            <a:ext cx="4800600" cy="236196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е философия изуч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ы, согласно которы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обществе складываю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ойчивые, больш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ппы людей, отнош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ду этими группами, 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язи и роль в общест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4724280"/>
            <a:ext cx="8915400" cy="182880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амом объекте социального познания изначально присутствует и его субъ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жность, многообразие и разнокачественность общественной жизни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йствуют социальные и индивидуальные силы, материальные и идеальны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ственные и субъективные факторы, сознательные и бессознательные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чностный фак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"/>
          <p:cNvSpPr/>
          <p:nvPr/>
        </p:nvSpPr>
        <p:spPr>
          <a:xfrm>
            <a:off x="3809880" y="2819520"/>
            <a:ext cx="5335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16765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ТА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0"/>
          <p:cNvSpPr/>
          <p:nvPr/>
        </p:nvSpPr>
        <p:spPr>
          <a:xfrm>
            <a:off x="4191120" y="1523880"/>
            <a:ext cx="0" cy="32004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1"/>
          <p:cNvSpPr/>
          <p:nvPr/>
        </p:nvSpPr>
        <p:spPr>
          <a:xfrm flipH="1">
            <a:off x="4419720" y="3733920"/>
            <a:ext cx="838080" cy="990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3200400" y="3886200"/>
            <a:ext cx="68580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-228600"/>
            <a:ext cx="88977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e1a1a"/>
                </a:solidFill>
                <a:latin typeface="Times New Roman"/>
              </a:rPr>
              <a:t>	</a:t>
            </a:r>
            <a:br>
              <a:rPr sz="3200"/>
            </a:br>
            <a:r>
              <a:rPr b="0" i="1" lang="ru-RU" sz="3200" spc="-1" strike="noStrike">
                <a:solidFill>
                  <a:srgbClr val="de1a1a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3399"/>
                </a:solidFill>
                <a:latin typeface="Times New Roman"/>
              </a:rPr>
              <a:t>Понятийный аппарат социальной философии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Line 4"/>
          <p:cNvSpPr/>
          <p:nvPr/>
        </p:nvSpPr>
        <p:spPr>
          <a:xfrm>
            <a:off x="4952880" y="36576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34"/>
          <p:cNvSpPr/>
          <p:nvPr/>
        </p:nvSpPr>
        <p:spPr>
          <a:xfrm>
            <a:off x="1143000" y="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Object 35"/>
          <p:cNvGraphicFramePr/>
          <p:nvPr/>
        </p:nvGraphicFramePr>
        <p:xfrm>
          <a:off x="1219320" y="1600200"/>
          <a:ext cx="739116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739116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685800" y="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Times New Roman"/>
              </a:rPr>
              <a:t>Общественные отнош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048120" y="1676520"/>
            <a:ext cx="2819160" cy="6858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ен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380880" y="2590920"/>
            <a:ext cx="2514600" cy="6858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6019920" y="2514600"/>
            <a:ext cx="2438280" cy="6094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деоло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0" y="3429000"/>
            <a:ext cx="3124080" cy="76212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з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5943600" y="3352680"/>
            <a:ext cx="2590920" cy="8384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дстрой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228600" y="4572000"/>
            <a:ext cx="3581280" cy="22860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окупность материальн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ономических отношен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 людьми в процесс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ственного произво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движения обществен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укта от произво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потреб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5486400" y="4724280"/>
            <a:ext cx="3429000" cy="18288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Государственно -правов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шения (государство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формы обществен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нания (политик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о, мораль, религи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кусство, философ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"/>
          <p:cNvSpPr/>
          <p:nvPr/>
        </p:nvSpPr>
        <p:spPr>
          <a:xfrm flipH="1">
            <a:off x="2209320" y="2133720"/>
            <a:ext cx="83844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1"/>
          <p:cNvSpPr/>
          <p:nvPr/>
        </p:nvSpPr>
        <p:spPr>
          <a:xfrm>
            <a:off x="5867280" y="2057400"/>
            <a:ext cx="121932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2"/>
          <p:cNvSpPr/>
          <p:nvPr/>
        </p:nvSpPr>
        <p:spPr>
          <a:xfrm>
            <a:off x="1447920" y="320040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3"/>
          <p:cNvSpPr/>
          <p:nvPr/>
        </p:nvSpPr>
        <p:spPr>
          <a:xfrm>
            <a:off x="7238880" y="312408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4"/>
          <p:cNvSpPr/>
          <p:nvPr/>
        </p:nvSpPr>
        <p:spPr>
          <a:xfrm>
            <a:off x="1371600" y="41911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5"/>
          <p:cNvSpPr/>
          <p:nvPr/>
        </p:nvSpPr>
        <p:spPr>
          <a:xfrm>
            <a:off x="7391520" y="4191120"/>
            <a:ext cx="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23:12:51Z</dcterms:created>
  <dc:creator>‚€ЉЂ</dc:creator>
  <dc:description/>
  <dc:language>en-US</dc:language>
  <cp:lastModifiedBy>LEGION</cp:lastModifiedBy>
  <dcterms:modified xsi:type="dcterms:W3CDTF">2014-11-11T08:04:15Z</dcterms:modified>
  <cp:revision>27</cp:revision>
  <dc:subject/>
  <dc:title>РАЗДЕЛ 4</dc:title>
</cp:coreProperties>
</file>