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156F-8F8B-440B-B77E-27587FD795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ДЕ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СОЦИАЛЬНАЯ ФИЛОСО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A3CB-F38C-4E5D-8EC8-4336F1CED2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Социальное развит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5AE0-F1D8-4E8C-9B40-9872D02921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Исторические этапы познания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B40B-B761-4120-9111-A2B10785EF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e1a1a"/>
                </a:solidFill>
                <a:latin typeface="Times New Roman"/>
              </a:rPr>
              <a:t>Тема 17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de1a1a"/>
                </a:solidFill>
                <a:latin typeface="Times New Roman"/>
              </a:rPr>
              <a:t>Общество как объект позн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фика социального по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ятийный аппарат социальной философ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рические этапы познания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7019-A128-49D3-AB4C-CBF3AEA3DA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улин В.С. Социальная философия: Учебник для вузов. 2-е изд. М.: ФАИР-ПРЕСС, 1999. 560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ьюи Дж. Общество и его проблемы. М.: Идея-Пресс, 2002. 160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мджян К.Х. Социум. Общество. История: Учебное пособие для студентов и аспирантов. М.: Наука, 1994. 239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сонс Т. Понятие социальн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пер К. Нищета историциз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ффлер А. Футурошок. Спб.: Лань, 1997. 464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нк С. Духовные основы общ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сперс К. Схема мировой истор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71EF-A530-4F1B-960E-8D906DDEF3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Социальная философия изучае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обще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схождение обще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у обще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даментальные закономерности 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ы общественного 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мерности функционирования обществен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AC7C-76F9-44F8-A63C-947B03A7D5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Обществ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форма разумно организованной, культурной жизни и деятельности людей, объединенных общими потребностями, интересами и целям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0DAA-7B53-4890-AAD8-82503D9C40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Характеристики обще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ост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организуем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ч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особность развивать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мер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управляем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CAEB-480F-45D1-93AF-A51A09030C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Специфика социального по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17DA-A6C4-4609-9B45-1F1026CD41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Понятийный аппарат социальной философ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7DEE-CAB2-49CE-8D4A-07621BDAF1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03C1-1614-4126-BB93-06A4EF6F0B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060-A327-46B0-8D5A-F723DEF3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DA98-7612-4160-A157-9575611D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C7C-08CB-4651-8D42-350CD445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7BC-DCD5-430E-90D5-2E730FAF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5CAB-B76D-49A1-8525-5A8F80AC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3AE5-1F6E-43CD-9527-84312BE8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C538-A22A-4191-B643-1DA1FA38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73CB-B150-4195-BF77-3DEA56F4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BEDA-513C-498B-BE70-33392A36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EC65-3D25-49AF-BAA7-7353A1EB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8768-8A1F-4410-AED0-9F92A0C5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4ACA-AB19-45AA-9EE8-06433FB9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CA86-EA07-4FD7-BE40-1F4134E5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8AB3-669C-43A0-9714-0B8C184B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04B2-E7D5-4D9A-BF1C-AD900A34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137D-44EC-44B8-8432-BD668CFE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EBE7-D8D1-4E86-B8CD-296B5AF4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2812-7D3E-4B50-9273-F9ABA374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636B-C92F-45E4-BFBB-81BEC48D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01F-4926-49C5-9241-D93F2966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F29-F744-4DC8-BEB3-5D537158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5306-921F-44AF-980A-C32C03A0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555-FC1F-44F5-ADDF-729181D4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FBE-FD4C-4A64-9DFA-DF7A5315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A335-19EB-406C-9D2E-2DCD6CD65A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278C-7FA0-4DE2-9B46-98F05C551A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e1a1a"/>
                </a:solidFill>
                <a:latin typeface="Times New Roman"/>
              </a:rPr>
              <a:t>ДЕ 6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e1a1a"/>
                </a:solidFill>
                <a:latin typeface="Tahoma"/>
              </a:rPr>
              <a:t>СОЦИАЛЬНАЯ ФИЛОСОФИЯ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685800" y="22860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Times New Roman"/>
              </a:rPr>
              <a:t>Социальное развит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Object 3"/>
          <p:cNvGraphicFramePr/>
          <p:nvPr/>
        </p:nvGraphicFramePr>
        <p:xfrm>
          <a:off x="457200" y="1295280"/>
          <a:ext cx="8229600" cy="47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22960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Исторические этапы познания общества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609480" y="5105520"/>
            <a:ext cx="1981440" cy="16002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есиод (8 в д.н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фей (8-7 в д.н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ерекид (7-6 в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2819520" y="3809880"/>
            <a:ext cx="2438280" cy="28195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крат (470-399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атон (428-348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ристотель (384-322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киавелли Н.(1469-152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нтескье(1689-175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р Т.(1477-153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етле Л.(1796-187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5562720" y="2209680"/>
            <a:ext cx="2895480" cy="43434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т О. (1798-185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енсер Г. (1820-19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ркс К. (1818-188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бер А. (1868-195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бер М. (1864-19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юркгейм (1858-19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стер У. (1841-19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рд Г. (1843-19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ето В. (1848-192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рокин П. (1889-196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валевский М. (1851-19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ид Г. (1863-193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сонс Т. (19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ртон Р.К.(19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рендорв Ф.Р. (192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зарсфельд П.Ф. (19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685800" y="41148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лигиоз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п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3218040" y="2743200"/>
            <a:ext cx="150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лософск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иче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5608800" y="1600200"/>
            <a:ext cx="26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циональный (науч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e1a1a"/>
                </a:solidFill>
                <a:latin typeface="Times New Roman"/>
              </a:rPr>
              <a:t>Тема 17.</a:t>
            </a:r>
            <a:r>
              <a:rPr b="0" i="1" lang="ru-RU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de1a1a"/>
                </a:solidFill>
                <a:latin typeface="Times New Roman"/>
              </a:rPr>
              <a:t>Общество как объект познания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ецифика социального позн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нятийный аппарат социальной философ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торические этапы познания обще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99"/>
                </a:solidFill>
                <a:latin typeface="Times New Roman"/>
              </a:rPr>
              <a:t>Литература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рулин В.С. Социальная философия: Учебник для вузов. 2-е изд. М.: ФАИР-ПРЕСС, 1999. 560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ьюи Дж. Общество и его проблемы. М.: Идея-Пресс, 2002. 160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мджян К.Х. Социум. Общество. История: Учебное пособие для студентов и аспирантов. М.: Наука, 1994. 239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рсонс Т. Понятие социаль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ппер К. Нищета историциз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ффлер А. Футурошок. Спб.: Лань, 1997. 464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ранк С. Духовные основы обще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сперс К. Схема мировой истор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Times New Roman"/>
              </a:rPr>
              <a:t>Социальная философия изучает: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щность общ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исхождение общ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уктуру общ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ундаментальные закономерности разви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спективы общественного разви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ономерности функционирования общественной систе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99"/>
                </a:solidFill>
                <a:latin typeface="Times New Roman"/>
              </a:rPr>
              <a:t>Общество</a:t>
            </a:r>
            <a:br>
              <a:rPr sz="4400"/>
            </a:b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- форма разумно организованной, культурной жизни и деятельности людей, объединенных общими потребностями, интересами и целями</a:t>
            </a: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99"/>
                </a:solidFill>
                <a:latin typeface="Times New Roman"/>
              </a:rPr>
              <a:t>Характеристики общества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94920" y="1295280"/>
            <a:ext cx="7162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лост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моорганизуем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намич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ность развиватьс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ономер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моуправляем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Times New Roman"/>
              </a:rPr>
              <a:t>Специфика социального познания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0" y="1752480"/>
            <a:ext cx="3809880" cy="21337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ая философ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это система теоретическ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ния о наиболее общ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омерностях и тенденция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аимодействия социаль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ений, функционирова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развития обще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4"/>
          <p:cNvSpPr/>
          <p:nvPr/>
        </p:nvSpPr>
        <p:spPr>
          <a:xfrm>
            <a:off x="4343400" y="1676520"/>
            <a:ext cx="4800600" cy="236196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е философия изуч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ы, согласно которы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обществе складываю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ойчивые, больш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ппы людей, отнош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ду этими группами, 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язи и роль в общест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4724280"/>
            <a:ext cx="8915400" cy="182880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амом объекте социального познания изначально присутствует и его субъ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жность, многообразие и разнокачественность общественной жизни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йствуют социальные и индивидуальные силы, материальные и идеальны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ственные и субъективные факторы, сознательные и бессознательные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чностный фак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"/>
          <p:cNvSpPr/>
          <p:nvPr/>
        </p:nvSpPr>
        <p:spPr>
          <a:xfrm>
            <a:off x="3809880" y="2819520"/>
            <a:ext cx="5335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16765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ТА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0"/>
          <p:cNvSpPr/>
          <p:nvPr/>
        </p:nvSpPr>
        <p:spPr>
          <a:xfrm>
            <a:off x="4191120" y="1523880"/>
            <a:ext cx="0" cy="32004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1"/>
          <p:cNvSpPr/>
          <p:nvPr/>
        </p:nvSpPr>
        <p:spPr>
          <a:xfrm flipH="1">
            <a:off x="4419720" y="3733920"/>
            <a:ext cx="838080" cy="990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3200400" y="3886200"/>
            <a:ext cx="68580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-228600"/>
            <a:ext cx="88977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e1a1a"/>
                </a:solidFill>
                <a:latin typeface="Times New Roman"/>
              </a:rPr>
              <a:t>	</a:t>
            </a:r>
            <a:br>
              <a:rPr sz="3200"/>
            </a:br>
            <a:r>
              <a:rPr b="0" i="1" lang="ru-RU" sz="3200" spc="-1" strike="noStrike">
                <a:solidFill>
                  <a:srgbClr val="de1a1a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3399"/>
                </a:solidFill>
                <a:latin typeface="Times New Roman"/>
              </a:rPr>
              <a:t>Понятийный аппарат социальной философии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Line 4"/>
          <p:cNvSpPr/>
          <p:nvPr/>
        </p:nvSpPr>
        <p:spPr>
          <a:xfrm>
            <a:off x="4952880" y="36576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34"/>
          <p:cNvSpPr/>
          <p:nvPr/>
        </p:nvSpPr>
        <p:spPr>
          <a:xfrm>
            <a:off x="1143000" y="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Object 35"/>
          <p:cNvGraphicFramePr/>
          <p:nvPr/>
        </p:nvGraphicFramePr>
        <p:xfrm>
          <a:off x="1219320" y="1600200"/>
          <a:ext cx="739116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739116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685800" y="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Times New Roman"/>
              </a:rPr>
              <a:t>Общественные отнош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048120" y="1676520"/>
            <a:ext cx="2819160" cy="6858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ен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380880" y="2590920"/>
            <a:ext cx="2514600" cy="6858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6019920" y="2514600"/>
            <a:ext cx="2438280" cy="6094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деоло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0" y="3429000"/>
            <a:ext cx="3124080" cy="76212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з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5943600" y="3352680"/>
            <a:ext cx="2590920" cy="8384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дстрой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228600" y="4572000"/>
            <a:ext cx="3581280" cy="22860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окупность материальн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ономических отношен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 людьми в процесс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ственного произво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движения обществен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укта от произво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потреб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5486400" y="4724280"/>
            <a:ext cx="3429000" cy="18288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Государственно -правов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шения (государство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формы обществен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нания (политик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о, мораль, религи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кусство, философ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"/>
          <p:cNvSpPr/>
          <p:nvPr/>
        </p:nvSpPr>
        <p:spPr>
          <a:xfrm flipH="1">
            <a:off x="2209320" y="2133720"/>
            <a:ext cx="83844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1"/>
          <p:cNvSpPr/>
          <p:nvPr/>
        </p:nvSpPr>
        <p:spPr>
          <a:xfrm>
            <a:off x="5867280" y="2057400"/>
            <a:ext cx="121932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2"/>
          <p:cNvSpPr/>
          <p:nvPr/>
        </p:nvSpPr>
        <p:spPr>
          <a:xfrm>
            <a:off x="1447920" y="320040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3"/>
          <p:cNvSpPr/>
          <p:nvPr/>
        </p:nvSpPr>
        <p:spPr>
          <a:xfrm>
            <a:off x="7238880" y="312408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4"/>
          <p:cNvSpPr/>
          <p:nvPr/>
        </p:nvSpPr>
        <p:spPr>
          <a:xfrm>
            <a:off x="1371600" y="41911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5"/>
          <p:cNvSpPr/>
          <p:nvPr/>
        </p:nvSpPr>
        <p:spPr>
          <a:xfrm>
            <a:off x="7391520" y="4191120"/>
            <a:ext cx="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23:12:51Z</dcterms:created>
  <dc:creator>‚€ЉЂ</dc:creator>
  <dc:description/>
  <dc:language>en-US</dc:language>
  <cp:lastModifiedBy>LEGION</cp:lastModifiedBy>
  <dcterms:modified xsi:type="dcterms:W3CDTF">2014-11-11T08:04:15Z</dcterms:modified>
  <cp:revision>27</cp:revision>
  <dc:subject/>
  <dc:title>РАЗДЕЛ 4</dc:title>
</cp:coreProperties>
</file>