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3C0A-3287-4684-820C-3F673F7101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e1a1a"/>
                </a:solidFill>
                <a:latin typeface="Times New Roman"/>
              </a:rPr>
              <a:t>ДЕ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e1a1a"/>
                </a:solidFill>
                <a:latin typeface="Times New Roman"/>
              </a:rPr>
              <a:t>СОЦИАЛЬНАЯ ФИЛОСОФ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97B7-9789-423B-AEB3-FD229698D5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Социальное развит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88D3-42E1-40C4-A62D-96B8BAAFB1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Исторические этапы познания об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AA1B-F6AA-42F9-8669-3B782094BC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e1a1a"/>
                </a:solidFill>
                <a:latin typeface="Times New Roman"/>
              </a:rPr>
              <a:t>Тема 17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de1a1a"/>
                </a:solidFill>
                <a:latin typeface="Times New Roman"/>
              </a:rPr>
              <a:t>Общество как объект позн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фика социального позн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ятийный аппарат социальной философ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рические этапы познания об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CA62-FDAA-40A9-B8B6-571260C25B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рулин В.С. Социальная философия: Учебник для вузов. 2-е изд. М.: ФАИР-ПРЕСС, 1999. 560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ьюи Дж. Общество и его проблемы. М.: Идея-Пресс, 2002. 160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мджян К.Х. Социум. Общество. История: Учебное пособие для студентов и аспирантов. М.: Наука, 1994. 239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сонс Т. Понятие социальной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ппер К. Нищета историциз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ффлер А. Футурошок. Спб.: Лань, 1997. 464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нк С. Духовные основы общ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сперс К. Схема мировой истор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4430-A69A-4C19-BBE1-1B33596DA7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Социальная философия изучает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обще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схождение обще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у обще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даментальные закономерности 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пективы общественного 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омерности функционирования общественной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CDC8-7790-4917-B6E1-493215B7EC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Обществ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форма разумно организованной, культурной жизни и деятельности людей, объединенных общими потребностями, интересами и целям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C21D-06F7-4F25-BA93-7E2BA368B8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Характеристики общест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ост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оорганизуем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амич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особность развиватьс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омер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оуправляем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123F-6A4E-4B4C-A0AA-2FF543C5F5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Специфика социального позн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B5A0-EECF-473F-8666-804DADC595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e1a1a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de1a1a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Понятийный аппарат социальной философ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467E-E735-4682-9A75-61832D541E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Об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AA62-0D2A-4BFD-A864-27A3DAC142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AA09-146F-4FE9-BF88-56CA159E0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6F7C-97E8-43EE-A4F6-057FC26A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B712-4F96-4A6F-9DA4-EF914DE2A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D34A-AF83-4E12-943D-944AC4FFA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68A8-12B0-48BC-8C63-9E77E9B4F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D4D6-2AAF-46DA-B381-86CDBD3A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EC1F-0DAA-48FE-A996-FF0B45DF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2C41-8CFF-4774-9BD9-6253E19E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AFE2-77DD-4635-AD69-19A5E037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17A4-5C33-4A37-9C44-4508FDA7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7A3F-DCCB-4C53-93BB-C7064793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4872-C1BE-4ADC-A514-0D4BE3FD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2F71-10D4-4DB8-98F8-A87807A9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B070-3666-4C28-9E3B-99DA81CB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65A0-CF6F-48E5-8546-377F0568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237D-1072-4FFB-8A2F-0DA661D24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51E6-F52B-4610-8E97-58D563ED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4139-7327-4767-8FBA-D4EA3F05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65F8-6DB7-42CF-A093-1DDD1ABA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565C-8B86-45EF-954B-2F0C4468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491C-DF8A-4B99-8514-9515010B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A944-0D8C-436D-8DF5-22DFB8AA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A5D9-AEB2-41B0-A2D8-CF91EB20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38C3-A736-42B9-A7B7-DFA384EC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A850-A5D8-4C07-92AF-1BC7EF3F5D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9478-1FC5-458C-8D61-C0A7101905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e1a1a"/>
                </a:solidFill>
                <a:latin typeface="Times New Roman"/>
              </a:rPr>
              <a:t>ДЕ 6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e1a1a"/>
                </a:solidFill>
                <a:latin typeface="Tahoma"/>
              </a:rPr>
              <a:t>СОЦИАЛЬНАЯ ФИЛОСОФИЯ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685800" y="228600"/>
            <a:ext cx="8153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Times New Roman"/>
              </a:rPr>
              <a:t>Социальное развит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Object 3"/>
          <p:cNvGraphicFramePr/>
          <p:nvPr/>
        </p:nvGraphicFramePr>
        <p:xfrm>
          <a:off x="457200" y="1295280"/>
          <a:ext cx="8229600" cy="47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229600" cy="47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Times New Roman"/>
              </a:rPr>
              <a:t>Исторические этапы познания общества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609480" y="5105520"/>
            <a:ext cx="1981440" cy="16002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ме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есиод (8 в д.н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рфей (8-7 в д.н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ерекид (7-6 в д.н.э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2819520" y="3809880"/>
            <a:ext cx="2438280" cy="281952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крат (470-399 д.н.э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латон (428-348 д.н.э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ристотель (384-322 д.н.э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киавелли Н.(1469-152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нтескье(1689-175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р Т.(1477-153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етле Л.(1796-187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5562720" y="2209680"/>
            <a:ext cx="2895480" cy="43434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т О. (1798-185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енсер Г. (1820-19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ркс К. (1818-188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бер А. (1868-195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бер М. (1864-192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юркгейм (1858-19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естер У. (1841-19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рд Г. (1843-190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рето В. (1848-192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рокин П. (1889-196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валевский М. (1851-191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ид Г. (1863-193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рсонс Т. (190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ртон Р.К.(19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рендорв Ф.Р. (192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зарсфельд П.Ф. (19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685800" y="41148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лигиозн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ап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3218040" y="2743200"/>
            <a:ext cx="150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лософск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ичес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а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9"/>
          <p:cNvSpPr/>
          <p:nvPr/>
        </p:nvSpPr>
        <p:spPr>
          <a:xfrm>
            <a:off x="5608800" y="1600200"/>
            <a:ext cx="267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циональный (науч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а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e1a1a"/>
                </a:solidFill>
                <a:latin typeface="Times New Roman"/>
              </a:rPr>
              <a:t>Тема 17.</a:t>
            </a:r>
            <a:r>
              <a:rPr b="0" i="1" lang="ru-RU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de1a1a"/>
                </a:solidFill>
                <a:latin typeface="Times New Roman"/>
              </a:rPr>
              <a:t>Общество как объект познания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ецифика социального позн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нятийный аппарат социальной философ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торические этапы познания общест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3399"/>
                </a:solidFill>
                <a:latin typeface="Times New Roman"/>
              </a:rPr>
              <a:t>Литература: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рулин В.С. Социальная философия: Учебник для вузов. 2-е изд. М.: ФАИР-ПРЕСС, 1999. 560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ьюи Дж. Общество и его проблемы. М.: Идея-Пресс, 2002. 160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мджян К.Х. Социум. Общество. История: Учебное пособие для студентов и аспирантов. М.: Наука, 1994. 239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арсонс Т. Понятие социальной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ппер К. Нищета историцизм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ффлер А. Футурошок. Спб.: Лань, 1997. 464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ранк С. Духовные основы обще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Ясперс К. Схема мировой истор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99"/>
                </a:solidFill>
                <a:latin typeface="Times New Roman"/>
              </a:rPr>
              <a:t>Социальная философия изучает: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ущность обществ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исхождение обществ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уктуру обществ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ундаментальные закономерности разви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спективы общественного разви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кономерности функционирования общественной систем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3399"/>
                </a:solidFill>
                <a:latin typeface="Times New Roman"/>
              </a:rPr>
              <a:t>Общество</a:t>
            </a:r>
            <a:br>
              <a:rPr sz="4400"/>
            </a:b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- форма разумно организованной, культурной жизни и деятельности людей, объединенных общими потребностями, интересами и целями</a:t>
            </a:r>
            <a:br>
              <a:rPr sz="4400"/>
            </a:b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3399"/>
                </a:solidFill>
                <a:latin typeface="Times New Roman"/>
              </a:rPr>
              <a:t>Характеристики общества: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94920" y="1295280"/>
            <a:ext cx="71629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лост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амоорганизуем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инамич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ность развиватьс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кономер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амоуправляем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99"/>
                </a:solidFill>
                <a:latin typeface="Times New Roman"/>
              </a:rPr>
              <a:t>Специфика социального познания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0" y="1752480"/>
            <a:ext cx="3809880" cy="213372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ая философ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это система теоретическ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нания о наиболее общи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ономерностях и тенденция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заимодействия социальны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влений, функционирова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развития обще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Oval 4"/>
          <p:cNvSpPr/>
          <p:nvPr/>
        </p:nvSpPr>
        <p:spPr>
          <a:xfrm>
            <a:off x="4343400" y="1676520"/>
            <a:ext cx="4800600" cy="236196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ые философия изуча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оны, согласно которы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обществе складывают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тойчивые, больш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уппы людей, отнош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ду этими группами, 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язи и роль в обществ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4724280"/>
            <a:ext cx="8915400" cy="1828800"/>
          </a:xfrm>
          <a:prstGeom prst="rect">
            <a:avLst/>
          </a:prstGeom>
          <a:solidFill>
            <a:srgbClr val="ffff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амом объекте социального познания изначально присутствует и его субъе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ожность, многообразие и разнокачественность общественной жизни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йствуют социальные и индивидуальные силы, материальные и идеальны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ственные и субъективные факторы, сознательные и бессознательные и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чностный факт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7"/>
          <p:cNvSpPr/>
          <p:nvPr/>
        </p:nvSpPr>
        <p:spPr>
          <a:xfrm>
            <a:off x="3809880" y="2819520"/>
            <a:ext cx="53352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16765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ТАК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0"/>
          <p:cNvSpPr/>
          <p:nvPr/>
        </p:nvSpPr>
        <p:spPr>
          <a:xfrm>
            <a:off x="4191120" y="1523880"/>
            <a:ext cx="0" cy="32004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1"/>
          <p:cNvSpPr/>
          <p:nvPr/>
        </p:nvSpPr>
        <p:spPr>
          <a:xfrm flipH="1">
            <a:off x="4419720" y="3733920"/>
            <a:ext cx="838080" cy="990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2"/>
          <p:cNvSpPr/>
          <p:nvPr/>
        </p:nvSpPr>
        <p:spPr>
          <a:xfrm>
            <a:off x="3200400" y="3886200"/>
            <a:ext cx="685800" cy="838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-228600"/>
            <a:ext cx="88977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e1a1a"/>
                </a:solidFill>
                <a:latin typeface="Times New Roman"/>
              </a:rPr>
              <a:t>	</a:t>
            </a:r>
            <a:br>
              <a:rPr sz="3200"/>
            </a:br>
            <a:r>
              <a:rPr b="0" i="1" lang="ru-RU" sz="3200" spc="-1" strike="noStrike">
                <a:solidFill>
                  <a:srgbClr val="de1a1a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003399"/>
                </a:solidFill>
                <a:latin typeface="Times New Roman"/>
              </a:rPr>
              <a:t>Понятийный аппарат социальной философии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Line 4"/>
          <p:cNvSpPr/>
          <p:nvPr/>
        </p:nvSpPr>
        <p:spPr>
          <a:xfrm>
            <a:off x="4952880" y="365760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34"/>
          <p:cNvSpPr/>
          <p:nvPr/>
        </p:nvSpPr>
        <p:spPr>
          <a:xfrm>
            <a:off x="1143000" y="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2" name="Object 35"/>
          <p:cNvGraphicFramePr/>
          <p:nvPr/>
        </p:nvGraphicFramePr>
        <p:xfrm>
          <a:off x="1219320" y="1600200"/>
          <a:ext cx="7391160" cy="49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739116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685800" y="0"/>
            <a:ext cx="8153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Times New Roman"/>
              </a:rPr>
              <a:t>Общественные отнош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3048120" y="1676520"/>
            <a:ext cx="2819160" cy="6858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ствен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380880" y="2590920"/>
            <a:ext cx="2514600" cy="6858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ериа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6019920" y="2514600"/>
            <a:ext cx="2438280" cy="60948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деолог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6"/>
          <p:cNvSpPr/>
          <p:nvPr/>
        </p:nvSpPr>
        <p:spPr>
          <a:xfrm>
            <a:off x="0" y="3429000"/>
            <a:ext cx="3124080" cy="76212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з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5943600" y="3352680"/>
            <a:ext cx="2590920" cy="83844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дстрой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228600" y="4572000"/>
            <a:ext cx="3581280" cy="22860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вокупность материально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кономических отношен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 людьми в процесс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ственного производ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движения обществен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укта от производ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 потреб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5486400" y="4724280"/>
            <a:ext cx="3429000" cy="18288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Государственно -правов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ношения (государство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формы обществен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нания (политик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о, мораль, религия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кусство, философ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0"/>
          <p:cNvSpPr/>
          <p:nvPr/>
        </p:nvSpPr>
        <p:spPr>
          <a:xfrm flipH="1">
            <a:off x="2209320" y="2133720"/>
            <a:ext cx="83844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1"/>
          <p:cNvSpPr/>
          <p:nvPr/>
        </p:nvSpPr>
        <p:spPr>
          <a:xfrm>
            <a:off x="5867280" y="2057400"/>
            <a:ext cx="121932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2"/>
          <p:cNvSpPr/>
          <p:nvPr/>
        </p:nvSpPr>
        <p:spPr>
          <a:xfrm>
            <a:off x="1447920" y="320040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3"/>
          <p:cNvSpPr/>
          <p:nvPr/>
        </p:nvSpPr>
        <p:spPr>
          <a:xfrm>
            <a:off x="7238880" y="312408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14"/>
          <p:cNvSpPr/>
          <p:nvPr/>
        </p:nvSpPr>
        <p:spPr>
          <a:xfrm>
            <a:off x="1371600" y="419112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5"/>
          <p:cNvSpPr/>
          <p:nvPr/>
        </p:nvSpPr>
        <p:spPr>
          <a:xfrm>
            <a:off x="7391520" y="4191120"/>
            <a:ext cx="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23:12:51Z</dcterms:created>
  <dc:creator>‚€ЉЂ</dc:creator>
  <dc:description/>
  <dc:language>en-US</dc:language>
  <cp:lastModifiedBy>LEGION</cp:lastModifiedBy>
  <dcterms:modified xsi:type="dcterms:W3CDTF">2014-11-11T08:04:15Z</dcterms:modified>
  <cp:revision>27</cp:revision>
  <dc:subject/>
  <dc:title>РАЗДЕЛ 4</dc:title>
</cp:coreProperties>
</file>