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135E-4DEC-4304-B0D8-B0C3E5F883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и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DD18-C6FE-4C02-8E56-6B49119FAE4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оение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всех атомов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лементарный заряд +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ряд ядра равен нулю, 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название протонов и нейтронов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кло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нуклонами действует короткодействующие силы притяжения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дерные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овпадает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ковым номер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 в таблице 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яд ядро равен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е число нейтронов 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овым числом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=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+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значение яд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означение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11Н – ядро ато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орода (прот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3665-C440-48CD-AFBB-B424395A8D5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ются атомы, имеющ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й заряд ядра , но различ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се изотопы одного и того же элемента облад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ми химическими свой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но могут отличать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актив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и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ются изотопами водорода (тритий радиоактив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AAC5-0DEC-4909-B9A5-B78AD277BCD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F79A-53D1-49F7-A2B8-F61A53A9EE7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зото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мече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иология, физиология, медицина, промышленность, археология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луч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кобальтовая пушка» изотопом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7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корение мут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искусственного отбора (в сельском хозяйст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E875-88E4-4703-810E-A8ACD8025AE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наблюдения и регистрации элементарны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2B87-BDBB-4DA7-8F3B-600ED354E97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четчик Гейге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явле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ной ион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н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олько факт пролета час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CBDD-3D43-45A8-A989-DA88BD99FA2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а Вильс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денсации перенасыщ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2244-FBD6-434A-90EE-E8329D6CCD7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зырьковая 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 пузырьков пара в перегретой жид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B8F5-FD4E-49EA-AE49-3AEB7197252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 толстослойных фотоэмуль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ионизирующее действие заряженных частиц на фотоэмульсию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редки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3266-BFF0-4FA8-BA73-35E4A3C04D7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BB0-AF66-4A21-9F47-A938D675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83C-0F79-4DE3-8A7A-5EDB13A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C8A-CB66-4532-957B-632E9A18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ED1-45E3-4610-8F09-1F9614EE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178A-C397-415F-BDB6-2DCC0388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DC2E-7AF0-4DC1-8381-69BF5914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A7C4-154F-4655-97E4-05F68C38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3B35-86D7-444B-B4C5-6176B8D8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1C66-090B-4D3A-93C7-AF9F6845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36FE-0854-4D03-9017-8CCF4A3E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923C-5573-4BC6-B650-27A1E20D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49A-7D65-4E81-AF4C-1C2C1016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99CC-CE3F-42DF-954A-45622F68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5432-08D7-4B72-A73A-3FCB576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7207-B1A8-4098-8CAB-FBC8CA3B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2BAB-6429-4DD2-B71B-2B5BC397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321D-5311-4BF5-81E8-A14F2301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A4C-3FB5-439B-862E-9C24D7BD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748-8A3C-4B19-9B90-06D03AFF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78C-7CD2-4FB6-A4D5-8A270FA8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21B-7BCD-4DB2-9894-EEC88041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3BB-43B6-4835-A5AD-B599EE63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769-D21B-4C9F-A57B-83CB7257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AB2-584E-4CDF-9DC7-70A3B35C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5F7B-7D25-46B0-BDE9-D5A3FA5550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BBCB-6E73-4117-AE8A-4AD33CE69B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Ядра и частиц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333360"/>
          <a:ext cx="8713800" cy="62895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3116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оение яд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ра всех атомов из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элементарный заряд +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заряд ядра равен нулю, 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название протонов и нейтронов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кло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 нуклонами действует короткодействующие силы притяжения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ерные сил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и совпадает с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рядковым номером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мента в таблице Менделее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яд ядро равен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число нейтронов и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называется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овым числом: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=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+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значение яде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где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бозначение химического элемен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имер 11Н – ядро атома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рода (прото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отоп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 называются атомы, имеющ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й заряд ядра , но различн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сс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Все изотопы одного и того же элемента обладаю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ми химическими свойств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, но могут отличать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оактив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йтер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т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являются изотопами водорода (тритий радиоактив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5545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ом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5949720"/>
            <a:ext cx="453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др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Атомы изотопов водорода"/>
          <p:cNvPicPr/>
          <p:nvPr/>
        </p:nvPicPr>
        <p:blipFill>
          <a:blip r:embed="rId1"/>
          <a:stretch/>
        </p:blipFill>
        <p:spPr>
          <a:xfrm>
            <a:off x="179280" y="0"/>
            <a:ext cx="6193080" cy="244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Ядра изотопов водорода"/>
          <p:cNvPicPr/>
          <p:nvPr/>
        </p:nvPicPr>
        <p:blipFill>
          <a:blip r:embed="rId2"/>
          <a:stretch/>
        </p:blipFill>
        <p:spPr>
          <a:xfrm>
            <a:off x="4140360" y="3068640"/>
            <a:ext cx="4465440" cy="2782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нение изотопов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 мече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том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биология, физиология, медицина, промышленность, археология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чник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луч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«кобальтовая пушка» изотопом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корение мутац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искусственного отбора (в сельском хозяйств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280360" cy="22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тоды наблюдения и регистрации элементарных част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Счетчик Гейгера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явлени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арной иониз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нт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олько факт пролета част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3840" cy="162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Безымянный"/>
          <p:cNvPicPr/>
          <p:nvPr/>
        </p:nvPicPr>
        <p:blipFill>
          <a:blip r:embed="rId1"/>
          <a:stretch/>
        </p:blipFill>
        <p:spPr>
          <a:xfrm>
            <a:off x="395280" y="189000"/>
            <a:ext cx="5311800" cy="296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Безымянный1"/>
          <p:cNvPicPr/>
          <p:nvPr/>
        </p:nvPicPr>
        <p:blipFill>
          <a:blip r:embed="rId2"/>
          <a:stretch/>
        </p:blipFill>
        <p:spPr>
          <a:xfrm>
            <a:off x="5003640" y="2781360"/>
            <a:ext cx="3792600" cy="34131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мера Вильсо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денсации перенасыщенн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st001_57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13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Безымянный11"/>
          <p:cNvPicPr/>
          <p:nvPr/>
        </p:nvPicPr>
        <p:blipFill>
          <a:blip r:embed="rId2"/>
          <a:stretch/>
        </p:blipFill>
        <p:spPr>
          <a:xfrm>
            <a:off x="5148360" y="1916280"/>
            <a:ext cx="3440160" cy="4265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узырьковая каме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пузырьков пара в перегретой жидк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Безымянный2"/>
          <p:cNvPicPr/>
          <p:nvPr/>
        </p:nvPicPr>
        <p:blipFill>
          <a:blip r:embed="rId1"/>
          <a:stretch/>
        </p:blipFill>
        <p:spPr>
          <a:xfrm>
            <a:off x="1332000" y="836640"/>
            <a:ext cx="6613560" cy="4408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 толстослойных фотоэмульси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тся ионизирующее действие заряженных частиц на фотоэмульсию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редкие я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0:39Z</dcterms:created>
  <dc:creator>Гость</dc:creator>
  <dc:description/>
  <dc:language>en-US</dc:language>
  <cp:lastModifiedBy>LEGION</cp:lastModifiedBy>
  <dcterms:modified xsi:type="dcterms:W3CDTF">2015-05-01T09:28:06Z</dcterms:modified>
  <cp:revision>14</cp:revision>
  <dc:subject/>
  <dc:title>Заряжённые час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