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7DFA-78A3-410D-AF10-1B3EE7E69BC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и час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2534-B173-4CFB-B6C1-E3E64AAF60D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оение яд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всех атомов из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элементарный заряд +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,675*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аряд ядра равен нулю, масс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,675*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г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название протонов и нейтронов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укло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нуклонами действует короткодействующие силы притяжения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дерные си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совпадает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ковым номер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 в таблице Менделе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яд ядро равен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e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исло нейтр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е число нейтронов и прото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ядре обозначается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назы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совым числом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=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+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значение яде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Calibri"/>
              </a:rPr>
              <a:t>Z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означение химического эле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 11Н – ядро атом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дорода (прото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B9BD-95B2-4CA1-AF56-7DE9F7343EF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то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называются атомы, имеющ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й заряд ядра , но различ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сс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се изотопы одного и того же элемента облад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ми химическими свойств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, но могут отличать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оактив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ейтер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ит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являются изотопами водорода (тритий радиоактиве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85CC-54BF-4E3B-A479-4E453FAD914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то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о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р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отоп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одор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D147-B1E8-416B-9990-A4810935926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изотоп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мече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то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иология, физиология, медицина, промышленность, археология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и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луч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«кобальтовая пушка» изотопом 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7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6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корение мут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искусственного отбора (в сельском хозяйств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8985-3232-4F87-96AA-905F220CDAF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наблюдения и регистрации элементарных час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F956-209E-4C3E-B944-4BF96DA7B11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четчик Гейге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прибора основано на явлен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арной иониз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аза: пролетающая заряженная частица ионизирует молекулы газа образовавшиеся электроны ускоряются электрическим полем внутри счетчика до энергий необходимых для ударной ионизации. Регистрирует электроны 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нт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только факт пролета час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9E88-495D-40D3-B35B-3EA5394A111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а Вильс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прибора основано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денсации перенасыщен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оды или спирта) на ионах , образующихся вдоль траектории полета заряженной частицы. Поместив камеру Вильсона в однородное магнитное поле и измерив радиус кривизны трека (следа пролетевшей частицы), можно определить удельный заряд частицы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траектории заряжен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753D-095F-4300-B8AE-3AED1652A9C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зырьковая кам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основано 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ние пузырьков пара в перегретой жидк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жидком водороде или пропане) на ионах , возникающих вдоль траектории полета заряженной частицы. Преимущество пузырьковой камеры перед камерой Вильсона : большая плотность рабочего вещества (можно наблюдать серию превращений частиц)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 траектории заряжен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22CA-DF63-4CB2-9CA7-EDD40A725E2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 толстослойных фотоэмульс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ется ионизирующее действие заряженных частиц на фотоэмульсию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регистрировать редкие я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0B33-F1ED-464B-A9DA-4E5B76BAA56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F92F-B3C8-423B-B076-31E7C329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FB7E-A81E-4CB5-A462-CFD9674D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946C-E5F8-490A-B3B8-4C75D009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CBC-A48B-446D-BDA2-691B7FE9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D9BA-1808-4075-A309-5F9C93D9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EE41-041B-4116-A040-CEA245D7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398B-1E77-4771-8248-42A6945C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F3B2-04E4-4F62-90D4-57517478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79CB-3996-439A-BF39-ECA862B9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8980-B598-4526-9312-97124080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1A60-FEF6-4E27-98C5-1AA47DCC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020-AB38-4CA0-B21B-22574F71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3F03-C21A-4045-88D4-1E6B1983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362D-B58E-4EF2-851C-1AFEAF29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FA3A-6192-4B54-934D-19EE558C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BBA3-3FBF-442E-A21D-F2427D94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B0F1-B828-474D-8655-6898DE5E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5BA-7D24-4C8C-B822-B0C41160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BBC9-7D3E-4976-9A79-DBEC054B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4306-0A70-4788-A7A8-EAA12F30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D83-B59D-490A-885B-974BDDE1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B1A-8A32-4CD1-9B36-A3C817A9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7DD6-4D17-4BC6-8570-884671F1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E70-EE9B-4F17-9B1E-8BF96C95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681A-C214-49B4-A6A3-C153FB9CA9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B773-10AA-4C4E-BA1E-EFC6D46B0A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Ядра и частиц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79280" y="333360"/>
          <a:ext cx="8713800" cy="628956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311652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роение яд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ра всех атомов из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элементарный заряд +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,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сса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1,675*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7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г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йтр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заряд ядра равен нулю, масса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=1,675*10</a:t>
                      </a:r>
                      <a:r>
                        <a:rPr b="0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27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г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е название протонов и нейтронов –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уклоны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жду нуклонами действует короткодействующие силы притяжения –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ядерные сил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и совпадает с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рядковым номером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лемента в таблице Менделеев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ряд ядро равен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e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исло нейтр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щее число нейтронов и протонов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в ядре обозначается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и называется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ссовым числом: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=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+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760"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означение ядер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: 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0" i="1" lang="en-US" sz="20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Z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 где </a:t>
                      </a: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Х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обозначение химического элемента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пример 11Н – ядро атома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одорода (протон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зотопы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ак называются атомы, имеющие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инаковый заряд ядра , но различну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сс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Все изотопы одного и того же элемента обладают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динаковыми химическими свойства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, но могут отличаться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диоактивность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пример,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ейтер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-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ит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являются изотопами водорода (тритий радиоактивен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78920" y="2565360"/>
            <a:ext cx="554508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томы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отоп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одород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67280" y="5949720"/>
            <a:ext cx="4535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др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отоп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одород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Атомы изотопов водорода"/>
          <p:cNvPicPr/>
          <p:nvPr/>
        </p:nvPicPr>
        <p:blipFill>
          <a:blip r:embed="rId1"/>
          <a:stretch/>
        </p:blipFill>
        <p:spPr>
          <a:xfrm>
            <a:off x="179280" y="0"/>
            <a:ext cx="6193080" cy="2446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Ядра изотопов водорода"/>
          <p:cNvPicPr/>
          <p:nvPr/>
        </p:nvPicPr>
        <p:blipFill>
          <a:blip r:embed="rId2"/>
          <a:stretch/>
        </p:blipFill>
        <p:spPr>
          <a:xfrm>
            <a:off x="4140360" y="3068640"/>
            <a:ext cx="4465440" cy="27828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именение изотопов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тод мечены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томов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биология, физиология, медицина, промышленность, археология 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сточники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луче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«кобальтовая пушка» изотопом 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27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imes New Roman"/>
              </a:rPr>
              <a:t>60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скорение мутаци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искусственного отбора (в сельском хозяйстве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8280360" cy="222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етоды наблюдения и регистрации элементарных частиц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Счетчик Гейгера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прибора основано на явлении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дарной ионизаци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газа: пролетающая заряженная частица ионизирует молекулы газа образовавшиеся электроны ускоряются электрическим полем внутри счетчика до энергий необходимых для ударной ионизации. Регистрирует электроны и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ванты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только факт пролета частиц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23840" cy="162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Безымянный"/>
          <p:cNvPicPr/>
          <p:nvPr/>
        </p:nvPicPr>
        <p:blipFill>
          <a:blip r:embed="rId1"/>
          <a:stretch/>
        </p:blipFill>
        <p:spPr>
          <a:xfrm>
            <a:off x="395280" y="189000"/>
            <a:ext cx="5311800" cy="2963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Безымянный1"/>
          <p:cNvPicPr/>
          <p:nvPr/>
        </p:nvPicPr>
        <p:blipFill>
          <a:blip r:embed="rId2"/>
          <a:stretch/>
        </p:blipFill>
        <p:spPr>
          <a:xfrm>
            <a:off x="5003640" y="2781360"/>
            <a:ext cx="3792600" cy="34131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Камера Вильсон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прибора основано н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денсации перенасыщенног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а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воды или спирта) на ионах , образующихся вдоль траектории полета заряженной частицы. Поместив камеру Вильсона в однородное магнитное поле и измерив радиус кривизны трека (следа пролетевшей частицы), можно определить удельный заряд частицы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траектории заряженных час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st001_57"/>
          <p:cNvPicPr/>
          <p:nvPr/>
        </p:nvPicPr>
        <p:blipFill>
          <a:blip r:embed="rId1"/>
          <a:stretch/>
        </p:blipFill>
        <p:spPr>
          <a:xfrm>
            <a:off x="539640" y="333360"/>
            <a:ext cx="4680000" cy="3135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Безымянный11"/>
          <p:cNvPicPr/>
          <p:nvPr/>
        </p:nvPicPr>
        <p:blipFill>
          <a:blip r:embed="rId2"/>
          <a:stretch/>
        </p:blipFill>
        <p:spPr>
          <a:xfrm>
            <a:off x="5148360" y="1916280"/>
            <a:ext cx="3440160" cy="426528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узырьковая камер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ие основано на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зование пузырьков пара в перегретой жидкост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(жидком водороде или пропане) на ионах , возникающих вдоль траектории полета заряженной частицы. Преимущество пузырьковой камеры перед камерой Вильсона : большая плотность рабочего вещества (можно наблюдать серию превращений частиц)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 траектории заряженных частиц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Безымянный2"/>
          <p:cNvPicPr/>
          <p:nvPr/>
        </p:nvPicPr>
        <p:blipFill>
          <a:blip r:embed="rId1"/>
          <a:stretch/>
        </p:blipFill>
        <p:spPr>
          <a:xfrm>
            <a:off x="1332000" y="836640"/>
            <a:ext cx="6613560" cy="4408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етод толстослойных фотоэмульсий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ется ионизирующее действие заряженных частиц на фотоэмульсию.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зволяет регистрировать редкие яв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5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0:39Z</dcterms:created>
  <dc:creator>Гость</dc:creator>
  <dc:description/>
  <dc:language>en-US</dc:language>
  <cp:lastModifiedBy>LEGION</cp:lastModifiedBy>
  <dcterms:modified xsi:type="dcterms:W3CDTF">2015-05-01T09:28:06Z</dcterms:modified>
  <cp:revision>14</cp:revision>
  <dc:subject/>
  <dc:title>Заряжённые частиц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2000000000001024140</vt:lpwstr>
  </property>
</Properties>
</file>