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F0E7-56D5-4049-B8C5-16435BBAAC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е от песчинок до планет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лементов состоит единых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.И.Менделее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C00B-063B-4911-B385-2E067C5CCAB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атом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имеет очень малые размеры, порядка долей наноме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нм = 10-9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ычислен объем, приходящийся на один 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/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радиус атома железа составляет 0,13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11E6-04A8-4EA5-805E-8540C3347B5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843B-0E47-4022-8637-ACBFB3BDFAB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ное ядр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FC7D-3D9B-4868-9F41-320EB226127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A611-649F-4F0B-86FB-AC210760360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84C1-1216-47AC-BEDA-241D4AFC94E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электрона в ат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оя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FB6C-35C1-4C8C-850E-2CAFBF82467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FF82-5584-4061-A27E-917F51DE77B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 №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состав атома элемента но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ариант                      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                         1)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  2)19 (К,  К,  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                        3)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8E4C-1656-43F5-8172-6C326891007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ыберите элемент в ПСХЭ и запишите его 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Запишите атомный номер элемен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массовое число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пишите знач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низу и значение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верху у знака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Определите состав ат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пишите 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Сделайте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=11-5=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(5р,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атома бора состоит из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ят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шест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электронная оболочка- из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яти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E169-3701-454C-A79A-29D18B1A240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Откройте ОК «Химия, 8 кл.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омпонент «Курсы»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кладка «Учебни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абриелян О.С., глава 1, основные сведения о строении ато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Состав атома. Тренаж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ыполните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F2E7-E3E2-44BF-B49E-079A6DC8F67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томы химических элемен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 о строени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сложности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ного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овочны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B9CE-904D-48D5-A403-B2DE2B20F13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кр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460–371 гг. н.э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66E8-4E39-43D7-BE6A-78DE2EBC483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оносов Михаил Васильеви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(1711–176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1B27-AB89-4B99-A8CC-6242D78F897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ьтон Джон (1766–1844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1B4A-B56B-4D6B-A108-B4821455028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мсон Джон Падже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92–1975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D834-5E80-483B-B0F2-65ABE461FD9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ерфорд Эрнс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71–1937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7CF-D01C-49A1-BDF8-DCF7309C1BF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7d18"/>
                </a:solidFill>
                <a:latin typeface="Calibri"/>
              </a:rPr>
              <a:t>Атом</a:t>
            </a: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D7A0-05B6-4C12-8DB6-1D207830FF0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2B28-6F54-4604-92E8-2241AEF7545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2C6-540E-4F09-86DC-546003AA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73A-89F8-4F9B-96FB-FDB5DF00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74A-A0D4-446F-A928-5DB8D5B3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1CE-9BE8-40E4-9360-FEE41D8C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D3A4-A23A-495A-97A6-E8FE4D28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6CFB-D1B6-4395-8A87-A933F431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6EDD-1455-41F5-9EE5-AB058D6A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4594-748B-4F7D-8BD0-54967AEB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0744-BF51-43AD-A08A-5D8A5E1E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12DE-0870-4E9F-A612-3523C784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9798-F0BE-433D-A616-9C3CEE1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B6C-2C68-42D3-8BA6-F912C95F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A027-0A8A-4B40-9E50-7E879169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01D8-395F-4A58-A295-3EFB1892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5EE2-7604-4BB5-A983-9571397A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171B-BE6C-4F07-BC13-B0BF6088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6562-51EC-47C7-A85E-253C0129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D20AE-CAE6-46AE-A93A-691371BB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17D11-A3B8-47A8-A5DF-4DBE9B87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1B75-9F83-44C9-A6B2-AC22CA31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89689-ED64-4116-8511-6E3F5A3B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EF44-679E-4386-8173-0C04A89F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E08-307C-4000-91E5-34F1ACA4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B674-089E-44F1-8F2E-F4021696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92E9-72FA-4707-881D-9A1820C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F17A-7453-4FCE-AB93-EBDF4D9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C767-76F9-42E2-97D2-84C8D56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242A-2D5B-47CC-AED7-DEF2E765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600F-BA05-4B35-ACD7-A226BB49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6E7F-1CDA-4D81-9298-0EEF788C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DCDA-73B1-43AE-98A3-407AB885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B2001-5AE0-430F-BE93-BEBCEC37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37A49-82DF-42DB-92DF-4F638DB4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B25-4720-484E-AB0A-EE8A75A3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DAAE-DD88-4272-A5F0-6CE91064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40C1-4F1D-4DFC-BD2E-80B1DB1B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093A-0AB2-4821-BBAB-2B77F939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E563-8203-4792-8A53-74EF3EC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C77B-4DE8-451D-A994-9F80CFF4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8C84F-8ACF-410A-A389-0151E7AB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203D2-0759-4921-B7BD-EC033B4D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5EE1A-ACA5-4C49-A4DB-D44A1B74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50E8-6033-4476-A760-B8A938C3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9227D-9A01-457D-8318-06B2D27A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7E3-D6B4-430D-9A6E-5F3A6C2B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4F065-4BA9-4E00-9952-01747F1F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852E0-6C88-4210-8738-03674603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1E154-C70B-4C00-A2B0-E8E538CF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F2680-CD88-4A91-B43F-BBBE83BB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46300-DD3C-4B40-A0D1-15747166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FC15-B4AD-4603-AAB8-1C88BB47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F8A48-D345-4D7D-9167-B4EA5E8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A9E8F-2C0C-4E61-AEA3-3BC682C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BC07F-DB9A-4625-B92A-501FF498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C8644-55B1-4F84-A91D-B905C1CD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58C-16CA-4722-9A0D-D48F786C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1A080-F356-4DE6-BA16-8D6BE9B5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3119-06A3-49B0-A64C-23DCDA4A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FE241-4E94-4BB3-8512-F77CE9AC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139BA-85F6-4BD0-A28D-4E20B6F2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9013E-226C-4EE7-83E6-14768A4E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4E5A5-230A-4010-B15C-4E9BE71B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7B8AE-EB41-4429-A638-DAA72BA2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6502-90A3-4C18-97E8-B95D79D2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BAA5C-D4A4-441B-82F2-CAB0007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AEB3F-63C2-45C8-8EB6-9DA9B0E8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FD5-7709-48D1-8C31-C053F765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4CE59-BFA4-4637-B74D-E0FF7F2C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BD0EB-5DA2-486B-87C0-2799E880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4495E-E706-4BA4-BC61-D34E6B71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39C-9AEA-4128-BA09-5F91F2D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7D0-4DAA-454C-905E-44BC7BD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10D4-A27E-4F9D-9BC9-44E7BA18AFB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D826-9EDE-4132-9698-AF25A2108C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4BA8-4E0C-4E50-B060-BB9AFB87C5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998E-20D2-47B6-8507-00FEE9E187A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928A-E3B3-4FFE-ACAF-AC11399C30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C603-899C-44EB-B271-12B9BE6B07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Все от песчинок до планет-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элементов состоит единых…»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.И.Менделее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4" name="Picture 4" descr="resEF7CBCC1-0A01-000A-01FB-2220216C35BC"/>
          <p:cNvPicPr/>
          <p:nvPr/>
        </p:nvPicPr>
        <p:blipFill>
          <a:blip r:embed="rId1"/>
          <a:stretch/>
        </p:blipFill>
        <p:spPr>
          <a:xfrm>
            <a:off x="826920" y="1974960"/>
            <a:ext cx="7417080" cy="44784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мер атом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том имеет очень малые размеры, порядка долей наномет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 нм = 10-9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вычислен объем, приходящийся на один а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то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/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пример, радиус атома железа составляет 0,13 н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томное ядро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276720" y="189000"/>
            <a:ext cx="27352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00000" y="2421000"/>
          <a:ext cx="7993080" cy="3887640"/>
        </p:xfrm>
        <a:graphic>
          <a:graphicData uri="http://schemas.openxmlformats.org/drawingml/2006/table">
            <a:tbl>
              <a:tblPr/>
              <a:tblGrid>
                <a:gridCol w="2035440"/>
                <a:gridCol w="1939680"/>
                <a:gridCol w="401796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Величин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Обозначе­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Количественные соотноше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Массовое число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 = Z + 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прот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нейтр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Электроны</a:t>
            </a:r>
            <a:br>
              <a:rPr sz="32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вижение электрона в атом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ероятност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24000" y="1121040"/>
            <a:ext cx="850716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8199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ПОМНИТЕ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8" name="DefaultOcx" descr=""/>
          <p:cNvPicPr/>
          <p:nvPr/>
        </p:nvPicPr>
        <p:blipFill>
          <a:blip r:embed="rId1"/>
          <a:stretch/>
        </p:blipFill>
        <p:spPr>
          <a:xfrm>
            <a:off x="-4578480" y="261000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ние №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 состав атома элемента но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вариант                      2 вариа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                          1)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   2)19 (К,  К,  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5                        3)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Выберите элемент в ПСХЭ и запишите его зна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Запишите атомный номер элемент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его массовое число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Запишите значе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низу и значение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верху у знака эле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Определите состав атом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прот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ней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Запишите состав ато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.Сделайте вы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=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е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=11-5=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(5р, 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Ядро атома бора состоит из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пяти прот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шести нейтр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а электронная оболочка- из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пяти 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ние №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Откройте ОК «Химия, 8 кл.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компонент «Курсы»;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закладка «Учебники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Габриелян О.С., глава 1, основные сведения о строении атом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Состав атома. Тренажер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выполните тес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омы химических элементов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е сведения о строении атом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азательства сложности строения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ного яд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ровочные за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resEF7CBE1C-0A01-000A-00CC-C626666AB273"/>
          <p:cNvPicPr/>
          <p:nvPr/>
        </p:nvPicPr>
        <p:blipFill>
          <a:blip r:embed="rId1"/>
          <a:stretch/>
        </p:blipFill>
        <p:spPr>
          <a:xfrm>
            <a:off x="611280" y="765000"/>
            <a:ext cx="8281800" cy="590400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8"/>
          <p:cNvSpPr/>
          <p:nvPr/>
        </p:nvSpPr>
        <p:spPr>
          <a:xfrm>
            <a:off x="1692360" y="1628640"/>
            <a:ext cx="2173320" cy="2087640"/>
          </a:xfrm>
          <a:custGeom>
            <a:avLst/>
            <a:gdLst>
              <a:gd name="textAreaLeft" fmla="*/ 290880 w 2173320"/>
              <a:gd name="textAreaRight" fmla="*/ 1882440 w 217332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5003640" y="1052640"/>
            <a:ext cx="878040" cy="1574640"/>
          </a:xfrm>
          <a:custGeom>
            <a:avLst/>
            <a:gdLst>
              <a:gd name="textAreaLeft" fmla="*/ 117360 w 878040"/>
              <a:gd name="textAreaRight" fmla="*/ 760680 w 878040"/>
              <a:gd name="textAreaTop" fmla="*/ 275400 h 1574640"/>
              <a:gd name="textAreaBottom" fmla="*/ 1141560 h 15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5580000" y="4869000"/>
            <a:ext cx="1152720" cy="57600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50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21560" y="970920"/>
            <a:ext cx="73018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Демокрит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460–371 гг. н.э.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8" descr="res6563BF91-BED0-4064-8121-4F0CCE66DA3A"/>
          <p:cNvPicPr/>
          <p:nvPr/>
        </p:nvPicPr>
        <p:blipFill>
          <a:blip r:embed="rId1"/>
          <a:stretch/>
        </p:blipFill>
        <p:spPr>
          <a:xfrm>
            <a:off x="826920" y="2349360"/>
            <a:ext cx="3457800" cy="36007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50320" y="1038960"/>
            <a:ext cx="6877800" cy="80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Ломоносов Михаил Васильевич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(1711–1765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716360" y="2565000"/>
            <a:ext cx="3919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Picture 9" descr="res682B98E1-067C-4EFF-B78D-08D8042B6B82"/>
          <p:cNvPicPr/>
          <p:nvPr/>
        </p:nvPicPr>
        <p:blipFill>
          <a:blip r:embed="rId1"/>
          <a:stretch/>
        </p:blipFill>
        <p:spPr>
          <a:xfrm>
            <a:off x="971640" y="2421000"/>
            <a:ext cx="3240000" cy="36003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льтон Джон (1766–1844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95280" y="2361960"/>
            <a:ext cx="4535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9" name="Picture 6" descr="resBF03F592-A2F8-492D-8AF3-BEF90CF76D76"/>
          <p:cNvPicPr/>
          <p:nvPr/>
        </p:nvPicPr>
        <p:blipFill>
          <a:blip r:embed="rId1"/>
          <a:stretch/>
        </p:blipFill>
        <p:spPr>
          <a:xfrm>
            <a:off x="1042920" y="2766960"/>
            <a:ext cx="2952720" cy="296712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омсон Джон Падже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92–1975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140360" y="2349000"/>
            <a:ext cx="475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8" descr="res02BB57E3-D321-4A2E-8C82-D4F3F2FC87C1"/>
          <p:cNvPicPr/>
          <p:nvPr/>
        </p:nvPicPr>
        <p:blipFill>
          <a:blip r:embed="rId1"/>
          <a:stretch/>
        </p:blipFill>
        <p:spPr>
          <a:xfrm>
            <a:off x="826920" y="2421000"/>
            <a:ext cx="3240360" cy="33843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08640" y="956160"/>
            <a:ext cx="6814080" cy="88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езерфорд Эрнс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71–1937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140360" y="2394000"/>
            <a:ext cx="475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Picture 9" descr="resED23752C-71C7-4157-9B86-577FD0589B1E"/>
          <p:cNvPicPr/>
          <p:nvPr/>
        </p:nvPicPr>
        <p:blipFill>
          <a:blip r:embed="rId1"/>
          <a:stretch/>
        </p:blipFill>
        <p:spPr>
          <a:xfrm>
            <a:off x="900000" y="2421000"/>
            <a:ext cx="3024360" cy="32400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0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179280" y="1474560"/>
            <a:ext cx="87138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</a:t>
            </a: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384800" y="649440"/>
            <a:ext cx="411876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47d18"/>
                </a:solidFill>
                <a:latin typeface="Arial"/>
              </a:rPr>
              <a:t>Атом</a:t>
            </a:r>
            <a:br>
              <a:rPr sz="3200"/>
            </a:b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1" name="Picture 10" descr="resEF7CBD0E-0A01-000A-014B-6B89448ABFA7"/>
          <p:cNvPicPr/>
          <p:nvPr/>
        </p:nvPicPr>
        <p:blipFill>
          <a:blip r:embed="rId1"/>
          <a:stretch/>
        </p:blipFill>
        <p:spPr>
          <a:xfrm>
            <a:off x="179280" y="476280"/>
            <a:ext cx="3529080" cy="244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79280" y="1557360"/>
            <a:ext cx="8640000" cy="4780800"/>
            <a:chOff x="179280" y="1557360"/>
            <a:chExt cx="8640000" cy="4780800"/>
          </a:xfrm>
        </p:grpSpPr>
        <p:cxnSp>
          <p:nvCxnSpPr>
            <p:cNvPr id="305" name="_s1028"/>
            <p:cNvCxnSpPr>
              <a:stCxn id="306" idx="0"/>
              <a:endCxn id="307" idx="2"/>
            </p:cNvCxnSpPr>
            <p:nvPr/>
          </p:nvCxnSpPr>
          <p:spPr>
            <a:xfrm flipV="1">
              <a:off x="7522560" y="4560840"/>
              <a:ext cx="3960" cy="56880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08" name="_s1029"/>
            <p:cNvCxnSpPr>
              <a:stCxn id="309" idx="0"/>
              <a:endCxn id="310" idx="2"/>
            </p:cNvCxnSpPr>
            <p:nvPr/>
          </p:nvCxnSpPr>
          <p:spPr>
            <a:xfrm flipV="1" rot="16200000">
              <a:off x="3456720" y="4088520"/>
              <a:ext cx="568800" cy="151272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1" name="_s1030"/>
            <p:cNvCxnSpPr>
              <a:stCxn id="312" idx="0"/>
              <a:endCxn id="310" idx="2"/>
            </p:cNvCxnSpPr>
            <p:nvPr/>
          </p:nvCxnSpPr>
          <p:spPr>
            <a:xfrm flipH="1" flipV="1" rot="5400000">
              <a:off x="1945800" y="4089960"/>
              <a:ext cx="568800" cy="151020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3" name="_s1031"/>
            <p:cNvCxnSpPr>
              <a:stCxn id="307" idx="0"/>
              <a:endCxn id="314" idx="2"/>
            </p:cNvCxnSpPr>
            <p:nvPr/>
          </p:nvCxnSpPr>
          <p:spPr>
            <a:xfrm flipV="1" rot="16200000">
              <a:off x="6105600" y="1915560"/>
              <a:ext cx="565200" cy="226980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5" name="_s1032"/>
            <p:cNvCxnSpPr>
              <a:stCxn id="310" idx="0"/>
              <a:endCxn id="314" idx="2"/>
            </p:cNvCxnSpPr>
            <p:nvPr/>
          </p:nvCxnSpPr>
          <p:spPr>
            <a:xfrm flipH="1" flipV="1" rot="5400000">
              <a:off x="3836520" y="1915920"/>
              <a:ext cx="565200" cy="226908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314" name="_s1033"/>
            <p:cNvSpPr/>
            <p:nvPr/>
          </p:nvSpPr>
          <p:spPr>
            <a:xfrm>
              <a:off x="3957120" y="15573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cc99ff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200" spc="-1" strike="noStrike">
                  <a:solidFill>
                    <a:srgbClr val="003366"/>
                  </a:solidFill>
                  <a:latin typeface="Tahoma"/>
                </a:rPr>
                <a:t>атом</a:t>
              </a:r>
              <a:endParaRPr b="0" lang="en-US" sz="9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_s1034"/>
            <p:cNvSpPr/>
            <p:nvPr/>
          </p:nvSpPr>
          <p:spPr>
            <a:xfrm>
              <a:off x="168876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66"/>
                  </a:solidFill>
                  <a:latin typeface="Tahoma"/>
                </a:rPr>
                <a:t>ядро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_s1035"/>
            <p:cNvSpPr/>
            <p:nvPr/>
          </p:nvSpPr>
          <p:spPr>
            <a:xfrm>
              <a:off x="622620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электронная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оболочка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_s1036"/>
            <p:cNvSpPr/>
            <p:nvPr/>
          </p:nvSpPr>
          <p:spPr>
            <a:xfrm>
              <a:off x="179280" y="5142960"/>
              <a:ext cx="25894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прот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_s1037"/>
            <p:cNvSpPr/>
            <p:nvPr/>
          </p:nvSpPr>
          <p:spPr>
            <a:xfrm>
              <a:off x="320112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ней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_s1038"/>
            <p:cNvSpPr/>
            <p:nvPr/>
          </p:nvSpPr>
          <p:spPr>
            <a:xfrm>
              <a:off x="622620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элек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26:55Z</dcterms:created>
  <dc:creator>Дмитрий Сергеевич</dc:creator>
  <dc:description/>
  <dc:language>en-US</dc:language>
  <cp:lastModifiedBy>LEGION</cp:lastModifiedBy>
  <dcterms:modified xsi:type="dcterms:W3CDTF">2015-05-01T09:28:49Z</dcterms:modified>
  <cp:revision>13</cp:revision>
  <dc:subject/>
  <dc:title>Состав ато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