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FD1E-044E-454E-B5EE-B28A94839A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се от песчинок до планет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элементов состоит единых…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Д.И.Менделее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C3B2-663D-4F73-9A78-43B1582FC3C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мер атомов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 имеет очень малые размеры, порядка долей наномет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 нм = 10-9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ы атомов в твердом или жидком веществе можно рассчитать, зная плотность вещества r, из которой может быть найден молярный объем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 =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/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ычислен объем, приходящийся на один а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том =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/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радиус атома железа составляет 0,13 н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CBD5-829A-4544-894E-D57221F80AC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 атом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известные химические элементы приведены в таблице Д. И. Менделеева. В ней они располагаются в порядке возрастания зарядов их атомных яд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каждый атом электронейтрален, то число протонов в ядре атома равно числу электронов в этом же ато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 самым порядковый номер элемента в таблице Менделеева указывает число электронов в атоме и равное ему число протонов в яд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адлежность атома тому или иному химическому элементу определяется зарядом его ядра. Поэтому число протонов, составляющих заряд ядра, у атомов одного и того же химического элемента строго определенное. В то же время содержание нейтронов в ядрах одного и того же элемента может быть перемен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, массы атомов одного элемента могут быть различными. Эти различные виды атомов одного химического элемента называются изотопами (от "изо" – равный и "топос" – место), так как они занимают одно место в таблице Д. И. Менделеева, поскольку принадлежат одному элемен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енные в таблице Д. И. Менделеева атомные массы элементов – это средние атомные массы природной смеси изотопов данного элемента с учетом их относительного содержания в природе, поэтому они могут отличаться от целых чис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омним, что атомная единица массы – это 1/12 массы атома углерода, причем того его изотопа, в ядре которого находится 6 протонов и 6 нейтр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2F30-D71C-41ED-AC0B-3D158EDC9A7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томное ядро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 вся масса атома (более 99,95%) сосредоточена в очень малом объеме – в ядре атома, находящемся в его центре. Диаметр ядра, если считать его шарообразным, составляет приблизительно одну стотысячную часть от диаметра ато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ра атомов имеют сложное строение. Они состоят из двух видов частиц с почти одинаковой массой, практически равной 1 а. е. м., электронейтральных нейтронов и положительно заряженных протонов, причем положительный заряд протона – наименьший существующий в природе электрический заряд, т. е. элементарный, который далее неделим. Заряд протона принимают за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ядра атомов заряжены положительно, их заряд численно равен числу протонов, а массы ядер, следовательно и массы атомов, выраженные в атомных единицах массы, близки к целым чис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DF43-AFD3-4288-9683-EDBC0771202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47d18"/>
                </a:solidFill>
                <a:latin typeface="Verdana"/>
                <a:ea typeface="Arial"/>
              </a:rPr>
              <a:t>Яд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9CF5-E69D-4413-91A6-B2A34DEFAD8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ектроны</a:t>
            </a: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вещества электронейтральны. Атомы – составные части вещества, следовательно, атомы в целом должны быть нейтральны. В состав атома, кроме положительно заряженного ядра, входят отрицательно заряженные частицы – электро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ический заряд электрона (отрицательный) численно равен заряду протона (положительному). Ясно поэтому, что в нейтральном атоме число электронов равно числу протонов в его ядре. Таким образом, атом состоит из очень маленького, но тяжелого положительно заряженного ядра, в состав которого входят протоны и нейтроны. Около ядра движутся еще меньшие отрицательно заряженные электроны. (Масса электрона равна приблизительно 1/2000 а. е. м., т. е. электрон приблизительно в 2000 раз легче протона или нейтрона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3CD1-F24D-4FDE-A385-FA1BA17E622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электрона в атом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ы в атоме не могут быть неподвижными. Если бы электрон был неподвижным, то под действием силы притяжения к положительно заряженному ядру он немедленно упал бы на ядро. Но электрон и не вращается вокруг ядра. Движение электрона, как и других частиц субатомных размеров (т. е. размеров, меньших атомных), описывается законами квантовой меха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квантовой механики, которым подчиняется движение электрона, указывают (причем точно) вероятность его нахождения в том или другом месте пространства. В одних местах его можно обнаружить чаще, и мы говорим о больше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роят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го нахождения в них, в других – реже, значит, имеется меньшая вероятность застать его там, в третьих он не бывает никогда, тогда говорят о нулевой вероят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енно говорят о повышенной или пониженной электронной плотности в разных областях пространства около атомного я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электроне, движущемся в этой области пространства, будем говорить, что он "находится на этой орбитали". Согласно законам квантовой механики на одной орбитали может находиться не более двух электр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6121-9985-411C-B3C6-577A8792AF9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МНИТЕ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се известные химические элементы приведены в таблице Д. И. Менделеева. В ней они располагаются в порядке возрастания зарядов их атомных яд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оскольку каждый атом электронейтрален, то число протонов в ядре атома равно числу электронов в этом же ато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Тем самым порядковый номер элемента в таблице Менделеева указывает число электронов в атоме и равное ему число протонов в яд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ринадлежность атома тому или иному химическому элементу определяется зарядом его ядра. Поэтому число протонов, составляющих заряд ядра, у атомов одного и того же химического элемента строго определенно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5949-3AC0-433C-9B47-CB38749FC25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дание №1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е состав атома элемента но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вариант                      2 вари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                         1)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A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A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   2)19 (К,  К,  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5                        3)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45BD-FA44-48DE-91C0-7FCAECFBA44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Выберите элемент в ПСХЭ и запишите его зн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Запишите атомный номер элемент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cc00"/>
                </a:solidFill>
                <a:latin typeface="Calibri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его массовое число </a:t>
            </a: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Запишите значени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cc00"/>
                </a:solidFill>
                <a:latin typeface="Calibri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ева внизу и значение </a:t>
            </a: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ева вверху у знака эле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Определите состав ато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от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электр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 </a:t>
            </a: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нейтр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Запишите состав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Сделайте 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=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)=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е)=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=11-5=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(5р, 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ро атома бора состоит из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яти прот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шести нейтр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электронная оболочка- из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яти электр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9907-3E28-4F31-8A03-6062D9DABB2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Откройте ОК «Химия, 8 кл.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компонент «Курсы»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закладка «Учебник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Габриелян О.С., глава 1, основные сведения о строении атом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Состав атома. Тренаже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выполните т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4319-8217-441B-AC4E-8EE51E7FE11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томы химических элементов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держан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сведения о строении атом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ательства сложности строения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атомного яд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ровочные 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B845-06B2-4B40-B644-40A57FC2570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мокрит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460–371 гг. н.э.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греческий ученый, философ-материалист. Ученик Левкиппа. Родился в Абдере (Фрак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инения Демокрита по всем отраслям науки того времени создали ему славу крупнейшего представителя древней атомистики. Признавал вечность материи и считал, что она состоит из бесконечного числа мельчайших неделимых частиц – атомов, различное сочетание которых образует бесчисленное множество разнообразных вещей и их свойств. Утверждал, что атомы движутся под влиянием господства необход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9A46-BAA2-4957-B82F-E499DB21A8D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омоносов Михаил Васильевич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(1711–1765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ий ученый, с 1745 г. академик Петербургской АН. Изложил в 1741–1750 гг. основы атомно-корпускулярного учения; выдвинул в 1744–1748 гг. кинетическую теорию теплоты; обосновал в 1747–1752 гг. необходимость привлечения физики для объяснения химических явл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3246-1300-4EF4-9C58-3E066C81642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льтон Джон (1766–1844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ийский химик и физик, с 1822 г. член Лондонского королевского общества. Родился в Иглсфилде (Кумберленд). Образование получил самостоятельно. В период с 1781 по 1793 гг. учитель математики в школе в Кендале, с 1793 г. преподавал физику и математику в Новом колледже в Манчес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E100-7B5D-42C8-B5AD-8509DE4D0D7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мсон Джон Паджет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(1892–1975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ийский физик, в 1930 г. член Лондонского королевского общества. Родился в Кембридже. В 1914 г. окончил Кембриджский университет, там же работал в 1919–1922 гг. В 1922–1930 гг. – профессор Абердинского университета (Шотландия), в 1952–1962 гг. возглавлял один из колледжей в Кембридж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относятся к атомной и ядерной физике, квантовой механике, аэродинамике, электрическим разрядам в газах. В 1927 г. открыл явление дифракции электронов. Осуществил исследования по геометрии электронограмм, теории рассея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гражден медалями Д. Юза в 1939 г., Королевской в 1949 г., М. Фарадея в 1960 г. Лауреат Нобелевской премии в 1937 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65A9-9AFC-4AF2-93B6-3ECEE4278B8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зерфорд Эрнст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(1871–1937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ийский физик, с 1903 г. член Лондонского королевского общества, его президент в 1925–1930 гг. Родился в Спринг-Броуве (ныне Брайтуотер) в Новой Зеландии. В 1894 г. окончил Кентерберийский колледж Новозеландского университета в Крайстчерче. В 1895–1898 гг. работал в Кавендишской лаборатории Кембриджского университета под руководством физика Дж. Дж. Томсона, 1898–1907 гг. профессор Мак-Гиллского университета в Монреале (Канада), в 1907–1919 гг. Манчестерского университета. С 1919 г. профессор Кембриджского университета и директор Кавендишской лабора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основателей учения о радиоактивности, ядерной физики и представлений о строении ато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2464-157B-46E1-AFEE-914DDE91C86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47d18"/>
                </a:solidFill>
                <a:latin typeface="Calibri"/>
              </a:rPr>
              <a:t>Атом</a:t>
            </a:r>
            <a:br>
              <a:rPr sz="8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аименьшая электронейтральная частица химического элемента, являющаяся носителем его сво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95B6-3EC8-41D5-BFD7-A33BEE04E08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атом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34F8-1E06-4E81-9A50-F28FAE7FFB4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1419-3AA3-4B44-995D-377C68A15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0455-F8DC-4A8D-9250-D9F7513A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DE99-4A2F-4F12-AF19-50AFD4B8D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8CDE-A0BF-4579-A1BC-6137F8CA7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784B-088B-4783-8BD1-42A767289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AD87-1126-4783-9935-C886661A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4FC9-293C-4099-83F4-F1D12E25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1EAD-9731-4E94-87F7-23F3C32D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D559-1E11-4D2B-9B9E-7340BB0B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DE0C-8CB8-45BD-BF40-9B286BA0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24BD-60D4-45E6-A38D-14F40064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54BB-9F22-4FA3-BF2D-C261361F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0D24-50A1-45BF-B249-CB1CE358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D075-E9AF-4AB2-ADBC-FE5CAE15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BDAF-F5B7-4499-A70E-40976D3F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253B-8745-41EE-A2A2-127730E80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8596-3045-44F4-B638-0445C39D2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A69DF-FAD7-43A0-AC16-305BCE9C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22F56-4486-4830-947A-78C27627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719A1-CFFF-4100-BED8-9FFC4B13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52FA2-4253-4286-B98F-3A4A426D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350BA-710F-48B5-98D9-421315C6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4991-37C9-4877-9522-CE0541DA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1D7A3-41CF-4ADC-BFAE-A4BA11CD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460F7-D7D4-4220-9C85-75BBC684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7680D-5E65-461F-8C0C-452FBD5F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ECFA3-D841-4AA2-BA55-32F999F9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3A76D-FE77-44AF-8CFC-CE099819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4CE02-E332-4F42-BE5C-5E77075B7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7B090-A5CA-47EA-B807-9EA71E0EB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0B27D-F20B-4D10-8D8D-3519652F3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D6650-279F-4A76-8255-BC94CB83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7B093-2B3F-4E21-AC09-DA6EBD40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CE56-D513-4DF4-9EC9-120C267B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E5C13-81FE-4B23-B5CB-7044CB95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2B03E-B753-4EC5-8941-8E24FE57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6035C-5147-4E0D-9C4B-9E96F618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8A2B6-83F2-4D87-BCD1-FD4968F9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2F797-22B7-45E6-8B4E-901C51A5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38717-1BE2-4065-8654-368EA022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A24CC-1331-4D42-8193-BDE0ED04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F1EC7-FCF0-4903-8F09-CCBF84EC3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4B93D-079A-49BB-B09F-5C9D5F80C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AC1EE-8917-4396-B90F-10497C96B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A67C-314B-4F0B-98F4-E7D62E35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441F9-8E4D-4211-A47A-7916A52E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8FF03-1A03-43ED-A5A9-BF5D825B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41961-7C33-43C8-AB98-761A7DF0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0846D-B483-4396-BAE0-2306BFB4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FCFF0-482C-4DC8-93E5-46D25CF8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BAC5A-17B7-46CD-9D4D-39B73A33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84A4A-E2F6-4E2D-9884-16CD7FF0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2A8E3-BA95-4AA6-A40A-9E986C45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EFAC0-BFBF-4526-9667-34D158AD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9026E-5D3E-4BD1-BA3A-008166177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EFFE-7D43-4785-9209-369476F5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28627-8984-40D4-9914-D25956AFB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4CA4F-6FA4-418E-B14F-262CC71D2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EF775-62D0-4D2E-942E-D7EB6E6D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82A2D-7250-4DBB-9DB6-324BABD1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762A6-4883-4745-A2F1-416D22BE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63233-6D0D-4AF4-B645-ABD83CC9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C8387-B440-42DF-8CF1-FEBE622F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56EA0-DD5D-4A2D-9D33-1EAC004F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099EC-DB75-46F3-973B-2217F650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2EE58-6DE7-4A4B-9FD6-C9CC1B85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B3A3-7EE1-41BF-902B-16A6005E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E6DF4-D2D2-4037-8007-E6D54A64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9CA9F-4326-4EC5-BB52-37AC00424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D81B7-EC18-440D-A77A-080F890D2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9AFA-368F-4A09-A6FA-6A9C156E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3AB7-A994-48CB-8228-76EB9FD7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E13C-F8CD-40F7-865D-82B1930F6D6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92EC-1F63-4AE0-8563-6E0EF7EE1EE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9088-0BE5-4B55-B8A0-C8716947592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35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7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38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956E-CA89-4A28-B885-7E261A4CC69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99BD-2F2E-459D-A3B1-A45E7F2DB74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242B-137F-48B8-880C-DD4A27678D0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Все от песчинок до планет-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з элементов состоит единых…»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              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Д.И.Менделеев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74" name="Picture 4" descr="resEF7CBCC1-0A01-000A-01FB-2220216C35BC"/>
          <p:cNvPicPr/>
          <p:nvPr/>
        </p:nvPicPr>
        <p:blipFill>
          <a:blip r:embed="rId1"/>
          <a:stretch/>
        </p:blipFill>
        <p:spPr>
          <a:xfrm>
            <a:off x="826920" y="1974960"/>
            <a:ext cx="7417080" cy="447840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змер атомов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том имеет очень малые размеры, порядка долей нанометр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                    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1 нм = 10-9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змеры атомов в твердом или жидком веществе можно рассчитать, зная плотность вещества r, из которой может быть найден молярный объем веществ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                                  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V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м =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/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 вычислен объем, приходящийся на один ато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                               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V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атом =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V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м/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пример, радиус атома железа составляет 0,13 н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остав атома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се известные химические элементы приведены в таблице Д. И. Менделеева. В ней они располагаются в порядке возрастания зарядов их атомных ядер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скольку каждый атом электронейтрален, то число протонов в ядре атома равно числу электронов в этом же атоме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м самым порядковый номер элемента в таблице Менделеева указывает число электронов в атоме и равное ему число протонов в ядре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надлежность атома тому или иному химическому элементу определяется зарядом его ядра. Поэтому число протонов, составляющих заряд ядра, у атомов одного и того же химического элемента строго определенное. В то же время содержание нейтронов в ядрах одного и того же элемента может быть переменным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ледовательно, массы атомов одного элемента могут быть различными. Эти различные виды атомов одного химического элемента называются изотопами (от "изо" – равный и "топос" – место), так как они занимают одно место в таблице Д. И. Менделеева, поскольку принадлежат одному элементу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веденные в таблице Д. И. Менделеева атомные массы элементов – это средние атомные массы природной смеси изотопов данного элемента с учетом их относительного содержания в природе, поэтому они могут отличаться от целых чисел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помним, что атомная единица массы – это 1/12 массы атома углерода, причем того его изотопа, в ядре которого находится 6 протонов и 6 нейтрон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Атомное ядро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актически вся масса атома (более 99,95%) сосредоточена в очень малом объеме – в ядре атома, находящемся в его центре. Диаметр ядра, если считать его шарообразным, составляет приблизительно одну стотысячную часть от диаметра атом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Ядра атомов имеют сложное строение. Они состоят из двух видов частиц с почти одинаковой массой, практически равной 1 а. е. м., электронейтральных нейтронов и положительно заряженных протонов, причем положительный заряд протона – наименьший существующий в природе электрический заряд, т. е. элементарный, который далее неделим. Заряд протона принимают за 1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аким образом, ядра атомов заряжены положительно, их заряд численно равен числу протонов, а массы ядер, следовательно и массы атомов, выраженные в атомных единицах массы, близки к целым числа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276720" y="189000"/>
            <a:ext cx="2735280" cy="22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d47d18"/>
                </a:solidFill>
                <a:latin typeface="Verdana"/>
                <a:ea typeface="Arial"/>
              </a:rPr>
              <a:t>Ядро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900000" y="2421000"/>
          <a:ext cx="7993080" cy="3887640"/>
        </p:xfrm>
        <a:graphic>
          <a:graphicData uri="http://schemas.openxmlformats.org/drawingml/2006/table">
            <a:tbl>
              <a:tblPr/>
              <a:tblGrid>
                <a:gridCol w="2035440"/>
                <a:gridCol w="1939680"/>
                <a:gridCol w="4017960"/>
              </a:tblGrid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Verdana"/>
                          <a:ea typeface="Arial"/>
                        </a:rPr>
                        <a:t>Величина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7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Verdana"/>
                          <a:ea typeface="Arial"/>
                        </a:rPr>
                        <a:t>Обозначе­ние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7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Verdana"/>
                          <a:ea typeface="Arial"/>
                        </a:rPr>
                        <a:t>Количественные соотношения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7f9fa"/>
                    </a:solidFill>
                  </a:tcPr>
                </a:tc>
              </a:tr>
              <a:tr h="110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Массовое число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A = Z + 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Число протонов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Z = </a:t>
                      </a: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Symbol"/>
                          <a:ea typeface="Symbol"/>
                        </a:rPr>
                        <a:t></a:t>
                      </a: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Число нейтронов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N = </a:t>
                      </a: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Symbol"/>
                          <a:ea typeface="Symbol"/>
                        </a:rPr>
                        <a:t></a:t>
                      </a: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3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1500" autoRev="1" fill="hold"/>
                                        <p:tgtEl>
                                          <p:spTgt spid="3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66"/>
                </a:solidFill>
                <a:latin typeface="Arial"/>
              </a:rPr>
              <a:t>Электроны</a:t>
            </a:r>
            <a:br>
              <a:rPr sz="3200"/>
            </a:b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се вещества электронейтральны. Атомы – составные части вещества, следовательно, атомы в целом должны быть нейтральны. В состав атома, кроме положительно заряженного ядра, входят отрицательно заряженные частицы – электроны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Электрический заряд электрона (отрицательный) численно равен заряду протона (положительному). Ясно поэтому, что в нейтральном атоме число электронов равно числу протонов в его ядре. Таким образом, атом состоит из очень маленького, но тяжелого положительно заряженного ядра, в состав которого входят протоны и нейтроны. Около ядра движутся еще меньшие отрицательно заряженные электроны. (Масса электрона равна приблизительно 1/2000 а. е. м., т. е. электрон приблизительно в 2000 раз легче протона или нейтрона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15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вижение электрона в атом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Электроны в атоме не могут быть неподвижными. Если бы электрон был неподвижным, то под действием силы притяжения к положительно заряженному ядру он немедленно упал бы на ядро. Но электрон и не вращается вокруг ядра. Движение электрона, как и других частиц субатомных размеров (т. е. размеров, меньших атомных), описывается законами квантовой механик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Законы квантовой механики, которым подчиняется движение электрона, указывают (причем точно) вероятность его нахождения в том или другом месте пространства. В одних местах его можно обнаружить чаще, и мы говорим о большей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ероятности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его нахождения в них, в других – реже, значит, имеется меньшая вероятность застать его там, в третьих он не бывает никогда, тогда говорят о нулевой вероятности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оответственно говорят о повышенной или пониженной электронной плотности в разных областях пространства около атомного ядр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б электроне, движущемся в этой области пространства, будем говорить, что он "находится на этой орбитали". Согласно законам квантовой механики на одной орбитали может находиться не более двух электрон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31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5"/>
          <p:cNvSpPr/>
          <p:nvPr/>
        </p:nvSpPr>
        <p:spPr>
          <a:xfrm>
            <a:off x="324000" y="1121040"/>
            <a:ext cx="8507160" cy="53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133200" bIns="13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Все известные химические элементы приведены в таблице Д. И. Менделеева. В ней они располагаются в порядке возрастания зарядов их атомных ядер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Поскольку каждый атом электронейтрален, то число протонов в ядре атома равно числу электронов в этом же атом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Тем самым порядковый номер элемента в таблице Менделеева указывает число электронов в атоме и равное ему число протонов в ядре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Принадлежность атома тому или иному химическому элементу определяется зарядом его ядра. Поэтому число протонов, составляющих заряд ядра, у атомов одного и того же химического элемента строго определенное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81992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ЗАПОМНИТЕ 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38" name="DefaultOcx" descr=""/>
          <p:cNvPicPr/>
          <p:nvPr/>
        </p:nvPicPr>
        <p:blipFill>
          <a:blip r:embed="rId1"/>
          <a:stretch/>
        </p:blipFill>
        <p:spPr>
          <a:xfrm>
            <a:off x="-4578480" y="261000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push dir="r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Задание №1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пределите состав атома элемента номер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вариант                      2 вариан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6                          1)1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8 (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Ar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Ar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)    2)19 (К,  К,  К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5                        3)5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Алгоритм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.Выберите элемент в ПСХЭ и запишите его зна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.Запишите атомный номер элемента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Verdana"/>
              </a:rPr>
              <a:t>Z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и его массовое число </a:t>
            </a:r>
            <a:r>
              <a:rPr b="0" lang="ru-RU" sz="1600" spc="-1" strike="noStrike">
                <a:solidFill>
                  <a:srgbClr val="009900"/>
                </a:solidFill>
                <a:latin typeface="Verdana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.Запишите значение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Verdana"/>
              </a:rPr>
              <a:t>Z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слева внизу и значение </a:t>
            </a:r>
            <a:r>
              <a:rPr b="0" lang="ru-RU" sz="1600" spc="-1" strike="noStrike">
                <a:solidFill>
                  <a:srgbClr val="009900"/>
                </a:solidFill>
                <a:latin typeface="Verdana"/>
              </a:rPr>
              <a:t>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слева вверху у знака элемент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4.Определите состав атом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число 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протон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число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336699"/>
                </a:solidFill>
                <a:latin typeface="Verdana"/>
              </a:rPr>
              <a:t>электрон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число </a:t>
            </a:r>
            <a:r>
              <a:rPr b="0" lang="ru-RU" sz="1600" spc="-1" strike="noStrike">
                <a:solidFill>
                  <a:srgbClr val="9900ff"/>
                </a:solidFill>
                <a:latin typeface="Verdana"/>
              </a:rPr>
              <a:t>нейтрон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5.Запишите состав атом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6.Сделайте вывод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Бор 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=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=1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)=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е)=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=11-5=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(5р, 6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 )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5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Ядро атома бора состоит из </a:t>
            </a:r>
            <a:r>
              <a:rPr b="0" lang="ru-RU" sz="1600" spc="-1" strike="noStrike">
                <a:solidFill>
                  <a:srgbClr val="cc0000"/>
                </a:solidFill>
                <a:latin typeface="Verdana"/>
              </a:rPr>
              <a:t>пяти протонов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ru-RU" sz="1600" spc="-1" strike="noStrike">
                <a:solidFill>
                  <a:srgbClr val="9900ff"/>
                </a:solidFill>
                <a:latin typeface="Verdana"/>
              </a:rPr>
              <a:t>шести нейтронов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а электронная оболочка- из </a:t>
            </a:r>
            <a:r>
              <a:rPr b="0" lang="ru-RU" sz="1600" spc="-1" strike="noStrike">
                <a:solidFill>
                  <a:srgbClr val="336699"/>
                </a:solidFill>
                <a:latin typeface="Verdana"/>
              </a:rPr>
              <a:t>пяти электрон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Задание №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Откройте ОК «Химия, 8 кл.»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компонент «Курсы»;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закладка «Учебники»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.Габриелян О.С., глава 1, основные сведения о строении атомов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5.Состав атома. Тренажер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6.выполните тест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Атомы химических элементов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одержание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новные сведения о строении атомов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казательства сложности строения атом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став атом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став атомного ядр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ренировочные зад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итератур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6" descr="resEF7CBE1C-0A01-000A-00CC-C626666AB273"/>
          <p:cNvPicPr/>
          <p:nvPr/>
        </p:nvPicPr>
        <p:blipFill>
          <a:blip r:embed="rId1"/>
          <a:stretch/>
        </p:blipFill>
        <p:spPr>
          <a:xfrm>
            <a:off x="611280" y="765000"/>
            <a:ext cx="8281800" cy="5904000"/>
          </a:xfrm>
          <a:prstGeom prst="rect">
            <a:avLst/>
          </a:prstGeom>
          <a:ln w="0">
            <a:noFill/>
          </a:ln>
        </p:spPr>
      </p:pic>
      <p:sp>
        <p:nvSpPr>
          <p:cNvPr id="350" name="AutoShape 8"/>
          <p:cNvSpPr/>
          <p:nvPr/>
        </p:nvSpPr>
        <p:spPr>
          <a:xfrm>
            <a:off x="1692360" y="1628640"/>
            <a:ext cx="2173320" cy="2087640"/>
          </a:xfrm>
          <a:custGeom>
            <a:avLst/>
            <a:gdLst>
              <a:gd name="textAreaLeft" fmla="*/ 290880 w 2173320"/>
              <a:gd name="textAreaRight" fmla="*/ 1882440 w 2173320"/>
              <a:gd name="textAreaTop" fmla="*/ 365400 h 2087640"/>
              <a:gd name="textAreaBottom" fmla="*/ 15138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AutoShape 13"/>
          <p:cNvSpPr/>
          <p:nvPr/>
        </p:nvSpPr>
        <p:spPr>
          <a:xfrm>
            <a:off x="5003640" y="1052640"/>
            <a:ext cx="878040" cy="1574640"/>
          </a:xfrm>
          <a:custGeom>
            <a:avLst/>
            <a:gdLst>
              <a:gd name="textAreaLeft" fmla="*/ 117360 w 878040"/>
              <a:gd name="textAreaRight" fmla="*/ 760680 w 878040"/>
              <a:gd name="textAreaTop" fmla="*/ 275400 h 1574640"/>
              <a:gd name="textAreaBottom" fmla="*/ 1141560 h 157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AutoShape 14"/>
          <p:cNvSpPr/>
          <p:nvPr/>
        </p:nvSpPr>
        <p:spPr>
          <a:xfrm>
            <a:off x="5580000" y="4869000"/>
            <a:ext cx="1152720" cy="576000"/>
          </a:xfrm>
          <a:custGeom>
            <a:avLst/>
            <a:gdLst>
              <a:gd name="textAreaLeft" fmla="*/ 201600 w 1152720"/>
              <a:gd name="textAreaRight" fmla="*/ 835920 w 115272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5" dur="5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3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0" dur="1500" autoRev="1" fill="hold"/>
                                        <p:tgtEl>
                                          <p:spTgt spid="3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4" dur="5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1321560" y="970920"/>
            <a:ext cx="7301880" cy="87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Демокрит 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(460–371 гг. н.э.)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Древнегреческий ученый, философ-материалист. Ученик Левкиппа. Родился в Абдере (Фракия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очинения Демокрита по всем отраслям науки того времени создали ему славу крупнейшего представителя древней атомистики. Признавал вечность материи и считал, что она состоит из бесконечного числа мельчайших неделимых частиц – атомов, различное сочетание которых образует бесчисленное множество разнообразных вещей и их свойств. Утверждал, что атомы движутся под влиянием господства необходимост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1" name="Picture 8" descr="res6563BF91-BED0-4064-8121-4F0CCE66DA3A"/>
          <p:cNvPicPr/>
          <p:nvPr/>
        </p:nvPicPr>
        <p:blipFill>
          <a:blip r:embed="rId1"/>
          <a:stretch/>
        </p:blipFill>
        <p:spPr>
          <a:xfrm>
            <a:off x="826920" y="2349360"/>
            <a:ext cx="3457800" cy="360072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1000" autoRev="1" fill="hold"/>
                                        <p:tgtEl>
                                          <p:spTgt spid="2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1750320" y="1038960"/>
            <a:ext cx="6877800" cy="80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Ломоносов Михаил Васильевич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            (1711–1765)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716360" y="2565000"/>
            <a:ext cx="39196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усский ученый, с 1745 г. академик Петербургской АН. Изложил в 1741–1750 гг. основы атомно-корпускулярного учения; выдвинул в 1744–1748 гг. кинетическую теорию теплоты; обосновал в 1747–1752 гг. необходимость привлечения физики для объяснения химических явлений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5" name="Picture 9" descr="res682B98E1-067C-4EFF-B78D-08D8042B6B82"/>
          <p:cNvPicPr/>
          <p:nvPr/>
        </p:nvPicPr>
        <p:blipFill>
          <a:blip r:embed="rId1"/>
          <a:stretch/>
        </p:blipFill>
        <p:spPr>
          <a:xfrm>
            <a:off x="971640" y="2421000"/>
            <a:ext cx="3240000" cy="3600360"/>
          </a:xfrm>
          <a:prstGeom prst="rect">
            <a:avLst/>
          </a:prstGeom>
          <a:ln w="0">
            <a:noFill/>
          </a:ln>
        </p:spPr>
      </p:pic>
      <p:sp>
        <p:nvSpPr>
          <p:cNvPr id="28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1000" autoRev="1" fill="hold"/>
                                        <p:tgtEl>
                                          <p:spTgt spid="2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альтон Джон (1766–1844)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995280" y="2361960"/>
            <a:ext cx="4535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нглийский химик и физик, с 1822 г. член Лондонского королевского общества. Родился в Иглсфилде (Кумберленд). Образование получил самостоятельно. В период с 1781 по 1793 гг. учитель математики в школе в Кендале, с 1793 г. преподавал физику и математику в Новом колледже в Манчестере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9" name="Picture 6" descr="resBF03F592-A2F8-492D-8AF3-BEF90CF76D76"/>
          <p:cNvPicPr/>
          <p:nvPr/>
        </p:nvPicPr>
        <p:blipFill>
          <a:blip r:embed="rId1"/>
          <a:stretch/>
        </p:blipFill>
        <p:spPr>
          <a:xfrm>
            <a:off x="1042920" y="2766960"/>
            <a:ext cx="2952720" cy="2967120"/>
          </a:xfrm>
          <a:prstGeom prst="rect">
            <a:avLst/>
          </a:prstGeom>
          <a:ln w="0">
            <a:noFill/>
          </a:ln>
        </p:spPr>
      </p:pic>
      <p:sp>
        <p:nvSpPr>
          <p:cNvPr id="29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Томсон Джон Паджет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(1892–1975)</a:t>
            </a:r>
            <a:br>
              <a:rPr sz="1800"/>
            </a:b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140360" y="2349000"/>
            <a:ext cx="4752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Английский физик, в 1930 г. член Лондонского королевского общества. Родился в Кембридже. В 1914 г. окончил Кембриджский университет, там же работал в 1919–1922 гг. В 1922–1930 гг. – профессор Абердинского университета (Шотландия), в 1952–1962 гг. возглавлял один из колледжей в Кембридж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аботы относятся к атомной и ядерной физике, квантовой механике, аэродинамике, электрическим разрядам в газах. В 1927 г. открыл явление дифракции электронов. Осуществил исследования по геометрии электронограмм, теории рассеян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агражден медалями Д. Юза в 1939 г., Королевской в 1949 г., М. Фарадея в 1960 г. Лауреат Нобелевской премии в 1937 г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3" name="Picture 8" descr="res02BB57E3-D321-4A2E-8C82-D4F3F2FC87C1"/>
          <p:cNvPicPr/>
          <p:nvPr/>
        </p:nvPicPr>
        <p:blipFill>
          <a:blip r:embed="rId1"/>
          <a:stretch/>
        </p:blipFill>
        <p:spPr>
          <a:xfrm>
            <a:off x="826920" y="2421000"/>
            <a:ext cx="3240360" cy="338436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1000" autoRev="1" fill="hold"/>
                                        <p:tgtEl>
                                          <p:spTgt spid="2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1808640" y="956160"/>
            <a:ext cx="6814080" cy="88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Резерфорд Эрнст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(1871–1937)</a:t>
            </a:r>
            <a:br>
              <a:rPr sz="1800"/>
            </a:b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4140360" y="2394000"/>
            <a:ext cx="4752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Английский физик, с 1903 г. член Лондонского королевского общества, его президент в 1925–1930 гг. Родился в Спринг-Броуве (ныне Брайтуотер) в Новой Зеландии. В 1894 г. окончил Кентерберийский колледж Новозеландского университета в Крайстчерче. В 1895–1898 гг. работал в Кавендишской лаборатории Кембриджского университета под руководством физика Дж. Дж. Томсона, 1898–1907 гг. профессор Мак-Гиллского университета в Монреале (Канада), в 1907–1919 гг. Манчестерского университета. С 1919 г. профессор Кембриджского университета и директор Кавендишской лаборатори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дин из основателей учения о радиоактивности, ядерной физики и представлений о строении атомов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7" name="Picture 9" descr="resED23752C-71C7-4157-9B86-577FD0589B1E"/>
          <p:cNvPicPr/>
          <p:nvPr/>
        </p:nvPicPr>
        <p:blipFill>
          <a:blip r:embed="rId1"/>
          <a:stretch/>
        </p:blipFill>
        <p:spPr>
          <a:xfrm>
            <a:off x="900000" y="2421000"/>
            <a:ext cx="3024360" cy="3240000"/>
          </a:xfrm>
          <a:prstGeom prst="rect">
            <a:avLst/>
          </a:prstGeom>
          <a:ln w="0">
            <a:noFill/>
          </a:ln>
        </p:spPr>
      </p:pic>
      <p:sp>
        <p:nvSpPr>
          <p:cNvPr id="29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1000" autoRev="1" fill="hold"/>
                                        <p:tgtEl>
                                          <p:spTgt spid="2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5"/>
          <p:cNvSpPr/>
          <p:nvPr/>
        </p:nvSpPr>
        <p:spPr>
          <a:xfrm>
            <a:off x="179280" y="1474560"/>
            <a:ext cx="871380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7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Arial"/>
                <a:ea typeface="Arial"/>
              </a:rPr>
              <a:t>                          </a:t>
            </a:r>
            <a:r>
              <a:rPr b="0" lang="ru-RU" sz="4800" spc="-1" strike="noStrike">
                <a:solidFill>
                  <a:srgbClr val="003366"/>
                </a:solidFill>
                <a:latin typeface="Arial"/>
                <a:ea typeface="Arial"/>
              </a:rPr>
              <a:t>Наименьшая электронейтральная частица химического элемента, являющаяся носителем его свойств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384800" y="649440"/>
            <a:ext cx="4118760" cy="138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47d18"/>
                </a:solidFill>
                <a:latin typeface="Arial"/>
              </a:rPr>
              <a:t>Атом</a:t>
            </a:r>
            <a:br>
              <a:rPr sz="3200"/>
            </a:b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01" name="Picture 10" descr="resEF7CBD0E-0A01-000A-014B-6B89448ABFA7"/>
          <p:cNvPicPr/>
          <p:nvPr/>
        </p:nvPicPr>
        <p:blipFill>
          <a:blip r:embed="rId1"/>
          <a:stretch/>
        </p:blipFill>
        <p:spPr>
          <a:xfrm>
            <a:off x="179280" y="476280"/>
            <a:ext cx="3529080" cy="244800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Состав атома</a:t>
            </a:r>
            <a:br>
              <a:rPr sz="4400"/>
            </a:b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304" name="Organization Chart 6"/>
          <p:cNvGrpSpPr/>
          <p:nvPr/>
        </p:nvGrpSpPr>
        <p:grpSpPr>
          <a:xfrm>
            <a:off x="179280" y="1557360"/>
            <a:ext cx="8640000" cy="4780800"/>
            <a:chOff x="179280" y="1557360"/>
            <a:chExt cx="8640000" cy="4780800"/>
          </a:xfrm>
        </p:grpSpPr>
        <p:cxnSp>
          <p:nvCxnSpPr>
            <p:cNvPr id="305" name="_s1028"/>
            <p:cNvCxnSpPr>
              <a:stCxn id="306" idx="0"/>
              <a:endCxn id="307" idx="2"/>
            </p:cNvCxnSpPr>
            <p:nvPr/>
          </p:nvCxnSpPr>
          <p:spPr>
            <a:xfrm flipV="1">
              <a:off x="7522560" y="4560840"/>
              <a:ext cx="3960" cy="568800"/>
            </a:xfrm>
            <a:prstGeom prst="bentConnector2">
              <a:avLst/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308" name="_s1029"/>
            <p:cNvCxnSpPr>
              <a:stCxn id="309" idx="0"/>
              <a:endCxn id="310" idx="2"/>
            </p:cNvCxnSpPr>
            <p:nvPr/>
          </p:nvCxnSpPr>
          <p:spPr>
            <a:xfrm flipV="1" rot="16200000">
              <a:off x="3456720" y="4088520"/>
              <a:ext cx="568800" cy="1512720"/>
            </a:xfrm>
            <a:prstGeom prst="bentConnector3">
              <a:avLst>
                <a:gd name="adj1" fmla="val 20962"/>
              </a:avLst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311" name="_s1030"/>
            <p:cNvCxnSpPr>
              <a:stCxn id="312" idx="0"/>
              <a:endCxn id="310" idx="2"/>
            </p:cNvCxnSpPr>
            <p:nvPr/>
          </p:nvCxnSpPr>
          <p:spPr>
            <a:xfrm flipH="1" flipV="1" rot="5400000">
              <a:off x="1945800" y="4089960"/>
              <a:ext cx="568800" cy="1510200"/>
            </a:xfrm>
            <a:prstGeom prst="bentConnector3">
              <a:avLst>
                <a:gd name="adj1" fmla="val 20962"/>
              </a:avLst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313" name="_s1031"/>
            <p:cNvCxnSpPr>
              <a:stCxn id="307" idx="0"/>
              <a:endCxn id="314" idx="2"/>
            </p:cNvCxnSpPr>
            <p:nvPr/>
          </p:nvCxnSpPr>
          <p:spPr>
            <a:xfrm flipV="1" rot="16200000">
              <a:off x="6105600" y="1915560"/>
              <a:ext cx="565200" cy="2269800"/>
            </a:xfrm>
            <a:prstGeom prst="bentConnector3">
              <a:avLst>
                <a:gd name="adj1" fmla="val 21032"/>
              </a:avLst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315" name="_s1032"/>
            <p:cNvCxnSpPr>
              <a:stCxn id="310" idx="0"/>
              <a:endCxn id="314" idx="2"/>
            </p:cNvCxnSpPr>
            <p:nvPr/>
          </p:nvCxnSpPr>
          <p:spPr>
            <a:xfrm flipH="1" flipV="1" rot="5400000">
              <a:off x="3836520" y="1915920"/>
              <a:ext cx="565200" cy="2269080"/>
            </a:xfrm>
            <a:prstGeom prst="bentConnector3">
              <a:avLst>
                <a:gd name="adj1" fmla="val 21032"/>
              </a:avLst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314" name="_s1033"/>
            <p:cNvSpPr/>
            <p:nvPr/>
          </p:nvSpPr>
          <p:spPr>
            <a:xfrm>
              <a:off x="3957120" y="1557360"/>
              <a:ext cx="2593080" cy="1195200"/>
            </a:xfrm>
            <a:prstGeom prst="bracketPair">
              <a:avLst>
                <a:gd name="adj" fmla="val 0"/>
              </a:avLst>
            </a:prstGeom>
            <a:solidFill>
              <a:srgbClr val="cc99ff">
                <a:alpha val="5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200" spc="-1" strike="noStrike">
                  <a:solidFill>
                    <a:srgbClr val="003366"/>
                  </a:solidFill>
                  <a:latin typeface="Tahoma"/>
                </a:rPr>
                <a:t>атом</a:t>
              </a:r>
              <a:endParaRPr b="0" lang="en-US" sz="9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0" name="_s1034"/>
            <p:cNvSpPr/>
            <p:nvPr/>
          </p:nvSpPr>
          <p:spPr>
            <a:xfrm>
              <a:off x="1688760" y="3350160"/>
              <a:ext cx="2593080" cy="1195200"/>
            </a:xfrm>
            <a:prstGeom prst="bracketPair">
              <a:avLst>
                <a:gd name="adj" fmla="val 0"/>
              </a:avLst>
            </a:prstGeom>
            <a:solidFill>
              <a:srgbClr val="99cc99">
                <a:alpha val="5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366"/>
                  </a:solidFill>
                  <a:latin typeface="Tahoma"/>
                </a:rPr>
                <a:t>ядро</a:t>
              </a:r>
              <a:endParaRPr b="0" lang="en-US" sz="3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7" name="_s1035"/>
            <p:cNvSpPr/>
            <p:nvPr/>
          </p:nvSpPr>
          <p:spPr>
            <a:xfrm>
              <a:off x="6226200" y="3350160"/>
              <a:ext cx="2593080" cy="1195200"/>
            </a:xfrm>
            <a:prstGeom prst="bracketPair">
              <a:avLst>
                <a:gd name="adj" fmla="val 0"/>
              </a:avLst>
            </a:prstGeom>
            <a:solidFill>
              <a:srgbClr val="99cc99">
                <a:alpha val="5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3366"/>
                  </a:solidFill>
                  <a:latin typeface="Tahoma"/>
                </a:rPr>
                <a:t>электронная</a:t>
              </a:r>
              <a:endParaRPr b="0" lang="en-US" sz="27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3366"/>
                  </a:solidFill>
                  <a:latin typeface="Tahoma"/>
                </a:rPr>
                <a:t>оболочка</a:t>
              </a:r>
              <a:endParaRPr b="0" lang="en-US" sz="2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_s1036"/>
            <p:cNvSpPr/>
            <p:nvPr/>
          </p:nvSpPr>
          <p:spPr>
            <a:xfrm>
              <a:off x="179280" y="5142960"/>
              <a:ext cx="2589480" cy="1195200"/>
            </a:xfrm>
            <a:prstGeom prst="bracketPair">
              <a:avLst>
                <a:gd name="adj" fmla="val 0"/>
              </a:avLst>
            </a:prstGeom>
            <a:solidFill>
              <a:srgbClr val="003366">
                <a:alpha val="5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ahoma"/>
                </a:rPr>
                <a:t>протоны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9" name="_s1037"/>
            <p:cNvSpPr/>
            <p:nvPr/>
          </p:nvSpPr>
          <p:spPr>
            <a:xfrm>
              <a:off x="3201120" y="5142960"/>
              <a:ext cx="2593080" cy="1195200"/>
            </a:xfrm>
            <a:prstGeom prst="bracketPair">
              <a:avLst>
                <a:gd name="adj" fmla="val 0"/>
              </a:avLst>
            </a:prstGeom>
            <a:solidFill>
              <a:srgbClr val="003366">
                <a:alpha val="5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ahoma"/>
                </a:rPr>
                <a:t>нейтроны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6" name="_s1038"/>
            <p:cNvSpPr/>
            <p:nvPr/>
          </p:nvSpPr>
          <p:spPr>
            <a:xfrm>
              <a:off x="6226200" y="5142960"/>
              <a:ext cx="2593080" cy="1195200"/>
            </a:xfrm>
            <a:prstGeom prst="bracketPair">
              <a:avLst>
                <a:gd name="adj" fmla="val 0"/>
              </a:avLst>
            </a:prstGeom>
            <a:solidFill>
              <a:srgbClr val="003366">
                <a:alpha val="5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ahoma"/>
                </a:rPr>
                <a:t>электроны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1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5:26:55Z</dcterms:created>
  <dc:creator>Дмитрий Сергеевич</dc:creator>
  <dc:description/>
  <dc:language>en-US</dc:language>
  <cp:lastModifiedBy>LEGION</cp:lastModifiedBy>
  <dcterms:modified xsi:type="dcterms:W3CDTF">2015-05-01T09:28:49Z</dcterms:modified>
  <cp:revision>13</cp:revision>
  <dc:subject/>
  <dc:title>Состав ато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3000000000001024140</vt:lpwstr>
  </property>
</Properties>
</file>