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A51C-89DA-4823-A121-64EA64ADC2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е от песчинок до планет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лементов состоит единых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.И.Менделее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D543-9D78-451C-B724-A13BEAD0B2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 атом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имеет очень малые размеры, порядка долей наноме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нм = 10-9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ычислен объем, приходящийся на один 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 =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/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радиус атома железа составляет 0,13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8BE-6FCF-49E7-A4FD-51CC7FF2AB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441-F5E7-43D7-92DF-2592839F1F3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7EB-3932-40C8-B313-81BB24F2CE6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243-15CD-4EDC-9B46-56E689F88D6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8CC-DD66-48B6-9047-A771DD583BD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электрона в ато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оя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2C19-556F-46B0-A2C2-240424C4217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E26-13E6-4DA9-9448-3A60338B31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 №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состав атома элемента но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ариант                      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                         1)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A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  2)19 (К,  К,  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                        3)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F740-E13D-458E-A933-69131AAF86C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ыберите элемент в ПСХЭ и запишите его 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Запишите атомный номер элемен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массовое число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пишите знач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низу и значение 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ва вверху у знака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Определите состав ат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пишите 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Сделайте 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)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=11-5=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(5р,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атома бора состоит из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ят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шест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электронная оболочка- из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яти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2A04-2BFD-4227-8A16-9570DD12DB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Откройте ОК «Химия, 8 кл.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омпонент «Курсы»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закладка «Учебни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абриелян О.С., глава 1, основные сведения о строении ато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Состав атома. Тренаж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ыполните 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C118-A27B-4E24-BD3F-51652B2E060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томы химических элемент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 о строени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сложности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ного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овочны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5EEE-AAA9-4F7F-B7F5-1B53ACDF0EA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кр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460–371 гг. н.э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4F54-18AD-4FC6-9F84-6DD606F041F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оносов Михаил Васильеви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(1711–176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CD0-F8A0-45DE-9A67-E4B619A976A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ьтон Джон (1766–1844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7080-41C0-4912-B81B-B2AE93671B0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мсон Джон Падж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92–1975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789C-B687-41A0-9B27-C35975A5256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ерфорд Эрнс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1871–1937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5DB-CB09-4DC0-80BD-19D7731148F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7d18"/>
                </a:solidFill>
                <a:latin typeface="Calibri"/>
              </a:rPr>
              <a:t>Атом</a:t>
            </a: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2E30-D235-45F5-9D69-6D36C9CF83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ато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C308-985C-4554-AAED-C894F7534E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12A-D81A-45AB-9996-FA64BBC7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C53-689E-4DF7-823C-DCE2BDE2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CEF-97BB-41A7-92E3-BBC2C1E1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D2B-692B-4705-A286-567995CE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60D0-E8E4-4C00-A2E0-245EEFA0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8602-AFD4-4C4C-9F59-66BB1AA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CCD5-E3BC-4274-9843-1BA126B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773A-17B2-4918-8EE9-8A2649CB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C47-1D87-4F3A-B3DF-89C1D468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E1A1-5B1D-444E-A0EF-2C9104B8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1FDE-5A28-4651-92F8-21DCFDF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1B2-0362-4490-9DDE-FC339F5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BE29-58D6-488B-9FD9-E4BCE3D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A9EC-3CAB-4918-BDD0-1AC9782F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988F-816F-49D6-B34A-508202F0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DA6C-6206-43A2-A87E-5E20AB6A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2A47-E349-441F-9DDE-7BBFC1A5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2930-5347-4180-AD81-D99C02F0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9240-1004-4BED-A6C1-623F5282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20626-711C-4562-B20B-A492EC3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9173-854D-463E-A623-FA44C49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0235-DEA4-4427-8444-D8BE7AFD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E8D-3133-413C-9DDB-84669A2F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59EA-D66B-4A02-A836-357900CD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8C3D-C48F-4EF7-ADDE-2525AF3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FFDF-48D4-4C3B-A8B3-A516C78C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470C-E1FA-4221-92FB-3A14AED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F739-89E9-416D-A3C1-09D4575F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C7B0-15F5-4D03-AEB3-D170ABF9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A9A6-56ED-453C-8CF0-9275520F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4E32-5938-4A2C-A2CA-22DFA54B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FB3B-6F3A-401D-89A2-E5B5FA8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67B2-2D67-4A51-92A1-38F321F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CF2-7D92-4885-9F43-6D720A6C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5765-AB78-4F0E-ACE7-8CE08D63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C196-10D6-4E0D-B103-6CD3FBAF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2D69-DD82-4DCA-AD8E-4D7DE26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1574-9754-4F9C-B1E6-5FC03E7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63D5-706C-449C-9485-A4BFF6E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CC2EC-B2F4-4CFE-B852-4E1C2A8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7622-B4C5-4B81-AF28-AA69CBA0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F887-CBBD-40C4-B645-A0B77829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99B94-5B4E-4535-A6E6-23F1D230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AB3ED-A16A-49A1-9A49-4211BD20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380-3A0C-4D4F-A88C-26B20CC5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AA82F-9C1D-4887-A337-8D5B8871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1403-E079-4DDF-A541-5718D55B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D1C5A-A5C4-4F2A-AC9E-A2CBA5FE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044D-99B5-471C-BFA2-8802B7E7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88216-D908-49DB-A1EA-39EDF2CB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6AB02-2744-4D1D-9293-99560523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24CC4-F470-4782-8523-7F1B6630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30A4-3D9B-4B67-86BB-6EAEF501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4BC68-5F75-4B6E-BFCD-E18AA70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8BF2C-7FBF-4E77-8B26-788532C0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F82-84C6-40F1-A608-D09A2722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CAD6E-CF28-4006-9714-12788B11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7B41A-61A9-45C6-8D7F-F5213FE7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6F09A-EBCE-47F5-9A87-C133D053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B6991-F27B-4749-95CA-7D77EA0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5CF1-6089-498B-8DD8-AD9E1E41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FAFF-92D5-44F6-90B2-5BEF346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A956-43F0-4A17-8486-BDDF8527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5CEC6-299A-4515-A87B-D761D2B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07C3-AE1A-448D-8E13-0D8DB05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A5C84-0A9C-46D5-82E1-D7431D8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2EA-9BD9-466F-95A3-E9D49F0B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1E728-9C29-4C71-B715-7E4CA78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37B6C-B74A-4A1B-8BA3-CDA1A930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869F8-0BE7-4E1B-9A10-615B6469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1ED-6F8C-462F-BF72-B4F82CB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0D4-4968-451D-9BB7-2B3CD69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B116-D210-4943-A41D-99130BDA032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4C6C-EDC1-491E-9475-25BD73B540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E30-1EA6-4AF4-937E-5BA4D2737D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5ED1-7AF2-417B-9B06-BA3D0A88C76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D957-5FF5-4304-8080-084E8D8135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DBF8-F5A0-4347-AE72-5A81F033C9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Все от песчинок до планет-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элементов состоит единых…»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.И.Менделее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4" name="Picture 4" descr="resEF7CBCC1-0A01-000A-01FB-2220216C35BC"/>
          <p:cNvPicPr/>
          <p:nvPr/>
        </p:nvPicPr>
        <p:blipFill>
          <a:blip r:embed="rId1"/>
          <a:stretch/>
        </p:blipFill>
        <p:spPr>
          <a:xfrm>
            <a:off x="826920" y="1974960"/>
            <a:ext cx="7417080" cy="44784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мер атом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том имеет очень малые размеры, порядка долей нанометр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 нм = 10-9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ры атомов в твердом или жидком веществе можно рассчитать, зная плотность вещества r, из которой может быть найден молярный объем веще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вычислен объем, приходящийся на один а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ом =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/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ример, радиус атома железа составляет 0,13 н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В то же время содержание нейтронов в ядрах одного и того же элемента может быть переменны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едовательно, массы атомов одного элемента могут быть различными. Эти различные виды атомов одного химического элемента называются изотопами (от "изо" – равный и "топос" – место), так как они занимают одно место в таблице Д. И. Менделеева, поскольку принадлежат одному элемен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веденные в таблице Д. И. Менделеева атомные массы элементов – это средние атомные массы природной смеси изотопов данного элемента с учетом их относительного содержания в природе, поэтому они могут отличаться от целых чисе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помним, что атомная единица массы – это 1/12 массы атома углерода, причем того его изотопа, в ядре которого находится 6 протонов и 6 нейтро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томное ядро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актически вся масса атома (более 99,95%) сосредоточена в очень малом объеме – в ядре атома, находящемся в его центре. Диаметр ядра, если считать его шарообразным, составляет приблизительно одну стотысячную часть от диаметра ато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дра атомов имеют сложное строение. Они состоят из двух видов частиц с почти одинаковой массой, практически равной 1 а. е. м., электронейтральных нейтронов и положительно заряженных протонов, причем положительный заряд протона – наименьший существующий в природе электрический заряд, т. е. элементарный, который далее неделим. Заряд протона принимают за 1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ким образом, ядра атомов заряжены положительно, их заряд численно равен числу протонов, а массы ядер, следовательно и массы атомов, выраженные в атомных единицах массы, близки к целым числа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276720" y="189000"/>
            <a:ext cx="27352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47d18"/>
                </a:solidFill>
                <a:latin typeface="Verdana"/>
                <a:ea typeface="Arial"/>
              </a:rPr>
              <a:t>Ядро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00000" y="2421000"/>
          <a:ext cx="7993080" cy="3887640"/>
        </p:xfrm>
        <a:graphic>
          <a:graphicData uri="http://schemas.openxmlformats.org/drawingml/2006/table">
            <a:tbl>
              <a:tblPr/>
              <a:tblGrid>
                <a:gridCol w="2035440"/>
                <a:gridCol w="1939680"/>
                <a:gridCol w="401796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Велич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Обозначе­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Verdana"/>
                          <a:ea typeface="Arial"/>
                        </a:rPr>
                        <a:t>Количественные соотнош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7f9fa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Массовое число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A = Z + 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прот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Z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Число нейтрон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 = 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Symbol"/>
                          <a:ea typeface="Symbol"/>
                        </a:rPr>
                        <a:t></a:t>
                      </a:r>
                      <a:r>
                        <a:rPr b="1" lang="ru-RU" sz="1600" spc="-1" strike="noStrike">
                          <a:solidFill>
                            <a:srgbClr val="0e2b3b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a5c9e7"/>
                      </a:solidFill>
                    </a:lnL>
                    <a:lnR w="720">
                      <a:solidFill>
                        <a:srgbClr val="a5c9e7"/>
                      </a:solidFill>
                    </a:lnR>
                    <a:lnT w="720">
                      <a:solidFill>
                        <a:srgbClr val="a5c9e7"/>
                      </a:solidFill>
                    </a:lnT>
                    <a:lnB w="720">
                      <a:solidFill>
                        <a:srgbClr val="a5c9e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Электроны</a:t>
            </a:r>
            <a:br>
              <a:rPr sz="3200"/>
            </a:b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 вещества электронейтральны. Атомы – составные части вещества, следовательно, атомы в целом должны быть нейтральны. В состав атома, кроме положительно заряженного ядра, входят отрицательно заряженные частицы – электро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ический заряд электрона (отрицательный) численно равен заряду протона (положительному). Ясно поэтому, что в нейтральном атоме число электронов равно числу протонов в его ядре. Таким образом, атом состоит из очень маленького, но тяжелого положительно заряженного ядра, в состав которого входят протоны и нейтроны. Около ядра движутся еще меньшие отрицательно заряженные электроны. (Масса электрона равна приблизительно 1/2000 а. е. м., т. е. электрон приблизительно в 2000 раз легче протона или нейтрона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вижение электрона в атом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Электроны в атоме не могут быть неподвижными. Если бы электрон был неподвижным, то под действием силы притяжения к положительно заряженному ядру он немедленно упал бы на ядро. Но электрон и не вращается вокруг ядра. Движение электрона, как и других частиц субатомных размеров (т. е. размеров, меньших атомных), описывается законами квантовой механи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коны квантовой механики, которым подчиняется движение электрона, указывают (причем точно) вероятность его нахождения в том или другом месте пространства. В одних местах его можно обнаружить чаще, и мы говорим о большей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ероятнос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го нахождения в них, в других – реже, значит, имеется меньшая вероятность застать его там, в третьих он не бывает никогда, тогда говорят о нулевой вероят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ответственно говорят о повышенной или пониженной электронной плотности в разных областях пространства около атомного ядр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 электроне, движущемся в этой области пространства, будем говорить, что он "находится на этой орбитали". Согласно законам квантовой механики на одной орбитали может находиться не более двух электрон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24000" y="1121040"/>
            <a:ext cx="85071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се известные химические элементы приведены в таблице Д. И. Менделеева. В ней они располагаются в порядке возрастания зарядов их атомных яде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оскольку каждый атом электронейтрален, то число протонов в ядре атома равно числу электронов в этом же ато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Тем самым порядковый номер элемента в таблице Менделеева указывает число электронов в атоме и равное ему число протонов в ядр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ринадлежность атома тому или иному химическому элементу определяется зарядом его ядра. Поэтому число протонов, составляющих заряд ядра, у атомов одного и того же химического элемента строго определенно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78199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ПОМНИТЕ 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8" name="DefaultOcx" descr=""/>
          <p:cNvPicPr/>
          <p:nvPr/>
        </p:nvPicPr>
        <p:blipFill>
          <a:blip r:embed="rId1"/>
          <a:stretch/>
        </p:blipFill>
        <p:spPr>
          <a:xfrm>
            <a:off x="-4578480" y="261000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ние №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 состав атома элемента но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вариант                      2 вариа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                          1)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Ar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    2)19 (К,  К,  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5                        3)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Выберите элемент в ПСХЭ и запишите его зна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Запишите атомный номер элемент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его массовое число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Запишите значе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низу и значение </a:t>
            </a:r>
            <a:r>
              <a:rPr b="0" lang="ru-RU" sz="1600" spc="-1" strike="noStrike">
                <a:solidFill>
                  <a:srgbClr val="009900"/>
                </a:solidFill>
                <a:latin typeface="Verdana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слева вверху у знака эле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Определите состав атом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прот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ней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Запишите состав атом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.Сделайте выв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 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=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е)=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=11-5=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(5р, 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Ядро атома бора состоит из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пяти прот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1600" spc="-1" strike="noStrike">
                <a:solidFill>
                  <a:srgbClr val="9900ff"/>
                </a:solidFill>
                <a:latin typeface="Verdana"/>
              </a:rPr>
              <a:t>шести нейтронов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а электронная оболочка- из </a:t>
            </a:r>
            <a:r>
              <a:rPr b="0" lang="ru-RU" sz="1600" spc="-1" strike="noStrike">
                <a:solidFill>
                  <a:srgbClr val="336699"/>
                </a:solidFill>
                <a:latin typeface="Verdana"/>
              </a:rPr>
              <a:t>пяти электрон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ние №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Откройте ОК «Химия, 8 кл.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компонент «Курсы»;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закладка «Учебники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Габриелян О.С., глава 1, основные сведения о строении атом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Состав атома. Тренаже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6.выполните тес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омы химических элементов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е сведения о строении атом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азательства сложности строения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ав атомного яд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ровочные зад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6" descr="resEF7CBE1C-0A01-000A-00CC-C626666AB273"/>
          <p:cNvPicPr/>
          <p:nvPr/>
        </p:nvPicPr>
        <p:blipFill>
          <a:blip r:embed="rId1"/>
          <a:stretch/>
        </p:blipFill>
        <p:spPr>
          <a:xfrm>
            <a:off x="611280" y="765000"/>
            <a:ext cx="8281800" cy="590400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8"/>
          <p:cNvSpPr/>
          <p:nvPr/>
        </p:nvSpPr>
        <p:spPr>
          <a:xfrm>
            <a:off x="1692360" y="1628640"/>
            <a:ext cx="2173320" cy="2087640"/>
          </a:xfrm>
          <a:custGeom>
            <a:avLst/>
            <a:gdLst>
              <a:gd name="textAreaLeft" fmla="*/ 290880 w 2173320"/>
              <a:gd name="textAreaRight" fmla="*/ 1882440 w 217332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5003640" y="1052640"/>
            <a:ext cx="878040" cy="1574640"/>
          </a:xfrm>
          <a:custGeom>
            <a:avLst/>
            <a:gdLst>
              <a:gd name="textAreaLeft" fmla="*/ 117360 w 878040"/>
              <a:gd name="textAreaRight" fmla="*/ 760680 w 878040"/>
              <a:gd name="textAreaTop" fmla="*/ 275400 h 1574640"/>
              <a:gd name="textAreaBottom" fmla="*/ 1141560 h 15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5580000" y="4869000"/>
            <a:ext cx="1152720" cy="57600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3366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15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21560" y="970920"/>
            <a:ext cx="73018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емокрит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460–371 гг. н.э.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ревнегреческий ученый, философ-материалист. Ученик Левкиппа. Родился в Абдере (Фракия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чинения Демокрита по всем отраслям науки того времени создали ему славу крупнейшего представителя древней атомистики. Признавал вечность материи и считал, что она состоит из бесконечного числа мельчайших неделимых частиц – атомов, различное сочетание которых образует бесчисленное множество разнообразных вещей и их свойств. Утверждал, что атомы движутся под влиянием господства необходим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8" descr="res6563BF91-BED0-4064-8121-4F0CCE66DA3A"/>
          <p:cNvPicPr/>
          <p:nvPr/>
        </p:nvPicPr>
        <p:blipFill>
          <a:blip r:embed="rId1"/>
          <a:stretch/>
        </p:blipFill>
        <p:spPr>
          <a:xfrm>
            <a:off x="826920" y="2349360"/>
            <a:ext cx="3457800" cy="36007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50320" y="1038960"/>
            <a:ext cx="6877800" cy="80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Ломоносов Михаил Васильевич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(1711–1765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716360" y="2565000"/>
            <a:ext cx="3919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усский ученый, с 1745 г. академик Петербургской АН. Изложил в 1741–1750 гг. основы атомно-корпускулярного учения; выдвинул в 1744–1748 гг. кинетическую теорию теплоты; обосновал в 1747–1752 гг. необходимость привлечения физики для объяснения химических явл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Picture 9" descr="res682B98E1-067C-4EFF-B78D-08D8042B6B82"/>
          <p:cNvPicPr/>
          <p:nvPr/>
        </p:nvPicPr>
        <p:blipFill>
          <a:blip r:embed="rId1"/>
          <a:stretch/>
        </p:blipFill>
        <p:spPr>
          <a:xfrm>
            <a:off x="971640" y="2421000"/>
            <a:ext cx="3240000" cy="36003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0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льтон Джон (1766–1844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995280" y="2361960"/>
            <a:ext cx="4535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глийский химик и физик, с 1822 г. член Лондонского королевского общества. Родился в Иглсфилде (Кумберленд). Образование получил самостоятельно. В период с 1781 по 1793 гг. учитель математики в школе в Кендале, с 1793 г. преподавал физику и математику в Новом колледже в Манчестер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Picture 6" descr="resBF03F592-A2F8-492D-8AF3-BEF90CF76D76"/>
          <p:cNvPicPr/>
          <p:nvPr/>
        </p:nvPicPr>
        <p:blipFill>
          <a:blip r:embed="rId1"/>
          <a:stretch/>
        </p:blipFill>
        <p:spPr>
          <a:xfrm>
            <a:off x="1042920" y="2766960"/>
            <a:ext cx="2952720" cy="2967120"/>
          </a:xfrm>
          <a:prstGeom prst="rect">
            <a:avLst/>
          </a:prstGeom>
          <a:ln w="0">
            <a:noFill/>
          </a:ln>
        </p:spPr>
      </p:pic>
      <p:sp>
        <p:nvSpPr>
          <p:cNvPr id="2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омсон Джон Падже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92–1975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140360" y="2349000"/>
            <a:ext cx="475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в 1930 г. член Лондонского королевского общества. Родился в Кембридже. В 1914 г. окончил Кембриджский университет, там же работал в 1919–1922 гг. В 1922–1930 гг. – профессор Абердинского университета (Шотландия), в 1952–1962 гг. возглавлял один из колледжей в Кембридж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боты относятся к атомной и ядерной физике, квантовой механике, аэродинамике, электрическим разрядам в газах. В 1927 г. открыл явление дифракции электронов. Осуществил исследования по геометрии электронограмм, теории рассея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гражден медалями Д. Юза в 1939 г., Королевской в 1949 г., М. Фарадея в 1960 г. Лауреат Нобелевской премии в 1937 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8" descr="res02BB57E3-D321-4A2E-8C82-D4F3F2FC87C1"/>
          <p:cNvPicPr/>
          <p:nvPr/>
        </p:nvPicPr>
        <p:blipFill>
          <a:blip r:embed="rId1"/>
          <a:stretch/>
        </p:blipFill>
        <p:spPr>
          <a:xfrm>
            <a:off x="826920" y="2421000"/>
            <a:ext cx="3240360" cy="33843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08640" y="956160"/>
            <a:ext cx="6814080" cy="88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Резерфорд Эрнст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(1871–1937)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140360" y="2394000"/>
            <a:ext cx="475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нглийский физик, с 1903 г. член Лондонского королевского общества, его президент в 1925–1930 гг. Родился в Спринг-Броуве (ныне Брайтуотер) в Новой Зеландии. В 1894 г. окончил Кентерберийский колледж Новозеландского университета в Крайстчерче. В 1895–1898 гг. работал в Кавендишской лаборатории Кембриджского университета под руководством физика Дж. Дж. Томсона, 1898–1907 гг. профессор Мак-Гиллского университета в Монреале (Канада), в 1907–1919 гг. Манчестерского университета. С 1919 г. профессор Кембриджского университета и директор Кавендишской лаборатор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дин из основателей учения о радиоактивности, ядерной физики и представлений о строении атом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Picture 9" descr="resED23752C-71C7-4157-9B86-577FD0589B1E"/>
          <p:cNvPicPr/>
          <p:nvPr/>
        </p:nvPicPr>
        <p:blipFill>
          <a:blip r:embed="rId1"/>
          <a:stretch/>
        </p:blipFill>
        <p:spPr>
          <a:xfrm>
            <a:off x="900000" y="2421000"/>
            <a:ext cx="3024360" cy="32400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0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179280" y="1474560"/>
            <a:ext cx="871380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7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       </a:t>
            </a:r>
            <a:r>
              <a:rPr b="0" lang="ru-RU" sz="4800" spc="-1" strike="noStrike">
                <a:solidFill>
                  <a:srgbClr val="003366"/>
                </a:solidFill>
                <a:latin typeface="Arial"/>
                <a:ea typeface="Arial"/>
              </a:rPr>
              <a:t>Наименьшая электронейтральная частица химического элемента, являющаяся носителем его свойств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384800" y="649440"/>
            <a:ext cx="4118760" cy="138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d47d18"/>
                </a:solidFill>
                <a:latin typeface="Arial"/>
              </a:rPr>
              <a:t>Атом</a:t>
            </a:r>
            <a:br>
              <a:rPr sz="3200"/>
            </a:b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1" name="Picture 10" descr="resEF7CBD0E-0A01-000A-014B-6B89448ABFA7"/>
          <p:cNvPicPr/>
          <p:nvPr/>
        </p:nvPicPr>
        <p:blipFill>
          <a:blip r:embed="rId1"/>
          <a:stretch/>
        </p:blipFill>
        <p:spPr>
          <a:xfrm>
            <a:off x="179280" y="476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Состав атома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4" name="Organization Chart 6"/>
          <p:cNvGrpSpPr/>
          <p:nvPr/>
        </p:nvGrpSpPr>
        <p:grpSpPr>
          <a:xfrm>
            <a:off x="179280" y="1557360"/>
            <a:ext cx="8640000" cy="4780800"/>
            <a:chOff x="179280" y="1557360"/>
            <a:chExt cx="8640000" cy="4780800"/>
          </a:xfrm>
        </p:grpSpPr>
        <p:cxnSp>
          <p:nvCxnSpPr>
            <p:cNvPr id="305" name="_s1028"/>
            <p:cNvCxnSpPr>
              <a:stCxn id="306" idx="0"/>
              <a:endCxn id="307" idx="2"/>
            </p:cNvCxnSpPr>
            <p:nvPr/>
          </p:nvCxnSpPr>
          <p:spPr>
            <a:xfrm flipV="1">
              <a:off x="7522560" y="4560840"/>
              <a:ext cx="3960" cy="568800"/>
            </a:xfrm>
            <a:prstGeom prst="bentConnector2">
              <a:avLst/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08" name="_s1029"/>
            <p:cNvCxnSpPr>
              <a:stCxn id="309" idx="0"/>
              <a:endCxn id="310" idx="2"/>
            </p:cNvCxnSpPr>
            <p:nvPr/>
          </p:nvCxnSpPr>
          <p:spPr>
            <a:xfrm flipV="1" rot="16200000">
              <a:off x="3456720" y="4088520"/>
              <a:ext cx="568800" cy="151272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1" name="_s1030"/>
            <p:cNvCxnSpPr>
              <a:stCxn id="312" idx="0"/>
              <a:endCxn id="310" idx="2"/>
            </p:cNvCxnSpPr>
            <p:nvPr/>
          </p:nvCxnSpPr>
          <p:spPr>
            <a:xfrm flipH="1" flipV="1" rot="5400000">
              <a:off x="1945800" y="4089960"/>
              <a:ext cx="568800" cy="1510200"/>
            </a:xfrm>
            <a:prstGeom prst="bentConnector3">
              <a:avLst>
                <a:gd name="adj1" fmla="val 2096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3" name="_s1031"/>
            <p:cNvCxnSpPr>
              <a:stCxn id="307" idx="0"/>
              <a:endCxn id="314" idx="2"/>
            </p:cNvCxnSpPr>
            <p:nvPr/>
          </p:nvCxnSpPr>
          <p:spPr>
            <a:xfrm flipV="1" rot="16200000">
              <a:off x="6105600" y="1915560"/>
              <a:ext cx="565200" cy="226980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315" name="_s1032"/>
            <p:cNvCxnSpPr>
              <a:stCxn id="310" idx="0"/>
              <a:endCxn id="314" idx="2"/>
            </p:cNvCxnSpPr>
            <p:nvPr/>
          </p:nvCxnSpPr>
          <p:spPr>
            <a:xfrm flipH="1" flipV="1" rot="5400000">
              <a:off x="3836520" y="1915920"/>
              <a:ext cx="565200" cy="2269080"/>
            </a:xfrm>
            <a:prstGeom prst="bentConnector3">
              <a:avLst>
                <a:gd name="adj1" fmla="val 21032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314" name="_s1033"/>
            <p:cNvSpPr/>
            <p:nvPr/>
          </p:nvSpPr>
          <p:spPr>
            <a:xfrm>
              <a:off x="3957120" y="15573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cc99ff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200" spc="-1" strike="noStrike">
                  <a:solidFill>
                    <a:srgbClr val="003366"/>
                  </a:solidFill>
                  <a:latin typeface="Tahoma"/>
                </a:rPr>
                <a:t>атом</a:t>
              </a:r>
              <a:endParaRPr b="0" lang="en-US" sz="9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_s1034"/>
            <p:cNvSpPr/>
            <p:nvPr/>
          </p:nvSpPr>
          <p:spPr>
            <a:xfrm>
              <a:off x="168876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366"/>
                  </a:solidFill>
                  <a:latin typeface="Tahoma"/>
                </a:rPr>
                <a:t>ядро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_s1035"/>
            <p:cNvSpPr/>
            <p:nvPr/>
          </p:nvSpPr>
          <p:spPr>
            <a:xfrm>
              <a:off x="6226200" y="33501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99cc99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электронная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3366"/>
                  </a:solidFill>
                  <a:latin typeface="Tahoma"/>
                </a:rPr>
                <a:t>оболочка</a:t>
              </a:r>
              <a:endParaRPr b="0" lang="en-US" sz="2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_s1036"/>
            <p:cNvSpPr/>
            <p:nvPr/>
          </p:nvSpPr>
          <p:spPr>
            <a:xfrm>
              <a:off x="179280" y="5142960"/>
              <a:ext cx="25894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прот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_s1037"/>
            <p:cNvSpPr/>
            <p:nvPr/>
          </p:nvSpPr>
          <p:spPr>
            <a:xfrm>
              <a:off x="320112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ней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_s1038"/>
            <p:cNvSpPr/>
            <p:nvPr/>
          </p:nvSpPr>
          <p:spPr>
            <a:xfrm>
              <a:off x="6226200" y="5142960"/>
              <a:ext cx="2593080" cy="1195200"/>
            </a:xfrm>
            <a:prstGeom prst="bracketPair">
              <a:avLst>
                <a:gd name="adj" fmla="val 0"/>
              </a:avLst>
            </a:prstGeom>
            <a:solidFill>
              <a:srgbClr val="003366">
                <a:alpha val="5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ahoma"/>
                </a:rPr>
                <a:t>электрон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26:55Z</dcterms:created>
  <dc:creator>Дмитрий Сергеевич</dc:creator>
  <dc:description/>
  <dc:language>en-US</dc:language>
  <cp:lastModifiedBy>LEGION</cp:lastModifiedBy>
  <dcterms:modified xsi:type="dcterms:W3CDTF">2015-05-01T09:28:49Z</dcterms:modified>
  <cp:revision>13</cp:revision>
  <dc:subject/>
  <dc:title>Состав ато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