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9E50-275D-4036-A08C-9B6A047D88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государственный экзамен по ХИМИ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сультаци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П. Костенк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ектор ГОУ РК «ИПК Р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 НМ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1A31-4B5D-42C9-BBAA-57D5FCB92C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ьте электронную формулу химического элемента № 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AB83-2B29-4741-8B1C-72637D0E4E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лемент № 17 называется хлор и имеет химический символ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Элемент хлор находится в третье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нешним энергетическим уровнем в атоме хлора является уровень под номером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Элемент хлор находится в группе номе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Хлор входит в подгрупп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На внешнем электронном уровне атома хлора имеется 7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Заряд ядра атома элемента хлора равен +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На трёх энергетических уровнях атома хлора располагаются 17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На первом энергетическом уровне атома хлора располагаются 2 элект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ервый электронный уровень любого атома периодической системы, кроме атома водорода, можно представить так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0A91-5D3C-4538-9ED8-798ABC7D71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На втором энергетическом уровне атома хлора находится 8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 - (2 + 7) =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На втором энергетическом уровне имеются два подуровн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Число электронов в атоме хлора на втором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 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дуровне равняется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Число электронов в атоме хлора на втор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 - подуровне равняется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- 2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 Число электронов находящихся на одн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 -орбитали не может быть больше чем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 На втором энергетическом уровне в атоме хлора имеется тр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 - орбитали, расположенных перпендикулярно друг-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. Расположение электронов на втором энергетическом уровне можно записать так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Если прибавить эту запись к ранее сделанной записи первого энергетического уровня, то получи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CACD-7BA8-4BBA-81C8-3D82CA3B36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. На третьем энергетическом уровне в атоме хлора имеется три подуровн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Из них заполняется семью электронами только дв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d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подуровень остаётся пуст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. Расположение электронов на третьем энергетическом уровне можно записать так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Если добавить эту запись к ранее сделанной записи первого и второго энергетического уровней, то получится электронная формула атома хл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электронная формула атома хлора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00E0-1819-43D5-AB1C-FC2950291B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формула ио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)…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)….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)…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4B0B-F04F-4650-90E0-F346D8D28E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ая формула атома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1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а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ращается в ион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соединяя 1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ая формула иона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1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D2A7-52AE-40BD-805A-73840D3D3D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 металла имеет электронную конфигурацию 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формула оксида, гидроксида и сульфата этого эле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)ЭО; Э(ОН)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Э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; ЭОН;Э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ЭО; ЭОН;Э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Э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; Э(ОН)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DA7F-1646-4723-9378-1A6D042034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s</a:t>
            </a:r>
            <a:r>
              <a:rPr b="1" i="1" lang="ru-RU" sz="1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Calibri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Э</a:t>
            </a:r>
            <a:r>
              <a:rPr b="1" i="1" lang="ru-RU" sz="18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 Э</a:t>
            </a:r>
            <a:r>
              <a:rPr b="1" i="1" lang="ru-RU" sz="18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ОН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1" i="1" lang="ru-RU" sz="18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C741-31B6-49D5-978B-7709A656CA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:Укажите соединение с ионной связ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E841-E62E-4D34-AFD9-6E5BB09FF4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метод электронного баланса, составьте уравнение реа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+ KOH → K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окислитель и восстанов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6EB2-8ECA-412E-B5F4-A91AEAA028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представления о строении атом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мерности изменения химических свойств элементов и их соединений по периодам и группам периодической системы химических элемент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И. Менделеев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C3C5-1C9C-4A7B-8B57-0D096263A2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KNO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+ KOH → KN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+ K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D1EC-22E5-4C8D-854B-00138DCE9F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ставлен электронный балан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+5 + 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ē → N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Calibri"/>
              </a:rPr>
              <a:t>+3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Cr+3– 6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ē → 2Cr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22F9-D3AC-4EEC-86A6-BAEC78B75E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 + 3KN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+ 4KOH → 3KN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+ 2K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 + 2H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м в степени окисления +3 яв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ител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от в степени окисления +5 (или нитрат калия за счет азота в степени окисления +5) – окисл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AF1D-4A9D-4287-B6DB-FBFBFFD4F4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А1: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4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12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6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2E71-61FC-4839-80A7-FFE33FE528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 (от греч. atomos - неделимый) - наименьшая химическая частица, состоящая из массивного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о заряженного ядра и движущихся в электрическом поле ядра отрицательно заряженных элек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86C6-BC1E-43C5-BB83-60B63D870C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ные частицы и их св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 состоит из трёх видов частиц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 -  (е) -  заряд отрицательный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1,6 </a:t>
            </a:r>
            <a:r>
              <a:rPr b="1" lang="ru-RU" sz="12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. Масса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9,1</a:t>
            </a:r>
            <a:r>
              <a:rPr b="1" lang="ru-RU" sz="1200" spc="-1" strike="noStrike" baseline="16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1200" spc="-1" strike="noStrike" baseline="50000">
                <a:solidFill>
                  <a:srgbClr val="000000"/>
                </a:solidFill>
                <a:latin typeface="Calibri"/>
              </a:rPr>
              <a:t>-3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н – (р)-  заряд положительный                  .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,6 </a:t>
            </a:r>
            <a:r>
              <a:rPr b="1" lang="ru-RU" sz="12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,  Масса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184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йтрон –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 заряжен,                              .                      Масса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F6EF-E4B2-49D2-884D-3C5B3D053E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 атома - образование из протонов и нейтронов, находящееся в центральной части атома. Содержит в себе весь положительный  заряд и большую часть массы атома (&gt;99,9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ротонов в ядре, которое равно порядковому номеру элемента в Периодической системе Д.И.Менделеева и поэтому называется атомным номером элемента, определяет благодаря электронейтральности атома число электронов, а следовательно, электронное строение и определяемые им химические свойства эле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нейтронов в ядрах атомов одного элемента может различаться; такие атомы называются изотопами этого эле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7A46-D469-4A22-8DE0-E56FFE59FF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электронной обо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B19C-96C5-45E9-B35A-166A7594C4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ние А1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4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12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6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4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CC07-8832-4258-B7F5-9DB099656F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о любого химического элемента состоит из нукл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носительная масса одного нуклона равна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сса ядра изотопа углерода составляет 12 атомных единиц массы, следовательно, в составе его ядра 12 нукл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ядре химического элемента имеется два вида нуклонов, одни имеют заряд +1, другие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Элементарная частица, имеющая массу 1 и заряд +1, называется про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 ядре атома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 прот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Элементарная частица, имеющая массу 1 и заряд 0, называется нейт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Определим число нейтронов в ядре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 С этой целью из числа нуклонов вычтем число прот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нейтронов = число нуклонов - число прот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ядре атома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й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в составе ядра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имеется 6 протонов и 6 ней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FA2E-9CA9-4E20-AA96-770EDFEEBB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A228-C7C3-4563-9663-A62B1636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6A26-0470-4939-9BC3-9DD98C34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CBF9-E77C-47BE-8CD6-594D484B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B1FC-FE0B-42A1-AC9F-88E7C286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90B7-44A5-4BBF-B908-C0D5394D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D28F-B277-4126-A1DF-A4619575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E4D9-E3E1-4A3A-B9EF-25CEBFBE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5597-F8CB-4261-98EB-CFB4B60A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0A0A-C43C-4161-9C8D-A195066A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1DFD-6199-42E6-A094-48EBAD26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9CE0-189E-4CDF-B7AD-E9E7D0D7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5181-AD91-4031-95F8-8D7E79CB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CF2B-6434-4F9F-8343-59DD7206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E280-4D73-4F11-8F96-2597CA41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B716-8BD9-4311-9B4D-020AC28E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F7C1-3C98-495D-B0F6-61DF7780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40C6-9E1C-4FE4-9ED8-277A9E90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FF70-29B2-452B-9E4E-A1116D1B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2989-CE68-480F-A67D-B785BE9B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C08E-6A48-4678-BB84-99111940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7B28-7D5F-495C-9D48-ED4C52BF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230-596C-45C2-9D2E-4ADA102E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7B07-64B1-456C-93B0-548DAE81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30AB-6AEC-45E7-B98F-5DF718C3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58C2-46A4-4FE8-8DFC-770087D7B75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5A71-8E8D-489E-AD7E-2A07986FD56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государственный экзамен по ХИМИИ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сультация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642920"/>
            <a:ext cx="64008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П. Костенк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ектор ГОУ РК «ИПК Р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 НМ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ставьте электронную формулу химического элемента № 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Элемент № 17 называется хлор и имеет химический символ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Элемент хлор находится в третьем период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Внешним энергетическим уровнем в атоме хлора является уровень под номером 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Элемент хлор находится в группе номе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Хлор входит в подгрупп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На внешнем электронном уровне атома хлора имеется 7 электро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 Заряд ядра атома элемента хлора равен +1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 На трёх энергетических уровнях атома хлора располагаются 17 электро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. На первом энергетическом уровне атома хлора располагаются 2 электр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. Первый электронный уровень любого атома периодической системы, кроме атома водорода, можно представить так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5480" y="107172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. На втором энергетическом уровне атома хлора находится 8 электро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 - (2 + 7) = 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. На втором энергетическом уровне имеются два подуровн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и р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3. Число электронов в атоме хлора на втором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 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одуровне равняется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4. Число электронов в атоме хлора на второ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 - подуровне равняется 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 - 2 =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5. Число электронов находящихся на одно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 -орбитали не может быть больше чем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6. На втором энергетическом уровне в атоме хлора имеется тр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 - орбитали, расположенных перпендикулярно друг-друг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7. Расположение электронов на втором энергетическом уровне можно записать так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Если прибавить эту запись к ранее сделанной записи первого энергетического уровня, то получи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8. На третьем энергетическом уровне в атоме хлора имеется три подуровня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,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Из них заполняется семью электронами только дв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р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подуровень остаётся пуст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9. Расположение электронов на третьем энергетическом уровне можно записать так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Если добавить эту запись к ранее сделанной записи первого и второго энергетического уровней, то получится электронная формула атома хло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ет: электронная формула атома хлор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формула ион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)…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)….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)…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)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ная формула атома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а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вращается в ион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соединяя 1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ная формула иона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 металла имеет электронную конфигурацию 1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 формула оксида, гидроксида и сульфата этого элем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ЭО; Э(ОН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Э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; ЭОН;Э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ЭО; ЭОН;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Э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Э(ОН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s</a:t>
            </a:r>
            <a:r>
              <a:rPr b="1" i="1" lang="ru-RU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Э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Calibri"/>
              </a:rPr>
              <a:t>+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)Э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; Э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ОН)</a:t>
            </a:r>
            <a:r>
              <a:rPr b="1" lang="ru-RU" sz="66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44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:Укажите соединение с ионной связ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метод электронного баланса, составьте уравнение реак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+ KOH → 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окислитель и восстанов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представления о строении атом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мерности изменения химических свойств элементов и их соединений по периодам и группам периодической системы химических элемент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И. Менделеев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KNO</a:t>
            </a:r>
            <a:r>
              <a:rPr b="1" lang="pt-BR" sz="3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+ KOH → KNO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+ K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Составлен электронный балан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+5 + 2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ē → N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+3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Cr+3– 6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ē → 2C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4"/>
          <p:cNvSpPr/>
          <p:nvPr/>
        </p:nvSpPr>
        <p:spPr>
          <a:xfrm flipH="1">
            <a:off x="6000840" y="1785960"/>
            <a:ext cx="1440" cy="71280"/>
          </a:xfrm>
          <a:prstGeom prst="line">
            <a:avLst/>
          </a:prstGeom>
          <a:ln w="9360">
            <a:solidFill>
              <a:srgbClr val="fd8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6"/>
          <p:cNvSpPr/>
          <p:nvPr/>
        </p:nvSpPr>
        <p:spPr>
          <a:xfrm flipH="1">
            <a:off x="4071960" y="2357280"/>
            <a:ext cx="1440" cy="7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+ 3KN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+ 4KOH → 3KN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+ 2K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+ 2H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ром в степени окисления +3 явля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становителе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зот в степени окисления +5 (или нитрат калия за счет азота в степени окисления +5) – окислител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А1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4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12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6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 (от греч. atomos - неделимый) - наименьшая химическая частица, состоящая из массивног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о заряженного ядра и движущихся в электрическом поле ядра отрицательно заряженных электро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томные частицы и их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 состоит из трёх видов части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он -  (е) -  заряд отрицательный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=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1,6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. Масс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9,1</a:t>
            </a:r>
            <a:r>
              <a:rPr b="1" lang="ru-RU" sz="2400" spc="-1" strike="noStrike" baseline="16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400" spc="-1" strike="noStrike" baseline="50000">
                <a:solidFill>
                  <a:srgbClr val="000000"/>
                </a:solidFill>
                <a:latin typeface="Calibri"/>
              </a:rPr>
              <a:t>-3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тон – (р)-  заряд положительный                  .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,6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,  Масс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 184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йтрон –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 не заряжен,                              .                      Масса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1" descr=""/>
          <p:cNvPicPr/>
          <p:nvPr/>
        </p:nvPicPr>
        <p:blipFill>
          <a:blip r:embed="rId1"/>
          <a:stretch/>
        </p:blipFill>
        <p:spPr>
          <a:xfrm>
            <a:off x="7391520" y="2895480"/>
            <a:ext cx="441360" cy="457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"/>
          <p:cNvPicPr/>
          <p:nvPr/>
        </p:nvPicPr>
        <p:blipFill>
          <a:blip r:embed="rId2"/>
          <a:stretch/>
        </p:blipFill>
        <p:spPr>
          <a:xfrm>
            <a:off x="7086600" y="3581280"/>
            <a:ext cx="1295280" cy="126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"/>
          <p:cNvPicPr/>
          <p:nvPr/>
        </p:nvPicPr>
        <p:blipFill>
          <a:blip r:embed="rId3"/>
          <a:stretch/>
        </p:blipFill>
        <p:spPr>
          <a:xfrm>
            <a:off x="7086600" y="4876920"/>
            <a:ext cx="1295280" cy="12682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1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400"/>
                            </p:stCondLst>
                            <p:childTnLst>
                              <p:par>
                                <p:cTn id="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9300"/>
                            </p:stCondLst>
                            <p:childTnLst>
                              <p:par>
                                <p:cTn id="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 атома - образование из протонов и нейтронов, находящееся в центральной части атома. Содержит в себе весь положительный  заряд и большую часть массы атома (&gt;99,95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ротонов в ядре, которое равно порядковому номеру элемента в Периодической системе Д.И.Менделеева и поэтому называется атомным номером элемента, определяет благодаря электронейтральности атома число электронов, а следовательно, электронное строение и определяемые им химические свойства элемен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нейтронов в ядрах атомов одного элемента может различаться; такие атомы называются изотопами этого элем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электронной оболоч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3040200"/>
        </p:xfrm>
        <a:graphic>
          <a:graphicData uri="http://schemas.openxmlformats.org/drawingml/2006/table">
            <a:tbl>
              <a:tblPr/>
              <a:tblGrid>
                <a:gridCol w="3543480"/>
                <a:gridCol w="714240"/>
                <a:gridCol w="1000080"/>
                <a:gridCol w="1214280"/>
                <a:gridCol w="1757520"/>
              </a:tblGrid>
              <a:tr h="97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мер энергетического уровня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8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А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,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,p,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,p,d,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,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ое число электронов на данном уро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дание А1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) 4;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)12;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)6;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4)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дро любого химического элемента состоит из нукл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Относительная масса одного нуклона равна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Масса ядра изотопа углерода составляет 12 атомных единиц массы, следовательно, в составе его ядра 12 нукл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 В ядре химического элемента имеется два вида нуклонов, одни имеют заряд +1, другие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 Элементарная частица, имеющая массу 1 и заряд +1, называется прото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. В ядре атома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6 протон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7. Элементарная частица, имеющая массу 1 и заряд 0, называется нейтро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8. Определим число нейтронов в ядре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. С этой целью из числа нуклонов вычтем число прот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исло нейтронов = число нуклонов - число прот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ядре атома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йтр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вет: в составе ядра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имеется 6 протонов и 6 нейтрон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8:43:43Z</dcterms:created>
  <dc:creator>Charly Root</dc:creator>
  <dc:description/>
  <dc:language>en-US</dc:language>
  <cp:lastModifiedBy>LEGION</cp:lastModifiedBy>
  <dcterms:modified xsi:type="dcterms:W3CDTF">2015-05-01T09:31:30Z</dcterms:modified>
  <cp:revision>28</cp:revision>
  <dc:subject/>
  <dc:title>Слайд 1</dc:title>
</cp:coreProperties>
</file>