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20BC-E7DA-4EDF-8824-22BAFC2DF0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алентность и степень окис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втор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олев Илья ученик 11МИ класса МОУ лицея №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уководител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робот Светлана Сергеевна, учитель химии МОУ лицея №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DE3B-EAC7-4870-BC1B-E0921BACEB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ТЕПЕНЬ ОКИ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характеризует состояние атома в молекуле. Иногда её называют окислительным числом. При определении этого понятия условно предполагают, что в молекуле валентные электроны одних атомов перешли к другим атомам; таким образом, молекулы состоят только из положительно и отрицательно заряженных ионов. В действительности же в большинстве случаев происходит не полная отдача электронного облака от одного атома к другому. Степень окисления – это условный заряд атома в молекуле, вычисленный исходя из предположения, что молекула состоит только из ионов (обозначается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определять и так : степень окисления – это тот электрический заряд, который возник бы на атоме, если бы электронные пары, которыми он связан с другими атомами в молекуле, были бы смещены к более электроотрицательным атомам, а электронные пары, принадлежащие одинаковым атомам, были бы между ними подел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506A-2027-4FB3-B13F-638E3371D8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ТЕПЕНЬ ОКИ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риведённых определений следует, что степень окисления выражает величину электрического заряда и основывается на предположении о принадлежности электронов в каждой связи в молекуле или ионе более электроотрицательным атом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может иметь отрицательное, положительное и нулевое зна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ицательное значение степени окисления будет у тех атомов, которые приняли электроны от других ато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е значение степени окисления имеют атомы, отдающие свои  электроны другим атом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же степень окисления может быть выражена дробным числ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C7D6-9723-4225-B26B-3F2C8B3C78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АК ОПРЕДЕЛЕЛИТЬ СТЕПЕНЬ ОКИ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Значение степени окисления определяется числом  электронов, смещенных от атома данного элемента к атому другого элемент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Нужно помнить, что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степень окисления как у свободных атомов, так и у атомов, входящих в состав неполярных молекул, например: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 и т.д. равна нулю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в соединениях сумма значений степеней окисления равна нулю. Это позволяет вычислить степень окисления данного химического элемента, если известны степени окисления других химических элементов в данном соединении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0302-8F01-4F89-8D9C-6A3A0D1172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степень окисления хрома в дихромате ка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1   x   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2 Cr2 O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. Составляем следующее управление, в котором неизвестную степень окисления хрома обозначаем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а  т.к.  в соединени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– два атома хрома, то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* 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+1) * 2 +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* 2 + (-2) * 7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. Решаем это урав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+1) * 2 +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* 2 + (-2) * 7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 + 2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– 14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= 14 - 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= 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=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. Следовательно, степень окисления хрома в этом соединении равна +6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1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6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2 Cr2 O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амоконтроля правильности нахождения степени окисления нужно подсчитать общую сумму положительных и отрицательных степеней окисления. Если оно равно 0, то формула составлена правиль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1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6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2 Cr2 O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+1) * 2 + (+6) * 2 + (-2) * 7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3A21-BCC2-4260-A369-434339ED7D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ВЫВО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 ЧЁМ ОТЛИЧИЯ 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м понятия «степень окисления» и «валентность», а точнее, разграничим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же если абсолютные значения степени окисления и валентности совпадают, их нельзя отождествл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, характеризующая число химических связе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иметь зн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 не может равняться нулю (по определени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 не может быть дробным чис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 имеет определённый предел приме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имеет зн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элемента может быть равна ну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может быть дробным чис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атомов химических элементов можно определять в любых веществ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7873-2C79-49FC-862F-93E8E778A8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ПИСОК  ЛИТЕРАТУР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.С. Габриелян, Г.Г. Лысова, А.Г. Введенская. Настольная книга учителя.Химия, 11 класс: В 2 ч. Ч. 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:  Дрофа, 2003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А.А. Кудрявцев, Составление химических уравнений,М.: «Высшая школа»,  1991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Г.П. Хомченко, К..И. Севастьянова ,Окислительно-восстановительные реакции,М.: «Просвещение», 1989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Л.С. Гузей, В.В. Сорокин, Окислительно-восстановительные реакции, М.: Изд-во МГУ, 199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AB55-AFAE-4D8C-A3C4-6F652291B7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равствуйте, сегодня я расскажу вам о таких понятиях в химии, как валентность и степень окисления, а также о том чем они друг от друга отлич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0E16-E911-4BA0-A3E0-3E08CE1361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Georgia"/>
              </a:rPr>
              <a:t>ХИМИЯ:ВАЛЕНТНОСТЬ И СТЕПЕНЬ ОКИ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 Unicode MS"/>
              </a:rPr>
              <a:t>СОДЕРЖ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АЛЕНТНОСТЬ – что это так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определить валентнос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– а это чт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определить степень окис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М они между собой различаю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5B58-175F-41F6-B7A2-3B2489AC92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АЛЕН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 – свойство атома данного элемента присоединять элементы или замещать определённое число атомов другого элемента. Под валентностью химического элемента также понимают способность его атомов образовывать химические связи в соединениях. Количественно валентность определяется числом химических связей, образованных атом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D6A5-A042-465A-92C8-0007224F38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ПОСОБЫ ОПРЕДЕЛЕНИЯ ВАЛЕ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 – сложное понятие. Оно формировалось одновременно с понятием химической связи. Первоначально валентность элементов измеряли по водороду (валентность которого принимали за единицу), т.е. по числу атомов водорода, присоединяемых или замещаемых атомом данного элемента. Если элемент не образует соединения с водородом, но соединяются с кислородом, валентность элемента определяли по его кислородным соединениям (принимая валентность кислорода равную дву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того, валентность элемента определяют по отношению к другим элементам, валентность которых известна. Валентность можно выразить и другими способами, например числом химических связей, образуемых атомом одного элемента (ковалентностью), или числом атомов, непосредственно окружающих данный атом (координационное числ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C7DF-3F57-4B78-80F8-F60F006C80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ПОСОБЫ ОПРЕДЕЛЕНИЯ ВАЛЕ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днее валентность стали подразделять на положительную и отрицательную. Числовое значение положительной валентности элемента равно числу отданных атомом электронов, а отрицательной валентности – числу электронов, которые атом должен присоединить для завершения внешнего энергетического уровня. Стоит отметить что валентность не имеет ничего общего с электрическим заря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 временем понятие валентности расширилось, оно стало указывать и природу химических связей между атомами в их соединении. В соединениях с ионной (или электровалентной) связью валентность равна числу электронов, отданных или присоединённых атомом при превращении его в ион. В соединениях с ковалентной связью валентность определяется числом электронов, которые атом отдаёт для образования общих электронных п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CC24-CEC3-4AA1-B271-7988AC1221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ПОСОБЫ ОПРЕДЕЛЕНИЯ ВАЛЕ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екоторых элементов валентность – величина постоянная. Например, натрий во всех соединениях одновалентен, цинк – двухвалентен, лантан – трехвалентен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шая валентность элементов в основном определяется номером группы переодической системы, а низшая вычитанием из 8 номера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DE33-3F3D-4F20-9DF0-D2929A96D3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к определить валентность по готовой формуле рассмотрим на данных пример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мер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V2 O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). Обозначим валентность известного элем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). Определяем общее число единиц валентности атом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 * 5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). Подставим его под химическими знаками атомов элементов арабской цифро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(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). Разделим это число на число атомов элемента, валентность которого нам извест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0 / 2 = 5 (в нашем пример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). Поставить частное (5) римской цифрой над искомым элементом как его валентнос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V  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(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B8C3-87B8-48B5-85F2-EBF897774A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мер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пределим валентность элементов в солях кислородсодержащих кисло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Al 2 (SO4)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). Определим число атомов кислорода (если символ стоит в скобках, то его индекс нужно умножить на цифру, стоящую за скобками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Al 2 (SO4)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 *3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). Вычислим общее число единиц валентности для атомов кисло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Al 2 (SO4)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2 * 2 =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). Вычислим общее число единиц валентности для атомов металла (здесь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Al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Al 2 (SO4)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 * 3 =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). Отнимем от общего числа единиц валентности кислорода общее число единиц валентности метал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4 – 6 =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). Определим число атомов неметал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 * 3 =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6). Разделим число, полученное в п.4 на число, полученное в п.5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8 / 3 = 6 (это валентность неметал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8B4F-AF75-44A9-AE90-AA1E988072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B1BB-B6D5-4DAF-AD42-A8C95FB5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EFCA-2687-4A21-B7BF-C5D2074C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1BAF-8587-4A62-B690-2AC69E0A3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6F1B-023B-4554-AA39-C59038DF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F14A-E118-48D8-A609-B9C5899C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AE88-0CEA-4728-B515-AA4F556E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4793-549B-4B5E-8A92-C29EAA2E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F651-A378-4D63-85CC-68C0930D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48B0-7F07-4E0F-B0C9-61017A21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4BD9-6F35-480B-ADCB-CAF60F78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B841-B205-4B92-AAD0-6C026669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B1B6-FC5C-480B-8984-ED9DE465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6E34-6D45-4EA5-BDA0-C3AB10955A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" Target="slide10.xml"/><Relationship Id="rId4" Type="http://schemas.openxmlformats.org/officeDocument/2006/relationships/slide" Target="slide5.xml"/><Relationship Id="rId5" Type="http://schemas.openxmlformats.org/officeDocument/2006/relationships/slide" Target="slide16.xml"/><Relationship Id="rId6" Type="http://schemas.openxmlformats.org/officeDocument/2006/relationships/slide" Target="slide12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da2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Валентность и степень окис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3886200"/>
            <a:ext cx="8991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олев Илья ученик 11МИ класса МОУ лицея №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уководител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робот Светлана Сергеевна, учитель химии МОУ лицея №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468360" y="189000"/>
            <a:ext cx="453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ЕПЕНЬ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410080" y="762120"/>
            <a:ext cx="352908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характеризует состояние атома в молекуле. Иногда её называют окислительным числом. При определении этого понятия условно предполагают, что в молекуле валентные электроны одних атомов перешли к другим атомам; таким образом, молекулы состоят только из положительно и отрицательно заряженных ионов. В действительности же в большинстве случаев происходит не полная отдача электронного облака от одного атома к другому. Степень окисления – это условный заряд атома в молекуле, вычисленный исходя из предположения, что молекула состоит только из ионов (обозначается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жно определять и так : степень окисления – это тот электрический заряд, который возник бы на атоме, если бы электронные пары, которыми он связан с другими атомами в молекуле, были бы смещены к более электроотрицательным атомам, а электронные пары, принадлежащие одинаковым атомам, были бы между ними подел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468360" y="189000"/>
            <a:ext cx="453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ЕПЕНЬ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334120" y="457200"/>
            <a:ext cx="35287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 приведённых определений следует, что степень окисления выражает величину электрического заряда и основывается на предположении о принадлежности электронов в каждой связи в молекуле или ионе более электроотрицательным атом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может иметь отрицательное, положительное и нулевое знач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рицательное значение степени окисления будет у тех атомов, которые приняли электроны от других атом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ожительное значение степени окисления имеют атомы, отдающие свои  электроны другим атом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же степень окисления может быть выражена дробным числ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715000" y="5410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6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250920" y="189000"/>
            <a:ext cx="61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АК ОПРЕДЕЛЕЛИТЬ СТЕПЕНЬ ОК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364000" y="620640"/>
            <a:ext cx="35290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чение степени окисления определяется числом  электронов, смещенных от атома данного элемента к атому другого элеме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ужно помнить, чт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степень окисления как у свободных атомов, так и у атомов, входящих в состав неполярных молекул, например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и т.д. равна нул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в соединениях сумма значений степеней окисления равна нулю. Это позволяет вычислить степень окисления данного химического элемента, если известны степени окисления других химических элементов в данном соедине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FNO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79280" y="260280"/>
            <a:ext cx="87138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ить степень окисления хрома в дихромате ка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1   x  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2 Cr2 O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. Составляем следующее управление, в котором неизвестную степень окисления хрома обозначаем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а  т.к.  в соединен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 – два атома хрома, то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* 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+1) * 2 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* 2 + (-2) * 7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. Решаем это урав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+1) * 2 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* 2 + (-2) * 7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2 + 2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– 14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= 14 -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= 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. Следовательно, степень окисления хрома в этом соединении равна +6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1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6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2 Cr2 O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самоконтроля правильности нахождения степени окисления нужно подсчитать общую сумму положительных и отрицательных степеней окисления. Если оно равно 0, то формула составлена правиль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1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6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2 Cr2 O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+1) * 2 + (+6) * 2 + (-2) * 7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5715000" y="5410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5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2"/>
          <p:cNvPicPr/>
          <p:nvPr/>
        </p:nvPicPr>
        <p:blipFill>
          <a:blip r:embed="rId1"/>
          <a:stretch/>
        </p:blipFill>
        <p:spPr>
          <a:xfrm>
            <a:off x="971640" y="2133720"/>
            <a:ext cx="6443640" cy="47242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2438280" y="152280"/>
            <a:ext cx="44658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ЧЁМ ОТЛИЧИЯ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250920" y="1989000"/>
            <a:ext cx="230508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лентность, характеризующая число химических связе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ж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иметь зн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лентность не может равняться нулю (по определени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лентность не может быть дробным числ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лентность имеет определённый предел примен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227640" y="1927080"/>
            <a:ext cx="230508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имеет зна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элемента может быть равна нул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может быть дробным числ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атомов химических элементов можно определять в любых вещества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324000" y="1143000"/>
            <a:ext cx="88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им понятия «степень окисления» и «валентность», а точнее, разграничим 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же если абсолютные значения степени окисления и валентности совпадают, их нельзя отождествля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5715000" y="6019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FNO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80880" y="781200"/>
            <a:ext cx="8151840" cy="41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СОК  ЛИТЕРА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О.С. Габриелян, Г.Г. Лысова, А.Г. Введенская. Настольная книга учителя.Химия, 11 класс: В 2 ч. Ч.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.:  Дрофа, 200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А.А. Кудрявцев, Составление химических уравнений,М.: «Высшая школа»,  199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Г.П. Хомченко, К..И. Севастьянова ,Окислительно-восстановительные реакции,М.: «Просвещение», 198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Л.С. Гузей, В.В. Сорокин, Окислительно-восстановительные реакции, М.: Изд-во МГУ, 199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5715000" y="5410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exi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228600" y="22860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ОЧЕШЬ УЙТИ ?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5651640" y="836640"/>
            <a:ext cx="309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равствуйте, сегодня я расскажу вам о таких понятиях в химии, как валентность и степень окисления, а также о том чем они друг от друга отлич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54" name="Freeform 11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4" descr="FNO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2916360" y="2565360"/>
            <a:ext cx="345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627280" y="1413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ВАЛЕНТНОСТЬ – что это тако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268360" y="213372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СТЕПЕНЬ ОКИСЛЕНИЯ – а это ч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2700360" y="177336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КАК определить валентнос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324000" y="57340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2268360" y="249228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АК определить степень окисл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2340000" y="28526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ЧЕМ они между собой различаю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826920" y="0"/>
            <a:ext cx="7848720" cy="14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Georgia"/>
              </a:rPr>
              <a:t>ХИМИЯ:ВАЛЕНТНОСТЬ И СТЕПЕНЬ ОК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 Unicode MS"/>
              </a:rPr>
              <a:t>СОДЕРЖ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7" descr="12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775040" y="4533840"/>
            <a:ext cx="4368960" cy="232416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324000" y="333360"/>
            <a:ext cx="44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АЛЕНТ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364000" y="1125360"/>
            <a:ext cx="345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лентность – свойство атома данного элемента присоединять элементы или замещать определённое число атомов другого элемента. Под валентностью химического элемента также понимают способность его атомов образовывать химические связи в соединениях. Количественно валентность определяется числом химических связей, образованных атом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715000" y="5410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5292720" y="765000"/>
            <a:ext cx="3527280" cy="58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лентность – сложное понятие. Оно формировалось одновременно с понятием химической связи. Первоначально валентность элементов измеряли по водороду (валентность которого принимали за единицу), т.е. по числу атомов водорода, присоединяемых или замещаемых атомом данного элемента. Если элемент не образует соединения с водородом, но соединяются с кислородом, валентность элемента определяли по его кислородным соединениям (принимая валентность кислорода равную двум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оме того, валентность элемента определяют по отношению к другим элементам, валентность которых известна. Валентность можно выразить и другими способами, например числом химических связей, образуемых атомом одного элемента (ковалентностью), или числом атомов, непосредственно окружающих данный атом (координационное число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50920" y="40464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ПОСОБЫ ОПРЕДЕЛЕНИЯ ВАЛ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5292720" y="765000"/>
            <a:ext cx="35272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днее валентность стали подразделять на положительную и отрицательную. Числовое значение положительной валентности элемента равно числу отданных атомом электронов, а отрицательной валентности – числу электронов, которые атом должен присоединить для завершения внешнего энергетического уровня. Стоит отметить что валентность не имеет ничего общего с электрическим заряд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 временем понятие валентности расширилось, оно стало указывать и природу химических связей между атомами в их соединении. В соединениях с ионной (или электровалентной) связью валентность равна числу электронов, отданных или присоединённых атомом при превращении его в ион. В соединениях с ковалентной связью валентность определяется числом электронов, которые атом отдаёт для образования общих электронных па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50920" y="40464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ПОСОБЫ ОПРЕДЕЛЕНИЯ ВАЛ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81" name="Freeform 8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5219640" y="836640"/>
            <a:ext cx="3745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некоторых элементов валентность – величина постоянная. Например, натрий во всех соединениях одновалентен, цинк – двухвалентен, лантан – трехвалентен и т.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шая валентность элементов в основном определяется номером группы переодической системы, а низшая вычитанием из 8 номера групп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50920" y="40464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ПОСОБЫ ОПРЕДЕЛЕНИЯ ВАЛ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87" name="Freeform 8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FNO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611280" y="404640"/>
            <a:ext cx="77058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Как определить валентность по готовой формуле рассмотрим на данных примера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мер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2 O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). Обозначим валентность известного элемен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). Определяем общее число единиц валентности атом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 * 5 =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3). Подставим его под химическими знаками атомов элементов арабской цифро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4). Разделим это число на число атомов элемента, валентность которого нам извест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0 / 2 = 5 (в нашем пример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). Поставить частное (5) римской цифрой над искомым элементом как его валентнос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  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92" name="Freeform 5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FNO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611280" y="404640"/>
            <a:ext cx="77058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мер 2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пределим валентность элементов в солях кислородсодержащих кисло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l 2 (SO4)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). Определим число атомов кислорода (если символ стоит в скобках, то его индекс нужно умножить на цифру, стоящую за скобками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l 2 (SO4)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4 *3 = 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). Вычислим общее число единиц валентности для атомов кислород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l 2 (SO4)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2 * 2 = 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3). Вычислим общее число единиц валентности для атомов металла (здесь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l 2 (SO4)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 * 3 =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4). Отнимем от общего числа единиц валентности кислорода общее число единиц валентности метал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4 – 6 =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). Определим число атомов неметал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 * 3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6). Разделим число, полученное в п.4 на число, полученное в п.5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8 / 3 = 6 (это валентность неметалл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5715000" y="5410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5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06:09:13Z</dcterms:created>
  <dc:creator>Илья</dc:creator>
  <dc:description/>
  <dc:language>en-US</dc:language>
  <cp:lastModifiedBy>LEGION</cp:lastModifiedBy>
  <dcterms:modified xsi:type="dcterms:W3CDTF">2015-05-01T09:58:16Z</dcterms:modified>
  <cp:revision>34</cp:revision>
  <dc:subject/>
  <dc:title>Валентность и степень окисления</dc:title>
</cp:coreProperties>
</file>