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4307-2442-43EC-AED7-84F9D8139B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тор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лев Илья ученик 11МИ класса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робот Светлана Сергеевна, учитель химии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DD1C-22F3-4C19-9224-06CAD4B257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4E97-9FD7-490A-AE7E-8F08E41069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иметь отрицательное, положительное и нулево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степень окисления может быть выражена дробным числ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44EA-1F4C-451E-B8C6-EFAA7BD075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К ОПРЕДЕЛЕЛИТЬ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ужно помнить, что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 и т.д. равна нулю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9D71-A254-4337-90B9-44D3128CA9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тепень окисления хрома в дихромате к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 x  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  т.к.  в соедин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– два атома хрома, 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. Решаем это урав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14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4 -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. Следовательно, степень окисления хрома в этом соединении равна +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+1) * 2 + (+6)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25F2-C9B7-41D4-9D90-1A3224BE6C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ЧЁМ ОТЛИЧИЯ 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, характеризующая число химических связ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меть 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равняться нулю (по определен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имеет определённый предел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имеет зн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элемента может быть равна ну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атомов химических элементов можно определять в любых вещест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9534-FB7A-4636-A646-64A0D86075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ПИСОК  ЛИТЕРАТУР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  Дрофа, 200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.А. Кудрявцев, Составление химических уравнений,М.: «Высшая школа»,  199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.С. Гузей, В.В. Сорокин, Окислительно-восстановительные реакции, М.: Изд-во МГУ, 199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411A-9C93-47CC-9C12-E3C7051E47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BFC8-4AB8-4810-A3E4-344CCB45FC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ХИМИЯ:ВАЛЕНТНОСТЬ И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Unicode MS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АЛЕНТНОСТЬ – 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вален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– а это ч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степень окис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они между собой раз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ED3F-5E11-459A-92FA-BD81640ECB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АЛ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EC7D-13E9-4EF1-85E1-093D5BE88E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AE86-4F48-4E21-9DF9-404C9B71CD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3CEE-2412-446F-96E1-01F5EFBD59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716A-A02F-432D-AD4E-72520AAB8B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пределить валентность по готовой формуле рассмотрим на данных пример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2 O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бозначим валентность известного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Определяем общее число единиц валентност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5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Подставим его под химическими знаками атомов элементов арабской циф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Разделим это число на число атомов элемента, валентность которого нам извест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0 / 2 = 5 (в нашем пример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Поставить частное (5) римской цифрой над искомым элементом как его валент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  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0E44-937A-474E-B192-007A8ADE1C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ределим валентность элементов в солях кислородсодержащих кисл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 *3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Вычислим общее число единиц валентности для атомов кисл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2 * 2 =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Вычислим общее число единиц валентности для атомов металла (здесь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3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4 – 6 =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Определим число атомов неметал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 * 3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). Разделим число, полученное в п.4 на число, полученное в п.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8 / 3 = 6 (это валентность неметал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1A4E-0C04-452D-8C6F-C7C426B821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1D4-49D4-4607-A7A1-AAF08A06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42C-AA21-42A1-A3E7-7B077FDF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0F8-D9FA-47D5-A20C-01CF5E77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017-2387-49B3-9233-8553C45C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A6F-32B1-4468-B86B-73541B25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55F4-ABFB-494C-946A-55D57625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C68-4FEB-4888-B190-69FAEF22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559-A286-418A-9244-048ACF40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627-917B-46AF-8E72-0758994F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363-D61B-4360-B4AA-41BBB5BB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5FD-6626-4D31-8898-6A3C29E5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7D0-C2F6-4898-B532-5E5D6FD9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6966-63A7-43BA-942B-57AB252F8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5.xml"/><Relationship Id="rId5" Type="http://schemas.openxmlformats.org/officeDocument/2006/relationships/slide" Target="slide16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da2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лев Илья ученик 11МИ класса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робот Светлана Сергеевна, учитель химии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410080" y="762120"/>
            <a:ext cx="35290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34120" y="457200"/>
            <a:ext cx="3528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иметь отрицательное, положительное и нулевое зна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степень окисления может быть выражена дробным чис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50920" y="18900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ОПРЕДЕЛЕЛИТЬ СТЕПЕНЬ ОК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64000" y="620640"/>
            <a:ext cx="3529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помнить, ч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т.д. равна ну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79280" y="26028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ть степень окисления хрома в дихромате к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 x  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  т.к.  в соедин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 – два атома хрома, т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. Решаем это урав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 + 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– 14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4 -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. Следовательно, степень окисления хрома в этом соединении равна +6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+1) * 2 + (+6)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"/>
          <p:cNvPicPr/>
          <p:nvPr/>
        </p:nvPicPr>
        <p:blipFill>
          <a:blip r:embed="rId1"/>
          <a:stretch/>
        </p:blipFill>
        <p:spPr>
          <a:xfrm>
            <a:off x="971640" y="2133720"/>
            <a:ext cx="644364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438280" y="152280"/>
            <a:ext cx="4465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 ОТЛИЧИЯ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1989000"/>
            <a:ext cx="2305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, характеризующая число химических связе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иметь з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равняться нулю (по определ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имеет определённый предел приме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227640" y="1927080"/>
            <a:ext cx="23050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имеет зна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элемента может быть равна ну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атомов химических элементов можно определять в любых веществ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24000" y="1143000"/>
            <a:ext cx="88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71500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80880" y="781200"/>
            <a:ext cx="815184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:  Дрофа, 200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А.А. Кудрявцев, Составление химических уравнений,М.: «Высшая школа»,  199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Л.С. Гузей, В.В. Сорокин, Окислительно-восстановительные реакции, М.: Изд-во МГУ, 199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x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28600" y="2286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ЧЕШЬ УЙТИ ?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5651640" y="83664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54" name="Freeform 11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34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627280" y="1413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АЛЕНТНОСТЬ – что это т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26836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ТЕПЕНЬ ОКИСЛЕНИЯ – а это 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2700360" y="1773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АК определить валентн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24000" y="57340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68360" y="24922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АК определить степень окисл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340000" y="2852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ЧЕМ они между собой различ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826920" y="0"/>
            <a:ext cx="78487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Georgia"/>
              </a:rPr>
              <a:t>ХИМИЯ:ВАЛЕНТНОСТЬ И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 Unicode MS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12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775040" y="4533840"/>
            <a:ext cx="4368960" cy="23241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33336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АЛЕ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64000" y="112536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5292720" y="765000"/>
            <a:ext cx="352728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292720" y="765000"/>
            <a:ext cx="3527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1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219640" y="836640"/>
            <a:ext cx="374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7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11280" y="404640"/>
            <a:ext cx="7705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к определить валентность по готовой формуле рассмотрим на данных пример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2 O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бозначим валентность известного элеме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Определяем общее число единиц валентности ато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5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Подставим его под химическими знаками атомов элементов арабской цифр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Разделим это число на число атомов элемента, валентность которого нам извест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0 / 2 = 5 (в нашем пример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Поставить частное (5) римской цифрой над искомым элементом как его валент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 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92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11280" y="404640"/>
            <a:ext cx="7705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пределим валентность элементов в солях кислородсодержащих кисло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 *3 =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Вычислим общее число единиц валентности для атомов кислор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2 * 2 =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Вычислим общее число единиц валентности для атомов металла (здесь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3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4 – 6 =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Определим число атомов неметал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* 3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). Разделим число, полученное в п.4 на число, полученное в п.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8 / 3 = 6 (это валентность неметал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6:09:13Z</dcterms:created>
  <dc:creator>Илья</dc:creator>
  <dc:description/>
  <dc:language>en-US</dc:language>
  <cp:lastModifiedBy>LEGION</cp:lastModifiedBy>
  <dcterms:modified xsi:type="dcterms:W3CDTF">2015-05-01T09:58:16Z</dcterms:modified>
  <cp:revision>34</cp:revision>
  <dc:subject/>
  <dc:title>Валентность и степень окисления</dc:title>
</cp:coreProperties>
</file>