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4E50-F50A-4DF2-9FB5-570A753200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лев Илья ученик 11МИ класса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обот Светлана Сергеевна, учитель химии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0EA7-2E7D-4095-B3B5-B908301694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8DDD-243B-484B-AF5D-E0E193C2AC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иметь отрицательное, положительное и нулево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степень окисления может быть выражена дробным числ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6ED9-35E0-49FB-965D-9EE58F5E4E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К ОПРЕДЕЛЕЛИТЬ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ужно помнить, что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и т.д. равна нул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60BE-2A0E-4624-A51D-73C51F2B5B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тепень окисления хрома в дихромате к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 x  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  т.к.  в соедин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– два атома хрома, 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Решаем это урав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14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4 -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Следовательно, степень окисления хрома в этом соединении равна +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+1) * 2 + (+6)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92FE-1347-4398-B1EB-7ED998656B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ЧЁМ ОТЛИЧИЯ 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, характеризующая число химических связ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ть 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равняться нулю (по определен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имеет определённый предел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имеет зн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элемента может быть равна ну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атомов химических элементов можно определять в любых вещест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B9A3-4F6E-4ADA-89F5-A6250C3F59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 ЛИТЕРАТУР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  Дрофа, 200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.А. Кудрявцев, Составление химических уравнений,М.: «Высшая школа»,  199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.С. Гузей, В.В. Сорокин, Окислительно-восстановительные реакции, М.: Изд-во МГУ, 199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2126-EE6B-4136-946D-8DCC9E1E54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B99E-A581-4219-AFDA-CAADAEF6E9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ХИМИЯ:ВАЛЕНТНОСТЬ И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Unicode MS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АЛЕНТНОСТЬ – 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вален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– а это ч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степень окис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они между собой раз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2446-C937-45B1-9CF9-25128E06C6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АЛ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7177-EDF8-4A5C-AFEC-D5E795035D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3EB3-27FB-41DE-935F-3CB4F99D40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95F6-912F-4614-8D04-6B6D9B6819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60D9-9EBF-4E70-AD9F-86715D9286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пределить валентность по готовой формуле рассмотрим на данных пример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2 O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бозначим валентность известного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Определяем общее число единиц валентност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5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Подставим его под химическими знаками атомов элементов арабской циф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Разделим это число на число атомов элемента, валентность которого нам извест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0 / 2 = 5 (в нашем пример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Поставить частное (5) римской цифрой над искомым элементом как ег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 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1DD5-4615-4F58-B2C8-44B6E5AF65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ределим валентность элементов в солях кислородсодержащих кисл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 *3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Вычислим общее число единиц валентности для атомов кисл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2 * 2 =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Вычислим общее число единиц валентности для атомов металла (здес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3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4 – 6 =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Определим число атомов неметал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 * 3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). Разделим число, полученное в п.4 на число, полученное в п.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/ 3 = 6 (это валентность неметал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CF78-BBBD-4F53-A6C4-7A392BA2A7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1FA-1E17-4CF9-914F-5EE340C84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1AA1-3D21-4A11-9AB4-8D57782E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EEB-FC6B-4505-B8B9-91F0D7A3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AE9-15FC-450A-994B-8058B4729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F07-7593-4065-93EE-93D39894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3E93-43E5-4A83-BDB1-41FE096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081-6A97-4AA2-96DB-5C59331E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145-D3DE-427D-A8FA-8E53F8AD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9911-697F-4921-BB37-85EBA231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94A-B839-4A47-81B3-2C9DCCBA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989-BF22-4B51-B380-61BB28BF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D65-993F-4086-8ED0-7D88FEBE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5B81-1403-487F-84A0-8CF79228EC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5.xml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a2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лев Илья ученик 11МИ класса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обот Светлана Сергеевна, учитель химии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410080" y="762120"/>
            <a:ext cx="3529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457200"/>
            <a:ext cx="3528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иметь отрицательное, положительное и нулев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степень окисления может быть выражена дробным чи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189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ОПРЕДЕЛЕЛИТЬ СТЕПЕНЬ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64000" y="620640"/>
            <a:ext cx="3529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помнить, ч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т.д. равна ну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9280" y="26028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ть степень окисления хрома в дихромате 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 x 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  т.к.  в соеди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– два атома хрома, т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. Решаем это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4 -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. Следовательно, степень окисления хрома в этом соединении равна +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+1) * 2 + (+6)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971640" y="2133720"/>
            <a:ext cx="64436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438280" y="152280"/>
            <a:ext cx="4465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 ОТЛИЧИЯ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89000"/>
            <a:ext cx="2305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, характеризующая число химических связ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меть з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равняться нулю (по 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имеет определённый предел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227640" y="1927080"/>
            <a:ext cx="2305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имеет зн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элемента может быть равна ну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атомов химических элементов можно определять в любых веществ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1143000"/>
            <a:ext cx="88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50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80880" y="781200"/>
            <a:ext cx="81518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 Дрофа,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.А. Кудрявцев, Составление химических уравнений,М.: «Высшая школа»,  199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Л.С. Гузей, В.В. Сорокин, Окислительно-восстановительные реакции, М.: Изд-во МГУ, 199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28600" y="2286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ЧЕШЬ УЙТИ ?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5651640" y="83664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1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627280" y="1413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АЛЕНТНОСТЬ – 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6836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ЕПЕНЬ ОКИСЛЕНИЯ – а это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700360" y="177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К определить валент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4000" y="57340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68360" y="2492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определить степень окис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340000" y="2852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 они между собой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0"/>
            <a:ext cx="7848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Georgia"/>
              </a:rPr>
              <a:t>ХИМИЯ:ВАЛЕНТНОСТЬ И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 Unicode MS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75040" y="4533840"/>
            <a:ext cx="4368960" cy="23241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112536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292720" y="765000"/>
            <a:ext cx="352728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292720" y="765000"/>
            <a:ext cx="3527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219640" y="836640"/>
            <a:ext cx="374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404640"/>
            <a:ext cx="77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валентность по готовой формуле рассмотрим на данных приме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2 O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бозначим валентность известного эле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Определяем общее число единиц валентности ато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5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одставим его под химическими знаками атомов элементов арабской цифр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Разделим это число на число атомов элемента, валентность которого нам извест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0 / 2 = 5 (в нашем прим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Поставить частное (5) римской цифрой над искомым элементом как его валент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11280" y="404640"/>
            <a:ext cx="7705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ределим валентность элементов в солях кислородсодержащих кисло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 *3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Вычислим общее число единиц валентности для атомов кислор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2 * 2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Вычислим общее число единиц валентности для атомов металла (здес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3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4 –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Определим число атомов немет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* 3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). Разделим число, полученное в п.4 на число, полученное в п.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/ 3 = 6 (это валентность неметал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6:09:13Z</dcterms:created>
  <dc:creator>Илья</dc:creator>
  <dc:description/>
  <dc:language>en-US</dc:language>
  <cp:lastModifiedBy>LEGION</cp:lastModifiedBy>
  <dcterms:modified xsi:type="dcterms:W3CDTF">2015-05-01T09:58:16Z</dcterms:modified>
  <cp:revision>34</cp:revision>
  <dc:subject/>
  <dc:title>Валентность и степень окисления</dc:title>
</cp:coreProperties>
</file>