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2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13.wmf" ContentType="image/x-wmf"/>
  <Override PartName="/ppt/media/image30.png" ContentType="image/png"/>
  <Override PartName="/ppt/media/image6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11.png" ContentType="image/png"/>
  <Override PartName="/ppt/media/image9.jpeg" ContentType="image/jpeg"/>
  <Override PartName="/ppt/media/image23.wmf" ContentType="image/x-wmf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25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FC71-E617-4DAA-AEA6-96A74FA3AA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ы в Космос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0921-149A-4EED-B6C4-3ED3ABAEF0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42DF-BCCD-4169-B733-4944D53BB9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ные нашли в космос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ромное облако спир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вездочеты нашли в космосе рай дл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ьяниц — гигантскую массу чист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р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ни наткнулись на таинственное облак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зея в свои телескопы на далек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везд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з несколько месяцев исследова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поняли, что таинственный объек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ит достаточно спирта, чтоб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готовить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00 триллионов триллион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нт пива. Это составляет 300000 пин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жедневно для каждого жителя Земли 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ующий миллиард лет... Облако находится близ молодой звезд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34.3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звездии Орла... Тепло этой звезды производит больше спирта, чем все пивные и ликеро-водочные заводы Земли, вместе взятые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C760-0654-42A0-8B51-2D5646D8EA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ранить в прохладном, защищенном от света мест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звездные оболо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ярные обл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D1E9-3F1D-4A53-8EA3-84D5CB8C1A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та Млечного Пути в линии молекулы 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ED9E-3F14-4766-9F2F-AD6BA68F25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бласти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Гигантские молекулярные облак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0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Молекулярные облак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Плотные ядр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0.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69C0-B1FA-42B9-B7BA-5F1C8742D3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некоторых молекул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MC-1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отношению к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5710-2E31-46E0-BAEB-41CD09219F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ворится на кухн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732E-ED82-4A93-98C6-114E3E8C13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еззвездное ядр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15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6FA5-4D5F-4F04-8B25-792BBEFA83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обраться в событиях, происходящих в молекулярных облаках, по наблюдениям молекул невозможно без моделирования химических процессов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183A-8B33-4EF8-B0EB-DC0944DA21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Широко простирает химия руки свои в дела человеческие. Куда ни посмотрим, куда ни оглянемся, везде обращаются перед очами нашими успехи ее прилежания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EC53-9D28-4C7F-A3A9-0F8A4817E1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s are among the most fundamental building blocks of the universe, and yet the processes by which they are formed are not understoo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1178-8246-432E-8F24-E422662782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ботает межзвездный химический реактор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068F-3217-48E1-9151-628AECA701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газофазных химически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йтраль-нейтраль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кции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он-молекуляр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F5A9-1A4D-4E88-B955-912A48FE1D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йтраль-нейтраль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381E-3047-462A-B4C8-83F30AB6B8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он-молекуляр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ие скорости при низких температур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C373-ACBF-494D-952D-E628334B11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кции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 + CRP = H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e + CRP = 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.3·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6.0·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~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6DEB-F3AB-4325-A5C5-D6658311D1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8742-19DA-4302-9379-5B53DF5D05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35BE-7CC3-4ED6-BDE5-0BE8EA4981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 базы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UMIST95 (University of Manches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400 компонентов и 386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 реакций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03 ион-молекулярных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9 фотореакций, индуцированных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4 нейтраль-нейтральных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33 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0 фото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New Standard Model (Ohio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400 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203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 реакций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35 ион-молекулярны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5 фотореакций, индуцированных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9 нейтраль-нейтральны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4 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2 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Herbst &amp; Clemperer (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973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7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й (5 наблюдаемых молеку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Bettens &amp; Herbst (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995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00 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00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512A-153C-4A99-BB16-ECC4B33F7B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я усложняе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338D-B905-49B3-B1A1-680B7C18F5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олекулярный водород в газовой фазе почти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е образуе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хчастичные столкнове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+ H 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E7B5-9516-4197-8E1D-9BDD49FE26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Звезды представляют собой один из самых фундаментальных элементов Вселенно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тем не менее процессы, в результате которых они образуются, нам непонятн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1C6C-42EF-4456-9274-8C431B51F4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ование молекулярного водорода на пы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томы водорода прилипают к пыли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щаясь по поверхности пылинки, атомы сталкиваются друг с другом и образуют молекул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ергия, выделившаяся при образовании молекул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трывает ее от пыли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97B7-D45F-498B-81F7-85BCEE011F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хностные химически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, насыщенных водород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гомогенных молекул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простейших органических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D45D-324A-41BA-A684-ACCC157E2D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хностные реакции с участием 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ечные продук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ьдеги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ан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н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метиловый эфи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9FDE-A57B-4474-A4B8-7959463D0D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сорб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ловая десорбция (энергия связ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сорбция космическими лучами (температура нагре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десорбция (вероятность отры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мическая десорб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13C2-7F01-474F-BBFE-38B3664B43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щая картина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ярное облако распадается на несколько гравитационно связанных яде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которых изначально силам притяжения противодействуют теплово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гнитное и турбулентное давлени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ти ядра в течение некоторого времени пребывают в стационарном состоянии, а затем в результате амбиполярной диффузии, диссипации турбулентности или под воздействием внешнего импульс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ановятся гравитационно неустойчивыми и коллапсируют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F717-242A-430C-AB61-9EF5ECBD55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Что и зачем моделиро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лотности, температуры, магнитного п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е поля скор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возраста («химические часы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тная связь с динами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ждение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3FC7-DFE0-42F2-A44D-EA16D01F4B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плотности и темпера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39DE-8FF0-4C17-8E80-316A74F6F4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гнитные п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вая поляризация (эффект Зееман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оская поляризация (эффект Голдрайка -Килафис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2556-E1B7-4602-8DBF-D3C01A7960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линий в коллапсирующем обла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чески толстые линии в коллапсирующем облаке имеют характерную двугорбую форму с неравной высотой п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CF1B-5E7A-44E1-B133-05FA478197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или линий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335 (Choi et al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)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лошные линии — наблюдения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hou et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3)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триховые линии — модель с относительным содержание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.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максимальной скоростью коллапса на расстоянии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с от центра облак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A373-C5EC-4B5D-9855-103A693BBD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медленно</a:t>
            </a: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поставление динамического времени и массы гигантских молекулярных облаков дает оценку скорости звездообразования в Галактик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с Солнца в го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альное значение не превышает 15 масс Солнца в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быстро</a:t>
            </a: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лизительно половина плотных ядер содержит точечные инфракрасные источник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звезд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нет молекулярных облаков, в которых звездообразование еще не началось. Практически нет молекулярных облаков, в которых звездообразование уже закончило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5999-3E4B-44B6-BF66-DA23F83B34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D6E5-2A74-42D5-9821-0A1777DF57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 ча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1ABF-39D5-4F0F-B5CB-A0D4048C1A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грев и охлаж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Нагр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диссоциация молекулярного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ионизация нейтрального угле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электрическая эмиссия с поверхности пыли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 на поверхности пыли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ев в результате ионизации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Охлаж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лаждение в молекулярных ли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5429-2E11-404C-8B18-5915D7288A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схождение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ческие молекулы в молекулярных облак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ческие молекулы в кометах и метеорит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FDC9-25E9-4E4B-B656-787045FEB4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пех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Корректно воспроизведены содержания основных молекул (CO) и большинства второстепенных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Объяснено наличие в молекулярных облаках радикалов, ионов и изомеров, а также ненасыщенных органических молекул (несмотря на изобилие водород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Объяснено повышенное содержание молекул, содержащих дейтер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28BD-9BA4-431E-BDB3-F2053802CE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альная информация о распределении молекул в областях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галактическая астрохимия (в частности, на больших красных смещениях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9E1B-1509-40CA-9DC1-320C39E2D3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Вещество, из которого образуются звезды,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рактически невидимо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, что происходит в молекулярных облаках, в частности, в протозвездных объектах, — происходит с молекулярным водоро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 его линии в областях звездообразования слишком сла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FD26-5B4C-44ED-B581-06F5013C83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ярный водород — основная, но не единственная молекула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BE23-08F6-4A77-981A-ABF5FC008E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звездное пространство не пуст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ршель (светлые туманности состоят из светящейся жидк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ве (Каптейн, Барнард — неравномерность поглощ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юмплер (пы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тманн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звездное поглощ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эн, Парселл (1951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2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 молекул в Космосе нет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темп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пло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социирующие изл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18F9-04C3-4E90-9FD5-BF509F5B76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ы в Космосе есть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30-е гг. 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, CN, C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линии поглощ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гг. 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,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радиолин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е время — 137 молекул, не считая изотопомеров (с изотопомерами 2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лектронные переходы (видимый све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ебательные переходы (И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щательные переходы (радио, субм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м на возможность наблюдения молекул в радиодиапазоне указал И.С. Шкловск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5467-F919-435A-98D5-9C3A350805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писок известных межзвездных и околозвездных молеку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v.nrao.edu/~awootten/allmol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ву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AlF AlCl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 C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N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P CS CSi HCl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KCl NH NO NS NaCl OH PN SO 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N SiO SiS HF 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тре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N HCO H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S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OC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HNC HNO MgCN MgNC N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aCN OCS 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-Si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четыре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l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? HCCN HCN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NCO HNCS HO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S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п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i l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 HCOOH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N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N HN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шес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H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H+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O HCO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l-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сем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CN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O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O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восьм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OO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O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OHCH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ев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(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ес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? (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OO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одиннадцати атомо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тринадцати атомов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C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E94E-B977-4FB7-AB5B-B28C1B4578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AEDA6-655D-41E1-AB25-DC1F229B1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51C38-3CBE-4F21-A2DA-A34AC667A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3EAAF-0135-4A00-9609-7B8DA87E5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64ECA-B75E-4295-9AF8-0946D36DC9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5A16F-840D-47D2-8E7E-23B555C02F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6E451-1BE7-4BDF-8D97-893238A6B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3B2FF-8CD9-417D-AD8D-B3C08F2BF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6E770-9DE9-4910-89A4-4F56742AD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078F4-91FB-4C36-9300-E26D8C53A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7D6C4-095D-4C1A-89B2-4914E2B17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E0AC-1BD2-4DAF-A6F5-E03C34377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FF322-C2B6-4EEF-A8A1-870B3D79D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8152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256B-030E-4233-839A-EEB51F2A74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ижний колонтитул 3"/>
          <p:cNvSpPr/>
          <p:nvPr/>
        </p:nvSpPr>
        <p:spPr>
          <a:xfrm>
            <a:off x="0" y="6426360"/>
            <a:ext cx="28954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46040"/>
            <a:ext cx="7778880" cy="1425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лекулы в Космо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06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. З. Ви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итут астрономии Р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H2CO"/>
          <p:cNvPicPr/>
          <p:nvPr/>
        </p:nvPicPr>
        <p:blipFill>
          <a:blip r:embed="rId1"/>
          <a:stretch/>
        </p:blipFill>
        <p:spPr>
          <a:xfrm>
            <a:off x="3203640" y="3911760"/>
            <a:ext cx="2735280" cy="2563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628360" y="2152800"/>
            <a:ext cx="434124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АСТРОХИМ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уктура молеку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C3H2"/>
          <p:cNvPicPr/>
          <p:nvPr/>
        </p:nvPicPr>
        <p:blipFill>
          <a:blip r:embed="rId1"/>
          <a:stretch/>
        </p:blipFill>
        <p:spPr>
          <a:xfrm>
            <a:off x="152280" y="1143000"/>
            <a:ext cx="2671920" cy="252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Ethanol"/>
          <p:cNvPicPr/>
          <p:nvPr/>
        </p:nvPicPr>
        <p:blipFill>
          <a:blip r:embed="rId2"/>
          <a:stretch/>
        </p:blipFill>
        <p:spPr>
          <a:xfrm>
            <a:off x="5943600" y="838080"/>
            <a:ext cx="2727360" cy="241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H2CO"/>
          <p:cNvPicPr/>
          <p:nvPr/>
        </p:nvPicPr>
        <p:blipFill>
          <a:blip r:embed="rId3"/>
          <a:stretch/>
        </p:blipFill>
        <p:spPr>
          <a:xfrm>
            <a:off x="457200" y="3886200"/>
            <a:ext cx="2192400" cy="2054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C7N"/>
          <p:cNvPicPr/>
          <p:nvPr/>
        </p:nvPicPr>
        <p:blipFill>
          <a:blip r:embed="rId4"/>
          <a:stretch/>
        </p:blipFill>
        <p:spPr>
          <a:xfrm>
            <a:off x="2971800" y="1219320"/>
            <a:ext cx="2759040" cy="292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AH"/>
          <p:cNvPicPr/>
          <p:nvPr/>
        </p:nvPicPr>
        <p:blipFill>
          <a:blip r:embed="rId5"/>
          <a:stretch/>
        </p:blipFill>
        <p:spPr>
          <a:xfrm>
            <a:off x="6248520" y="3352680"/>
            <a:ext cx="2630520" cy="3281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CN"/>
          <p:cNvPicPr/>
          <p:nvPr/>
        </p:nvPicPr>
        <p:blipFill>
          <a:blip r:embed="rId6"/>
          <a:stretch/>
        </p:blipFill>
        <p:spPr>
          <a:xfrm>
            <a:off x="2971800" y="426708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1996560" y="1295280"/>
            <a:ext cx="78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209760" y="144792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18840" y="396252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355920" y="44197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960160" y="914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251040" y="61722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boffins"/>
          <p:cNvPicPr/>
          <p:nvPr/>
        </p:nvPicPr>
        <p:blipFill>
          <a:blip r:embed="rId1"/>
          <a:stretch/>
        </p:blipFill>
        <p:spPr>
          <a:xfrm>
            <a:off x="380880" y="0"/>
            <a:ext cx="4019760" cy="6248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708440" y="192240"/>
            <a:ext cx="43275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ые нашли в космо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омное облако спи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вездочеты нашли в космосе рай дл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ьяниц — гигантскую массу чист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ир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Они наткнулись на таинственное облак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азея в свои телескопы на далек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везд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ез несколько месяцев исследован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поняли, что таинственный объек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держит достаточно спирта, чтоб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готови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00 триллионов триллион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нт пива. Это составляет 300000 пин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жедневно для каждого жителя Земли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дующий миллиард лет... Облако находится близ молодой звезд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34.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звездии Орла... Тепло этой звезды производит больше спирта, чем все пивные и ликеро-водочные заводы Земли, вместе взятые.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ранить в прохладном, защищенном от света мест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8000" y="2420640"/>
            <a:ext cx="53294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е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олозвездные оболоч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ые обл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рта Млечного Пути в линии молекулы С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03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4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ласти звезд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игантские молекулярные обла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олекулярные обла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лотные ядр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0.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0" t="0" r="0" b="670"/>
          <a:stretch/>
        </p:blipFill>
        <p:spPr>
          <a:xfrm>
            <a:off x="0" y="2492280"/>
            <a:ext cx="914400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 некоторых молекул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MC-1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по отношению к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371600"/>
          <a:ext cx="7772400" cy="40845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–1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–17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O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7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66"/>
          <p:cNvSpPr/>
          <p:nvPr/>
        </p:nvSpPr>
        <p:spPr>
          <a:xfrm>
            <a:off x="2499840" y="575640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лекул очень мало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ворится на кухн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1143000" y="762120"/>
          <a:ext cx="68580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68580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Group 12"/>
          <p:cNvGrpSpPr/>
          <p:nvPr/>
        </p:nvGrpSpPr>
        <p:grpSpPr>
          <a:xfrm>
            <a:off x="3348000" y="2781360"/>
            <a:ext cx="863640" cy="360360"/>
            <a:chOff x="3348000" y="2781360"/>
            <a:chExt cx="863640" cy="360360"/>
          </a:xfrm>
        </p:grpSpPr>
        <p:sp>
          <p:nvSpPr>
            <p:cNvPr id="122" name="AutoShape 7"/>
            <p:cNvSpPr/>
            <p:nvPr/>
          </p:nvSpPr>
          <p:spPr>
            <a:xfrm>
              <a:off x="334800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AutoShape 8"/>
            <p:cNvSpPr/>
            <p:nvPr/>
          </p:nvSpPr>
          <p:spPr>
            <a:xfrm>
              <a:off x="3564000" y="292428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utoShape 9"/>
            <p:cNvSpPr/>
            <p:nvPr/>
          </p:nvSpPr>
          <p:spPr>
            <a:xfrm>
              <a:off x="385128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0"/>
            <p:cNvSpPr/>
            <p:nvPr/>
          </p:nvSpPr>
          <p:spPr>
            <a:xfrm>
              <a:off x="406728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>
              <a:off x="3780000" y="2781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9"/>
          <p:cNvGrpSpPr/>
          <p:nvPr/>
        </p:nvGrpSpPr>
        <p:grpSpPr>
          <a:xfrm>
            <a:off x="2987640" y="3500280"/>
            <a:ext cx="3745080" cy="649440"/>
            <a:chOff x="2987640" y="3500280"/>
            <a:chExt cx="3745080" cy="649440"/>
          </a:xfrm>
        </p:grpSpPr>
        <p:sp>
          <p:nvSpPr>
            <p:cNvPr id="128" name="AutoShape 13"/>
            <p:cNvSpPr/>
            <p:nvPr/>
          </p:nvSpPr>
          <p:spPr>
            <a:xfrm>
              <a:off x="2987640" y="364500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14"/>
            <p:cNvSpPr/>
            <p:nvPr/>
          </p:nvSpPr>
          <p:spPr>
            <a:xfrm>
              <a:off x="3708360" y="371628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15"/>
            <p:cNvSpPr/>
            <p:nvPr/>
          </p:nvSpPr>
          <p:spPr>
            <a:xfrm>
              <a:off x="3924360" y="400536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16"/>
            <p:cNvSpPr/>
            <p:nvPr/>
          </p:nvSpPr>
          <p:spPr>
            <a:xfrm>
              <a:off x="4932360" y="3500280"/>
              <a:ext cx="144360" cy="1447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5508720" y="400536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>
              <a:off x="6588000" y="3500280"/>
              <a:ext cx="144720" cy="1447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AutoShape 20"/>
          <p:cNvSpPr/>
          <p:nvPr/>
        </p:nvSpPr>
        <p:spPr>
          <a:xfrm>
            <a:off x="2556000" y="134136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21"/>
          <p:cNvSpPr/>
          <p:nvPr/>
        </p:nvSpPr>
        <p:spPr>
          <a:xfrm>
            <a:off x="2771640" y="206064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3780000" y="1052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3"/>
          <p:cNvSpPr/>
          <p:nvPr/>
        </p:nvSpPr>
        <p:spPr>
          <a:xfrm>
            <a:off x="4427640" y="1628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4"/>
          <p:cNvSpPr/>
          <p:nvPr/>
        </p:nvSpPr>
        <p:spPr>
          <a:xfrm>
            <a:off x="6084720" y="249228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5"/>
          <p:cNvSpPr/>
          <p:nvPr/>
        </p:nvSpPr>
        <p:spPr>
          <a:xfrm>
            <a:off x="5076720" y="119700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6"/>
          <p:cNvSpPr/>
          <p:nvPr/>
        </p:nvSpPr>
        <p:spPr>
          <a:xfrm>
            <a:off x="4284720" y="1052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7"/>
          <p:cNvSpPr/>
          <p:nvPr/>
        </p:nvSpPr>
        <p:spPr>
          <a:xfrm>
            <a:off x="6300720" y="141300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New-1"/>
          <p:cNvPicPr/>
          <p:nvPr/>
        </p:nvPicPr>
        <p:blipFill>
          <a:blip r:embed="rId1"/>
          <a:stretch/>
        </p:blipFill>
        <p:spPr>
          <a:xfrm>
            <a:off x="533520" y="762120"/>
            <a:ext cx="8129520" cy="541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5330880" y="6248520"/>
            <a:ext cx="26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Tafall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t al.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200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4648320" y="5181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420440" y="525780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5 000 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6553080" y="5181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550200" y="52578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.1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звездное ядр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15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равномерное содержание молеку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обраться в событиях, происходящих в молекулярных облаках, по наблюдениям молекул невозможно без моделирования химических процессов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09480" y="2057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Широко простирает химия руки свои в дела человеческие. Куда ни посмотрим, куда ни оглянемся, везде обращаются перед очами нашими успехи ее прилежания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. В. Ломоно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s are among the most fundamental building blocks of the universe, and yet the processes by which they are formed are not understoo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284360" y="5444640"/>
            <a:ext cx="42670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ek Ward-Thom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January 4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аботает межзвездный химический реактор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29"/>
          <p:cNvSpPr/>
          <p:nvPr/>
        </p:nvSpPr>
        <p:spPr>
          <a:xfrm>
            <a:off x="380160" y="5334120"/>
            <a:ext cx="8318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жзвездная химия сильно отличается от земной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ы газофазных химических реакц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072800" y="1905120"/>
            <a:ext cx="682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йтраль-нейтральные 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с космическими луч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он-молекулярные 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диссоциативной рекомбин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то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йтраль-нейтральны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519480" y="110808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457560" y="342900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распределе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он-молекулярны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790960" cy="1400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1"/>
          <p:cNvSpPr/>
          <p:nvPr/>
        </p:nvSpPr>
        <p:spPr>
          <a:xfrm>
            <a:off x="381240" y="175248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распределе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916200" y="36576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мен заря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6324480" y="1752480"/>
            <a:ext cx="263376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кие скорости при низких температур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акции с космическими луч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790960" cy="13906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444240" y="9558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акции ио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04920" y="2590920"/>
            <a:ext cx="3276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 + CRP = 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e + CRP =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724280" y="2819520"/>
            <a:ext cx="312444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3·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.0·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~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акции диссоциативной рекомбин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790960" cy="139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967760" y="241308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ыв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то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90960" cy="1400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5790960" cy="14004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1891800" y="148896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ыв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имические базы данн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UMIST95 (University of Manches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400 компонентов и 3864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 реакций с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803 ион-молекулярных 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9 фотореакций, индуцированных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94 нейтраль-нейтральных 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33 реакции диссоциативной рекомбин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0 фото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New Standard Model (Ohio State Univers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400 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203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 реакций с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935 ион-молекулярных 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35 фотореакций, индуцированных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9 нейтраль-нейтральных 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04 реакции диссоциативной рекомбин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72 фото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erbst &amp; Clemperer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1973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7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й (5 наблюдаемых молеку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ettens &amp; Herbst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1995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0 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0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имия усложняет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4"/>
          <p:cNvGraphicFramePr/>
          <p:nvPr/>
        </p:nvGraphicFramePr>
        <p:xfrm>
          <a:off x="457200" y="1676520"/>
          <a:ext cx="823896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3896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6"/>
          <p:cNvSpPr/>
          <p:nvPr/>
        </p:nvSpPr>
        <p:spPr>
          <a:xfrm>
            <a:off x="434340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343400" y="41148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4343400" y="2209680"/>
            <a:ext cx="380880" cy="38124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олекулярный водород в газовой фазе почти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образуется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210400" y="2133720"/>
            <a:ext cx="44877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хчастичные столкнов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+ H 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09480" y="2057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Звезды представляют собой один из самых фундаментальных элементов Вселенно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ем не менее процессы, в результате которых они образуются, нам непонятны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р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мпс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январ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азование молекулярного водорода на пы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омы водорода прилипают к пылин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мещаясь по поверхности пылинки, атомы сталкиваются друг с другом и образуют молеку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ергия, выделившаяся при образовании молекул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трывает ее от пылин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6172200" y="1371600"/>
            <a:ext cx="266688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верхностные химически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молекул, насыщенных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гомогенных молекул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простейших органических молеку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ерхностные реакции с участием С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657600" y="609480"/>
          <a:ext cx="44956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609480"/>
                    <a:ext cx="44956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 Box 5"/>
          <p:cNvSpPr/>
          <p:nvPr/>
        </p:nvSpPr>
        <p:spPr>
          <a:xfrm>
            <a:off x="155160" y="2438280"/>
            <a:ext cx="3129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чные продук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ьдег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ан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н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метиловый эфи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сорб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ая десорбция (энергия свя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орбция космическими лучами (температура нагре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десорбция (вероятность отры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имическая десорб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rcRect l="27630" t="17341" r="39301" b="37967"/>
          <a:stretch/>
        </p:blipFill>
        <p:spPr>
          <a:xfrm>
            <a:off x="5557680" y="0"/>
            <a:ext cx="358632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0" y="190512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ярное облако распадается на несколько гравитационно связанных яде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которых изначально силам притяжения противодействуют теплово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гнитное и турбулентное давле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и ядра в течение некоторого времени пребывают в стационарном состоянии, а затем в результате амбиполярной диффузии, диссипации турбулентности или под воздействием внешнего импуль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новятся гравитационно неустойчивыми и коллапсирую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щая картина звезд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Что и зачем моделиров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903960" y="1773360"/>
            <a:ext cx="768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лотности, температуры, магнитного п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ние поля скор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возраста («химические часы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тная связь с динами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схождение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 плотности и темпе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rcRect l="11721" t="11458" r="7032" b="11458"/>
          <a:stretch/>
        </p:blipFill>
        <p:spPr>
          <a:xfrm>
            <a:off x="611280" y="620640"/>
            <a:ext cx="7924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гнитные по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говая поляризация (эффект Зееман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ская поляризация (эффект Голдрайка -Килафис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рмирование линий в коллапсирующем обла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infall1"/>
          <p:cNvPicPr/>
          <p:nvPr/>
        </p:nvPicPr>
        <p:blipFill>
          <a:blip r:embed="rId1"/>
          <a:stretch/>
        </p:blipFill>
        <p:spPr>
          <a:xfrm>
            <a:off x="1523880" y="1600200"/>
            <a:ext cx="6058080" cy="4114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457200" y="571500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чески толстые линии в коллапсирующем облаке имеют характерную двугорбую форму с неравной высотой п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3" descr="B335"/>
          <p:cNvPicPr/>
          <p:nvPr/>
        </p:nvPicPr>
        <p:blipFill>
          <a:blip r:embed="rId1"/>
          <a:stretch/>
        </p:blipFill>
        <p:spPr>
          <a:xfrm>
            <a:off x="1143000" y="1066680"/>
            <a:ext cx="6980400" cy="38833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495288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или лини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335 (Choi et al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)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лошные линии — наблюдени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hou e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3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триховые линии — модель с относительным содержание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максимальной скоростью коллапса на расстояни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с от центра обла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80880" y="1447920"/>
            <a:ext cx="830592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медленно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поставление динамического времени и массы гигантских молекулярных облаков дает оценку скорости звездообразования в Галакти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сс Солнца в г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альное значение не превышает 15 масс Солнца в г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быстро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близительно половина плотных ядер содержит точечные инфракрасные источни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тозвезд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ктически нет молекулярных облаков, в которых звездообразование еще не началось. Практически нет молекулярных облаков, в которых звездообразование уже закончилос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имические ча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грев и охлаж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гр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диссоциация молекулярного вод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ионизация нейтрального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электрическая эмиссия с поверхности пыли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 на поверхности пыли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ев в результате ионизации космическими луч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хлаж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лаждение в молекулярных ли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исхождение жиз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220760" y="2590920"/>
            <a:ext cx="66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молекулы в молекулярных обла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молекулы в кометах и метеорит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пех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Корректно воспроизведены содержания основных молекул (CO) и большинства второстепенных молеку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Объяснено наличие в молекулярных облаках радикалов, ионов и изомеров, а также ненасыщенных органических молекул (несмотря на изобилие водород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Объяснено повышенное содержание молекул, содержащих дейтер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альная информация о распределении молекул в областях звезд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галактическая астрохимия (в частности, на больших красных смещения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о, из которого образуются звезды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актически невидим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50920" y="22050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, что происходит в молекулярных облаках, в частности, в протозвездных объектах, — происходит с молекулярным водород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858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проблем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8201160" cy="2446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622800" y="3581280"/>
            <a:ext cx="295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нии 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ИК-области спек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52280" y="6095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его линии в областях звездообразования слишком слаб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ярный водород — основная, но не единственная молеку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49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 молекул в Космосе нет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268360" y="4365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темпера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пло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социирующие изл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333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жзвездное пространство не пусто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9640" y="155736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шель (светлые туманности состоят из светящейся жидк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ве (Каптейн, Барнард — неравномерность поглощ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юмплер (пыл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тман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звездное поглощ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эн, Парселл (1951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 2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558760" y="616572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..хотя они есть в коме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597960" y="41400"/>
            <a:ext cx="39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До сороковых годов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X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ы в Космосе есть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686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30-е гг.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, CN, C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линии поглощ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0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 гг.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радиолини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е время — 137 молекул, не считая изотопомеров (с изотопомерами 2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443640" y="3213000"/>
            <a:ext cx="2165400" cy="3214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43240" y="3213000"/>
            <a:ext cx="488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ые переходы (видимый све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ебательные переходы (И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ащательные переходы (радио, субм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69960" y="45370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м на возможность наблюдения молекул в радиодиапазоне указал И.С. Шклов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Список известных межзвездных и околозвездных молеку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v.nrao.edu/~awootten/allmol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ву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AlF AlCl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 C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N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P CS CSi HCl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KCl NH NO NS NaCl OH PN SO 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N SiO SiS HF 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тре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N HCO H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S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OC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HNC HNO MgCN MgNC 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aCN OCS 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-Si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четыре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l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HCCN HCN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NCO HNCS HO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S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п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i l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 HCOOH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N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N HN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шес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H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H+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O HCO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l-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сем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CN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O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O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восьм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OO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O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HCH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ев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(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ес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? (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OO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одиннадцати атомо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тринадцати атомов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C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 rot="19089600">
            <a:off x="4724640" y="4571280"/>
            <a:ext cx="413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зобилие радикалов и ненасыщенных водородом молек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5:10:08Z</dcterms:created>
  <dc:creator>Dmitri Wiebe</dc:creator>
  <dc:description/>
  <dc:language>en-US</dc:language>
  <cp:lastModifiedBy>LEGION</cp:lastModifiedBy>
  <dcterms:modified xsi:type="dcterms:W3CDTF">2015-05-01T10:59:33Z</dcterms:modified>
  <cp:revision>100</cp:revision>
  <dc:subject/>
  <dc:title>Химия звездообразования</dc:title>
</cp:coreProperties>
</file>