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AA1A-BA71-4FDC-9A74-6A37D36BF0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ТИПЫ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Цели: Дать понятия ионной, ковалентной, металлической, водородной хим.связ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лицей №18 учитель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линина Л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0251-BB4B-4F68-97C5-D6C91CF348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11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A28C-2AC9-4BFB-BF37-E2E1F30838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        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ВИДЫ КОВАЛЕНТН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ПОЛЯРНАЯ                               НЕПО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12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9AC8-62D0-4466-BF22-EC4113FD13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полярной и неполяр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A588-27DB-4434-927C-1908C6138E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валентная полярная связь образуется между атомами различных неметаллов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Схема образования ковалентной полярной связ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+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=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DC50-9045-433F-A7E7-4C4828A03D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МАЗ(С), КРЕМНИЙ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КВАРЦ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состоят из атомов, связанных друг с другом в бесконечный трехмерный карк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ный каркас обладает высокой проч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сталлы твердые, тугоплавкие, без запаха, в воде нераствори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1148-E75C-4256-B4AF-54AD132D10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 УЗЛАХ – НАХОДЯТСЯ МОЛЕКУ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УДЕРЖИВАЮТСЯ СЛАБЫМИ МЕЖМОЛЕКУЛЯРНЫМИ С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ЕЩЕСТВА ЛЕГКОПЛАВКИ, ЧАСТО ИМЕЮТ ЗАП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AA4F-B002-4231-BE9F-46F8ED75E5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202C-8A2C-4537-9166-CAA3ABFD31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22FE-3F77-4DFE-912E-20CCD7A176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C5D1-3C76-44F8-A3B4-DAE74A2B1A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 имеет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F87A-1A30-45F7-B7EA-6BDDA12230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3796-E2AF-4586-85E4-B683DDBA6C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C9D1-CCD0-48D4-8E75-A47A7EA15F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7355-7370-43A6-AA1F-A758669F99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ЛЕКТРООТРИЦА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периоде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группе      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возра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САМЫЙ электроотрицательный элемент ф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D374-3A2D-4BF1-9B2E-558D7A84C4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8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8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30AF-3045-4382-82CC-EB81D395C3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822B-E797-4FC9-86CB-F5470FB675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F953-9C56-4C59-8F98-2B91F0E476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Franklin Gothic Medium"/>
              </a:rPr>
              <a:t>Физические св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5936-5EE3-4264-B240-CA8FE4CEFE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389-1A3F-4B7C-BD35-CC42A97D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779-4BEE-4A30-81C6-40C0334F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67B-9058-4025-B283-1F8BAAA2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9D8-6F4C-4AF4-A24D-A6349522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478B-B80E-4820-ADFD-2B42EF03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8E30-9EA3-472F-BD9E-5D47FD12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F843-D934-4474-A04B-1F7A9E3A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5D47-A02B-495C-8880-BB16EA6C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677A-E4C6-49F7-B018-E73281ED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7BC6-A133-4457-9B6F-DA6D7C27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0709-A478-43F8-8B6F-F8E30807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CA3-2B85-4A75-A290-684180A2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AFA6-7EB1-4F58-99B6-B9897677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6AD2-535E-4B08-B569-6490358B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76BD-D6F4-4CC2-820B-1FCE5EED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4240-238C-4FC4-9DE0-609376DC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274E-92AA-43FC-80BB-4DC7C321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A44-5E09-47B9-BA87-46E96751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9D22-D193-4EDF-ACA8-44A862DE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B5C-82B8-4E8D-8A68-6AEFBEC8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D05-E4DD-47C8-940E-3F1CB5F4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DC2-DA79-45EB-BAD6-3F68DE2D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D48-CCB0-4004-84B0-CB374FAA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FBD1-8737-4A37-BD44-D5F5B7C0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A812-252D-40D7-BA44-54B8F09CB2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9C22-9787-4E66-BA10-5020EA7CDB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ae8"/>
                </a:solidFill>
                <a:latin typeface="Arial"/>
              </a:rPr>
              <a:t>ТИПЫ ХИМИЧЕСКОЙ СВЯЗ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Цели: Дать понятия ионной, ковалентной, металлической, водородной хим.связ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МОУ лицей №18 учитель хим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Калинин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8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Impact"/>
              </a:rPr>
              <a:t>         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ВИДЫ КОВАЛЕНТНОЙ СВЯЗ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ПОЛЯРНАЯ                               НЕПОЛЯР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36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 rot="1479600">
            <a:off x="2050560" y="1413000"/>
            <a:ext cx="648000" cy="1368360"/>
          </a:xfrm>
          <a:custGeom>
            <a:avLst/>
            <a:gdLst>
              <a:gd name="textAreaLeft" fmla="*/ 86760 w 648000"/>
              <a:gd name="textAreaRight" fmla="*/ 561240 w 64800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 rot="20900400">
            <a:off x="5435280" y="1557000"/>
            <a:ext cx="792000" cy="1224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1908000" y="3573360"/>
            <a:ext cx="287640" cy="647640"/>
          </a:xfrm>
          <a:prstGeom prst="downArrow">
            <a:avLst>
              <a:gd name="adj1" fmla="val 50000"/>
              <a:gd name="adj2" fmla="val 5628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6804000" y="3573360"/>
            <a:ext cx="289080" cy="647640"/>
          </a:xfrm>
          <a:prstGeom prst="downArrow">
            <a:avLst>
              <a:gd name="adj1" fmla="val 50000"/>
              <a:gd name="adj2" fmla="val 5600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бразование полярной и неполярной связ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4" descr="image3"/>
          <p:cNvPicPr/>
          <p:nvPr/>
        </p:nvPicPr>
        <p:blipFill>
          <a:blip r:embed="rId1"/>
          <a:stretch/>
        </p:blipFill>
        <p:spPr>
          <a:xfrm>
            <a:off x="684360" y="1484280"/>
            <a:ext cx="8064360" cy="4608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овалентная полярная связь образуется между атомами различных неметаллов.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Схема образования ковалентной полярной связи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  <a:ea typeface="Arial"/>
              </a:rPr>
              <a:t>*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+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=H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4" descr="ольга"/>
          <p:cNvPicPr/>
          <p:nvPr/>
        </p:nvPicPr>
        <p:blipFill>
          <a:blip r:embed="rId1"/>
          <a:stretch/>
        </p:blipFill>
        <p:spPr>
          <a:xfrm>
            <a:off x="1116000" y="4653000"/>
            <a:ext cx="6912000" cy="19587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МАЗ(С), КРЕМНИЙ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, КВАРЦ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и состоят из атомов, связанных друг с другом в бесконечный трехмерный карк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омный каркас обладает высокой пр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сталлы твердые, тугоплавкие, без запаха, в воде нерастворимы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99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5400000"/>
          </a:gradFill>
          <a:ln w="9360">
            <a:solidFill>
              <a:srgbClr val="99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 УЗЛАХ – НАХОДЯТСЯ МОЛЕКУ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УДЕРЖИВАЮТСЯ СЛАБЫМИ МЕЖМОЛЕКУЛЯРНЫМИ СИ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ЕЩЕСТВА ЛЕГКОПЛАВКИ, ЧАСТО ИМЕЮТ ЗАП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cc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00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ОДОРОД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66ff33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Picture 4" descr="image3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38890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8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afe1ff"/>
              </a:gs>
              <a:gs pos="50000">
                <a:srgbClr val="0088e4"/>
              </a:gs>
              <a:gs pos="100000">
                <a:srgbClr val="afe1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4" descr="image3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38163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Механизм образования водородной связи имеет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Picture 4" descr="ольга1"/>
          <p:cNvPicPr/>
          <p:nvPr/>
        </p:nvPicPr>
        <p:blipFill>
          <a:blip r:embed="rId1"/>
          <a:stretch/>
        </p:blipFill>
        <p:spPr>
          <a:xfrm>
            <a:off x="1258920" y="3284640"/>
            <a:ext cx="7488360" cy="3573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6a848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32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33cc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af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893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99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периоде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увеличив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группе      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возраст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АМЫЙ электроотрицательный элемент ф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4067280" y="3500280"/>
            <a:ext cx="2376360" cy="216000"/>
          </a:xfrm>
          <a:prstGeom prst="rightArrow">
            <a:avLst>
              <a:gd name="adj1" fmla="val 50000"/>
              <a:gd name="adj2" fmla="val 27504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3851280" y="386064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c9fcb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16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fe1ff"/>
                </a:solidFill>
                <a:latin typeface="Franklin Gothic Medium"/>
              </a:rPr>
              <a:t>Физические свой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22:53:37Z</dcterms:created>
  <dc:creator>Ludmila</dc:creator>
  <dc:description/>
  <dc:language>en-US</dc:language>
  <cp:lastModifiedBy>LEGION</cp:lastModifiedBy>
  <dcterms:modified xsi:type="dcterms:W3CDTF">2015-05-01T11:00:51Z</dcterms:modified>
  <cp:revision>11</cp:revision>
  <dc:subject/>
  <dc:title>ТИПЫ ХИМИЧЕСКОЙ СВЯЗ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