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6A3E-08A7-4C3B-A711-B01D6EB957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ИПЫ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Цели: Дать понятия ионной, ковалентной, металлической, водородной хим.связ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лицей №18 учитель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линина Л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ECD8-7581-4DBD-80DB-7966E321CD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11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63C1-13EF-44D5-BD6C-C083DA5855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ВИДЫ КОВАЛЕН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ПОЛЯРНАЯ                               НЕПО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12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FD50-A433-424B-90C8-4DC1B30C4D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полярной и неполяр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6FDF-8252-449E-92BE-D0F7D22A93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валентная полярная связь образуется между атомами различных неметалло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Схема образования ковалентной полярной связ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+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72B3-1355-4129-92AF-ABBE249CEE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МАЗ(С), КРЕМНИЙ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КВАРЦ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состоят из атомов, связанных друг с другом в бесконечный трехмерный карк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ный каркас обладает высокой пр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ы твердые, тугоплавкие, без запаха, в воде нераствори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3990-5D21-4E4D-BA98-39521C2F5A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 УЗЛАХ – НАХОДЯТСЯ МОЛЕКУ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УДЕРЖИВАЮТСЯ СЛАБЫМИ МЕЖМОЛЕКУЛЯРНЫМИ С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ЕЩЕСТВА ЛЕГКОПЛАВКИ, ЧАСТО ИМЕЮТ ЗАП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4066-F43A-4E91-A42D-B4E0A4CC4F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D26-7400-4F66-B1AF-DFA5D05958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1D70-42DE-4A51-9C8C-4FF37C5744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3D1D-8AF2-4BA8-AAE3-9829569689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 имеет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D40B-93DC-4E90-90A4-26E3435D7E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7AC9-F433-427B-AE0D-40F708FC2C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EA50-B196-40C4-AE04-A23E49D4C9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83FF-A591-41C2-9D0E-73B1CF71ED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периоде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группе      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возра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САМЫЙ электроотрицательный элемент ф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9876-1E3F-4224-A0E8-3E2D0292AC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8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8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4D22-346B-4823-9241-7D315E5F80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EC83-3F88-41D4-AEA5-6C4E3ABC7D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10E0-3B0F-43C9-9D89-D5677A3B52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Medium"/>
              </a:rPr>
              <a:t>Физически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3A6-634A-4F39-9413-A3876BC8F2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D88-C083-4F1A-9B21-BD35CA32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60B-AA21-439D-A0DF-2AD0F72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227-731A-4ECA-B8D4-FE81ADAD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25E-070F-4188-A017-0FFFD29E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02E3-A185-445E-8A60-5BE7D79E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5CA3-61C8-4793-AA58-053155B2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95F9-797E-492F-BE68-E286E41B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B2A4-85C3-41D2-97F1-ABDFF38D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AC65-8DA6-4A33-A64D-5A4EB1B8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F2FD-269B-46E2-80A5-735F055B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3402-BF1F-4925-943D-2446C59C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162-66EB-44A0-AE79-572DBE4B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7720-06A0-4412-B828-92BC2B9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801A-257F-4779-8113-D6FA279D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BDC-EA73-4097-B4A1-D0E7AA39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6D9B-2B71-40A0-BA30-5DC8225D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E7C-2DB4-4B35-BB88-4C990962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9DB-38A6-4DCE-BBA6-0DAD9CC0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072-2ED3-42A2-B719-F38CF9BC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B5D-8DB5-40E5-A24F-982C1EB6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D94-E2C9-4290-A215-1B06AF0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8BC-1641-4F2C-9098-50FD30D4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6C6-4902-4D34-BDCD-D1EA5A8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737-BD4F-4D65-B30A-6D63125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6995-A4C1-4D14-A151-F9A0882503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4E38-0690-4FE9-B97A-554F5AB6B9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ae8"/>
                </a:solidFill>
                <a:latin typeface="Arial"/>
              </a:rPr>
              <a:t>ТИПЫ ХИМИЧЕСКОЙ СВЯЗ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Цели: Дать понятия ионной, ковалентной, металлической, водородной хим.связ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МОУ лицей №18 учитель хим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Калинин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ВИДЫ КОВАЛЕНТ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ПОЛЯРНАЯ                               НЕПО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36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479600">
            <a:off x="2050560" y="1413000"/>
            <a:ext cx="648000" cy="1368360"/>
          </a:xfrm>
          <a:custGeom>
            <a:avLst/>
            <a:gdLst>
              <a:gd name="textAreaLeft" fmla="*/ 86760 w 648000"/>
              <a:gd name="textAreaRight" fmla="*/ 561240 w 648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20900400">
            <a:off x="5435280" y="155700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908000" y="357336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6804000" y="357336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разование полярной и неполярной связ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image3"/>
          <p:cNvPicPr/>
          <p:nvPr/>
        </p:nvPicPr>
        <p:blipFill>
          <a:blip r:embed="rId1"/>
          <a:stretch/>
        </p:blipFill>
        <p:spPr>
          <a:xfrm>
            <a:off x="684360" y="1484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валентная полярная связь образуется между атомами различных неметаллов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Схема образования ковалентной полярной связи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+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=H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ольга"/>
          <p:cNvPicPr/>
          <p:nvPr/>
        </p:nvPicPr>
        <p:blipFill>
          <a:blip r:embed="rId1"/>
          <a:stretch/>
        </p:blipFill>
        <p:spPr>
          <a:xfrm>
            <a:off x="1116000" y="4653000"/>
            <a:ext cx="6912000" cy="19587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МАЗ(С), КРЕМНИЙ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КВАРЦ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состоят из атомов, связанных друг с другом в бесконечный трехмерный карк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омный каркас обладает высокой пр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сталлы твердые, тугоплавкие, без запаха, в воде нерастворим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99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УЗЛАХ – НАХОДЯТСЯ МОЛЕКУ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ДЕРЖИВАЮТСЯ СЛАБЫМИ МЕЖМОЛЕКУЛЯРНЫМИ СИ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ЩЕСТВА ЛЕГКОПЛАВКИ, ЧАСТО ИМЕЮТ ЗАП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00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ОДОРОД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66ff33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image3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38890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8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88e4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image3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Механизм образования водородной связи имеет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ольга1"/>
          <p:cNvPicPr/>
          <p:nvPr/>
        </p:nvPicPr>
        <p:blipFill>
          <a:blip r:embed="rId1"/>
          <a:stretch/>
        </p:blipFill>
        <p:spPr>
          <a:xfrm>
            <a:off x="1258920" y="3284640"/>
            <a:ext cx="7488360" cy="3573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6a84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33cc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af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периоде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группе      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возраст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АМЫЙ электроотрицательный элемент ф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067280" y="35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851280" y="386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16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e1ff"/>
                </a:solidFill>
                <a:latin typeface="Franklin Gothic Medium"/>
              </a:rPr>
              <a:t>Физические свой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2:53:37Z</dcterms:created>
  <dc:creator>Ludmila</dc:creator>
  <dc:description/>
  <dc:language>en-US</dc:language>
  <cp:lastModifiedBy>LEGION</cp:lastModifiedBy>
  <dcterms:modified xsi:type="dcterms:W3CDTF">2015-05-01T11:00:51Z</dcterms:modified>
  <cp:revision>11</cp:revision>
  <dc:subject/>
  <dc:title>ТИПЫ ХИМИЧЕСКОЙ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