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27.gif" ContentType="image/gif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4.gif" ContentType="image/gif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8.gif" ContentType="image/gif"/>
  <Override PartName="/ppt/media/image3.png" ContentType="image/png"/>
  <Override PartName="/ppt/media/image26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C83F-A84B-4366-85C2-9FBB2E111E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Простые и сложные вещ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Звонарёва Т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У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Г. Электрогор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63E4-2F59-4DED-915C-D5B20BD2D4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6899-4A4C-4CDB-8556-18614A36AA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и 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9927-6CE5-453C-801B-E213ABE5FC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д какими буквами на схемах обозначены простые ве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</a:t>
            </a:r>
            <a:r>
              <a:rPr b="1" lang="ru-RU" sz="1200" spc="-1" strike="noStrike" baseline="-25000">
                <a:solidFill>
                  <a:srgbClr val="663300"/>
                </a:solidFill>
                <a:latin typeface="Calibri"/>
              </a:rPr>
              <a:t>2 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О</a:t>
            </a:r>
            <a:r>
              <a:rPr b="1" lang="ru-RU" sz="1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200" spc="-1" strike="noStrike">
                <a:solidFill>
                  <a:srgbClr val="663300"/>
                </a:solidFill>
                <a:latin typeface="Calibri"/>
              </a:rPr>
              <a:t>N</a:t>
            </a:r>
            <a:r>
              <a:rPr b="1" lang="en-US" sz="1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  Б                          В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                            Д                       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73E8-AC7A-4AA1-9DFD-65756E1F3B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0DF8-470D-4535-AF3C-037C0105B3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гадайте загад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еня не едят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И без меня  мало ед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281F-F2CF-4D71-937F-96702F7E10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427B-D1FD-4AA3-A245-E352A5E1FC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0298-917A-4C1F-8350-5075A11F6A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Разделите перечисленные названия веществ на 2 группы: неорганические вещества и органическ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Вода, кислород, жиры, медь, водород, белки, поваренная соль, угл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E976-4EA1-4D2B-8484-5328DBFDC8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 уксусной кислоте прикасаться опас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8FDD-6BF9-4476-BD4B-657FFC8A75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Учебник с. 55-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Вопросы:1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80C0-5C3D-49F7-A87B-659499A3F0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Допиш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Тела состоят из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 Мельчайшая частица вещества, сохраняющая его свойства это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Молекулы состоят из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 Определённый вид атомов называется 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ы одного и того же вещества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1. Наименьшая частица вещества называется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2. Молекулы одного и того же вещества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3. Молекулы делятся на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4. Химический элемент это -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5.Тела состоят из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F88C-F234-4909-AF00-8F45AFEE4F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в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2. Молек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 Химическим элем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 Один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Молек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2.Один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А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Одинаковый вид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6B52-2666-4871-8A8B-11D80A7A75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арисуй схе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кисл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о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69C6-5BE4-4D8A-AFFF-8B7E4AE6AE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Вещество состоящее из атомов одного вида называется прост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F27C-6BD0-4CAB-B99B-5FCA5FCA54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, состоящие из атомов одн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1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О +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97B4-33D8-4D67-A466-B623D9D939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4AF8-F733-4B9F-82F2-B4037069DC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о состоящее из разных видов атомов называется слож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AD84-57C0-4B81-A0E1-B68936260D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- вещества, состоящие из атомов разны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E1D9-B2CF-4DF4-9927-774C912C38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A9C-645C-4761-A896-D7AFA8FE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BD7-102A-49E0-B9DB-A9BE2998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B19-B748-4DF3-9215-0AF215D3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FC3-71F8-403A-A413-AD475589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6256-8D0F-4D40-A513-73B228BD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02E-78BC-42B4-A9AE-F5F554CA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F0BE-F6E1-49BA-B2BF-9F2C9F21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026-0C2E-48D4-8E9C-DC2D2828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731B-0BBC-4D76-9DB5-24BDB84B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0FC9-511D-423A-B5BF-181746DE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AD4-40A1-4B5B-BBA4-953D3460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1D6B-4393-4106-B383-F78B54E9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732B-A2EE-44C0-87CD-5A117650303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4042-039A-4C6C-A0D6-CFA003BCCB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0456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Простые и сложные веществ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26920" y="4739760"/>
            <a:ext cx="4753080" cy="17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Звонарёва Т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МОУ лиц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Г. Электрогор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User.PHILKA\Рабочий стол\мама\анимации\Учителя и ученики ІІ\132.gif"/>
          <p:cNvPicPr/>
          <p:nvPr/>
        </p:nvPicPr>
        <p:blipFill>
          <a:blip r:embed="rId1"/>
          <a:stretch/>
        </p:blipFill>
        <p:spPr>
          <a:xfrm>
            <a:off x="6948360" y="4456080"/>
            <a:ext cx="1854360" cy="1611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Сложны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600200"/>
          <a:ext cx="7238880" cy="480996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разн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Простые и сложные веществ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47920" y="1600200"/>
          <a:ext cx="7238880" cy="480996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одинаков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разн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4"/>
          <p:cNvSpPr/>
          <p:nvPr/>
        </p:nvSpPr>
        <p:spPr>
          <a:xfrm>
            <a:off x="6858000" y="2666880"/>
            <a:ext cx="167652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3"/>
          <p:cNvSpPr/>
          <p:nvPr/>
        </p:nvSpPr>
        <p:spPr>
          <a:xfrm>
            <a:off x="3886200" y="26668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2"/>
          <p:cNvSpPr/>
          <p:nvPr/>
        </p:nvSpPr>
        <p:spPr>
          <a:xfrm>
            <a:off x="1676520" y="2666880"/>
            <a:ext cx="160020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523520" y="1600200"/>
            <a:ext cx="7162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д какими буквами на схемах обозначены простые вещест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 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С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N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Б                          В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                            Д                        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Овал 4"/>
          <p:cNvGrpSpPr/>
          <p:nvPr/>
        </p:nvGrpSpPr>
        <p:grpSpPr>
          <a:xfrm>
            <a:off x="1773360" y="2792520"/>
            <a:ext cx="720720" cy="718920"/>
            <a:chOff x="1773360" y="2792520"/>
            <a:chExt cx="720720" cy="718920"/>
          </a:xfrm>
        </p:grpSpPr>
        <p:pic>
          <p:nvPicPr>
            <p:cNvPr id="141" name="Овал 4" descr=""/>
            <p:cNvPicPr/>
            <p:nvPr/>
          </p:nvPicPr>
          <p:blipFill>
            <a:blip r:embed="rId2"/>
            <a:stretch/>
          </p:blipFill>
          <p:spPr>
            <a:xfrm>
              <a:off x="1773360" y="27925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917720" y="290844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Овал 5"/>
          <p:cNvGrpSpPr/>
          <p:nvPr/>
        </p:nvGrpSpPr>
        <p:grpSpPr>
          <a:xfrm>
            <a:off x="2157480" y="2792520"/>
            <a:ext cx="718920" cy="718920"/>
            <a:chOff x="2157480" y="2792520"/>
            <a:chExt cx="718920" cy="718920"/>
          </a:xfrm>
        </p:grpSpPr>
        <p:pic>
          <p:nvPicPr>
            <p:cNvPr id="144" name="Овал 5" descr=""/>
            <p:cNvPicPr/>
            <p:nvPr/>
          </p:nvPicPr>
          <p:blipFill>
            <a:blip r:embed="rId3"/>
            <a:stretch/>
          </p:blipFill>
          <p:spPr>
            <a:xfrm>
              <a:off x="2157480" y="27925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98600" y="290844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Овал 8"/>
          <p:cNvGrpSpPr/>
          <p:nvPr/>
        </p:nvGrpSpPr>
        <p:grpSpPr>
          <a:xfrm>
            <a:off x="4900680" y="3017880"/>
            <a:ext cx="718920" cy="718920"/>
            <a:chOff x="4900680" y="3017880"/>
            <a:chExt cx="718920" cy="718920"/>
          </a:xfrm>
        </p:grpSpPr>
        <p:pic>
          <p:nvPicPr>
            <p:cNvPr id="147" name="Овал 8" descr=""/>
            <p:cNvPicPr/>
            <p:nvPr/>
          </p:nvPicPr>
          <p:blipFill>
            <a:blip r:embed="rId4"/>
            <a:stretch/>
          </p:blipFill>
          <p:spPr>
            <a:xfrm>
              <a:off x="4900680" y="301788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41800" y="313704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Овал 9"/>
          <p:cNvGrpSpPr/>
          <p:nvPr/>
        </p:nvGrpSpPr>
        <p:grpSpPr>
          <a:xfrm>
            <a:off x="4138560" y="3017880"/>
            <a:ext cx="719280" cy="718920"/>
            <a:chOff x="4138560" y="3017880"/>
            <a:chExt cx="719280" cy="718920"/>
          </a:xfrm>
        </p:grpSpPr>
        <p:pic>
          <p:nvPicPr>
            <p:cNvPr id="150" name="Овал 9" descr=""/>
            <p:cNvPicPr/>
            <p:nvPr/>
          </p:nvPicPr>
          <p:blipFill>
            <a:blip r:embed="rId5"/>
            <a:stretch/>
          </p:blipFill>
          <p:spPr>
            <a:xfrm>
              <a:off x="4138560" y="3017880"/>
              <a:ext cx="719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80040" y="313704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4516560" y="2712960"/>
            <a:ext cx="652320" cy="658800"/>
            <a:chOff x="4516560" y="2712960"/>
            <a:chExt cx="652320" cy="658800"/>
          </a:xfrm>
        </p:grpSpPr>
        <p:pic>
          <p:nvPicPr>
            <p:cNvPr id="153" name="Овал 7" descr=""/>
            <p:cNvPicPr/>
            <p:nvPr/>
          </p:nvPicPr>
          <p:blipFill>
            <a:blip r:embed="rId6"/>
            <a:stretch/>
          </p:blipFill>
          <p:spPr>
            <a:xfrm>
              <a:off x="4516560" y="2712960"/>
              <a:ext cx="6523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651200" y="2822400"/>
              <a:ext cx="385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0"/>
          <p:cNvGrpSpPr/>
          <p:nvPr/>
        </p:nvGrpSpPr>
        <p:grpSpPr>
          <a:xfrm>
            <a:off x="7412040" y="2792520"/>
            <a:ext cx="652320" cy="652320"/>
            <a:chOff x="7412040" y="2792520"/>
            <a:chExt cx="652320" cy="652320"/>
          </a:xfrm>
        </p:grpSpPr>
        <p:pic>
          <p:nvPicPr>
            <p:cNvPr id="156" name="Овал 10" descr=""/>
            <p:cNvPicPr/>
            <p:nvPr/>
          </p:nvPicPr>
          <p:blipFill>
            <a:blip r:embed="rId7"/>
            <a:stretch/>
          </p:blipFill>
          <p:spPr>
            <a:xfrm>
              <a:off x="7412040" y="2792520"/>
              <a:ext cx="65232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547040" y="2898720"/>
              <a:ext cx="385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Овал 11"/>
          <p:cNvGrpSpPr/>
          <p:nvPr/>
        </p:nvGrpSpPr>
        <p:grpSpPr>
          <a:xfrm>
            <a:off x="7034040" y="2792520"/>
            <a:ext cx="652680" cy="652320"/>
            <a:chOff x="7034040" y="2792520"/>
            <a:chExt cx="652680" cy="652320"/>
          </a:xfrm>
        </p:grpSpPr>
        <p:pic>
          <p:nvPicPr>
            <p:cNvPr id="159" name="Овал 11" descr=""/>
            <p:cNvPicPr/>
            <p:nvPr/>
          </p:nvPicPr>
          <p:blipFill>
            <a:blip r:embed="rId8"/>
            <a:stretch/>
          </p:blipFill>
          <p:spPr>
            <a:xfrm>
              <a:off x="7034040" y="2792520"/>
              <a:ext cx="6526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65800" y="2898720"/>
              <a:ext cx="385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Прямоугольник 15"/>
          <p:cNvSpPr/>
          <p:nvPr/>
        </p:nvSpPr>
        <p:spPr>
          <a:xfrm>
            <a:off x="1676520" y="4648320"/>
            <a:ext cx="198108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         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Овал 16"/>
          <p:cNvGrpSpPr/>
          <p:nvPr/>
        </p:nvGrpSpPr>
        <p:grpSpPr>
          <a:xfrm>
            <a:off x="1700280" y="4925880"/>
            <a:ext cx="641160" cy="652680"/>
            <a:chOff x="1700280" y="4925880"/>
            <a:chExt cx="641160" cy="652680"/>
          </a:xfrm>
        </p:grpSpPr>
        <p:pic>
          <p:nvPicPr>
            <p:cNvPr id="163" name="Овал 16" descr=""/>
            <p:cNvPicPr/>
            <p:nvPr/>
          </p:nvPicPr>
          <p:blipFill>
            <a:blip r:embed="rId9"/>
            <a:stretch/>
          </p:blipFill>
          <p:spPr>
            <a:xfrm>
              <a:off x="1700280" y="4925880"/>
              <a:ext cx="6411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830240" y="5030640"/>
              <a:ext cx="37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Овал 17"/>
          <p:cNvGrpSpPr/>
          <p:nvPr/>
        </p:nvGrpSpPr>
        <p:grpSpPr>
          <a:xfrm>
            <a:off x="2230560" y="4694400"/>
            <a:ext cx="1025280" cy="1023840"/>
            <a:chOff x="2230560" y="4694400"/>
            <a:chExt cx="1025280" cy="1023840"/>
          </a:xfrm>
        </p:grpSpPr>
        <p:pic>
          <p:nvPicPr>
            <p:cNvPr id="166" name="Овал 17" descr=""/>
            <p:cNvPicPr/>
            <p:nvPr/>
          </p:nvPicPr>
          <p:blipFill>
            <a:blip r:embed="rId10"/>
            <a:stretch/>
          </p:blipFill>
          <p:spPr>
            <a:xfrm>
              <a:off x="2230560" y="4694400"/>
              <a:ext cx="1025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19200" y="4857840"/>
              <a:ext cx="6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Прямоугольник 18"/>
          <p:cNvSpPr/>
          <p:nvPr/>
        </p:nvSpPr>
        <p:spPr>
          <a:xfrm>
            <a:off x="4038480" y="4648320"/>
            <a:ext cx="167652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Овал 19"/>
          <p:cNvGrpSpPr/>
          <p:nvPr/>
        </p:nvGrpSpPr>
        <p:grpSpPr>
          <a:xfrm>
            <a:off x="4595760" y="4925880"/>
            <a:ext cx="641520" cy="652680"/>
            <a:chOff x="4595760" y="4925880"/>
            <a:chExt cx="641520" cy="652680"/>
          </a:xfrm>
        </p:grpSpPr>
        <p:pic>
          <p:nvPicPr>
            <p:cNvPr id="170" name="Овал 19" descr=""/>
            <p:cNvPicPr/>
            <p:nvPr/>
          </p:nvPicPr>
          <p:blipFill>
            <a:blip r:embed="rId11"/>
            <a:stretch/>
          </p:blipFill>
          <p:spPr>
            <a:xfrm>
              <a:off x="4595760" y="4925880"/>
              <a:ext cx="64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726080" y="50306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Овал 20"/>
          <p:cNvGrpSpPr/>
          <p:nvPr/>
        </p:nvGrpSpPr>
        <p:grpSpPr>
          <a:xfrm>
            <a:off x="4138560" y="4925880"/>
            <a:ext cx="641520" cy="652680"/>
            <a:chOff x="4138560" y="4925880"/>
            <a:chExt cx="641520" cy="652680"/>
          </a:xfrm>
        </p:grpSpPr>
        <p:pic>
          <p:nvPicPr>
            <p:cNvPr id="173" name="Овал 20" descr=""/>
            <p:cNvPicPr/>
            <p:nvPr/>
          </p:nvPicPr>
          <p:blipFill>
            <a:blip r:embed="rId12"/>
            <a:stretch/>
          </p:blipFill>
          <p:spPr>
            <a:xfrm>
              <a:off x="4138560" y="4925880"/>
              <a:ext cx="64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268880" y="50306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Прямоугольник 21"/>
          <p:cNvSpPr/>
          <p:nvPr/>
        </p:nvSpPr>
        <p:spPr>
          <a:xfrm>
            <a:off x="6324480" y="4648320"/>
            <a:ext cx="213372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Cl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Овал 22"/>
          <p:cNvGrpSpPr/>
          <p:nvPr/>
        </p:nvGrpSpPr>
        <p:grpSpPr>
          <a:xfrm>
            <a:off x="7107120" y="4694400"/>
            <a:ext cx="1025640" cy="1023840"/>
            <a:chOff x="7107120" y="4694400"/>
            <a:chExt cx="1025640" cy="1023840"/>
          </a:xfrm>
        </p:grpSpPr>
        <p:pic>
          <p:nvPicPr>
            <p:cNvPr id="177" name="Овал 22" descr=""/>
            <p:cNvPicPr/>
            <p:nvPr/>
          </p:nvPicPr>
          <p:blipFill>
            <a:blip r:embed="rId13"/>
            <a:stretch/>
          </p:blipFill>
          <p:spPr>
            <a:xfrm>
              <a:off x="7107120" y="4694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296120" y="4857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23"/>
          <p:cNvGrpSpPr/>
          <p:nvPr/>
        </p:nvGrpSpPr>
        <p:grpSpPr>
          <a:xfrm>
            <a:off x="6497640" y="4694400"/>
            <a:ext cx="1025640" cy="1023840"/>
            <a:chOff x="6497640" y="4694400"/>
            <a:chExt cx="1025640" cy="1023840"/>
          </a:xfrm>
        </p:grpSpPr>
        <p:pic>
          <p:nvPicPr>
            <p:cNvPr id="180" name="Овал 23" descr=""/>
            <p:cNvPicPr/>
            <p:nvPr/>
          </p:nvPicPr>
          <p:blipFill>
            <a:blip r:embed="rId14"/>
            <a:stretch/>
          </p:blipFill>
          <p:spPr>
            <a:xfrm>
              <a:off x="6497640" y="4694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686640" y="4857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4" descr="мальчик думает"/>
          <p:cNvPicPr/>
          <p:nvPr/>
        </p:nvPicPr>
        <p:blipFill>
          <a:blip r:embed="rId15"/>
          <a:stretch/>
        </p:blipFill>
        <p:spPr>
          <a:xfrm>
            <a:off x="7715160" y="357120"/>
            <a:ext cx="1285920" cy="18684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pic>
        <p:nvPicPr>
          <p:cNvPr id="185" name="Содержимое 4" descr=""/>
          <p:cNvPicPr/>
          <p:nvPr/>
        </p:nvPicPr>
        <p:blipFill>
          <a:blip r:embed="rId2"/>
          <a:stretch/>
        </p:blipFill>
        <p:spPr>
          <a:xfrm>
            <a:off x="1962000" y="1268280"/>
            <a:ext cx="6755040" cy="544356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5"/>
          <p:cNvSpPr/>
          <p:nvPr/>
        </p:nvSpPr>
        <p:spPr>
          <a:xfrm>
            <a:off x="0" y="3808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Угадайте загадк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еня не едят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И без меня  мало едя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1008[1]"/>
          <p:cNvPicPr/>
          <p:nvPr/>
        </p:nvPicPr>
        <p:blipFill>
          <a:blip r:embed="rId1"/>
          <a:stretch/>
        </p:blipFill>
        <p:spPr>
          <a:xfrm>
            <a:off x="5562720" y="13716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457200" y="4047840"/>
            <a:ext cx="373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Я бел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В чести у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В рот попал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Там и проп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sugar[1]"/>
          <p:cNvPicPr/>
          <p:nvPr/>
        </p:nvPicPr>
        <p:blipFill>
          <a:blip r:embed="rId2"/>
          <a:stretch/>
        </p:blipFill>
        <p:spPr>
          <a:xfrm>
            <a:off x="4724280" y="4191120"/>
            <a:ext cx="3251160" cy="24048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Не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Содержимое 4" descr="121161_1.jpg"/>
          <p:cNvPicPr/>
          <p:nvPr/>
        </p:nvPicPr>
        <p:blipFill>
          <a:blip r:embed="rId1"/>
          <a:stretch/>
        </p:blipFill>
        <p:spPr>
          <a:xfrm>
            <a:off x="4648320" y="2606760"/>
            <a:ext cx="4038480" cy="2512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1008[1]"/>
          <p:cNvPicPr/>
          <p:nvPr/>
        </p:nvPicPr>
        <p:blipFill>
          <a:blip r:embed="rId2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suhfru01[1]"/>
          <p:cNvPicPr/>
          <p:nvPr/>
        </p:nvPicPr>
        <p:blipFill>
          <a:blip r:embed="rId1"/>
          <a:stretch/>
        </p:blipFill>
        <p:spPr>
          <a:xfrm>
            <a:off x="291960" y="2781360"/>
            <a:ext cx="3857760" cy="2592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1__7_[1]"/>
          <p:cNvPicPr/>
          <p:nvPr/>
        </p:nvPicPr>
        <p:blipFill>
          <a:blip r:embed="rId2"/>
          <a:stretch/>
        </p:blipFill>
        <p:spPr>
          <a:xfrm>
            <a:off x="4427640" y="2205000"/>
            <a:ext cx="4371840" cy="33591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584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042560" y="2204640"/>
            <a:ext cx="72392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Разделите перечисленные названия веществ на 2 группы: неорганические вещества и органическ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Вода, кислород, жиры, медь, водород, белки, поваренная соль, угле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мальчик думает"/>
          <p:cNvPicPr/>
          <p:nvPr/>
        </p:nvPicPr>
        <p:blipFill>
          <a:blip r:embed="rId2"/>
          <a:stretch/>
        </p:blipFill>
        <p:spPr>
          <a:xfrm>
            <a:off x="7572240" y="0"/>
            <a:ext cx="1571760" cy="22845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mic Sans MS"/>
              </a:rPr>
              <a:t>К уксусной кислоте прикасаться опасно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500[1]"/>
          <p:cNvPicPr/>
          <p:nvPr/>
        </p:nvPicPr>
        <p:blipFill>
          <a:blip r:embed="rId1"/>
          <a:stretch/>
        </p:blipFill>
        <p:spPr>
          <a:xfrm>
            <a:off x="1401840" y="2438280"/>
            <a:ext cx="2504880" cy="3581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01_3[1]"/>
          <p:cNvPicPr/>
          <p:nvPr/>
        </p:nvPicPr>
        <p:blipFill>
          <a:blip r:embed="rId2"/>
          <a:stretch/>
        </p:blipFill>
        <p:spPr>
          <a:xfrm>
            <a:off x="4800600" y="1905120"/>
            <a:ext cx="2857680" cy="41050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Домашнее задание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чебник с. 55-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опросы:1,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Колокольчики"/>
          <p:cNvPicPr/>
          <p:nvPr/>
        </p:nvPicPr>
        <p:blipFill>
          <a:blip r:embed="rId1"/>
          <a:stretch/>
        </p:blipFill>
        <p:spPr>
          <a:xfrm>
            <a:off x="3276720" y="3657600"/>
            <a:ext cx="3267000" cy="279864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Допиши 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285920"/>
            <a:ext cx="4495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1.Тела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Мельчайшая частица вещества, сохраняющая его свойства это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3.Молекулы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4. Определённый вид атомов называется 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олекулы одного и того же веществ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14520" y="1285920"/>
            <a:ext cx="50720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1. Наименьшая частица вещества называет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2. Молекулы одного и того же веществ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3. Молекулы делятся н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4. Химический элемент это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5.Тела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Documents and Settings\User.PHILKA\Рабочий стол\мама\анимации\Учителя и ученики ІІ\141.gif"/>
          <p:cNvPicPr/>
          <p:nvPr/>
        </p:nvPicPr>
        <p:blipFill>
          <a:blip r:embed="rId1"/>
          <a:stretch/>
        </p:blipFill>
        <p:spPr>
          <a:xfrm>
            <a:off x="142920" y="142920"/>
            <a:ext cx="857160" cy="1189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1571760"/>
            <a:ext cx="4352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1. 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2. Молек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3. Ат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4. Химическим элемен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5. Одинако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1.Молек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2.Одинако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3.Ато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4.Одинаковый вид ат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5.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User.PHILKA\Рабочий стол\мама\анимации\Учителя и ученики ІІ\141.gif"/>
          <p:cNvPicPr/>
          <p:nvPr/>
        </p:nvPicPr>
        <p:blipFill>
          <a:blip r:embed="rId1"/>
          <a:stretch/>
        </p:blipFill>
        <p:spPr>
          <a:xfrm>
            <a:off x="3000240" y="1928880"/>
            <a:ext cx="1866960" cy="2590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Нарисуй схему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в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кисло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оз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Разнообразие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ещество состоящее из атомов одного вида называется прост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857160" y="160020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ещества, состоящие из атомов одного ви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О + 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Группа 18"/>
          <p:cNvGrpSpPr/>
          <p:nvPr/>
        </p:nvGrpSpPr>
        <p:grpSpPr>
          <a:xfrm>
            <a:off x="1905120" y="3048120"/>
            <a:ext cx="5679360" cy="1720800"/>
            <a:chOff x="1905120" y="3048120"/>
            <a:chExt cx="5679360" cy="1720800"/>
          </a:xfrm>
        </p:grpSpPr>
        <p:grpSp>
          <p:nvGrpSpPr>
            <p:cNvPr id="72" name="Овал 15"/>
            <p:cNvGrpSpPr/>
            <p:nvPr/>
          </p:nvGrpSpPr>
          <p:grpSpPr>
            <a:xfrm>
              <a:off x="1905120" y="3119760"/>
              <a:ext cx="821520" cy="820440"/>
              <a:chOff x="1905120" y="3119760"/>
              <a:chExt cx="821520" cy="820440"/>
            </a:xfrm>
          </p:grpSpPr>
          <p:pic>
            <p:nvPicPr>
              <p:cNvPr id="73" name="Овал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5120" y="3119760"/>
                <a:ext cx="82152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2061000" y="3256200"/>
                <a:ext cx="5043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Овал 16"/>
            <p:cNvGrpSpPr/>
            <p:nvPr/>
          </p:nvGrpSpPr>
          <p:grpSpPr>
            <a:xfrm>
              <a:off x="2503080" y="3119760"/>
              <a:ext cx="827640" cy="820440"/>
              <a:chOff x="2503080" y="3119760"/>
              <a:chExt cx="827640" cy="820440"/>
            </a:xfrm>
          </p:grpSpPr>
          <p:pic>
            <p:nvPicPr>
              <p:cNvPr id="76" name="Овал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3080" y="3119760"/>
                <a:ext cx="82764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2664720" y="3256200"/>
                <a:ext cx="5043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17"/>
            <p:cNvSpPr/>
            <p:nvPr/>
          </p:nvSpPr>
          <p:spPr>
            <a:xfrm>
              <a:off x="1954080" y="4126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Молекул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Прямая со стрелкой 7"/>
            <p:cNvCxnSpPr/>
            <p:nvPr/>
          </p:nvCxnSpPr>
          <p:spPr>
            <a:xfrm>
              <a:off x="3542040" y="3452040"/>
              <a:ext cx="963360" cy="108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  <a:tailEnd len="med" type="arrow" w="med"/>
            </a:ln>
          </p:spPr>
        </p:cxnSp>
        <p:sp>
          <p:nvSpPr>
            <p:cNvPr id="80" name="Плюс 8"/>
            <p:cNvSpPr/>
            <p:nvPr/>
          </p:nvSpPr>
          <p:spPr>
            <a:xfrm>
              <a:off x="5731920" y="3227760"/>
              <a:ext cx="464040" cy="460080"/>
            </a:xfrm>
            <a:custGeom>
              <a:avLst/>
              <a:gdLst/>
              <a:ahLst/>
              <a:rect l="l" t="t" r="r" b="b"/>
              <a:pathLst>
                <a:path w="468347" h="468373">
                  <a:moveTo>
                    <a:pt x="62079" y="179109"/>
                  </a:moveTo>
                  <a:lnTo>
                    <a:pt x="179096" y="179109"/>
                  </a:lnTo>
                  <a:lnTo>
                    <a:pt x="179096" y="62083"/>
                  </a:lnTo>
                  <a:lnTo>
                    <a:pt x="289251" y="62083"/>
                  </a:lnTo>
                  <a:lnTo>
                    <a:pt x="289251" y="179109"/>
                  </a:lnTo>
                  <a:lnTo>
                    <a:pt x="406268" y="179109"/>
                  </a:lnTo>
                  <a:lnTo>
                    <a:pt x="406268" y="289264"/>
                  </a:lnTo>
                  <a:lnTo>
                    <a:pt x="289251" y="289264"/>
                  </a:lnTo>
                  <a:lnTo>
                    <a:pt x="289251" y="406290"/>
                  </a:lnTo>
                  <a:lnTo>
                    <a:pt x="179096" y="406290"/>
                  </a:lnTo>
                  <a:lnTo>
                    <a:pt x="179096" y="289264"/>
                  </a:lnTo>
                  <a:lnTo>
                    <a:pt x="62079" y="289264"/>
                  </a:lnTo>
                  <a:lnTo>
                    <a:pt x="62079" y="179109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Овал 13"/>
            <p:cNvGrpSpPr/>
            <p:nvPr/>
          </p:nvGrpSpPr>
          <p:grpSpPr>
            <a:xfrm>
              <a:off x="4768560" y="3048120"/>
              <a:ext cx="827640" cy="814680"/>
              <a:chOff x="4768560" y="3048120"/>
              <a:chExt cx="827640" cy="814680"/>
            </a:xfrm>
          </p:grpSpPr>
          <p:pic>
            <p:nvPicPr>
              <p:cNvPr id="82" name="Овал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768560" y="3048120"/>
                <a:ext cx="82764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930200" y="3181680"/>
                <a:ext cx="5043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TextBox 14"/>
            <p:cNvSpPr/>
            <p:nvPr/>
          </p:nvSpPr>
          <p:spPr>
            <a:xfrm>
              <a:off x="4597200" y="408888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Овал 11"/>
            <p:cNvGrpSpPr/>
            <p:nvPr/>
          </p:nvGrpSpPr>
          <p:grpSpPr>
            <a:xfrm>
              <a:off x="6429960" y="3048120"/>
              <a:ext cx="827640" cy="814680"/>
              <a:chOff x="6429960" y="3048120"/>
              <a:chExt cx="827640" cy="814680"/>
            </a:xfrm>
          </p:grpSpPr>
          <p:pic>
            <p:nvPicPr>
              <p:cNvPr id="86" name="Овал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6429960" y="3048120"/>
                <a:ext cx="82764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591240" y="3181680"/>
                <a:ext cx="5043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Box 12"/>
            <p:cNvSpPr/>
            <p:nvPr/>
          </p:nvSpPr>
          <p:spPr>
            <a:xfrm>
              <a:off x="6333840" y="4126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9" name="Прямая со стрелкой 21"/>
          <p:cNvCxnSpPr/>
          <p:nvPr/>
        </p:nvCxnSpPr>
        <p:spPr>
          <a:xfrm>
            <a:off x="3276720" y="5334120"/>
            <a:ext cx="3816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осты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1600200"/>
          <a:ext cx="7238880" cy="438480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одинаков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Разнообразие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Вещество состоящее из разных видов атомов называется слож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857160" y="160020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- вещества, состоящие из атомов разных элем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23"/>
          <p:cNvGrpSpPr/>
          <p:nvPr/>
        </p:nvGrpSpPr>
        <p:grpSpPr>
          <a:xfrm>
            <a:off x="1447920" y="3352680"/>
            <a:ext cx="6802200" cy="1569240"/>
            <a:chOff x="1447920" y="3352680"/>
            <a:chExt cx="6802200" cy="1569240"/>
          </a:xfrm>
        </p:grpSpPr>
        <p:cxnSp>
          <p:nvCxnSpPr>
            <p:cNvPr id="101" name="Прямая со стрелкой 24"/>
            <p:cNvCxnSpPr/>
            <p:nvPr/>
          </p:nvCxnSpPr>
          <p:spPr>
            <a:xfrm>
              <a:off x="3124080" y="3755880"/>
              <a:ext cx="972000" cy="1080"/>
            </a:xfrm>
            <a:prstGeom prst="straightConnector1">
              <a:avLst/>
            </a:prstGeom>
            <a:ln w="38160">
              <a:solidFill>
                <a:srgbClr val="f79646"/>
              </a:solidFill>
              <a:miter/>
              <a:tailEnd len="med" type="triangle" w="med"/>
            </a:ln>
          </p:spPr>
        </p:cxnSp>
        <p:sp>
          <p:nvSpPr>
            <p:cNvPr id="102" name="Плюс 25"/>
            <p:cNvSpPr/>
            <p:nvPr/>
          </p:nvSpPr>
          <p:spPr>
            <a:xfrm>
              <a:off x="5257800" y="3531960"/>
              <a:ext cx="468000" cy="459360"/>
            </a:xfrm>
            <a:custGeom>
              <a:avLst/>
              <a:gdLst/>
              <a:ahLst/>
              <a:rect l="l" t="t" r="r" b="b"/>
              <a:pathLst>
                <a:path w="468278" h="468378">
                  <a:moveTo>
                    <a:pt x="62070" y="179120"/>
                  </a:moveTo>
                  <a:lnTo>
                    <a:pt x="179070" y="179120"/>
                  </a:lnTo>
                  <a:lnTo>
                    <a:pt x="179070" y="62084"/>
                  </a:lnTo>
                  <a:lnTo>
                    <a:pt x="289208" y="62084"/>
                  </a:lnTo>
                  <a:lnTo>
                    <a:pt x="289208" y="179120"/>
                  </a:lnTo>
                  <a:lnTo>
                    <a:pt x="406208" y="179120"/>
                  </a:lnTo>
                  <a:lnTo>
                    <a:pt x="406208" y="289258"/>
                  </a:lnTo>
                  <a:lnTo>
                    <a:pt x="289208" y="289258"/>
                  </a:lnTo>
                  <a:lnTo>
                    <a:pt x="289208" y="406294"/>
                  </a:lnTo>
                  <a:lnTo>
                    <a:pt x="179070" y="406294"/>
                  </a:lnTo>
                  <a:lnTo>
                    <a:pt x="179070" y="289258"/>
                  </a:lnTo>
                  <a:lnTo>
                    <a:pt x="62070" y="289258"/>
                  </a:lnTo>
                  <a:lnTo>
                    <a:pt x="62070" y="17912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люс 26"/>
            <p:cNvSpPr/>
            <p:nvPr/>
          </p:nvSpPr>
          <p:spPr>
            <a:xfrm>
              <a:off x="6705720" y="3531960"/>
              <a:ext cx="468000" cy="459360"/>
            </a:xfrm>
            <a:custGeom>
              <a:avLst/>
              <a:gdLst/>
              <a:ahLst/>
              <a:rect l="l" t="t" r="r" b="b"/>
              <a:pathLst>
                <a:path w="468278" h="468378">
                  <a:moveTo>
                    <a:pt x="62070" y="179120"/>
                  </a:moveTo>
                  <a:lnTo>
                    <a:pt x="179070" y="179120"/>
                  </a:lnTo>
                  <a:lnTo>
                    <a:pt x="179070" y="62084"/>
                  </a:lnTo>
                  <a:lnTo>
                    <a:pt x="289208" y="62084"/>
                  </a:lnTo>
                  <a:lnTo>
                    <a:pt x="289208" y="179120"/>
                  </a:lnTo>
                  <a:lnTo>
                    <a:pt x="406208" y="179120"/>
                  </a:lnTo>
                  <a:lnTo>
                    <a:pt x="406208" y="289258"/>
                  </a:lnTo>
                  <a:lnTo>
                    <a:pt x="289208" y="289258"/>
                  </a:lnTo>
                  <a:lnTo>
                    <a:pt x="289208" y="406294"/>
                  </a:lnTo>
                  <a:lnTo>
                    <a:pt x="179070" y="406294"/>
                  </a:lnTo>
                  <a:lnTo>
                    <a:pt x="179070" y="289258"/>
                  </a:lnTo>
                  <a:lnTo>
                    <a:pt x="62070" y="289258"/>
                  </a:lnTo>
                  <a:lnTo>
                    <a:pt x="62070" y="17912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Овал 27"/>
            <p:cNvGrpSpPr/>
            <p:nvPr/>
          </p:nvGrpSpPr>
          <p:grpSpPr>
            <a:xfrm>
              <a:off x="1548360" y="3723480"/>
              <a:ext cx="640080" cy="645840"/>
              <a:chOff x="1548360" y="3723480"/>
              <a:chExt cx="640080" cy="645840"/>
            </a:xfrm>
          </p:grpSpPr>
          <p:pic>
            <p:nvPicPr>
              <p:cNvPr id="105" name="Овал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8360" y="3723480"/>
                <a:ext cx="640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1678320" y="383292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Овал 28"/>
            <p:cNvGrpSpPr/>
            <p:nvPr/>
          </p:nvGrpSpPr>
          <p:grpSpPr>
            <a:xfrm>
              <a:off x="2383560" y="3723480"/>
              <a:ext cx="646200" cy="645840"/>
              <a:chOff x="2383560" y="3723480"/>
              <a:chExt cx="646200" cy="645840"/>
            </a:xfrm>
          </p:grpSpPr>
          <p:pic>
            <p:nvPicPr>
              <p:cNvPr id="108" name="Овал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2383560" y="3723480"/>
                <a:ext cx="6462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2516400" y="383292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Овал 29"/>
            <p:cNvGrpSpPr/>
            <p:nvPr/>
          </p:nvGrpSpPr>
          <p:grpSpPr>
            <a:xfrm>
              <a:off x="1853280" y="3352680"/>
              <a:ext cx="829080" cy="813240"/>
              <a:chOff x="1853280" y="3352680"/>
              <a:chExt cx="829080" cy="813240"/>
            </a:xfrm>
          </p:grpSpPr>
          <p:pic>
            <p:nvPicPr>
              <p:cNvPr id="111" name="Овал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1853280" y="3352680"/>
                <a:ext cx="82908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010600" y="3485880"/>
                <a:ext cx="5090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Box 30"/>
            <p:cNvSpPr/>
            <p:nvPr/>
          </p:nvSpPr>
          <p:spPr>
            <a:xfrm>
              <a:off x="1447920" y="4429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Молекула в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Овал 31"/>
            <p:cNvGrpSpPr/>
            <p:nvPr/>
          </p:nvGrpSpPr>
          <p:grpSpPr>
            <a:xfrm>
              <a:off x="4291560" y="3352680"/>
              <a:ext cx="829080" cy="813240"/>
              <a:chOff x="4291560" y="3352680"/>
              <a:chExt cx="829080" cy="813240"/>
            </a:xfrm>
          </p:grpSpPr>
          <p:pic>
            <p:nvPicPr>
              <p:cNvPr id="115" name="Овал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4291560" y="3352680"/>
                <a:ext cx="82908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4448880" y="3485880"/>
                <a:ext cx="5090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32"/>
            <p:cNvSpPr/>
            <p:nvPr/>
          </p:nvSpPr>
          <p:spPr>
            <a:xfrm>
              <a:off x="4042440" y="4279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Овал 33"/>
            <p:cNvGrpSpPr/>
            <p:nvPr/>
          </p:nvGrpSpPr>
          <p:grpSpPr>
            <a:xfrm>
              <a:off x="5888880" y="3424320"/>
              <a:ext cx="646200" cy="645840"/>
              <a:chOff x="5888880" y="3424320"/>
              <a:chExt cx="646200" cy="645840"/>
            </a:xfrm>
          </p:grpSpPr>
          <p:pic>
            <p:nvPicPr>
              <p:cNvPr id="119" name="Овал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5888880" y="3424320"/>
                <a:ext cx="6462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6022080" y="353376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Box 34"/>
            <p:cNvSpPr/>
            <p:nvPr/>
          </p:nvSpPr>
          <p:spPr>
            <a:xfrm>
              <a:off x="5638320" y="4279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вод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Овал 35"/>
            <p:cNvGrpSpPr/>
            <p:nvPr/>
          </p:nvGrpSpPr>
          <p:grpSpPr>
            <a:xfrm>
              <a:off x="7339680" y="3424320"/>
              <a:ext cx="640080" cy="645840"/>
              <a:chOff x="7339680" y="3424320"/>
              <a:chExt cx="640080" cy="645840"/>
            </a:xfrm>
          </p:grpSpPr>
          <p:pic>
            <p:nvPicPr>
              <p:cNvPr id="123" name="Овал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7339680" y="3424320"/>
                <a:ext cx="640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7470000" y="353376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Box 36"/>
            <p:cNvSpPr/>
            <p:nvPr/>
          </p:nvSpPr>
          <p:spPr>
            <a:xfrm>
              <a:off x="7086240" y="4279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вод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37"/>
          <p:cNvSpPr/>
          <p:nvPr/>
        </p:nvSpPr>
        <p:spPr>
          <a:xfrm>
            <a:off x="2535840" y="5486400"/>
            <a:ext cx="357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        О + Н +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39"/>
          <p:cNvCxnSpPr/>
          <p:nvPr/>
        </p:nvCxnSpPr>
        <p:spPr>
          <a:xfrm>
            <a:off x="3504960" y="5791320"/>
            <a:ext cx="53388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28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1:05:09Z</dcterms:created>
  <dc:creator>www.PHILka.RU</dc:creator>
  <dc:description/>
  <dc:language>en-US</dc:language>
  <cp:lastModifiedBy>LEGION</cp:lastModifiedBy>
  <dcterms:modified xsi:type="dcterms:W3CDTF">2015-05-01T11:04:41Z</dcterms:modified>
  <cp:revision>26</cp:revision>
  <dc:subject/>
  <dc:title>Простые и сложные вещества</dc:title>
</cp:coreProperties>
</file>