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3_1">
  <dgm:title val=""/>
  <dgm:desc val=""/>
  <dgm:catLst>
    <dgm:cat type="accent3" pri="11100"/>
  </dgm:catLst>
  <dgm:styleLbl name="node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3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3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4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3">
        <a:alpha val="4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8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6_5">
  <dgm:title val=""/>
  <dgm:desc val=""/>
  <dgm:catLst>
    <dgm:cat type="accent6" pri="11500"/>
  </dgm:catLst>
  <dgm:styleLbl name="node0">
    <dgm:fillClrLst meth="cycle">
      <a:schemeClr val="accent6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6">
        <a:alpha val="90000"/>
      </a:schemeClr>
      <a:schemeClr val="accent6">
        <a:alpha val="5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/>
    <dgm:txEffectClrLst/>
  </dgm:styleLbl>
  <dgm:styleLbl name="node1">
    <dgm:fillClrLst>
      <a:schemeClr val="accent6">
        <a:alpha val="9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lnNode1">
    <dgm:fillClrLst>
      <a:schemeClr val="accent6">
        <a:shade val="90000"/>
      </a:schemeClr>
      <a:schemeClr val="accent6">
        <a:tint val="5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6">
        <a:shade val="80000"/>
        <a:alpha val="50000"/>
      </a:schemeClr>
      <a:schemeClr val="accent6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6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6">
        <a:tint val="50000"/>
        <a:alpha val="90000"/>
      </a:schemeClr>
      <a:schemeClr val="accent6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6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6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fg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bg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sibTrans1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6"/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6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6">
        <a:shade val="80000"/>
      </a:schemeClr>
    </dgm:fillClrLst>
    <dgm:linClrLst meth="repeat">
      <a:schemeClr val="accent6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6">
        <a:tint val="90000"/>
      </a:schemeClr>
    </dgm:fillClrLst>
    <dgm:linClrLst meth="repeat">
      <a:schemeClr val="accent6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6">
        <a:tint val="70000"/>
      </a:schemeClr>
    </dgm:fillClrLst>
    <dgm:linClrLst meth="repeat">
      <a:schemeClr val="accent6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6">
        <a:tint val="5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6">
        <a:shade val="8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6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6">
        <a:alpha val="90000"/>
        <a:tint val="40000"/>
      </a:schemeClr>
      <a:schemeClr val="accent6">
        <a:alpha val="50000"/>
        <a:tint val="40000"/>
      </a:schemeClr>
    </dgm:fillClrLst>
    <dgm:linClrLst meth="repeat">
      <a:schemeClr val="accent6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6">
        <a:alpha val="90000"/>
        <a:tint val="40000"/>
      </a:schemeClr>
    </dgm:fillClrLst>
    <dgm:linClrLst meth="repeat">
      <a:schemeClr val="accent6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6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6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6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6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6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6">
        <a:tint val="50000"/>
        <a:alpha val="40000"/>
      </a:schemeClr>
    </dgm:fillClrLst>
    <dgm:linClrLst meth="repeat">
      <a:schemeClr val="accent6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6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26C15FB6-D0DF-4E77-B4AC-3F72A488ADEF}" type="doc">
      <dgm:prSet loTypeId="urn:microsoft.com/office/officeart/2005/8/layout/hList9" loCatId="list" qsTypeId="urn:microsoft.com/office/officeart/2005/8/quickstyle/simple1" qsCatId="simple" csTypeId="urn:microsoft.com/office/officeart/2005/8/colors/accent3_1" csCatId="accent3" phldr="1"/>
      <dgm:spPr/>
      <dgm:t>
        <a:bodyPr/>
        <a:lstStyle/>
        <a:p>
          <a:endParaRPr lang="ru-RU"/>
        </a:p>
      </dgm:t>
    </dgm:pt>
    <dgm:pt modelId="{DDE2C94B-3B3E-44AF-B6E5-545AC25C01E4}">
      <dgm:prSet phldrT="[Текст]" custT="1"/>
      <dgm:spPr/>
      <dgm:t>
        <a:bodyPr/>
        <a:lstStyle/>
        <a:p>
          <a:r>
            <a:rPr lang="ru-RU" sz="1100" dirty="0" smtClean="0"/>
            <a:t>СТАРШИЕ СОФИСТЫ</a:t>
          </a:r>
          <a:endParaRPr lang="ru-RU" sz="1100" dirty="0"/>
        </a:p>
      </dgm:t>
    </dgm:pt>
    <dgm:pt modelId="{B68FA175-CB2D-48AA-8B99-19BBC4D35036}" type="parTrans" cxnId="{4145E0BF-77B5-4EF0-A2DB-2F6C75A2D38C}">
      <dgm:prSet/>
      <dgm:spPr/>
      <dgm:t>
        <a:bodyPr/>
        <a:lstStyle/>
        <a:p>
          <a:endParaRPr lang="ru-RU"/>
        </a:p>
      </dgm:t>
    </dgm:pt>
    <dgm:pt modelId="{72E3803C-FAD2-46DA-809F-1186ADFA1F97}" type="sibTrans" cxnId="{4145E0BF-77B5-4EF0-A2DB-2F6C75A2D38C}">
      <dgm:prSet/>
      <dgm:spPr/>
      <dgm:t>
        <a:bodyPr/>
        <a:lstStyle/>
        <a:p>
          <a:endParaRPr lang="ru-RU"/>
        </a:p>
      </dgm:t>
    </dgm:pt>
    <dgm:pt modelId="{B9C9A381-1CC1-40FD-BEE1-F145B7471655}">
      <dgm:prSet phldrT="[Текст]" custT="1"/>
      <dgm:spPr/>
      <dgm:t>
        <a:bodyPr/>
        <a:lstStyle/>
        <a:p>
          <a:r>
            <a:rPr lang="ru-RU" sz="1600" dirty="0" smtClean="0"/>
            <a:t>Протагор </a:t>
          </a:r>
          <a:r>
            <a:rPr lang="ru-RU" sz="1600" dirty="0" err="1" smtClean="0"/>
            <a:t>Абдерский</a:t>
          </a:r>
          <a:endParaRPr lang="ru-RU" sz="1600" dirty="0"/>
        </a:p>
      </dgm:t>
    </dgm:pt>
    <dgm:pt modelId="{73B77B14-7804-4472-B7F9-B6AE7A77A132}" type="parTrans" cxnId="{978EF460-C8A5-4EE9-BC19-56E6A706190F}">
      <dgm:prSet/>
      <dgm:spPr/>
      <dgm:t>
        <a:bodyPr/>
        <a:lstStyle/>
        <a:p>
          <a:endParaRPr lang="ru-RU"/>
        </a:p>
      </dgm:t>
    </dgm:pt>
    <dgm:pt modelId="{0CC08F3F-019D-44EB-9E3A-311E83E2D9CC}" type="sibTrans" cxnId="{978EF460-C8A5-4EE9-BC19-56E6A706190F}">
      <dgm:prSet/>
      <dgm:spPr/>
      <dgm:t>
        <a:bodyPr/>
        <a:lstStyle/>
        <a:p>
          <a:endParaRPr lang="ru-RU"/>
        </a:p>
      </dgm:t>
    </dgm:pt>
    <dgm:pt modelId="{5B1826CF-C9DB-4CC6-9C5D-A1431DA4DD4C}">
      <dgm:prSet phldrT="[Текст]" custT="1"/>
      <dgm:spPr/>
      <dgm:t>
        <a:bodyPr/>
        <a:lstStyle/>
        <a:p>
          <a:r>
            <a:rPr lang="ru-RU" sz="1600" dirty="0" err="1" smtClean="0"/>
            <a:t>Ликофрон</a:t>
          </a:r>
          <a:endParaRPr lang="ru-RU" sz="1600" dirty="0"/>
        </a:p>
      </dgm:t>
    </dgm:pt>
    <dgm:pt modelId="{66558D40-FCDF-4431-A1B0-7528FE3FFFFF}" type="parTrans" cxnId="{373F957F-A14E-4818-8AD2-04729B30F492}">
      <dgm:prSet/>
      <dgm:spPr/>
      <dgm:t>
        <a:bodyPr/>
        <a:lstStyle/>
        <a:p>
          <a:endParaRPr lang="ru-RU"/>
        </a:p>
      </dgm:t>
    </dgm:pt>
    <dgm:pt modelId="{50517C78-04F3-4BCF-9DEF-1D623651369E}" type="sibTrans" cxnId="{373F957F-A14E-4818-8AD2-04729B30F492}">
      <dgm:prSet/>
      <dgm:spPr/>
      <dgm:t>
        <a:bodyPr/>
        <a:lstStyle/>
        <a:p>
          <a:endParaRPr lang="ru-RU"/>
        </a:p>
      </dgm:t>
    </dgm:pt>
    <dgm:pt modelId="{3021BB07-414A-4E1E-BA6A-39EF465FA49E}">
      <dgm:prSet phldrT="[Текст]" custT="1"/>
      <dgm:spPr/>
      <dgm:t>
        <a:bodyPr/>
        <a:lstStyle/>
        <a:p>
          <a:r>
            <a:rPr lang="ru-RU" sz="1100" dirty="0" smtClean="0"/>
            <a:t>МЛАДШИЕ СОФИСТЫ</a:t>
          </a:r>
          <a:endParaRPr lang="ru-RU" sz="1100" dirty="0"/>
        </a:p>
      </dgm:t>
    </dgm:pt>
    <dgm:pt modelId="{B4C13800-265E-4031-A485-E73BB5B0C2A3}" type="sibTrans" cxnId="{B15D1E90-FC9B-4FDC-A3CC-7A82F7603E39}">
      <dgm:prSet/>
      <dgm:spPr/>
      <dgm:t>
        <a:bodyPr/>
        <a:lstStyle/>
        <a:p>
          <a:endParaRPr lang="ru-RU"/>
        </a:p>
      </dgm:t>
    </dgm:pt>
    <dgm:pt modelId="{93D3A3AE-240B-4ABF-96F0-177A64ED7271}" type="parTrans" cxnId="{B15D1E90-FC9B-4FDC-A3CC-7A82F7603E39}">
      <dgm:prSet/>
      <dgm:spPr/>
      <dgm:t>
        <a:bodyPr/>
        <a:lstStyle/>
        <a:p>
          <a:endParaRPr lang="ru-RU"/>
        </a:p>
      </dgm:t>
    </dgm:pt>
    <dgm:pt modelId="{E0A1E2D1-3CA4-4F17-867A-7C1E82F648E5}">
      <dgm:prSet phldrT="[Текст]" custT="1"/>
      <dgm:spPr/>
      <dgm:t>
        <a:bodyPr/>
        <a:lstStyle/>
        <a:p>
          <a:r>
            <a:rPr lang="ru-RU" sz="1600" dirty="0" smtClean="0"/>
            <a:t> </a:t>
          </a:r>
          <a:r>
            <a:rPr lang="ru-RU" sz="1600" dirty="0" err="1" smtClean="0"/>
            <a:t>Продик</a:t>
          </a:r>
          <a:r>
            <a:rPr lang="ru-RU" sz="1600" dirty="0" smtClean="0"/>
            <a:t> </a:t>
          </a:r>
          <a:r>
            <a:rPr lang="ru-RU" sz="1600" dirty="0" err="1" smtClean="0"/>
            <a:t>Кеосский</a:t>
          </a:r>
          <a:endParaRPr lang="ru-RU" sz="1600" dirty="0"/>
        </a:p>
      </dgm:t>
    </dgm:pt>
    <dgm:pt modelId="{D56DAE5A-F572-4609-852D-4108BA13FF2D}" type="parTrans" cxnId="{D5A78EA3-880A-4C01-A7B6-FE4DE808BA55}">
      <dgm:prSet/>
      <dgm:spPr/>
      <dgm:t>
        <a:bodyPr/>
        <a:lstStyle/>
        <a:p>
          <a:endParaRPr lang="ru-RU"/>
        </a:p>
      </dgm:t>
    </dgm:pt>
    <dgm:pt modelId="{03EBB3F3-7CB5-4CDD-BF01-FADD8156E8BF}" type="sibTrans" cxnId="{D5A78EA3-880A-4C01-A7B6-FE4DE808BA55}">
      <dgm:prSet/>
      <dgm:spPr/>
      <dgm:t>
        <a:bodyPr/>
        <a:lstStyle/>
        <a:p>
          <a:endParaRPr lang="ru-RU"/>
        </a:p>
      </dgm:t>
    </dgm:pt>
    <dgm:pt modelId="{7590C1B0-5922-4B2C-8241-F77495740DD0}">
      <dgm:prSet phldrT="[Текст]" custT="1"/>
      <dgm:spPr/>
      <dgm:t>
        <a:bodyPr/>
        <a:lstStyle/>
        <a:p>
          <a:r>
            <a:rPr lang="ru-RU" sz="1600" dirty="0" err="1" smtClean="0"/>
            <a:t>Антифонт</a:t>
          </a:r>
          <a:endParaRPr lang="ru-RU" sz="1600" dirty="0"/>
        </a:p>
      </dgm:t>
    </dgm:pt>
    <dgm:pt modelId="{2B8BFA0D-E86C-4B72-82B7-CCF1CC70CE2F}" type="parTrans" cxnId="{0E8C4DF4-4CDA-47F9-BC57-FCFD37F81BDF}">
      <dgm:prSet/>
      <dgm:spPr/>
      <dgm:t>
        <a:bodyPr/>
        <a:lstStyle/>
        <a:p>
          <a:endParaRPr lang="ru-RU"/>
        </a:p>
      </dgm:t>
    </dgm:pt>
    <dgm:pt modelId="{66DC2CE2-F0F5-42DF-98DF-89780D38E980}" type="sibTrans" cxnId="{0E8C4DF4-4CDA-47F9-BC57-FCFD37F81BDF}">
      <dgm:prSet/>
      <dgm:spPr/>
      <dgm:t>
        <a:bodyPr/>
        <a:lstStyle/>
        <a:p>
          <a:endParaRPr lang="ru-RU"/>
        </a:p>
      </dgm:t>
    </dgm:pt>
    <dgm:pt modelId="{43578822-CA4E-4D4E-AA85-391071B53359}">
      <dgm:prSet phldrT="[Текст]" custT="1"/>
      <dgm:spPr/>
      <dgm:t>
        <a:bodyPr/>
        <a:lstStyle/>
        <a:p>
          <a:r>
            <a:rPr lang="ru-RU" sz="1600" smtClean="0"/>
            <a:t>Критий </a:t>
          </a:r>
          <a:r>
            <a:rPr lang="ru-RU" sz="1600" dirty="0" smtClean="0"/>
            <a:t>Афинский</a:t>
          </a:r>
          <a:endParaRPr lang="ru-RU" sz="1600" dirty="0"/>
        </a:p>
      </dgm:t>
    </dgm:pt>
    <dgm:pt modelId="{42FDC5AB-6E13-4E41-93B9-82EB8CD48A33}" type="parTrans" cxnId="{E8CD4710-480E-460A-A394-3B70F2F05608}">
      <dgm:prSet/>
      <dgm:spPr/>
      <dgm:t>
        <a:bodyPr/>
        <a:lstStyle/>
        <a:p>
          <a:endParaRPr lang="ru-RU"/>
        </a:p>
      </dgm:t>
    </dgm:pt>
    <dgm:pt modelId="{EA2F913E-F2A0-4185-AB07-7329A7C83E09}" type="sibTrans" cxnId="{E8CD4710-480E-460A-A394-3B70F2F05608}">
      <dgm:prSet/>
      <dgm:spPr/>
      <dgm:t>
        <a:bodyPr/>
        <a:lstStyle/>
        <a:p>
          <a:endParaRPr lang="ru-RU"/>
        </a:p>
      </dgm:t>
    </dgm:pt>
    <dgm:pt modelId="{156BC4C9-E79D-4023-8683-DE40AA0A8B5F}">
      <dgm:prSet phldrT="[Текст]" custT="1"/>
      <dgm:spPr/>
      <dgm:t>
        <a:bodyPr/>
        <a:lstStyle/>
        <a:p>
          <a:r>
            <a:rPr lang="ru-RU" sz="1600" dirty="0" err="1" smtClean="0"/>
            <a:t>Алкидамант</a:t>
          </a:r>
          <a:endParaRPr lang="ru-RU" sz="1600" dirty="0"/>
        </a:p>
      </dgm:t>
    </dgm:pt>
    <dgm:pt modelId="{FA22A297-C8F1-45A8-A535-BCDCF6DB104B}" type="parTrans" cxnId="{6E82CB41-6122-4B5D-8093-EE2C298AB193}">
      <dgm:prSet/>
      <dgm:spPr/>
      <dgm:t>
        <a:bodyPr/>
        <a:lstStyle/>
        <a:p>
          <a:endParaRPr lang="ru-RU"/>
        </a:p>
      </dgm:t>
    </dgm:pt>
    <dgm:pt modelId="{585AAF1F-6AA4-4FD4-A408-62FAC2954E62}" type="sibTrans" cxnId="{6E82CB41-6122-4B5D-8093-EE2C298AB193}">
      <dgm:prSet/>
      <dgm:spPr/>
      <dgm:t>
        <a:bodyPr/>
        <a:lstStyle/>
        <a:p>
          <a:endParaRPr lang="ru-RU"/>
        </a:p>
      </dgm:t>
    </dgm:pt>
    <dgm:pt modelId="{FDE357AC-745A-4239-9B95-1810568B75E0}">
      <dgm:prSet phldrT="[Текст]" custT="1"/>
      <dgm:spPr/>
      <dgm:t>
        <a:bodyPr/>
        <a:lstStyle/>
        <a:p>
          <a:r>
            <a:rPr lang="ru-RU" sz="1600" dirty="0" err="1" smtClean="0"/>
            <a:t>Фрасимах</a:t>
          </a:r>
          <a:endParaRPr lang="ru-RU" sz="1600" dirty="0"/>
        </a:p>
      </dgm:t>
    </dgm:pt>
    <dgm:pt modelId="{835B71D9-2231-4AD9-B0B8-F8BFB823B742}" type="parTrans" cxnId="{809002DC-9AE2-46E2-B949-5CFE1C9D989F}">
      <dgm:prSet/>
      <dgm:spPr/>
      <dgm:t>
        <a:bodyPr/>
        <a:lstStyle/>
        <a:p>
          <a:endParaRPr lang="ru-RU"/>
        </a:p>
      </dgm:t>
    </dgm:pt>
    <dgm:pt modelId="{A5142BD7-84D7-4D20-94EE-145BCC10F761}" type="sibTrans" cxnId="{809002DC-9AE2-46E2-B949-5CFE1C9D989F}">
      <dgm:prSet/>
      <dgm:spPr/>
      <dgm:t>
        <a:bodyPr/>
        <a:lstStyle/>
        <a:p>
          <a:endParaRPr lang="ru-RU"/>
        </a:p>
      </dgm:t>
    </dgm:pt>
    <dgm:pt modelId="{84109B2F-EF72-4025-B194-6E84FE68EEE3}">
      <dgm:prSet phldrT="[Текст]" custT="1"/>
      <dgm:spPr/>
      <dgm:t>
        <a:bodyPr/>
        <a:lstStyle/>
        <a:p>
          <a:r>
            <a:rPr lang="ru-RU" sz="1600" smtClean="0"/>
            <a:t>Горгий </a:t>
          </a:r>
          <a:r>
            <a:rPr lang="ru-RU" sz="1600" dirty="0" smtClean="0"/>
            <a:t>из </a:t>
          </a:r>
          <a:r>
            <a:rPr lang="ru-RU" sz="1600" smtClean="0"/>
            <a:t>Леонтин</a:t>
          </a:r>
          <a:endParaRPr lang="ru-RU" sz="1600" dirty="0"/>
        </a:p>
      </dgm:t>
    </dgm:pt>
    <dgm:pt modelId="{E6897DF6-5DAC-4E3E-BE61-22A43E2DEB5D}" type="parTrans" cxnId="{3EEB807C-D516-4C11-B820-DE0826FA01DB}">
      <dgm:prSet/>
      <dgm:spPr/>
      <dgm:t>
        <a:bodyPr/>
        <a:lstStyle/>
        <a:p>
          <a:endParaRPr lang="ru-RU"/>
        </a:p>
      </dgm:t>
    </dgm:pt>
    <dgm:pt modelId="{0F5B03F7-61C6-4DE6-9510-67764FB8E821}" type="sibTrans" cxnId="{3EEB807C-D516-4C11-B820-DE0826FA01DB}">
      <dgm:prSet/>
      <dgm:spPr/>
      <dgm:t>
        <a:bodyPr/>
        <a:lstStyle/>
        <a:p>
          <a:endParaRPr lang="ru-RU"/>
        </a:p>
      </dgm:t>
    </dgm:pt>
    <dgm:pt modelId="{0F5261CB-566C-42D4-97D9-FAAE3985419C}">
      <dgm:prSet phldrT="[Текст]" custT="1"/>
      <dgm:spPr/>
      <dgm:t>
        <a:bodyPr/>
        <a:lstStyle/>
        <a:p>
          <a:r>
            <a:rPr lang="ru-RU" sz="1600" dirty="0" err="1" smtClean="0"/>
            <a:t>Гиппий</a:t>
          </a:r>
          <a:r>
            <a:rPr lang="ru-RU" sz="1600" dirty="0" smtClean="0"/>
            <a:t> из Элиды</a:t>
          </a:r>
          <a:endParaRPr lang="ru-RU" sz="1600" dirty="0"/>
        </a:p>
      </dgm:t>
    </dgm:pt>
    <dgm:pt modelId="{1665ADEB-B824-45A0-84DE-5D766BABAD11}" type="parTrans" cxnId="{9ED4AC5D-672C-4631-8535-19D1ABE9EEAE}">
      <dgm:prSet/>
      <dgm:spPr/>
      <dgm:t>
        <a:bodyPr/>
        <a:lstStyle/>
        <a:p>
          <a:endParaRPr lang="ru-RU"/>
        </a:p>
      </dgm:t>
    </dgm:pt>
    <dgm:pt modelId="{73034C64-5B7E-44E2-997F-F782491354A6}" type="sibTrans" cxnId="{9ED4AC5D-672C-4631-8535-19D1ABE9EEAE}">
      <dgm:prSet/>
      <dgm:spPr/>
      <dgm:t>
        <a:bodyPr/>
        <a:lstStyle/>
        <a:p>
          <a:endParaRPr lang="ru-RU"/>
        </a:p>
      </dgm:t>
    </dgm:pt>
    <dgm:pt modelId="{C03EDF79-20F8-444B-937F-8E6723682095}" type="pres">
      <dgm:prSet presAssocID="{26C15FB6-D0DF-4E77-B4AC-3F72A488ADEF}" presName="list" presStyleCnt="0">
        <dgm:presLayoutVars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F2B2B9F1-2681-49C2-92CE-39A31CC33236}" type="pres">
      <dgm:prSet presAssocID="{DDE2C94B-3B3E-44AF-B6E5-545AC25C01E4}" presName="posSpace" presStyleCnt="0"/>
      <dgm:spPr/>
    </dgm:pt>
    <dgm:pt modelId="{B6336FAA-3AF5-4692-A9DD-E37B118A02BB}" type="pres">
      <dgm:prSet presAssocID="{DDE2C94B-3B3E-44AF-B6E5-545AC25C01E4}" presName="vertFlow" presStyleCnt="0"/>
      <dgm:spPr/>
    </dgm:pt>
    <dgm:pt modelId="{89F399B0-4060-4BB4-B65D-F91C74A6FE73}" type="pres">
      <dgm:prSet presAssocID="{DDE2C94B-3B3E-44AF-B6E5-545AC25C01E4}" presName="topSpace" presStyleCnt="0"/>
      <dgm:spPr/>
    </dgm:pt>
    <dgm:pt modelId="{8456F6F8-3F91-424B-AE65-CF7918E130D3}" type="pres">
      <dgm:prSet presAssocID="{DDE2C94B-3B3E-44AF-B6E5-545AC25C01E4}" presName="firstComp" presStyleCnt="0"/>
      <dgm:spPr/>
    </dgm:pt>
    <dgm:pt modelId="{B8FA7A76-38B1-4CF1-9CFA-A3EF3BF8EEB3}" type="pres">
      <dgm:prSet presAssocID="{DDE2C94B-3B3E-44AF-B6E5-545AC25C01E4}" presName="firstChild" presStyleLbl="bgAccFollowNode1" presStyleIdx="0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273A3067-35E1-47B6-BEDB-27771CFEE0AD}" type="pres">
      <dgm:prSet presAssocID="{DDE2C94B-3B3E-44AF-B6E5-545AC25C01E4}" presName="firstChildTx" presStyleLbl="bgAccFollowNode1" presStyleIdx="0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D1CEF47-9DEE-489D-A1E0-5B2BB0423059}" type="pres">
      <dgm:prSet presAssocID="{0F5261CB-566C-42D4-97D9-FAAE3985419C}" presName="comp" presStyleCnt="0"/>
      <dgm:spPr/>
    </dgm:pt>
    <dgm:pt modelId="{417164EC-1DA1-4299-84AF-084EFE1924CA}" type="pres">
      <dgm:prSet presAssocID="{0F5261CB-566C-42D4-97D9-FAAE3985419C}" presName="child" presStyleLbl="bgAccFollowNode1" presStyleIdx="1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1D1C7B88-8BE8-4EC1-821E-3C3598BB81DB}" type="pres">
      <dgm:prSet presAssocID="{0F5261CB-566C-42D4-97D9-FAAE3985419C}" presName="childTx" presStyleLbl="bgAccFollowNode1" presStyleIdx="1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169F890-FD0A-4EBC-8EB3-A2D515C6E78D}" type="pres">
      <dgm:prSet presAssocID="{84109B2F-EF72-4025-B194-6E84FE68EEE3}" presName="comp" presStyleCnt="0"/>
      <dgm:spPr/>
    </dgm:pt>
    <dgm:pt modelId="{9FCEC2A1-7D4B-42BE-8829-3ECD50682D84}" type="pres">
      <dgm:prSet presAssocID="{84109B2F-EF72-4025-B194-6E84FE68EEE3}" presName="child" presStyleLbl="bgAccFollowNode1" presStyleIdx="2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58ED1DAF-F7A4-40D3-81DF-6247B22FE450}" type="pres">
      <dgm:prSet presAssocID="{84109B2F-EF72-4025-B194-6E84FE68EEE3}" presName="childTx" presStyleLbl="bgAccFollowNode1" presStyleIdx="2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2E8589D-7859-4106-851E-72BF67B04B9E}" type="pres">
      <dgm:prSet presAssocID="{E0A1E2D1-3CA4-4F17-867A-7C1E82F648E5}" presName="comp" presStyleCnt="0"/>
      <dgm:spPr/>
    </dgm:pt>
    <dgm:pt modelId="{3218969F-67B5-4931-83CB-D8260B8C55F0}" type="pres">
      <dgm:prSet presAssocID="{E0A1E2D1-3CA4-4F17-867A-7C1E82F648E5}" presName="child" presStyleLbl="bgAccFollowNode1" presStyleIdx="3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C632713B-DC10-4BF8-AC90-6F5A89B4A3F4}" type="pres">
      <dgm:prSet presAssocID="{E0A1E2D1-3CA4-4F17-867A-7C1E82F648E5}" presName="childTx" presStyleLbl="bgAccFollowNode1" presStyleIdx="3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B692CA1-1420-41FE-A315-2CBB1676EE67}" type="pres">
      <dgm:prSet presAssocID="{7590C1B0-5922-4B2C-8241-F77495740DD0}" presName="comp" presStyleCnt="0"/>
      <dgm:spPr/>
    </dgm:pt>
    <dgm:pt modelId="{637666E9-09C8-4655-95AA-79B8BB3A3643}" type="pres">
      <dgm:prSet presAssocID="{7590C1B0-5922-4B2C-8241-F77495740DD0}" presName="child" presStyleLbl="bgAccFollowNode1" presStyleIdx="4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AA85DF8F-59F2-4123-AFF5-7107B9C9F334}" type="pres">
      <dgm:prSet presAssocID="{7590C1B0-5922-4B2C-8241-F77495740DD0}" presName="childTx" presStyleLbl="bgAccFollowNode1" presStyleIdx="4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5F5D08A-CE80-4FE7-91B4-0CE413A62113}" type="pres">
      <dgm:prSet presAssocID="{43578822-CA4E-4D4E-AA85-391071B53359}" presName="comp" presStyleCnt="0"/>
      <dgm:spPr/>
    </dgm:pt>
    <dgm:pt modelId="{7F7861AA-5F13-4A3F-80AF-E4C882F37EC3}" type="pres">
      <dgm:prSet presAssocID="{43578822-CA4E-4D4E-AA85-391071B53359}" presName="child" presStyleLbl="bgAccFollowNode1" presStyleIdx="5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35261E58-1EA9-440B-9352-C1EB4C31B7EB}" type="pres">
      <dgm:prSet presAssocID="{43578822-CA4E-4D4E-AA85-391071B53359}" presName="childTx" presStyleLbl="bgAccFollowNode1" presStyleIdx="5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4A2C1CC-48B5-4331-8B5E-04BD7DA72856}" type="pres">
      <dgm:prSet presAssocID="{DDE2C94B-3B3E-44AF-B6E5-545AC25C01E4}" presName="negSpace" presStyleCnt="0"/>
      <dgm:spPr/>
    </dgm:pt>
    <dgm:pt modelId="{286FE83C-F031-4B9D-B0FD-8BF94FA8DCAE}" type="pres">
      <dgm:prSet presAssocID="{DDE2C94B-3B3E-44AF-B6E5-545AC25C01E4}" presName="circle" presStyleLbl="node1" presStyleIdx="0" presStyleCnt="2" custScaleX="138054" custScaleY="116031" custLinFactX="-76461" custLinFactNeighborX="-100000" custLinFactNeighborY="-247"/>
      <dgm:spPr/>
      <dgm:t>
        <a:bodyPr/>
        <a:lstStyle/>
        <a:p>
          <a:endParaRPr lang="ru-RU"/>
        </a:p>
      </dgm:t>
    </dgm:pt>
    <dgm:pt modelId="{79414652-6987-4DD7-AAF6-46C4FBBA73FA}" type="pres">
      <dgm:prSet presAssocID="{72E3803C-FAD2-46DA-809F-1186ADFA1F97}" presName="transSpace" presStyleCnt="0"/>
      <dgm:spPr/>
    </dgm:pt>
    <dgm:pt modelId="{5E4BEAD3-FC51-4F10-81B2-467EDA846B38}" type="pres">
      <dgm:prSet presAssocID="{3021BB07-414A-4E1E-BA6A-39EF465FA49E}" presName="posSpace" presStyleCnt="0"/>
      <dgm:spPr/>
    </dgm:pt>
    <dgm:pt modelId="{0AD8604D-0038-40A4-A12F-AC3D1339DB58}" type="pres">
      <dgm:prSet presAssocID="{3021BB07-414A-4E1E-BA6A-39EF465FA49E}" presName="vertFlow" presStyleCnt="0"/>
      <dgm:spPr/>
    </dgm:pt>
    <dgm:pt modelId="{01D76B20-DE81-47FE-A679-96A4E3A11480}" type="pres">
      <dgm:prSet presAssocID="{3021BB07-414A-4E1E-BA6A-39EF465FA49E}" presName="topSpace" presStyleCnt="0"/>
      <dgm:spPr/>
    </dgm:pt>
    <dgm:pt modelId="{29613BF5-6846-4A00-8556-C9B1ED515BE1}" type="pres">
      <dgm:prSet presAssocID="{3021BB07-414A-4E1E-BA6A-39EF465FA49E}" presName="firstComp" presStyleCnt="0"/>
      <dgm:spPr/>
    </dgm:pt>
    <dgm:pt modelId="{7A7F162F-FF4A-4131-B326-7EF53104BFF0}" type="pres">
      <dgm:prSet presAssocID="{3021BB07-414A-4E1E-BA6A-39EF465FA49E}" presName="firstChild" presStyleLbl="bgAccFollowNode1" presStyleIdx="6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D45657C8-ED50-45A0-896E-74A976E715AF}" type="pres">
      <dgm:prSet presAssocID="{3021BB07-414A-4E1E-BA6A-39EF465FA49E}" presName="firstChildTx" presStyleLbl="bgAccFollowNode1" presStyleIdx="6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CF0FB29-B9F9-4B5E-9044-343996797E55}" type="pres">
      <dgm:prSet presAssocID="{156BC4C9-E79D-4023-8683-DE40AA0A8B5F}" presName="comp" presStyleCnt="0"/>
      <dgm:spPr/>
    </dgm:pt>
    <dgm:pt modelId="{B441093F-29C8-4E21-98E2-DA5334998609}" type="pres">
      <dgm:prSet presAssocID="{156BC4C9-E79D-4023-8683-DE40AA0A8B5F}" presName="child" presStyleLbl="bgAccFollowNode1" presStyleIdx="7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627F5060-26CF-4470-85F4-087060EF8933}" type="pres">
      <dgm:prSet presAssocID="{156BC4C9-E79D-4023-8683-DE40AA0A8B5F}" presName="childTx" presStyleLbl="bgAccFollowNode1" presStyleIdx="7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7B9B598-423E-4785-BA48-6BA0D36C70B2}" type="pres">
      <dgm:prSet presAssocID="{FDE357AC-745A-4239-9B95-1810568B75E0}" presName="comp" presStyleCnt="0"/>
      <dgm:spPr/>
    </dgm:pt>
    <dgm:pt modelId="{B0AFAF23-24F7-4EA4-98AB-93FDC3B3DCAA}" type="pres">
      <dgm:prSet presAssocID="{FDE357AC-745A-4239-9B95-1810568B75E0}" presName="child" presStyleLbl="bgAccFollowNode1" presStyleIdx="8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B09E4BFE-C17B-4C01-8EED-D247B80EDD22}" type="pres">
      <dgm:prSet presAssocID="{FDE357AC-745A-4239-9B95-1810568B75E0}" presName="childTx" presStyleLbl="bgAccFollowNode1" presStyleIdx="8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EB290F3-C640-48C0-AB95-FAD3B0C84424}" type="pres">
      <dgm:prSet presAssocID="{3021BB07-414A-4E1E-BA6A-39EF465FA49E}" presName="negSpace" presStyleCnt="0"/>
      <dgm:spPr/>
    </dgm:pt>
    <dgm:pt modelId="{6FEF7075-9C8D-4E27-904F-5440DDD79BF4}" type="pres">
      <dgm:prSet presAssocID="{3021BB07-414A-4E1E-BA6A-39EF465FA49E}" presName="circle" presStyleLbl="node1" presStyleIdx="1" presStyleCnt="2" custScaleX="138054" custScaleY="116031" custLinFactNeighborX="-65608" custLinFactNeighborY="-5472"/>
      <dgm:spPr/>
      <dgm:t>
        <a:bodyPr/>
        <a:lstStyle/>
        <a:p>
          <a:endParaRPr lang="ru-RU"/>
        </a:p>
      </dgm:t>
    </dgm:pt>
  </dgm:ptLst>
  <dgm:cxnLst>
    <dgm:cxn modelId="{DDDCB6DB-2486-4D62-96DA-EF779BD78D0A}" type="presOf" srcId="{7590C1B0-5922-4B2C-8241-F77495740DD0}" destId="{AA85DF8F-59F2-4123-AFF5-7107B9C9F334}" srcOrd="1" destOrd="0" presId="urn:microsoft.com/office/officeart/2005/8/layout/hList9"/>
    <dgm:cxn modelId="{CD89D427-0128-458D-B30B-71A6F5018EFA}" type="presOf" srcId="{DDE2C94B-3B3E-44AF-B6E5-545AC25C01E4}" destId="{286FE83C-F031-4B9D-B0FD-8BF94FA8DCAE}" srcOrd="0" destOrd="0" presId="urn:microsoft.com/office/officeart/2005/8/layout/hList9"/>
    <dgm:cxn modelId="{735E8C6B-D78B-467A-B43F-619B95EC5E44}" type="presOf" srcId="{43578822-CA4E-4D4E-AA85-391071B53359}" destId="{7F7861AA-5F13-4A3F-80AF-E4C882F37EC3}" srcOrd="0" destOrd="0" presId="urn:microsoft.com/office/officeart/2005/8/layout/hList9"/>
    <dgm:cxn modelId="{6E82CB41-6122-4B5D-8093-EE2C298AB193}" srcId="{3021BB07-414A-4E1E-BA6A-39EF465FA49E}" destId="{156BC4C9-E79D-4023-8683-DE40AA0A8B5F}" srcOrd="1" destOrd="0" parTransId="{FA22A297-C8F1-45A8-A535-BCDCF6DB104B}" sibTransId="{585AAF1F-6AA4-4FD4-A408-62FAC2954E62}"/>
    <dgm:cxn modelId="{E47713F4-24F9-48D4-9187-9DBDCCB38E43}" type="presOf" srcId="{156BC4C9-E79D-4023-8683-DE40AA0A8B5F}" destId="{627F5060-26CF-4470-85F4-087060EF8933}" srcOrd="1" destOrd="0" presId="urn:microsoft.com/office/officeart/2005/8/layout/hList9"/>
    <dgm:cxn modelId="{782FCEAF-C398-48C0-86EE-55D2A9E08BE1}" type="presOf" srcId="{0F5261CB-566C-42D4-97D9-FAAE3985419C}" destId="{417164EC-1DA1-4299-84AF-084EFE1924CA}" srcOrd="0" destOrd="0" presId="urn:microsoft.com/office/officeart/2005/8/layout/hList9"/>
    <dgm:cxn modelId="{932921F4-6D07-4C6E-8B5A-D18D00555A25}" type="presOf" srcId="{84109B2F-EF72-4025-B194-6E84FE68EEE3}" destId="{9FCEC2A1-7D4B-42BE-8829-3ECD50682D84}" srcOrd="0" destOrd="0" presId="urn:microsoft.com/office/officeart/2005/8/layout/hList9"/>
    <dgm:cxn modelId="{59164F3C-82DA-4C30-96CE-F85D9BE0C106}" type="presOf" srcId="{FDE357AC-745A-4239-9B95-1810568B75E0}" destId="{B09E4BFE-C17B-4C01-8EED-D247B80EDD22}" srcOrd="1" destOrd="0" presId="urn:microsoft.com/office/officeart/2005/8/layout/hList9"/>
    <dgm:cxn modelId="{D5A78EA3-880A-4C01-A7B6-FE4DE808BA55}" srcId="{DDE2C94B-3B3E-44AF-B6E5-545AC25C01E4}" destId="{E0A1E2D1-3CA4-4F17-867A-7C1E82F648E5}" srcOrd="3" destOrd="0" parTransId="{D56DAE5A-F572-4609-852D-4108BA13FF2D}" sibTransId="{03EBB3F3-7CB5-4CDD-BF01-FADD8156E8BF}"/>
    <dgm:cxn modelId="{4145E0BF-77B5-4EF0-A2DB-2F6C75A2D38C}" srcId="{26C15FB6-D0DF-4E77-B4AC-3F72A488ADEF}" destId="{DDE2C94B-3B3E-44AF-B6E5-545AC25C01E4}" srcOrd="0" destOrd="0" parTransId="{B68FA175-CB2D-48AA-8B99-19BBC4D35036}" sibTransId="{72E3803C-FAD2-46DA-809F-1186ADFA1F97}"/>
    <dgm:cxn modelId="{94295293-24DA-45B2-8448-E39D0479DC4E}" type="presOf" srcId="{E0A1E2D1-3CA4-4F17-867A-7C1E82F648E5}" destId="{3218969F-67B5-4931-83CB-D8260B8C55F0}" srcOrd="0" destOrd="0" presId="urn:microsoft.com/office/officeart/2005/8/layout/hList9"/>
    <dgm:cxn modelId="{E8CD4710-480E-460A-A394-3B70F2F05608}" srcId="{DDE2C94B-3B3E-44AF-B6E5-545AC25C01E4}" destId="{43578822-CA4E-4D4E-AA85-391071B53359}" srcOrd="5" destOrd="0" parTransId="{42FDC5AB-6E13-4E41-93B9-82EB8CD48A33}" sibTransId="{EA2F913E-F2A0-4185-AB07-7329A7C83E09}"/>
    <dgm:cxn modelId="{0E8C4DF4-4CDA-47F9-BC57-FCFD37F81BDF}" srcId="{DDE2C94B-3B3E-44AF-B6E5-545AC25C01E4}" destId="{7590C1B0-5922-4B2C-8241-F77495740DD0}" srcOrd="4" destOrd="0" parTransId="{2B8BFA0D-E86C-4B72-82B7-CCF1CC70CE2F}" sibTransId="{66DC2CE2-F0F5-42DF-98DF-89780D38E980}"/>
    <dgm:cxn modelId="{301D1E3B-DEE5-490F-AA91-3FA9ED538C82}" type="presOf" srcId="{E0A1E2D1-3CA4-4F17-867A-7C1E82F648E5}" destId="{C632713B-DC10-4BF8-AC90-6F5A89B4A3F4}" srcOrd="1" destOrd="0" presId="urn:microsoft.com/office/officeart/2005/8/layout/hList9"/>
    <dgm:cxn modelId="{9AF8E712-9740-48C6-96DD-0F9ADC035717}" type="presOf" srcId="{7590C1B0-5922-4B2C-8241-F77495740DD0}" destId="{637666E9-09C8-4655-95AA-79B8BB3A3643}" srcOrd="0" destOrd="0" presId="urn:microsoft.com/office/officeart/2005/8/layout/hList9"/>
    <dgm:cxn modelId="{1BDADFDE-EE88-4396-83D6-B7D66618AD07}" type="presOf" srcId="{26C15FB6-D0DF-4E77-B4AC-3F72A488ADEF}" destId="{C03EDF79-20F8-444B-937F-8E6723682095}" srcOrd="0" destOrd="0" presId="urn:microsoft.com/office/officeart/2005/8/layout/hList9"/>
    <dgm:cxn modelId="{978EF460-C8A5-4EE9-BC19-56E6A706190F}" srcId="{DDE2C94B-3B3E-44AF-B6E5-545AC25C01E4}" destId="{B9C9A381-1CC1-40FD-BEE1-F145B7471655}" srcOrd="0" destOrd="0" parTransId="{73B77B14-7804-4472-B7F9-B6AE7A77A132}" sibTransId="{0CC08F3F-019D-44EB-9E3A-311E83E2D9CC}"/>
    <dgm:cxn modelId="{A1547527-BC7F-4C71-9ED8-A3443042CD67}" type="presOf" srcId="{5B1826CF-C9DB-4CC6-9C5D-A1431DA4DD4C}" destId="{D45657C8-ED50-45A0-896E-74A976E715AF}" srcOrd="1" destOrd="0" presId="urn:microsoft.com/office/officeart/2005/8/layout/hList9"/>
    <dgm:cxn modelId="{9ED4AC5D-672C-4631-8535-19D1ABE9EEAE}" srcId="{DDE2C94B-3B3E-44AF-B6E5-545AC25C01E4}" destId="{0F5261CB-566C-42D4-97D9-FAAE3985419C}" srcOrd="1" destOrd="0" parTransId="{1665ADEB-B824-45A0-84DE-5D766BABAD11}" sibTransId="{73034C64-5B7E-44E2-997F-F782491354A6}"/>
    <dgm:cxn modelId="{98F8D115-B0F9-484D-95D6-D798A3BF451E}" type="presOf" srcId="{3021BB07-414A-4E1E-BA6A-39EF465FA49E}" destId="{6FEF7075-9C8D-4E27-904F-5440DDD79BF4}" srcOrd="0" destOrd="0" presId="urn:microsoft.com/office/officeart/2005/8/layout/hList9"/>
    <dgm:cxn modelId="{A39082FE-2F75-453C-8A62-44F1F82F4967}" type="presOf" srcId="{B9C9A381-1CC1-40FD-BEE1-F145B7471655}" destId="{273A3067-35E1-47B6-BEDB-27771CFEE0AD}" srcOrd="1" destOrd="0" presId="urn:microsoft.com/office/officeart/2005/8/layout/hList9"/>
    <dgm:cxn modelId="{373F957F-A14E-4818-8AD2-04729B30F492}" srcId="{3021BB07-414A-4E1E-BA6A-39EF465FA49E}" destId="{5B1826CF-C9DB-4CC6-9C5D-A1431DA4DD4C}" srcOrd="0" destOrd="0" parTransId="{66558D40-FCDF-4431-A1B0-7528FE3FFFFF}" sibTransId="{50517C78-04F3-4BCF-9DEF-1D623651369E}"/>
    <dgm:cxn modelId="{3FAEFF62-A208-440F-99F8-8C3F3A020D43}" type="presOf" srcId="{43578822-CA4E-4D4E-AA85-391071B53359}" destId="{35261E58-1EA9-440B-9352-C1EB4C31B7EB}" srcOrd="1" destOrd="0" presId="urn:microsoft.com/office/officeart/2005/8/layout/hList9"/>
    <dgm:cxn modelId="{BB2D1DF3-5A85-4A8E-9E1B-376018059A3E}" type="presOf" srcId="{0F5261CB-566C-42D4-97D9-FAAE3985419C}" destId="{1D1C7B88-8BE8-4EC1-821E-3C3598BB81DB}" srcOrd="1" destOrd="0" presId="urn:microsoft.com/office/officeart/2005/8/layout/hList9"/>
    <dgm:cxn modelId="{5139AC89-43BB-4C18-BE29-F996477FDD30}" type="presOf" srcId="{FDE357AC-745A-4239-9B95-1810568B75E0}" destId="{B0AFAF23-24F7-4EA4-98AB-93FDC3B3DCAA}" srcOrd="0" destOrd="0" presId="urn:microsoft.com/office/officeart/2005/8/layout/hList9"/>
    <dgm:cxn modelId="{C0D17129-DDF1-4E49-AF76-573B5906DDC2}" type="presOf" srcId="{156BC4C9-E79D-4023-8683-DE40AA0A8B5F}" destId="{B441093F-29C8-4E21-98E2-DA5334998609}" srcOrd="0" destOrd="0" presId="urn:microsoft.com/office/officeart/2005/8/layout/hList9"/>
    <dgm:cxn modelId="{B15D1E90-FC9B-4FDC-A3CC-7A82F7603E39}" srcId="{26C15FB6-D0DF-4E77-B4AC-3F72A488ADEF}" destId="{3021BB07-414A-4E1E-BA6A-39EF465FA49E}" srcOrd="1" destOrd="0" parTransId="{93D3A3AE-240B-4ABF-96F0-177A64ED7271}" sibTransId="{B4C13800-265E-4031-A485-E73BB5B0C2A3}"/>
    <dgm:cxn modelId="{3EEB807C-D516-4C11-B820-DE0826FA01DB}" srcId="{DDE2C94B-3B3E-44AF-B6E5-545AC25C01E4}" destId="{84109B2F-EF72-4025-B194-6E84FE68EEE3}" srcOrd="2" destOrd="0" parTransId="{E6897DF6-5DAC-4E3E-BE61-22A43E2DEB5D}" sibTransId="{0F5B03F7-61C6-4DE6-9510-67764FB8E821}"/>
    <dgm:cxn modelId="{66B015AB-348A-4E17-AFA6-5C3089D5CF3F}" type="presOf" srcId="{84109B2F-EF72-4025-B194-6E84FE68EEE3}" destId="{58ED1DAF-F7A4-40D3-81DF-6247B22FE450}" srcOrd="1" destOrd="0" presId="urn:microsoft.com/office/officeart/2005/8/layout/hList9"/>
    <dgm:cxn modelId="{BC39F7A5-5EC9-46B7-99F5-50D5CEF0D45A}" type="presOf" srcId="{5B1826CF-C9DB-4CC6-9C5D-A1431DA4DD4C}" destId="{7A7F162F-FF4A-4131-B326-7EF53104BFF0}" srcOrd="0" destOrd="0" presId="urn:microsoft.com/office/officeart/2005/8/layout/hList9"/>
    <dgm:cxn modelId="{809002DC-9AE2-46E2-B949-5CFE1C9D989F}" srcId="{3021BB07-414A-4E1E-BA6A-39EF465FA49E}" destId="{FDE357AC-745A-4239-9B95-1810568B75E0}" srcOrd="2" destOrd="0" parTransId="{835B71D9-2231-4AD9-B0B8-F8BFB823B742}" sibTransId="{A5142BD7-84D7-4D20-94EE-145BCC10F761}"/>
    <dgm:cxn modelId="{DB7DA69F-598A-4744-89BE-2E9F49963391}" type="presOf" srcId="{B9C9A381-1CC1-40FD-BEE1-F145B7471655}" destId="{B8FA7A76-38B1-4CF1-9CFA-A3EF3BF8EEB3}" srcOrd="0" destOrd="0" presId="urn:microsoft.com/office/officeart/2005/8/layout/hList9"/>
    <dgm:cxn modelId="{2783E600-EF12-49CB-996E-B7BA5B8F4A07}" type="presParOf" srcId="{C03EDF79-20F8-444B-937F-8E6723682095}" destId="{F2B2B9F1-2681-49C2-92CE-39A31CC33236}" srcOrd="0" destOrd="0" presId="urn:microsoft.com/office/officeart/2005/8/layout/hList9"/>
    <dgm:cxn modelId="{7DBBD82B-4CFE-4D9E-A63C-DD14D198DBAF}" type="presParOf" srcId="{C03EDF79-20F8-444B-937F-8E6723682095}" destId="{B6336FAA-3AF5-4692-A9DD-E37B118A02BB}" srcOrd="1" destOrd="0" presId="urn:microsoft.com/office/officeart/2005/8/layout/hList9"/>
    <dgm:cxn modelId="{EA62FCE6-E6B7-4E4F-9C53-BBAFDE5B5499}" type="presParOf" srcId="{B6336FAA-3AF5-4692-A9DD-E37B118A02BB}" destId="{89F399B0-4060-4BB4-B65D-F91C74A6FE73}" srcOrd="0" destOrd="0" presId="urn:microsoft.com/office/officeart/2005/8/layout/hList9"/>
    <dgm:cxn modelId="{4B099CC6-F564-4550-946E-145E8BA98A73}" type="presParOf" srcId="{B6336FAA-3AF5-4692-A9DD-E37B118A02BB}" destId="{8456F6F8-3F91-424B-AE65-CF7918E130D3}" srcOrd="1" destOrd="0" presId="urn:microsoft.com/office/officeart/2005/8/layout/hList9"/>
    <dgm:cxn modelId="{48D43F30-BB37-4FD2-97A6-A632AE31FAFE}" type="presParOf" srcId="{8456F6F8-3F91-424B-AE65-CF7918E130D3}" destId="{B8FA7A76-38B1-4CF1-9CFA-A3EF3BF8EEB3}" srcOrd="0" destOrd="0" presId="urn:microsoft.com/office/officeart/2005/8/layout/hList9"/>
    <dgm:cxn modelId="{52164E3A-249C-45A6-96D0-568480DA61B8}" type="presParOf" srcId="{8456F6F8-3F91-424B-AE65-CF7918E130D3}" destId="{273A3067-35E1-47B6-BEDB-27771CFEE0AD}" srcOrd="1" destOrd="0" presId="urn:microsoft.com/office/officeart/2005/8/layout/hList9"/>
    <dgm:cxn modelId="{05E15974-0471-4970-B3C5-42468DF0DF04}" type="presParOf" srcId="{B6336FAA-3AF5-4692-A9DD-E37B118A02BB}" destId="{1D1CEF47-9DEE-489D-A1E0-5B2BB0423059}" srcOrd="2" destOrd="0" presId="urn:microsoft.com/office/officeart/2005/8/layout/hList9"/>
    <dgm:cxn modelId="{94353F16-5248-489D-822B-6AD8E13B4DF8}" type="presParOf" srcId="{1D1CEF47-9DEE-489D-A1E0-5B2BB0423059}" destId="{417164EC-1DA1-4299-84AF-084EFE1924CA}" srcOrd="0" destOrd="0" presId="urn:microsoft.com/office/officeart/2005/8/layout/hList9"/>
    <dgm:cxn modelId="{04029C00-09D3-47AC-A9BA-88D64C23CEF2}" type="presParOf" srcId="{1D1CEF47-9DEE-489D-A1E0-5B2BB0423059}" destId="{1D1C7B88-8BE8-4EC1-821E-3C3598BB81DB}" srcOrd="1" destOrd="0" presId="urn:microsoft.com/office/officeart/2005/8/layout/hList9"/>
    <dgm:cxn modelId="{2519A470-BD46-4F69-9906-4D2DCDC2A100}" type="presParOf" srcId="{B6336FAA-3AF5-4692-A9DD-E37B118A02BB}" destId="{6169F890-FD0A-4EBC-8EB3-A2D515C6E78D}" srcOrd="3" destOrd="0" presId="urn:microsoft.com/office/officeart/2005/8/layout/hList9"/>
    <dgm:cxn modelId="{16C7ED58-7AC0-44A1-A3C5-C72227F46DB0}" type="presParOf" srcId="{6169F890-FD0A-4EBC-8EB3-A2D515C6E78D}" destId="{9FCEC2A1-7D4B-42BE-8829-3ECD50682D84}" srcOrd="0" destOrd="0" presId="urn:microsoft.com/office/officeart/2005/8/layout/hList9"/>
    <dgm:cxn modelId="{F233A2BA-D162-40C6-9F60-AD946A5CC3F6}" type="presParOf" srcId="{6169F890-FD0A-4EBC-8EB3-A2D515C6E78D}" destId="{58ED1DAF-F7A4-40D3-81DF-6247B22FE450}" srcOrd="1" destOrd="0" presId="urn:microsoft.com/office/officeart/2005/8/layout/hList9"/>
    <dgm:cxn modelId="{2B960898-5F98-4BFF-8384-1CB65F72ED0F}" type="presParOf" srcId="{B6336FAA-3AF5-4692-A9DD-E37B118A02BB}" destId="{A2E8589D-7859-4106-851E-72BF67B04B9E}" srcOrd="4" destOrd="0" presId="urn:microsoft.com/office/officeart/2005/8/layout/hList9"/>
    <dgm:cxn modelId="{27C45536-8A70-4502-96C9-54721B40ED02}" type="presParOf" srcId="{A2E8589D-7859-4106-851E-72BF67B04B9E}" destId="{3218969F-67B5-4931-83CB-D8260B8C55F0}" srcOrd="0" destOrd="0" presId="urn:microsoft.com/office/officeart/2005/8/layout/hList9"/>
    <dgm:cxn modelId="{237F1815-5D8C-41E6-B766-72C6823E620A}" type="presParOf" srcId="{A2E8589D-7859-4106-851E-72BF67B04B9E}" destId="{C632713B-DC10-4BF8-AC90-6F5A89B4A3F4}" srcOrd="1" destOrd="0" presId="urn:microsoft.com/office/officeart/2005/8/layout/hList9"/>
    <dgm:cxn modelId="{E1484DB5-9F4B-4360-A897-5C9C3F63F5CA}" type="presParOf" srcId="{B6336FAA-3AF5-4692-A9DD-E37B118A02BB}" destId="{EB692CA1-1420-41FE-A315-2CBB1676EE67}" srcOrd="5" destOrd="0" presId="urn:microsoft.com/office/officeart/2005/8/layout/hList9"/>
    <dgm:cxn modelId="{B11AD17A-D95B-47D3-86B6-9CAFC32962A8}" type="presParOf" srcId="{EB692CA1-1420-41FE-A315-2CBB1676EE67}" destId="{637666E9-09C8-4655-95AA-79B8BB3A3643}" srcOrd="0" destOrd="0" presId="urn:microsoft.com/office/officeart/2005/8/layout/hList9"/>
    <dgm:cxn modelId="{729A066D-60B9-46D0-9B80-0A4F85617CFE}" type="presParOf" srcId="{EB692CA1-1420-41FE-A315-2CBB1676EE67}" destId="{AA85DF8F-59F2-4123-AFF5-7107B9C9F334}" srcOrd="1" destOrd="0" presId="urn:microsoft.com/office/officeart/2005/8/layout/hList9"/>
    <dgm:cxn modelId="{14E7AB2B-7DE6-46B6-BB0A-B36F890AEA31}" type="presParOf" srcId="{B6336FAA-3AF5-4692-A9DD-E37B118A02BB}" destId="{25F5D08A-CE80-4FE7-91B4-0CE413A62113}" srcOrd="6" destOrd="0" presId="urn:microsoft.com/office/officeart/2005/8/layout/hList9"/>
    <dgm:cxn modelId="{2ACDADFD-746B-430C-BCA9-D02885717AE8}" type="presParOf" srcId="{25F5D08A-CE80-4FE7-91B4-0CE413A62113}" destId="{7F7861AA-5F13-4A3F-80AF-E4C882F37EC3}" srcOrd="0" destOrd="0" presId="urn:microsoft.com/office/officeart/2005/8/layout/hList9"/>
    <dgm:cxn modelId="{808C023F-3CC1-47CC-98BF-6DA39580A188}" type="presParOf" srcId="{25F5D08A-CE80-4FE7-91B4-0CE413A62113}" destId="{35261E58-1EA9-440B-9352-C1EB4C31B7EB}" srcOrd="1" destOrd="0" presId="urn:microsoft.com/office/officeart/2005/8/layout/hList9"/>
    <dgm:cxn modelId="{6FCE1CD3-5BEB-4D31-84C4-42A74FCB9BC5}" type="presParOf" srcId="{C03EDF79-20F8-444B-937F-8E6723682095}" destId="{24A2C1CC-48B5-4331-8B5E-04BD7DA72856}" srcOrd="2" destOrd="0" presId="urn:microsoft.com/office/officeart/2005/8/layout/hList9"/>
    <dgm:cxn modelId="{C453EE5E-CBE8-4E18-8DA0-15D13733BABB}" type="presParOf" srcId="{C03EDF79-20F8-444B-937F-8E6723682095}" destId="{286FE83C-F031-4B9D-B0FD-8BF94FA8DCAE}" srcOrd="3" destOrd="0" presId="urn:microsoft.com/office/officeart/2005/8/layout/hList9"/>
    <dgm:cxn modelId="{A4EFF244-96FD-43B6-831F-5231A85E3546}" type="presParOf" srcId="{C03EDF79-20F8-444B-937F-8E6723682095}" destId="{79414652-6987-4DD7-AAF6-46C4FBBA73FA}" srcOrd="4" destOrd="0" presId="urn:microsoft.com/office/officeart/2005/8/layout/hList9"/>
    <dgm:cxn modelId="{1AE79571-68FD-461C-BAB7-078CDA104419}" type="presParOf" srcId="{C03EDF79-20F8-444B-937F-8E6723682095}" destId="{5E4BEAD3-FC51-4F10-81B2-467EDA846B38}" srcOrd="5" destOrd="0" presId="urn:microsoft.com/office/officeart/2005/8/layout/hList9"/>
    <dgm:cxn modelId="{3D0BD24E-4E84-4F82-BFF0-5E3D748E9BAE}" type="presParOf" srcId="{C03EDF79-20F8-444B-937F-8E6723682095}" destId="{0AD8604D-0038-40A4-A12F-AC3D1339DB58}" srcOrd="6" destOrd="0" presId="urn:microsoft.com/office/officeart/2005/8/layout/hList9"/>
    <dgm:cxn modelId="{AD4A6C8E-31A1-4A17-B41B-47F12284449B}" type="presParOf" srcId="{0AD8604D-0038-40A4-A12F-AC3D1339DB58}" destId="{01D76B20-DE81-47FE-A679-96A4E3A11480}" srcOrd="0" destOrd="0" presId="urn:microsoft.com/office/officeart/2005/8/layout/hList9"/>
    <dgm:cxn modelId="{B9142CF5-6078-4018-B296-EF30BA556AE3}" type="presParOf" srcId="{0AD8604D-0038-40A4-A12F-AC3D1339DB58}" destId="{29613BF5-6846-4A00-8556-C9B1ED515BE1}" srcOrd="1" destOrd="0" presId="urn:microsoft.com/office/officeart/2005/8/layout/hList9"/>
    <dgm:cxn modelId="{0F2AE860-3749-4855-B561-5BCF7E238C21}" type="presParOf" srcId="{29613BF5-6846-4A00-8556-C9B1ED515BE1}" destId="{7A7F162F-FF4A-4131-B326-7EF53104BFF0}" srcOrd="0" destOrd="0" presId="urn:microsoft.com/office/officeart/2005/8/layout/hList9"/>
    <dgm:cxn modelId="{A106C3E4-B8F9-4D7E-8F05-F1532068AA9D}" type="presParOf" srcId="{29613BF5-6846-4A00-8556-C9B1ED515BE1}" destId="{D45657C8-ED50-45A0-896E-74A976E715AF}" srcOrd="1" destOrd="0" presId="urn:microsoft.com/office/officeart/2005/8/layout/hList9"/>
    <dgm:cxn modelId="{FFD6983C-D36C-40D1-B5DB-817A3B07497F}" type="presParOf" srcId="{0AD8604D-0038-40A4-A12F-AC3D1339DB58}" destId="{3CF0FB29-B9F9-4B5E-9044-343996797E55}" srcOrd="2" destOrd="0" presId="urn:microsoft.com/office/officeart/2005/8/layout/hList9"/>
    <dgm:cxn modelId="{0D7B8794-FD50-499A-A011-17CA21412D89}" type="presParOf" srcId="{3CF0FB29-B9F9-4B5E-9044-343996797E55}" destId="{B441093F-29C8-4E21-98E2-DA5334998609}" srcOrd="0" destOrd="0" presId="urn:microsoft.com/office/officeart/2005/8/layout/hList9"/>
    <dgm:cxn modelId="{B70C1BCD-E8ED-4847-AC20-EB6D97369889}" type="presParOf" srcId="{3CF0FB29-B9F9-4B5E-9044-343996797E55}" destId="{627F5060-26CF-4470-85F4-087060EF8933}" srcOrd="1" destOrd="0" presId="urn:microsoft.com/office/officeart/2005/8/layout/hList9"/>
    <dgm:cxn modelId="{46CC10CA-60A4-4781-99EB-87F52967364C}" type="presParOf" srcId="{0AD8604D-0038-40A4-A12F-AC3D1339DB58}" destId="{C7B9B598-423E-4785-BA48-6BA0D36C70B2}" srcOrd="3" destOrd="0" presId="urn:microsoft.com/office/officeart/2005/8/layout/hList9"/>
    <dgm:cxn modelId="{84CA4322-351C-4470-B7C0-DCE8C2CE0FCA}" type="presParOf" srcId="{C7B9B598-423E-4785-BA48-6BA0D36C70B2}" destId="{B0AFAF23-24F7-4EA4-98AB-93FDC3B3DCAA}" srcOrd="0" destOrd="0" presId="urn:microsoft.com/office/officeart/2005/8/layout/hList9"/>
    <dgm:cxn modelId="{BAFEE254-8A5D-4A18-BDF8-A76FAF5CC421}" type="presParOf" srcId="{C7B9B598-423E-4785-BA48-6BA0D36C70B2}" destId="{B09E4BFE-C17B-4C01-8EED-D247B80EDD22}" srcOrd="1" destOrd="0" presId="urn:microsoft.com/office/officeart/2005/8/layout/hList9"/>
    <dgm:cxn modelId="{DF771BD6-423E-4E1A-B31F-626A5CC8CC5E}" type="presParOf" srcId="{C03EDF79-20F8-444B-937F-8E6723682095}" destId="{0EB290F3-C640-48C0-AB95-FAD3B0C84424}" srcOrd="7" destOrd="0" presId="urn:microsoft.com/office/officeart/2005/8/layout/hList9"/>
    <dgm:cxn modelId="{21182840-34F5-4CB1-A2A7-F8AAB2323F5C}" type="presParOf" srcId="{C03EDF79-20F8-444B-937F-8E6723682095}" destId="{6FEF7075-9C8D-4E27-904F-5440DDD79BF4}" srcOrd="8" destOrd="0" presId="urn:microsoft.com/office/officeart/2005/8/layout/hList9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1BA86179-A959-4326-BE8B-EC541D1F0CB5}" type="doc">
      <dgm:prSet loTypeId="urn:microsoft.com/office/officeart/2005/8/layout/hierarchy4" loCatId="hierarchy" qsTypeId="urn:microsoft.com/office/officeart/2005/8/quickstyle/3d6" qsCatId="3D" csTypeId="urn:microsoft.com/office/officeart/2005/8/colors/accent6_5" csCatId="accent6" phldr="1"/>
      <dgm:spPr/>
      <dgm:t>
        <a:bodyPr/>
        <a:lstStyle/>
        <a:p>
          <a:endParaRPr lang="ru-RU"/>
        </a:p>
      </dgm:t>
    </dgm:pt>
    <dgm:pt modelId="{DFD9F85E-5EAC-4968-BF84-984837BBEA10}">
      <dgm:prSet phldrT="[Текст]"/>
      <dgm:spPr/>
      <dgm:t>
        <a:bodyPr/>
        <a:lstStyle/>
        <a:p>
          <a:r>
            <a:rPr lang="ru-RU" dirty="0" smtClean="0"/>
            <a:t>Уровни знаний</a:t>
          </a:r>
          <a:endParaRPr lang="ru-RU" dirty="0"/>
        </a:p>
      </dgm:t>
    </dgm:pt>
    <dgm:pt modelId="{1582105A-5B58-4689-A11E-71B41E14875F}" type="parTrans" cxnId="{E99FB188-5552-4623-8560-0BCBE2949FA2}">
      <dgm:prSet/>
      <dgm:spPr/>
      <dgm:t>
        <a:bodyPr/>
        <a:lstStyle/>
        <a:p>
          <a:endParaRPr lang="ru-RU"/>
        </a:p>
      </dgm:t>
    </dgm:pt>
    <dgm:pt modelId="{7F2F8793-8241-4CAF-8B8B-222DAA8FC355}" type="sibTrans" cxnId="{E99FB188-5552-4623-8560-0BCBE2949FA2}">
      <dgm:prSet/>
      <dgm:spPr/>
      <dgm:t>
        <a:bodyPr/>
        <a:lstStyle/>
        <a:p>
          <a:endParaRPr lang="ru-RU"/>
        </a:p>
      </dgm:t>
    </dgm:pt>
    <dgm:pt modelId="{EA48A1D9-7CF1-419F-983F-7C1424762692}">
      <dgm:prSet phldrT="[Текст]"/>
      <dgm:spPr/>
      <dgm:t>
        <a:bodyPr/>
        <a:lstStyle/>
        <a:p>
          <a:r>
            <a:rPr lang="ru-RU" dirty="0" smtClean="0"/>
            <a:t>естественный</a:t>
          </a:r>
          <a:endParaRPr lang="ru-RU" dirty="0"/>
        </a:p>
      </dgm:t>
    </dgm:pt>
    <dgm:pt modelId="{A7015777-F013-4B2C-AA8D-3D007DD95885}" type="parTrans" cxnId="{EAAB4121-895D-43F6-8018-BD2BAD63C377}">
      <dgm:prSet/>
      <dgm:spPr/>
      <dgm:t>
        <a:bodyPr/>
        <a:lstStyle/>
        <a:p>
          <a:endParaRPr lang="ru-RU"/>
        </a:p>
      </dgm:t>
    </dgm:pt>
    <dgm:pt modelId="{23BE08A7-A566-4DBD-AF03-7EB115C33B6F}" type="sibTrans" cxnId="{EAAB4121-895D-43F6-8018-BD2BAD63C377}">
      <dgm:prSet/>
      <dgm:spPr/>
      <dgm:t>
        <a:bodyPr/>
        <a:lstStyle/>
        <a:p>
          <a:endParaRPr lang="ru-RU"/>
        </a:p>
      </dgm:t>
    </dgm:pt>
    <dgm:pt modelId="{6202734A-FCF8-492D-B477-D34CC1FAC3A8}">
      <dgm:prSet phldrT="[Текст]"/>
      <dgm:spPr/>
      <dgm:t>
        <a:bodyPr/>
        <a:lstStyle/>
        <a:p>
          <a:r>
            <a:rPr lang="ru-RU" dirty="0" smtClean="0"/>
            <a:t>социально-нравственный</a:t>
          </a:r>
          <a:endParaRPr lang="ru-RU" dirty="0"/>
        </a:p>
      </dgm:t>
    </dgm:pt>
    <dgm:pt modelId="{F18F99EF-3987-4115-83D0-8AFE7761D55B}" type="parTrans" cxnId="{FF3757F9-7C81-45D5-B622-2334167FF00E}">
      <dgm:prSet/>
      <dgm:spPr/>
      <dgm:t>
        <a:bodyPr/>
        <a:lstStyle/>
        <a:p>
          <a:endParaRPr lang="ru-RU"/>
        </a:p>
      </dgm:t>
    </dgm:pt>
    <dgm:pt modelId="{9D01620C-1F16-42DA-8BA8-231DAC6D1B0D}" type="sibTrans" cxnId="{FF3757F9-7C81-45D5-B622-2334167FF00E}">
      <dgm:prSet/>
      <dgm:spPr/>
      <dgm:t>
        <a:bodyPr/>
        <a:lstStyle/>
        <a:p>
          <a:endParaRPr lang="ru-RU"/>
        </a:p>
      </dgm:t>
    </dgm:pt>
    <dgm:pt modelId="{350750AA-A109-444B-82E6-D7CDDC030A12}" type="pres">
      <dgm:prSet presAssocID="{1BA86179-A959-4326-BE8B-EC541D1F0CB5}" presName="Name0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uk-UA"/>
        </a:p>
      </dgm:t>
    </dgm:pt>
    <dgm:pt modelId="{07096D1C-1847-475F-A4A5-6BFE1BFE1D8C}" type="pres">
      <dgm:prSet presAssocID="{DFD9F85E-5EAC-4968-BF84-984837BBEA10}" presName="vertOne" presStyleCnt="0"/>
      <dgm:spPr/>
    </dgm:pt>
    <dgm:pt modelId="{E1A09531-AF1A-40C4-868D-F375F99D98D6}" type="pres">
      <dgm:prSet presAssocID="{DFD9F85E-5EAC-4968-BF84-984837BBEA10}" presName="txOne" presStyleLbl="node0" presStyleIdx="0" presStyleCnt="1" custLinFactNeighborX="-410" custLinFactNeighborY="-5733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F47191C1-4903-43A0-9A20-D44BFA451FCD}" type="pres">
      <dgm:prSet presAssocID="{DFD9F85E-5EAC-4968-BF84-984837BBEA10}" presName="parTransOne" presStyleCnt="0"/>
      <dgm:spPr/>
    </dgm:pt>
    <dgm:pt modelId="{D734B2E6-0A79-41DB-AB26-19DEEF957FF7}" type="pres">
      <dgm:prSet presAssocID="{DFD9F85E-5EAC-4968-BF84-984837BBEA10}" presName="horzOne" presStyleCnt="0"/>
      <dgm:spPr/>
    </dgm:pt>
    <dgm:pt modelId="{D7AB0BF9-2C97-4172-80CC-9052236D971D}" type="pres">
      <dgm:prSet presAssocID="{EA48A1D9-7CF1-419F-983F-7C1424762692}" presName="vertTwo" presStyleCnt="0"/>
      <dgm:spPr/>
    </dgm:pt>
    <dgm:pt modelId="{804C83BC-FC8F-408B-B420-001F06197566}" type="pres">
      <dgm:prSet presAssocID="{EA48A1D9-7CF1-419F-983F-7C1424762692}" presName="txTwo" presStyleLbl="node2" presStyleIdx="0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7D712ED0-D54A-4E3F-8549-3D9B9D49FA83}" type="pres">
      <dgm:prSet presAssocID="{EA48A1D9-7CF1-419F-983F-7C1424762692}" presName="horzTwo" presStyleCnt="0"/>
      <dgm:spPr/>
    </dgm:pt>
    <dgm:pt modelId="{6A5AE4C2-6BAB-4653-B0C8-BB2196D7DE0C}" type="pres">
      <dgm:prSet presAssocID="{23BE08A7-A566-4DBD-AF03-7EB115C33B6F}" presName="sibSpaceTwo" presStyleCnt="0"/>
      <dgm:spPr/>
    </dgm:pt>
    <dgm:pt modelId="{FDDBEB08-1895-44D6-A55D-6EF93A6237C7}" type="pres">
      <dgm:prSet presAssocID="{6202734A-FCF8-492D-B477-D34CC1FAC3A8}" presName="vertTwo" presStyleCnt="0"/>
      <dgm:spPr/>
    </dgm:pt>
    <dgm:pt modelId="{A558E71E-DCA3-4CDD-B371-BF27A0A4E5B6}" type="pres">
      <dgm:prSet presAssocID="{6202734A-FCF8-492D-B477-D34CC1FAC3A8}" presName="txTwo" presStyleLbl="node2" presStyleIdx="1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6E71421F-0FB1-47E2-9F14-4E60246CE214}" type="pres">
      <dgm:prSet presAssocID="{6202734A-FCF8-492D-B477-D34CC1FAC3A8}" presName="horzTwo" presStyleCnt="0"/>
      <dgm:spPr/>
    </dgm:pt>
  </dgm:ptLst>
  <dgm:cxnLst>
    <dgm:cxn modelId="{2AC58FC7-2286-4E11-A100-EB72F4D85123}" type="presOf" srcId="{EA48A1D9-7CF1-419F-983F-7C1424762692}" destId="{804C83BC-FC8F-408B-B420-001F06197566}" srcOrd="0" destOrd="0" presId="urn:microsoft.com/office/officeart/2005/8/layout/hierarchy4"/>
    <dgm:cxn modelId="{41459797-7F37-4760-8ACC-1E9F12CDDB8A}" type="presOf" srcId="{DFD9F85E-5EAC-4968-BF84-984837BBEA10}" destId="{E1A09531-AF1A-40C4-868D-F375F99D98D6}" srcOrd="0" destOrd="0" presId="urn:microsoft.com/office/officeart/2005/8/layout/hierarchy4"/>
    <dgm:cxn modelId="{EAAB4121-895D-43F6-8018-BD2BAD63C377}" srcId="{DFD9F85E-5EAC-4968-BF84-984837BBEA10}" destId="{EA48A1D9-7CF1-419F-983F-7C1424762692}" srcOrd="0" destOrd="0" parTransId="{A7015777-F013-4B2C-AA8D-3D007DD95885}" sibTransId="{23BE08A7-A566-4DBD-AF03-7EB115C33B6F}"/>
    <dgm:cxn modelId="{9FDF5B13-C7FB-46D0-BF1E-BBA210F029E8}" type="presOf" srcId="{1BA86179-A959-4326-BE8B-EC541D1F0CB5}" destId="{350750AA-A109-444B-82E6-D7CDDC030A12}" srcOrd="0" destOrd="0" presId="urn:microsoft.com/office/officeart/2005/8/layout/hierarchy4"/>
    <dgm:cxn modelId="{FF3757F9-7C81-45D5-B622-2334167FF00E}" srcId="{DFD9F85E-5EAC-4968-BF84-984837BBEA10}" destId="{6202734A-FCF8-492D-B477-D34CC1FAC3A8}" srcOrd="1" destOrd="0" parTransId="{F18F99EF-3987-4115-83D0-8AFE7761D55B}" sibTransId="{9D01620C-1F16-42DA-8BA8-231DAC6D1B0D}"/>
    <dgm:cxn modelId="{32378F30-7C0A-4E41-8B2F-9565A1FD03BF}" type="presOf" srcId="{6202734A-FCF8-492D-B477-D34CC1FAC3A8}" destId="{A558E71E-DCA3-4CDD-B371-BF27A0A4E5B6}" srcOrd="0" destOrd="0" presId="urn:microsoft.com/office/officeart/2005/8/layout/hierarchy4"/>
    <dgm:cxn modelId="{E99FB188-5552-4623-8560-0BCBE2949FA2}" srcId="{1BA86179-A959-4326-BE8B-EC541D1F0CB5}" destId="{DFD9F85E-5EAC-4968-BF84-984837BBEA10}" srcOrd="0" destOrd="0" parTransId="{1582105A-5B58-4689-A11E-71B41E14875F}" sibTransId="{7F2F8793-8241-4CAF-8B8B-222DAA8FC355}"/>
    <dgm:cxn modelId="{6FD27CE4-6CF5-4C2F-A5C2-F8708ECD2DE5}" type="presParOf" srcId="{350750AA-A109-444B-82E6-D7CDDC030A12}" destId="{07096D1C-1847-475F-A4A5-6BFE1BFE1D8C}" srcOrd="0" destOrd="0" presId="urn:microsoft.com/office/officeart/2005/8/layout/hierarchy4"/>
    <dgm:cxn modelId="{9B5B307B-1025-4342-B65F-DD98B8F0D77B}" type="presParOf" srcId="{07096D1C-1847-475F-A4A5-6BFE1BFE1D8C}" destId="{E1A09531-AF1A-40C4-868D-F375F99D98D6}" srcOrd="0" destOrd="0" presId="urn:microsoft.com/office/officeart/2005/8/layout/hierarchy4"/>
    <dgm:cxn modelId="{9EF738A8-C710-4625-9CA2-717F1A4A1CCF}" type="presParOf" srcId="{07096D1C-1847-475F-A4A5-6BFE1BFE1D8C}" destId="{F47191C1-4903-43A0-9A20-D44BFA451FCD}" srcOrd="1" destOrd="0" presId="urn:microsoft.com/office/officeart/2005/8/layout/hierarchy4"/>
    <dgm:cxn modelId="{699BDABE-1880-4BEC-9A6F-407D2FA773CA}" type="presParOf" srcId="{07096D1C-1847-475F-A4A5-6BFE1BFE1D8C}" destId="{D734B2E6-0A79-41DB-AB26-19DEEF957FF7}" srcOrd="2" destOrd="0" presId="urn:microsoft.com/office/officeart/2005/8/layout/hierarchy4"/>
    <dgm:cxn modelId="{C63012F2-E309-4DB8-B2AB-DAFF30BB7B3D}" type="presParOf" srcId="{D734B2E6-0A79-41DB-AB26-19DEEF957FF7}" destId="{D7AB0BF9-2C97-4172-80CC-9052236D971D}" srcOrd="0" destOrd="0" presId="urn:microsoft.com/office/officeart/2005/8/layout/hierarchy4"/>
    <dgm:cxn modelId="{B665E0FF-8B7F-48C4-8A89-843F6E5D04F8}" type="presParOf" srcId="{D7AB0BF9-2C97-4172-80CC-9052236D971D}" destId="{804C83BC-FC8F-408B-B420-001F06197566}" srcOrd="0" destOrd="0" presId="urn:microsoft.com/office/officeart/2005/8/layout/hierarchy4"/>
    <dgm:cxn modelId="{AFE288A7-4E07-41D1-AD58-31E995DF7D0C}" type="presParOf" srcId="{D7AB0BF9-2C97-4172-80CC-9052236D971D}" destId="{7D712ED0-D54A-4E3F-8549-3D9B9D49FA83}" srcOrd="1" destOrd="0" presId="urn:microsoft.com/office/officeart/2005/8/layout/hierarchy4"/>
    <dgm:cxn modelId="{055DE955-28DB-4E93-BB8C-08E970BFC0E0}" type="presParOf" srcId="{D734B2E6-0A79-41DB-AB26-19DEEF957FF7}" destId="{6A5AE4C2-6BAB-4653-B0C8-BB2196D7DE0C}" srcOrd="1" destOrd="0" presId="urn:microsoft.com/office/officeart/2005/8/layout/hierarchy4"/>
    <dgm:cxn modelId="{7A00857D-7801-4C7F-9475-7DD2A8ECD4EA}" type="presParOf" srcId="{D734B2E6-0A79-41DB-AB26-19DEEF957FF7}" destId="{FDDBEB08-1895-44D6-A55D-6EF93A6237C7}" srcOrd="2" destOrd="0" presId="urn:microsoft.com/office/officeart/2005/8/layout/hierarchy4"/>
    <dgm:cxn modelId="{07EF4BEF-272C-43F8-85C0-CAB509D92F63}" type="presParOf" srcId="{FDDBEB08-1895-44D6-A55D-6EF93A6237C7}" destId="{A558E71E-DCA3-4CDD-B371-BF27A0A4E5B6}" srcOrd="0" destOrd="0" presId="urn:microsoft.com/office/officeart/2005/8/layout/hierarchy4"/>
    <dgm:cxn modelId="{F9B60E7B-7E3B-4790-A450-8A09968519D1}" type="presParOf" srcId="{FDDBEB08-1895-44D6-A55D-6EF93A6237C7}" destId="{6E71421F-0FB1-47E2-9F14-4E60246CE214}" srcOrd="1" destOrd="0" presId="urn:microsoft.com/office/officeart/2005/8/layout/hierarchy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8FA7A76-38B1-4CF1-9CFA-A3EF3BF8EEB3}">
      <dsp:nvSpPr>
        <dsp:cNvPr id="0" name=""/>
        <dsp:cNvSpPr/>
      </dsp:nvSpPr>
      <dsp:spPr>
        <a:xfrm>
          <a:off x="1008105" y="28803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Протагор </a:t>
          </a:r>
          <a:r>
            <a:rPr lang="ru-RU" sz="1600" kern="1200" dirty="0" err="1" smtClean="0"/>
            <a:t>Абдерский</a:t>
          </a:r>
          <a:endParaRPr lang="ru-RU" sz="1600" kern="1200" dirty="0"/>
        </a:p>
      </dsp:txBody>
      <dsp:txXfrm>
        <a:off x="1320533" y="288034"/>
        <a:ext cx="1640247" cy="798094"/>
      </dsp:txXfrm>
    </dsp:sp>
    <dsp:sp modelId="{417164EC-1DA1-4299-84AF-084EFE1924CA}">
      <dsp:nvSpPr>
        <dsp:cNvPr id="0" name=""/>
        <dsp:cNvSpPr/>
      </dsp:nvSpPr>
      <dsp:spPr>
        <a:xfrm>
          <a:off x="1008105" y="1086129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Гиппий</a:t>
          </a:r>
          <a:r>
            <a:rPr lang="ru-RU" sz="1600" kern="1200" dirty="0" smtClean="0"/>
            <a:t> из Элиды</a:t>
          </a:r>
          <a:endParaRPr lang="ru-RU" sz="1600" kern="1200" dirty="0"/>
        </a:p>
      </dsp:txBody>
      <dsp:txXfrm>
        <a:off x="1320533" y="1086129"/>
        <a:ext cx="1640247" cy="798094"/>
      </dsp:txXfrm>
    </dsp:sp>
    <dsp:sp modelId="{9FCEC2A1-7D4B-42BE-8829-3ECD50682D84}">
      <dsp:nvSpPr>
        <dsp:cNvPr id="0" name=""/>
        <dsp:cNvSpPr/>
      </dsp:nvSpPr>
      <dsp:spPr>
        <a:xfrm>
          <a:off x="1008105" y="188422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smtClean="0"/>
            <a:t>Горгий </a:t>
          </a:r>
          <a:r>
            <a:rPr lang="ru-RU" sz="1600" kern="1200" dirty="0" smtClean="0"/>
            <a:t>из </a:t>
          </a:r>
          <a:r>
            <a:rPr lang="ru-RU" sz="1600" kern="1200" smtClean="0"/>
            <a:t>Леонтин</a:t>
          </a:r>
          <a:endParaRPr lang="ru-RU" sz="1600" kern="1200" dirty="0"/>
        </a:p>
      </dsp:txBody>
      <dsp:txXfrm>
        <a:off x="1320533" y="1884224"/>
        <a:ext cx="1640247" cy="798094"/>
      </dsp:txXfrm>
    </dsp:sp>
    <dsp:sp modelId="{3218969F-67B5-4931-83CB-D8260B8C55F0}">
      <dsp:nvSpPr>
        <dsp:cNvPr id="0" name=""/>
        <dsp:cNvSpPr/>
      </dsp:nvSpPr>
      <dsp:spPr>
        <a:xfrm>
          <a:off x="1008105" y="2682319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 </a:t>
          </a:r>
          <a:r>
            <a:rPr lang="ru-RU" sz="1600" kern="1200" dirty="0" err="1" smtClean="0"/>
            <a:t>Продик</a:t>
          </a:r>
          <a:r>
            <a:rPr lang="ru-RU" sz="1600" kern="1200" dirty="0" smtClean="0"/>
            <a:t> </a:t>
          </a:r>
          <a:r>
            <a:rPr lang="ru-RU" sz="1600" kern="1200" dirty="0" err="1" smtClean="0"/>
            <a:t>Кеосский</a:t>
          </a:r>
          <a:endParaRPr lang="ru-RU" sz="1600" kern="1200" dirty="0"/>
        </a:p>
      </dsp:txBody>
      <dsp:txXfrm>
        <a:off x="1320533" y="2682319"/>
        <a:ext cx="1640247" cy="798094"/>
      </dsp:txXfrm>
    </dsp:sp>
    <dsp:sp modelId="{637666E9-09C8-4655-95AA-79B8BB3A3643}">
      <dsp:nvSpPr>
        <dsp:cNvPr id="0" name=""/>
        <dsp:cNvSpPr/>
      </dsp:nvSpPr>
      <dsp:spPr>
        <a:xfrm>
          <a:off x="1008105" y="348041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Антифонт</a:t>
          </a:r>
          <a:endParaRPr lang="ru-RU" sz="1600" kern="1200" dirty="0"/>
        </a:p>
      </dsp:txBody>
      <dsp:txXfrm>
        <a:off x="1320533" y="3480414"/>
        <a:ext cx="1640247" cy="798094"/>
      </dsp:txXfrm>
    </dsp:sp>
    <dsp:sp modelId="{7F7861AA-5F13-4A3F-80AF-E4C882F37EC3}">
      <dsp:nvSpPr>
        <dsp:cNvPr id="0" name=""/>
        <dsp:cNvSpPr/>
      </dsp:nvSpPr>
      <dsp:spPr>
        <a:xfrm>
          <a:off x="1008105" y="4278508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smtClean="0"/>
            <a:t>Критий </a:t>
          </a:r>
          <a:r>
            <a:rPr lang="ru-RU" sz="1600" kern="1200" dirty="0" smtClean="0"/>
            <a:t>Афинский</a:t>
          </a:r>
          <a:endParaRPr lang="ru-RU" sz="1600" kern="1200" dirty="0"/>
        </a:p>
      </dsp:txBody>
      <dsp:txXfrm>
        <a:off x="1320533" y="4278508"/>
        <a:ext cx="1640247" cy="798094"/>
      </dsp:txXfrm>
    </dsp:sp>
    <dsp:sp modelId="{286FE83C-F031-4B9D-B0FD-8BF94FA8DCAE}">
      <dsp:nvSpPr>
        <dsp:cNvPr id="0" name=""/>
        <dsp:cNvSpPr/>
      </dsp:nvSpPr>
      <dsp:spPr>
        <a:xfrm>
          <a:off x="87721" y="489"/>
          <a:ext cx="1101251" cy="92557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kern="1200" dirty="0" smtClean="0"/>
            <a:t>СТАРШИЕ СОФИСТЫ</a:t>
          </a:r>
          <a:endParaRPr lang="ru-RU" sz="1100" kern="1200" dirty="0"/>
        </a:p>
      </dsp:txBody>
      <dsp:txXfrm>
        <a:off x="248995" y="136036"/>
        <a:ext cx="778703" cy="654480"/>
      </dsp:txXfrm>
    </dsp:sp>
    <dsp:sp modelId="{7A7F162F-FF4A-4131-B326-7EF53104BFF0}">
      <dsp:nvSpPr>
        <dsp:cNvPr id="0" name=""/>
        <dsp:cNvSpPr/>
      </dsp:nvSpPr>
      <dsp:spPr>
        <a:xfrm>
          <a:off x="4634550" y="321530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Ликофрон</a:t>
          </a:r>
          <a:endParaRPr lang="ru-RU" sz="1600" kern="1200" dirty="0"/>
        </a:p>
      </dsp:txBody>
      <dsp:txXfrm>
        <a:off x="4946979" y="321530"/>
        <a:ext cx="1640247" cy="798094"/>
      </dsp:txXfrm>
    </dsp:sp>
    <dsp:sp modelId="{B441093F-29C8-4E21-98E2-DA5334998609}">
      <dsp:nvSpPr>
        <dsp:cNvPr id="0" name=""/>
        <dsp:cNvSpPr/>
      </dsp:nvSpPr>
      <dsp:spPr>
        <a:xfrm>
          <a:off x="4634550" y="1119625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Алкидамант</a:t>
          </a:r>
          <a:endParaRPr lang="ru-RU" sz="1600" kern="1200" dirty="0"/>
        </a:p>
      </dsp:txBody>
      <dsp:txXfrm>
        <a:off x="4946979" y="1119625"/>
        <a:ext cx="1640247" cy="798094"/>
      </dsp:txXfrm>
    </dsp:sp>
    <dsp:sp modelId="{B0AFAF23-24F7-4EA4-98AB-93FDC3B3DCAA}">
      <dsp:nvSpPr>
        <dsp:cNvPr id="0" name=""/>
        <dsp:cNvSpPr/>
      </dsp:nvSpPr>
      <dsp:spPr>
        <a:xfrm>
          <a:off x="4634550" y="1917720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Фрасимах</a:t>
          </a:r>
          <a:endParaRPr lang="ru-RU" sz="1600" kern="1200" dirty="0"/>
        </a:p>
      </dsp:txBody>
      <dsp:txXfrm>
        <a:off x="4946979" y="1917720"/>
        <a:ext cx="1640247" cy="798094"/>
      </dsp:txXfrm>
    </dsp:sp>
    <dsp:sp modelId="{6FEF7075-9C8D-4E27-904F-5440DDD79BF4}">
      <dsp:nvSpPr>
        <dsp:cNvPr id="0" name=""/>
        <dsp:cNvSpPr/>
      </dsp:nvSpPr>
      <dsp:spPr>
        <a:xfrm>
          <a:off x="3744408" y="0"/>
          <a:ext cx="1101251" cy="92557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kern="1200" dirty="0" smtClean="0"/>
            <a:t>МЛАДШИЕ СОФИСТЫ</a:t>
          </a:r>
          <a:endParaRPr lang="ru-RU" sz="1100" kern="1200" dirty="0"/>
        </a:p>
      </dsp:txBody>
      <dsp:txXfrm>
        <a:off x="3905682" y="135547"/>
        <a:ext cx="778703" cy="654480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E1A09531-AF1A-40C4-868D-F375F99D98D6}">
      <dsp:nvSpPr>
        <dsp:cNvPr id="0" name=""/>
        <dsp:cNvSpPr/>
      </dsp:nvSpPr>
      <dsp:spPr>
        <a:xfrm>
          <a:off x="0" y="0"/>
          <a:ext cx="6547890" cy="1066618"/>
        </a:xfrm>
        <a:prstGeom prst="roundRect">
          <a:avLst>
            <a:gd name="adj" fmla="val 10000"/>
          </a:avLst>
        </a:prstGeom>
        <a:solidFill>
          <a:schemeClr val="accent6">
            <a:alpha val="8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9070" tIns="179070" rIns="179070" bIns="179070" numCol="1" spcCol="1270" anchor="ctr" anchorCtr="0">
          <a:noAutofit/>
        </a:bodyPr>
        <a:lstStyle/>
        <a:p>
          <a:pPr lvl="0" algn="ctr" defTabSz="2089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700" kern="1200" dirty="0" smtClean="0"/>
            <a:t>Уровни знаний</a:t>
          </a:r>
          <a:endParaRPr lang="ru-RU" sz="4700" kern="1200" dirty="0"/>
        </a:p>
      </dsp:txBody>
      <dsp:txXfrm>
        <a:off x="31240" y="31240"/>
        <a:ext cx="6485410" cy="1004138"/>
      </dsp:txXfrm>
    </dsp:sp>
    <dsp:sp modelId="{804C83BC-FC8F-408B-B420-001F06197566}">
      <dsp:nvSpPr>
        <dsp:cNvPr id="0" name=""/>
        <dsp:cNvSpPr/>
      </dsp:nvSpPr>
      <dsp:spPr>
        <a:xfrm>
          <a:off x="2418" y="1237057"/>
          <a:ext cx="3141981" cy="1066618"/>
        </a:xfrm>
        <a:prstGeom prst="roundRect">
          <a:avLst>
            <a:gd name="adj" fmla="val 10000"/>
          </a:avLst>
        </a:prstGeom>
        <a:solidFill>
          <a:schemeClr val="accent6">
            <a:alpha val="7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900" kern="1200" dirty="0" smtClean="0"/>
            <a:t>естественный</a:t>
          </a:r>
          <a:endParaRPr lang="ru-RU" sz="2900" kern="1200" dirty="0"/>
        </a:p>
      </dsp:txBody>
      <dsp:txXfrm>
        <a:off x="33658" y="1268297"/>
        <a:ext cx="3079501" cy="1004138"/>
      </dsp:txXfrm>
    </dsp:sp>
    <dsp:sp modelId="{A558E71E-DCA3-4CDD-B371-BF27A0A4E5B6}">
      <dsp:nvSpPr>
        <dsp:cNvPr id="0" name=""/>
        <dsp:cNvSpPr/>
      </dsp:nvSpPr>
      <dsp:spPr>
        <a:xfrm>
          <a:off x="3408327" y="1237057"/>
          <a:ext cx="3141981" cy="1066618"/>
        </a:xfrm>
        <a:prstGeom prst="roundRect">
          <a:avLst>
            <a:gd name="adj" fmla="val 10000"/>
          </a:avLst>
        </a:prstGeom>
        <a:solidFill>
          <a:schemeClr val="accent6">
            <a:alpha val="7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900" kern="1200" dirty="0" smtClean="0"/>
            <a:t>социально-нравственный</a:t>
          </a:r>
          <a:endParaRPr lang="ru-RU" sz="2900" kern="1200" dirty="0"/>
        </a:p>
      </dsp:txBody>
      <dsp:txXfrm>
        <a:off x="3439567" y="1268297"/>
        <a:ext cx="3079501" cy="1004138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List9">
  <dgm:title val=""/>
  <dgm:desc val=""/>
  <dgm:catLst>
    <dgm:cat type="list" pri="8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</dgm:ptLst>
      <dgm:cxnLst>
        <dgm:cxn modelId="3" srcId="0" destId="1" srcOrd="0" destOrd="0"/>
        <dgm:cxn modelId="4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1" destId="2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2"/>
        <dgm:pt modelId="21"/>
        <dgm:pt modelId="22"/>
        <dgm:pt modelId="23"/>
        <dgm:pt modelId="24"/>
        <dgm:pt modelId="3"/>
        <dgm:pt modelId="31"/>
        <dgm:pt modelId="32"/>
        <dgm:pt modelId="33"/>
        <dgm:pt modelId="34"/>
      </dgm:ptLst>
      <dgm:cxnLst>
        <dgm:cxn modelId="4" srcId="0" destId="1" srcOrd="0" destOrd="0"/>
        <dgm:cxn modelId="5" srcId="0" destId="2" srcOrd="1" destOrd="0"/>
        <dgm:cxn modelId="6" srcId="0" destId="3" srcOrd="1" destOrd="0"/>
        <dgm:cxn modelId="15" srcId="1" destId="11" srcOrd="0" destOrd="0"/>
        <dgm:cxn modelId="16" srcId="1" destId="12" srcOrd="0" destOrd="0"/>
        <dgm:cxn modelId="17" srcId="1" destId="13" srcOrd="0" destOrd="0"/>
        <dgm:cxn modelId="18" srcId="1" destId="14" srcOrd="0" destOrd="0"/>
        <dgm:cxn modelId="25" srcId="2" destId="21" srcOrd="0" destOrd="0"/>
        <dgm:cxn modelId="26" srcId="2" destId="22" srcOrd="0" destOrd="0"/>
        <dgm:cxn modelId="27" srcId="2" destId="23" srcOrd="0" destOrd="0"/>
        <dgm:cxn modelId="28" srcId="2" destId="24" srcOrd="0" destOrd="0"/>
        <dgm:cxn modelId="35" srcId="3" destId="31" srcOrd="0" destOrd="0"/>
        <dgm:cxn modelId="36" srcId="3" destId="32" srcOrd="0" destOrd="0"/>
        <dgm:cxn modelId="37" srcId="3" destId="33" srcOrd="0" destOrd="0"/>
        <dgm:cxn modelId="38" srcId="3" destId="34" srcOrd="0" destOrd="0"/>
      </dgm:cxnLst>
      <dgm:bg/>
      <dgm:whole/>
    </dgm:dataModel>
  </dgm:clrData>
  <dgm:layoutNode name="list">
    <dgm:varLst>
      <dgm:dir/>
      <dgm:animLvl val="lvl"/>
    </dgm:varLst>
    <dgm:choose name="Name0">
      <dgm:if name="Name1" func="var" arg="dir" op="equ" val="norm">
        <dgm:alg type="lin">
          <dgm:param type="linDir" val="fromL"/>
          <dgm:param type="fallback" val="2D"/>
          <dgm:param type="nodeVertAlign" val="t"/>
        </dgm:alg>
      </dgm:if>
      <dgm:else name="Name2">
        <dgm:alg type="lin">
          <dgm:param type="linDir" val="fromR"/>
          <dgm:param type="fallback" val="2D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ircle" refType="w" fact="0.5"/>
      <dgm:constr type="w" for="ch" forName="vertFlow" refType="w" fact="0.75"/>
      <dgm:constr type="h" for="des" forName="firstComp" refType="w" refFor="ch" refForName="vertFlow" fact="0.667"/>
      <dgm:constr type="h" for="des" forName="comp" refType="h" refFor="des" refForName="firstComp" op="equ"/>
      <dgm:constr type="h" for="des" forName="topSpace" refType="w" refFor="ch" refForName="circle" op="equ" fact="0.4"/>
      <dgm:constr type="w" for="ch" forName="posSpace" refType="w" fact="0.4"/>
      <dgm:constr type="w" for="ch" forName="negSpace" refType="w" fact="-1.15"/>
      <dgm:constr type="w" for="ch" forName="transSpace" refType="w" fact="0.75"/>
      <dgm:constr type="primFontSz" for="ch" forName="circle" op="equ" val="65"/>
      <dgm:constr type="primFontSz" for="des" forName="firstChildTx" val="65"/>
      <dgm:constr type="primFontSz" for="des" forName="childTx" refType="primFontSz" refFor="des" refForName="firstChildTx" op="equ"/>
    </dgm:constrLst>
    <dgm:ruleLst/>
    <dgm:forEach name="Name3" axis="ch" ptType="node">
      <dgm:layoutNode name="pos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vertFlow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firstComp" refType="w"/>
          <dgm:constr type="w" for="ch" forName="comp" refType="w"/>
        </dgm:constrLst>
        <dgm:ruleLst/>
        <dgm:layoutNode name="top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  <dgm:layoutNode name="firstComp">
          <dgm:alg type="composite"/>
          <dgm:shape xmlns:r="http://schemas.openxmlformats.org/officeDocument/2006/relationships" r:blip="">
            <dgm:adjLst/>
          </dgm:shape>
          <dgm:presOf/>
          <dgm:choose name="Name4">
            <dgm:if name="Name5" func="var" arg="dir" op="equ" val="norm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 refType="w" fact="0.16"/>
                <dgm:constr type="r" for="ch" forName="firstChildTx" refType="w"/>
                <dgm:constr type="h" for="ch" forName="firstChildTx" refFor="ch" refForName="firstChild" op="equ"/>
              </dgm:constrLst>
            </dgm:if>
            <dgm:else name="Name6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/>
                <dgm:constr type="r" for="ch" forName="firstChildTx" refType="w" fact="0.825"/>
                <dgm:constr type="h" for="ch" forName="firstChildTx" refFor="ch" refForName="firstChild" op="equ"/>
              </dgm:constrLst>
            </dgm:else>
          </dgm:choose>
          <dgm:ruleLst/>
          <dgm:layoutNode name="firstChild" styleLbl="bgAccFollowNode1">
            <dgm:alg type="sp"/>
            <dgm:shape xmlns:r="http://schemas.openxmlformats.org/officeDocument/2006/relationships" type="rect" r:blip="">
              <dgm:adjLst/>
            </dgm:shape>
            <dgm:presOf axis="ch desOrSelf" ptType="node node" cnt="1 0"/>
            <dgm:constrLst/>
            <dgm:ruleLst/>
          </dgm:layoutNode>
          <dgm:layoutNode name="firstChildTx" styleLbl="bgAccFollowNode1">
            <dgm:varLst>
              <dgm:bulletEnabled val="1"/>
            </dgm:varLst>
            <dgm:alg type="tx">
              <dgm:param type="parTxLTRAlign" val="l"/>
            </dgm:alg>
            <dgm:shape xmlns:r="http://schemas.openxmlformats.org/officeDocument/2006/relationships" type="rect" r:blip="" hideGeom="1">
              <dgm:adjLst/>
            </dgm:shape>
            <dgm:presOf axis="ch desOrSelf" ptType="node node" cnt="1 0"/>
            <dgm:choose name="Name7">
              <dgm:if name="Name8" func="var" arg="dir" op="equ" val="norm">
                <dgm:constrLst>
                  <dgm:constr type="primFontSz" val="65"/>
                  <dgm:constr type="lMarg"/>
                </dgm:constrLst>
              </dgm:if>
              <dgm:else name="Name9">
                <dgm:constrLst>
                  <dgm:constr type="primFontSz" val="65"/>
                  <dgm:constr type="rMarg"/>
                </dgm:constrLst>
              </dgm:else>
            </dgm:choose>
            <dgm:ruleLst>
              <dgm:rule type="primFontSz" val="5" fact="NaN" max="NaN"/>
            </dgm:ruleLst>
          </dgm:layoutNode>
        </dgm:layoutNode>
        <dgm:forEach name="Name10" axis="ch" ptType="node" st="2">
          <dgm:layoutNode name="comp">
            <dgm:alg type="composite"/>
            <dgm:shape xmlns:r="http://schemas.openxmlformats.org/officeDocument/2006/relationships" r:blip="">
              <dgm:adjLst/>
            </dgm:shape>
            <dgm:presOf/>
            <dgm:choose name="Name11">
              <dgm:if name="Name12" func="var" arg="dir" op="equ" val="norm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 refType="w" fact="0.16"/>
                  <dgm:constr type="r" for="ch" forName="childTx" refType="w"/>
                  <dgm:constr type="h" for="ch" forName="childTx" refFor="ch" refForName="child" op="equ"/>
                </dgm:constrLst>
              </dgm:if>
              <dgm:else name="Name13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/>
                  <dgm:constr type="r" for="ch" forName="childTx" refType="w" fact="0.825"/>
                  <dgm:constr type="h" for="ch" forName="childTx" refFor="ch" refForName="child" op="equ"/>
                </dgm:constrLst>
              </dgm:else>
            </dgm:choose>
            <dgm:ruleLst/>
            <dgm:layoutNode name="child" styleLbl="bgAccFollowNode1">
              <dgm:alg type="sp"/>
              <dgm:shape xmlns:r="http://schemas.openxmlformats.org/officeDocument/2006/relationships" type="rect" r:blip="">
                <dgm:adjLst/>
              </dgm:shape>
              <dgm:presOf axis="desOrSelf" ptType="node"/>
              <dgm:constrLst/>
              <dgm:ruleLst/>
            </dgm:layoutNode>
            <dgm:layoutNode name="childTx" styleLbl="bgAccFollowNode1">
              <dgm:varLst>
                <dgm:bulletEnabled val="1"/>
              </dgm:varLst>
              <dgm:alg type="tx">
                <dgm:param type="parTxLTRAlign" val="l"/>
              </dgm:alg>
              <dgm:shape xmlns:r="http://schemas.openxmlformats.org/officeDocument/2006/relationships" type="rect" r:blip="" hideGeom="1">
                <dgm:adjLst/>
              </dgm:shape>
              <dgm:presOf axis="desOrSelf" ptType="node"/>
              <dgm:choose name="Name14">
                <dgm:if name="Name15" func="var" arg="dir" op="equ" val="norm">
                  <dgm:constrLst>
                    <dgm:constr type="primFontSz" val="65"/>
                    <dgm:constr type="lMarg"/>
                  </dgm:constrLst>
                </dgm:if>
                <dgm:else name="Name16">
                  <dgm:constrLst>
                    <dgm:constr type="primFontSz" val="65"/>
                    <dgm:constr type="rMarg"/>
                  </dgm:constrLst>
                </dgm:else>
              </dgm:choose>
              <dgm:ruleLst>
                <dgm:rule type="primFontSz" val="5" fact="NaN" max="NaN"/>
              </dgm:ruleLst>
            </dgm:layoutNode>
          </dgm:layoutNode>
        </dgm:forEach>
      </dgm:layoutNode>
      <dgm:layoutNode name="neg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ircle" styleLbl="node1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lMarg"/>
          <dgm:constr type="rMarg"/>
          <dgm:constr type="tMarg"/>
          <dgm:constr type="bMarg"/>
          <dgm:constr type="h" refType="w"/>
        </dgm:constrLst>
        <dgm:ruleLst>
          <dgm:rule type="primFontSz" val="5" fact="NaN" max="NaN"/>
        </dgm:ruleLst>
      </dgm:layoutNode>
      <dgm:forEach name="Name17" axis="followSib" ptType="sibTrans" cnt="1">
        <dgm:layoutNode name="trans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ierarchy4">
  <dgm:title val=""/>
  <dgm:desc val=""/>
  <dgm:catLst>
    <dgm:cat type="hierarchy" pri="4000"/>
    <dgm:cat type="list" pri="24000"/>
    <dgm:cat type="relationship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/>
    </dgm:varLst>
    <dgm:choose name="Name1">
      <dgm:if name="Name2" func="var" arg="dir" op="equ" val="norm">
        <dgm:alg type="lin">
          <dgm:param type="linDir" val="fromL"/>
          <dgm:param type="nodeVertAlign" val="t"/>
        </dgm:alg>
      </dgm:if>
      <dgm:else name="Name3">
        <dgm:alg type="lin">
          <dgm:param type="linDir" val="fromR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vertOne" refType="w"/>
      <dgm:constr type="w" for="des" forName="horzOne" refType="w"/>
      <dgm:constr type="w" for="des" forName="txOne" refType="w"/>
      <dgm:constr type="w" for="des" forName="vertTwo" refType="w"/>
      <dgm:constr type="w" for="des" forName="horzTwo" refType="w"/>
      <dgm:constr type="w" for="des" forName="txTwo" refType="w"/>
      <dgm:constr type="w" for="des" forName="vertThree" refType="w"/>
      <dgm:constr type="w" for="des" forName="horzThree" refType="w"/>
      <dgm:constr type="w" for="des" forName="txThree" refType="w"/>
      <dgm:constr type="w" for="des" forName="vertFour" refType="w"/>
      <dgm:constr type="w" for="des" forName="horzFour" refType="w"/>
      <dgm:constr type="w" for="des" forName="txFour" refType="w"/>
      <dgm:constr type="h" for="des" ptType="node" op="equ"/>
      <dgm:constr type="h" for="des" forName="txOne" refType="h"/>
      <dgm:constr type="userH" for="des" ptType="node" refType="h" refFor="des" refForName="txOne"/>
      <dgm:constr type="primFontSz" for="des" forName="txOne" val="65"/>
      <dgm:constr type="primFontSz" for="des" forName="txTwo" val="65"/>
      <dgm:constr type="primFontSz" for="des" forName="txTwo" refType="primFontSz" refFor="des" refForName="txOne" op="lte"/>
      <dgm:constr type="primFontSz" for="des" forName="txThree" val="65"/>
      <dgm:constr type="primFontSz" for="des" forName="txThree" refType="primFontSz" refFor="des" refForName="txOne" op="lte"/>
      <dgm:constr type="primFontSz" for="des" forName="txThree" refType="primFontSz" refFor="des" refForName="txTwo" op="lte"/>
      <dgm:constr type="primFontSz" for="des" forName="txFour" val="65"/>
      <dgm:constr type="primFontSz" for="des" forName="txFour" refType="primFontSz" refFor="des" refForName="txOne" op="lte"/>
      <dgm:constr type="primFontSz" for="des" forName="txFour" refType="primFontSz" refFor="des" refForName="txTwo" op="lte"/>
      <dgm:constr type="primFontSz" for="des" forName="txFour" refType="primFontSz" refFor="des" refForName="txThree" op="lte"/>
      <dgm:constr type="w" for="des" forName="sibSpaceOne" refType="w" fact="0.168"/>
      <dgm:constr type="w" for="des" forName="sibSpaceTwo" refType="w" refFor="des" refForName="sibSpaceOne" op="equ" fact="0.5"/>
      <dgm:constr type="w" for="des" forName="sibSpaceThree" refType="w" refFor="des" refForName="sibSpaceTwo" op="equ" fact="0.5"/>
      <dgm:constr type="w" for="des" forName="sibSpaceFour" refType="w" refFor="des" refForName="sibSpaceThree" op="equ" fact="0.5"/>
      <dgm:constr type="h" for="des" forName="parTransOne" refType="w" fact="0.056"/>
      <dgm:constr type="h" for="des" forName="parTransTwo" refType="h" refFor="des" refForName="parTransOne" op="equ"/>
      <dgm:constr type="h" for="des" forName="parTransThree" refType="h" refFor="des" refForName="parTransTwo" op="equ"/>
      <dgm:constr type="h" for="des" forName="parTransFour" refType="h" refFor="des" refForName="parTransThree" op="equ"/>
    </dgm:constrLst>
    <dgm:ruleLst/>
    <dgm:forEach name="Name4" axis="ch" ptType="node">
      <dgm:layoutNode name="vertOne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txOne" refType="w" refFor="ch" refForName="horzOne" op="gte"/>
        </dgm:constrLst>
        <dgm:ruleLst/>
        <dgm:layoutNode name="txOne" styleLbl="node0">
          <dgm:varLst>
            <dgm:chPref val="3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5">
          <dgm:if name="Name6" axis="des" ptType="node" func="cnt" op="gt" val="0">
            <dgm:layoutNode name="parTrans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if>
          <dgm:else name="Name7"/>
        </dgm:choose>
        <dgm:layoutNode name="horzOne">
          <dgm:choose name="Name8">
            <dgm:if name="Name9" func="var" arg="dir" op="equ" val="norm">
              <dgm:alg type="lin">
                <dgm:param type="linDir" val="fromL"/>
                <dgm:param type="nodeVertAlign" val="t"/>
              </dgm:alg>
            </dgm:if>
            <dgm:else name="Name10">
              <dgm:alg type="lin">
                <dgm:param type="linDir" val="fromR"/>
                <dgm:param type="nodeVertAlign" val="t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>
            <dgm:rule type="w" val="INF" fact="NaN" max="NaN"/>
          </dgm:ruleLst>
          <dgm:forEach name="Name11" axis="ch" ptType="node">
            <dgm:layoutNode name="vertTwo">
              <dgm:alg type="lin">
                <dgm:param type="linDir" val="fromT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xTwo" refType="w" refFor="ch" refForName="horzTwo" op="gte"/>
              </dgm:constrLst>
              <dgm:ruleLst/>
              <dgm:layoutNode name="txTwo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userH"/>
                  <dgm:constr type="h" refType="userH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choose name="Name12">
                <dgm:if name="Name13" axis="des" ptType="node" func="cnt" op="gt" val="0">
                  <dgm:layoutNode name="parTrans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if>
                <dgm:else name="Name14"/>
              </dgm:choose>
              <dgm:layoutNode name="horzTwo">
                <dgm:choose name="Name15">
                  <dgm:if name="Name16" func="var" arg="dir" op="equ" val="norm">
                    <dgm:alg type="lin">
                      <dgm:param type="linDir" val="fromL"/>
                      <dgm:param type="nodeVertAlign" val="t"/>
                    </dgm:alg>
                  </dgm:if>
                  <dgm:else name="Name17">
                    <dgm:alg type="lin">
                      <dgm:param type="linDir" val="fromR"/>
                      <dgm:param type="nodeVertAlign" val="t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>
                  <dgm:rule type="w" val="INF" fact="NaN" max="NaN"/>
                </dgm:ruleLst>
                <dgm:forEach name="Name18" axis="ch" ptType="node">
                  <dgm:layoutNode name="vertThree">
                    <dgm:alg type="lin">
                      <dgm:param type="linDir" val="fromT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txThree" refType="w" refFor="ch" refForName="horzThree" op="gte"/>
                    </dgm:constrLst>
                    <dgm:ruleLst/>
                    <dgm:layoutNode name="txThree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userH"/>
                        <dgm:constr type="h" refType="userH"/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choose name="Name19">
                      <dgm:if name="Name20" axis="des" ptType="node" func="cnt" op="gt" val="0">
                        <dgm:layoutNode name="parTrans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if>
                      <dgm:else name="Name21"/>
                    </dgm:choose>
                    <dgm:layoutNode name="horzThree">
                      <dgm:choose name="Name22">
                        <dgm:if name="Name23" func="var" arg="dir" op="equ" val="norm">
                          <dgm:alg type="lin">
                            <dgm:param type="linDir" val="fromL"/>
                            <dgm:param type="nodeVertAlign" val="t"/>
                          </dgm:alg>
                        </dgm:if>
                        <dgm:else name="Name24">
                          <dgm:alg type="lin">
                            <dgm:param type="linDir" val="fromR"/>
                            <dgm:param type="nodeVertAlign" val="t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>
                        <dgm:rule type="w" val="INF" fact="NaN" max="NaN"/>
                      </dgm:ruleLst>
                      <dgm:forEach name="repeat" axis="ch" ptType="node">
                        <dgm:layoutNode name="vertFour">
                          <dgm:varLst>
                            <dgm:chPref val="3"/>
                          </dgm:varLst>
                          <dgm:alg type="lin">
                            <dgm:param type="linDir" val="fromT"/>
                          </dgm:alg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w" for="ch" forName="txFour" refType="w" refFor="ch" refForName="horzFour" op="gte"/>
                          </dgm:constrLst>
                          <dgm:ruleLst/>
                          <dgm:layoutNode name="txFour">
                            <dgm:varLst>
                              <dgm:chPref val="3"/>
                            </dgm:varLst>
                            <dgm:alg type="tx"/>
                            <dgm:shape xmlns:r="http://schemas.openxmlformats.org/officeDocument/2006/relationships" type="roundRect" r:blip="">
                              <dgm:adjLst>
                                <dgm:adj idx="1" val="0.1"/>
                              </dgm:adjLst>
                            </dgm:shape>
                            <dgm:presOf axis="self"/>
                            <dgm:constrLst>
                              <dgm:constr type="userH"/>
                              <dgm:constr type="h" refType="userH"/>
                              <dgm:constr type="tMarg" refType="primFontSz" fact="0.3"/>
                              <dgm:constr type="bMarg" refType="primFontSz" fact="0.3"/>
                              <dgm:constr type="lMarg" refType="primFontSz" fact="0.3"/>
                              <dgm:constr type="rMarg" refType="primFontSz" fact="0.3"/>
                            </dgm:constrLst>
                            <dgm:ruleLst>
                              <dgm:rule type="primFontSz" val="5" fact="NaN" max="NaN"/>
                            </dgm:ruleLst>
                          </dgm:layoutNode>
                          <dgm:choose name="Name25">
                            <dgm:if name="Name26" axis="des" ptType="node" func="cnt" op="gt" val="0">
                              <dgm:layoutNode name="parTrans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if>
                            <dgm:else name="Name27"/>
                          </dgm:choose>
                          <dgm:layoutNode name="horzFour">
                            <dgm:choose name="Name28">
                              <dgm:if name="Name29" func="var" arg="dir" op="equ" val="norm">
                                <dgm:alg type="lin">
                                  <dgm:param type="linDir" val="fromL"/>
                                  <dgm:param type="nodeVertAlign" val="t"/>
                                </dgm:alg>
                              </dgm:if>
                              <dgm:else name="Name30">
                                <dgm:alg type="lin">
                                  <dgm:param type="linDir" val="fromR"/>
                                  <dgm:param type="nodeVertAlign" val="t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>
                              <dgm:rule type="w" val="INF" fact="NaN" max="NaN"/>
                            </dgm:ruleLst>
                            <dgm:forEach name="Name31" ref="repeat"/>
                          </dgm:layoutNode>
                        </dgm:layoutNode>
                        <dgm:choose name="Name32">
                          <dgm:if name="Name33" axis="self" ptType="node" func="revPos" op="gte" val="2">
                            <dgm:forEach name="Name34" axis="followSib" ptType="sibTrans" cnt="1">
                              <dgm:layoutNode name="sibSpace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forEach>
                          </dgm:if>
                          <dgm:else name="Name35"/>
                        </dgm:choose>
                      </dgm:forEach>
                    </dgm:layoutNode>
                  </dgm:layoutNode>
                  <dgm:choose name="Name36">
                    <dgm:if name="Name37" axis="self" ptType="node" func="revPos" op="gte" val="2">
                      <dgm:forEach name="Name38" axis="followSib" ptType="sibTrans" cnt="1">
                        <dgm:layoutNode name="sibSpace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forEach>
                    </dgm:if>
                    <dgm:else name="Name39"/>
                  </dgm:choose>
                </dgm:forEach>
              </dgm:layoutNode>
            </dgm:layoutNode>
            <dgm:choose name="Name40">
              <dgm:if name="Name41" axis="self" ptType="node" func="revPos" op="gte" val="2">
                <dgm:forEach name="Name42" axis="followSib" ptType="sibTrans" cnt="1">
                  <dgm:layoutNode name="sibSpace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forEach>
              </dgm:if>
              <dgm:else name="Name43"/>
            </dgm:choose>
          </dgm:forEach>
        </dgm:layoutNode>
      </dgm:layoutNode>
      <dgm:choose name="Name44">
        <dgm:if name="Name45" axis="self" ptType="node" func="revPos" op="gte" val="2">
          <dgm:forEach name="Name46" axis="followSib" ptType="sibTrans" cnt="1">
            <dgm:layoutNode name="sibSpace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if>
        <dgm:else name="Name47"/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6">
  <dgm:title val=""/>
  <dgm:desc val=""/>
  <dgm:catLst>
    <dgm:cat type="3D" pri="11600"/>
  </dgm:catLst>
  <dgm:scene3d>
    <a:camera prst="perspectiveRelaxedModerately" zoom="92000"/>
    <a:lightRig rig="balanced" dir="t">
      <a:rot lat="0" lon="0" rev="12700000"/>
    </a:lightRig>
  </dgm:scene3d>
  <dgm:styleLbl name="node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5400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54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5400" prstMaterial="plastic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75000" prstMaterial="plastic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2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3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4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fgAcc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z="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 z="-10400" extrusionH="12700" prstMaterial="plastic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6F6398-DDB8-41A2-9A04-0CAB4DE8F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 студентка 13 г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ЭУ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099BF4-8140-4DF8-8CF5-8E8BA1A56C5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 Дильса - Кра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D9BB5A-3127-4897-B654-8D76DC8B056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и класси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B94EB9-D66C-4E1E-8B11-A6D6C9A058C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идеи древнегре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 - мера всех ве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8464E3-09FB-49E0-AAE0-F5E7620344D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сты и рели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02F7C3-94AB-4536-833E-7C8765D1096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ческий релятивизм древних соф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ED12B8-8603-4BA8-81DF-AF3E7391D9F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 Периодизация и основные представители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 Источники и фрагменты классической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 Основные идеи древнегреческой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1. Софисты и рели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2. Этический релятивизм древних соф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F568AA-36E1-4C07-B862-4F83176D591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́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евнегреческие платные преподаватели красноречия, представители одноименного философского направления, распространенного в Греции во </a:t>
            </a:r>
            <a:r>
              <a:rPr b="0" lang="ru-RU" sz="2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2-ой пол. V — 1-й пол. IV в. до н. э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смысле термин «софист» служил для обозначения искусного или мудрого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2B5DEF-691E-419E-82CD-9DB091BAFD5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ей древнекитайской школы имён (мин цз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эн 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нсунь Лу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785C80-0528-44D7-A492-6CA41AD2762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одизация и основные представители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смысле принято говорить о трех эпохах софис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ческая или древняя (</a:t>
            </a:r>
            <a:r>
              <a:rPr b="0" lang="ru-RU" sz="2000" spc="-1" strike="noStrike">
                <a:solidFill>
                  <a:srgbClr val="0b0080"/>
                </a:solidFill>
                <a:latin typeface="Arial"/>
              </a:rPr>
              <a:t>древнегре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a55858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a55858"/>
                </a:solidFill>
                <a:latin typeface="Arial"/>
              </a:rPr>
              <a:t>Втор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ли новая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a55858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a55858"/>
                </a:solidFill>
                <a:latin typeface="Arial"/>
              </a:rPr>
              <a:t>Треть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ли поздняя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ED95D3-60C2-4D79-A871-383D8DB2EBB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199" strike="noStrike">
                <a:solidFill>
                  <a:srgbClr val="f3f3f3"/>
                </a:solidFill>
                <a:latin typeface="Arial"/>
              </a:rPr>
              <a:t>Классическая или древняя (древнегреческая) софисти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E7493A-ECE9-4FBE-98BA-3AF80EC3641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bcbcbc"/>
                </a:solidFill>
                <a:latin typeface="Arial"/>
              </a:rPr>
              <a:t>Вторая или новая софис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киан Самосат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авий Филострат и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A6E1B0-9F91-4C5B-9F12-8214F743596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bfbfb"/>
                </a:solidFill>
                <a:latin typeface="Arial"/>
              </a:rPr>
              <a:t>Третья или поздняя софис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б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лиан Отступ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D9C6EA-C676-4180-8C98-619C4FFC5D0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агменты класси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ее-менее полном виде сохранил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гий. Сохранились две речи: «Похвала Елене» и «Защита Паламеда». В настоящее время считают эти речи подлож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тифонт. Сохранилось несколько речей (так называемая «тетралогия») и фрагмент сочинения «Ист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ий. Через Секста Эмпирика до нас дошёл фрагмент текста «Сизиф». По мнению большинства современных исследователей, этот текст не принадлежит Кр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воякие речи» анонимного ав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254C19-B54E-49DC-990E-0658A02C421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C915-B6D9-499D-AC69-FDF96FA6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D564-C3C8-4DD5-805F-12FFB9F7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47AE-0595-462A-A018-AA981D6E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6276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744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6276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744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F506-CD7A-4661-AC19-E4A54CF3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4ABC-EE89-4A20-941D-8A334CE7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4D71-7636-42E3-A44A-5109C247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2D31-C09F-465C-98AE-DC092EA1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933C-C19A-4887-92F6-086C2045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0D27-4AEC-4852-8972-75DDDA64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51160" y="436680"/>
            <a:ext cx="8040960" cy="66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3779-6498-4F15-B64C-632CB5F4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0D0B-C20E-45CF-A923-0E9D6226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404-1E33-4623-994A-8F00A529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9984-DA24-4D2D-BC4D-ECB34FDC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3039-4600-4610-B2BA-3F0E75B5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B3DB-060D-4650-8BEB-A3824D1C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4E7D-BC54-4CDD-9B6E-E84A59A8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6276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8744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6276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8744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E712-34C4-4850-AEF5-26343D0C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50C2-0332-464A-93FB-CE984B24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F441-9650-4F96-8874-E202773C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54AC-7261-4CEE-B94B-3A010E6C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51160" y="436680"/>
            <a:ext cx="8040960" cy="66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6F50-B7F9-4365-BD56-04529FC0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62D0-3E3F-40B8-B35A-6DAA2A5C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D25D-6123-42EA-8D0A-64B5C63D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E9D-A390-4DA4-AC1F-9897A40C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jnsch\Desktop\O14ThemesHandoffs\WorkingFiles\FinalHanoff\Sketchbook\Cover.jpg"/>
          <p:cNvPicPr/>
          <p:nvPr/>
        </p:nvPicPr>
        <p:blipFill>
          <a:blip r:embed="rId4">
            <a:lum bright="2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15"/>
          <p:cNvGrpSpPr/>
          <p:nvPr/>
        </p:nvGrpSpPr>
        <p:grpSpPr>
          <a:xfrm>
            <a:off x="316800" y="3600720"/>
            <a:ext cx="3103560" cy="3171960"/>
            <a:chOff x="316800" y="3600720"/>
            <a:chExt cx="3103560" cy="3171960"/>
          </a:xfrm>
        </p:grpSpPr>
        <p:sp>
          <p:nvSpPr>
            <p:cNvPr id="3" name="Freeform 11"/>
            <p:cNvSpPr/>
            <p:nvPr/>
          </p:nvSpPr>
          <p:spPr>
            <a:xfrm rot="20533800">
              <a:off x="632160" y="4015440"/>
              <a:ext cx="2415960" cy="2446560"/>
            </a:xfrm>
            <a:custGeom>
              <a:avLst/>
              <a:gdLst>
                <a:gd name="textAreaLeft" fmla="*/ 0 w 2415960"/>
                <a:gd name="textAreaRight" fmla="*/ 2416320 w 2415960"/>
                <a:gd name="textAreaTop" fmla="*/ 0 h 2446560"/>
                <a:gd name="textAreaBottom" fmla="*/ 2446920 h 2446560"/>
              </a:gdLst>
              <a:ahLst/>
              <a:rect l="textAreaLeft" t="textAreaTop" r="textAreaRight" b="textAreaBottom"/>
              <a:pathLst>
                <a:path w="2328384" h="2344146">
                  <a:moveTo>
                    <a:pt x="94077" y="0"/>
                  </a:moveTo>
                  <a:lnTo>
                    <a:pt x="0" y="2344146"/>
                  </a:lnTo>
                  <a:lnTo>
                    <a:pt x="2328384" y="2250067"/>
                  </a:lnTo>
                  <a:lnTo>
                    <a:pt x="940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fff">
                    <a:alpha val="0"/>
                  </a:srgbClr>
                </a:gs>
                <a:gs pos="100000">
                  <a:srgbClr val="000100">
                    <a:alpha val="31372"/>
                  </a:srgbClr>
                </a:gs>
              </a:gsLst>
              <a:lin ang="8100000"/>
            </a:gradFill>
            <a:ln>
              <a:noFill/>
            </a:ln>
            <a:effectLst>
              <a:outerShdw blurRad="50760" dir="5400000" dist="12600" rotWithShape="0">
                <a:srgbClr val="000000">
                  <a:alpha val="37000"/>
                </a:srgbClr>
              </a:outerShdw>
              <a:softEdge rad="3816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mbria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 rot="20533800">
              <a:off x="699120" y="3910320"/>
              <a:ext cx="2408760" cy="2423160"/>
            </a:xfrm>
            <a:prstGeom prst="rect">
              <a:avLst/>
            </a:prstGeom>
            <a:gradFill rotWithShape="0">
              <a:gsLst>
                <a:gs pos="0">
                  <a:srgbClr val="fae148"/>
                </a:gs>
                <a:gs pos="100000">
                  <a:srgbClr val="ffeb63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50760" dir="5400000" dist="12600" rotWithShape="0">
                <a:srgbClr val="000000">
                  <a:alpha val="37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mbria"/>
              </a:endParaRPr>
            </a:p>
          </p:txBody>
        </p:sp>
        <p:pic>
          <p:nvPicPr>
            <p:cNvPr id="5" name="Picture 13" descr="stickie-shadow.png"/>
            <p:cNvPicPr/>
            <p:nvPr/>
          </p:nvPicPr>
          <p:blipFill>
            <a:blip r:embed="rId5"/>
            <a:stretch/>
          </p:blipFill>
          <p:spPr>
            <a:xfrm rot="20533800">
              <a:off x="479520" y="4271400"/>
              <a:ext cx="41976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stickie-shadow.png"/>
            <p:cNvPicPr/>
            <p:nvPr/>
          </p:nvPicPr>
          <p:blipFill>
            <a:blip r:embed="rId6"/>
            <a:stretch/>
          </p:blipFill>
          <p:spPr>
            <a:xfrm rot="15133800">
              <a:off x="1089720" y="6101280"/>
              <a:ext cx="421920" cy="47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" name="Picture 7" descr="TitleCard.png"/>
          <p:cNvPicPr/>
          <p:nvPr/>
        </p:nvPicPr>
        <p:blipFill>
          <a:blip r:embed="rId7"/>
          <a:stretch/>
        </p:blipFill>
        <p:spPr>
          <a:xfrm rot="343200">
            <a:off x="2856240" y="2587680"/>
            <a:ext cx="5772600" cy="38505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 rot="360000">
            <a:off x="3339360" y="3015720"/>
            <a:ext cx="4846680" cy="159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0100"/>
                </a:solidFill>
                <a:latin typeface="Cambria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 rot="20520000">
            <a:off x="963000" y="5061240"/>
            <a:ext cx="1968120" cy="53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2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22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 rot="20520000">
            <a:off x="647280" y="4135320"/>
            <a:ext cx="2085480" cy="83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600" spc="-1" strike="noStrike">
                <a:solidFill>
                  <a:schemeClr val="accent5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600" spc="-1" strike="noStrike">
                <a:solidFill>
                  <a:schemeClr val="accent5">
                    <a:lumMod val="50000"/>
                    <a:lumOff val="50000"/>
                  </a:schemeClr>
                </a:solidFill>
                <a:latin typeface="Rage Italic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 rot="20520000">
            <a:off x="1981080" y="5509800"/>
            <a:ext cx="738000" cy="42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59DE26-28AF-48D6-A62C-F1A2EB577555}" type="slidenum">
              <a:rPr b="0" lang="ru-RU" sz="14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8" descr="coverBand.png"/>
          <p:cNvPicPr/>
          <p:nvPr/>
        </p:nvPicPr>
        <p:blipFill>
          <a:blip r:embed="rId8"/>
          <a:stretch/>
        </p:blipFill>
        <p:spPr>
          <a:xfrm>
            <a:off x="0" y="5880240"/>
            <a:ext cx="9143640" cy="329760"/>
          </a:xfrm>
          <a:prstGeom prst="rect">
            <a:avLst/>
          </a:prstGeom>
          <a:ln w="0">
            <a:noFill/>
          </a:ln>
          <a:effectLst>
            <a:outerShdw algn="t" blurRad="63360" dir="5400000" dist="38160" rotWithShape="0">
              <a:srgbClr val="000000">
                <a:alpha val="59000"/>
              </a:srgbClr>
            </a:outerShdw>
          </a:effectLst>
        </p:spPr>
      </p:pic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Cambr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Cambr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бразец текст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640" indent="-228600">
              <a:lnSpc>
                <a:spcPct val="100000"/>
              </a:lnSpc>
              <a:spcBef>
                <a:spcPts val="43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200" spc="-1" strike="noStrike">
                <a:solidFill>
                  <a:srgbClr val="404040"/>
                </a:solidFill>
                <a:latin typeface="Cambria"/>
              </a:rPr>
              <a:t>Второй уровень</a:t>
            </a:r>
            <a:endParaRPr b="0" lang="ru-RU" sz="2200" spc="-1" strike="noStrike">
              <a:solidFill>
                <a:srgbClr val="404040"/>
              </a:solidFill>
              <a:latin typeface="Cambria"/>
            </a:endParaRPr>
          </a:p>
          <a:p>
            <a:pPr lvl="2" marL="822960" indent="-182880">
              <a:lnSpc>
                <a:spcPct val="10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Третий уровень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1600" spc="-1" strike="noStrike">
                <a:solidFill>
                  <a:srgbClr val="404040"/>
                </a:solidFill>
                <a:latin typeface="Cambria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Cambria"/>
            </a:endParaRPr>
          </a:p>
          <a:p>
            <a:pPr lvl="4" marL="1417320" indent="-182880">
              <a:lnSpc>
                <a:spcPct val="100000"/>
              </a:lnSpc>
              <a:spcBef>
                <a:spcPts val="281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1400" spc="-1" strike="noStrike">
                <a:solidFill>
                  <a:srgbClr val="404040"/>
                </a:solidFill>
                <a:latin typeface="Cambria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51160" y="61488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808080"/>
                </a:solidFill>
                <a:latin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1488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808080"/>
                </a:solidFill>
                <a:latin typeface="Rage Ital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459120" y="61488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477C7B-465C-4A37-B32B-B4EE41DB84FF}" type="slidenum">
              <a:rPr b="0" lang="ru-RU" sz="1400" spc="-1" strike="noStrike">
                <a:solidFill>
                  <a:srgbClr val="80808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360000">
            <a:off x="3339360" y="3015720"/>
            <a:ext cx="4846680" cy="159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0100"/>
                </a:solidFill>
                <a:latin typeface="Cambria"/>
              </a:rPr>
              <a:t>Софисты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 rot="360000">
            <a:off x="3200400" y="4766760"/>
            <a:ext cx="4836240" cy="10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100"/>
                </a:solidFill>
                <a:latin typeface="Cambria"/>
              </a:rPr>
              <a:t>Выполнила студентка 13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100"/>
                </a:solidFill>
                <a:latin typeface="Cambria"/>
              </a:rPr>
              <a:t>ФЭУ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640" y="-31536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Труд Дильса - Кранц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>
            <a:off x="683640" y="1340640"/>
            <a:ext cx="2880000" cy="46994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"/>
          <p:cNvPicPr/>
          <p:nvPr/>
        </p:nvPicPr>
        <p:blipFill>
          <a:blip r:embed="rId2"/>
          <a:stretch/>
        </p:blipFill>
        <p:spPr>
          <a:xfrm>
            <a:off x="4500000" y="1329120"/>
            <a:ext cx="3457800" cy="47617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4858920" y="6042240"/>
            <a:ext cx="2880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Герман Александр Диль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6" descr=""/>
          <p:cNvPicPr/>
          <p:nvPr/>
        </p:nvPicPr>
        <p:blipFill>
          <a:blip r:embed="rId3"/>
          <a:stretch/>
        </p:blipFill>
        <p:spPr>
          <a:xfrm>
            <a:off x="539640" y="1465560"/>
            <a:ext cx="3312000" cy="42681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"/>
          <p:cNvPicPr/>
          <p:nvPr/>
        </p:nvPicPr>
        <p:blipFill>
          <a:blip r:embed="rId4"/>
          <a:stretch/>
        </p:blipFill>
        <p:spPr>
          <a:xfrm>
            <a:off x="4500000" y="1523880"/>
            <a:ext cx="3384000" cy="420984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8"/>
          <p:cNvSpPr/>
          <p:nvPr/>
        </p:nvSpPr>
        <p:spPr>
          <a:xfrm>
            <a:off x="4031640" y="6042240"/>
            <a:ext cx="439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лександр Осипович Маков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7"/>
          <p:cNvSpPr/>
          <p:nvPr/>
        </p:nvSpPr>
        <p:spPr>
          <a:xfrm>
            <a:off x="5648040" y="1562040"/>
            <a:ext cx="2793600" cy="41760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611640" y="1556640"/>
            <a:ext cx="2793600" cy="41760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1664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Источники класси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9" name="Рисунок 4" descr=""/>
          <p:cNvPicPr/>
          <p:nvPr/>
        </p:nvPicPr>
        <p:blipFill>
          <a:blip r:embed="rId1"/>
          <a:stretch/>
        </p:blipFill>
        <p:spPr>
          <a:xfrm>
            <a:off x="611640" y="1556640"/>
            <a:ext cx="2793600" cy="38858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5" descr=""/>
          <p:cNvPicPr/>
          <p:nvPr/>
        </p:nvPicPr>
        <p:blipFill>
          <a:blip r:embed="rId2"/>
          <a:stretch/>
        </p:blipFill>
        <p:spPr>
          <a:xfrm>
            <a:off x="5648040" y="1556640"/>
            <a:ext cx="2793600" cy="37206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8"/>
          <p:cNvSpPr/>
          <p:nvPr/>
        </p:nvSpPr>
        <p:spPr>
          <a:xfrm>
            <a:off x="3636000" y="3412440"/>
            <a:ext cx="1800000" cy="7362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Филострат Старш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9"/>
          <p:cNvSpPr/>
          <p:nvPr/>
        </p:nvSpPr>
        <p:spPr>
          <a:xfrm>
            <a:off x="3603240" y="2421000"/>
            <a:ext cx="1800000" cy="647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Диоген Лаэр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491120" y="5400720"/>
            <a:ext cx="1034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ла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504120" y="5364000"/>
            <a:ext cx="153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ристо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2400" y="0"/>
            <a:ext cx="877284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f2e900"/>
                </a:solidFill>
                <a:latin typeface="Cambria"/>
              </a:rPr>
              <a:t>Основные идеи древнегре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2840" y="2061000"/>
            <a:ext cx="5605560" cy="598320"/>
          </a:xfrm>
          <a:prstGeom prst="rect">
            <a:avLst/>
          </a:prstGeom>
          <a:solidFill>
            <a:srgbClr val="302f00"/>
          </a:solidFill>
          <a:ln w="19080">
            <a:solidFill>
              <a:srgbClr val="4b6c8c"/>
            </a:solidFill>
            <a:round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Человек - мера всех вещей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7" name="Объект 2"/>
          <p:cNvSpPr/>
          <p:nvPr/>
        </p:nvSpPr>
        <p:spPr>
          <a:xfrm>
            <a:off x="302400" y="2803320"/>
            <a:ext cx="5616360" cy="598320"/>
          </a:xfrm>
          <a:prstGeom prst="rect">
            <a:avLst/>
          </a:prstGeom>
          <a:solidFill>
            <a:schemeClr val="bg2">
              <a:lumMod val="10000"/>
            </a:schemeClr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Моральные нормы произволь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Объект 2"/>
          <p:cNvSpPr/>
          <p:nvPr/>
        </p:nvSpPr>
        <p:spPr>
          <a:xfrm>
            <a:off x="302400" y="3595320"/>
            <a:ext cx="5616360" cy="598320"/>
          </a:xfrm>
          <a:prstGeom prst="rect">
            <a:avLst/>
          </a:prstGeom>
          <a:solidFill>
            <a:schemeClr val="bg2">
              <a:lumMod val="10000"/>
            </a:schemeClr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Все в мире относи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5" descr=""/>
          <p:cNvPicPr/>
          <p:nvPr/>
        </p:nvPicPr>
        <p:blipFill>
          <a:blip r:embed="rId1"/>
          <a:stretch/>
        </p:blipFill>
        <p:spPr>
          <a:xfrm>
            <a:off x="6156000" y="1556640"/>
            <a:ext cx="2592000" cy="3456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6"/>
          <p:cNvSpPr/>
          <p:nvPr/>
        </p:nvSpPr>
        <p:spPr>
          <a:xfrm>
            <a:off x="6051960" y="5026320"/>
            <a:ext cx="2963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ортрет Сократа работы Лисиппа, хранящийся в Лув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7"/>
          <p:cNvSpPr/>
          <p:nvPr/>
        </p:nvSpPr>
        <p:spPr>
          <a:xfrm>
            <a:off x="6123960" y="1556640"/>
            <a:ext cx="2624040" cy="4320000"/>
          </a:xfrm>
          <a:prstGeom prst="rect">
            <a:avLst/>
          </a:prstGeom>
          <a:noFill/>
          <a:ln>
            <a:solidFill>
              <a:srgbClr val="fffee6">
                <a:lumMod val="50000"/>
              </a:srgbClr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6"/>
          <p:cNvSpPr/>
          <p:nvPr/>
        </p:nvSpPr>
        <p:spPr>
          <a:xfrm>
            <a:off x="827640" y="1628640"/>
            <a:ext cx="2857320" cy="454536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8720" y="25812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Софисты и религия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4548960" y="1700640"/>
            <a:ext cx="4050720" cy="180000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В эпоху Перикла софисты, Сократ, которого можно назвать олицетворением философии, искусство и риторика вытеснили религ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Карл Мар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4" descr=""/>
          <p:cNvPicPr/>
          <p:nvPr/>
        </p:nvPicPr>
        <p:blipFill>
          <a:blip r:embed="rId1"/>
          <a:stretch/>
        </p:blipFill>
        <p:spPr>
          <a:xfrm>
            <a:off x="827640" y="1628640"/>
            <a:ext cx="2857320" cy="40636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5"/>
          <p:cNvSpPr/>
          <p:nvPr/>
        </p:nvSpPr>
        <p:spPr>
          <a:xfrm>
            <a:off x="1413720" y="5805360"/>
            <a:ext cx="153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арл Мар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4860000" y="4437000"/>
            <a:ext cx="3323160" cy="155268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Взгляды на религи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ате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агно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6"/>
          <p:cNvSpPr/>
          <p:nvPr/>
        </p:nvSpPr>
        <p:spPr>
          <a:xfrm>
            <a:off x="597600" y="1351080"/>
            <a:ext cx="3528000" cy="4329360"/>
          </a:xfrm>
          <a:prstGeom prst="rect">
            <a:avLst/>
          </a:prstGeom>
          <a:solidFill>
            <a:srgbClr val="ffffff"/>
          </a:solidFill>
          <a:ln>
            <a:solidFill>
              <a:srgbClr val="6694be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pic>
        <p:nvPicPr>
          <p:cNvPr id="159" name="Объект 4" descr=""/>
          <p:cNvPicPr/>
          <p:nvPr/>
        </p:nvPicPr>
        <p:blipFill>
          <a:blip r:embed="rId1"/>
          <a:stretch/>
        </p:blipFill>
        <p:spPr>
          <a:xfrm>
            <a:off x="628560" y="1340640"/>
            <a:ext cx="3479760" cy="3888000"/>
          </a:xfrm>
          <a:prstGeom prst="rect">
            <a:avLst/>
          </a:prstGeom>
          <a:ln w="0">
            <a:noFill/>
          </a:ln>
        </p:spPr>
      </p:pic>
      <p:sp>
        <p:nvSpPr>
          <p:cNvPr id="160" name="Объект 2"/>
          <p:cNvSpPr/>
          <p:nvPr/>
        </p:nvSpPr>
        <p:spPr>
          <a:xfrm>
            <a:off x="251640" y="3933000"/>
            <a:ext cx="74671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648440" y="5311800"/>
            <a:ext cx="125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рот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7"/>
          <p:cNvSpPr/>
          <p:nvPr/>
        </p:nvSpPr>
        <p:spPr>
          <a:xfrm>
            <a:off x="4559040" y="836640"/>
            <a:ext cx="4050720" cy="1800000"/>
          </a:xfrm>
          <a:prstGeom prst="rect">
            <a:avLst/>
          </a:prstGeom>
          <a:solidFill>
            <a:srgbClr val="6b9bc7"/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«О богах я не могу знать ни того, что они существуют, ни того, что их нет. Ибо многое препятствует узнать (это): и неясность (вопроса) и краткость человеческой жиз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Прот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917240" y="3933000"/>
            <a:ext cx="333504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6694be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mbria"/>
              </a:rPr>
              <a:t>был агностиком и приобрел славу безбож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0280" y="-13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Этический релятивизм древних софистов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763014908"/>
              </p:ext>
            </p:extLst>
          </p:nvPr>
        </p:nvGraphicFramePr>
        <p:xfrm>
          <a:off x="1763640" y="1124640"/>
          <a:ext cx="6552360" cy="2304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65" name="Объект 2"/>
          <p:cNvSpPr/>
          <p:nvPr/>
        </p:nvSpPr>
        <p:spPr>
          <a:xfrm>
            <a:off x="4541760" y="3350880"/>
            <a:ext cx="4464000" cy="3240000"/>
          </a:xfrm>
          <a:prstGeom prst="rect">
            <a:avLst/>
          </a:prstGeom>
          <a:solidFill>
            <a:srgbClr val="ffffff"/>
          </a:solidFill>
          <a:ln w="38100"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anchor="t">
            <a:normAutofit fontScale="85000"/>
          </a:bodyPr>
          <a:p>
            <a:pPr marL="209880" indent="-2098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Специфику норм морали как норм, кодирующих неприродные общественные отношения между людьми. Их нарушение связано с позором и наказанием только в том случае, если это нарушение замечено другими людьми. Если оно не замечено, то нарушителю ничего не гроз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бъект 2"/>
          <p:cNvSpPr/>
          <p:nvPr/>
        </p:nvSpPr>
        <p:spPr>
          <a:xfrm>
            <a:off x="251640" y="3357000"/>
            <a:ext cx="4289760" cy="3233880"/>
          </a:xfrm>
          <a:prstGeom prst="rect">
            <a:avLst/>
          </a:prstGeom>
          <a:solidFill>
            <a:srgbClr val="ffffff"/>
          </a:solidFill>
          <a:ln w="38100"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3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200" spc="-1" strike="noStrike">
                <a:solidFill>
                  <a:srgbClr val="404040"/>
                </a:solidFill>
                <a:latin typeface="Cambria"/>
              </a:rPr>
              <a:t>Не было разделения на частную и гражданскую жизнь. Закон добродетели равнялся закону полиса. Человек был, гражданином полиса, поэтому в качестве морального субъекта он был публичным человек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4"/>
          <p:cNvSpPr/>
          <p:nvPr/>
        </p:nvSpPr>
        <p:spPr>
          <a:xfrm>
            <a:off x="5151960" y="5373360"/>
            <a:ext cx="3843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илософия и лог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22.03.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262626"/>
                </a:solidFill>
                <a:latin typeface="Cambria"/>
              </a:rPr>
              <a:t>Содержание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52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1. Периодизация и основные представители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2. Источники и фрагменты классической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3. Основные идеи древнегреческой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3.1. Софисты и религия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3.2. Этический релятивизм древних софистов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>
            <a:off x="5580000" y="188640"/>
            <a:ext cx="3240000" cy="107964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2e900"/>
              </a:solidFill>
              <a:latin typeface="Cambri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972720" y="33264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Софи́сты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древнегреческие платные преподаватели красноречия, представители одноименного философского направления, распространенного в Греции во </a:t>
            </a:r>
            <a:r>
              <a:rPr b="0" lang="ru-RU" sz="2400" spc="-1" strike="noStrike">
                <a:solidFill>
                  <a:schemeClr val="accent3">
                    <a:lumMod val="75000"/>
                  </a:schemeClr>
                </a:solidFill>
                <a:latin typeface="Cambria"/>
              </a:rPr>
              <a:t>2-ой пол. V — 1-й пол. IV в. до н. э.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В широком смысле термин «софист» служил для обозначения искусного или мудрого человека.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5652000" y="188640"/>
            <a:ext cx="3096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2e900"/>
                </a:solidFill>
                <a:latin typeface="Cambria"/>
              </a:rPr>
              <a:t>(от др.-греч. σοφιστής — «умелец, изобретатель, мудрец, знаток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ambria"/>
              </a:rPr>
              <a:t>Представителей древнекитайской школы имён (мин цзя)</a:t>
            </a:r>
            <a:endParaRPr b="0" lang="ru-RU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Дэн Си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Гунсунь Луна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6012000" y="2493000"/>
            <a:ext cx="1771200" cy="2381040"/>
          </a:xfrm>
          <a:prstGeom prst="rect">
            <a:avLst/>
          </a:prstGeom>
          <a:ln w="0">
            <a:noFill/>
          </a:ln>
        </p:spPr>
      </p:pic>
      <p:sp>
        <p:nvSpPr>
          <p:cNvPr id="109" name="Объект 2"/>
          <p:cNvSpPr/>
          <p:nvPr/>
        </p:nvSpPr>
        <p:spPr>
          <a:xfrm>
            <a:off x="4068000" y="3549960"/>
            <a:ext cx="2664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Хуэй 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Периодизация и основные представители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3640" y="4149000"/>
            <a:ext cx="7020000" cy="21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широком смысле принято говорить о трех эпохах софистики: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ческая или древняя (</a:t>
            </a:r>
            <a:r>
              <a:rPr b="0" lang="ru-RU" sz="2400" spc="-1" strike="noStrike">
                <a:solidFill>
                  <a:srgbClr val="0b0080"/>
                </a:solidFill>
                <a:latin typeface="Arial"/>
              </a:rPr>
              <a:t>древнегре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a55858"/>
                </a:solidFill>
                <a:latin typeface="Arial"/>
              </a:rPr>
              <a:t>Втор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ли новая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a55858"/>
                </a:solidFill>
                <a:latin typeface="Arial"/>
              </a:rPr>
              <a:t>Треть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ли поздняя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3870720" y="1989000"/>
            <a:ext cx="4752000" cy="201600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Он (Протагор) первый заявил, что о всяком предмете можно сказать двояко и противоположным образом… о мысли он не заботился, спорил о словах, и повсеместное нынешнее племя спорщиков берёт своё начало от н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Диоген Лаэр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640" y="1558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199" strike="noStrike">
                <a:solidFill>
                  <a:srgbClr val="f7f8f4"/>
                </a:solidFill>
                <a:latin typeface="Cambria"/>
              </a:rPr>
              <a:t>Классическая или древняя (древнегреческая) софистика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Скругленный прямоугольник 3"/>
          <p:cNvSpPr/>
          <p:nvPr/>
        </p:nvSpPr>
        <p:spPr>
          <a:xfrm>
            <a:off x="4788000" y="1196640"/>
            <a:ext cx="403200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d5e1b8"/>
              </a:gs>
            </a:gsLst>
            <a:lin ang="5400000"/>
          </a:gradFill>
          <a:ln>
            <a:solidFill>
              <a:srgbClr val="9bb05e"/>
            </a:solidFill>
            <a:round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V — 1-я половина IV веков до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719274593"/>
              </p:ext>
            </p:extLst>
          </p:nvPr>
        </p:nvGraphicFramePr>
        <p:xfrm>
          <a:off x="755640" y="1556640"/>
          <a:ext cx="7920360" cy="5112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6"/>
          <p:cNvSpPr/>
          <p:nvPr/>
        </p:nvSpPr>
        <p:spPr>
          <a:xfrm>
            <a:off x="5411880" y="1845000"/>
            <a:ext cx="2496240" cy="4464000"/>
          </a:xfrm>
          <a:prstGeom prst="rect">
            <a:avLst/>
          </a:prstGeom>
          <a:solidFill>
            <a:srgbClr val="ffffff"/>
          </a:solidFill>
          <a:ln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640" y="332640"/>
            <a:ext cx="848484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b6bfe7"/>
                </a:solidFill>
                <a:latin typeface="Cambria"/>
              </a:rPr>
              <a:t>Вторая или новая софистика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1640" y="2925000"/>
            <a:ext cx="49683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сновные представители: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Лукиан Самосатский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Флавий Филострат и другие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8" name="Скругленный прямоугольник 3"/>
          <p:cNvSpPr/>
          <p:nvPr/>
        </p:nvSpPr>
        <p:spPr>
          <a:xfrm>
            <a:off x="5436000" y="1484640"/>
            <a:ext cx="244800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b2bae2"/>
              </a:gs>
            </a:gsLst>
            <a:lin ang="5400000"/>
          </a:gradFill>
          <a:ln>
            <a:solidFill>
              <a:srgbClr val="4e66b2"/>
            </a:solidFill>
            <a:round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2 — нач. 3 в.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4" descr=""/>
          <p:cNvPicPr/>
          <p:nvPr/>
        </p:nvPicPr>
        <p:blipFill>
          <a:blip r:embed="rId1"/>
          <a:stretch/>
        </p:blipFill>
        <p:spPr>
          <a:xfrm>
            <a:off x="5411880" y="1845000"/>
            <a:ext cx="2496240" cy="3984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5652000" y="5877360"/>
            <a:ext cx="2016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мышленный портрет Лукиана, XVII 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6"/>
          <p:cNvSpPr/>
          <p:nvPr/>
        </p:nvSpPr>
        <p:spPr>
          <a:xfrm>
            <a:off x="4068000" y="2781000"/>
            <a:ext cx="4422600" cy="252144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dfbfb"/>
                </a:solidFill>
                <a:latin typeface="Cambria"/>
              </a:rPr>
              <a:t>Третья или поздняя софистика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2061000"/>
            <a:ext cx="41040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сновные представители: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Либаний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Юлиан Отступник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4" name="Скругленный прямоугольник 3"/>
          <p:cNvSpPr/>
          <p:nvPr/>
        </p:nvSpPr>
        <p:spPr>
          <a:xfrm>
            <a:off x="5652000" y="1563120"/>
            <a:ext cx="1583640" cy="2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daa4a0"/>
              </a:gs>
            </a:gsLst>
            <a:lin ang="5400000"/>
          </a:gradFill>
          <a:ln>
            <a:solidFill>
              <a:srgbClr val="a63212"/>
            </a:solidFill>
            <a:round/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4 в.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4" descr=""/>
          <p:cNvPicPr/>
          <p:nvPr/>
        </p:nvPicPr>
        <p:blipFill>
          <a:blip r:embed="rId1"/>
          <a:stretch/>
        </p:blipFill>
        <p:spPr>
          <a:xfrm>
            <a:off x="4068000" y="2781000"/>
            <a:ext cx="4422600" cy="21520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5029560" y="4933440"/>
            <a:ext cx="231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Юлиан Отсту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Фрагменты класси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В более-менее полном виде сохранились: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Горгий. Сохранились две речи: «Похвала Елене» и «Защита Паламеда». В настоящее время считают эти речи подложными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Антифонт. Сохранилось несколько речей (так называемая «тетралогия») и фрагмент сочинения «Истина»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Критий. Через Секста Эмпирика до нас дошёл фрагмент текста «Сизиф». По мнению большинства современных исследователей, этот текст не принадлежит Критию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«Двоякие речи» анонимного автора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ketchbook">
  <a:themeElements>
    <a:clrScheme name="Sketchbook">
      <a:dk1>
        <a:srgbClr val="000000"/>
      </a:dk1>
      <a:lt1>
        <a:srgbClr val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ketchbook">
  <a:themeElements>
    <a:clrScheme name="Sketchbook">
      <a:dk1>
        <a:srgbClr val="000000"/>
      </a:dk1>
      <a:lt1>
        <a:srgbClr val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C101790492[[fn=Тетрадь для рисования]]</Template>
  <TotalTime>188</TotalTime>
  <Application>LibreOffice/7.4.7.2$Linux_X86_64 LibreOffice_project/40$Build-2</Application>
  <AppVersion>15.0000</AppVersion>
  <Words>760</Words>
  <Paragraphs>1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21:52:02Z</dcterms:created>
  <dc:creator>Вика</dc:creator>
  <dc:description/>
  <dc:language>en-US</dc:language>
  <cp:lastModifiedBy>LEGION</cp:lastModifiedBy>
  <dcterms:modified xsi:type="dcterms:W3CDTF">2014-11-11T08:05:03Z</dcterms:modified>
  <cp:revision>36</cp:revision>
  <dc:subject/>
  <dc:title>Софис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Екран (4:3)</vt:lpwstr>
  </property>
  <property fmtid="{D5CDD505-2E9C-101B-9397-08002B2CF9AE}" pid="4" name="Slides">
    <vt:r8>16</vt:r8>
  </property>
</Properties>
</file>