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applause.wav" ContentType="audio/x-wav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57AB-16C4-4C06-A677-346E1FC6DC7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А: ПЕРИОДИЧЕСКИЙ ЗАКОН Д. И. Менделеев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Группы химических элементов  и подгруппы- главная и побо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Периоды большие и ма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14BD-8DCC-470F-A854-4118585B66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4117-2AA0-4984-8F78-D48E373B2D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ccff"/>
                </a:solidFill>
                <a:latin typeface="Calibri"/>
                <a:ea typeface="Arial"/>
              </a:rPr>
              <a:t>Открытие периодического        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A3D-422E-4C2D-8E6E-69014BDC08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579D-37AE-44B6-B196-F25CD5A38E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mic Sans MS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=50              Zr=90          ?=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=51              Nb=94        Ta=1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=52             Mo=96         W=1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n=5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h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=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u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=1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=Co=59           Pl=106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Os=1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=1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=63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=108        Hg=2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=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=24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=6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d=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=11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=27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6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Ur=116        Au=19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=12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=2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7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n=1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14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=3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=7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b=122       Bi=21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=16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3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=7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Te=12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=19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=3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=8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I=1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=7  Na=23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=39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b=85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Cs=133        Tl=2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=40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=87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=137        Pb=2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4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=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Er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=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Yt=6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=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In=7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=11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F5DE-4901-4077-BEDA-8189DA346F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1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ACE4-44EE-4439-8F62-11E6AA015C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710C-AF8D-44BC-B059-DAE5B9CAA1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15F-57D8-40E6-85AA-483CCA2F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855-6E67-451E-9207-12EA9792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E31-8DFC-4687-824E-7B79C991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F15-E3AE-4AE7-BA58-6461EB35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D9AF-A249-4D73-B0E6-6F58B21D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33C6-5BCD-44F1-9BF0-B8A01C74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ABE8-6A2E-4AFD-8EE9-FB9A9A3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4887-AEF3-47D9-87E4-2477DDA8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3BB1-96B6-4FAE-8674-B5CE2303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DFBE-AF94-4DDA-846F-9B941AD7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0C72-BB0D-4F63-B625-6B8EEDD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2B9-CAD3-42B4-A369-686867A3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0F92-3B51-4550-BB96-07C7FBE5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905A-CAE4-4F0A-888D-AE9A061F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90D9-D8C8-4C90-AA15-F940A33E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7705-D42C-4CAF-AA7D-9AC847C7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5D3D-9121-41A4-A824-F4799EA9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897-2849-42F4-A896-575C2B38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770-2E3B-4DAC-B0D3-0D688D7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B88-2D38-46C3-BAA0-F8129963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83F-7B71-4C93-A230-FB860E8D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E59-4F39-498F-8660-41E6845E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441-87C4-4744-91F1-BFF342E8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22A-37FA-4E2D-98FF-732563D2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73ED-4FCD-4F56-9F21-986F839EBD7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59C2-A339-4724-B231-ECFB108460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: ПЕРИОДИЧЕСКИЙ ЗАКОН Д. И. Менделее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руппы химических элементов  и подгруппы- главная и побоч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Периоды большие и ма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A:\менделеев"/>
          <p:cNvPicPr/>
          <p:nvPr/>
        </p:nvPicPr>
        <p:blipFill>
          <a:blip r:embed="rId1"/>
          <a:stretch/>
        </p:blipFill>
        <p:spPr>
          <a:xfrm>
            <a:off x="0" y="404640"/>
            <a:ext cx="2987640" cy="3384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059280" y="2276640"/>
            <a:ext cx="57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 flipH="1">
            <a:off x="0" y="6093000"/>
            <a:ext cx="900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900000" y="6093000"/>
            <a:ext cx="0" cy="765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76364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70036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63528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0072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364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227640" y="6093000"/>
            <a:ext cx="1043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23600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8172360" y="609300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0" y="530064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0" y="450864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371628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0" y="292428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0" y="213372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141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765000"/>
            <a:ext cx="90000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900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1763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270036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363528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50072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5364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6227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8172360" y="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7093080" y="0"/>
            <a:ext cx="1079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8172360" y="76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8172360" y="148428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33"/>
          <p:cNvSpPr/>
          <p:nvPr/>
        </p:nvSpPr>
        <p:spPr>
          <a:xfrm>
            <a:off x="8172360" y="220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8172360" y="292428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8172360" y="364500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8172360" y="436572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8172360" y="522936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1547640" y="1268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ff"/>
                </a:solidFill>
                <a:latin typeface="Tahoma"/>
                <a:ea typeface="Arial"/>
              </a:rPr>
              <a:t>Открытие периодического         зак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9" descr="j0300840"/>
          <p:cNvPicPr/>
          <p:nvPr/>
        </p:nvPicPr>
        <p:blipFill>
          <a:blip r:embed="rId1"/>
          <a:stretch/>
        </p:blipFill>
        <p:spPr>
          <a:xfrm>
            <a:off x="1476360" y="2660760"/>
            <a:ext cx="2879640" cy="26510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9"/>
          <p:cNvSpPr/>
          <p:nvPr/>
        </p:nvSpPr>
        <p:spPr>
          <a:xfrm>
            <a:off x="468360" y="126828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68360" y="1844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15" descr="j0299125"/>
          <p:cNvPicPr/>
          <p:nvPr/>
        </p:nvPicPr>
        <p:blipFill>
          <a:blip r:embed="rId1"/>
          <a:stretch/>
        </p:blipFill>
        <p:spPr>
          <a:xfrm>
            <a:off x="3924360" y="4653000"/>
            <a:ext cx="1079280" cy="1805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09480" y="404640"/>
            <a:ext cx="7772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55640" y="1557360"/>
          <a:ext cx="7201080" cy="594828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59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=50              Zr=90          ?=18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=51              Nb=94        Ta=18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=52             Mo=96         W=18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n=5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h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=19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u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=19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i=Co=59           Pl=106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Os=19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=1         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=63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g=108        Hg=20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=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g=24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n=6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=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=11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=27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6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Ur=116        Au=197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=1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=2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7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n=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=14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=3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=7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b=122       Bi=210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=16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=3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=7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Te=12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=1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=3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5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=8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I=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=7  Na=23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=39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b=85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Cs=133        Tl=2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=40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r=87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6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=137        Pb=20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4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=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Er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=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Yt=6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=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In=7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=11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692280"/>
            <a:ext cx="7632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trips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хим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410920" y="3860280"/>
            <a:ext cx="626436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5" descr="j0301076"/>
          <p:cNvPicPr/>
          <p:nvPr/>
        </p:nvPicPr>
        <p:blipFill>
          <a:blip r:embed="rId1"/>
          <a:stretch/>
        </p:blipFill>
        <p:spPr>
          <a:xfrm>
            <a:off x="324000" y="404640"/>
            <a:ext cx="3168360" cy="27370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7:45:53Z</dcterms:created>
  <dc:creator>ткачева</dc:creator>
  <dc:description/>
  <dc:language>en-US</dc:language>
  <cp:lastModifiedBy>LEGION</cp:lastModifiedBy>
  <dcterms:modified xsi:type="dcterms:W3CDTF">2015-05-01T11:05:11Z</dcterms:modified>
  <cp:revision>16</cp:revision>
  <dc:subject/>
  <dc:title>Презентация PowerPoint</dc:title>
</cp:coreProperties>
</file>