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applause.wav" ContentType="audio/x-wav"/>
  <Override PartName="/ppt/media/image4.jpeg" ContentType="image/jpe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B333A-2D66-470B-A11E-340902AEE98A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ЕМА: ПЕРИОДИЧЕСКИЙ ЗАКОН Д. И. Менделеева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                                           1.История открытия Периодической системы химических элементов Д.И. Менделее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Группы химических элементов  и подгруппы- главная и побоч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Периоды большие и мал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3716C-4AFE-4989-8867-5280E0FBCE6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cc"/>
                </a:solidFill>
                <a:latin typeface="Comic Sans MS"/>
                <a:ea typeface="Arial"/>
              </a:rPr>
              <a:t>Д.И.Менделеев (1834-1907)-великий русский учёный. Открыл периодический закон химических элементов. Автор классического труда «Основы химии», фундаментальных исследований по химии, физике, метрологии. Предложил промышленный способ фракционного разделения нефти, изобрёл вид бездымного поро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AD4DC-F989-4FAF-947A-C73278CEDFF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ccff"/>
                </a:solidFill>
                <a:latin typeface="Calibri"/>
                <a:ea typeface="Arial"/>
              </a:rPr>
              <a:t>Открытие периодического         зак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162D5-3D50-448B-A27D-C01585A2B28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66"/>
                </a:solidFill>
                <a:latin typeface="Times New Roman"/>
                <a:ea typeface="Arial"/>
              </a:rPr>
              <a:t>Давайте вспомним, как же все свершилос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66"/>
                </a:solidFill>
                <a:latin typeface="Times New Roman"/>
                <a:ea typeface="Arial"/>
              </a:rPr>
              <a:t>Каков был путь открытия и к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66"/>
                </a:solidFill>
                <a:latin typeface="Times New Roman"/>
                <a:ea typeface="Arial"/>
              </a:rPr>
              <a:t>Идея новая в науке утвердилас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66"/>
                </a:solidFill>
                <a:latin typeface="Times New Roman"/>
                <a:ea typeface="Arial"/>
              </a:rPr>
              <a:t>Отметив только в нескольких страниц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AFFDF-60FB-4E17-868D-3F7D9655DDA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omic Sans MS"/>
              </a:rPr>
              <a:t>«Опыт системы элементов, основанной на их атомном весе и химическом сходстве» (1 марта 1869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i=50              Zr=90          ?=18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=51              Nb=94        Ta=18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r=52             Mo=96         W=18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n=55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Rh=104,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t=19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e=56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Ru=104,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r=19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i=Co=59           Pl=106,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6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Os=19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=1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u=63,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g=108        Hg=2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e=9,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            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g=24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Zn=65,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d=1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=11   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=27,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?=68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Ur=116        Au=197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=12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=28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?=70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Sn=1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=14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=31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s=75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Sb=122       Bi=210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=16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=32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=79,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Te=128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=19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=35,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5      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r=80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I=1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i=7  Na=23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=39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b=85,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Cs=133        Tl=20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=40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r=87,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6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=137        Pb=20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?=45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e=9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?Er=56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=9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?Yt=60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=9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?In=75,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6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=118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A1BA6-3151-47D4-BEE3-699307876D1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Ваше слово, Дмитрий Менделеев</a:t>
            </a:r>
            <a:r>
              <a:rPr b="0" i="1" lang="en-US" sz="16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Великий ум на почве благодат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Закономерности увидел ни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Расположив согласно массам атом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Вдохнул в свою  систему жиз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На вдруг, однако, и не просто это был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Не поддаваясь мелкой сует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Идея устояла, победил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Рожден закон в великой просто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97254-B6B6-47CB-A53E-A74748E3148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99cc"/>
                </a:solidFill>
                <a:latin typeface="Times New Roman"/>
              </a:rPr>
              <a:t>Системе не грозит уничтожение,                                                               Развитию не видно же конца.                                                               21 век дает лишь уточненья                                                               Трактовке гениального твор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4C756-E781-4035-84A4-DFDA1D1650F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7D1D-EFB3-4EE4-84C5-98F573418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CA1C-AD9B-4887-86DA-D3C56C4CD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3B99-D88A-49DE-B408-E7287DEE7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B0FD-E747-4061-A714-D8572FDCF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0BF7C-299B-4A76-BA7D-91C84889A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96147-4007-4B28-803B-E620B4C33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54007-2E32-4210-9D43-F3E24C7E2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85F4D-F261-412D-B39F-D34FF3815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721B4-F827-4795-B233-3ADD837E1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BF6B3-D831-401A-99C7-7398F2958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C9FC2-8534-4ED8-B67E-A5891F33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3DE3-3B9B-4865-91A7-0F7F53369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EBF89-A85D-4648-9EF5-F1E32D71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3E118-D774-44C4-A821-F87DC2E9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AF39F-3698-4EBA-B883-381FAA582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573E2-D549-40A2-88CF-A9F1BC7FE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62598-7E93-4937-8110-D34027E1B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329C-FF5D-41C4-B61D-FC6850B07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882D-EBD4-4A4C-B7E0-363D74492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8FBB-9B58-4E7F-8F22-857E02293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6E88-8DB9-4DDF-9CF3-6E795A4C9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B0F9-B402-4FFF-8C50-41C7109E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12FB-1CE9-4CFE-95A3-47465CE5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3640-F17E-4CBC-A94C-64E401F0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6BC08-92EC-4418-81D9-D8107EECC323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78BBA-0230-490F-B3BB-4E6FA68BB8B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ТЕМА: ПЕРИОДИЧЕСКИЙ ЗАКОН Д. И. Менделеева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ЛАН                                            1.История открытия Периодической системы химических элементов Д.И. Менделее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Группы химических элементов  и подгруппы- главная и побочна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Периоды большие и мал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A:\менделеев"/>
          <p:cNvPicPr/>
          <p:nvPr/>
        </p:nvPicPr>
        <p:blipFill>
          <a:blip r:embed="rId1"/>
          <a:stretch/>
        </p:blipFill>
        <p:spPr>
          <a:xfrm>
            <a:off x="0" y="404640"/>
            <a:ext cx="2987640" cy="33847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6"/>
          <p:cNvSpPr/>
          <p:nvPr/>
        </p:nvSpPr>
        <p:spPr>
          <a:xfrm>
            <a:off x="3059280" y="2276640"/>
            <a:ext cx="5724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Comic Sans MS"/>
                <a:ea typeface="Arial"/>
              </a:rPr>
              <a:t>Д.И.Менделеев (1834-1907)-великий русский учёный. Открыл периодический закон химических элементов. Автор классического труда «Основы химии», фундаментальных исследований по химии, физике, метрологии. Предложил промышленный способ фракционного разделения нефти, изобрёл вид бездымного порох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Line 2"/>
          <p:cNvSpPr/>
          <p:nvPr/>
        </p:nvSpPr>
        <p:spPr>
          <a:xfrm flipH="1">
            <a:off x="0" y="6093000"/>
            <a:ext cx="900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Line 3"/>
          <p:cNvSpPr/>
          <p:nvPr/>
        </p:nvSpPr>
        <p:spPr>
          <a:xfrm>
            <a:off x="900000" y="6093000"/>
            <a:ext cx="0" cy="7650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0" y="6093000"/>
            <a:ext cx="90000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L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900000" y="6093000"/>
            <a:ext cx="90036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G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1763640" y="6093000"/>
            <a:ext cx="90036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P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2700360" y="6093000"/>
            <a:ext cx="90000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S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3635280" y="6093000"/>
            <a:ext cx="90036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4500720" y="6093000"/>
            <a:ext cx="90000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P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5364000" y="6093000"/>
            <a:ext cx="90036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T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Rectangle 11"/>
          <p:cNvSpPr/>
          <p:nvPr/>
        </p:nvSpPr>
        <p:spPr>
          <a:xfrm>
            <a:off x="6227640" y="6093000"/>
            <a:ext cx="104328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Rectangle 12"/>
          <p:cNvSpPr/>
          <p:nvPr/>
        </p:nvSpPr>
        <p:spPr>
          <a:xfrm>
            <a:off x="7236000" y="6093000"/>
            <a:ext cx="90000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Rectangle 13"/>
          <p:cNvSpPr/>
          <p:nvPr/>
        </p:nvSpPr>
        <p:spPr>
          <a:xfrm>
            <a:off x="8172360" y="6093000"/>
            <a:ext cx="97164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C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Rectangle 14"/>
          <p:cNvSpPr/>
          <p:nvPr/>
        </p:nvSpPr>
        <p:spPr>
          <a:xfrm>
            <a:off x="0" y="5300640"/>
            <a:ext cx="900000" cy="76536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I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Rectangle 15"/>
          <p:cNvSpPr/>
          <p:nvPr/>
        </p:nvSpPr>
        <p:spPr>
          <a:xfrm>
            <a:off x="0" y="4508640"/>
            <a:ext cx="90000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N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Rectangle 16"/>
          <p:cNvSpPr/>
          <p:nvPr/>
        </p:nvSpPr>
        <p:spPr>
          <a:xfrm>
            <a:off x="0" y="3716280"/>
            <a:ext cx="900000" cy="76536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Rectangle 17"/>
          <p:cNvSpPr/>
          <p:nvPr/>
        </p:nvSpPr>
        <p:spPr>
          <a:xfrm>
            <a:off x="0" y="2924280"/>
            <a:ext cx="90000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F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Rectangle 18"/>
          <p:cNvSpPr/>
          <p:nvPr/>
        </p:nvSpPr>
        <p:spPr>
          <a:xfrm>
            <a:off x="0" y="2133720"/>
            <a:ext cx="90000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Rectangle 19"/>
          <p:cNvSpPr/>
          <p:nvPr/>
        </p:nvSpPr>
        <p:spPr>
          <a:xfrm>
            <a:off x="0" y="1413000"/>
            <a:ext cx="90000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Rectangle 20"/>
          <p:cNvSpPr/>
          <p:nvPr/>
        </p:nvSpPr>
        <p:spPr>
          <a:xfrm>
            <a:off x="0" y="765000"/>
            <a:ext cx="900000" cy="71928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Rectangle 21"/>
          <p:cNvSpPr/>
          <p:nvPr/>
        </p:nvSpPr>
        <p:spPr>
          <a:xfrm>
            <a:off x="0" y="0"/>
            <a:ext cx="90000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B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Rectangle 22"/>
          <p:cNvSpPr/>
          <p:nvPr/>
        </p:nvSpPr>
        <p:spPr>
          <a:xfrm>
            <a:off x="900000" y="0"/>
            <a:ext cx="90036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C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Rectangle 23"/>
          <p:cNvSpPr/>
          <p:nvPr/>
        </p:nvSpPr>
        <p:spPr>
          <a:xfrm>
            <a:off x="1763640" y="0"/>
            <a:ext cx="90036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Rectangle 24"/>
          <p:cNvSpPr/>
          <p:nvPr/>
        </p:nvSpPr>
        <p:spPr>
          <a:xfrm>
            <a:off x="2700360" y="0"/>
            <a:ext cx="90000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Rectangle 25"/>
          <p:cNvSpPr/>
          <p:nvPr/>
        </p:nvSpPr>
        <p:spPr>
          <a:xfrm>
            <a:off x="3635280" y="0"/>
            <a:ext cx="90036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Rectangle 26"/>
          <p:cNvSpPr/>
          <p:nvPr/>
        </p:nvSpPr>
        <p:spPr>
          <a:xfrm>
            <a:off x="4500720" y="0"/>
            <a:ext cx="90000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B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Rectangle 27"/>
          <p:cNvSpPr/>
          <p:nvPr/>
        </p:nvSpPr>
        <p:spPr>
          <a:xfrm>
            <a:off x="5364000" y="0"/>
            <a:ext cx="90036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M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Rectangle 28"/>
          <p:cNvSpPr/>
          <p:nvPr/>
        </p:nvSpPr>
        <p:spPr>
          <a:xfrm>
            <a:off x="6227640" y="0"/>
            <a:ext cx="90036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H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Rectangle 29"/>
          <p:cNvSpPr/>
          <p:nvPr/>
        </p:nvSpPr>
        <p:spPr>
          <a:xfrm>
            <a:off x="8172360" y="0"/>
            <a:ext cx="97164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Rectangle 30"/>
          <p:cNvSpPr/>
          <p:nvPr/>
        </p:nvSpPr>
        <p:spPr>
          <a:xfrm>
            <a:off x="7093080" y="0"/>
            <a:ext cx="107928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S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Rectangle 31"/>
          <p:cNvSpPr/>
          <p:nvPr/>
        </p:nvSpPr>
        <p:spPr>
          <a:xfrm>
            <a:off x="8172360" y="765000"/>
            <a:ext cx="971640" cy="71928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Rectangle 32"/>
          <p:cNvSpPr/>
          <p:nvPr/>
        </p:nvSpPr>
        <p:spPr>
          <a:xfrm>
            <a:off x="8172360" y="1484280"/>
            <a:ext cx="971640" cy="71928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B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Rectangle 33"/>
          <p:cNvSpPr/>
          <p:nvPr/>
        </p:nvSpPr>
        <p:spPr>
          <a:xfrm>
            <a:off x="8172360" y="2205000"/>
            <a:ext cx="971640" cy="71928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Rectangle 34"/>
          <p:cNvSpPr/>
          <p:nvPr/>
        </p:nvSpPr>
        <p:spPr>
          <a:xfrm>
            <a:off x="8172360" y="2924280"/>
            <a:ext cx="971640" cy="71892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Rectangle 35"/>
          <p:cNvSpPr/>
          <p:nvPr/>
        </p:nvSpPr>
        <p:spPr>
          <a:xfrm>
            <a:off x="8172360" y="3645000"/>
            <a:ext cx="971640" cy="71892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Rectangle 36"/>
          <p:cNvSpPr/>
          <p:nvPr/>
        </p:nvSpPr>
        <p:spPr>
          <a:xfrm>
            <a:off x="8172360" y="4365720"/>
            <a:ext cx="971640" cy="86364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Rectangle 37"/>
          <p:cNvSpPr/>
          <p:nvPr/>
        </p:nvSpPr>
        <p:spPr>
          <a:xfrm>
            <a:off x="8172360" y="5229360"/>
            <a:ext cx="971640" cy="86364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Rectangle 54"/>
          <p:cNvSpPr/>
          <p:nvPr/>
        </p:nvSpPr>
        <p:spPr>
          <a:xfrm>
            <a:off x="1547640" y="126828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cff"/>
                </a:solidFill>
                <a:latin typeface="Tahoma"/>
                <a:ea typeface="Arial"/>
              </a:rPr>
              <a:t>Открытие периодического         зако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2" name="Picture 59" descr="j0300840"/>
          <p:cNvPicPr/>
          <p:nvPr/>
        </p:nvPicPr>
        <p:blipFill>
          <a:blip r:embed="rId1"/>
          <a:stretch/>
        </p:blipFill>
        <p:spPr>
          <a:xfrm>
            <a:off x="1476360" y="2660760"/>
            <a:ext cx="2879640" cy="2651040"/>
          </a:xfrm>
          <a:prstGeom prst="rect">
            <a:avLst/>
          </a:prstGeom>
          <a:ln w="0">
            <a:noFill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diamond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" dur="1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183" dur="1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184" dur="1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9"/>
          <p:cNvSpPr/>
          <p:nvPr/>
        </p:nvSpPr>
        <p:spPr>
          <a:xfrm>
            <a:off x="468360" y="1268280"/>
            <a:ext cx="813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468360" y="1844640"/>
            <a:ext cx="8172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66"/>
                </a:solidFill>
                <a:latin typeface="Times New Roman"/>
                <a:ea typeface="Arial"/>
              </a:rPr>
              <a:t>Давайте вспомним, как же все свершилос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66"/>
                </a:solidFill>
                <a:latin typeface="Times New Roman"/>
                <a:ea typeface="Arial"/>
              </a:rPr>
              <a:t>Каков был путь открытия и ка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66"/>
                </a:solidFill>
                <a:latin typeface="Times New Roman"/>
                <a:ea typeface="Arial"/>
              </a:rPr>
              <a:t>Идея новая в науке утвердилас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66"/>
                </a:solidFill>
                <a:latin typeface="Times New Roman"/>
                <a:ea typeface="Arial"/>
              </a:rPr>
              <a:t>Отметив только в нескольких страница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6" name="Picture 15" descr="j0299125"/>
          <p:cNvPicPr/>
          <p:nvPr/>
        </p:nvPicPr>
        <p:blipFill>
          <a:blip r:embed="rId1"/>
          <a:stretch/>
        </p:blipFill>
        <p:spPr>
          <a:xfrm>
            <a:off x="3924360" y="4653000"/>
            <a:ext cx="1079280" cy="180504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split dir="in" orient="vert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5"/>
          <p:cNvSpPr/>
          <p:nvPr/>
        </p:nvSpPr>
        <p:spPr>
          <a:xfrm>
            <a:off x="609480" y="404640"/>
            <a:ext cx="777240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«Опыт системы элементов, основанной на их атомном весе и химическом сходстве» (1 марта 1869 г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55640" y="1557360"/>
          <a:ext cx="7201080" cy="5948280"/>
        </p:xfrm>
        <a:graphic>
          <a:graphicData uri="http://schemas.openxmlformats.org/drawingml/2006/table">
            <a:tbl>
              <a:tblPr/>
              <a:tblGrid>
                <a:gridCol w="7201080"/>
              </a:tblGrid>
              <a:tr h="594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  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i=50              Zr=90          ?=180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V=51              Nb=94        Ta=18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r=52             Mo=96         W=186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n=55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Rh=104,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4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t=197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e=56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Ru=104,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4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r=198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i=Co=59           Pl=106,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6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Os=199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H=1                                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u=63,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4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g=108        Hg=200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e=9,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4            </a:t>
                      </a:r>
                      <a:r>
                        <a:rPr b="0" lang="ru-RU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g=24   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Zn=65,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d=1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=11        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l=27,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4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?=68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Ur=116        Au=197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=12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i=28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?=70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Sn=1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=14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=31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s=75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Sb=122       Bi=210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O=16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=32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e=79,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4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Te=128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=19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l=35,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5      </a:t>
                      </a:r>
                      <a:r>
                        <a:rPr b="0" lang="ru-RU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r=80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I=12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i=7  Na=23     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K=39     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Rb=85,</a:t>
                      </a:r>
                      <a:r>
                        <a:rPr b="0" lang="en-US" sz="14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Cs=133        Tl=204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       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a=40   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r=87,</a:t>
                      </a:r>
                      <a:r>
                        <a:rPr b="0" lang="en-US" sz="14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6   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a=137        Pb=207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       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?=45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e=9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?Er=56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a=9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?Yt=60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i=9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?In=75,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6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=118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pull dir="l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611280" y="692280"/>
            <a:ext cx="763272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Ваше слово, Дмитрий Менделеев</a:t>
            </a:r>
            <a:r>
              <a:rPr b="0" i="1" lang="en-US" sz="36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Великий ум на почве благодатн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Закономерности увидел нит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Расположив согласно массам атомы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Вдохнул в свою  систему жизн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На вдруг, однако, и не просто это был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Не поддаваясь мелкой сует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Идея устояла, победил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Рожден закон в великой простот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strips dir="lu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98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6" name="Picture 5" descr="химия"/>
          <p:cNvPicPr/>
          <p:nvPr/>
        </p:nvPicPr>
        <p:blipFill>
          <a:blip r:embed="rId1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wedg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98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2410920" y="3860280"/>
            <a:ext cx="626436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99cc"/>
                </a:solidFill>
                <a:latin typeface="Times New Roman"/>
              </a:rPr>
              <a:t>Системе не грозит уничтожение,                                                               Развитию не видно же конца.                                                               21 век дает лишь уточненья                                                               Трактовке гениального творц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9" name="Picture 5" descr="j0301076"/>
          <p:cNvPicPr/>
          <p:nvPr/>
        </p:nvPicPr>
        <p:blipFill>
          <a:blip r:embed="rId1"/>
          <a:stretch/>
        </p:blipFill>
        <p:spPr>
          <a:xfrm>
            <a:off x="324000" y="404640"/>
            <a:ext cx="3168360" cy="273708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split dir="in" orient="horz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2T17:45:53Z</dcterms:created>
  <dc:creator>ткачева</dc:creator>
  <dc:description/>
  <dc:language>en-US</dc:language>
  <cp:lastModifiedBy>LEGION</cp:lastModifiedBy>
  <dcterms:modified xsi:type="dcterms:W3CDTF">2015-05-01T11:05:11Z</dcterms:modified>
  <cp:revision>16</cp:revision>
  <dc:subject/>
  <dc:title>Презентация PowerPoint</dc:title>
</cp:coreProperties>
</file>