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FCB7-0815-469F-BF43-947436426A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B392-7AAD-42CD-A2C6-C85B4B1D6F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атегория обучающихс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держание курс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рок обучения по данному курсу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 одной недели до двух месяцев (определяется индивидуаль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онтроль знаний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ценивание результата: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«3» - выполнено 50% заданий, «4» - 75%, «5» - 100 %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Результат обучени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чет (незачет) изученн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131E-E0A0-4AFC-B237-07DFC50306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и являются в неорганической химии:  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Z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Cr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G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S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Pb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ганической химии типичными представителями являются амино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CH – C             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мино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 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3437-A177-4529-9D02-6EBF37EF61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В реакциях с кислотами амфотерные оксиды ведут себя как основные окси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6НСl = 2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еакциях со щелочами амфотерные оксиды ведут себя как кислотные окс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2NаОН  = 2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1B34-29A6-4916-9553-8E2EF7F3BE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ЗНСl = 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NаОН  = 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2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3D12-6DF1-44DC-B6DF-D3FB9BEFF7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H –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 O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миногруппа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ffff00"/>
                </a:solidFill>
                <a:uFillTx/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Карбоксильная группа,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дон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ислот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E507-8739-4FB8-BB2C-A27170030C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ислот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H + NaOH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Na + 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3D1B-0483-437D-93DD-DC7CD13340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Основ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3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C5C0-198C-47B0-AD9F-9994295A36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гидр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d-8cff-11db-b606-0800200c9a66/ch11_22_03.sw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c-8cff-11db-b606-0800200c9a66/ch11_22_02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B064-119A-4730-801E-F9D0D66B14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6118-4391-4EA5-8C24-8D1918BF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4FDF-D282-4112-AEDF-15153CBA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5B24-DE59-47DC-996E-D44DE18D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7776-D2D8-4646-B784-9B137439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6F949-B696-4F25-AB90-BB358FCB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82613-5A65-4671-9060-7AF9587F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BD8AB-C7E9-4DE5-B9AB-A2D94872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4FDD8-682A-4E3B-BBA5-9D23FA21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FF316-A159-4FA1-A0BA-D6A1F722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6AA52-508E-4555-B394-74C31BC6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7FA14-D8FE-46D0-BC52-C19D7EF2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66FB-7E64-47BC-A409-8F360179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FC6F7-7C58-476E-9EA7-1B842F5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353CA-2F1D-4943-AB65-A384702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DC5FA-C2AA-4546-BC41-278A7B03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330C8-E968-4AC0-AC24-108FF505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CED4-1FD0-4746-BAB1-6C9C3691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AF58-F4E1-413D-BAB4-7944CE96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DD99-8ED9-4C9F-88B9-2502F53D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9E44-7D8A-47FB-8B44-9394A576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5191-E681-48AD-9146-6FD0F600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DC01-A69E-4F18-A66D-DAC2EDCA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089E-B0A2-4164-8525-F74C32D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C725-83E0-4010-840E-9AF7D30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9833-A914-4FBF-93B7-E2B7F2C449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69B4-9705-4822-AB49-AD9FC64FF3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19280" y="2276280"/>
            <a:ext cx="8424720" cy="30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51212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атегория обучающихс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одержание курса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рок обучения по данному курсу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от одной недели до двух месяцев (определяется индивидуально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онтроль знаний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ffff"/>
                </a:solidFill>
                <a:latin typeface="Arial"/>
              </a:rPr>
              <a:t>Оценивание результата: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 «3» - выполнено 50% заданий, «4» - 75%, «5» - 100 % задан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Результат обучени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зачет (незачет) изученной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718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и являются в неорганической химии:  Аl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Z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Cr(ОН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G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S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Pb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ической химии типичными представителями являются аминокисл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– CH – C             a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мино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          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3419640" y="4508640"/>
            <a:ext cx="1368360" cy="791640"/>
            <a:chOff x="3419640" y="4508640"/>
            <a:chExt cx="1368360" cy="791640"/>
          </a:xfrm>
        </p:grpSpPr>
        <p:sp>
          <p:nvSpPr>
            <p:cNvPr id="108" name="Line 4"/>
            <p:cNvSpPr/>
            <p:nvPr/>
          </p:nvSpPr>
          <p:spPr>
            <a:xfrm flipH="1">
              <a:off x="4427280" y="450864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3419640" y="5083200"/>
              <a:ext cx="0" cy="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4500360" y="457992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500720" y="5083200"/>
              <a:ext cx="287280" cy="21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6596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В реакциях с кислотами амфотерные оксиды ведут себя как основные оксид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7007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6НСl = 2АlС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 реакциях со щелочами амфотерные оксиды ведут себя как кислотные окс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2NаОН  = 2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805800" cy="17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565360"/>
            <a:ext cx="777240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 ЗНСl = АlС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NаОН  = 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751212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790280"/>
            <a:ext cx="7956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H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 O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миногрупп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цепт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боксильная группа,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- дон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т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635280" y="2852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0240" y="620640"/>
            <a:ext cx="794376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ислот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35280" y="2565000"/>
            <a:ext cx="69847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H + NaOH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Na +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92280"/>
            <a:ext cx="7993080" cy="7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нов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3276720" y="2781360"/>
            <a:ext cx="4174920" cy="647640"/>
            <a:chOff x="3276720" y="2781360"/>
            <a:chExt cx="4174920" cy="647640"/>
          </a:xfrm>
        </p:grpSpPr>
        <p:sp>
          <p:nvSpPr>
            <p:cNvPr id="129" name="AutoShape 4"/>
            <p:cNvSpPr/>
            <p:nvPr/>
          </p:nvSpPr>
          <p:spPr>
            <a:xfrm>
              <a:off x="3276720" y="2924280"/>
              <a:ext cx="73080" cy="504720"/>
            </a:xfrm>
            <a:custGeom>
              <a:avLst/>
              <a:gdLst>
                <a:gd name="textAreaLeft" fmla="*/ 21240 w 73080"/>
                <a:gd name="textAreaRight" fmla="*/ 73440 w 7308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 flipH="1">
              <a:off x="6227640" y="2924280"/>
              <a:ext cx="144720" cy="504720"/>
            </a:xfrm>
            <a:custGeom>
              <a:avLst/>
              <a:gdLst>
                <a:gd name="textAreaLeft" fmla="*/ 42840 w 144720"/>
                <a:gd name="textAreaRight" fmla="*/ 145440 w 14472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7236000" y="299736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6372360" y="292428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6516720" y="278136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452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ния для самопроверк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1790280"/>
            <a:ext cx="774072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гидр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d-8cff-11db-b606-0800200c9a66/ch11_22_03.sw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c-8cff-11db-b606-0800200c9a66/ch11_22_02.sw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8:49:50Z</dcterms:created>
  <dc:creator>User</dc:creator>
  <dc:description/>
  <dc:language>en-US</dc:language>
  <cp:lastModifiedBy>LEGION</cp:lastModifiedBy>
  <dcterms:modified xsi:type="dcterms:W3CDTF">2015-05-01T11:08:35Z</dcterms:modified>
  <cp:revision>10</cp:revision>
  <dc:subject/>
  <dc:title>Амфотерные гидрооксиды </dc:title>
</cp:coreProperties>
</file>