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BAEF-1BED-4B48-A6BB-80BEE7EDEF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асные вещества и их регулирова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Балтийском регионе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приоритетных веществ ПДБ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1017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Диоксины, фураны и диоксиноподоб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полихлорированные бифенилы (ПХ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Соединения трибутил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Соединения трифенил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Пентабромдифениловый  эф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Октабромдифениловый эф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Декабромдифениловый эф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Сульфонат перфторокт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Перфтороктановая кисл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5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Гексабромциклододек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Нон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Этоксилированные нон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7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Окт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7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Этоксилированные окт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8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Хлорированные парафины с короткой цепью (хлоралканы, 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0-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8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Хлорированные парафины со средней цепью (хлоралканы, 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4-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9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Эндосульф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0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Рт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1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Кадм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1DCC-A3D5-4565-BA02-664AD7FC8C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ДБМ по опасным веще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нение ограничений для отдельных веще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рет и замена, где необходимо и возмож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НИТ и НЭП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T/BE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ка национальных програм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ка реестров 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сная оценка сто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уровня знаний и компет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ад в работу других международных фору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EA6A-633A-49BA-8AB3-2C0B83E702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H</a:t>
            </a:r>
            <a:br>
              <a:rPr sz="28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EACH: Registration, Evaluation, 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Authorization of Chemicals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REACH регулирует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изводство, импорт, продажу и использование химикатов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E36C-7451-4BD2-B585-E911FA2F88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ключения из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используемые в продуктах питания и кормах для живот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используемые в медицинские това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 в реимпортируемы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ах (если они были зарегистрированы до их экспорта из 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 в отход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меры (за исключением мономер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 для НИОКР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содержащиеся в приложен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гламенту ЕС № 190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6 (68 веществ в отношении которых имеется достаточная информация, подтверждающая их использование с наименьшим риском для здоровь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содержащиеся в приложен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гламенту ЕС № 190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6 (9 категорий веществ, однако возможно их участие в процедурах оценки и разреш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возникающие в результате химической реакции с окружающей средой, в результате хранения других веществ или при их эксплуатации в том случае, если они самостоятельно не были произведены и размещены на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минералы и руды в том случае, если они не подвергаются химическим превращениям (переработка ручным, механическим или гравитационным способами не требует их регистр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D627-42F3-42EB-A068-820BA92400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ые ОВ (кроме ХЕЛ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щества вызывающие особую озабоченность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VH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ACH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требуют разрешения на обращение со стороны ЕС. Свой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MRs, (Carcinogenic, Mutagenic, Toxic to Reprodu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BTs, (Persistent, Toxic and Bioaccumula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PvBs; (very Persistent, very Bioaccumulating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определенные как «имеющие серьезное необратимое влияние на человека и ОС» эквивалетные другим 3 категор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будет опубликован 1 августа 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приоритетных веществ ВРД 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33 вещества, требующих особого внимания с точки зрения водных экосистем – см. список. Регулируются при сбросах на всей территории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42B2-6ED5-48AD-BF7E-DDE55FC02F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ые вещества ВРД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 вещества, требующих особого внимания с точки зрения водных экосистем – см. спис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ся при сбросах на всех территории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0253-8F71-4FBA-9CF4-FA187A8E79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ть вопрос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47D0-15B6-43B8-8E3B-B3801976C4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вещ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ость веществ – различные определения опаснос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GHS, REACH, EU WFD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опасность т.е. опасность для окружающей среды и, главное, для морских экосист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ступления в окружающую среду и распространения 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6627-F95E-4455-8A69-342DCCDB88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пасных ве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церогены – например, асбест (лейкемия, рак легких и пр.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гены – ПАУ, пирен, акрилами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лергены – вещества вызывающие аллергии, астмы, дерматиты (никель, полимеры и пр.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йкие органические загрязнители (СОЗ) – ДДТ, ПХБ ведущие к заболеваниям нервной системы, ослаблению иммунитет и п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ители эндокринной системы – ТБТ, фталаты, ДДТ, линдан, атразин, ПХБ ведущие к нарушениям в репродуктивн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B09E-C247-446D-A49C-105E627242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-опасные вещес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ся неск. межд. требов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B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Pv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тяжелые метал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A1D7-F995-43EC-B6B8-1A92C2E219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уровень: Стокгольмская Конвенция по СОЗ (2001), Роттердамская Конвенция (2004 – торговля и запрет некоторых ОВ и пестицидов)  и Орхусский Протокол по стойким органическим загрязнителям (1998) к Конвенции ЕЭК ООН о трансграничном загрязнении воздуха на большие расстояния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H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Глобально-согласованная система маркировки химик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тийский регион: различные законодательные рамки для регулирования – ПДБ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H, WFD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29FB-ECAD-47B6-8BF0-EF7BC777D7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вещества и Бал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опас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ко-химическа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 челове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ые эффекты не так значимы из-за растворения, разложения, деградации, метаболизма ..значит, более важны долговременные эффекты..т.к. низкие дозы могут быть опасны из-за концентрации в пищевой цепоч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асные сво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сть (приложение XIII REACH)/ стабильность (нет или низкая биодерградаци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аккумуляция (приложение XIII REACH)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F152-C1C4-4A25-B42E-58E48CCCD7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вещества и Балтика (ХЕЛКО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вещества, попадая в Балтийское море, могут оставаться  в воде очень длительное время и накапливаться в морских пищевых цепочках до уровней, которые являются токсичными для морских организмов. Уровни некоторых вредных веществ в Балтийском море превышают концентрации таких веществ, например, в северо-восточной части Атлантики, более чем в 20 раз. Вредные вещества оказывают негативное воздействие на экосистему, а именно: вызывают нарушение общего здоровья животных; вызывают нарушение репродуктивной функции у животных, особенно у хищников; приводят к повышению уровня загрязнений в рыбе, которую люди потребляют в пищ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9B51-86D7-4D61-8523-21D1AD0E6C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 по определению ХЕЛ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яжелые металлы и их со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b) галогенорганические со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) органические соединения фосфора и оло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) пестициды, такие как фунгициды, гербициды, инсектициды, слимициды,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каты, используемые как предохранительные средства в лесном хозяй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лесоматериалов, целлюлозно-бумажной промышлен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евенной и текстильной промышл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) нефтепродукты и углеводороды, входящие в состав топли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) другие органические соединения, опасные именно для морск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) соединения азота и фосф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) радиоактивные вещества, включая отх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) неразлагаемые материалы, которые могут плавать на поверхности, в толще 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о опускаться на д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j) вещества, которые могут оказать серьезное воздействие на вкус и/или за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их продуктов, потребляемых человеком, либо воздействовать на вкус, запах, цвет, прозрачность и другие характеристики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1D1C-FE80-4ED7-9643-EC39A46666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ДБМ – «Опасные вещества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ДБМ нацелен на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Концентрации ОВ близкие к естественному фо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«Здоровую» живую прир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Вся рыба пригодна к употреблению в пищ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Радиоактивность на «до-чернобыльском» уров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ьный фокус на 11 приоритетных веще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095B-DD85-4C6C-B2A4-0342E07095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B17-3F40-4793-8546-6228C489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933-5292-4A17-B404-D6A0CF25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53F0-1638-405F-ADFC-3A093D75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7D1A-1491-47AA-9BA2-E094418A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B147-7E35-49FA-A06B-D7EE08A6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0AB-DAA1-42B2-983C-2E69DD04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D921-FBF2-418C-808A-E82F5272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C7B-E47E-4B02-A26F-2CFF9ED4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2177-7164-4FBB-8170-6F188A2C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811-30C3-4BD0-9E2F-BA8DC0AC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0296-E279-4E66-80CD-398D492A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EBA-CF64-4F89-B04E-7DFF1883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4F7A-1CEE-461F-B522-E2075B1E9B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250920" y="6308640"/>
            <a:ext cx="8713800" cy="366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250920" y="6308640"/>
            <a:ext cx="8713800" cy="0"/>
          </a:xfrm>
          <a:prstGeom prst="line">
            <a:avLst/>
          </a:prstGeom>
          <a:ln w="316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 rot="10800000">
            <a:off x="8683200" y="-1440"/>
            <a:ext cx="454680" cy="1830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www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cspb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398628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logo sm"/>
          <p:cNvPicPr/>
          <p:nvPr/>
        </p:nvPicPr>
        <p:blipFill>
          <a:blip r:embed="rId2"/>
          <a:stretch/>
        </p:blipFill>
        <p:spPr>
          <a:xfrm>
            <a:off x="457200" y="5486400"/>
            <a:ext cx="117144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Опасные вещества и их регулирование </a:t>
            </a:r>
            <a:br>
              <a:rPr sz="4000"/>
            </a:b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в Балтийском регионе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Список приоритетных веществ ПДБМ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17560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132000" y="1557360"/>
            <a:ext cx="554364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68360" y="951120"/>
            <a:ext cx="7920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0000" indent="-900000">
              <a:buClr>
                <a:srgbClr val="01017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Диоксины, фураны и диоксиноподобн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полихлорированные бифенилы (ПХБ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Соединения трибутилолов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Соединения трифенилолов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Пентабромдифениловый  эф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Октабромдифениловый эф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Декабромдифениловый эф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Сульфонат перфторокта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Перфтороктановая кислот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5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Гексабромциклододекан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Нон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Этоксилированные нон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Окт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Этоксилированные окт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Хлорированные парафины с короткой цепью (хлоралканы, 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0-1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Хлорированные парафины со средней цепью (хлоралканы, 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4-1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9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Эндосульф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0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Рту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1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Кадм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Меры ПДБМ по опасным веществам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11280" y="1628640"/>
            <a:ext cx="807552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ограничений для отдель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т и замена, где необходимо и возмо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НИТ и НЭП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/BE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национальных пр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реестров 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ная оценка сто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уровня знаний и компет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ад в работу других международных фору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REACH</a:t>
            </a:r>
            <a:br>
              <a:rPr sz="3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ACH: Registration, Evaluation, 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uthorization of Chemicals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ACH регулиру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изводство, импорт, продажу и использование химикатов ,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0" name="Diagram 23"/>
          <p:cNvGrpSpPr/>
          <p:nvPr/>
        </p:nvGrpSpPr>
        <p:grpSpPr>
          <a:xfrm>
            <a:off x="2719800" y="1715400"/>
            <a:ext cx="3729240" cy="3420720"/>
            <a:chOff x="2719800" y="1715400"/>
            <a:chExt cx="3729240" cy="3420720"/>
          </a:xfrm>
        </p:grpSpPr>
        <p:sp>
          <p:nvSpPr>
            <p:cNvPr id="91" name="_s1028"/>
            <p:cNvSpPr/>
            <p:nvPr/>
          </p:nvSpPr>
          <p:spPr>
            <a:xfrm flipH="1">
              <a:off x="3684600" y="4082040"/>
              <a:ext cx="4514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1029"/>
            <p:cNvSpPr/>
            <p:nvPr/>
          </p:nvSpPr>
          <p:spPr>
            <a:xfrm>
              <a:off x="2719800" y="408384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1030"/>
            <p:cNvSpPr/>
            <p:nvPr/>
          </p:nvSpPr>
          <p:spPr>
            <a:xfrm>
              <a:off x="5030640" y="4082040"/>
              <a:ext cx="450360" cy="26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1031"/>
            <p:cNvSpPr/>
            <p:nvPr/>
          </p:nvSpPr>
          <p:spPr>
            <a:xfrm>
              <a:off x="5412600" y="408384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1032"/>
            <p:cNvSpPr/>
            <p:nvPr/>
          </p:nvSpPr>
          <p:spPr>
            <a:xfrm flipV="1">
              <a:off x="4583520" y="2765880"/>
              <a:ext cx="0" cy="52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033"/>
            <p:cNvSpPr/>
            <p:nvPr/>
          </p:nvSpPr>
          <p:spPr>
            <a:xfrm>
              <a:off x="4066200" y="171540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1034"/>
            <p:cNvSpPr/>
            <p:nvPr/>
          </p:nvSpPr>
          <p:spPr>
            <a:xfrm>
              <a:off x="4066200" y="329472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Text Box 35"/>
          <p:cNvSpPr/>
          <p:nvPr/>
        </p:nvSpPr>
        <p:spPr>
          <a:xfrm>
            <a:off x="1908000" y="2852640"/>
            <a:ext cx="243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имические вещ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5368320" y="170028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реш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435640" y="5229360"/>
            <a:ext cx="31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1045800" y="4581360"/>
            <a:ext cx="145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истр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Исключения из 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REACH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используемые в продуктах питания и кормах для живот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используемые в медицинские това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 в реимпортируемы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варах (если они были зарегистрированы до их экспорта из Е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 в отход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имеры (за исключением мономеров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 для НИОКР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содержащиеся в приложен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регламенту ЕС № 190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6 (68 веществ в отношении которых имеется достаточная информация, подтверждающая их использование с наименьшим риском для здоровь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содержащиеся в приложен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регламенту ЕС № 190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6 (9 категорий веществ, однако возможно их участие в процедурах оценки и разреш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возникающие в результате химической реакции с окружающей средой, в результате хранения других веществ или при их эксплуатации в том случае, если они самостоятельно не были произведены и размещены на рын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родные минералы и руды в том случае, если они не подвергаются химическим превращениям (переработка ручным, механическим или гравитационным способами не требует их регистрац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Приоритетные ОВ (кроме ХЕЛКОМ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84360" y="1125360"/>
            <a:ext cx="79912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щества вызывающие особую озабоченность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VH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требуют разрешения на обращение со стороны ЕС. Свойств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MRs, (Carcinogenic, Mutagenic, Toxic to Reproduc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BTs, (Persistent, Toxic and Bioaccumulat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PvBs; (very Persistent, very Bioaccumulating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а, определенные как «имеющие серьезное необратимое влияние на человека и ОС» эквивалетные другим 3 категория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будет опубликован 1 августа 2009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приоритетных веществ ВРД Е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33 вещества, требующих особого внимания с точки зрения водных экосистем – см. список. Регулируются при сбросах на всей территории Е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Приоритетные вещества ВРД ЕС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84360" y="1268280"/>
            <a:ext cx="7991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3 вещества, требующих особого внимания с точки зрения водных экосистем – см. спис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ся при сбросах на всех территории Е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сть вопрос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Опасные вещества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611280" y="1628640"/>
            <a:ext cx="80755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ость веществ – различные определения опас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HS, REACH, EU WFD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ая опасность т.е. опасность для окружающей среды и, главное, для морских экосист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и поступления в окружающую среду и распространения 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Виды опасных веществ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11280" y="1125360"/>
            <a:ext cx="80755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церогены – например, асбест (лейкемия, рак легких и пр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тагены – ПАУ, пирен, акрилами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лергены – вещества вызывающие аллергии, астмы, дерматиты (никель, полимеры и пр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йкие органические загрязнители (СОЗ) – ДДТ, ПХБ ведущие к заболеваниям нервной системы, ослаблению иммунитет и пр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ушители эндокринной системы – ТБТ, фталаты, ДДТ, линдан, атразин, ПХБ ведущие к нарушениям в репродуктивной сфе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Экологически-опасные вещества 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51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ются неск. межд. требова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B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Pv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тяжелые метал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5953320" cy="33768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Регулирование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11280" y="1052640"/>
            <a:ext cx="80755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й уровень: Стокгольмская Конвенция по СОЗ (2001), Роттердамская Конвенция (2004 – торговля и запрет некоторых ОВ и пестицидов)  и Орхусский Протокол по стойким органическим загрязнителям (1998) к Конвенции ЕЭК ООН о трансграничном загрязнении воздуха на большие расстояния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Глобально-согласованная система маркировки химикат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лтийский регион: различные законодательные рамки для регулирования – ПДБМ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, WFD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Опасные вещества и Балтика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опас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ко-химическа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оровье челове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ые эффекты не так значимы из-за растворения, разложения, деградации, метаболизма ..значит, более важны долговременные эффекты..т.к. низкие дозы могут быть опасны из-за концентрации в пищевой цеп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асные св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ойчивость (приложение XIII REACH)/ стабильность (нет или низкая биодерградац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аккумуляция (приложение XIII REACH)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3628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Опасные вещества и Балтика (ХЕЛКОМ)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11280" y="1125360"/>
            <a:ext cx="80755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50920" y="1341360"/>
            <a:ext cx="82818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дные вещества, попадая в Балтийское море, могут оставаться  в воде очень длительное время и накапливаться в морских пищевых цепочках до уровней, которые являются токсичными для морских организмов. Уровни некоторых вредных веществ в Балтийском море превышают концентрации таких веществ, например, в северо-восточной части Атлантики, более чем в 20 раз. Вредные вещества оказывают негативное воздействие на экосистему, а именно: вызывают нарушение общего здоровья животных; вызывают нарушение репродуктивной функции у животных, особенно у хищников; приводят к повышению уровня загрязнений в рыбе, которую люди потребляют в пищ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ОВ по определению ХЕЛКОМ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тяжелые металлы и их соеди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) галогенорганические соеди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) органические соединения фосфора и оло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) пестициды, такие как фунгициды, гербициды, инсектициды, слимициды,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микаты, используемые как предохранительные средства в лесном хозяйств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е лесоматериалов, целлюлозно-бумажной промышленнос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жевенной и текстильной промышлен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) нефтепродукты и углеводороды, входящие в состав топли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f) другие органические соединения, опасные именно для морской сре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g) соединения азота и фосфо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) радиоактивные вещества, включая отхо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i) неразлагаемые материалы, которые могут плавать на поверхности, в толще вод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бо опускаться на дн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j) вещества, которые могут оказать серьезное воздействие на вкус и/или зап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рских продуктов, потребляемых человеком, либо воздействовать на вкус, запах, цвет, прозрачность и другие характеристики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43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ПДБМ – «Опасные вещества»</a:t>
            </a:r>
            <a:r>
              <a:rPr b="1" lang="ru-RU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79930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ДБМ нацелен на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онцентрации ОВ близкие к естественному 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Здоровую» живую прир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ся рыба пригодна к употреблению в пищ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диоактивность на «до-чернобыльском» уро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й фокус на 11 приоритет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5:01:48Z</dcterms:created>
  <dc:creator>Pauls Calitis</dc:creator>
  <dc:description/>
  <dc:language>en-US</dc:language>
  <cp:lastModifiedBy>LEGION</cp:lastModifiedBy>
  <dcterms:modified xsi:type="dcterms:W3CDTF">2015-05-04T09:33:33Z</dcterms:modified>
  <cp:revision>293</cp:revision>
  <dc:subject/>
  <dc:title>IMPLEMENTATION OF THE BIODIVERSITY MONITORING REQUIREMENTS  in accordance with the EU Birds and Habitats Directives through facilitating cooperation and stakeholders networking in the Baltic States</dc:title>
</cp:coreProperties>
</file>