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AP.WAV" ContentType="audio/x-wav"/>
  <Override PartName="/ppt/media/TYPE.WAV" ContentType="audio/x-wav"/>
  <Override PartName="/ppt/media/image9.jpeg" ContentType="image/jpeg"/>
  <Override PartName="/ppt/media/image13.png" ContentType="image/png"/>
  <Override PartName="/ppt/media/PROJCTOR.WAV" ContentType="audio/x-wav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media/GLASS.WAV" ContentType="audio/x-wav"/>
  <Override PartName="/ppt/media/image1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10.wmf" ContentType="image/x-wmf"/>
  <Override PartName="/ppt/media/image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6AB8-E43D-4133-B794-0FB4093B5EE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Calibri"/>
              </a:rPr>
              <a:t>Периодический закон Д.И.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(1834-1907г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14B6-9F12-4C8B-BA7F-8CD559FB727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качества   уче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И. Менделеева от других химиков отличали: энциклопедичность химических знаний, умение анализировать и обобщать факты, научное прогнозирование, русский менталитет и русский патрио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60F8-5D77-46C0-BCEB-283E7DBBE29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Роль практики в становление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И. Менделеев предсказывает, описывает и указывает пути открытия еще не известных науке галлия, скандия и гер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6163-9C94-4921-9CC2-0493380E0AC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1875 г. Поль Эмиль Лекок де Буабодран (Франция) открыл галлий, предсказанный Менделеевым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аалюминий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– подобный алюминию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1879 г. Ларс Фредерик Нильсон (Швеция) открыл скандий, предсказанный Менделеевым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абор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– подобный бор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1886 г. Клеменс Александр Винклер (Германия) открыл германий, предсказанный Менделеевым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асилици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подобный кремнию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AC15-9067-41F1-9049-9E4439F5F3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Основные направления развития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химических элементов и образуемых ими веществ в периодической зависимост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 от их относительных атомных мас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 от зарядов их атомных яде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 от периодичности в изменении внешних электронных слоев атом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3EB5-9FA6-40BA-A4CA-D405EC73EC9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Периодический закон Д.И.Менделеева был открыт в 1869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3D46-2696-4DBC-888A-60A7414DCE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Предпосылки создания   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фактологическ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предшествен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ъезд химиков в г.Карлсруэ в 18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ые кач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D75C-7879-45BA-A6C0-0E2BEAB621C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копление фактологического материа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 времени открытия Периодического закона было известно 63 элемента и описаны свойства их многочисленны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AD0E-16E8-4B31-8126-AF307E1C56F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предшествен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Й. Берцелиус (Металлы и    неметаллы)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В. Деберейнер (Триа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А.Р. Ньюлендс (Октав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Мей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FB2E-1094-4ABB-8125-796A62C6246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Джон Ньюлендс 1865г.</a:t>
            </a:r>
            <a:br>
              <a:rPr sz="1200"/>
            </a:b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Закон «Окта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4F18-5A66-4469-8AC3-B5F47792C70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ъезд химиков в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Карлсруэ в 18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И. Менделеев присутствовал в роли наблюд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899C-5378-4CFE-AA1D-A41E243A28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D9AE-E077-44C7-93F1-F8F0A64A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0D1C-461F-45E3-A9A6-FF7CD722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6C2F-BEBA-4238-9536-98E449D1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660D-E530-4CC7-B097-46A2B62D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01DB-F670-4FF0-82DF-E49EDB55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C779-D90B-4A93-AE37-A538CD07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8E66-DA10-4849-B4B8-007FCF9A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1EE4-2E27-4CDF-8B83-F9EF37FE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FD80-B18B-4CEC-A4D4-7A344253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C842-CA72-4C75-8450-51BF9473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53C2-DAED-45A7-888C-0102A030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26CB-7BB3-41F6-A20E-3D390E5F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77C0-E70C-471B-B520-3F1A20CA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5FA8-663E-44AA-9DC9-A3C44A8F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EF78-5BAC-44CE-A208-A66C1285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99E2-7471-4A71-9100-F7B7ADDF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DD76-C3F9-4FAE-AE80-742F3696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4BBC-E758-4A30-8FF3-481F2537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277D-FF13-473E-9135-11B3A371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322E-B996-4A6C-9DE9-0018C000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6427-C99E-4862-87D8-5A41E264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7292-5388-4214-886A-8F66D67A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ACFA-ACE1-4A8C-9A21-7C16D1E3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7092-8FA6-40A9-96D1-D3647A65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14EA-DDE0-49F9-92EE-2C565A7EE8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28BF-04BE-4CFD-A3C3-81A12864C25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audio" Target="../media/TYPE.WAV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GLASS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3300"/>
                </a:solidFill>
                <a:latin typeface="Arial Black"/>
              </a:rPr>
              <a:t>Периодический закон Д.И.Менделеев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723920" y="5445000"/>
            <a:ext cx="3079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(1834-1907г.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6" descr="C:\Documents and Settings\Admin\Мои документы\портреты химиков и алхимиков\менделеев.jpg"/>
          <p:cNvPicPr/>
          <p:nvPr/>
        </p:nvPicPr>
        <p:blipFill>
          <a:blip r:embed="rId1"/>
          <a:stretch/>
        </p:blipFill>
        <p:spPr>
          <a:xfrm>
            <a:off x="1600200" y="2590920"/>
            <a:ext cx="2459160" cy="38862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08" name="Picture 17" descr="C:\Documents and Settings\Admin\Мои документы\Мои рисунки\учебники\учебник1.jpg"/>
          <p:cNvPicPr/>
          <p:nvPr/>
        </p:nvPicPr>
        <p:blipFill>
          <a:blip r:embed="rId2"/>
          <a:stretch/>
        </p:blipFill>
        <p:spPr>
          <a:xfrm>
            <a:off x="7848720" y="0"/>
            <a:ext cx="1181160" cy="17524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ичные качества   ученог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И. Менделеева от других химиков отличали: энциклопедичность химических знаний, умение анализировать и обобщать факты, научное прогнозирование, русский менталитет и русский патриот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971640" y="5734080"/>
            <a:ext cx="1079280" cy="71928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01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64771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02"/>
          <p:cNvPicPr/>
          <p:nvPr/>
        </p:nvPicPr>
        <p:blipFill>
          <a:blip r:embed="rId1"/>
          <a:stretch/>
        </p:blipFill>
        <p:spPr>
          <a:xfrm>
            <a:off x="205740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 Black"/>
              </a:rPr>
              <a:t>Роль практики в становление теор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И. Менделеев предсказывает, описывает и указывает пути открытия еще не известных науке галлия, скандия и гер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7720" y="685800"/>
            <a:ext cx="8007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1875 г. Поль Эмиль Лекок де Буабодран (Франция) открыл галлий, предсказанный Менделеевым (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каалюминий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– подобный алюминию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1879 г. Ларс Фредерик Нильсон (Швеция) открыл скандий, предсказанный Менделеевым (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кабор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– подобный бору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1886 г. Клеменс Александр Винклер (Германия) открыл германий, предсказанный Менделеевым (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касилиций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– подобный кремнию)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 Black"/>
              </a:rPr>
              <a:t>Основные направления развития теор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ойства химических элементов и образуемых ими веществ в периодической зависимост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… от их относительных атомных масс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… от зарядов их атомных ядер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… от периодичности в изменении внешних электронных слоев атомов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Documents and Settings\Admin\Мои документы\портреты химиков и алхимиков\биография менделеев.JPG"/>
          <p:cNvPicPr/>
          <p:nvPr/>
        </p:nvPicPr>
        <p:blipFill>
          <a:blip r:embed="rId2"/>
          <a:stretch/>
        </p:blipFill>
        <p:spPr>
          <a:xfrm>
            <a:off x="533520" y="307800"/>
            <a:ext cx="8153280" cy="61851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 Black"/>
              </a:rPr>
              <a:t>Периодический закон Д.И.Менделеева был открыт в 1869г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7638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 Black"/>
              </a:rPr>
              <a:t>Предпосылки создания    зако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Накопление фактологического матери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ы предшествен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ъезд химиков в г.Карлсруэ в 1860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чностные качест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7308720" y="5805360"/>
            <a:ext cx="1008360" cy="648000"/>
          </a:xfrm>
          <a:custGeom>
            <a:avLst/>
            <a:gdLst>
              <a:gd name="textAreaLeft" fmla="*/ 41760 w 1008360"/>
              <a:gd name="textAreaRight" fmla="*/ 966600 w 1008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3605" h="21600">
                <a:moveTo>
                  <a:pt x="0" y="0"/>
                </a:moveTo>
                <a:lnTo>
                  <a:pt x="33605" y="0"/>
                </a:lnTo>
                <a:lnTo>
                  <a:pt x="33605" y="21600"/>
                </a:lnTo>
                <a:lnTo>
                  <a:pt x="0" y="21600"/>
                </a:lnTo>
                <a:close/>
              </a:path>
              <a:path fill="lightenLess" w="33605" h="21600">
                <a:moveTo>
                  <a:pt x="0" y="0"/>
                </a:moveTo>
                <a:lnTo>
                  <a:pt x="33605" y="0"/>
                </a:lnTo>
                <a:lnTo>
                  <a:pt x="32205" y="1400"/>
                </a:lnTo>
                <a:lnTo>
                  <a:pt x="1400" y="1400"/>
                </a:lnTo>
                <a:close/>
              </a:path>
              <a:path fill="darken" w="33605" h="21600">
                <a:moveTo>
                  <a:pt x="33605" y="0"/>
                </a:moveTo>
                <a:lnTo>
                  <a:pt x="33605" y="21600"/>
                </a:lnTo>
                <a:lnTo>
                  <a:pt x="32205" y="20200"/>
                </a:lnTo>
                <a:lnTo>
                  <a:pt x="32205" y="1400"/>
                </a:lnTo>
                <a:close/>
              </a:path>
              <a:path fill="darkenLess" w="33605" h="21600">
                <a:moveTo>
                  <a:pt x="33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5" y="20200"/>
                </a:lnTo>
                <a:close/>
              </a:path>
              <a:path fill="lighten" w="33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5" h="21600">
                <a:moveTo>
                  <a:pt x="9796" y="3794"/>
                </a:moveTo>
                <a:lnTo>
                  <a:pt x="23809" y="10800"/>
                </a:lnTo>
                <a:lnTo>
                  <a:pt x="979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Накопление фактологического материал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 времени открытия Периодического закона было известно 63 элемента и описаны свойства их многочисленных соедин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971640" y="5734080"/>
            <a:ext cx="1079280" cy="71928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боты предшественник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Й. Берцелиус (Металлы и    неметаллы)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.В. Деберейнер (Триад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А.Р. Ньюлендс (Октав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.Мей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971640" y="5734080"/>
            <a:ext cx="1079280" cy="71928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6804000" y="404640"/>
            <a:ext cx="1876320" cy="20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Ньюленс"/>
          <p:cNvPicPr/>
          <p:nvPr/>
        </p:nvPicPr>
        <p:blipFill>
          <a:blip r:embed="rId2"/>
          <a:stretch/>
        </p:blipFill>
        <p:spPr>
          <a:xfrm>
            <a:off x="4788000" y="4292640"/>
            <a:ext cx="1676160" cy="2268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i[3]"/>
          <p:cNvPicPr/>
          <p:nvPr/>
        </p:nvPicPr>
        <p:blipFill>
          <a:blip r:embed="rId3"/>
          <a:stretch/>
        </p:blipFill>
        <p:spPr>
          <a:xfrm>
            <a:off x="6877080" y="2852640"/>
            <a:ext cx="1762200" cy="223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i[13]"/>
          <p:cNvPicPr/>
          <p:nvPr/>
        </p:nvPicPr>
        <p:blipFill>
          <a:blip r:embed="rId4"/>
          <a:stretch/>
        </p:blipFill>
        <p:spPr>
          <a:xfrm>
            <a:off x="2843280" y="4797360"/>
            <a:ext cx="1395360" cy="16574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ac8a"/>
            </a:gs>
            <a:gs pos="50000">
              <a:srgbClr val="ffffcc"/>
            </a:gs>
            <a:gs pos="100000">
              <a:srgbClr val="acac8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Джон Ньюлендс 1865г.</a:t>
            </a:r>
            <a:br>
              <a:rPr sz="4400"/>
            </a:b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Закон «Октав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609480" y="2017800"/>
          <a:ext cx="8366400" cy="445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17800"/>
                    <a:ext cx="836640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2"/>
          <p:cNvSpPr/>
          <p:nvPr/>
        </p:nvSpPr>
        <p:spPr>
          <a:xfrm flipH="1">
            <a:off x="5985360" y="3576600"/>
            <a:ext cx="1459080" cy="1660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 flipH="1">
            <a:off x="5151960" y="2903040"/>
            <a:ext cx="1683360" cy="1132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 flipH="1">
            <a:off x="4630680" y="2207520"/>
            <a:ext cx="1615320" cy="67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 flipH="1">
            <a:off x="3894120" y="1438200"/>
            <a:ext cx="2036880" cy="268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6"/>
          <p:cNvSpPr/>
          <p:nvPr/>
        </p:nvSpPr>
        <p:spPr>
          <a:xfrm flipH="1">
            <a:off x="3124080" y="53352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5486400" y="-1905120"/>
            <a:ext cx="5867280" cy="5943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829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imes New Roman"/>
              </a:rPr>
              <a:t>ТРИА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оган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ёрбеней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685800" y="228600"/>
            <a:ext cx="2666880" cy="762120"/>
          </a:xfrm>
          <a:prstGeom prst="rect">
            <a:avLst/>
          </a:prstGeom>
          <a:gradFill rotWithShape="0">
            <a:gsLst>
              <a:gs pos="0">
                <a:srgbClr val="a987a9"/>
              </a:gs>
              <a:gs pos="50000">
                <a:srgbClr val="ffccff"/>
              </a:gs>
              <a:gs pos="100000">
                <a:srgbClr val="a987a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     Na     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,9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23,0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9,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1295280" y="1371600"/>
            <a:ext cx="2667240" cy="762120"/>
          </a:xfrm>
          <a:prstGeom prst="rect">
            <a:avLst/>
          </a:prstGeom>
          <a:gradFill rotWithShape="0">
            <a:gsLst>
              <a:gs pos="0">
                <a:srgbClr val="a987a9"/>
              </a:gs>
              <a:gs pos="50000">
                <a:srgbClr val="ffccff"/>
              </a:gs>
              <a:gs pos="100000">
                <a:srgbClr val="a987a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     Sr     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0,1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87,6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37,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1981080" y="2514600"/>
            <a:ext cx="2667240" cy="762120"/>
          </a:xfrm>
          <a:prstGeom prst="rect">
            <a:avLst/>
          </a:prstGeom>
          <a:gradFill rotWithShape="0">
            <a:gsLst>
              <a:gs pos="0">
                <a:srgbClr val="a987a9"/>
              </a:gs>
              <a:gs pos="50000">
                <a:srgbClr val="ffccff"/>
              </a:gs>
              <a:gs pos="100000">
                <a:srgbClr val="a987a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    As     S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1,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4,9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1,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2666880" y="3657600"/>
            <a:ext cx="2667240" cy="762120"/>
          </a:xfrm>
          <a:prstGeom prst="rect">
            <a:avLst/>
          </a:prstGeom>
          <a:gradFill rotWithShape="0">
            <a:gsLst>
              <a:gs pos="0">
                <a:srgbClr val="a987a9"/>
              </a:gs>
              <a:gs pos="50000">
                <a:srgbClr val="ffccff"/>
              </a:gs>
              <a:gs pos="100000">
                <a:srgbClr val="a987a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    Se    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2,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9,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7,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3429000" y="4800600"/>
            <a:ext cx="2666880" cy="762120"/>
          </a:xfrm>
          <a:prstGeom prst="rect">
            <a:avLst/>
          </a:prstGeom>
          <a:gradFill rotWithShape="0">
            <a:gsLst>
              <a:gs pos="0">
                <a:srgbClr val="8f728f"/>
              </a:gs>
              <a:gs pos="50000">
                <a:srgbClr val="ffccff"/>
              </a:gs>
              <a:gs pos="100000">
                <a:srgbClr val="8f728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     Br     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5,5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79,9      126,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1295280" y="5943600"/>
            <a:ext cx="3962520" cy="60948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(6,9+39,1):2 = 23,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ъезд химиков в         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. Карлсруэ в 1860 г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И. Менделеев присутствовал в роли наблюда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971640" y="5734080"/>
            <a:ext cx="1079280" cy="71928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07:31:55Z</dcterms:created>
  <dc:creator>user</dc:creator>
  <dc:description/>
  <dc:language>en-US</dc:language>
  <cp:lastModifiedBy>LEGION</cp:lastModifiedBy>
  <dcterms:modified xsi:type="dcterms:W3CDTF">2015-05-01T11:10:53Z</dcterms:modified>
  <cp:revision>13</cp:revision>
  <dc:subject/>
  <dc:title>Слайд 1</dc:title>
</cp:coreProperties>
</file>