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TYPE.WAV" ContentType="audio/x-wav"/>
  <Override PartName="/ppt/media/image9.jpeg" ContentType="image/jpeg"/>
  <Override PartName="/ppt/media/image13.png" ContentType="image/png"/>
  <Override PartName="/ppt/media/PROJCTOR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GLASS.WAV" ContentType="audio/x-wav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0249-6AF8-4DD0-B1A3-D6BC17795F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(1834-1907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4608-37A9-48CB-958D-EF91679F54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качества   уче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9076-E3D5-4B06-81D6-7B76B5D810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Роль практики в становлени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37D3-B57F-4717-8DB5-4ED0ACF40D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алюмини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алюминию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бор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б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силиц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подобный кремнию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E25A-B483-4D5E-8DBC-DDD7D52022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сновные направления развития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 и образуемых ими веществ в периодической зависимо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их относительных атомных ма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зарядов их атомных яд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периодичности в изменении внешних электронных слоев атом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EDEB-7FCA-46E5-BAA1-3DCF3737DD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 был открыт в 1869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422C-65D3-4694-8C2F-03ECE61673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едпосылки создания   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г.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ка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09B7-B490-4DB0-851D-298EE81FBA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EC0C-19E3-40CD-9BBA-B48E9D3E40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Й. Берцелиус (Металлы и    неметаллы)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Деберейнер (Триа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А.Р. Ньюлендс (Октав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0BAE-9BAC-4DEB-9B2A-EAC3447C2B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Джон Ньюлендс 1865г.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Закон «Окта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1DF6-8231-4773-A82E-9C51920615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исутствовал в роли наблюд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891A-0E79-40A8-BB80-24B1F3AC33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2CC-224C-46AE-8F25-AC71093B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013-4D68-4880-89FF-5A92F1A1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AA6-C482-4B52-B1DF-A2B8928B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520-AE93-4433-A652-DF149F68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A69F-1856-4021-904E-4E748269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64B-732F-4947-8B0B-0F5A2D5D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9489-BA21-421D-8C38-5B3848BD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2B91-FDAF-4316-97FB-292D565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0861-A683-45CD-9B32-BB5FF239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3926-EF20-434E-A578-C41C4E92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EC84-3C93-460A-A63B-352F76C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4AC-2D77-4140-9AE1-19D5E604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FB14-0D10-4739-B2F0-643E1B2A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6829-B188-4DA7-ACFF-1A1961A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2B69-380F-4665-80C8-97C60A65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9E67-6137-4F11-A7FC-01E16652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F6F1-3937-4FA6-8597-472F0ABE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F56-C9C8-4561-877A-AB9053FB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25D-A9A4-49FB-960E-D29E1821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AE1-EB00-46B9-89D3-9004D945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3B7-5D3D-42B2-B5F5-E347ACA9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3FD-BF3D-4B92-950E-78A3FD60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29A-CE29-43DE-85BD-114E6A4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A15-76C1-4AB3-A5A2-3C394F69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E748-6155-4E59-B59F-3B5992387B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5B3C-7AFA-4EBF-95D5-14AC831E09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723920" y="5445000"/>
            <a:ext cx="3079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(1834-1907г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C:\Documents and Settings\Admin\Мои документы\портреты химиков и алхимиков\менделеев.jpg"/>
          <p:cNvPicPr/>
          <p:nvPr/>
        </p:nvPicPr>
        <p:blipFill>
          <a:blip r:embed="rId1"/>
          <a:stretch/>
        </p:blipFill>
        <p:spPr>
          <a:xfrm>
            <a:off x="1600200" y="2590920"/>
            <a:ext cx="2459160" cy="3886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8" name="Picture 17" descr="C:\Documents and Settings\Admin\Мои документы\Мои рисунки\учебники\учебник1.jpg"/>
          <p:cNvPicPr/>
          <p:nvPr/>
        </p:nvPicPr>
        <p:blipFill>
          <a:blip r:embed="rId2"/>
          <a:stretch/>
        </p:blipFill>
        <p:spPr>
          <a:xfrm>
            <a:off x="7848720" y="0"/>
            <a:ext cx="118116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чные качества   уче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64771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2"/>
          <p:cNvPicPr/>
          <p:nvPr/>
        </p:nvPicPr>
        <p:blipFill>
          <a:blip r:embed="rId1"/>
          <a:stretch/>
        </p:blipFill>
        <p:spPr>
          <a:xfrm>
            <a:off x="20574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Роль практики в становление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алюмини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алюмин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бор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бор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силици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подобный кремнию)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Основные направления развития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химических элементов и образуемых ими веществ в периодической зависимос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их относительных атомных ма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зарядов их атомных яд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периодичности в изменении внешних электронных слоев атом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Мои документы\портреты химиков и алхимиков\биография менделеев.JPG"/>
          <p:cNvPicPr/>
          <p:nvPr/>
        </p:nvPicPr>
        <p:blipFill>
          <a:blip r:embed="rId2"/>
          <a:stretch/>
        </p:blipFill>
        <p:spPr>
          <a:xfrm>
            <a:off x="533520" y="307800"/>
            <a:ext cx="8153280" cy="61851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 был открыт в 1869г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7638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Предпосылки создания    зак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Накопление фактологическ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ы предшестве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ъезд химиков в г.Карлсруэ в 186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08720" y="5805360"/>
            <a:ext cx="1008360" cy="64800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3605" h="21600">
                <a:moveTo>
                  <a:pt x="0" y="0"/>
                </a:moveTo>
                <a:lnTo>
                  <a:pt x="33605" y="0"/>
                </a:lnTo>
                <a:lnTo>
                  <a:pt x="33605" y="21600"/>
                </a:lnTo>
                <a:lnTo>
                  <a:pt x="0" y="21600"/>
                </a:lnTo>
                <a:close/>
              </a:path>
              <a:path fill="lightenLess" w="33605" h="21600">
                <a:moveTo>
                  <a:pt x="0" y="0"/>
                </a:moveTo>
                <a:lnTo>
                  <a:pt x="33605" y="0"/>
                </a:lnTo>
                <a:lnTo>
                  <a:pt x="32205" y="1400"/>
                </a:lnTo>
                <a:lnTo>
                  <a:pt x="1400" y="1400"/>
                </a:lnTo>
                <a:close/>
              </a:path>
              <a:path fill="darken" w="33605" h="21600">
                <a:moveTo>
                  <a:pt x="33605" y="0"/>
                </a:moveTo>
                <a:lnTo>
                  <a:pt x="33605" y="21600"/>
                </a:lnTo>
                <a:lnTo>
                  <a:pt x="32205" y="20200"/>
                </a:lnTo>
                <a:lnTo>
                  <a:pt x="32205" y="1400"/>
                </a:lnTo>
                <a:close/>
              </a:path>
              <a:path fill="darkenLess" w="33605" h="21600">
                <a:moveTo>
                  <a:pt x="3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5" y="20200"/>
                </a:lnTo>
                <a:close/>
              </a:path>
              <a:path fill="lighten" w="3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5" h="21600">
                <a:moveTo>
                  <a:pt x="9796" y="3794"/>
                </a:moveTo>
                <a:lnTo>
                  <a:pt x="23809" y="10800"/>
                </a:lnTo>
                <a:lnTo>
                  <a:pt x="97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копление фактологического материа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ы предшеств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. Берцелиус (Металлы и    неметаллы)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В. Деберейнер (Триад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А.Р. Ньюлендс (Окта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04000" y="404640"/>
            <a:ext cx="187632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Ньюленс"/>
          <p:cNvPicPr/>
          <p:nvPr/>
        </p:nvPicPr>
        <p:blipFill>
          <a:blip r:embed="rId2"/>
          <a:stretch/>
        </p:blipFill>
        <p:spPr>
          <a:xfrm>
            <a:off x="4788000" y="4292640"/>
            <a:ext cx="167616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[3]"/>
          <p:cNvPicPr/>
          <p:nvPr/>
        </p:nvPicPr>
        <p:blipFill>
          <a:blip r:embed="rId3"/>
          <a:stretch/>
        </p:blipFill>
        <p:spPr>
          <a:xfrm>
            <a:off x="6877080" y="2852640"/>
            <a:ext cx="17622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[13]"/>
          <p:cNvPicPr/>
          <p:nvPr/>
        </p:nvPicPr>
        <p:blipFill>
          <a:blip r:embed="rId4"/>
          <a:stretch/>
        </p:blipFill>
        <p:spPr>
          <a:xfrm>
            <a:off x="2843280" y="4797360"/>
            <a:ext cx="139536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ac8a"/>
            </a:gs>
            <a:gs pos="50000">
              <a:srgbClr val="ffffcc"/>
            </a:gs>
            <a:gs pos="100000">
              <a:srgbClr val="aca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жон Ньюлендс 1865г.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Закон «Окта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 flipH="1">
            <a:off x="5985360" y="3576600"/>
            <a:ext cx="1459080" cy="1660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5151960" y="2903040"/>
            <a:ext cx="1683360" cy="113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630680" y="2207520"/>
            <a:ext cx="1615320" cy="67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894120" y="1438200"/>
            <a:ext cx="2036880" cy="26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3124080" y="53352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86400" y="-1905120"/>
            <a:ext cx="586728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ёрбеней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f728f"/>
              </a:gs>
              <a:gs pos="50000">
                <a:srgbClr val="ffccff"/>
              </a:gs>
              <a:gs pos="100000">
                <a:srgbClr val="8f728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ъезд химиков в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. Карлсруэ в 1860 г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исутствовал в роли наблюд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31:55Z</dcterms:created>
  <dc:creator>user</dc:creator>
  <dc:description/>
  <dc:language>en-US</dc:language>
  <cp:lastModifiedBy>LEGION</cp:lastModifiedBy>
  <dcterms:modified xsi:type="dcterms:W3CDTF">2015-05-01T11:10:53Z</dcterms:modified>
  <cp:revision>13</cp:revision>
  <dc:subject/>
  <dc:title>Слайд 1</dc:title>
</cp:coreProperties>
</file>