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B85B-A06C-43AD-9826-D95BB248A1B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оактивные превращени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адиоактивного 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BCBA-EEF6-40A9-80F6-C693893A9DD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ериод полураспа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го вида ядер период полураспада является строго постоянной велич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90D1-F52D-44D0-A259-E15A431A4A7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 радиоактивно-го расп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t/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.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 в             начальный  момент времен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время распада.                                  Т–период полу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6592-95DA-4FA7-AA3B-560FD41571D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е время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B7E5-D34E-4847-9423-FA48B653BC8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ыстория исследований радиоа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9724-780F-4827-8111-C43ECA654D1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х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6233-5B99-416E-884F-19F3CB5BD12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Резерфор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4CC0-FA97-46EB-B4AC-A4FF8716072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0325-D7E4-4EF7-A7FA-4D77C79FBC4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, к которому пришёл Резерфор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0296-C265-4811-9F69-A4CBD3C580D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смещения пр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ф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льфа-распаде ядро теряет положительный заряд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 масса его убывает приблизительно на четыре атомных единицы мас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элемент сме-щается на две клетки к на-чалу периодической сис-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164E-8D17-4E85-8FC8-5F4A331A9AC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о смещения при бет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бет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та-распада элемент смещается на одну клетку ближе к концу периодическ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C841-89B9-473F-9F23-C29C23F6781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 из прави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7D10-796B-4953-9223-041FEBA0997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FB8-05FF-46A6-B0F6-FE0C372A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872-CDD2-47EE-9FEE-6E955935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0E3-895A-4186-A5C6-8A22F500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707-C7A4-4B6F-852E-DCF66766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DF58-7DA0-46D7-AAF4-AE1B65F5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922B-629A-4C9D-9F31-8C770E15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6057-72CA-42EF-986F-8ABCD95E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1D2D-5323-4A06-A2BE-E506995C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82BF-E92E-4D3A-AFA6-A31435E4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7C20-5A15-4EA1-A86E-8A2C8C39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4B0D-0C01-4D24-945E-BDE04278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F33-E3BC-4D00-BC05-F125D4B1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14E3-495A-42FF-8048-3184C016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E2E4-A5D8-4D8C-B291-4469BD4A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1527-4812-4217-8732-8C295B06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A27E-B594-494C-A224-6CFAEAB0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E94B-24E4-4803-B554-9E2CAAF7A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B02-44EB-4F60-9698-3A09A241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5E6-514B-4F2F-B87B-CC90E60F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D77-DE38-425D-9FE6-25A1EBDD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879-837E-40F6-A3A2-D8F2A4CF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06E-BB54-46EA-BCB7-789B3ADD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224-8EDD-4021-9FF0-FB1A5B9B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FD3-8F37-488C-A494-E663E7E2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B9B2-AEFE-439E-90DD-56F01C81F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1032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EDBD-D1AA-4A63-99EC-19A490B655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Радиоактивные превращения .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Tahoma"/>
              </a:rPr>
              <a:t>Закон радиоактивного распада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Что такое период полураспада?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Для каждого вида ядер период полураспада является строго постоянной величи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Закон радиоактивно-го распада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=N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t/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.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 в             начальный  момент времен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время распада.                                  Т–период полурасп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ff"/>
                </a:solidFill>
                <a:latin typeface="Tahoma"/>
              </a:rPr>
              <a:t>Среднее время жизни.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едыстория исследований радиоактивност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ехи истори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PE01753_"/>
          <p:cNvPicPr/>
          <p:nvPr/>
        </p:nvPicPr>
        <p:blipFill>
          <a:blip r:embed="rId2"/>
          <a:stretch/>
        </p:blipFill>
        <p:spPr>
          <a:xfrm>
            <a:off x="990720" y="1981080"/>
            <a:ext cx="32004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Исследования Резерфорда.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7" name="Picture 8" descr="Резерфорд"/>
          <p:cNvPicPr/>
          <p:nvPr/>
        </p:nvPicPr>
        <p:blipFill>
          <a:blip r:embed="rId1"/>
          <a:stretch/>
        </p:blipFill>
        <p:spPr>
          <a:xfrm>
            <a:off x="826920" y="2421000"/>
            <a:ext cx="3119760" cy="3471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Опыт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HM00361_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292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ывод, к которому пришёл Резерфорд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авило смещения при 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льфа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альфа-распаде ядро теряет положительный заряд 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 масса его убывает приблизительно на четыре атомных единицы масс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зультате элемент сме-щается на две клетки к на-чалу периодической сис-т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2" descr="Менделеев"/>
          <p:cNvPicPr/>
          <p:nvPr/>
        </p:nvPicPr>
        <p:blipFill>
          <a:blip r:embed="rId1"/>
          <a:stretch/>
        </p:blipFill>
        <p:spPr>
          <a:xfrm>
            <a:off x="5292720" y="2276640"/>
            <a:ext cx="3181320" cy="353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Правило смещения при бетта</a:t>
            </a:r>
            <a:r>
              <a:rPr b="0" lang="en-US" sz="60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 бетт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тта-распада элемент смещается на одну клетку ближе к концу периодической систем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Вывод из правил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7:54:31Z</dcterms:created>
  <dc:creator>User</dc:creator>
  <dc:description/>
  <dc:language>en-US</dc:language>
  <cp:lastModifiedBy>LEGION</cp:lastModifiedBy>
  <dcterms:modified xsi:type="dcterms:W3CDTF">2015-05-01T11:11:17Z</dcterms:modified>
  <cp:revision>76</cp:revision>
  <dc:subject/>
  <dc:title>Радиоактивные превращения .</dc:title>
</cp:coreProperties>
</file>