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B6B2-43A5-49DA-92BF-7A328CDD6B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оактивные превращени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адиоактивного 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DB2C-A831-491B-9F17-119F1000B73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ериод полураспа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го вида ядер период полураспада является строго постоянной велич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4F7B-9B16-4FC3-A93C-4DBF673167A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 радиоактивно-го расп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t/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.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 в             начальный  момент времен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время распада.                                  Т–период полу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3D66-C999-415C-9204-E718597F628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е время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067A-9E57-4587-8FFB-6EDC0B29E89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ыстория исследований радиоа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D4C2-4048-4021-BF52-1417C383FCD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х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7CCF-C0D2-4B5E-9C53-E1977FB7AFF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Резерфор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54EA-C412-4F44-88C8-C0457CDB106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4819-0935-43B5-B5C6-421516B130D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, к которому пришёл Резерфор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95AA-808F-4882-975D-8CDBA5DC2A5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смещения пр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ф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льфа-распаде ядро теряет положительный заряд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 масса его убывает приблизительно на четыре атомных единицы мас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элемент сме-щается на две клетки к на-чалу периодической сис-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41C7-81F6-440F-85AB-37318AF1258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о смещения при бет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бет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та-распада элемент смещается на одну клетку ближе к концу периодическ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D0D9-A8DC-4D7B-A35B-56F75902735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 из прави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6679-2CE2-4419-A683-3397D07878C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6F5-4031-4B4A-BA22-55508B88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AF8-EC2B-4976-8C2B-B8F54DB3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F2E-1275-4BFF-B31E-7F25CBA8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A5C-5460-4A2D-870A-4E8783BB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06F5-B51E-4AA6-8446-9C0434F6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4B4E-B1E5-4E39-882B-2B8DA84A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CB98-8150-4254-A621-AA19B6BE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1E27-4107-4CD3-983F-C58B2182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E6A6-B100-43DF-934B-8FD70A4F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93BD-8D2B-40CF-8090-B15A7170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0DED-66FF-4002-BE4B-7CFE68BE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0AA-6CAD-44A9-B7C7-D4A961B7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02A9-E34E-4DA5-9380-6F55DA71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9CE1-9C04-439E-975E-AA8AA2D2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52FC-6B41-46ED-832E-0175CC77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0BA2-D405-4C6D-AA29-71412D4B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0CFE-709B-46DF-94D2-5E85382F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5D9-A77A-4246-A244-EEACCA96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BEB-8D18-4AC6-9D90-8569373A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F3E-05D5-4356-9069-F915FF73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9A9-AA80-40C2-A7A9-668BC123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762-B297-48B6-A748-BD6A4B22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D6A-A2FE-452C-9300-E7F14554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90B-D6E8-43F7-8762-965D26E3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376B-06BA-4C43-8ECF-53A9F77DC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1032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5E27-DA34-4DC6-BA32-E4C4DAADB6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Радиоактивные превращения .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Tahoma"/>
              </a:rPr>
              <a:t>Закон радиоактивного распада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Что такое период полураспада?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Для каждого вида ядер период полураспада является строго постоянной величи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Закон радиоактивно-го распада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=N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t/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.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 в             начальный  момент времен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время распада.                                  Т–период полурасп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ff"/>
                </a:solidFill>
                <a:latin typeface="Tahoma"/>
              </a:rPr>
              <a:t>Среднее время жизни.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едыстория исследований радиоактивност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ехи истори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PE01753_"/>
          <p:cNvPicPr/>
          <p:nvPr/>
        </p:nvPicPr>
        <p:blipFill>
          <a:blip r:embed="rId2"/>
          <a:stretch/>
        </p:blipFill>
        <p:spPr>
          <a:xfrm>
            <a:off x="990720" y="1981080"/>
            <a:ext cx="32004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Исследования Резерфорда.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7" name="Picture 8" descr="Резерфорд"/>
          <p:cNvPicPr/>
          <p:nvPr/>
        </p:nvPicPr>
        <p:blipFill>
          <a:blip r:embed="rId1"/>
          <a:stretch/>
        </p:blipFill>
        <p:spPr>
          <a:xfrm>
            <a:off x="826920" y="2421000"/>
            <a:ext cx="3119760" cy="3471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Опыт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HM00361_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292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ывод, к которому пришёл Резерфорд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авило смещения при 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льфа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альфа-распаде ядро теряет положительный заряд 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 масса его убывает приблизительно на четыре атомных единицы масс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зультате элемент сме-щается на две клетки к на-чалу периодической сис-т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2" descr="Менделеев"/>
          <p:cNvPicPr/>
          <p:nvPr/>
        </p:nvPicPr>
        <p:blipFill>
          <a:blip r:embed="rId1"/>
          <a:stretch/>
        </p:blipFill>
        <p:spPr>
          <a:xfrm>
            <a:off x="5292720" y="2276640"/>
            <a:ext cx="3181320" cy="353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Правило смещения при бетта</a:t>
            </a:r>
            <a:r>
              <a:rPr b="0" lang="en-US" sz="60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 бетт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тта-распада элемент смещается на одну клетку ближе к концу периодической систем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Вывод из правил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7:54:31Z</dcterms:created>
  <dc:creator>User</dc:creator>
  <dc:description/>
  <dc:language>en-US</dc:language>
  <cp:lastModifiedBy>LEGION</cp:lastModifiedBy>
  <dcterms:modified xsi:type="dcterms:W3CDTF">2015-05-01T11:11:17Z</dcterms:modified>
  <cp:revision>76</cp:revision>
  <dc:subject/>
  <dc:title>Радиоактивные превращения .</dc:title>
</cp:coreProperties>
</file>