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C1BC-924D-48D4-ABBE-9BD6689589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DB2F-C6D6-4FB7-B96F-8BE03DC3D5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F47D-5E92-4B8E-8655-350C1A59AC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EE38-BA9C-4D43-8A74-DE67907676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6574-A12A-47A7-8BF8-32F6D9C2B2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27F3-58EB-4027-A3AE-67BEBD7B48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FA74-8DD5-4B4F-BA33-781FBE3FB2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9228-60D8-49BB-B6F5-D33E5356DE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34B6-BB58-480D-A05E-82F8730E28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77D8-5C27-4960-8D6E-3FE2CBBB8E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70CC-0BEF-44C2-9AFF-1C2DF1B265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CDE5-B67E-4C58-8C1A-472CD47C8A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5844-842A-4F1B-8434-8E24D42E65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E83A-C97F-4C29-883D-49187F54B4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0A7E-03E9-41EB-A68F-715179024D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BBAB-2915-4B00-ABCE-03550AE240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BB57-09ED-4FF2-9D07-E702DAE348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52FF-49F9-4A8C-A5FA-D722643CA4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36E-3EC3-4A44-A672-F5A4BAE2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29E-9764-45E6-B840-3817E3E0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321-0A1E-44E8-B4AA-6B052976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342-CA70-4ACD-8A09-19B55EEB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0B43-8A0F-4BE2-A77B-508C58C3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EABC-0384-4DEA-9388-B4BC2B7A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462-BE23-4F2A-BCB4-4F555C43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7FA-E6C3-441C-A6A4-59066413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BD1-F979-467F-9CCA-FB7EFBC7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FEA6-8E9A-4245-A8E7-0874B72F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4F97-A1EC-43F4-A3DF-91FB3996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82D-4CE8-407A-8691-1A227531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F9E7-EC30-4A9E-ADC8-C9285CECF3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5413-10A0-4BDD-823E-F39A4DB97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666960" y="2335320"/>
            <a:ext cx="1810080" cy="3057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5" descr="C:\Documents and Settings\Дом\Рабочий стол\Снежинка.jpg"/>
          <p:cNvPicPr/>
          <p:nvPr/>
        </p:nvPicPr>
        <p:blipFill>
          <a:blip r:embed="rId1"/>
          <a:stretch/>
        </p:blipFill>
        <p:spPr>
          <a:xfrm>
            <a:off x="3328920" y="4054320"/>
            <a:ext cx="2247840" cy="1951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962520" y="3429000"/>
            <a:ext cx="1600200" cy="27036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4724640" cy="2819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311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4724280"/>
            <a:ext cx="40402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288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5410080" y="4876920"/>
            <a:ext cx="1781280" cy="1162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Documents and Settings\Дом\Мои документы\Отбойный.jpeg"/>
          <p:cNvPicPr/>
          <p:nvPr/>
        </p:nvPicPr>
        <p:blipFill>
          <a:blip r:embed="rId1"/>
          <a:stretch/>
        </p:blipFill>
        <p:spPr>
          <a:xfrm>
            <a:off x="685800" y="205740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Documents and Settings\Дом\Мои документы\Высокие темп.jpg"/>
          <p:cNvPicPr/>
          <p:nvPr/>
        </p:nvPicPr>
        <p:blipFill>
          <a:blip r:embed="rId2"/>
          <a:stretch/>
        </p:blipFill>
        <p:spPr>
          <a:xfrm>
            <a:off x="3276720" y="19810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Documents and Settings\Дом\Мои документы\Эл-магн.jpg"/>
          <p:cNvPicPr/>
          <p:nvPr/>
        </p:nvPicPr>
        <p:blipFill>
          <a:blip r:embed="rId3"/>
          <a:stretch/>
        </p:blipFill>
        <p:spPr>
          <a:xfrm>
            <a:off x="6095880" y="2057400"/>
            <a:ext cx="2073240" cy="148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Documents and Settings\Дом\Мои документы\Хим. в-ва.gif"/>
          <p:cNvPicPr/>
          <p:nvPr/>
        </p:nvPicPr>
        <p:blipFill>
          <a:blip r:embed="rId4"/>
          <a:stretch/>
        </p:blipFill>
        <p:spPr>
          <a:xfrm>
            <a:off x="533520" y="4876920"/>
            <a:ext cx="2057400" cy="1676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9"/>
          <p:cNvSpPr/>
          <p:nvPr/>
        </p:nvSpPr>
        <p:spPr>
          <a:xfrm>
            <a:off x="5943600" y="38098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лектромагнитное изл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838080" y="33526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иб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1"/>
          <p:cNvSpPr/>
          <p:nvPr/>
        </p:nvSpPr>
        <p:spPr>
          <a:xfrm>
            <a:off x="2834640" y="411480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сокие темп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2"/>
          <p:cNvSpPr/>
          <p:nvPr/>
        </p:nvSpPr>
        <p:spPr>
          <a:xfrm>
            <a:off x="2908080" y="6019920"/>
            <a:ext cx="20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им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3657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2895480" y="4191120"/>
            <a:ext cx="289584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1936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"/>
          <p:cNvPicPr/>
          <p:nvPr/>
        </p:nvPicPr>
        <p:blipFill>
          <a:blip r:embed="rId2"/>
          <a:stretch/>
        </p:blipFill>
        <p:spPr>
          <a:xfrm>
            <a:off x="5638680" y="3429000"/>
            <a:ext cx="198144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9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193356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335268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563868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2932200" cy="15429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C:\Documents and Settings\Дом\Мои документы\Этиловый спирт.jpg"/>
          <p:cNvPicPr/>
          <p:nvPr/>
        </p:nvPicPr>
        <p:blipFill>
          <a:blip r:embed="rId1"/>
          <a:stretch/>
        </p:blipFill>
        <p:spPr>
          <a:xfrm>
            <a:off x="3657600" y="4343400"/>
            <a:ext cx="1103400" cy="16574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C:\Documents and Settings\Дом\Мои документы\Уксус.jpg"/>
          <p:cNvPicPr/>
          <p:nvPr/>
        </p:nvPicPr>
        <p:blipFill>
          <a:blip r:embed="rId2"/>
          <a:stretch/>
        </p:blipFill>
        <p:spPr>
          <a:xfrm>
            <a:off x="6477120" y="4267080"/>
            <a:ext cx="114300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C:\Documents and Settings\Дом\Мои документы\вода.jpg"/>
          <p:cNvPicPr/>
          <p:nvPr/>
        </p:nvPicPr>
        <p:blipFill>
          <a:blip r:embed="rId3"/>
          <a:stretch/>
        </p:blipFill>
        <p:spPr>
          <a:xfrm>
            <a:off x="838080" y="4343400"/>
            <a:ext cx="1257480" cy="15717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LEGION</cp:lastModifiedBy>
  <dcterms:modified xsi:type="dcterms:W3CDTF">2015-05-01T11:11:47Z</dcterms:modified>
  <cp:revision>39</cp:revision>
  <dc:subject/>
  <dc:title>Водородная связь</dc:title>
</cp:coreProperties>
</file>