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9229-8875-4784-A7E6-2E2AC40ABA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4B2C-513D-485A-8DD8-65D7C750D2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1B49-529E-4440-9D0D-08EC8CF568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редставители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илетской шко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аксиманд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610-547 до н.э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­го — «апейрон» — вечная, бесконечная субстанция, из которой вс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о, все состоит и в которую все преврати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 — первопричина, а Боги становятся мирами, универсумами, коих множе­ство, и они-т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ически возникают и гибну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 состоит из серий противоположностей, опре­деляющих генезис Косм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Вселенной — Зем­ля, представляющая собой срез цилиндра, который па­рит в воздух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6902-B7D7-458F-9309-120FA86AD1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алес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625-547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го — вода — «фазис», жидк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учий, а то, что мы пьем, — лишь одно из его состояний. Вода соотноси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божественным нач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живая природа, все вещи имеют душу (гилозо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 Вселенной — Земля, представляющая собой плоский диск, покоящийся на в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полна бо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D5FF-54AB-45BF-9DF6-864EE810FA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ксиме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585-525 до н.э.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начало всего сущего — воздух, ко­торый проходит в сво­ем изменении ряд эта­пов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онь — воздух — ветры-облака — земля — камни. Воздух, входя­щий в вышеуказанный ряд, 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ждественен с первонач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 — источник жизни и психических явл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— плоский диск, парящий в воз­дух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ги отождествля­ются с Природ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1EB4-305B-4E97-BA2F-9CA43144ED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9077-74F4-4478-806F-409AFE05A8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ым после Милета очагом древнегреческой философии в Малой Азии был город Эфес, родина философ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ераклит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. 530—470 до н.э.). Гераклит — од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основоположников диалектики, учение которого является наиболе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рким выражением стихийной диалектичности древнегре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положения учения Геракли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всего существующего лежи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гонь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ервоначало, находящее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ечном движении и изменении. Переходящее из одного состояния в другое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я борьбе образующих его противоположностей, служит основой всего развития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находится в процессе непрерывного изменения, а из всех природных веществ наиболее способен к изменению огонь. Поэтому «этот космос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 тот же для всего существующего, не создал никакой Бог и ника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, но всегда он был, есть и будет вечно живым огнем, мерами загорающимся и мерами потухающим» (фрагмент Геракли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ым определяющим элементом мировоззрения Гераклита является утверждение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сеобщей текучести вещей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яемости. «Нельзя войти в одн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у же реку дважды». «Мы входим и не входим в одну и ту же реку, мы т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 самые и не те же самые» (фрагмент Гераклит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происходит по необходимости и из «противоположного обмена»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обходимость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сеобщий закон «логос», созидающий сущее из «противоположного движения», т.е. здесь Гераклит говорит о внутренне противоречивом потоке, тем самым подходя к диалектическому пониманию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потоке тесно связано с учением о переходе одной противоположности в другую, т.е. Гераклит вплотную подходит к постановке пробл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единства противоположностей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иваясь друг на друга, противоположности становятся друг другу тождественными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тивореч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орьба) является движущей силой всякого изменения и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ознания основывается на понимании взаимосвязи чувственного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го познания, а задача познания — проникновение в сущ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ы в ее вечном изменении. Основа общности и истинности человеческого познания — «логос», т. е. единство, всеобщность и непреложность миро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го поряд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DF1B-931C-401F-8652-710D7CC6B6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Философия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ФАГОРЕЙЦ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следователи Пифаг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-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начал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. до п.».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евнегреческого философа и математика, основавшег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реческом городе Кротоне религиозный сою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4CD6-4EF5-4375-BBCC-573DB518C1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ные черты пифагорейско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а она как некое братство или религиозный орден, подчине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гим правилам общежития и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воспринималось как тайна, знать которую позволялось лиш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ептам и разглашение которой строжайше запрещало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ский союз представлял собой реакционную партийн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ю аристокра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8B46-BB2F-4F98-9CCB-A8101600C0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Основные положения философии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инное мировоззрение, по Пифагору, покоится на трех основах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рали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елигии и знании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 Пифагора — это мораль аристократ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науки подчинены интересам рели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причина всего сущего — число. Все в природе измеряетс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иняется числу, в числе - сущность всех вещей; познать мир, е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, его закономерность — это значит познать управляющие им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стик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исе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яет ядро пифагорейского идеал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е о противоположностях оформляется в систему метафизичес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ых противоположностей (предел и беспредельное, нечет и чет, един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ножество, правое и левое, мужское и женское, покоящееся и движущеес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ое и кривое, свет и тьма, хорошее и дурное, четырехугольное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ороннее). Основное философское значение имеет противополож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ого и беспредельного, определяющая все другие противополож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цы в основном стояли на позиции метафизическо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понимания, что целиком связано с их пониманием чис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фагорейцы преуспели в изучении музыки, геометрии и небесной меха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C8E9-4C63-41DC-BE28-AE68F5F460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Философия эле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АТЫ — представители Элейской философской школы, существовавшей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вв. до н.э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внегреческом полисе Элея н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 современной Итали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ит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B845-947B-457D-BB48-9DD05C017A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новение, эволюция и своеобразие античной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Общая характеристика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Отличительные особенности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Основные периоды развития античной философ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раткая характеристика досократи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Милет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Философия Гераклита Эфес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Философия пифагорейц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Философия эле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Атомистически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Философия соф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 Краткая характеристика классической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 Философия Сокр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Общая характеристика философии Плат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 Учение Платона о государ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Научная деятельность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Общая характеристика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 Проблемы материи, души, человека в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F8F4-926D-443B-91E1-2EF99CAA4E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эле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философские мировоззрения, с точки зрения Парменида, покоятся на одной из трех основных предпосылок: 1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олько бытие есть, небытия нет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 только бытие, но и небытие существу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3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и небытие тождественн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Эти предпосылки являются основой трех философских школ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— исходный пункт Элейской школы, вторая лежит в основе учения пифагорейской школы, а в третьей заключается учение Гераклита Эфесск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аты первыми попытались понять мир, применяя к многообразию вещей философские понятия предельной общности (бытие, небытие, движе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е бытие понимается элеатами как непрерывное, нераздельное, одинаково присутствующее в каждом мельчайшем элементе действительности, исключающее количественную множествен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й и их движение (апории Зенона о невозможности движения). Множественность и движение не могут быть мыслимы без противоречия, и поэтому они не суть бы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знании элеаты разграничиваю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ину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ную на рациональн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нии,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нени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ное на чувственных восприятиях. Послед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комят нас лишь с видимостью вещей, но не дают знания их истинн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и. Только разум может постичь истину о мире, исходя из тождеств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ления и бы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нятии бытия, как его осмыслили элеаты, содержится три момент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есть, а небытия нет; 2) бытие одно, неделимо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ытие познаваемо, а небыт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идимость)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познаваемо: его нет для разума, а значит, оно не существу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ий мир элеаты рассматривали как нечто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изменчивое и подвижное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яя его в рамках чувственного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A4A4-EC0D-4337-B2B3-123444E7E0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ателем атомистик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евкип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к. 500—440 до н.э.), учение которого продолжи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ый-энциклопедист и философ-материалис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мокри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60—370 до н.э.). Демокрит считался основоположником материалистического направл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илософии («линия Демокрита» 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полож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инии Платона» — идеалистического направл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FCAD-D5E5-455D-BEA7-52845E705B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атомис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 состоит из пространства и наполняющей его материи, или из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томо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уст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ы не возникают и не уничтожаются. Они вечны и неделимы, просты и качественно неизменн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ними существуют первоначальные отличия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рма, порядок и положе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он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аются по величин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яж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ви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и составляет основу всей атомистической системы. Атомы находятся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чном движении, атом — движущаяся матер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ленная бесконечна, бесконечно и число миров в ней. Земля — плоск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ние всеобщей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чинной необходимост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одним из основных принципов вс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атомистов. Отсюда атомисты одновременно и отрицают случайность, и признают ее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ют в смысле беспричинности — никакое событие не может возникнуть без причины; признаю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мысле противоположности целесообразности - никакое событие в природе не возникает и 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сходит ради осуществления какой-либо цели. В этом смысл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кое событие случай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м началом и основанием в познании являю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щущения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сем, что дает для познания ум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в конечном счете обязан чувств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знь и смерть организмов — это соединение и размножение атомов. Тот же принцип положен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психологии: душа состоит из огненных атомов и есть временное соединение. Бессмерт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и отверг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исты, в частности Демокрит, проявляют большой интерес к вопросам политики, государств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ройства, вопросам и проблемам физики, математики, техники, эстетики, филологии, муз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1C96-F23B-4BB7-82D2-312ED31DEB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Философия соф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ервая полови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 до н.э.) не представляла собой единого круга мыслител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фисты» не есть название определенного философского направления или особой философск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. Слово «софист», первоначально означавшее мудрец, искусник, изобретатель, со второ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 означает особый тип философа-профессионала, учителя философии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ие софист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)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тагор, Горгий, Гиппий, Продик, Антифонт,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итий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ладшие софисты -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икофрон, Алкидамант, Трассимах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фис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зна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основная проблема софистики. Софисты произвели смещение ос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ого исследования с природы на человека: именно в этом их историческое значение.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е внимания оказались человек и его психология: искусство убеждать требовало зна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х форм с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правоту софисты доказывали с помощью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физмов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х приемов, уловок, благодар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м умозаключение, на первый взгляд правильное, оказывалось в итоге ложным, и собеседни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утывался в собственных мыс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й принцип софистов: «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есть мера всех вещей в том, что они существуют, и в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ом,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то они не существуют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тагор). Отсюда субъективизм в оценках и суждениях, отриц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го бытия и попытки доказать то, что действительность существует только в мысля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ознания софистов ориентирована на отдельного индивида — субъек­та познания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убъективный идеализм)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е, истинное познание не­достижим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{скептицизм)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сяк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относитель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релятив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ятивизм в теории познания служит обоснованием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равственного релятивизма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ст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ывали условность правовых норм, государственных законов и моральных оце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F321-4678-4ED5-8D3B-1FC965D67B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Краткая характеристика классиче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4186-2FB4-4235-A986-60886A4A08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КРАТ (469—399 до н.э.) — выдающийся афинский философ, учитель Платона. Сократ — представитель реалистического ре­лигиозно-нравственного мировоззрения. Впервые именно Со­крат сознательно поставил перед собой задачу обоснования идеализма и выступил против античного материалистического ми­ропонимания, естественно-научного знания и безбожия. Сократ исторически был зачинателем «тенденции Платона» в античн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A29D-14D6-4765-848F-B3D308EB9B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кр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ая проблема в философии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к и человеческое созна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сущ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 — это его душа (разум). Душа - это «Я сознаю­щее», т.е. совесть и интеллектуальная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ная личность. Благодаря этому открытию создана моральная и интеллектуальная традиция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ая питает Европу до настоящего времен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задача познания — самопознание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познай самого себя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ние самого себя ка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еловека вообще», т.е. как моральную, общественно значи­мую личность. Познание — главная цел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пособность человека, ибо в про­цессе познания он приходит к общезначимым истинам, к познани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а и красоты, блага и счастья. В этом и есть цель филосо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Сократа отождествля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бродетель со знание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добродетель (мудрость, справедливост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ство, умеренность) есть всегда знание, порок — это всегда невежество; 2) никто не греши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знательно, а кто совершает зло, делает это по незнанию. Этот этический рационализм Сократ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дит мораль­ное благо к факту с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лектика Сократа совпадает с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алого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иалогос), который состоит и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х моментов: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опровержения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«иронии»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майевтики»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кратовский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— это метод последовательно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и задаваемых вопросов, имеющих своей целью приведение собеседника 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речию с самим собой, к признанию собственного невежества. В этом суть «иронии», су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айевтики» — посредством наводящих вопросов и логических приемов под­вести собеседника 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стоятельному нахождению ист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метода — найти «всеобщее» в нравственности посредство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индук­ции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ыскания обще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частном)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определения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установления родов и видов, их соотношени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оставные части «сократического» метода: «ирония» и «майевтика» — по форме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индукция» и «определение» — по содерж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2CE0-C852-43D0-B12D-8B8BB0E4ED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27—347 до н.э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ий философ Древней Греции, ученик Сократа, основатель собственной фило­софской школы — Академии, основоположник идеалисти­ческого направления в философии. Его настоящее имя - Аристокл, Платон - псевдо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844B-4553-450E-AFFE-120FE7FBD6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Плато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ая система Платона — первая завершенна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нтетическая кон­цепция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через призм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ения о идеях рассматривались все составляющ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 античной философии: онтолог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гносеология, этика, эстетика, философия поли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м в философии Платона был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чение об идеях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материальный мир, в котором жив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. Но есть и другой мир — несотворимый и неуничтожимый, т.е. вечный. Это мир прич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х форм и сущностей вещей. Это мир, который обозначается понятием «бытие» есть «мир ид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ая вещь является материальной копией первоначальной идеи (эйдоса). Материальны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и изменчивы и со временем прекращают свое суще­ствование; идеи вечны и неизмен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и - причины вещей и причина мира в целом, но они не присутствую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ире. Они пребывают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е человека. Именно душа содержит знания о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ях, поскольку она до вселения в тело обитала 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е идей. Поэтому иде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ются не через чувства, а посредством «припоминания» разум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ый мир познается, мир идей — «припоминается». Этим и определяет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ение душ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й уровень - разумный, с высоты которого челове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ерцает вечный мир идей и стремится 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у, и низший - чувственный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омощью которого он познает мир ве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у идей присуща иерархия. Прежде всего, это идея «общего блага» или «высшего блага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, это идеи: человеческих ценностей (мудрости, спра­ведливости, добра и зла), отношени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юбви, ненависти, власти, государ­ственности и т.п.), свойств вещей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идей имеет практический аспект — обоснование общечеловеческ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ов и нор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ибо с позиции идеалов «мира идей» челове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ен оценивать окружающий его мир. Так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философии называется метафизической (не путать с метафизическим методом, возникшим в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A29D-CD34-476F-BAA5-B4ECFFD4DE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чение Платона о государ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политическое учение Платона в разных вариантах излагается им в тре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иалогах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Государство», «Политик», «Законы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целиком направлено проти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ой демокра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C0CF-2041-40CC-9D10-38A093E497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2512-9591-494B-9C86-6A69F2DB44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щая характеристика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84-322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ченый-энциклопедист, философ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к Платона, воспитательАлександра Македон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5 — 322 гг. до н.э. основал философскую школу —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ик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ерипатетическую школ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863C-7D46-4C0C-818C-42E101658F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ая характеристика научной деятельности Аристо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учная деятельность Аристотеля охватила все области античного знания. Произведения его нося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нциклопедический характер. Его сочинения относятся к различным областям знаний — философии, естествознанию, логике, истории, политике, этике, литерату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 науки делятся по следующей классифика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орети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познание ведется только ради него самого. Они включают «первую философию» (метафизику), математику и физику. «Первичная философия» изучает проблемы бытия, происхождение всего сущего, причины различных явлений и т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акти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дают руководящие идеи для поведения человека, устройства государства и т.п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ворческие науки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познание совершается с целью достижения пользы или осуществления чего-либо прекрас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этом делении Аристотель не упоминает особо логику, хотя он является создателем этой науки (как и эстетики, и теории государства). Аристотель рассматривает логику как оружие всякого научного знания, а не как особую область науки (философ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ее правило научного исследования — на первом месте должна стоять объективная истина самих вещей, самой природы, и никакие субъективные цели не должны исказить этой «правды вещ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ая опыт предшествующего развития науки, Аристотель пытался по­строить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единую систему нау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009E-7151-4525-B4E0-0AE5387B82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бщая характе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считал, что философия не есть продукт единоличного индивидуального творчества, 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тог работы целых поколений мысл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н внес существенные коррективы в ряд положений философии Платона, критикуя учение об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эйдосах» («чистых идеях»). Ошибка Платона, по Аристотелю, в том, что он оторвал «мир идей» от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льного мира, поскольку бытие не есть «чистые идеи» («эйдосы») и их материальное отражени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«вещи»). Аристотель дает свое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нимание бытия через десять категорий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тие — эт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убстанция), обладающая свойствам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оличе­ства, качества, отношения, места, времени,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ложения, состояния, действия,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тр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ка учения об идеях Платона приводит Аристотеля к принципиальным положениям, которы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гли в основу его миропоним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Мир один. Это духовно-материальный, реально существующий ми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Вещи, явления и процессы реального мира могут быть познаны из него</a:t>
            </a:r>
            <a:r>
              <a:rPr b="0" lang="en-US" sz="1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амого, т.е. изучать следует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аму действительность, а не мир и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В центре познания должны быть не умозрительные схемы, а реальный</a:t>
            </a:r>
            <a:r>
              <a:rPr b="0" lang="en-US" sz="1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мир. Тогда наука получает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смысл как познание реального посредством понятийного мышления, которое изучается логикой. 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Comic Sans MS"/>
              </a:rPr>
              <a:t>Логика - орудие постижения сущности вещей, явлений и процессов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определил сущность материи и дал материалистическую трактовку происх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ра 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ристотель выделяет шесть типов государства: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плохие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тирания, крайняя олигархия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хлократия — власть толпы, крайняя демократия) и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«хо­рошие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монархия, аристократия и полития)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деал Аристотеля - политая, представляющая собой совокупность умеренной олигархии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меренной демократии, государство «среднего класс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20EF-99D0-4278-9458-C882940038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облемы материи, души человека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философии Аристо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материи, души, человека в философии Аристо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84C5-19C5-4EF3-AD20-E29E360F89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Отличитель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 античн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личительной особенностью античной философии является единство трех взаимосвязанн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собой моментов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ъекта исследования, метода и ц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момент определя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ой философии, которое конкретизируется в идея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оцентр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лее, обращаясь ко второму моменту триединства — методу, следует отметить следующу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ную особенность античной философии: стремлени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 рациональному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ению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общего, бытия, реальности. Она не ограничивается конкретными фактами и опытн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ыми. Для нее значим не отдельный факт или конкретный опыт, а разумный аргумен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ое доказательство, знание. Это не только определяет научный характер философии, н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ницы между философией, религией, мифом и искусством. Последние также имеют дело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остью как целым, но если мифология описывает ее исходя из фактических представлений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игия — посредством веры, искусство — через идею красоты, воплощенную в художественны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ах, то философское объяснение осуществляется на рациональном уровн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диалектика мышл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философия в целом есть бескорыстна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любовь к истин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особенность определя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ее третий момент — цель. Цель античной философии состоит в чистом созерцании истин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м желании достичь 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D312-B630-41AA-A5FD-7B15DA6755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DEEF-7130-4642-9153-F1568FD156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cc"/>
                </a:solidFill>
                <a:latin typeface="Impact"/>
              </a:rPr>
              <a:t>Основные периоды развития антич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чная и греко-римская философия имеют более чем тысячелетнюю историю, начиная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до н.э. и до 529 г.н.э., когда император Юстиниан закрыл фило­софские школы в Афинах. В этой истории различают ряд пери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5830-B4F5-4633-AF28-9033FFD891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38A0-B2DD-47F7-9FB3-03653D1D5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раткая характери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осократиче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кратические философские школы Древней Грец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и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. до н.э. в ранних древнегреческих поли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лософия натуралистической ори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Фалес, Анаксимандр, Анаксимен, Геракл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ифагорей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ифагор, Архит Тарент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Элей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сенофан, Парменид, Зенон, Мелис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том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Левкипп, Демокри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е философы (Эмпедокл, .Анаксаго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лософия гуманистической ори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тагор, Горгий, Продик, Гиппий, Антифонт)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сты совершили революцию, сместив философскую рефлексию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тики природы и космоса на проблему человека и его жизн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члена общества. Софисты - это феномен столь же необходимы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Сократ и Платон; последние без первых немысли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E3A1-C40B-4879-88E1-18F919716E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туралистической ориентации присуш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смоцентр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иск первоначал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дившее вс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е. Представители различных 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алистических школ обнаруживают субстанциональные основы веще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т.е. то, из чего возникают все вещи)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первоначало всег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го —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Фалес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основа всего е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Анаксимен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исла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ифагор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х быт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арменид)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ещи состоят из атомов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Левкипп, Демокрит);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всего сущего есть вечное изменение, превращение мир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ераклит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кларативно-догматический метод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илозоиз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душевление нежив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уманистической ориентации присущ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минантные темы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, политика, риторика, искусство, язык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лигия, воспитание, т.е. все то, чт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не зовется культурой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мещение оси философского поискас космоса н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C32C-A28E-434E-9CB6-E7D8079182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илет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икла на рубеже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. до н.э. в Милете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пнейшем греческом торгово-ремесленном полисе в Малой А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туралистический подход в понимании Природы и Косм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первоначала — субстанции, из которой возник окружающий мир. Первовещество понималось не как мертвая и косная материя, а как вещество живое и в частях, наделенное душой и движением (пантеиз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философских и естественно-научных вопросов увязывалось с прак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ческой деятельностью. Знания были не только основой для практическ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я, но прежде всего элементами цельного мировоззрения. Мировоз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рение это в своей сущности натуралистичес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астрономических, математических, физических и биологически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й; конструирование первых научных приборов (солнечные часы, модел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есной сферы и т.п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3DC-90EA-47D1-B3E8-4F7BB93E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4AB9-6D2A-47D5-A6B5-8F787784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D1EB-D31B-43B4-87DE-E80A1099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11B-570A-44B7-91F6-E19DF2ACD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E5C4-4272-45E7-9515-373F0980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1C2D-3D29-4039-8AF6-436506F3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CDEB-6514-44E3-91C9-715649C9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5392-3553-4761-A930-026160A9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87C7-BE46-4453-83E9-C4A3B372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1436-A09D-4CB0-B3AC-8CBB51D6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9A40-9186-46AB-9A74-190E6724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DA0-A052-4E28-AC2E-A8385889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17AB-76AE-4387-A790-3211BD06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BBE4-7AE0-4591-9050-161C1215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55AF-C3FF-4090-8832-F252980D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8E15-2248-49EB-81E2-FBBCBFD4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6299-6F73-403C-8FE8-D2E2F0DC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1F8F4-69F9-4F57-8AA3-E1CD5D6A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BF590-7095-44D8-81C2-F5806C79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A87CE-7FBE-4672-A39B-B5D954D1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0A86E-56F6-4B81-8743-40ADEF25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A9B47-7EF0-48B9-92CA-C3D2F3F3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A383-1737-4EE3-98EF-2B4525E2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993D0-58D6-49E9-8D57-7D000C91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BACFE-81AF-40E0-BA44-EC993414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1E4E6-64E8-49D9-8BF4-A4EC84BB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1DB0F-8511-48F6-91A7-6A52345C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C6236-8DA5-4993-9543-5C3C3F24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45ADC-C415-46CC-A975-40274571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E2928-0E7E-427D-A90E-65FEC06A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9FED1-7983-494F-82B3-378A6B26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00429-12C3-42B4-83B5-81BA3D0C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F771F-5E85-41B0-9D2F-3B213765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B4EE-840F-4F3B-876C-597EAF20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8B46C-EBAF-4DFF-B0A6-96049AFA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FBC66-811A-4634-ACE9-DE349236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F5B15-7CA9-4C0B-8D46-6D925482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78892-52BD-4864-80A7-D3AE8360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EA839-D1FF-4B4C-BAD3-A53D3A88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A946C-FBCA-4960-B2DD-10C44686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76C4E-B936-4FD5-A83B-39ADFDF4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AF67C-52A9-48CE-966A-69DB6271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D7631-E26C-418F-9F52-C1003E0C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09683-926F-4BD5-8C06-E384A009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977F-2A89-46DA-A566-5D36144F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634E9-0F84-43A1-815A-41D82F24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7D550-BFFC-4DBD-859A-24208B2B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6E693-742B-425D-9F77-49B29B15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75700-FA0B-4C6C-9478-BDE2B96E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B51F9-0ED1-44A9-9BCD-1EE5F8DD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5CB9F-9968-4D42-BC74-6CD9A3F1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F8B99-8DAD-4032-B4FC-25BAFF3D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5869A-DFBA-4FCC-9B35-3A2CFE10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830DF-D79F-48E3-A837-4DD271C4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86A22-6B29-4063-A0B5-1F32CE8A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A0AB-0E48-474B-BCA6-A878486A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EA8D3-C010-4491-B0DB-58DFA1E6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93D-6A01-456A-A6B8-29C0DC62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5FEF-0C8C-4B0B-87A0-AEDFC9B4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ABE6-8C99-4362-A194-BBDB1204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0A7A-33CD-4140-B84A-482F1AAEC8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42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52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56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57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60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63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66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69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72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75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78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81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84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87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90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93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96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99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02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05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08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111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114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117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122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25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28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131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134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37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40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43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46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49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52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DC4E-54A8-4649-8628-B3527B5BC6A5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8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74D0-D306-4C3A-8035-58239E7EB7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27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7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282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28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8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287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288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291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294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300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03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306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309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312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315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318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321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324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327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330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333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33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339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342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34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348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0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2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353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356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59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362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365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368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0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371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3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374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377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380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8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5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386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387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9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2CA7-6E19-4EA7-88E0-19422EA7D76D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5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5381-7E42-4B5F-A618-57EDD7EE888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8.xml"/><Relationship Id="rId5" Type="http://schemas.openxmlformats.org/officeDocument/2006/relationships/slide" Target="slide30.xml"/><Relationship Id="rId6" Type="http://schemas.openxmlformats.org/officeDocument/2006/relationships/slide" Target="slide32.xml"/><Relationship Id="rId7" Type="http://schemas.openxmlformats.org/officeDocument/2006/relationships/slide" Target="slide33.xml"/><Relationship Id="rId8" Type="http://schemas.openxmlformats.org/officeDocument/2006/relationships/slide" Target="slide35.xml"/><Relationship Id="rId9" Type="http://schemas.openxmlformats.org/officeDocument/2006/relationships/slide" Target="slide36.xml"/><Relationship Id="rId10" Type="http://schemas.openxmlformats.org/officeDocument/2006/relationships/slide" Target="slide37.xml"/><Relationship Id="rId11" Type="http://schemas.openxmlformats.org/officeDocument/2006/relationships/slide" Target="slide38.xml"/><Relationship Id="rId12" Type="http://schemas.openxmlformats.org/officeDocument/2006/relationships/slide" Target="slide39.xml"/><Relationship Id="rId13" Type="http://schemas.openxmlformats.org/officeDocument/2006/relationships/slide" Target="slide41.xml"/><Relationship Id="rId14" Type="http://schemas.openxmlformats.org/officeDocument/2006/relationships/slide" Target="slide43.xml"/><Relationship Id="rId15" Type="http://schemas.openxmlformats.org/officeDocument/2006/relationships/slide" Target="slide44.xml"/><Relationship Id="rId16" Type="http://schemas.openxmlformats.org/officeDocument/2006/relationships/slide" Target="slide45.xml"/><Relationship Id="rId17" Type="http://schemas.openxmlformats.org/officeDocument/2006/relationships/slide" Target="slide46.xml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4724280"/>
            <a:ext cx="575784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АНТИЧНАЯ  ФИЛОСОФИ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WordArt 0"/>
          <p:cNvSpPr txBox="1"/>
          <p:nvPr/>
        </p:nvSpPr>
        <p:spPr>
          <a:xfrm>
            <a:off x="2195640" y="404640"/>
            <a:ext cx="54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дставител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2" name="WordArt 1"/>
          <p:cNvSpPr txBox="1"/>
          <p:nvPr/>
        </p:nvSpPr>
        <p:spPr>
          <a:xfrm>
            <a:off x="826920" y="2492280"/>
            <a:ext cx="75614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илетской школ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3" name="Picture 2" descr="Анаксимандр"/>
          <p:cNvPicPr/>
          <p:nvPr/>
        </p:nvPicPr>
        <p:blipFill>
          <a:blip r:embed="rId1"/>
          <a:stretch/>
        </p:blipFill>
        <p:spPr>
          <a:xfrm>
            <a:off x="900000" y="4292640"/>
            <a:ext cx="1602000" cy="2158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4" name="Picture 3" descr="f1_f0"/>
          <p:cNvPicPr/>
          <p:nvPr/>
        </p:nvPicPr>
        <p:blipFill>
          <a:blip r:embed="rId2"/>
          <a:stretch/>
        </p:blipFill>
        <p:spPr>
          <a:xfrm>
            <a:off x="3708360" y="4221000"/>
            <a:ext cx="1820880" cy="223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5" name="Picture 4" descr="Image Preview"/>
          <p:cNvPicPr/>
          <p:nvPr/>
        </p:nvPicPr>
        <p:blipFill>
          <a:blip r:embed="rId3"/>
          <a:stretch/>
        </p:blipFill>
        <p:spPr>
          <a:xfrm>
            <a:off x="6716880" y="4221000"/>
            <a:ext cx="1777680" cy="2230560"/>
          </a:xfrm>
          <a:prstGeom prst="rect">
            <a:avLst/>
          </a:prstGeom>
          <a:ln w="0">
            <a:noFill/>
          </a:ln>
        </p:spPr>
      </p:pic>
      <p:sp>
        <p:nvSpPr>
          <p:cNvPr id="5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5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5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ксиманд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610-547 до н.э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48320" y="1600200"/>
            <a:ext cx="4038840" cy="39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оначало всего суще­го — «апейрон» — вечная, бесконечная субстанция, из которой вс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никло, все состоит и в которую все преврати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г — первопричина, а Боги становятся мирами, универсумами, коих множе­ство, и они-т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клически возникают и гибну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р состоит из серий противоположностей, опре­деляющих генезис Косм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 Вселенной — Зем­ля, представляющая собой срез цилиндра, который па­рит в воздух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7" descr="Анаксимандр"/>
          <p:cNvPicPr/>
          <p:nvPr/>
        </p:nvPicPr>
        <p:blipFill>
          <a:blip r:embed="rId1"/>
          <a:stretch/>
        </p:blipFill>
        <p:spPr>
          <a:xfrm>
            <a:off x="819000" y="1628640"/>
            <a:ext cx="3313440" cy="44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алес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625-547 до н.э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4648320" y="1600200"/>
            <a:ext cx="4038840" cy="397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згляд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о всего сущего — вода — «фазис», жидкий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учий, а то, что мы пьем, — лишь одно из его состояний. Вода соотносит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божественным нач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ивая природа, все вещи имеют душу (гилозоиз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 Вселенной — Земля, представляющая собой плоский диск, покоящийся на 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ленная полна б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8" descr="f1_f0"/>
          <p:cNvPicPr/>
          <p:nvPr/>
        </p:nvPicPr>
        <p:blipFill>
          <a:blip r:embed="rId1"/>
          <a:stretch/>
        </p:blipFill>
        <p:spPr>
          <a:xfrm>
            <a:off x="654120" y="1628640"/>
            <a:ext cx="3641760" cy="4464360"/>
          </a:xfrm>
          <a:prstGeom prst="rect">
            <a:avLst/>
          </a:prstGeom>
          <a:ln w="0">
            <a:noFill/>
          </a:ln>
        </p:spPr>
      </p:pic>
      <p:sp>
        <p:nvSpPr>
          <p:cNvPr id="5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аксиме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585-525 до н.э.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067280" y="1600200"/>
            <a:ext cx="4619880" cy="39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взгля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начало всего сущего — воздух, ко­торый проходит в сво­ем изменении ряд эта­пов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онь — воздух — ветры-облака — земля — камни. Воздух, входя­щий в вышеуказанный ряд, н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ждественен с первонача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ух — источник жизни и психических явл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мля — плоский диск, парящий в воз­дух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и отождествля­ются с Природ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8" descr="Image Preview"/>
          <p:cNvPicPr/>
          <p:nvPr/>
        </p:nvPicPr>
        <p:blipFill>
          <a:blip r:embed="rId1"/>
          <a:stretch/>
        </p:blipFill>
        <p:spPr>
          <a:xfrm>
            <a:off x="693720" y="1628640"/>
            <a:ext cx="3218040" cy="4032360"/>
          </a:xfrm>
          <a:prstGeom prst="rect">
            <a:avLst/>
          </a:prstGeom>
          <a:ln w="0">
            <a:noFill/>
          </a:ln>
        </p:spPr>
      </p:pic>
      <p:sp>
        <p:nvSpPr>
          <p:cNvPr id="5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WordArt 6"/>
          <p:cNvSpPr txBox="1"/>
          <p:nvPr/>
        </p:nvSpPr>
        <p:spPr>
          <a:xfrm>
            <a:off x="971640" y="765000"/>
            <a:ext cx="7343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лософия Гераклита Эфесског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ым после Милета очагом древнегреческой философии в Малой Азии был город Эфес, родина философа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еракли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к. 530—470 до н.э.). Гераклит — один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основоположников диалектики, учение которого является наиболе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м выражением стихийной диалектичности древнегреческой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" descr="biograf78"/>
          <p:cNvPicPr/>
          <p:nvPr/>
        </p:nvPicPr>
        <p:blipFill>
          <a:blip r:embed="rId1"/>
          <a:stretch/>
        </p:blipFill>
        <p:spPr>
          <a:xfrm>
            <a:off x="1038240" y="1844640"/>
            <a:ext cx="3052800" cy="381636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учения Геракли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47160" cy="547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снове всего существующего лежи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гонь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первоначало, находящее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вечном движении и изменении. Переходящее из одного состояния в другое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одаря борьбе образующих его противоположностей, служит основой всего развития ми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находится в процессе непрерывного изменения, а из всех природных веществ наиболее способен к изменению огонь. Поэтому «этот космос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 тот же для всего существующего, не создал никакой Бог и никако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но всегда он был, есть и будет вечно живым огнем, мерами загорающимся и мерами потухающим» (фрагмент Геракли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орым определяющим элементом мировоззрения Гераклита является утверждение 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сеобщей текучести вещей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меняемости. «Нельзя войти в одн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у же реку дважды». «Мы входим и не входим в одну и ту же реку, мы т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е самые и не те же самые» (фрагмент Гераклит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происходит по необходимости и из «противоположного обмена»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еобходимость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всеобщий закон «логос», созидающий сущее из «противоположного движения», т.е. здесь Гераклит говорит о внутренне противоречивом потоке, тем самым подходя к диалектическому пониманию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ение о потоке тесно связано с учением о переходе одной противоположности в другую, т.е. Гераклит вплотную подходит к постановке проблем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динства противоположностей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мениваясь друг на друга, противоположности становятся друг другу тождественными.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ивореч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борьба) является движущей силой всякого изменения и развит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познания основывается на понимании взаимосвязи чувственного 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ционального познания, а задача познания — проникновение в сущност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ы в ее вечном изменении. Основа общности и истинности человеческого познания — «логос», т. е. единство, всеобщность и непреложность миро­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го поряд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WordArt 2"/>
          <p:cNvSpPr txBox="1"/>
          <p:nvPr/>
        </p:nvSpPr>
        <p:spPr>
          <a:xfrm>
            <a:off x="1763640" y="260280"/>
            <a:ext cx="574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лософия пифагорейце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7" name="AutoShape 3"/>
          <p:cNvSpPr/>
          <p:nvPr/>
        </p:nvSpPr>
        <p:spPr>
          <a:xfrm>
            <a:off x="1258920" y="1052640"/>
            <a:ext cx="6985080" cy="136836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ИФАГОРЕЙЦЫ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оследователи Пифаг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2-я полов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начал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. до п.».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ревнегреческого философа и математика, основавшег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греческом городе Кротоне религиозный сою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0" descr="pythagoras"/>
          <p:cNvPicPr/>
          <p:nvPr/>
        </p:nvPicPr>
        <p:blipFill>
          <a:blip r:embed="rId3"/>
          <a:stretch/>
        </p:blipFill>
        <p:spPr>
          <a:xfrm>
            <a:off x="3059280" y="2565360"/>
            <a:ext cx="3041640" cy="3384720"/>
          </a:xfrm>
          <a:prstGeom prst="rect">
            <a:avLst/>
          </a:prstGeom>
          <a:ln w="0">
            <a:noFill/>
          </a:ln>
        </p:spPr>
      </p:pic>
      <p:sp>
        <p:nvSpPr>
          <p:cNvPr id="5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761760" y="316440"/>
            <a:ext cx="7620480" cy="105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арактерные черты пифагорейск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ла она как некое братство или религиозный орден, подчиненны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огим правилам общежития и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е воспринималось как тайна, знать которую позволялось лиш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ептам и разглашение которой строжайше запреща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фагорейский союз представлял собой реакционную партийную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ю аристократ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AutoShape 2"/>
          <p:cNvSpPr/>
          <p:nvPr/>
        </p:nvSpPr>
        <p:spPr>
          <a:xfrm>
            <a:off x="1403280" y="620640"/>
            <a:ext cx="6048360" cy="64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сновные положения философии пифагорей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179280" y="1341360"/>
            <a:ext cx="87854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инное мировоззрение, по Пифагору, покоится на трех основах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рали,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лигии и знании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раль Пифагора — это мораль аристократ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науки подчинены интересам рели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причина всего сущего — число. Все в природе измеряет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чиняется числу, в числе - сущность всех вещей; познать мир, 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ение, его закономерность — это значит познать управляющие им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сти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исе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т ядро пифагорейского идеал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 о противоположностях оформляется в систему метафизичес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ых противоположностей (предел и беспредельное, нечет и чет, един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ножество, правое и левое, мужское и женское, покоящееся и движущееся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е и кривое, свет и тьма, хорошее и дурное, четырехугольное 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ороннее). Основное философское значение имеет противоположно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ельного и беспредельного, определяющая все другие противопо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ейцы в основном стояли на позиции метафизическо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ропонимания, что целиком связано с их пониманием чи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фагорейцы преуспели в изучении музыки, геометрии и небесной меха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3"/>
          <p:cNvSpPr/>
          <p:nvPr/>
        </p:nvSpPr>
        <p:spPr>
          <a:xfrm>
            <a:off x="179280" y="765000"/>
            <a:ext cx="878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250920" y="1854000"/>
            <a:ext cx="83167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ЛЕАТЫ — представители Элейской философской школы, существовавшей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вв. до н.э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древнегреческом полисе Элея н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территории современной Итали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стави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WordArt 0"/>
          <p:cNvSpPr txBox="1"/>
          <p:nvPr/>
        </p:nvSpPr>
        <p:spPr>
          <a:xfrm>
            <a:off x="1547640" y="189000"/>
            <a:ext cx="66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лософия элеа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9" name="Picture 2" descr="homer2"/>
          <p:cNvPicPr/>
          <p:nvPr/>
        </p:nvPicPr>
        <p:blipFill>
          <a:blip r:embed="rId1"/>
          <a:stretch/>
        </p:blipFill>
        <p:spPr>
          <a:xfrm>
            <a:off x="546120" y="3357720"/>
            <a:ext cx="1655640" cy="234144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3"/>
          <p:cNvSpPr/>
          <p:nvPr/>
        </p:nvSpPr>
        <p:spPr>
          <a:xfrm>
            <a:off x="684360" y="5877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сеноф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nb_pinacoteca_raphael_the_school_of_athens_detail_parmenides_enlarged"/>
          <p:cNvPicPr/>
          <p:nvPr/>
        </p:nvPicPr>
        <p:blipFill>
          <a:blip r:embed="rId2"/>
          <a:stretch/>
        </p:blipFill>
        <p:spPr>
          <a:xfrm>
            <a:off x="3203640" y="3357720"/>
            <a:ext cx="1388880" cy="244764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5"/>
          <p:cNvSpPr/>
          <p:nvPr/>
        </p:nvSpPr>
        <p:spPr>
          <a:xfrm>
            <a:off x="3205440" y="58770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мен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6" descr="zenon1"/>
          <p:cNvPicPr/>
          <p:nvPr/>
        </p:nvPicPr>
        <p:blipFill>
          <a:blip r:embed="rId3"/>
          <a:stretch/>
        </p:blipFill>
        <p:spPr>
          <a:xfrm>
            <a:off x="5219640" y="3357720"/>
            <a:ext cx="1782720" cy="244764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7"/>
          <p:cNvSpPr/>
          <p:nvPr/>
        </p:nvSpPr>
        <p:spPr>
          <a:xfrm>
            <a:off x="5726160" y="58770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е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7454880" y="58770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Мели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озникновение, эволюция и своеобразие античной философии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1 Общая характеристика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2 Отличительные особенности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3 Основные периоды развития античной философ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4 Краткая характеристика досократическ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5 Милетская школ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6 Философия Гераклита Эфесск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7 Философия пифагорейце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8" action="ppaction://hlinksldjump"/>
              </a:rPr>
              <a:t>8 Философия элеа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9" action="ppaction://hlinksldjump"/>
              </a:rPr>
              <a:t>9 Атомистический материализ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0" action="ppaction://hlinksldjump"/>
              </a:rPr>
              <a:t>10 Философия софис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1" action="ppaction://hlinksldjump"/>
              </a:rPr>
              <a:t>11 Краткая характеристика классической античной философ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2" action="ppaction://hlinksldjump"/>
              </a:rPr>
              <a:t>12 Философия Сокра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3" action="ppaction://hlinksldjump"/>
              </a:rPr>
              <a:t>13 Общая характеристика философии Плато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4" action="ppaction://hlinksldjump"/>
              </a:rPr>
              <a:t>14 Учение Платона о государст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5" action="ppaction://hlinksldjump"/>
              </a:rPr>
              <a:t>15 Научная деятельность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6" action="ppaction://hlinksldjump"/>
              </a:rPr>
              <a:t>16 Общая характеристика философии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Times New Roman"/>
                <a:hlinkClick r:id="rId17" action="ppaction://hlinksldjump"/>
              </a:rPr>
              <a:t>17 Проблемы материи, души, человека в философии Аристотел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5941800" y="6308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огл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философии эле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08720" cy="54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философские мировоззрения, с точки зрения Парменида, покоятся на одной из трех основных предпосылок: 1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только бытие есть, небытия нет,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 только бытие, но и небытие существу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3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и небытие тождествен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и предпосылки являются основой трех философских школ: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— исходный пункт Элейской школы, вторая лежит в основе учения пифагорейской школы, а в третьей заключается учение Гераклита Эфесск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аты первыми попытались понять мир, применяя к многообразию вещей философские понятия предельной общности (бытие, небытие, движени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иное бытие понимается элеатами как непрерывное, нераздельное, одинаково присутствующее в каждом мельчайшем элементе действительности, исключающее количественную множествен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щей и их движение (апории Зенона о невозможности движения). Множественность и движение не могут быть мыслимы без противоречия, и поэтому они не суть быт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знании элеаты разграничиваю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стину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ную на рационально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нании, и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нени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анное на чувственных восприятиях. Последни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омят нас лишь с видимостью вещей, но не дают знания их истинн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ущности. Только разум может постичь истину о мире, исходя из тождеств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шления и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нятии бытия, как его осмыслили элеаты, содержится три момента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есть, а небытия нет; 2) бытие одно, неделимо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ытие познаваемо, а небыти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идимость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познаваемо: его нет для разума, а значит, оно не существу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ужающий мир элеаты рассматривали как нечто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изменчивое и подвижное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яя его в рамках чувственного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WordArt 2"/>
          <p:cNvSpPr txBox="1"/>
          <p:nvPr/>
        </p:nvSpPr>
        <p:spPr>
          <a:xfrm>
            <a:off x="1476360" y="115920"/>
            <a:ext cx="6200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томстический материализ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845240" y="1797120"/>
            <a:ext cx="3644640" cy="4132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телем атомисти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вкипп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к. 500—440 до н.э.), учение которого продолжи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ый-энциклопедист и философ-материалис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мокри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460—370 до н.э.). Демокрит считался основоположником материалистического направл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илософии («линия Демокрита» 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полож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инии Платона» — идеалистического направ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028" descr="demokrit"/>
          <p:cNvPicPr/>
          <p:nvPr/>
        </p:nvPicPr>
        <p:blipFill>
          <a:blip r:embed="rId1"/>
          <a:stretch/>
        </p:blipFill>
        <p:spPr>
          <a:xfrm>
            <a:off x="874800" y="1557360"/>
            <a:ext cx="3151080" cy="4535640"/>
          </a:xfrm>
          <a:prstGeom prst="rect">
            <a:avLst/>
          </a:prstGeom>
          <a:ln w="0">
            <a:noFill/>
          </a:ln>
        </p:spPr>
      </p:pic>
      <p:sp>
        <p:nvSpPr>
          <p:cNvPr id="6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2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философии атомист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 состоит из пространства и наполняющей его материи, или из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томов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уст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ы не возникают и не уничтожаются. Они вечны и неделимы, просты и качественно неизменн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ними существуют первоначальные отличия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орма, порядок и положени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он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личаются по величи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тяже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вижен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и составляет основу всей атомистической системы. Атомы находятся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вечном движении, атом — движущаяся матер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ленная бесконечна, бесконечно и число миров в ней. Земля — плоск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знание всеобщей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чинной необходимости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вляется одним из основных принципов все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ы атомистов. Отсюда атомисты одновременно и отрицают случайность, и признают ее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ют в смысле беспричинности — никакое событие не может возникнуть без причины; признаю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мысле противоположности целесообразности - никакое событие в природе не возникает и 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сходит ради осуществления какой-либо цели. В этом смысл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якое событие случай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ным началом и основанием в познании являю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щущени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всем, что дает для познания у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в конечном счете обязан чувств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ь и смерть организмов — это соединение и размножение атомов. Тот же принцип положен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у психологии: душа состоит из огненных атомов и есть временное соединение. Бессмерт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и отверг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томисты, в частности Демокрит, проявляют большой интерес к вопросам политики, государственно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стройства, вопросам и проблемам физики, математики, техники, эстетики, филологии, музы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2195640" y="189000"/>
            <a:ext cx="4695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лософия софисто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179280" y="765000"/>
            <a:ext cx="8785440" cy="1295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ервая полов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 не представляла собой единого круга мыслителе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офисты» не есть название определенного философского направления или особой философск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колы. Слово «софист», первоначально означавшее мудрец, искусник, изобретатель, со втор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в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означает особый тип философа-профессионала, учителя философии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аршие софисты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)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агор, Горгий, Гиппий, Продик, Антифонт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ритий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ладшие софисты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икофрон, Алкидамант, Трассимах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4"/>
          <p:cNvSpPr/>
          <p:nvPr/>
        </p:nvSpPr>
        <p:spPr>
          <a:xfrm>
            <a:off x="179280" y="2924280"/>
            <a:ext cx="8785440" cy="37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зн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основная проблема софистики. Софисты произвели смещение ос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ого исследования с природы на человека: именно в этом их историческое значение.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е внимания оказались человек и его психология: искусство убеждать требовало зн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х форм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ю правоту софисты доказывали с помощью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физмов 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их приемов, уловок, благодар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м умозаключение, на первый взгляд правильное, оказывалось в итоге ложным, и собеседни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утывался в собственных мысл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ходный принцип софистов: «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есть мера всех вещей в том, что они существуют, и в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ом,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то они не существуют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отагор). Отсюда субъективизм в оценках и суждениях, отрицан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ктивного бытия и попытки доказать то, что действительность существует только в мысля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познания софистов ориентирована на отдельного индивида — субъек­та познания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убъективный идеализм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ективное, истинное познание не­достижим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{скептицизм)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 всяк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нание относительн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елятивиз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ятивизм в теории познания служит обоснованием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нравственного релятивизм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фисты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ывали условность правовых норм, государственных законов и моральных оцен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755640" y="2349360"/>
            <a:ext cx="77058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фис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WordArt 2"/>
          <p:cNvSpPr txBox="1"/>
          <p:nvPr/>
        </p:nvSpPr>
        <p:spPr>
          <a:xfrm>
            <a:off x="179280" y="189000"/>
            <a:ext cx="8153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кая характеристика классическ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нтичной филосо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4" name="Oval 3"/>
          <p:cNvSpPr/>
          <p:nvPr/>
        </p:nvSpPr>
        <p:spPr>
          <a:xfrm>
            <a:off x="468360" y="1268280"/>
            <a:ext cx="8278920" cy="50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кратический период (середин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— конец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V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4"/>
          <p:cNvSpPr/>
          <p:nvPr/>
        </p:nvSpPr>
        <p:spPr>
          <a:xfrm>
            <a:off x="250920" y="2276640"/>
            <a:ext cx="2808360" cy="28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Философские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79280" y="2565360"/>
            <a:ext cx="295272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Сокра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кратические школ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гар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Евклид из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гар, Евбулид, Стильпо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одор Кро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лидо-эритрей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Фе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н, Менедем, Асклепиа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иниче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нтисфе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оген Синопский, Крате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иренская школ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Аристипп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одор, Гегезий, Анникери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Плат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илософия Аристо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3203640" y="2565360"/>
            <a:ext cx="5832360" cy="41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ь философии -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блема челове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морального существ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блема, как следует жить (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крат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ая задача позна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амопознание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познай самого себя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Любое знание есть добро, а любое зло, порок соверша­ется о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знания - суть этического ра­ционализма Сокра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ом знания может быть только общее, постигаемо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редством понятий. Общее совпадает с едины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благ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ей природе неизменно. Абстрактное высшее благо — Бог, разу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енная энергия (мегарц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дрость - в познании блага посред­ством отрешения от всего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делает че­ловека зависимым, отсюда идея свободы в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ества и проповедь безусловной естественности, безусловно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чной сво­боды (кини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ом знания может быть прак­тически достижимое благо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итерием блага является наслаждение или страда­ние. Ц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и — в наслаждении насто­ящим. Средством к достиже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частья являе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вобод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киренаик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роение метафизических систем и синтез основ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их пробле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латон, Аристотел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7"/>
          <p:cNvSpPr/>
          <p:nvPr/>
        </p:nvSpPr>
        <p:spPr>
          <a:xfrm>
            <a:off x="4500720" y="2276640"/>
            <a:ext cx="3384360" cy="288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Особ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8"/>
          <p:cNvSpPr/>
          <p:nvPr/>
        </p:nvSpPr>
        <p:spPr>
          <a:xfrm flipH="1">
            <a:off x="1834920" y="1773360"/>
            <a:ext cx="23050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4140360" y="1773360"/>
            <a:ext cx="230328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WordArt 2"/>
          <p:cNvSpPr txBox="1"/>
          <p:nvPr/>
        </p:nvSpPr>
        <p:spPr>
          <a:xfrm>
            <a:off x="2195640" y="189000"/>
            <a:ext cx="4400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лософия Сокра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Т (469—399 до н.э.) — выдающийся афинский философ, учитель Платона. Сократ — представитель реалистического ре­лигиозно-нравственного мировоззрения. Впервые именно Со­крат сознательно поставил перед собой задачу обоснования идеализма и выступил против античного материалистического ми­ропонимания, естественно-научного знания и безбожия. Сократ исторически был зачинателем «тенденции Платона» в античной филосо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031" descr="sokrat"/>
          <p:cNvPicPr/>
          <p:nvPr/>
        </p:nvPicPr>
        <p:blipFill>
          <a:blip r:embed="rId1"/>
          <a:stretch/>
        </p:blipFill>
        <p:spPr>
          <a:xfrm>
            <a:off x="826920" y="1700280"/>
            <a:ext cx="3167280" cy="4392720"/>
          </a:xfrm>
          <a:prstGeom prst="rect">
            <a:avLst/>
          </a:prstGeom>
          <a:ln w="0">
            <a:noFill/>
          </a:ln>
        </p:spPr>
      </p:pic>
      <p:sp>
        <p:nvSpPr>
          <p:cNvPr id="6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2"/>
          <p:cNvSpPr/>
          <p:nvPr/>
        </p:nvSpPr>
        <p:spPr>
          <a:xfrm>
            <a:off x="1835280" y="476280"/>
            <a:ext cx="540072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оложения философии Сок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179280" y="1341360"/>
            <a:ext cx="8785440" cy="53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альная проблема в философии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человек и человеческое сознани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рода и сущнос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 — это его душа (разум). Душа - это «Я сознаю­щее», т.е. совесть и интеллектуальная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ная личность. Благодаря этому открытию создана моральная и интеллектуальная традиция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ая питает Европу до настоящего времен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ая задача познания — самопознание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познай самого себя»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ние самого себя ка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человека вообще», т.е. как моральную, общественно значи­мую личность. Познание — главная цел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способность человека, ибо в про­цессе познания он приходит к общезначимым истинам, к позна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ра и красоты, блага и счастья. В этом и есть цель филосо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ка Сократа отождеств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обродетель со знанием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добродетель (мудрость, справедливость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оянство, умеренность) есть всегда знание, порок — это всегда невежество; 2) никто не греши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ознательно, а кто совершает зло, делает это по незнанию. Этот этический рационализм Сократ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водит мораль­ное благо к факту со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алектика Сократа совпадает с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лого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диалогос), который состоит 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вух моментов: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опровержения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иронии»)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майевтики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ократовский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од — это метод последовательно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тически задаваемых вопросов, имеющих своей целью приведение собеседника 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тиворечию с самим собой, к признанию собственного невежества. В этом суть «иронии», суть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айевтики» — посредством наводящих вопросов и логических приемов под­вести собеседника к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мостоятельному нахождению исти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дача метода — найти «всеобщее» в нравственности посредством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индук­ции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отыскания общего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частном) 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определения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установления родов и видов, их соотношений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составные части «сократического» метода: «ирония» и «майевтика» — по форме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индукция» и «определение» — по содержани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WordArt 2"/>
          <p:cNvSpPr txBox="1"/>
          <p:nvPr/>
        </p:nvSpPr>
        <p:spPr>
          <a:xfrm>
            <a:off x="1692360" y="189000"/>
            <a:ext cx="6164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 Л А Т О 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27—347 до н.э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пнейший философ Древней Греции, ученик Сократа, основатель собственной фило­софской школы — Академии, основоположник идеалисти­ческого направления в философии. Его настоящее имя - Аристокл, Платон - псевдо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31" descr="i?id=22718480&amp;tov=0"/>
          <p:cNvPicPr/>
          <p:nvPr/>
        </p:nvPicPr>
        <p:blipFill>
          <a:blip r:embed="rId1"/>
          <a:stretch/>
        </p:blipFill>
        <p:spPr>
          <a:xfrm>
            <a:off x="755640" y="1413000"/>
            <a:ext cx="3362400" cy="482436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animClr clrSpc="rgb">
                                      <p:cBhvr>
                                        <p:cTn id="2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2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1979640" y="404640"/>
            <a:ext cx="5040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Плат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179280" y="1197000"/>
            <a:ext cx="8785440" cy="554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ская система Платона — первая завершенна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интетическая кон­цепция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через призму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чения о идеях рассматривались все составляющ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асти античной философии: онтологи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носеология, этика, эстетика, философия полит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лавным в философии Платона было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ение об идеях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ть материальный мир, в котором живе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. Но есть и другой мир — несотворимый и неуничтожимый, т.е. вечный. Это мир причи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ых форм и сущностей вещей. Это мир, который обозначается понятием «бытие» есть «мир ид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дельная вещь является материальной копией первоначальной идеи (эйдоса). Материальны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ещи изменчивы и со временем прекращают свое суще­ствование; идеи вечны и неизмен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и - причины вещей и причина мира в целом, но они не присутствую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мире. Они пребывают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ше человека. Именно душа содержит знания о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ях, поскольку она до вселения в тело обитала в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е идей. Поэтому иде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наются не через чувства, а посредством «припоминания» разум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альный мир познается, мир идей — «припоминается». Этим и определяет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оение души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ий уровень - разумный, с высоты которого челове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зерцает вечный мир идей и стремится к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лагу, и низший - чувственный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помощью которого он познает мир вещ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у идей присуща иерархия. Прежде всего, это идея «общего блага» или «высшего блага»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, это идеи: человеческих ценностей (мудрости, спра­ведливости, добра и зла), отношений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любви, ненависти, власти, государ­ственности и т.п.), свойств вещей и т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ория идей имеет практический аспект — обоснование общечеловечески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нципов и норм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ытия, ибо с позиции идеалов «мира идей» челове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жен оценивать окружающий его мир. Така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философии называется метафизической (не путать с метафизическим методом, возникшим в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WordArt 2"/>
          <p:cNvSpPr txBox="1"/>
          <p:nvPr/>
        </p:nvSpPr>
        <p:spPr>
          <a:xfrm>
            <a:off x="1116000" y="189000"/>
            <a:ext cx="6629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ение Платона о государств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468360" y="981000"/>
            <a:ext cx="8136000" cy="107964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циально-политическое учение Платона в разных вариантах излагается им в трех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диалогах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Государство», «Политик», «Законы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целиком направлено против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тичной демокра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4"/>
          <p:cNvSpPr/>
          <p:nvPr/>
        </p:nvSpPr>
        <p:spPr>
          <a:xfrm>
            <a:off x="2627280" y="836640"/>
            <a:ext cx="3745080" cy="360360"/>
          </a:xfrm>
          <a:prstGeom prst="ellipse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е о государст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5"/>
          <p:cNvSpPr/>
          <p:nvPr/>
        </p:nvSpPr>
        <p:spPr>
          <a:xfrm>
            <a:off x="250920" y="2565360"/>
            <a:ext cx="3025800" cy="410364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Идеальное государство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ли при­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жающееся к идеал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мен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ческая республ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ристократическая монарх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исходящая иерархия государствен­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ых ф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имократ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сть большинства, власть военных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ждей, ар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лигарх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не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мократия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ирания —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ая вла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179280" y="2276640"/>
            <a:ext cx="3168720" cy="431640"/>
          </a:xfrm>
          <a:prstGeom prst="rect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ссификация государственных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форм по Плато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3708360" y="2276640"/>
            <a:ext cx="4896000" cy="431640"/>
          </a:xfrm>
          <a:prstGeom prst="rect">
            <a:avLst/>
          </a:prstGeom>
          <a:solidFill>
            <a:srgbClr val="a7ed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 государственного устройства по Плато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8"/>
          <p:cNvSpPr/>
          <p:nvPr/>
        </p:nvSpPr>
        <p:spPr>
          <a:xfrm>
            <a:off x="3492360" y="2708280"/>
            <a:ext cx="5472360" cy="3960720"/>
          </a:xfrm>
          <a:prstGeom prst="rect">
            <a:avLst/>
          </a:prstGeom>
          <a:solidFill>
            <a:srgbClr val="cb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деальное государство есть со­обще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емледельцев и ремесленников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изводящих все необходимое дл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ания жизни граждан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инов, охраняющих безопас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ов-правителей, осуществляющих мудрое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раведливо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равление государств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аждане государства вмест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водят свободное врем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ститут брака упраздняетс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все жены и дети общи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тся и приветствуетс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уд раб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пускается небольшая частная собственность и личн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ущество для всех сослов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WordArt 1026"/>
          <p:cNvSpPr txBox="1"/>
          <p:nvPr/>
        </p:nvSpPr>
        <p:spPr>
          <a:xfrm>
            <a:off x="324000" y="189000"/>
            <a:ext cx="842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щая характеристика античной философ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5" name="Rectangle 1027"/>
          <p:cNvSpPr/>
          <p:nvPr/>
        </p:nvSpPr>
        <p:spPr>
          <a:xfrm>
            <a:off x="179280" y="692280"/>
            <a:ext cx="8785440" cy="16570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это философия древних греков и древних римлян, охватывающая период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Античная филосо­фия возникла в греческих полисах (торгово-ремесле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родах-государствах) Малой Азии, Средиземноморья, Причерноморья и Крым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бственно Греции — в Афинах, в эллинистичес­ких государствах Азии и Африки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Римской империи. Античная философия внесла исключительный вклад в развити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ровой цивилизации. Именно здесь зародилась европейская культура и цивилизация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десь истоки западной философии, почти всех ее последующих школ, идей и представ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028"/>
          <p:cNvSpPr/>
          <p:nvPr/>
        </p:nvSpPr>
        <p:spPr>
          <a:xfrm>
            <a:off x="2987640" y="2492280"/>
            <a:ext cx="2881440" cy="3603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029"/>
          <p:cNvSpPr/>
          <p:nvPr/>
        </p:nvSpPr>
        <p:spPr>
          <a:xfrm>
            <a:off x="179280" y="3068640"/>
            <a:ext cx="8785440" cy="9367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зародилась не как область специальных философских исследований, а в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азрывной связи с научными знаниями - математическими, естественно-научными, с зачатка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итических понятий, а также с мифологией и искусством. Духовное развитие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ло от мифологии и религии к науке и философ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030"/>
          <p:cNvSpPr/>
          <p:nvPr/>
        </p:nvSpPr>
        <p:spPr>
          <a:xfrm>
            <a:off x="179280" y="4292640"/>
            <a:ext cx="8785440" cy="4316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ают два основных типа философского мировоззре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атериализ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линия Демокрита»)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деализ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«линия Платона»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031"/>
          <p:cNvSpPr/>
          <p:nvPr/>
        </p:nvSpPr>
        <p:spPr>
          <a:xfrm>
            <a:off x="179280" y="5013360"/>
            <a:ext cx="8785440" cy="433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никают два противоположных основных метода мышления —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алект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етафизика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была первой исторически известной формой диалектической философ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032"/>
          <p:cNvSpPr/>
          <p:nvPr/>
        </p:nvSpPr>
        <p:spPr>
          <a:xfrm>
            <a:off x="179280" y="5661000"/>
            <a:ext cx="878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широком смысле слова термин «античность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ат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iquus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древний) означает «древность». В узком смысле с понятием «античность» связывают историю и культуру Древней Греции (Эллады) и Древнего Ри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033"/>
          <p:cNvSpPr/>
          <p:nvPr/>
        </p:nvSpPr>
        <p:spPr>
          <a:xfrm>
            <a:off x="4356000" y="285264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034"/>
          <p:cNvSpPr/>
          <p:nvPr/>
        </p:nvSpPr>
        <p:spPr>
          <a:xfrm>
            <a:off x="4356000" y="4005360"/>
            <a:ext cx="0" cy="287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035"/>
          <p:cNvSpPr/>
          <p:nvPr/>
        </p:nvSpPr>
        <p:spPr>
          <a:xfrm>
            <a:off x="4356000" y="4724280"/>
            <a:ext cx="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WordArt 2"/>
          <p:cNvSpPr txBox="1"/>
          <p:nvPr/>
        </p:nvSpPr>
        <p:spPr>
          <a:xfrm>
            <a:off x="900000" y="620640"/>
            <a:ext cx="74869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учная деятельность Аристотел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384-322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ченый-энциклопедист, философ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Платона, воспитательАлександра Македонс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35 — 322 гг. до н.э. основал философскую школу 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ике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ерипатетическую школ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031" descr="image009"/>
          <p:cNvPicPr/>
          <p:nvPr/>
        </p:nvPicPr>
        <p:blipFill>
          <a:blip r:embed="rId1"/>
          <a:stretch/>
        </p:blipFill>
        <p:spPr>
          <a:xfrm>
            <a:off x="755640" y="1484280"/>
            <a:ext cx="3355920" cy="4537080"/>
          </a:xfrm>
          <a:prstGeom prst="rect">
            <a:avLst/>
          </a:prstGeom>
          <a:ln w="0">
            <a:noFill/>
          </a:ln>
        </p:spPr>
      </p:pic>
      <p:sp>
        <p:nvSpPr>
          <p:cNvPr id="6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ая характеристика научной деятельности Аристо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учная деятельность Аристотеля охватила все области античного знания. Произведения его нося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нциклопедический характер. Его сочинения относятся к различным областям знаний — философии, естествознанию, логике, истории, политике, этике, литерату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науки делятся по следующей классифик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еорети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познание ведется только ради него самого. Они включают «первую философию» (метафизику), математику и физику. «Первичная философия» изучает проблемы бытия, происхождение всего сущего, причины различных явлений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акти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торые дают руководящие идеи для поведения человека, устройства государства и т.п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творческие науки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де познание совершается с целью достижения пользы или осуществления чего-либо прекрасн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этом делении Аристотель не упоминает особо логику, хотя он является создателем этой науки (как и эстетики, и теории государства). Аристотель рассматривает логику как оружие всякого научного знания, а не как особую область науки (философи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е правило научного исследования — на первом месте должна стоять объективная истина самих вещей, самой природы, и никакие субъективные цели не должны исказить этой «правды веще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общая опыт предшествующего развития науки, Аристотель пытался по­строить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единую систему нау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6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WordArt 2"/>
          <p:cNvSpPr txBox="1"/>
          <p:nvPr/>
        </p:nvSpPr>
        <p:spPr>
          <a:xfrm>
            <a:off x="2050920" y="189000"/>
            <a:ext cx="511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щая характерис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лософии Аристоте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1547640" y="1197000"/>
            <a:ext cx="5977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характеристика философии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считал, что философия не есть продукт единоличного индивидуального творчества, а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тог работы целых поколений мысл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 внес существенные коррективы в ряд положений философии Платона, критикуя учение об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эйдосах» («чистых идеях»). Ошибка Платона, по Аристотелю, в том, что он оторвал «мир идей» от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ьного мира, поскольку бытие не есть «чистые идеи» («эйдосы») и их материальное отражени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«вещи»). Аристотель дает сво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нимание бытия через десять категорий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тие — это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ущность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убстанция), обладающая свойствам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личе­ства, качества, отношения, места, времени,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ложения, состояния, действия,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трад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итика учения об идеях Платона приводит Аристотеля к принципиальным положениям, которы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гли в основу его миропоним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Мир один. Это духовно-материальный, реально существующий мир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Вещи, явления и процессы реального мира могут быть познаны из него</a:t>
            </a:r>
            <a:r>
              <a:rPr b="0" lang="en-US" sz="13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амого, т.е. изучать следует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аму действительность, а не мир идей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В центре познания должны быть не умозрительные схемы, а реальный</a:t>
            </a:r>
            <a:r>
              <a:rPr b="0" lang="en-US" sz="13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мир. Тогда наука получает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смысл как познание реального посредством понятийного мышления, которое изучается логикой. </a:t>
            </a:r>
            <a:br>
              <a:rPr sz="1300"/>
            </a:br>
            <a:r>
              <a:rPr b="0" lang="ru-RU" sz="1300" spc="-1" strike="noStrike">
                <a:solidFill>
                  <a:srgbClr val="660033"/>
                </a:solidFill>
                <a:latin typeface="Comic Sans MS"/>
              </a:rPr>
              <a:t>Логика - орудие постижения сущности вещей, явлений и процессов мир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определил сущность материи и дал материалистическую трактовку происх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ира и челове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стотель выделяет шесть типов государства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плохие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тирания, крайняя олигархия 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лократия — власть толпы, крайняя демократия) 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хо­рошие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монархия, аристократия и полития)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деал Аристотеля - политая, представляющая собой совокупность умеренной олигархии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меренной демократии, государство «среднего класс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Line 2"/>
          <p:cNvSpPr/>
          <p:nvPr/>
        </p:nvSpPr>
        <p:spPr>
          <a:xfrm>
            <a:off x="1692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3"/>
          <p:cNvSpPr/>
          <p:nvPr/>
        </p:nvSpPr>
        <p:spPr>
          <a:xfrm>
            <a:off x="4716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"/>
          <p:cNvSpPr/>
          <p:nvPr/>
        </p:nvSpPr>
        <p:spPr>
          <a:xfrm>
            <a:off x="7596360" y="1268280"/>
            <a:ext cx="0" cy="64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WordArt 5"/>
          <p:cNvSpPr txBox="1"/>
          <p:nvPr/>
        </p:nvSpPr>
        <p:spPr>
          <a:xfrm>
            <a:off x="1258920" y="189000"/>
            <a:ext cx="6797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материи, души человека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илософии Аристое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84" name="Rectangle 6"/>
          <p:cNvSpPr/>
          <p:nvPr/>
        </p:nvSpPr>
        <p:spPr>
          <a:xfrm>
            <a:off x="179280" y="907920"/>
            <a:ext cx="878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материи, души, человека в философии Аристо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108000" y="1916280"/>
            <a:ext cx="316872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— субстрат. Без материи н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но и сама материя не суще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вует самостоятельно. До приня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формы материя находи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ся в состоянии небытия. Эта перв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лишена жизни, энергии, цел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ности, всяких свойств, всякой опре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енности. Материя еще не 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тельность, а только возм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ность. Действительностью она ста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тся лишь в связи с фор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я — это потенция, ограничен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ой; потенция (субстрат) 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ное начало, форма — актив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кая вещь есть единство «матери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«форм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ение — обнаружение актив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в момент ее соединения 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ичин: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тери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убстрат)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ор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зующая «сущность»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ь),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изводящ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скрывающ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дви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ей формой всего сущего являе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Бог, имеющий бытие вне ми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8"/>
          <p:cNvSpPr/>
          <p:nvPr/>
        </p:nvSpPr>
        <p:spPr>
          <a:xfrm>
            <a:off x="3348000" y="1916280"/>
            <a:ext cx="273672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а - носитель сознания и одн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ведает функция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уровня душ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астительная душа»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функции питания и размно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увственная (животная) душа»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за функции питания, 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жения, ощущения и жел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разумная душа»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ватывает вс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перечисленные функции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ает еще функциями позн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ша смерти. Одушевле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и (гилозоизм) — «нелеп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тиворечи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9"/>
          <p:cNvSpPr/>
          <p:nvPr/>
        </p:nvSpPr>
        <p:spPr>
          <a:xfrm>
            <a:off x="6156360" y="1916280"/>
            <a:ext cx="2808360" cy="47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рождается политически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ом и стремится к «совм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ному сожительств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есть политическое жив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ное (выводя политичность челове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 его природы, а не наоборот 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у человека из его деяте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ти в обществе, — Аристоте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ошибк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ение политической сущно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 человека есть образован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и, госуда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0"/>
          <p:cNvSpPr/>
          <p:nvPr/>
        </p:nvSpPr>
        <p:spPr>
          <a:xfrm>
            <a:off x="179280" y="1484280"/>
            <a:ext cx="30974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ма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1"/>
          <p:cNvSpPr/>
          <p:nvPr/>
        </p:nvSpPr>
        <p:spPr>
          <a:xfrm>
            <a:off x="3348000" y="1484280"/>
            <a:ext cx="27367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душ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12"/>
          <p:cNvSpPr/>
          <p:nvPr/>
        </p:nvSpPr>
        <p:spPr>
          <a:xfrm>
            <a:off x="6156360" y="1484280"/>
            <a:ext cx="280836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а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3"/>
          <p:cNvSpPr/>
          <p:nvPr/>
        </p:nvSpPr>
        <p:spPr>
          <a:xfrm>
            <a:off x="6157800" y="6308640"/>
            <a:ext cx="27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оглавл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WordArt 1026"/>
          <p:cNvSpPr txBox="1"/>
          <p:nvPr/>
        </p:nvSpPr>
        <p:spPr>
          <a:xfrm>
            <a:off x="1547640" y="189000"/>
            <a:ext cx="55915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тличительные особенност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тичной философи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6" name="Rectangle 1027"/>
          <p:cNvSpPr/>
          <p:nvPr/>
        </p:nvSpPr>
        <p:spPr>
          <a:xfrm>
            <a:off x="1547640" y="1197000"/>
            <a:ext cx="6048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 античной философ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028"/>
          <p:cNvSpPr/>
          <p:nvPr/>
        </p:nvSpPr>
        <p:spPr>
          <a:xfrm>
            <a:off x="395280" y="1989000"/>
            <a:ext cx="8424720" cy="424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личительной особенностью античной философии является единство трех взаимосвяза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 собой моментов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бъекта исследования, метода и цел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й момент опреде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держание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ой философии, которое конкретизируется в идея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моцентриз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лее, обращаясь ко второму моменту триединства — методу, следует отметить следующу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рактерную особенность античной философии: стремление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к рациональному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ъяснению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общего, бытия, реальности. Она не ограничивается конкретными фактами и опытны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ми. Для нее значим не отдельный факт или конкретный опыт, а разумный аргумент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гическое доказательство, знание. Это не только определяет научный характер философии, но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границы между философией, религией, мифом и искусством. Последние также имеют дело с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ьностью как целым, но если мифология описывает ее исходя из фактических представлений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лигия — посредством веры, искусство — через идею красоты, воплощенную в художествен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ах, то философское объяснение осуществляется на рациональном уровне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диалектика мышл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философия в целом есть бескорыстна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юбовь к истине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а особенность определяет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е третий момент — цель. Цель античной философии состоит в чистом созерцании истин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том желании достичь е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1029"/>
          <p:cNvSpPr/>
          <p:nvPr/>
        </p:nvSpPr>
        <p:spPr>
          <a:xfrm>
            <a:off x="4643280" y="1628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WordArt 2"/>
          <p:cNvSpPr txBox="1"/>
          <p:nvPr/>
        </p:nvSpPr>
        <p:spPr>
          <a:xfrm>
            <a:off x="395280" y="0"/>
            <a:ext cx="83757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ые периоды развития античной философ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50920" y="476280"/>
            <a:ext cx="864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ичная и греко-римская философия имеют более чем тысячелетнюю историю, начиная 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. до н.э. и до 529 г.н.э., когда император Юстиниан закрыл фило­софские школы в Афинах. В этой истории различают ряд пери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1187280" y="1268280"/>
            <a:ext cx="684072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ериоды развития античной филосо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1908000" y="1989000"/>
            <a:ext cx="532800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ериод ранне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6"/>
          <p:cNvSpPr/>
          <p:nvPr/>
        </p:nvSpPr>
        <p:spPr>
          <a:xfrm>
            <a:off x="468360" y="2276640"/>
            <a:ext cx="8280360" cy="86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туралистический период с его проблемами Фюзиса (Природы)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моса (межд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. до н.э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Фалес, Анаксимандр, Анаксимен, Парменид, Зенон, Ксенофан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ифагор, Демокри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1908000" y="3573360"/>
            <a:ext cx="532800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средне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468360" y="3860640"/>
            <a:ext cx="8280360" cy="649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манистический период с ег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лемой чело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окра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его школа; софисты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отагор, Горгий, Продик,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нтифонт, Антисфен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"/>
          <p:cNvSpPr/>
          <p:nvPr/>
        </p:nvSpPr>
        <p:spPr>
          <a:xfrm>
            <a:off x="1835280" y="5084640"/>
            <a:ext cx="540072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од высокой класс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0"/>
          <p:cNvSpPr/>
          <p:nvPr/>
        </p:nvSpPr>
        <p:spPr>
          <a:xfrm>
            <a:off x="468360" y="5372280"/>
            <a:ext cx="8280360" cy="64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большого синтеза с его главной проблем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нтез философского зн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атон, Аристотель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их школ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1692360" y="1413000"/>
            <a:ext cx="554508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линиз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611280" y="1700280"/>
            <a:ext cx="7848360" cy="129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иод эллинистических школ с его главными проблемами —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раль и свобода человека, проблемы познания и т.п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Эпикур, Пиррон,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ики раннего периода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анэций, Посидоний,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дние римские стоики, или неостоицизм: 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Сенека, Эпиктет, Марк Аврел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1765440" y="3500280"/>
            <a:ext cx="5545080" cy="28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лигиозный период античной мы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684360" y="3787920"/>
            <a:ext cx="7848360" cy="1150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характеристика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ные проблемы — структуры Космоса, судьбы Космоса 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а, отношения Бога и человека и т.п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ители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лотин, Порфирий, Прокл, Филон Александрийски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др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6372360" y="189000"/>
            <a:ext cx="24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одолж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WordArt 1026"/>
          <p:cNvSpPr txBox="1"/>
          <p:nvPr/>
        </p:nvSpPr>
        <p:spPr>
          <a:xfrm>
            <a:off x="1476360" y="189000"/>
            <a:ext cx="62960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раткая характеристик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сократической философ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7" name="AutoShape 1027"/>
          <p:cNvSpPr/>
          <p:nvPr/>
        </p:nvSpPr>
        <p:spPr>
          <a:xfrm>
            <a:off x="539640" y="1268280"/>
            <a:ext cx="8136000" cy="72072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кратические философские школы Древней Греци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и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. до н.э. в ранних древнегреческих поли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28"/>
          <p:cNvSpPr/>
          <p:nvPr/>
        </p:nvSpPr>
        <p:spPr>
          <a:xfrm>
            <a:off x="2268360" y="2205000"/>
            <a:ext cx="4751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ские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29"/>
          <p:cNvSpPr/>
          <p:nvPr/>
        </p:nvSpPr>
        <p:spPr>
          <a:xfrm>
            <a:off x="395280" y="2492280"/>
            <a:ext cx="8424720" cy="4103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ия натуралистическ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Фалес, Анаксимандр, Анаксимен, Геракл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ифагорей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ифагор, Архит Тарент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лей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сенофан, Парменид, Зенон, Мели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том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Левкипп, Демокри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ые философы (Эмпедокл, .Анаксаг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лософия гуманистической ори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фист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отагор, Горгий, Продик, Гиппий, Антифонт)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фисты совершили революцию, сместив философскую рефлексию с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тики природы и космоса на проблему человека и его жизн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члена общества. Софисты - это феномен столь же необходимы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ак Сократ и Платон; последние без первых немысл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026"/>
          <p:cNvSpPr/>
          <p:nvPr/>
        </p:nvSpPr>
        <p:spPr>
          <a:xfrm>
            <a:off x="1619280" y="836640"/>
            <a:ext cx="590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об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27"/>
          <p:cNvSpPr/>
          <p:nvPr/>
        </p:nvSpPr>
        <p:spPr>
          <a:xfrm>
            <a:off x="395280" y="1197000"/>
            <a:ext cx="8353440" cy="431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028"/>
          <p:cNvSpPr/>
          <p:nvPr/>
        </p:nvSpPr>
        <p:spPr>
          <a:xfrm>
            <a:off x="395280" y="119700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туралистической ориентации присуш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смоцент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иск первоначал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дившее в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е. Представители различных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алистических школ обнаруживают субстанциональные основы вещ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.е. то, из чего возникают все вещи)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первоначало всег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го 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Фалес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основа всего е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Анаксимен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ислах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ифагор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ность вещей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х быти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арменид)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вещи состоят из атомов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Левкипп, Демокрит)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а всего сущего есть вечное изменение, превращение мир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Гераклит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кларативно-догматический мето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ософс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илозоиз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душевление нежив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манистической ориентации присущ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минантные темы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ка, политика, риторика, искусство, язы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гия, воспитание, т.е. все то, ч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ыне зовется культуро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мещение оси философского поискас космоса на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WordArt 1026"/>
          <p:cNvSpPr txBox="1"/>
          <p:nvPr/>
        </p:nvSpPr>
        <p:spPr>
          <a:xfrm>
            <a:off x="1547640" y="189000"/>
            <a:ext cx="604872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летская шко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6" name="Rectangle 1027"/>
          <p:cNvSpPr/>
          <p:nvPr/>
        </p:nvSpPr>
        <p:spPr>
          <a:xfrm>
            <a:off x="179280" y="836640"/>
            <a:ext cx="8785440" cy="792000"/>
          </a:xfrm>
          <a:prstGeom prst="rect">
            <a:avLst/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ЛЕТСКАЯ ШК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никла на рубеж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. до н.э. в Милете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ейшем греческом торгово-ремесленном полисе в Малой Аз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028"/>
          <p:cNvSpPr/>
          <p:nvPr/>
        </p:nvSpPr>
        <p:spPr>
          <a:xfrm>
            <a:off x="1908000" y="1916280"/>
            <a:ext cx="5112000" cy="431640"/>
          </a:xfrm>
          <a:prstGeom prst="roundRect">
            <a:avLst>
              <a:gd name="adj" fmla="val 16667"/>
            </a:avLst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ные че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029"/>
          <p:cNvSpPr/>
          <p:nvPr/>
        </p:nvSpPr>
        <p:spPr>
          <a:xfrm>
            <a:off x="179280" y="2349360"/>
            <a:ext cx="8785440" cy="3961080"/>
          </a:xfrm>
          <a:prstGeom prst="rect">
            <a:avLst/>
          </a:prstGeom>
          <a:solidFill>
            <a:srgbClr val="5492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30"/>
          <p:cNvSpPr/>
          <p:nvPr/>
        </p:nvSpPr>
        <p:spPr>
          <a:xfrm>
            <a:off x="179280" y="270828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туралистический подход в понимании Природы и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первоначала — субстанции, из которой возник окружающий мир. Первовещество понималось не как мертвая и косная материя, а как вещество живое и в частях, наделенное душой и движением (пантеиз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философских и естественно-научных вопросов увязывалось с прак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ческой деятельностью. Знания были не только основой для практическог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я, но прежде всего элементами цельного мировоззрения. Мировоз­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рение это в своей сущности натуралистическ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астрономических, математических, физических и биологических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й; конструирование первых научных приборов (солнечные часы, моде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есной сферы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6:31:39Z</dcterms:created>
  <dc:creator>Леди Аза</dc:creator>
  <dc:description/>
  <dc:language>en-US</dc:language>
  <cp:lastModifiedBy>LEGION</cp:lastModifiedBy>
  <dcterms:modified xsi:type="dcterms:W3CDTF">2014-11-11T08:58:02Z</dcterms:modified>
  <cp:revision>20</cp:revision>
  <dc:subject/>
  <dc:title>АНТИЧНАЯ  ФИЛОСОФИЯ</dc:title>
</cp:coreProperties>
</file>