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C9CB-0AA8-4BDB-BBC2-E035ADD036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ЧНАЯ  ФИЛОСО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2723-FDC0-4A4C-9E38-1604CF1A61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5CD0-746C-43B4-B9C8-DA938FACBD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Представители</a:t>
            </a: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илетской шко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аксиманд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610-547 до н.э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взгляд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о всего суще­го — «апейрон» — вечная, бесконечная субстанция, из которой вс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ло, все состоит и в которую все превратит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г — первопричина, а Боги становятся мирами, универсумами, коих множе­ство, и они-т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клически возникают и гибну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 состоит из серий противоположностей, опре­деляющих генезис Косм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 Вселенной — Зем­ля, представляющая собой срез цилиндра, который па­рит в воздух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B62F-31B7-475E-B031-F0AE3F2A2E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алес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625-547 до н.э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взгляд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о всего сущего — вода — «фазис», жидкий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чий, а то, что мы пьем, — лишь одно из его состояний. Вода соотносит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 божественным нача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живая природа, все вещи имеют душу (гилозоиз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 Вселенной — Земля, представляющая собой плоский диск, покоящийся на во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ленная полна бог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D96D-441F-4B20-AF0E-15C77E5BC5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ксиме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585-525 до н.э.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взгляд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о всего сущего — воздух, ко­торый проходит в сво­ем изменении ряд эта­пов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онь — воздух — ветры-облака — земля — камни. Воздух, входя­щий в вышеуказанный ряд, н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ждественен с первонача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 — источник жизни и психических явл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 — плоский диск, парящий в воз­дух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ги отождествля­ются с Природ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BFCC-ABB5-4B8C-8546-273182409C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85F9-335B-4367-B7A3-312F2255A2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ым после Милета очагом древнегреческой философии в Малой Азии был город Эфес, родина философ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ераклит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к. 530—470 до н.э.). Гераклит — од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основоположников диалектики, учение которого является наиболе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рким выражением стихийной диалектичности древнегреческ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положения учения Гераклит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всего существующего лежи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гонь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ервоначало, находящеес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ечном движении и изменении. Переходящее из одного состояния в другое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даря борьбе образующих его противоположностей, служит основой всего развития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 находится в процессе непрерывного изменения, а из всех природных веществ наиболее способен к изменению огонь. Поэтому «этот космос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 и тот же для всего существующего, не создал никакой Бог и никак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, но всегда он был, есть и будет вечно живым огнем, мерами загорающимся и мерами потухающим» (фрагмент Гераклит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ым определяющим элементом мировоззрения Гераклита является утверждение 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сеобщей текучести вещей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яемости. «Нельзя войти в одн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у же реку дважды». «Мы входим и не входим в одну и ту же реку, мы т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 самые и не те же самые» (фрагмент Гераклит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происходит по необходимости и из «противоположного обмена»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еобходимость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всеобщий закон «логос», созидающий сущее из «противоположного движения», т.е. здесь Гераклит говорит о внутренне противоречивом потоке, тем самым подходя к диалектическому пониманию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ие о потоке тесно связано с учением о переходе одной противоположности в другую, т.е. Гераклит вплотную подходит к постановке проблем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единства противоположностей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иваясь друг на друга, противоположности становятся друг другу тождественными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тивореч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борьба) является движущей силой всякого изменения и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познания основывается на понимании взаимосвязи чувственного 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ционального познания, а задача познания — проникновение в сущност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ы в ее вечном изменении. Основа общности и истинности человеческого познания — «логос», т. е. единство, всеобщность и непреложность миро­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го поряд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1CF2-994D-4502-81E0-78FDB25206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Философия пифагорейц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ИФАГОРЕЙЦ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следователи Пифаг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-я половин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начал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. до п.».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евнегреческого философа и математика, основавшег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реческом городе Кротоне религиозный сою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9CA7-2709-47CD-9B59-873CD373FF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ные черты пифагорейской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ла она как некое братство или религиозный орден, подчиненны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гим правилам общежития и пове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ие воспринималось как тайна, знать которую позволялось лиш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ептам и разглашение которой строжайше запрещало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фагорейский союз представлял собой реакционную партийну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ю аристократ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822A-17A0-407D-AED8-74DEE45665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Основные положения философии пифагорейц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инное мировоззрение, по Пифагору, покоится на трех основах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орали,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елигии и знании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аль Пифагора — это мораль аристократ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науки подчинены интересам рели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причина всего сущего — число. Все в природе измеряется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чиняется числу, в числе - сущность всех вещей; познать мир, ег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ение, его закономерность — это значит познать управляющие им чис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стик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исе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яет ядро пифагорейского идеал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ие о противоположностях оформляется в систему метафизическ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ых противоположностей (предел и беспредельное, нечет и чет, едино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множество, правое и левое, мужское и женское, покоящееся и движущееся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ое и кривое, свет и тьма, хорошее и дурное, четырехугольное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стороннее). Основное философское значение имеет противополож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ьного и беспредельного, определяющая все другие противополож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фагорейцы в основном стояли на позиции метафизическог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понимания, что целиком связано с их пониманием чис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фагорейцы преуспели в изучении музыки, геометрии и небесной механ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990C-BC7E-47C3-B0D9-C9EB73ACB2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Философия элеа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АТЫ — представители Элейской философской школы, существовавшей в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I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вв. до н.э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древнегреческом полисе Элея н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ритории современной Итали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ставите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EEE3-0BEF-464D-944D-E4F5537553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никновение, эволюция и своеобразие античной филосо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Общая характеристика 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Отличительные особенности 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Основные периоды развития античной философ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Краткая характеристика досократическ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Милетск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Философия Гераклита Эфесск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 Философия пифагорейц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 Философия элеа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 Атомистический матери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Философия софис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 Краткая характеристика классической 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 Философия Сокр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 Общая характеристика философии Плат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 Учение Платона о государ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 Научная деятельность Аристо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 Общая характеристика философии Аристо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 Проблемы материи, души, человека в философии Аристо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3838-1935-42F8-BF30-F4E1E60784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оложения философии эле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философские мировоззрения, с точки зрения Парменида, покоятся на одной из трех основных предпосылок: 1)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олько бытие есть, небытия нет,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е только бытие, но и небытие существуе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3)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ытие и небытие тождественн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Эти предпосылки являются основой трех философских школ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— исходный пункт Элейской школы, вторая лежит в основе учения пифагорейской школы, а в третьей заключается учение Гераклита Эфесск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аты первыми попытались понять мир, применяя к многообразию вещей философские понятия предельной общности (бытие, небытие, движени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ое бытие понимается элеатами как непрерывное, нераздельное, одинаково присутствующее в каждом мельчайшем элементе действительности, исключающее количественную множественно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й и их движение (апории Зенона о невозможности движения). Множественность и движение не могут быть мыслимы без противоречия, и поэтому они не суть быт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ознании элеаты разграничиваю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стину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ную на рационально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нании,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нение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ное на чувственных восприятиях. Последни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комят нас лишь с видимостью вещей, но не дают знания их истинн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и. Только разум может постичь истину о мире, исходя из тождеств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шления и бы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онятии бытия, как его осмыслили элеаты, содержится три момента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ытие есть, а небытия нет; 2) бытие одно, неделимо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ытие познаваемо, а небыт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идимость)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епознаваемо: его нет для разума, а значит, оно не существу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ружающий мир элеаты рассматривали как нечто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изменчивое и подвижное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яя его в рамках чувственного по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6B57-CE11-4E5B-89F9-90A917E1D8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ателем атомистик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л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евкипп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к. 500—440 до н.э.), учение которого продолжи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ый-энциклопедист и философ-материалис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мокри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460—370 до н.э.). Демокрит считался основоположником материалистического направле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философии («линия Демокрита» —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положност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линии Платона» — идеалистического направл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C415-663C-471F-9FF6-84C8F8C66F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положения философии атомист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 состоит из пространства и наполняющей его материи, или из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томо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уст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омы не возникают и не уничтожаются. Они вечны и неделимы, просты и качественно неизменн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ними существуют первоначальные отличия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орма, порядок и положени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ме того, он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аются по величин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яже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вижен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и составляет основу всей атомистической системы. Атомы находятся 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вечном движении, атом — движущаяся матер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ленная бесконечна, бесконечно и число миров в ней. Земля — плоск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ние всеобщей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чинной необходимост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одним из основных принципов все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атомистов. Отсюда атомисты одновременно и отрицают случайность, и признают ее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ицают в смысле беспричинности — никакое событие не может возникнуть без причины; признаю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мысле противоположности целесообразности - никакое событие в природе не возникает и н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дит ради осуществления какой-либо цели. В этом смысл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якое событие случай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ным началом и основанием в познании являютс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щущения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сем, что дает для познания ум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в конечном счете обязан чувств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ь и смерть организмов — это соединение и размножение атомов. Тот же принцип положен 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у психологии: душа состоит из огненных атомов и есть временное соединение. Бессмерт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ши отверга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омисты, в частности Демокрит, проявляют большой интерес к вопросам политики, государствен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стройства, вопросам и проблемам физики, математики, техники, эстетики, филологии, музы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1009-BDF0-4401-AF1C-9E6BDBA5EF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Философия софис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ФИСТИК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ервая половин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. до н.э.) не представляла собой единого круга мыслител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фисты» не есть название определенного философского направления или особой философск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ы. Слово «софист», первоначально означавшее мудрец, искусник, изобретатель, со втор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вин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до н.э. означает особый тип философа-профессионала, учителя философии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ршие софисты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до н.э.) —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тагор, Горгий, Гиппий, Продик, Антифонт,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ритий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ладшие софисты -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икофрон, Алкидамант, Трассимах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ложения философии софис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ловек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озна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основная проблема софистики. Софисты произвели смещение ос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ого исследования с природы на человека: именно в этом их историческое значение. 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е внимания оказались человек и его психология: искусство убеждать требовало зна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их форм со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ю правоту софисты доказывали с помощью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офизмов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их приемов, уловок, благодар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м умозаключение, на первый взгляд правильное, оказывалось в итоге ложным, и собеседник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утывался в собственных мысл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ный принцип софистов: «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ловек есть мера всех вещей в том, что они существуют, и в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ом,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то они не существуют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отагор). Отсюда субъективизм в оценках и суждениях, отрица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ого бытия и попытки доказать то, что действительность существует только в мысля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познания софистов ориентирована на отдельного индивида — субъек­та познания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убъективный идеализм)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ое, истинное познание не­достижим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{скептицизм)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всяко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относительн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релятивиз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лятивизм в теории познания служит обоснованием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равственного релятивизма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фист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ывали условность правовых норм, государственных законов и моральных оцено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BF6C-0982-4E50-8E19-14A94DFFBB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Краткая характеристика классичес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5EFB-BE9F-4435-A0CD-F23CBCD34F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КРАТ (469—399 до н.э.) — выдающийся афинский философ, учитель Платона. Сократ — представитель реалистического ре­лигиозно-нравственного мировоззрения. Впервые именно Со­крат сознательно поставил перед собой задачу обоснования идеализма и выступил против античного материалистического ми­ропонимания, естественно-научного знания и безбожия. Сократ исторически был зачинателем «тенденции Платона» в античной философ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B9A8-5999-4ADD-BF3B-44B90F9FD1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ложения философии Сокр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ая проблема в философии —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ловек и человеческое сознани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 и сущно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а — это его душа (разум). Душа - это «Я сознаю­щее», т.е. совесть и интеллектуальная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альная личность. Благодаря этому открытию создана моральная и интеллектуальная традиция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ая питает Европу до настоящего времен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задача познания — самопознание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познай самого себя»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нание самого себя как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человека вообще», т.е. как моральную, общественно значи­мую личность. Познание — главная цел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пособность человека, ибо в про­цессе познания он приходит к общезначимым истинам, к познани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ра и красоты, блага и счастья. В этом и есть цель философ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ка Сократа отождествляе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обродетель со знанием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добродетель (мудрость, справедливость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ство, умеренность) есть всегда знание, порок — это всегда невежество; 2) никто не греши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ознательно, а кто совершает зло, делает это по незнанию. Этот этический рационализм Сократ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дит мораль­ное благо к факту со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лектика Сократа совпадает с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иалого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диалогос), который состоит и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ух моментов: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опровержения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«иронии»)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майевтики»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кратовский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— это метод последовательно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чески задаваемых вопросов, имеющих своей целью приведение собеседника к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речию с самим собой, к признанию собственного невежества. В этом суть «иронии», су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айевтики» — посредством наводящих вопросов и логических приемов под­вести собеседника 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ому нахождению ист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а метода — найти «всеобщее» в нравственности посредством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индук­ции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тыскания обще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частном)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определения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установления родов и видов, их соотношени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составные части «сократического» метода: «ирония» и «майевтика» — по форме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индукция» и «определение» — по содержа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E64A-A43D-4E05-8586-468813132F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427—347 до н.э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пнейший философ Древней Греции, ученик Сократа, основатель собственной фило­софской школы — Академии, основоположник идеалисти­ческого направления в философии. Его настоящее имя - Аристокл, Платон - псевдон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F697-2530-4106-A701-940C579857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характеристика философии Плат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ая система Платона — первая завершенна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интетическая кон­цепция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через призму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чения о идеях рассматривались все составляющи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и античной философии: онтологи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гносеология, этика, эстетика, философия поли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ым в философии Платона бы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чение об идеях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материальный мир, в котором жив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. Но есть и другой мир — несотворимый и неуничтожимый, т.е. вечный. Это мир причины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х форм и сущностей вещей. Это мир, который обозначается понятием «бытие» есть «мир иде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ьная вещь является материальной копией первоначальной идеи (эйдоса). Материальны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и изменчивы и со временем прекращают свое суще­ствование; идеи вечны и неизмен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и - причины вещей и причина мира в целом, но они не присутствую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ире. Они пребывают 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ше человека. Именно душа содержит знания об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ях, поскольку она до вселения в тело обитала 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е идей. Поэтому иде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наются не через чувства, а посредством «припоминания» разум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ьный мир познается, мир идей — «припоминается». Этим и определяетс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ение душ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ий уровень - разумный, с высоты которого челове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ерцает вечный мир идей и стремится к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у, и низший - чувственный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мощью которого он познает мир вещ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у идей присуща иерархия. Прежде всего, это идея «общего блага» или «высшего блага»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ее, это идеи: человеческих ценностей (мудрости, спра­ведливости, добра и зла), отношен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юбви, ненависти, власти, государ­ственности и т.п.), свойств вещей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идей имеет практический аспект — обоснование общечеловечески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ов и нор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ия, ибо с позиции идеалов «мира идей» челове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жен оценивать окружающий его мир. Така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философии называется метафизической (не путать с метафизическим методом, возникшим в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V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CA2D-A19D-4E8E-94BA-86D698E50A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Учение Платона о государ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олитическое учение Платона в разных вариантах излагается им в тре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иалогах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Государство», «Политик», «Законы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целиком направлено проти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чной демократ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84A3-FC71-434E-8CAE-B08C621C71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1ABE-855F-4BB8-AFBC-FD81CC97E0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Общая характеристика 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384-322 до н.э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ченый-энциклопедист, философ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ик Платона, воспитательАлександра Македонско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35 — 322 гг. до н.э. основал философскую школу —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ике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ерипатетическую школ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1269-D742-4933-B648-E35DBDEDE4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щая характеристика научной деятельности Аристот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учная деятельность Аристотеля охватила все области античного знания. Произведения его носят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нциклопедический характер. Его сочинения относятся к различным областям знаний — философии, естествознанию, логике, истории, политике, этике, литерату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 науки делятся по следующей классифика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еоретические науки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познание ведется только ради него самого. Они включают «первую философию» (метафизику), математику и физику. «Первичная философия» изучает проблемы бытия, происхождение всего сущего, причины различных явлений и т.п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актические науки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е дают руководящие идеи для поведения человека, устройства государства и т.п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ворческие науки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познание совершается с целью достижения пользы или осуществления чего-либо прекрасн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этом делении Аристотель не упоминает особо логику, хотя он является создателем этой науки (как и эстетики, и теории государства). Аристотель рассматривает логику как оружие всякого научного знания, а не как особую область науки (философ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ее правило научного исследования — на первом месте должна стоять объективная истина самих вещей, самой природы, и никакие субъективные цели не должны исказить этой «правды веще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бщая опыт предшествующего развития науки, Аристотель пытался по­строить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единую систему нау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2D06-24EE-4D92-B777-74405515C5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Общая характе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философии Аристо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ристотель считал, что философия не есть продукт единоличного индивидуального творчества, а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тог работы целых поколений мысл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н внес существенные коррективы в ряд положений философии Платона, критикуя учение об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эйдосах» («чистых идеях»). Ошибка Платона, по Аристотелю, в том, что он оторвал «мир идей» от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ального мира, поскольку бытие не есть «чистые идеи» («эйдосы») и их материальное отраж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«вещи»). Аристотель дает свое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нимание бытия через десять категорий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ытие — это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ущность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убстанция), обладающая свойствам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оличе­ства, качества, отношения, места, времени,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ложения, состояния, действия,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тра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ика учения об идеях Платона приводит Аристотеля к принципиальным положениям, которы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егли в основу его миропоним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Мир один. Это духовно-материальный, реально существующий ми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Вещи, явления и процессы реального мира могут быть познаны из него</a:t>
            </a:r>
            <a:r>
              <a:rPr b="0" lang="en-US" sz="12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самого, т.е. изучать следует </a:t>
            </a:r>
            <a:br>
              <a:rPr sz="1200"/>
            </a:b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саму действительность, а не мир и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В центре познания должны быть не умозрительные схемы, а реальный</a:t>
            </a:r>
            <a:r>
              <a:rPr b="0" lang="en-US" sz="12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мир. Тогда наука получает </a:t>
            </a:r>
            <a:br>
              <a:rPr sz="1200"/>
            </a:b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смысл как познание реального посредством понятийного мышления, которое изучается логикой. </a:t>
            </a:r>
            <a:br>
              <a:rPr sz="1200"/>
            </a:b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Логика - орудие постижения сущности вещей, явлений и процессов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ристотель определил сущность материи и дал материалистическую трактовку происхо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ра и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ристотель выделяет шесть типов государства: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плохие»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тирания, крайняя олигархия 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хлократия — власть толпы, крайняя демократия) 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хо­рошие»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монархия, аристократия и полития)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деал Аристотеля - политая, представляющая собой совокупность умеренной олигархии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меренной демократии, государство «среднего класс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0E13-42E0-4F5F-A2B3-01561D7767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роблемы материи, души человека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философии Аристо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ы материи, души, человека в философии Аристо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FA44-33AA-40E5-B291-8E33DDEE20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Отличительные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обенности античной философ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личительной особенностью античной философии является единство трех взаимосвязанны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собой моментов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бъекта исследования, метода и ц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момент определяе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одержа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чной философии, которое конкретизируется в идея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моцентр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ее, обращаясь ко второму моменту триединства — методу, следует отметить следующу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ную особенность античной философии: стремлени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 рациональному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ени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общего, бытия, реальности. Она не ограничивается конкретными фактами и опытны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ыми. Для нее значим не отдельный факт или конкретный опыт, а разумный аргумент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ое доказательство, знание. Это не только определяет научный характер философии, н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границы между философией, религией, мифом и искусством. Последние также имеют дело 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остью как целым, но если мифология описывает ее исходя из фактических представлений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лигия — посредством веры, искусство — через идею красоты, воплощенную в художественны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ах, то философское объяснение осуществляется на рациональном уровн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диалектика мышл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чная философия в целом есть бескорыстна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юбовь к истин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 особенность определя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ее третий момент — цель. Цель античной философии состоит в чистом созерцании истины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ом желании достичь е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6DAA-A2BC-462D-8B41-4D59E9C526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3CA4-16E4-4089-B9A4-2F3ECA8CDD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Основные периоды развития 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чная и греко-римская философия имеют более чем тысячелетнюю историю, начиная с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до н.э. и до 529 г.н.э., когда император Юстиниан закрыл фило­софские школы в Афинах. В этой истории различают ряд пери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E4E9-4B5E-470E-A9E1-A0EA3A16E8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7F79-965F-4A38-81A1-44EB6BDE0A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Краткая характерист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досократическ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кратические философские школы Древней Греци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ли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. до н.э. в ранних древнегреческих полис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лософия натуралистической ори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илетская школ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Фалес, Анаксимандр, Анаксимен, Геракли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ифагорейская школ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ифагор, Архит Тарентск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Элейская школ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Ксенофан, Парменид, Зенон, Мелис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томистик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евкипп, Демокри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ые философы (Эмпедокл, .Анаксаго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лософия гуманистической ори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офистик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отагор, Горгий, Продик, Гиппий, Антифонт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фисты совершили революцию, сместив философскую рефлексию 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тики природы и космоса на проблему человека и его жизн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к члена общества. Софисты - это феномен столь же необходимый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к Сократ и Платон; последние без первых немысли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F27A-18C9-412F-B12E-F0B3698810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туралистической ориентации присуш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смоцентр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оиск первоначала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одившее вс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е. Представители различных 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алистических школ обнаруживают субстанциональные основы веще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т.е. то, из чего возникают все вещи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, первоначало всег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го —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Фалес)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основа всего ест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Анаксимен)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вещей 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ислах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Пифагор)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вещей 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их быт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Парменид)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вещи состоят из атомов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Левкипп, Демокрит);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 всего сущего есть вечное изменение, превращение мир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Гераклит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кларативно-догматический метод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тв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илозоиз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душевление нежив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уманистической ориентации присущ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оминантные темы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ка, политика, риторика, искусство, язык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лигия, воспитание, т.е. все то, чт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ыне зовется культурой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мещение оси философского поискас космоса на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0306-BF9D-474B-A371-05FCD6A912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Милетск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ЛЕТСКАЯ ШКОЛ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ла на рубеже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. до н.э. в Милете –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пнейшем греческом торгово-ремесленном полисе в Малой Аз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арактерные че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туралистический подход в понимании Природы и Косм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 первоначала — субстанции, из которой возник окружающий мир. Первовещество понималось не как мертвая и косная материя, а как вещество живое и в частях, наделенное душой и движением (пантеиз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ение философских и естественно-научных вопросов увязывалось с прак­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ческой деятельностью. Знания были не только основой для практическ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я, но прежде всего элементами цельного мировоззрения. Мировоз­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рение это в своей сущности натуралистическ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астрономических, математических, физических и биологически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й; конструирование первых научных приборов (солнечные часы, модел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есной сферы и т.п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8EE9-21A6-4A47-8116-D8105F360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6DC5-C53A-4259-9B03-CB54BC91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D45E-A88E-443D-BD03-9070E966C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E720-6955-4798-80C5-69C7315B6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7CBE-AC87-4551-B92C-B2B4277F5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A1A1-A959-4B81-AC62-021C848C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F9E1-747C-45EB-8FCF-B9F16A29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BDED-F418-4E8E-9CE7-AA43A114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095B-6E82-4E4E-85A9-E0C3698B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F9D5-6F10-40F8-BC39-E3499C0C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A086-987F-44A6-B512-E2816F2F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8392-F0CE-4FD5-8CCE-CAE7E2B9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0800-FDE7-4DAD-8175-EA010045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DC5E-A584-4679-954A-DAEF3537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62C9-2CB5-4554-9B36-ABEFEC4A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CB54-1691-4919-A5FD-2AD8F55CE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45C0-1A09-462A-92BF-9888400EC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13640-5223-4F7C-9D51-F63303BFB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A3B6D-CD8B-4E38-93D1-2BB9FC40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8C574-7C60-46F6-B591-99C503B5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22B97-ABF3-4ACD-B18A-E3795A31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FFD50-3C96-427E-9A0E-9E457290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663F-0188-48F7-9600-80B59D68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B644D-E706-4E09-A222-7EA01441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1C1F3-7EF2-4F07-9C40-988F1608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A704F-514B-4831-B7EA-82A37798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83135-85F4-44BB-9EBD-7FC6DDB8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78AC0-6C41-47DF-A83F-534A3778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63A01-97E4-4A75-83F5-D32BEC0C7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F25EF-67AB-4D0E-9121-B12B5D19A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97B35-608D-487C-A1D3-F40B9257F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3AE65-F1A7-417E-8D07-68FCF6EC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08979-A8E7-4A82-8C2A-792554EC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BB69-FA89-40EC-B0C7-9322C740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FFC42-08D5-43FA-B210-F9BAC5DC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0F614-C2EC-40BB-BF0D-14B9E82F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7FA24-ABB9-4558-95EC-6C2C2058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16798-D8D3-4FB7-A68D-AA298543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9C39D-5138-4908-AC38-A7FB89D9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EA08C-5C98-4372-A8C2-D3C47DE7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D1D0F-0E74-49C2-8B70-8C71D786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A2D19-7ABF-46E0-815E-E777C3F3F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A3556-20B5-4A53-9A1E-8143DAF5E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32716-FFCC-4C98-AA3F-BA92AC99B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EC71-9690-4866-B068-A0014AAA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E859F-B0A0-46C3-92E0-3247E8BC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095AC-9078-4F3F-800F-E78BF3E1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201CF-DDC7-47B5-857D-BDCF5810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FBAB1-2698-4A64-AA16-11C8F31E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B6629-43D5-4E4B-BB41-697D5209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BDB5D-3F0A-4CA6-9F8A-279A06E4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4FE98-C1B8-44BD-9592-7934849E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EE951-66A0-48D5-A61F-92068163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DDA8A-0F20-46AD-A16B-8E4CB0E0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D9682-E86E-4298-9363-5AADFD332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0546-DF93-4392-A639-29212D25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95A0C-37D3-4AA2-B265-EDC4112B7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00F5-B6E9-47BE-80DE-32145058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D370-7217-4F60-B938-22694E4F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9544-23C8-4D74-A0E4-694B054C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CD03-F8B7-42CA-987A-D6160BC1F8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4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5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56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57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60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63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66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69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72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75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78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81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84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87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90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93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96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99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102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05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08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111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114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117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122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25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28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131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134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37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40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43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46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49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52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72EA-0D24-41A0-AB84-9AE5C3D7628A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8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6FB1-8BE7-4820-9A58-3320B7CE41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2"/>
          <p:cNvGrpSpPr/>
          <p:nvPr/>
        </p:nvGrpSpPr>
        <p:grpSpPr>
          <a:xfrm>
            <a:off x="2010960" y="245520"/>
            <a:ext cx="6895800" cy="5451840"/>
            <a:chOff x="2010960" y="245520"/>
            <a:chExt cx="6895800" cy="5451840"/>
          </a:xfrm>
        </p:grpSpPr>
        <p:grpSp>
          <p:nvGrpSpPr>
            <p:cNvPr id="278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79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6"/>
            <p:cNvGrpSpPr/>
            <p:nvPr/>
          </p:nvGrpSpPr>
          <p:grpSpPr>
            <a:xfrm>
              <a:off x="2010960" y="245520"/>
              <a:ext cx="6895800" cy="5451840"/>
              <a:chOff x="2010960" y="245520"/>
              <a:chExt cx="6895800" cy="5451840"/>
            </a:xfrm>
          </p:grpSpPr>
          <p:grpSp>
            <p:nvGrpSpPr>
              <p:cNvPr id="282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283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84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287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288" name="Freeform 13"/>
                    <p:cNvSpPr/>
                    <p:nvPr/>
                  </p:nvSpPr>
                  <p:spPr>
                    <a:xfrm rot="2711400">
                      <a:off x="5584680" y="3019680"/>
                      <a:ext cx="21265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14"/>
                    <p:cNvSpPr/>
                    <p:nvPr/>
                  </p:nvSpPr>
                  <p:spPr>
                    <a:xfrm rot="2711400">
                      <a:off x="7134480" y="41457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0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291" name="Freeform 16"/>
                    <p:cNvSpPr/>
                    <p:nvPr/>
                  </p:nvSpPr>
                  <p:spPr>
                    <a:xfrm rot="2103600">
                      <a:off x="5707080" y="2751480"/>
                      <a:ext cx="223668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Freeform 17"/>
                    <p:cNvSpPr/>
                    <p:nvPr/>
                  </p:nvSpPr>
                  <p:spPr>
                    <a:xfrm rot="2103600">
                      <a:off x="7541640" y="3721680"/>
                      <a:ext cx="120204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3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294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9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300" name="Freeform 25"/>
                    <p:cNvSpPr/>
                    <p:nvPr/>
                  </p:nvSpPr>
                  <p:spPr>
                    <a:xfrm rot="463200">
                      <a:off x="5823000" y="2005560"/>
                      <a:ext cx="19058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03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306" name="Freeform 31"/>
                    <p:cNvSpPr/>
                    <p:nvPr/>
                  </p:nvSpPr>
                  <p:spPr>
                    <a:xfrm rot="20797200">
                      <a:off x="5798520" y="1653120"/>
                      <a:ext cx="15192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8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309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Group 36"/>
                  <p:cNvGrpSpPr/>
                  <p:nvPr/>
                </p:nvGrpSpPr>
                <p:grpSpPr>
                  <a:xfrm>
                    <a:off x="2085480" y="2366280"/>
                    <a:ext cx="3040200" cy="2530800"/>
                    <a:chOff x="2085480" y="2366280"/>
                    <a:chExt cx="3040200" cy="2530800"/>
                  </a:xfrm>
                </p:grpSpPr>
                <p:sp>
                  <p:nvSpPr>
                    <p:cNvPr id="312" name="Freeform 37"/>
                    <p:cNvSpPr/>
                    <p:nvPr/>
                  </p:nvSpPr>
                  <p:spPr>
                    <a:xfrm flipH="1" rot="19496400">
                      <a:off x="2967840" y="2970000"/>
                      <a:ext cx="223740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27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4" name="Group 39"/>
                  <p:cNvGrpSpPr/>
                  <p:nvPr/>
                </p:nvGrpSpPr>
                <p:grpSpPr>
                  <a:xfrm>
                    <a:off x="2040480" y="2283480"/>
                    <a:ext cx="3097440" cy="1992240"/>
                    <a:chOff x="2040480" y="2283480"/>
                    <a:chExt cx="3097440" cy="1992240"/>
                  </a:xfrm>
                </p:grpSpPr>
                <p:sp>
                  <p:nvSpPr>
                    <p:cNvPr id="315" name="Freeform 40"/>
                    <p:cNvSpPr/>
                    <p:nvPr/>
                  </p:nvSpPr>
                  <p:spPr>
                    <a:xfrm flipH="1" rot="20017200">
                      <a:off x="3025080" y="2739240"/>
                      <a:ext cx="21405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Freeform 41"/>
                    <p:cNvSpPr/>
                    <p:nvPr/>
                  </p:nvSpPr>
                  <p:spPr>
                    <a:xfrm flipH="1" rot="20017200">
                      <a:off x="2111040" y="3463560"/>
                      <a:ext cx="114984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7" name="Group 42"/>
                  <p:cNvGrpSpPr/>
                  <p:nvPr/>
                </p:nvGrpSpPr>
                <p:grpSpPr>
                  <a:xfrm>
                    <a:off x="2010960" y="2188080"/>
                    <a:ext cx="3134160" cy="1608480"/>
                    <a:chOff x="2010960" y="2188080"/>
                    <a:chExt cx="3134160" cy="1608480"/>
                  </a:xfrm>
                </p:grpSpPr>
                <p:sp>
                  <p:nvSpPr>
                    <p:cNvPr id="318" name="Freeform 43"/>
                    <p:cNvSpPr/>
                    <p:nvPr/>
                  </p:nvSpPr>
                  <p:spPr>
                    <a:xfrm flipH="1" rot="20520000">
                      <a:off x="3062880" y="24973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Freeform 44"/>
                    <p:cNvSpPr/>
                    <p:nvPr/>
                  </p:nvSpPr>
                  <p:spPr>
                    <a:xfrm flipH="1" rot="20520000">
                      <a:off x="2084040" y="2990520"/>
                      <a:ext cx="111132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0" name="Group 45"/>
                  <p:cNvGrpSpPr/>
                  <p:nvPr/>
                </p:nvGrpSpPr>
                <p:grpSpPr>
                  <a:xfrm>
                    <a:off x="2166840" y="2097720"/>
                    <a:ext cx="2940840" cy="1002600"/>
                    <a:chOff x="2166840" y="2097720"/>
                    <a:chExt cx="2940840" cy="1002600"/>
                  </a:xfrm>
                </p:grpSpPr>
                <p:sp>
                  <p:nvSpPr>
                    <p:cNvPr id="321" name="Freeform 46"/>
                    <p:cNvSpPr/>
                    <p:nvPr/>
                  </p:nvSpPr>
                  <p:spPr>
                    <a:xfrm flipH="1" rot="21136800">
                      <a:off x="3184560" y="2223720"/>
                      <a:ext cx="190584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3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3" name="Group 48"/>
                  <p:cNvGrpSpPr/>
                  <p:nvPr/>
                </p:nvGrpSpPr>
                <p:grpSpPr>
                  <a:xfrm>
                    <a:off x="2403360" y="2033640"/>
                    <a:ext cx="2658960" cy="446040"/>
                    <a:chOff x="2403360" y="2033640"/>
                    <a:chExt cx="2658960" cy="446040"/>
                  </a:xfrm>
                </p:grpSpPr>
                <p:sp>
                  <p:nvSpPr>
                    <p:cNvPr id="324" name="Freeform 49"/>
                    <p:cNvSpPr/>
                    <p:nvPr/>
                  </p:nvSpPr>
                  <p:spPr>
                    <a:xfrm flipH="1" rot="84600">
                      <a:off x="3327120" y="2070720"/>
                      <a:ext cx="173160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Freeform 50"/>
                    <p:cNvSpPr/>
                    <p:nvPr/>
                  </p:nvSpPr>
                  <p:spPr>
                    <a:xfrm flipH="1" rot="84600">
                      <a:off x="2408040" y="2044800"/>
                      <a:ext cx="92988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6" name="Group 51"/>
                  <p:cNvGrpSpPr/>
                  <p:nvPr/>
                </p:nvGrpSpPr>
                <p:grpSpPr>
                  <a:xfrm>
                    <a:off x="2761200" y="1522440"/>
                    <a:ext cx="2364120" cy="787320"/>
                    <a:chOff x="2761200" y="1522440"/>
                    <a:chExt cx="2364120" cy="787320"/>
                  </a:xfrm>
                </p:grpSpPr>
                <p:sp>
                  <p:nvSpPr>
                    <p:cNvPr id="327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9" name="Group 54"/>
                  <p:cNvGrpSpPr/>
                  <p:nvPr/>
                </p:nvGrpSpPr>
                <p:grpSpPr>
                  <a:xfrm>
                    <a:off x="2887200" y="1236600"/>
                    <a:ext cx="2325240" cy="1083960"/>
                    <a:chOff x="2887200" y="1236600"/>
                    <a:chExt cx="2325240" cy="1083960"/>
                  </a:xfrm>
                </p:grpSpPr>
                <p:sp>
                  <p:nvSpPr>
                    <p:cNvPr id="330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2" name="Group 57"/>
                  <p:cNvGrpSpPr/>
                  <p:nvPr/>
                </p:nvGrpSpPr>
                <p:grpSpPr>
                  <a:xfrm>
                    <a:off x="3161160" y="831240"/>
                    <a:ext cx="2170440" cy="1508040"/>
                    <a:chOff x="3161160" y="831240"/>
                    <a:chExt cx="2170440" cy="1508040"/>
                  </a:xfrm>
                </p:grpSpPr>
                <p:sp>
                  <p:nvSpPr>
                    <p:cNvPr id="333" name="Freeform 58"/>
                    <p:cNvSpPr/>
                    <p:nvPr/>
                  </p:nvSpPr>
                  <p:spPr>
                    <a:xfrm flipH="1" rot="2028600">
                      <a:off x="3867120" y="1673280"/>
                      <a:ext cx="15192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5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33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8" name="Group 63"/>
                  <p:cNvGrpSpPr/>
                  <p:nvPr/>
                </p:nvGrpSpPr>
                <p:grpSpPr>
                  <a:xfrm>
                    <a:off x="4027320" y="335880"/>
                    <a:ext cx="1460880" cy="1884960"/>
                    <a:chOff x="4027320" y="335880"/>
                    <a:chExt cx="1460880" cy="1884960"/>
                  </a:xfrm>
                </p:grpSpPr>
                <p:sp>
                  <p:nvSpPr>
                    <p:cNvPr id="339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6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Freeform 65"/>
                    <p:cNvSpPr/>
                    <p:nvPr/>
                  </p:nvSpPr>
                  <p:spPr>
                    <a:xfrm flipH="1" rot="3474000">
                      <a:off x="4032360" y="546480"/>
                      <a:ext cx="7279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1" name="Group 66"/>
                  <p:cNvGrpSpPr/>
                  <p:nvPr/>
                </p:nvGrpSpPr>
                <p:grpSpPr>
                  <a:xfrm>
                    <a:off x="4448160" y="245520"/>
                    <a:ext cx="1122120" cy="1945800"/>
                    <a:chOff x="4448160" y="245520"/>
                    <a:chExt cx="1122120" cy="1945800"/>
                  </a:xfrm>
                </p:grpSpPr>
                <p:sp>
                  <p:nvSpPr>
                    <p:cNvPr id="342" name="Freeform 67"/>
                    <p:cNvSpPr/>
                    <p:nvPr/>
                  </p:nvSpPr>
                  <p:spPr>
                    <a:xfrm flipH="1" rot="4126800">
                      <a:off x="4555800" y="1401120"/>
                      <a:ext cx="13078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4" name="Group 69"/>
                  <p:cNvGrpSpPr/>
                  <p:nvPr/>
                </p:nvGrpSpPr>
                <p:grpSpPr>
                  <a:xfrm>
                    <a:off x="5661720" y="952560"/>
                    <a:ext cx="2316960" cy="1112040"/>
                    <a:chOff x="5661720" y="952560"/>
                    <a:chExt cx="2316960" cy="1112040"/>
                  </a:xfrm>
                </p:grpSpPr>
                <p:sp>
                  <p:nvSpPr>
                    <p:cNvPr id="34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Freeform 71"/>
                    <p:cNvSpPr/>
                    <p:nvPr/>
                  </p:nvSpPr>
                  <p:spPr>
                    <a:xfrm rot="20274000">
                      <a:off x="711360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7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348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0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Freeform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2" name="Group 77"/>
                  <p:cNvGrpSpPr/>
                  <p:nvPr/>
                </p:nvGrpSpPr>
                <p:grpSpPr>
                  <a:xfrm>
                    <a:off x="5355720" y="270000"/>
                    <a:ext cx="1196280" cy="1901520"/>
                    <a:chOff x="5355720" y="270000"/>
                    <a:chExt cx="1196280" cy="1901520"/>
                  </a:xfrm>
                </p:grpSpPr>
                <p:sp>
                  <p:nvSpPr>
                    <p:cNvPr id="353" name="Freeform 78"/>
                    <p:cNvSpPr/>
                    <p:nvPr/>
                  </p:nvSpPr>
                  <p:spPr>
                    <a:xfrm rot="17742000">
                      <a:off x="5086800" y="1418760"/>
                      <a:ext cx="1309680" cy="22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Freeform 79"/>
                    <p:cNvSpPr/>
                    <p:nvPr/>
                  </p:nvSpPr>
                  <p:spPr>
                    <a:xfrm rot="17742000">
                      <a:off x="5887800" y="485280"/>
                      <a:ext cx="702360" cy="35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Group 80"/>
                  <p:cNvGrpSpPr/>
                  <p:nvPr/>
                </p:nvGrpSpPr>
                <p:grpSpPr>
                  <a:xfrm>
                    <a:off x="5347440" y="389160"/>
                    <a:ext cx="1891800" cy="1796040"/>
                    <a:chOff x="5347440" y="389160"/>
                    <a:chExt cx="1891800" cy="1796040"/>
                  </a:xfrm>
                </p:grpSpPr>
                <p:sp>
                  <p:nvSpPr>
                    <p:cNvPr id="356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Freeform 82"/>
                    <p:cNvSpPr/>
                    <p:nvPr/>
                  </p:nvSpPr>
                  <p:spPr>
                    <a:xfrm rot="18822600">
                      <a:off x="6402600" y="585000"/>
                      <a:ext cx="76608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8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59" name="Freeform 84"/>
                    <p:cNvSpPr/>
                    <p:nvPr/>
                  </p:nvSpPr>
                  <p:spPr>
                    <a:xfrm rot="16696200">
                      <a:off x="5007240" y="1445400"/>
                      <a:ext cx="1175760" cy="10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Freeform 85"/>
                    <p:cNvSpPr/>
                    <p:nvPr/>
                  </p:nvSpPr>
                  <p:spPr>
                    <a:xfrm rot="16696200">
                      <a:off x="5441760" y="533160"/>
                      <a:ext cx="631080" cy="1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1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362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Freeform 88"/>
                    <p:cNvSpPr/>
                    <p:nvPr/>
                  </p:nvSpPr>
                  <p:spPr>
                    <a:xfrm flipH="1" rot="18336000">
                      <a:off x="3069360" y="4592520"/>
                      <a:ext cx="113904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Group 89"/>
                  <p:cNvGrpSpPr/>
                  <p:nvPr/>
                </p:nvGrpSpPr>
                <p:grpSpPr>
                  <a:xfrm>
                    <a:off x="3791520" y="2650680"/>
                    <a:ext cx="1482840" cy="2999880"/>
                    <a:chOff x="3791520" y="2650680"/>
                    <a:chExt cx="1482840" cy="2999880"/>
                  </a:xfrm>
                </p:grpSpPr>
                <p:sp>
                  <p:nvSpPr>
                    <p:cNvPr id="365" name="Freeform 90"/>
                    <p:cNvSpPr/>
                    <p:nvPr/>
                  </p:nvSpPr>
                  <p:spPr>
                    <a:xfrm flipH="1" rot="17543400">
                      <a:off x="3737880" y="3440880"/>
                      <a:ext cx="196740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7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368" name="Freeform 93"/>
                    <p:cNvSpPr/>
                    <p:nvPr/>
                  </p:nvSpPr>
                  <p:spPr>
                    <a:xfrm flipH="1" rot="16870800">
                      <a:off x="4086720" y="3488760"/>
                      <a:ext cx="1886760" cy="34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0" name="Group 95"/>
                  <p:cNvGrpSpPr/>
                  <p:nvPr/>
                </p:nvGrpSpPr>
                <p:grpSpPr>
                  <a:xfrm>
                    <a:off x="5677920" y="2483280"/>
                    <a:ext cx="2280600" cy="2953080"/>
                    <a:chOff x="5677920" y="2483280"/>
                    <a:chExt cx="2280600" cy="2953080"/>
                  </a:xfrm>
                </p:grpSpPr>
                <p:sp>
                  <p:nvSpPr>
                    <p:cNvPr id="371" name="Freeform 96"/>
                    <p:cNvSpPr/>
                    <p:nvPr/>
                  </p:nvSpPr>
                  <p:spPr>
                    <a:xfrm rot="3144000">
                      <a:off x="5415120" y="325080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3" name="Group 98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374" name="Freeform 99"/>
                    <p:cNvSpPr/>
                    <p:nvPr/>
                  </p:nvSpPr>
                  <p:spPr>
                    <a:xfrm rot="3745200">
                      <a:off x="5265000" y="3395880"/>
                      <a:ext cx="203400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Freeform 100"/>
                    <p:cNvSpPr/>
                    <p:nvPr/>
                  </p:nvSpPr>
                  <p:spPr>
                    <a:xfrm rot="3745200">
                      <a:off x="6352560" y="4719600"/>
                      <a:ext cx="109044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6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377" name="Freeform 102"/>
                    <p:cNvSpPr/>
                    <p:nvPr/>
                  </p:nvSpPr>
                  <p:spPr>
                    <a:xfrm rot="4286400">
                      <a:off x="5046480" y="3542760"/>
                      <a:ext cx="1973520" cy="30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9" name="Group 104"/>
                  <p:cNvGrpSpPr/>
                  <p:nvPr/>
                </p:nvGrpSpPr>
                <p:grpSpPr>
                  <a:xfrm>
                    <a:off x="5521320" y="2840760"/>
                    <a:ext cx="696960" cy="2777760"/>
                    <a:chOff x="5521320" y="2840760"/>
                    <a:chExt cx="696960" cy="2777760"/>
                  </a:xfrm>
                </p:grpSpPr>
                <p:sp>
                  <p:nvSpPr>
                    <p:cNvPr id="380" name="Freeform 105"/>
                    <p:cNvSpPr/>
                    <p:nvPr/>
                  </p:nvSpPr>
                  <p:spPr>
                    <a:xfrm rot="4898400">
                      <a:off x="4896360" y="3607920"/>
                      <a:ext cx="18129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2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83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85" name="Group 110"/>
              <p:cNvGrpSpPr/>
              <p:nvPr/>
            </p:nvGrpSpPr>
            <p:grpSpPr>
              <a:xfrm>
                <a:off x="2175120" y="682560"/>
                <a:ext cx="6731640" cy="4521240"/>
                <a:chOff x="2175120" y="682560"/>
                <a:chExt cx="6731640" cy="4521240"/>
              </a:xfrm>
            </p:grpSpPr>
            <p:grpSp>
              <p:nvGrpSpPr>
                <p:cNvPr id="386" name="Group 111"/>
                <p:cNvGrpSpPr/>
                <p:nvPr/>
              </p:nvGrpSpPr>
              <p:grpSpPr>
                <a:xfrm>
                  <a:off x="2175120" y="682560"/>
                  <a:ext cx="6731640" cy="4521240"/>
                  <a:chOff x="2175120" y="682560"/>
                  <a:chExt cx="6731640" cy="4521240"/>
                </a:xfrm>
              </p:grpSpPr>
              <p:sp>
                <p:nvSpPr>
                  <p:cNvPr id="387" name="Arc 112"/>
                  <p:cNvSpPr/>
                  <p:nvPr/>
                </p:nvSpPr>
                <p:spPr>
                  <a:xfrm flipV="1">
                    <a:off x="5742000" y="857880"/>
                    <a:ext cx="316476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Arc 114"/>
                  <p:cNvSpPr/>
                  <p:nvPr/>
                </p:nvSpPr>
                <p:spPr>
                  <a:xfrm>
                    <a:off x="581976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Arc 115"/>
                  <p:cNvSpPr/>
                  <p:nvPr/>
                </p:nvSpPr>
                <p:spPr>
                  <a:xfrm flipH="1">
                    <a:off x="2174760" y="1297800"/>
                    <a:ext cx="313164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Arc 116"/>
                  <p:cNvSpPr/>
                  <p:nvPr/>
                </p:nvSpPr>
                <p:spPr>
                  <a:xfrm flipH="1">
                    <a:off x="3057120" y="682560"/>
                    <a:ext cx="228060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Arc 117"/>
                  <p:cNvSpPr/>
                  <p:nvPr/>
                </p:nvSpPr>
                <p:spPr>
                  <a:xfrm>
                    <a:off x="5491800" y="1875960"/>
                    <a:ext cx="94320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Freeform 118"/>
                  <p:cNvSpPr/>
                  <p:nvPr/>
                </p:nvSpPr>
                <p:spPr>
                  <a:xfrm flipH="1">
                    <a:off x="430380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4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5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96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Arc 122"/>
              <p:cNvSpPr/>
              <p:nvPr/>
            </p:nvSpPr>
            <p:spPr>
              <a:xfrm flipH="1">
                <a:off x="3383280" y="2579760"/>
                <a:ext cx="261540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Arc 123"/>
              <p:cNvSpPr/>
              <p:nvPr/>
            </p:nvSpPr>
            <p:spPr>
              <a:xfrm flipH="1">
                <a:off x="3645360" y="2122200"/>
                <a:ext cx="153504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31"/>
              <p:cNvSpPr/>
              <p:nvPr/>
            </p:nvSpPr>
            <p:spPr>
              <a:xfrm>
                <a:off x="7511400" y="310788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0E5D-9D0E-4C9F-917E-78E566E936F5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5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E774-265C-4095-A353-27F59C2DC92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8.xml"/><Relationship Id="rId5" Type="http://schemas.openxmlformats.org/officeDocument/2006/relationships/slide" Target="slide30.xml"/><Relationship Id="rId6" Type="http://schemas.openxmlformats.org/officeDocument/2006/relationships/slide" Target="slide32.xml"/><Relationship Id="rId7" Type="http://schemas.openxmlformats.org/officeDocument/2006/relationships/slide" Target="slide33.xml"/><Relationship Id="rId8" Type="http://schemas.openxmlformats.org/officeDocument/2006/relationships/slide" Target="slide35.xml"/><Relationship Id="rId9" Type="http://schemas.openxmlformats.org/officeDocument/2006/relationships/slide" Target="slide36.xml"/><Relationship Id="rId10" Type="http://schemas.openxmlformats.org/officeDocument/2006/relationships/slide" Target="slide37.xml"/><Relationship Id="rId11" Type="http://schemas.openxmlformats.org/officeDocument/2006/relationships/slide" Target="slide38.xml"/><Relationship Id="rId12" Type="http://schemas.openxmlformats.org/officeDocument/2006/relationships/slide" Target="slide39.xml"/><Relationship Id="rId13" Type="http://schemas.openxmlformats.org/officeDocument/2006/relationships/slide" Target="slide41.xml"/><Relationship Id="rId14" Type="http://schemas.openxmlformats.org/officeDocument/2006/relationships/slide" Target="slide43.xml"/><Relationship Id="rId15" Type="http://schemas.openxmlformats.org/officeDocument/2006/relationships/slide" Target="slide44.xml"/><Relationship Id="rId16" Type="http://schemas.openxmlformats.org/officeDocument/2006/relationships/slide" Target="slide45.xml"/><Relationship Id="rId17" Type="http://schemas.openxmlformats.org/officeDocument/2006/relationships/slide" Target="slide46.xml"/><Relationship Id="rId18" Type="http://schemas.openxmlformats.org/officeDocument/2006/relationships/slideLayout" Target="../slideLayouts/slideLayout25.xml"/><Relationship Id="rId1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4724280"/>
            <a:ext cx="575784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АНТИЧНАЯ  ФИЛОСОФИ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WordArt 0"/>
          <p:cNvSpPr txBox="1"/>
          <p:nvPr/>
        </p:nvSpPr>
        <p:spPr>
          <a:xfrm>
            <a:off x="2195640" y="404640"/>
            <a:ext cx="5473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дставител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2" name="WordArt 1"/>
          <p:cNvSpPr txBox="1"/>
          <p:nvPr/>
        </p:nvSpPr>
        <p:spPr>
          <a:xfrm>
            <a:off x="826920" y="2492280"/>
            <a:ext cx="75614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илетской школ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73" name="Picture 2" descr="Анаксимандр"/>
          <p:cNvPicPr/>
          <p:nvPr/>
        </p:nvPicPr>
        <p:blipFill>
          <a:blip r:embed="rId1"/>
          <a:stretch/>
        </p:blipFill>
        <p:spPr>
          <a:xfrm>
            <a:off x="900000" y="4292640"/>
            <a:ext cx="1602000" cy="2158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74" name="Picture 3" descr="f1_f0"/>
          <p:cNvPicPr/>
          <p:nvPr/>
        </p:nvPicPr>
        <p:blipFill>
          <a:blip r:embed="rId2"/>
          <a:stretch/>
        </p:blipFill>
        <p:spPr>
          <a:xfrm>
            <a:off x="3708360" y="4221000"/>
            <a:ext cx="1820880" cy="223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75" name="Picture 4" descr="Image Preview"/>
          <p:cNvPicPr/>
          <p:nvPr/>
        </p:nvPicPr>
        <p:blipFill>
          <a:blip r:embed="rId3"/>
          <a:stretch/>
        </p:blipFill>
        <p:spPr>
          <a:xfrm>
            <a:off x="6716880" y="4221000"/>
            <a:ext cx="1777680" cy="2230560"/>
          </a:xfrm>
          <a:prstGeom prst="rect">
            <a:avLst/>
          </a:prstGeom>
          <a:ln w="0">
            <a:noFill/>
          </a:ln>
        </p:spPr>
      </p:pic>
      <p:sp>
        <p:nvSpPr>
          <p:cNvPr id="5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77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770" fill="hold"/>
                                        <p:tgtEl>
                                          <p:spTgt spid="5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5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наксиманд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610-547 до н.э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648320" y="1600200"/>
            <a:ext cx="4038840" cy="39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ые взгляд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оначало всего суще­го — «апейрон» — вечная, бесконечная субстанция, из которой все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никло, все состоит и в которую все преврати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г — первопричина, а Боги становятся мирами, универсумами, коих множе­ство, и они-то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иклически возникают и гибну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р состоит из серий противоположностей, опре­деляющих генезис Космо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тр Вселенной — Зем­ля, представляющая собой срез цилиндра, который па­рит в воздух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7" descr="Анаксимандр"/>
          <p:cNvPicPr/>
          <p:nvPr/>
        </p:nvPicPr>
        <p:blipFill>
          <a:blip r:embed="rId1"/>
          <a:stretch/>
        </p:blipFill>
        <p:spPr>
          <a:xfrm>
            <a:off x="819000" y="1628640"/>
            <a:ext cx="3313440" cy="446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але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625-547 до н.э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648320" y="1600200"/>
            <a:ext cx="4038840" cy="397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взгляд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начало всего сущего — вода — «фазис», жидкий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кучий, а то, что мы пьем, — лишь одно из его состояний. Вода соотноситс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божественным нача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живая природа, все вещи имеют душу (гилозоиз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тр Вселенной — Земля, представляющая собой плоский диск, покоящийся на 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ленная полна б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8" descr="f1_f0"/>
          <p:cNvPicPr/>
          <p:nvPr/>
        </p:nvPicPr>
        <p:blipFill>
          <a:blip r:embed="rId1"/>
          <a:stretch/>
        </p:blipFill>
        <p:spPr>
          <a:xfrm>
            <a:off x="654120" y="1628640"/>
            <a:ext cx="3641760" cy="4464360"/>
          </a:xfrm>
          <a:prstGeom prst="rect">
            <a:avLst/>
          </a:prstGeom>
          <a:ln w="0">
            <a:noFill/>
          </a:ln>
        </p:spPr>
      </p:pic>
      <p:sp>
        <p:nvSpPr>
          <p:cNvPr id="5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наксимен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585-525 до н.э.)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067280" y="1600200"/>
            <a:ext cx="4619880" cy="39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взгля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начало всего сущего — воздух, ко­торый проходит в сво­ем изменении ряд эта­пов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онь — воздух — ветры-облака — земля — камни. Воздух, входя­щий в вышеуказанный ряд, н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ждественен с первонача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ух — источник жизни и психических явл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емля — плоский диск, парящий в воз­дух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ги отождествля­ются с Природ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8" descr="Image Preview"/>
          <p:cNvPicPr/>
          <p:nvPr/>
        </p:nvPicPr>
        <p:blipFill>
          <a:blip r:embed="rId1"/>
          <a:stretch/>
        </p:blipFill>
        <p:spPr>
          <a:xfrm>
            <a:off x="693720" y="1628640"/>
            <a:ext cx="3218040" cy="4032360"/>
          </a:xfrm>
          <a:prstGeom prst="rect">
            <a:avLst/>
          </a:prstGeom>
          <a:ln w="0">
            <a:noFill/>
          </a:ln>
        </p:spPr>
      </p:pic>
      <p:sp>
        <p:nvSpPr>
          <p:cNvPr id="5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WordArt 6"/>
          <p:cNvSpPr txBox="1"/>
          <p:nvPr/>
        </p:nvSpPr>
        <p:spPr>
          <a:xfrm>
            <a:off x="971640" y="765000"/>
            <a:ext cx="7343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илософия Гераклита Эфесског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ым после Милета очагом древнегреческой философии в Малой Азии был город Эфес, родина философ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ераклит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к. 530—470 до н.э.). Гераклит — один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основоположников диалектики, учение которого является наиболе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рким выражением стихийной диалектичности древнегреческой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7" descr="biograf78"/>
          <p:cNvPicPr/>
          <p:nvPr/>
        </p:nvPicPr>
        <p:blipFill>
          <a:blip r:embed="rId1"/>
          <a:stretch/>
        </p:blipFill>
        <p:spPr>
          <a:xfrm>
            <a:off x="1038240" y="1844640"/>
            <a:ext cx="3052800" cy="3816360"/>
          </a:xfrm>
          <a:prstGeom prst="rect">
            <a:avLst/>
          </a:prstGeom>
          <a:ln w="0">
            <a:noFill/>
          </a:ln>
        </p:spPr>
      </p:pic>
      <p:sp>
        <p:nvSpPr>
          <p:cNvPr id="5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70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положения учения Геракли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47160" cy="547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основе всего существующего лежит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гонь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первоначало, находящеес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вечном движении и изменении. Переходящее из одного состояния в другое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агодаря борьбе образующих его противоположностей, служит основой всего развития ми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рода находится в процессе непрерывного изменения, а из всех природных веществ наиболее способен к изменению огонь. Поэтому «этот космос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ин и тот же для всего существующего, не создал никакой Бог и никако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, но всегда он был, есть и будет вечно живым огнем, мерами загорающимся и мерами потухающим» (фрагмент Гераклит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торым определяющим элементом мировоззрения Гераклита является утверждение о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сеобщей текучести вещей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меняемости. «Нельзя войти в одн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ту же реку дважды». «Мы входим и не входим в одну и ту же реку, мы т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е самые и не те же самые» (фрагмент Гераклит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 происходит по необходимости и из «противоположного обмена»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еобходимость —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всеобщий закон «логос», созидающий сущее из «противоположного движения», т.е. здесь Гераклит говорит о внутренне противоречивом потоке, тем самым подходя к диалектическому пониманию разви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ение о потоке тесно связано с учением о переходе одной противоположности в другую, т.е. Гераклит вплотную подходит к постановке проблемы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единства противоположностей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мениваясь друг на друга, противоположности становятся друг другу тождественными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тиворечи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борьба) является движущей силой всякого изменения и разви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ория познания основывается на понимании взаимосвязи чувственного 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ционального познания, а задача познания — проникновение в сущност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роды в ее вечном изменении. Основа общности и истинности человеческого познания — «логос», т. е. единство, всеобщность и непреложность миро­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го поряд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WordArt 2"/>
          <p:cNvSpPr txBox="1"/>
          <p:nvPr/>
        </p:nvSpPr>
        <p:spPr>
          <a:xfrm>
            <a:off x="1763640" y="260280"/>
            <a:ext cx="5743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лософия пифагорейце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7" name="AutoShape 3"/>
          <p:cNvSpPr/>
          <p:nvPr/>
        </p:nvSpPr>
        <p:spPr>
          <a:xfrm>
            <a:off x="1258920" y="1052640"/>
            <a:ext cx="6985080" cy="136836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ИФАГОРЕЙЦЫ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следователи Пифаг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2-я полови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— начал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. до п.».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ревнегреческого философа и математика, основавшег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греческом городе Кротоне религиозный сою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0" descr="pythagoras"/>
          <p:cNvPicPr/>
          <p:nvPr/>
        </p:nvPicPr>
        <p:blipFill>
          <a:blip r:embed="rId3"/>
          <a:stretch/>
        </p:blipFill>
        <p:spPr>
          <a:xfrm>
            <a:off x="3059280" y="2565360"/>
            <a:ext cx="3041640" cy="3384720"/>
          </a:xfrm>
          <a:prstGeom prst="rect">
            <a:avLst/>
          </a:prstGeom>
          <a:ln w="0">
            <a:noFill/>
          </a:ln>
        </p:spPr>
      </p:pic>
      <p:sp>
        <p:nvSpPr>
          <p:cNvPr id="5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761760" y="316440"/>
            <a:ext cx="7620480" cy="1058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арактерные черты пифагорейской шко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никла она как некое братство или религиозный орден, подчиненны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огим правилам общежития и по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ие воспринималось как тайна, знать которую позволялось лишь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дептам и разглашение которой строжайше запрещало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фагорейский союз представлял собой реакционную партийную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ю аристократ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AutoShape 2"/>
          <p:cNvSpPr/>
          <p:nvPr/>
        </p:nvSpPr>
        <p:spPr>
          <a:xfrm>
            <a:off x="1403280" y="620640"/>
            <a:ext cx="6048360" cy="647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Основные положения философии пифагорейц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3"/>
          <p:cNvSpPr/>
          <p:nvPr/>
        </p:nvSpPr>
        <p:spPr>
          <a:xfrm>
            <a:off x="179280" y="1341360"/>
            <a:ext cx="878544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инное мировоззрение, по Пифагору, покоится на трех основах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рали,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елигии и знании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аль Пифагора — это мораль аристократ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 науки подчинены интересам рели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причина всего сущего — число. Все в природе измеряется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чиняется числу, в числе - сущность всех вещей; познать мир, ег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ение, его закономерность — это значит познать управляющие им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стик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чисе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ет ядро пифагорейского идеал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е о противоположностях оформляется в систему метафизическ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ятых противоположностей (предел и беспредельное, нечет и чет, едино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множество, правое и левое, мужское и женское, покоящееся и движущееся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е и кривое, свет и тьма, хорошее и дурное, четырехугольное 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остороннее). Основное философское значение имеет противоположнос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ельного и беспредельного, определяющая все другие противополож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фагорейцы в основном стояли на позиции метафизическог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ропонимания, что целиком связано с их пониманием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фагорейцы преуспели в изучении музыки, геометрии и небесной меха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3"/>
          <p:cNvSpPr/>
          <p:nvPr/>
        </p:nvSpPr>
        <p:spPr>
          <a:xfrm>
            <a:off x="179280" y="765000"/>
            <a:ext cx="878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4"/>
          <p:cNvSpPr/>
          <p:nvPr/>
        </p:nvSpPr>
        <p:spPr>
          <a:xfrm>
            <a:off x="250920" y="1854000"/>
            <a:ext cx="83167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АТЫ — представители Элейской философской школы, существовавшей в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вв. до н.э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древнегреческом полисе Элея н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ритории современной Италии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ставит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WordArt 0"/>
          <p:cNvSpPr txBox="1"/>
          <p:nvPr/>
        </p:nvSpPr>
        <p:spPr>
          <a:xfrm>
            <a:off x="1547640" y="189000"/>
            <a:ext cx="662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лософия элеат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9" name="Picture 2" descr="homer2"/>
          <p:cNvPicPr/>
          <p:nvPr/>
        </p:nvPicPr>
        <p:blipFill>
          <a:blip r:embed="rId1"/>
          <a:stretch/>
        </p:blipFill>
        <p:spPr>
          <a:xfrm>
            <a:off x="546120" y="3357720"/>
            <a:ext cx="1655640" cy="2341440"/>
          </a:xfrm>
          <a:prstGeom prst="rect">
            <a:avLst/>
          </a:prstGeom>
          <a:ln w="0">
            <a:noFill/>
          </a:ln>
        </p:spPr>
      </p:pic>
      <p:sp>
        <p:nvSpPr>
          <p:cNvPr id="610" name="Rectangle 3"/>
          <p:cNvSpPr/>
          <p:nvPr/>
        </p:nvSpPr>
        <p:spPr>
          <a:xfrm>
            <a:off x="684360" y="587700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сеноф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4" descr="nb_pinacoteca_raphael_the_school_of_athens_detail_parmenides_enlarged"/>
          <p:cNvPicPr/>
          <p:nvPr/>
        </p:nvPicPr>
        <p:blipFill>
          <a:blip r:embed="rId2"/>
          <a:stretch/>
        </p:blipFill>
        <p:spPr>
          <a:xfrm>
            <a:off x="3203640" y="3357720"/>
            <a:ext cx="1388880" cy="2447640"/>
          </a:xfrm>
          <a:prstGeom prst="rect">
            <a:avLst/>
          </a:prstGeom>
          <a:ln w="0">
            <a:noFill/>
          </a:ln>
        </p:spPr>
      </p:pic>
      <p:sp>
        <p:nvSpPr>
          <p:cNvPr id="612" name="Rectangle 5"/>
          <p:cNvSpPr/>
          <p:nvPr/>
        </p:nvSpPr>
        <p:spPr>
          <a:xfrm>
            <a:off x="3205440" y="587700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рмен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6" descr="zenon1"/>
          <p:cNvPicPr/>
          <p:nvPr/>
        </p:nvPicPr>
        <p:blipFill>
          <a:blip r:embed="rId3"/>
          <a:stretch/>
        </p:blipFill>
        <p:spPr>
          <a:xfrm>
            <a:off x="5219640" y="3357720"/>
            <a:ext cx="1782720" cy="2447640"/>
          </a:xfrm>
          <a:prstGeom prst="rect">
            <a:avLst/>
          </a:prstGeom>
          <a:ln w="0">
            <a:noFill/>
          </a:ln>
        </p:spPr>
      </p:pic>
      <p:sp>
        <p:nvSpPr>
          <p:cNvPr id="614" name="Rectangle 7"/>
          <p:cNvSpPr/>
          <p:nvPr/>
        </p:nvSpPr>
        <p:spPr>
          <a:xfrm>
            <a:off x="5726160" y="587700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ен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7454880" y="587700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Мели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Возникновение, эволюция и своеобразие античной философии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" action="ppaction://hlinksldjump"/>
              </a:rPr>
              <a:t>1 Общая характеристика античной философ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2" action="ppaction://hlinksldjump"/>
              </a:rPr>
              <a:t>2 Отличительные особенности античной философ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3" action="ppaction://hlinksldjump"/>
              </a:rPr>
              <a:t>3 Основные периоды развития античной философи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4" action="ppaction://hlinksldjump"/>
              </a:rPr>
              <a:t>4 Краткая характеристика досократической философ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5" action="ppaction://hlinksldjump"/>
              </a:rPr>
              <a:t>5 Милетская школ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6" action="ppaction://hlinksldjump"/>
              </a:rPr>
              <a:t>6 Философия Гераклита Эфесск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7" action="ppaction://hlinksldjump"/>
              </a:rPr>
              <a:t>7 Философия пифагорейце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8" action="ppaction://hlinksldjump"/>
              </a:rPr>
              <a:t>8 Философия элеат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9" action="ppaction://hlinksldjump"/>
              </a:rPr>
              <a:t>9 Атомистический материал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0" action="ppaction://hlinksldjump"/>
              </a:rPr>
              <a:t>10 Философия софист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1" action="ppaction://hlinksldjump"/>
              </a:rPr>
              <a:t>11 Краткая характеристика классической античной философ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2" action="ppaction://hlinksldjump"/>
              </a:rPr>
              <a:t>12 Философия Сокра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3" action="ppaction://hlinksldjump"/>
              </a:rPr>
              <a:t>13 Общая характеристика философии Плато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4" action="ppaction://hlinksldjump"/>
              </a:rPr>
              <a:t>14 Учение Платона о государств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5" action="ppaction://hlinksldjump"/>
              </a:rPr>
              <a:t>15 Научная деятельность Аристотел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6" action="ppaction://hlinksldjump"/>
              </a:rPr>
              <a:t>16 Общая характеристика философии Аристотел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7" action="ppaction://hlinksldjump"/>
              </a:rPr>
              <a:t>17 Проблемы материи, души, человека в философии Аристотел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5941800" y="6308640"/>
            <a:ext cx="27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уться к оглав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оложения философии эле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208720" cy="547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 философские мировоззрения, с точки зрения Парменида, покоятся на одной из трех основных предпосылок: 1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олько бытие есть, небытия нет,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 только бытие, но и небытие существуе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3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ытие и небытие тождественн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Эти предпосылки являются основой трех философских школ: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ая — исходный пункт Элейской школы, вторая лежит в основе учения пифагорейской школы, а в третьей заключается учение Гераклита Эфесск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леаты первыми попытались понять мир, применяя к многообразию вещей философские понятия предельной общности (бытие, небытие, движени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диное бытие понимается элеатами как непрерывное, нераздельное, одинаково присутствующее в каждом мельчайшем элементе действительности, исключающее количественную множественность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й и их движение (апории Зенона о невозможности движения). Множественность и движение не могут быть мыслимы без противоречия, и поэтому они не суть быт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ознании элеаты разграничивают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стину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анную на рациональн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нании, и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нение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анное на чувственных восприятиях. Последни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омят нас лишь с видимостью вещей, но не дают знания их истинно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ущности. Только разум может постичь истину о мире, исходя из тождеств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ышления и бы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онятии бытия, как его осмыслили элеаты, содержится три момента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ытие есть, а небытия нет; 2) бытие одно, неделимо;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ытие познаваемо, а небыти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видимость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познаваемо: его нет для разума, а значит, оно не существу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ружающий мир элеаты рассматривали как нечто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изменчивое и подвижное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ставляя его в рамках чувственного по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WordArt 2"/>
          <p:cNvSpPr txBox="1"/>
          <p:nvPr/>
        </p:nvSpPr>
        <p:spPr>
          <a:xfrm>
            <a:off x="1476360" y="115920"/>
            <a:ext cx="6200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томстический материализ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845240" y="1797120"/>
            <a:ext cx="3644640" cy="4132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ателем атомистик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евкипп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к. 500—440 до н.э.), учение которого продолжил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ый-энциклопедист и философ-материалист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емокри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460—370 до н.э.). Демокрит считался основоположником материалистического направл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философии («линия Демокрита» —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ивополож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инии Платона» — идеалистического направлен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1028" descr="demokrit"/>
          <p:cNvPicPr/>
          <p:nvPr/>
        </p:nvPicPr>
        <p:blipFill>
          <a:blip r:embed="rId1"/>
          <a:stretch/>
        </p:blipFill>
        <p:spPr>
          <a:xfrm>
            <a:off x="874800" y="1557360"/>
            <a:ext cx="3151080" cy="4535640"/>
          </a:xfrm>
          <a:prstGeom prst="rect">
            <a:avLst/>
          </a:prstGeom>
          <a:ln w="0">
            <a:noFill/>
          </a:ln>
        </p:spPr>
      </p:pic>
      <p:sp>
        <p:nvSpPr>
          <p:cNvPr id="6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2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положения философии атомист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5"/>
          <p:cNvSpPr/>
          <p:nvPr/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р состоит из пространства и наполняющей его материи, или из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томов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уст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томы не возникают и не уничтожаются. Они вечны и неделимы, просты и качественно неизменны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жду ними существуют первоначальные отличия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орма, порядок и положение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оме того, он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личаются по величи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тяже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нцип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вижени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рии составляет основу всей атомистической системы. Атомы находятся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вечном движении, атом — движущаяся матер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ленная бесконечна, бесконечно и число миров в ней. Земля — плоска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знание всеобщей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ичинной необходимости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вляется одним из основных принципов все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ы атомистов. Отсюда атомисты одновременно и отрицают случайность, и признают ее: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рицают в смысле беспричинности — никакое событие не может возникнуть без причины; признают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мысле противоположности целесообразности - никакое событие в природе не возникает и н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сходит ради осуществления какой-либо цели. В этом смысл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якое событие случай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ходным началом и основанием в познании являются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щущения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сем, что дает для познания ум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в конечном счете обязан чувств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знь и смерть организмов — это соединение и размножение атомов. Тот же принцип положен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у психологии: душа состоит из огненных атомов и есть временное соединение. Бессмерти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уши отвергае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томисты, в частности Демокрит, проявляют большой интерес к вопросам политики, государственног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стройства, вопросам и проблемам физики, математики, техники, эстетики, филологии, музы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8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WordArt 2"/>
          <p:cNvSpPr txBox="1"/>
          <p:nvPr/>
        </p:nvSpPr>
        <p:spPr>
          <a:xfrm>
            <a:off x="2195640" y="189000"/>
            <a:ext cx="4695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илософия софисто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9" name="AutoShape 3"/>
          <p:cNvSpPr/>
          <p:nvPr/>
        </p:nvSpPr>
        <p:spPr>
          <a:xfrm>
            <a:off x="179280" y="765000"/>
            <a:ext cx="8785440" cy="1295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ФИСТИК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ервая половин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. до н.э.) не представляла собой единого круга мыслителе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Софисты» не есть название определенного философского направления или особой философско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колы. Слово «софист», первоначально означавшее мудрец, искусник, изобретатель, со второ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овин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 до н.э. означает особый тип философа-профессионала, учителя философии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аршие софисты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 до н.э.)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тагор, Горгий, Гиппий, Продик, Антифонт,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ритий;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ладшие софисты -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Ликофрон, Алкидамант, Трассимах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4"/>
          <p:cNvSpPr/>
          <p:nvPr/>
        </p:nvSpPr>
        <p:spPr>
          <a:xfrm>
            <a:off x="179280" y="2924280"/>
            <a:ext cx="8785440" cy="37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еловек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знани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 основная проблема софистики. Софисты произвели смещение ос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лософского исследования с природы на человека: именно в этом их историческое значение.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нтре внимания оказались человек и его психология: искусство убеждать требовало знани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гических форм созн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ю правоту софисты доказывали с помощью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физмов —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гических приемов, уловок, благодар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торым умозаключение, на первый взгляд правильное, оказывалось в итоге ложным, и собеседник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утывался в собственных мысл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ходный принцип софистов: «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еловек есть мера всех вещей в том, что они существуют, и в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ом,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то они не существуют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Протагор). Отсюда субъективизм в оценках и суждениях, отрицани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ъективного бытия и попытки доказать то, что действительность существует только в мысля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ория познания софистов ориентирована на отдельного индивида — субъек­та познания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убъективный идеализм)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ъективное, истинное познание не­достижимо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{скептицизм)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всяко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нание относительно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релятивизм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лятивизм в теории познания служит обоснованием 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равственного релятивизм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фисты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зывали условность правовых норм, государственных законов и моральных оцен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755640" y="2349360"/>
            <a:ext cx="77058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оложения философии софис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WordArt 2"/>
          <p:cNvSpPr txBox="1"/>
          <p:nvPr/>
        </p:nvSpPr>
        <p:spPr>
          <a:xfrm>
            <a:off x="179280" y="189000"/>
            <a:ext cx="81536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ткая характеристика классическо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нтичной философ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4" name="Oval 3"/>
          <p:cNvSpPr/>
          <p:nvPr/>
        </p:nvSpPr>
        <p:spPr>
          <a:xfrm>
            <a:off x="468360" y="1268280"/>
            <a:ext cx="827892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ократический период (середина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V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— конец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V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4"/>
          <p:cNvSpPr/>
          <p:nvPr/>
        </p:nvSpPr>
        <p:spPr>
          <a:xfrm>
            <a:off x="250920" y="2276640"/>
            <a:ext cx="2808360" cy="288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Философские шк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5"/>
          <p:cNvSpPr/>
          <p:nvPr/>
        </p:nvSpPr>
        <p:spPr>
          <a:xfrm>
            <a:off x="179280" y="2565360"/>
            <a:ext cx="2952720" cy="41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илософия Сокр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кратические школ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егарская школ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Евклид из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гар, Евбулид, Стильпон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одор Кро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лидо-эритрейская школ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Фе-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н, Менедем, Асклепиа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иническая школ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Антисфен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оген Синопский, Крате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иренская школ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Аристипп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еодор, Гегезий, Анникери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илософия Плат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илософия Аристо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6"/>
          <p:cNvSpPr/>
          <p:nvPr/>
        </p:nvSpPr>
        <p:spPr>
          <a:xfrm>
            <a:off x="3203640" y="2565360"/>
            <a:ext cx="5832360" cy="41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ь философии -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блема человек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морального существа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облема, как следует жить (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крат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вная задача познания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амопознание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познай самого себя»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Любое знание есть добро, а любое зло, порок соверша­ется от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знания - суть этического ра­ционализма Сокра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ом знания может быть только общее, постигаемо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редством понятий. Общее совпадает с единым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благо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ей природе неизменно. Абстрактное высшее благо — Бог, разум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зненная энергия (мегарцы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дрость - в познании блага посред­ством отрешения от всего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делает че­ловека зависимым, отсюда идея свободы вн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ества и проповедь безусловной естественности, безусловно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чной сво­боды (киник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ом знания может быть прак­тически достижимое благо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итерием блага является наслаждение или страда­ние. Цел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зни — в наслаждении насто­ящим. Средством к достижению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частья является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вобод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киренаик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роение метафизических систем и синтез основн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лософских проблем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Платон, Аристотель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7"/>
          <p:cNvSpPr/>
          <p:nvPr/>
        </p:nvSpPr>
        <p:spPr>
          <a:xfrm>
            <a:off x="4500720" y="2276640"/>
            <a:ext cx="3384360" cy="288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собен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8"/>
          <p:cNvSpPr/>
          <p:nvPr/>
        </p:nvSpPr>
        <p:spPr>
          <a:xfrm flipH="1">
            <a:off x="1834920" y="1773360"/>
            <a:ext cx="230508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9"/>
          <p:cNvSpPr/>
          <p:nvPr/>
        </p:nvSpPr>
        <p:spPr>
          <a:xfrm>
            <a:off x="4140360" y="1773360"/>
            <a:ext cx="230328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WordArt 2"/>
          <p:cNvSpPr txBox="1"/>
          <p:nvPr/>
        </p:nvSpPr>
        <p:spPr>
          <a:xfrm>
            <a:off x="2195640" y="189000"/>
            <a:ext cx="4400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илософия Сократ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КРАТ (469—399 до н.э.) — выдающийся афинский философ, учитель Платона. Сократ — представитель реалистического ре­лигиозно-нравственного мировоззрения. Впервые именно Со­крат сознательно поставил перед собой задачу обоснования идеализма и выступил против античного материалистического ми­ропонимания, естественно-научного знания и безбожия. Сократ исторически был зачинателем «тенденции Платона» в античной философ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1031" descr="sokrat"/>
          <p:cNvPicPr/>
          <p:nvPr/>
        </p:nvPicPr>
        <p:blipFill>
          <a:blip r:embed="rId1"/>
          <a:stretch/>
        </p:blipFill>
        <p:spPr>
          <a:xfrm>
            <a:off x="826920" y="1700280"/>
            <a:ext cx="3167280" cy="4392720"/>
          </a:xfrm>
          <a:prstGeom prst="rect">
            <a:avLst/>
          </a:prstGeom>
          <a:ln w="0">
            <a:noFill/>
          </a:ln>
        </p:spPr>
      </p:pic>
      <p:sp>
        <p:nvSpPr>
          <p:cNvPr id="6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4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5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2"/>
          <p:cNvSpPr/>
          <p:nvPr/>
        </p:nvSpPr>
        <p:spPr>
          <a:xfrm>
            <a:off x="1835280" y="476280"/>
            <a:ext cx="540072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оложения философии Сок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3"/>
          <p:cNvSpPr/>
          <p:nvPr/>
        </p:nvSpPr>
        <p:spPr>
          <a:xfrm>
            <a:off x="179280" y="1341360"/>
            <a:ext cx="8785440" cy="532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нтральная проблема в философии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еловек и человеческое сознание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рода и сущност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а — это его душа (разум). Душа - это «Я сознаю­щее», т.е. совесть и интеллектуальная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ральная личность. Благодаря этому открытию создана моральная и интеллектуальная традиция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торая питает Европу до настоящего времени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вная задача познания — самопознание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познай самого себя»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нание самого себя как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человека вообще», т.е. как моральную, общественно значи­мую личность. Познание — главная цел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способность человека, ибо в про­цессе познания он приходит к общезначимым истинам, к познанию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бра и красоты, блага и счастья. В этом и есть цель философ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ика Сократа отождествляет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обродетель со знанием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добродетель (мудрость, справедливость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оянство, умеренность) есть всегда знание, порок — это всегда невежество; 2) никто не грешит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ознательно, а кто совершает зло, делает это по незнанию. Этот этический рационализм Сократ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дит мораль­ное благо к факту созн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лектика Сократа совпадает с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иалого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диалогос), который состоит и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вух моментов: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опровержения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«иронии») 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майевтики»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Сократовский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тод — это метод последовательно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тически задаваемых вопросов, имеющих своей целью приведение собеседника к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тиворечию с самим собой, к признанию собственного невежества. В этом суть «иронии», сут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майевтики» — посредством наводящих вопросов и логических приемов под­вести собеседника к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стоятельному нахождению исти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ача метода — найти «всеобщее» в нравственности посредством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индук­ции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отыскания общег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частном) 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определения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установления родов и видов, их соотношений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ные составные части «сократического» метода: «ирония» и «майевтика» — по форме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индукция» и «определение» — по содержан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WordArt 2"/>
          <p:cNvSpPr txBox="1"/>
          <p:nvPr/>
        </p:nvSpPr>
        <p:spPr>
          <a:xfrm>
            <a:off x="1692360" y="189000"/>
            <a:ext cx="6164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 Л А Т О 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427—347 до н.э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пнейший философ Древней Греции, ученик Сократа, основатель собственной фило­софской школы — Академии, основоположник идеалисти­ческого направления в философии. Его настоящее имя - Аристокл, Платон - псевдон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1031" descr="i?id=22718480&amp;tov=0"/>
          <p:cNvPicPr/>
          <p:nvPr/>
        </p:nvPicPr>
        <p:blipFill>
          <a:blip r:embed="rId1"/>
          <a:stretch/>
        </p:blipFill>
        <p:spPr>
          <a:xfrm>
            <a:off x="755640" y="1413000"/>
            <a:ext cx="3362400" cy="4824360"/>
          </a:xfrm>
          <a:prstGeom prst="rect">
            <a:avLst/>
          </a:prstGeom>
          <a:ln w="0">
            <a:noFill/>
          </a:ln>
        </p:spPr>
      </p:pic>
      <p:sp>
        <p:nvSpPr>
          <p:cNvPr id="6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animClr clrSpc="rgb">
                                      <p:cBhvr>
                                        <p:cTn id="26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2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6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7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2"/>
          <p:cNvSpPr/>
          <p:nvPr/>
        </p:nvSpPr>
        <p:spPr>
          <a:xfrm>
            <a:off x="1979640" y="404640"/>
            <a:ext cx="5040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характеристика философии Плат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179280" y="1197000"/>
            <a:ext cx="8785440" cy="554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лософская система Платона — первая завершенная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интетическая кон­цепция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 через призму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чения о идеях рассматривались все составляющ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асти античной философии: онтология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гносеология, этика, эстетика, философия полит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вным в философии Платона было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чение об идеях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ть материальный мир, в котором живет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. Но есть и другой мир — несотворимый и неуничтожимый, т.е. вечный. Это мир причины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истых форм и сущностей вещей. Это мир, который обозначается понятием «бытие» есть «мир идей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дельная вещь является материальной копией первоначальной идеи (эйдоса). Материальны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ещи изменчивы и со временем прекращают свое суще­ствование; идеи вечны и неизмен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деи - причины вещей и причина мира в целом, но они не присутствую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мире. Они пребывают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уше человека. Именно душа содержит знания об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деях, поскольку она до вселения в тело обитала в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ре идей. Поэтому иде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наются не через чувства, а посредством «припоминания» разума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риальный мир познается, мир идей — «припоминается». Этим и определяетс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оение души: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ший уровень - разумный, с высоты которого челове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зерцает вечный мир идей и стремится к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агу, и низший - чувственный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помощью которого он познает мир вещ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ру идей присуща иерархия. Прежде всего, это идея «общего блага» или «высшего блага»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лее, это идеи: человеческих ценностей (мудрости, спра­ведливости, добра и зла), отношени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любви, ненависти, власти, государ­ственности и т.п.), свойств вещей и т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ория идей имеет практический аспект — обоснование общечеловеческих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нципов и норм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ытия, ибо с позиции идеалов «мира идей» челове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жен оценивать окружающий его мир. Така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 философии называется метафизической (не путать с метафизическим методом, возникшим в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V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WordArt 2"/>
          <p:cNvSpPr txBox="1"/>
          <p:nvPr/>
        </p:nvSpPr>
        <p:spPr>
          <a:xfrm>
            <a:off x="1116000" y="189000"/>
            <a:ext cx="6629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чение Платона о государств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1" name="Rectangle 3"/>
          <p:cNvSpPr/>
          <p:nvPr/>
        </p:nvSpPr>
        <p:spPr>
          <a:xfrm>
            <a:off x="468360" y="981000"/>
            <a:ext cx="8136000" cy="1079640"/>
          </a:xfrm>
          <a:prstGeom prst="rect">
            <a:avLst/>
          </a:prstGeom>
          <a:solidFill>
            <a:srgbClr val="cb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циально-политическое учение Платона в разных вариантах излагается им в трех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иалогах: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Государство», «Политик», «Законы»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целиком направлено против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тичной демократ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4"/>
          <p:cNvSpPr/>
          <p:nvPr/>
        </p:nvSpPr>
        <p:spPr>
          <a:xfrm>
            <a:off x="2627280" y="836640"/>
            <a:ext cx="3745080" cy="360360"/>
          </a:xfrm>
          <a:prstGeom prst="ellipse">
            <a:avLst/>
          </a:prstGeom>
          <a:solidFill>
            <a:srgbClr val="a7ed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е о государств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5"/>
          <p:cNvSpPr/>
          <p:nvPr/>
        </p:nvSpPr>
        <p:spPr>
          <a:xfrm>
            <a:off x="250920" y="2565360"/>
            <a:ext cx="3025800" cy="4103640"/>
          </a:xfrm>
          <a:prstGeom prst="rect">
            <a:avLst/>
          </a:prstGeom>
          <a:solidFill>
            <a:srgbClr val="cb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Идеальное государство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или при­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жающееся к идеал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ристократия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едлив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сть меньши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ристократическая республ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ристократическая монарх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исходящая иерархия государствен­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ых фо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имократия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праведлив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сть большинства, власть военных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ждей, арм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лигарх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несправедливая вла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ьши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мократия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едливая вла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и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ирания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праведливая вла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го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6"/>
          <p:cNvSpPr/>
          <p:nvPr/>
        </p:nvSpPr>
        <p:spPr>
          <a:xfrm>
            <a:off x="179280" y="2276640"/>
            <a:ext cx="3168720" cy="431640"/>
          </a:xfrm>
          <a:prstGeom prst="rect">
            <a:avLst/>
          </a:prstGeom>
          <a:solidFill>
            <a:srgbClr val="a7ed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лассификация государственных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форм по Плато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7"/>
          <p:cNvSpPr/>
          <p:nvPr/>
        </p:nvSpPr>
        <p:spPr>
          <a:xfrm>
            <a:off x="3708360" y="2276640"/>
            <a:ext cx="4896000" cy="431640"/>
          </a:xfrm>
          <a:prstGeom prst="rect">
            <a:avLst/>
          </a:prstGeom>
          <a:solidFill>
            <a:srgbClr val="a7ed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лан государственного устройства по Платон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8"/>
          <p:cNvSpPr/>
          <p:nvPr/>
        </p:nvSpPr>
        <p:spPr>
          <a:xfrm>
            <a:off x="3492360" y="2708280"/>
            <a:ext cx="5472360" cy="3960720"/>
          </a:xfrm>
          <a:prstGeom prst="rect">
            <a:avLst/>
          </a:prstGeom>
          <a:solidFill>
            <a:srgbClr val="cb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деальное государство есть со­обществ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емледельцев и ремесленников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зводящих все необходимое дл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держания жизни граждан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инов, охраняющих безопаснос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лософов-правителей, осуществляющих мудрое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раведливо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правление государств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ждане государства вмест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одят свободное врем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ститут брака упраздняетс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все жены и дети общие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пускается и приветствуетс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уд раб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пускается небольшая частная собственность и лично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мущество для всех сослов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WordArt 1026"/>
          <p:cNvSpPr txBox="1"/>
          <p:nvPr/>
        </p:nvSpPr>
        <p:spPr>
          <a:xfrm>
            <a:off x="324000" y="189000"/>
            <a:ext cx="842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бщая характеристика античной философ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25" name="Rectangle 1027"/>
          <p:cNvSpPr/>
          <p:nvPr/>
        </p:nvSpPr>
        <p:spPr>
          <a:xfrm>
            <a:off x="179280" y="692280"/>
            <a:ext cx="8785440" cy="16570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нтичная философи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 это философия древних греков и древних римлян, охватывающая период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 до н.э. Античная филосо­фия возникла в греческих полисах (торгово-ремесленн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родах-государствах) Малой Азии, Средиземноморья, Причерноморья и Крыма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бственно Греции — в Афинах, в эллинистичес­ких государствах Азии и Африки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Римской империи. Античная философия внесла исключительный вклад в развити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ровой цивилизации. Именно здесь зародилась европейская культура и цивилизация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десь истоки западной философии, почти всех ее последующих школ, идей и представл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028"/>
          <p:cNvSpPr/>
          <p:nvPr/>
        </p:nvSpPr>
        <p:spPr>
          <a:xfrm>
            <a:off x="2987640" y="2492280"/>
            <a:ext cx="2881440" cy="36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029"/>
          <p:cNvSpPr/>
          <p:nvPr/>
        </p:nvSpPr>
        <p:spPr>
          <a:xfrm>
            <a:off x="179280" y="3068640"/>
            <a:ext cx="8785440" cy="9367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чная философия зародилась не как область специальных философских исследований, а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разрывной связи с научными знаниями - математическими, естественно-научными, с зачаткам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итических понятий, а также с мифологией и искусством. Духовное развитие 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. до н.э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ло от мифологии и религии к науке и философ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030"/>
          <p:cNvSpPr/>
          <p:nvPr/>
        </p:nvSpPr>
        <p:spPr>
          <a:xfrm>
            <a:off x="179280" y="4292640"/>
            <a:ext cx="8785440" cy="431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никают два основных типа философского мировоззрения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атериализ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«линия Демокрита»)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деализ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«линия Платона»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031"/>
          <p:cNvSpPr/>
          <p:nvPr/>
        </p:nvSpPr>
        <p:spPr>
          <a:xfrm>
            <a:off x="179280" y="5013360"/>
            <a:ext cx="8785440" cy="4334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никают два противоположных основных метода мышления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иалектик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етафизика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чная философия была первой исторически известной формой диалектической философ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032"/>
          <p:cNvSpPr/>
          <p:nvPr/>
        </p:nvSpPr>
        <p:spPr>
          <a:xfrm>
            <a:off x="179280" y="5661000"/>
            <a:ext cx="878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широком смысле слова термин «античность»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ат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iquus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древний) означает «древность». В узком смысле с понятием «античность» связывают историю и культуру Древней Греции (Эллады) и Древнего Ри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1033"/>
          <p:cNvSpPr/>
          <p:nvPr/>
        </p:nvSpPr>
        <p:spPr>
          <a:xfrm>
            <a:off x="4356000" y="285264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1034"/>
          <p:cNvSpPr/>
          <p:nvPr/>
        </p:nvSpPr>
        <p:spPr>
          <a:xfrm>
            <a:off x="4356000" y="4005360"/>
            <a:ext cx="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1035"/>
          <p:cNvSpPr/>
          <p:nvPr/>
        </p:nvSpPr>
        <p:spPr>
          <a:xfrm>
            <a:off x="4356000" y="4724280"/>
            <a:ext cx="0" cy="28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WordArt 2"/>
          <p:cNvSpPr txBox="1"/>
          <p:nvPr/>
        </p:nvSpPr>
        <p:spPr>
          <a:xfrm>
            <a:off x="900000" y="620640"/>
            <a:ext cx="7486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учная деятельность Аристотел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384-322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ученый-энциклопедист, философ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к Платона, воспитательАлександра Македонск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35 — 322 гг. до н.э. основал философскую школу —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ике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ерипатетическую школ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1031" descr="image009"/>
          <p:cNvPicPr/>
          <p:nvPr/>
        </p:nvPicPr>
        <p:blipFill>
          <a:blip r:embed="rId1"/>
          <a:stretch/>
        </p:blipFill>
        <p:spPr>
          <a:xfrm>
            <a:off x="755640" y="1484280"/>
            <a:ext cx="3355920" cy="4537080"/>
          </a:xfrm>
          <a:prstGeom prst="rect">
            <a:avLst/>
          </a:prstGeom>
          <a:ln w="0">
            <a:noFill/>
          </a:ln>
        </p:spPr>
      </p:pic>
      <p:sp>
        <p:nvSpPr>
          <p:cNvPr id="6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щая характеристика научной деятельности Аристо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учная деятельность Аристотеля охватила все области античного знания. Произведения его носят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нциклопедический характер. Его сочинения относятся к различным областям знаний — философии, естествознанию, логике, истории, политике, этике, литератур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се науки делятся по следующей классифика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еоретические науки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 познание ведется только ради него самого. Они включают «первую философию» (метафизику), математику и физику. «Первичная философия» изучает проблемы бытия, происхождение всего сущего, причины различных явлений и т.п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актические науки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торые дают руководящие идеи для поведения человека, устройства государства и т.п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ворческие науки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 познание совершается с целью достижения пользы или осуществления чего-либо прекрасн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этом делении Аристотель не упоминает особо логику, хотя он является создателем этой науки (как и эстетики, и теории государства). Аристотель рассматривает логику как оружие всякого научного знания, а не как особую область науки (философи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ее правило научного исследования — на первом месте должна стоять объективная истина самих вещей, самой природы, и никакие субъективные цели не должны исказить этой «правды вещей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общая опыт предшествующего развития науки, Аристотель пытался по­строить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единую систему нау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6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WordArt 2"/>
          <p:cNvSpPr txBox="1"/>
          <p:nvPr/>
        </p:nvSpPr>
        <p:spPr>
          <a:xfrm>
            <a:off x="2050920" y="189000"/>
            <a:ext cx="5112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щая характерис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илософии Аристоте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1547640" y="1197000"/>
            <a:ext cx="5977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характеристика философии Аристо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"/>
          <p:cNvSpPr/>
          <p:nvPr/>
        </p:nvSpPr>
        <p:spPr>
          <a:xfrm>
            <a:off x="0" y="1700280"/>
            <a:ext cx="9144000" cy="5157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ристотель считал, что философия не есть продукт единоличного индивидуального творчества, а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тог работы целых поколений мысл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 внес существенные коррективы в ряд положений философии Платона, критикуя учение об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эйдосах» («чистых идеях»). Ошибка Платона, по Аристотелю, в том, что он оторвал «мир идей» от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ального мира, поскольку бытие не есть «чистые идеи» («эйдосы») и их материальное отражение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«вещи»). Аристотель дает свое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нимание бытия через десять категорий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ытие — эт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ущность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субстанция), обладающая свойствами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личе­ства, качества, отношения, места, времени,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ложения, состояния, действия,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трад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ритика учения об идеях Платона приводит Аристотеля к принципиальным положениям, которые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гли в основу его миропонима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Мир один. Это духовно-материальный, реально существующий мир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Вещи, явления и процессы реального мира могут быть познаны из него</a:t>
            </a:r>
            <a:r>
              <a:rPr b="0" lang="en-US" sz="13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самого, т.е. изучать следует </a:t>
            </a:r>
            <a:br>
              <a:rPr sz="1300"/>
            </a:b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саму действительность, а не мир идей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В центре познания должны быть не умозрительные схемы, а реальный</a:t>
            </a:r>
            <a:r>
              <a:rPr b="0" lang="en-US" sz="13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мир. Тогда наука получает </a:t>
            </a:r>
            <a:br>
              <a:rPr sz="1300"/>
            </a:b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смысл как познание реального посредством понятийного мышления, которое изучается логикой. </a:t>
            </a:r>
            <a:br>
              <a:rPr sz="1300"/>
            </a:b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Логика - орудие постижения сущности вещей, явлений и процессов мир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ристотель определил сущность материи и дал материалистическую трактовку происхо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ира и чело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ристотель выделяет шесть типов государства: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«плохие»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тирания, крайняя олигархия и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хлократия — власть толпы, крайняя демократия) и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«хо­рошие»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монархия, аристократия и полития)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деал Аристотеля - политая, представляющая собой совокупность умеренной олигархии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меренной демократии, государство «среднего класса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Line 2"/>
          <p:cNvSpPr/>
          <p:nvPr/>
        </p:nvSpPr>
        <p:spPr>
          <a:xfrm>
            <a:off x="1692360" y="1268280"/>
            <a:ext cx="0" cy="64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3"/>
          <p:cNvSpPr/>
          <p:nvPr/>
        </p:nvSpPr>
        <p:spPr>
          <a:xfrm>
            <a:off x="4716360" y="1268280"/>
            <a:ext cx="0" cy="64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4"/>
          <p:cNvSpPr/>
          <p:nvPr/>
        </p:nvSpPr>
        <p:spPr>
          <a:xfrm>
            <a:off x="7596360" y="1268280"/>
            <a:ext cx="0" cy="64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WordArt 5"/>
          <p:cNvSpPr txBox="1"/>
          <p:nvPr/>
        </p:nvSpPr>
        <p:spPr>
          <a:xfrm>
            <a:off x="1258920" y="189000"/>
            <a:ext cx="6797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блемы материи, души человека 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илософии Аристоел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84" name="Rectangle 6"/>
          <p:cNvSpPr/>
          <p:nvPr/>
        </p:nvSpPr>
        <p:spPr>
          <a:xfrm>
            <a:off x="179280" y="907920"/>
            <a:ext cx="87854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ы материи, души, человека в философии Аристо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7"/>
          <p:cNvSpPr/>
          <p:nvPr/>
        </p:nvSpPr>
        <p:spPr>
          <a:xfrm>
            <a:off x="108000" y="1916280"/>
            <a:ext cx="3168720" cy="47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я — субстрат. Без материи н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ия, но и сама материя не суще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вует самостоятельно. До принят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ной формы материя находи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ся в состоянии небытия. Эта перва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я лишена жизни, энергии, цело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ности, всяких свойств, всякой опре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енности. Материя еще не е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тельность, а только возмо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ность. Действительностью она ста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ится лишь в связи с форм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я — это потенция, ограниченн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ормой; потенция (субстрат) е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сивное начало, форма — актив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якая вещь есть единство «материи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«форм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— обнаружение актив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в момент ее соединения 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ичин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атериаль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убстрат)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ормаль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бразующая «сущность»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ь),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изводящ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аскрывающа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движ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ей формой всего сущего являет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Бог, имеющий бытие вне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8"/>
          <p:cNvSpPr/>
          <p:nvPr/>
        </p:nvSpPr>
        <p:spPr>
          <a:xfrm>
            <a:off x="3348000" y="1916280"/>
            <a:ext cx="2736720" cy="47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ша - носитель сознания и одно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о ведает функция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уровня душ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растительная душа»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ча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функции питания и размнож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чувственная (животная) душа»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чает за функции питания, раз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жения, ощущения и жел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разумная душа»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ватывает вс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перечисленные функции 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ает еще функциями позн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мыш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ша смерти. Одушевле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и (гилозоизм) — «нелеп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ротиворечи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9"/>
          <p:cNvSpPr/>
          <p:nvPr/>
        </p:nvSpPr>
        <p:spPr>
          <a:xfrm>
            <a:off x="6156360" y="1916280"/>
            <a:ext cx="2808360" cy="47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рождается политически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ом и стремится к «совм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ному сожительству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есть политическое живо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ное (выводя политичность челове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з его природы, а не наоборот —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у человека из его деятель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ти в обществе, — Аристотел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ает ошибк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ение политической сущно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 человека есть образова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ьи,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0"/>
          <p:cNvSpPr/>
          <p:nvPr/>
        </p:nvSpPr>
        <p:spPr>
          <a:xfrm>
            <a:off x="179280" y="1484280"/>
            <a:ext cx="30974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а мате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11"/>
          <p:cNvSpPr/>
          <p:nvPr/>
        </p:nvSpPr>
        <p:spPr>
          <a:xfrm>
            <a:off x="3348000" y="1484280"/>
            <a:ext cx="27367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а душ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12"/>
          <p:cNvSpPr/>
          <p:nvPr/>
        </p:nvSpPr>
        <p:spPr>
          <a:xfrm>
            <a:off x="6156360" y="1484280"/>
            <a:ext cx="280836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а челове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3"/>
          <p:cNvSpPr/>
          <p:nvPr/>
        </p:nvSpPr>
        <p:spPr>
          <a:xfrm>
            <a:off x="6157800" y="6308640"/>
            <a:ext cx="27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уться к оглав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WordArt 1026"/>
          <p:cNvSpPr txBox="1"/>
          <p:nvPr/>
        </p:nvSpPr>
        <p:spPr>
          <a:xfrm>
            <a:off x="1547640" y="189000"/>
            <a:ext cx="55915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личительные особенност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нтичной философи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36" name="Rectangle 1027"/>
          <p:cNvSpPr/>
          <p:nvPr/>
        </p:nvSpPr>
        <p:spPr>
          <a:xfrm>
            <a:off x="1547640" y="1197000"/>
            <a:ext cx="604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обенности античной философ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028"/>
          <p:cNvSpPr/>
          <p:nvPr/>
        </p:nvSpPr>
        <p:spPr>
          <a:xfrm>
            <a:off x="395280" y="1989000"/>
            <a:ext cx="8424720" cy="424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личительной особенностью античной философии является единство трех взаимосвязанн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жду собой моментов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бъекта исследования, метода и це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ый момент определяет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держани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чной философии, которое конкретизируется в идея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смоцентриз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лее, обращаясь ко второму моменту триединства — методу, следует отметить следующую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арактерную особенность античной философии: стремление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 рациональному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ъяснению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общего, бытия, реальности. Она не ограничивается конкретными фактами и опытным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нными. Для нее значим не отдельный факт или конкретный опыт, а разумный аргумент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гическое доказательство, знание. Это не только определяет научный характер философии, но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границы между философией, религией, мифом и искусством. Последние также имеют дело с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альностью как целым, но если мифология описывает ее исходя из фактических представлений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лигия — посредством веры, искусство — через идею красоты, воплощенную в художественн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ах, то философское объяснение осуществляется на рациональном уровн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диалектика мышлени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чная философия в целом есть бескорыстная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любовь к истине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а особенность определяет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ее третий момент — цель. Цель античной философии состоит в чистом созерцании истины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истом желании достичь е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1029"/>
          <p:cNvSpPr/>
          <p:nvPr/>
        </p:nvSpPr>
        <p:spPr>
          <a:xfrm>
            <a:off x="4643280" y="16286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WordArt 2"/>
          <p:cNvSpPr txBox="1"/>
          <p:nvPr/>
        </p:nvSpPr>
        <p:spPr>
          <a:xfrm>
            <a:off x="395280" y="0"/>
            <a:ext cx="837576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новные периоды развития античной философ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250920" y="476280"/>
            <a:ext cx="864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чная и греко-римская философия имеют более чем тысячелетнюю историю, начиная с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 до н.э. и до 529 г.н.э., когда император Юстиниан закрыл фило­софские школы в Афинах. В этой истории различают ряд пери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4"/>
          <p:cNvSpPr/>
          <p:nvPr/>
        </p:nvSpPr>
        <p:spPr>
          <a:xfrm>
            <a:off x="1187280" y="1268280"/>
            <a:ext cx="6840720" cy="289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ериоды развития античной филосо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5"/>
          <p:cNvSpPr/>
          <p:nvPr/>
        </p:nvSpPr>
        <p:spPr>
          <a:xfrm>
            <a:off x="1908000" y="1989000"/>
            <a:ext cx="5328000" cy="28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ериод ранней класс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6"/>
          <p:cNvSpPr/>
          <p:nvPr/>
        </p:nvSpPr>
        <p:spPr>
          <a:xfrm>
            <a:off x="468360" y="2276640"/>
            <a:ext cx="8280360" cy="863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характеристик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туралистический период с его проблемами Фюзиса (Природы)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смоса (между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. до н.э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алес, Анаксимандр, Анаксимен, Парменид, Зенон, Ксенофан,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ифагор, Демокрит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7"/>
          <p:cNvSpPr/>
          <p:nvPr/>
        </p:nvSpPr>
        <p:spPr>
          <a:xfrm>
            <a:off x="1908000" y="3573360"/>
            <a:ext cx="5328000" cy="287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средней класс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8"/>
          <p:cNvSpPr/>
          <p:nvPr/>
        </p:nvSpPr>
        <p:spPr>
          <a:xfrm>
            <a:off x="468360" y="3860640"/>
            <a:ext cx="8280360" cy="649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характеристик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уманистический период с ег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лемой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крат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его школа; софисты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тагор, Горгий, Продик,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нтифонт, Антисфен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9"/>
          <p:cNvSpPr/>
          <p:nvPr/>
        </p:nvSpPr>
        <p:spPr>
          <a:xfrm>
            <a:off x="1835280" y="5084640"/>
            <a:ext cx="5400720" cy="28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высокой класс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0"/>
          <p:cNvSpPr/>
          <p:nvPr/>
        </p:nvSpPr>
        <p:spPr>
          <a:xfrm>
            <a:off x="468360" y="5372280"/>
            <a:ext cx="8280360" cy="649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характеристик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иод большого синтеза с его главной проблем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нтез философского зн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латон, Аристотель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их школ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1692360" y="1413000"/>
            <a:ext cx="5545080" cy="287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линиз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611280" y="1700280"/>
            <a:ext cx="7848360" cy="129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характеристик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иод эллинистических школ с его главными проблемами —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раль и свобода человека, проблемы познания и т.п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пикур, Пиррон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оики раннего периода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анэций, Посидоний,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дние римские стоики, или неостоицизм: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енека, Эпиктет, Марк Аврели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1765440" y="3500280"/>
            <a:ext cx="5545080" cy="28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лигиозный период античной мы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684360" y="3787920"/>
            <a:ext cx="7848360" cy="1150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характеристик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ные проблемы — структуры Космоса, судьбы Космоса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а, отношения Бога и человека и т.п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лотин, Порфирий, Прокл, Филон Александрийски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6372360" y="189000"/>
            <a:ext cx="24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долж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WordArt 1026"/>
          <p:cNvSpPr txBox="1"/>
          <p:nvPr/>
        </p:nvSpPr>
        <p:spPr>
          <a:xfrm>
            <a:off x="1476360" y="189000"/>
            <a:ext cx="62960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раткая характеристика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сократической философи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7" name="AutoShape 1027"/>
          <p:cNvSpPr/>
          <p:nvPr/>
        </p:nvSpPr>
        <p:spPr>
          <a:xfrm>
            <a:off x="539640" y="1268280"/>
            <a:ext cx="8136000" cy="72072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мократические философские школы Древней Греци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никли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. до н.э. в ранних древнегреческих полис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028"/>
          <p:cNvSpPr/>
          <p:nvPr/>
        </p:nvSpPr>
        <p:spPr>
          <a:xfrm>
            <a:off x="2268360" y="2205000"/>
            <a:ext cx="475164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лософские школ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029"/>
          <p:cNvSpPr/>
          <p:nvPr/>
        </p:nvSpPr>
        <p:spPr>
          <a:xfrm>
            <a:off x="395280" y="2492280"/>
            <a:ext cx="8424720" cy="4103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лософия натуралистической ори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илетская шко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Фалес, Анаксимандр, Анаксимен, Геракли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ифагорейская шко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ифагор, Архит Тарент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лейская шко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сенофан, Парменид, Зенон, Мелис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томисти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Левкипп, Демокри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ые философы (Эмпедокл, .Анаксаг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лософия гуманистической ори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фисти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ротагор, Горгий, Продик, Гиппий, Антифонт)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фисты совершили революцию, сместив философскую рефлексию с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атики природы и космоса на проблему человека и его жизн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к члена общества. Софисты - это феномен столь же необходимы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к Сократ и Платон; последние без первых немысли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1026"/>
          <p:cNvSpPr/>
          <p:nvPr/>
        </p:nvSpPr>
        <p:spPr>
          <a:xfrm>
            <a:off x="1619280" y="836640"/>
            <a:ext cx="59054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027"/>
          <p:cNvSpPr/>
          <p:nvPr/>
        </p:nvSpPr>
        <p:spPr>
          <a:xfrm>
            <a:off x="395280" y="1197000"/>
            <a:ext cx="8353440" cy="431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028"/>
          <p:cNvSpPr/>
          <p:nvPr/>
        </p:nvSpPr>
        <p:spPr>
          <a:xfrm>
            <a:off x="395280" y="1197000"/>
            <a:ext cx="8353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туралистической ориентации присуш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смоцентр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иск первоначал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ившее в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е. Представители различных 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ралистических школ обнаруживают субстанциональные основы вещ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т.е. то, из чего возникают все вещи)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, первоначало всег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го 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Фалес)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основа всего е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ух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Анаксимен)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ность вещей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числах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Пифагор)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ность вещей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их быти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Парменид)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вещи состоят из атомов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Левкипп, Демокрит)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 всего сущего есть вечное изменение, превращение мир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Гераклит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екларативно-догматический метод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ософств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илозоиз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душевление нежив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род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уманистической ориентации присущ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оминантные темы 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ика, политика, риторика, искусство, язык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лигия, воспитание, т.е. все то, ч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ыне зовется культурой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мещение оси философского поискас космоса на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WordArt 1026"/>
          <p:cNvSpPr txBox="1"/>
          <p:nvPr/>
        </p:nvSpPr>
        <p:spPr>
          <a:xfrm>
            <a:off x="1547640" y="189000"/>
            <a:ext cx="604872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илетская школ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6" name="Rectangle 1027"/>
          <p:cNvSpPr/>
          <p:nvPr/>
        </p:nvSpPr>
        <p:spPr>
          <a:xfrm>
            <a:off x="179280" y="836640"/>
            <a:ext cx="8785440" cy="792000"/>
          </a:xfrm>
          <a:prstGeom prst="rect">
            <a:avLst/>
          </a:prstGeom>
          <a:solidFill>
            <a:srgbClr val="549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ЛЕТСКАЯ ШКО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никла на рубеж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. до н.э. в Милете –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пнейшем греческом торгово-ремесленном полисе в Малой Аз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1028"/>
          <p:cNvSpPr/>
          <p:nvPr/>
        </p:nvSpPr>
        <p:spPr>
          <a:xfrm>
            <a:off x="1908000" y="1916280"/>
            <a:ext cx="5112000" cy="431640"/>
          </a:xfrm>
          <a:prstGeom prst="roundRect">
            <a:avLst>
              <a:gd name="adj" fmla="val 16667"/>
            </a:avLst>
          </a:prstGeom>
          <a:solidFill>
            <a:srgbClr val="549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ные че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029"/>
          <p:cNvSpPr/>
          <p:nvPr/>
        </p:nvSpPr>
        <p:spPr>
          <a:xfrm>
            <a:off x="179280" y="2349360"/>
            <a:ext cx="8785440" cy="3961080"/>
          </a:xfrm>
          <a:prstGeom prst="rect">
            <a:avLst/>
          </a:prstGeom>
          <a:solidFill>
            <a:srgbClr val="549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30"/>
          <p:cNvSpPr/>
          <p:nvPr/>
        </p:nvSpPr>
        <p:spPr>
          <a:xfrm>
            <a:off x="179280" y="2708280"/>
            <a:ext cx="878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туралистический подход в понимании Природы и Космо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первоначала — субстанции, из которой возник окружающий мир. Первовещество понималось не как мертвая и косная материя, а как вещество живое и в частях, наделенное душой и движением (пантеиз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философских и естественно-научных вопросов увязывалось с прак­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ческой деятельностью. Знания были не только основой для практическог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ения, но прежде всего элементами цельного мировоззрения. Мировоз­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рение это в своей сущности натуралистическ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астрономических, математических, физических и биологически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й; конструирование первых научных приборов (солнечные часы, модел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бесной сферы и т.п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6:31:39Z</dcterms:created>
  <dc:creator>Леди Аза</dc:creator>
  <dc:description/>
  <dc:language>en-US</dc:language>
  <cp:lastModifiedBy>LEGION</cp:lastModifiedBy>
  <dcterms:modified xsi:type="dcterms:W3CDTF">2014-11-11T08:58:02Z</dcterms:modified>
  <cp:revision>20</cp:revision>
  <dc:subject/>
  <dc:title>АНТИЧНАЯ  ФИЛОСОФИЯ</dc:title>
</cp:coreProperties>
</file>