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39E8-B2FE-4499-A732-4AEE0D1C30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B560-2CFD-4CA1-B11D-0B190A4940B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ьфит натрия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H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163C-D51E-44F8-B8B6-850BB278B23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рамор – это соль кальция и кислотного оста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1AC7-1FFF-453E-8115-4823D475678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кислороде как о простом веществе говор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веществ жив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атмосферы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род входит в состав молекул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оксида меди образованы атомами кислорода и м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C746-4AB6-4674-ABC0-59110809225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 простым веществам относится каждое вещество ря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азот, хл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юминий, водород, с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 цинка, хлор, 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, йод, сах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E99D-23AE-46B1-9437-73784097508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зон и метан являются соответствен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м элементом и прост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веществом и смесью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ым и сложным ве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м веществом и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B0AD-0337-4F6C-A580-E6ED6F901C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ложным веществам относится каждое из веществ, указанных в ря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Mg, H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, 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O, 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P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BB6D-1C1F-4809-96FB-59A21BA1DA5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мфотерным оксидам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8924-EA93-415A-BBA7-5BEBFB36AF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B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A0E8-C440-4DCB-A4D4-56A81E2E10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сид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 относится к оксид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ло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леобразующ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фоте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6C33-4EF7-46C7-84F7-06EDFDFEEF0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еречисленных веществ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Ag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a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sOH, Fe(N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CuO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число оснований ра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9541-F94C-4433-B5A7-5AEB9922FCD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AD3-C61A-42D1-9F35-5B4633F0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A16-DAF0-449C-ADD0-4649FFC6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92A-E19F-48A9-9382-4B39B0EA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89A-D289-412D-859C-1EF20A14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EC85-D3E2-47CA-AFA3-AC4070DE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A735-BA34-49B9-9A5E-C909871A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D97A-30A7-4386-8C7F-51C161A6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40A3-1E61-4618-8863-352C31F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71B7-819B-423D-B476-98D86F3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3235-A329-41C2-9E95-CF89EE82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1DDA-2130-4780-B2EC-B26010A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80F-A7DA-43EA-97DD-48645209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B78D-6106-4FB7-BB29-A0F0A56A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BBA4-4ECA-4AC0-A732-809D7E69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2C9E-444D-4365-8BB3-72B3309D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7654-C97E-46A7-8C8B-91621ECE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7F6F-2C43-4510-9251-3070E57D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B77-8F5D-417E-AD87-863091EE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0EE-81FD-416F-9735-91BEF671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D65-8068-4177-8119-AC695AFE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67D-620A-407E-A6B0-57FCAFC9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E46-241D-43C1-B6E5-579115FD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3BF-423B-4503-BA74-57567CF1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D96-C36C-4288-836C-FF0AB5D5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D119-8477-4F43-A996-62E19B4353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758A-CBE5-4B5B-96C6-4BCA09AAD9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Простые и сложные вещества. Основные классы неорганических веществ. Номенклатура соединений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Сульфит натрия это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H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рамор – это соль кальция и кислотного остатка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 кислороде как о простом веществе говор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веществ живой клет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атмосферы Зем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слород входит в состав молекул в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лекулы оксида меди образованы атомами кислорода и мед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простым веществам относится каждое вещество ряда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да, азот, хло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юминий, водород, сер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сид цинка, хлор, в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ероводород, йод, саха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зон и метан являются соответствен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имическим элементом и прост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веществом и смесью вещест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ым и сложным веществ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ным веществом и химическим элементо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ложным веществам относится каждое из веществ, указанных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Mg, H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, I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O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P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амфотерным оксидам относится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К солям относится каждое из веществ в ряду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u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(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, Li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Fe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Al(OH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CaCl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ксид фосфора (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) относится к оксидам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слот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солеобразующи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мфотерным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Среди перечисленных веществ   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S, Ag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H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P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Ba(OH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sOH, Fe(NO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cbcbc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, CuOH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   число оснований равно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7:19:36Z</dcterms:created>
  <dc:creator>Лариса</dc:creator>
  <dc:description/>
  <dc:language>en-US</dc:language>
  <cp:lastModifiedBy>LEGION</cp:lastModifiedBy>
  <dcterms:modified xsi:type="dcterms:W3CDTF">2015-05-01T11:12:09Z</dcterms:modified>
  <cp:revision>5</cp:revision>
  <dc:subject/>
  <dc:title>Простые и сложные вещества. Основные классы неорганических веществ. Номенклатура соединений </dc:title>
</cp:coreProperties>
</file>