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8217-B57F-4525-8033-84044D26B2A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е и сложные вещества. Основные классы неорганических веществ. Номенклатура соединени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1E29-6914-4F79-98A3-DCBF09FC339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льфит натрия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H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9C58-F048-4347-B312-FD8BA4667CC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рамор – это соль кальция и кислотного оста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2750-9720-4E1F-B647-B7F5BEBBB6C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кислороде как о простом веществе говори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веществ живой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атмосферы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молекул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ы оксида меди образованы атомами кислорода и м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140E-A4F4-4FD2-8FDE-C2BEE4A0D7A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простым веществам относится каждое вещество ряд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азот, хл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юминий, водород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д цинка, хлор, 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, йод, сах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5FEA-1125-4E5F-8D3F-07FAB3400B0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зон и метан являются соответствен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м элементом и простым ве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м веществом и смесью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м и сложным ве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м веществом и химическим элем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2D1A-C0E6-4286-93C2-505BEC80AD5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сложным веществам относится каждое из веществ, указанных в ря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O, Mg, H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M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, 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O, Fe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P,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A262-E710-40BF-8B07-B8FF5364734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амфотерным оксидам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5704-CD0F-4356-B79A-2584C04F111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u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B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B011-1CEA-4AAD-B02C-2ACA0D9498E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ксид фосфора 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 относится к оксид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леобразующ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фотер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B1BB-FB8B-4809-959B-08EC6D42C27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перечисленных веществ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, Ag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Ba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sOH, Fe(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u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число оснований рав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EA2A-6427-4772-B327-32EAB09900E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0D4-392E-49D5-A786-61A88796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16FE-2EF7-4AF6-8F2C-0A58DEA3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80C-172E-46B1-8399-E22017DA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508-4DB9-4CC4-A311-137C0DFC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D089-A9D9-4FEC-97EF-5FA1F404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B979-26DF-4A2F-8EF2-8BA8ED7F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30CA-48A6-46AB-85ED-B54DFEAA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9391-4BC4-4C1E-ADD3-55B30256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85B9-FBB8-4FB9-BC2C-246E062C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488E-161E-4DCC-B086-7962B228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0778-BA7D-4D0A-A705-E2DEEAC6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F8C6-3677-4CA4-8828-3EB499A5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2B77-85D2-4D9A-8CB3-C2EC2F74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C39D-192A-43C6-B8B2-EE3B99F1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13E4-4099-45F4-8E92-C02326B5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F465-6A62-487C-BB5D-DBA21F1F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6801-824B-4893-9210-8DEB5D35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111-926C-4F98-95FA-F982E128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8E6-31A7-446C-A89F-63D12AE6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3084-7F03-420C-ACBB-4E279619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553-38E0-4C69-A2CA-2310E7EB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E66D-1FF9-4571-92DA-9053465B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C693-03E4-47A5-B370-4698196E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487-94BB-420B-B8C4-93BD2BE3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0B6C-5297-4993-93F9-6DC38EE596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47D8-C039-4512-9D9D-47353DC04B0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Простые и сложные вещества. Основные классы неорганических веществ. Номенклатура соединений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Сульфит натрия это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H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Мрамор – это соль кальция и кислотного остатка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 кислороде как о простом веществе говорится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веществ живой клет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атмосферы Земл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молекул вод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лекулы оксида меди образованы атомами кислорода и мед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простым веществам относится каждое вещество ряда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да, азот, хло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юминий, водород, сер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ксид цинка, хлор, во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роводород, йод, саха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зон и метан являются соответственно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мическим элементом и простым веществ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стым веществом и смесью вещест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стым и сложным веществ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ожным веществом и химическим элемент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сложным веществам относится каждое из веществ, указанных в ряду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O, Mg, H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, I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O, Fe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P,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амфотерным оксидам относится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солям относится каждое из веществ в ряду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Cu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(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N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, Li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Fe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Al(OH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Ca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ксид фосфора (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) относится к оксидам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слот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солеобразующи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мфотер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Среди перечисленных веществ   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S, AgN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H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P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Ba(OH)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CsOH, Fe(N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CuOH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   число оснований равно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7:19:36Z</dcterms:created>
  <dc:creator>Лариса</dc:creator>
  <dc:description/>
  <dc:language>en-US</dc:language>
  <cp:lastModifiedBy>LEGION</cp:lastModifiedBy>
  <dcterms:modified xsi:type="dcterms:W3CDTF">2015-05-01T11:12:09Z</dcterms:modified>
  <cp:revision>5</cp:revision>
  <dc:subject/>
  <dc:title>Простые и сложные вещества. Основные классы неорганических веществ. Номенклатура соединений </dc:title>
</cp:coreProperties>
</file>