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1467F-4BD3-4F86-A001-C722B26C67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8F0B5-E50F-4335-A702-493C54A24E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ма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ение электронных оболочек атом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работа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химии – биологии первой квалификационной катег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женов Алексей Анатолье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735B4-CE9F-439C-B935-D4550CE0F2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зна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ить число протонов, электронов и нейтронов у атомов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,  S,  As,  Sn,   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54840-B5DE-420D-8E49-84969E7815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а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ение электронных оболочек атом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Электронная оболочка – это совокупность электронов, двигающихся вокруг ядра ато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6054"/>
                </a:solidFill>
                <a:latin typeface="Arial"/>
              </a:rPr>
              <a:t>Номер группы совпадает с числом электронов на последнем энергетическом уров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6054"/>
                </a:solidFill>
                <a:latin typeface="Arial"/>
              </a:rPr>
              <a:t>Число электронов </a:t>
            </a:r>
            <a:r>
              <a:rPr b="0" lang="en-US" sz="1200" spc="-1" strike="noStrike">
                <a:solidFill>
                  <a:srgbClr val="fa6054"/>
                </a:solidFill>
                <a:latin typeface="Arial"/>
              </a:rPr>
              <a:t> (</a:t>
            </a:r>
            <a:r>
              <a:rPr b="1" lang="en-US" sz="1200" spc="-1" strike="noStrike">
                <a:solidFill>
                  <a:srgbClr val="fa6054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fa6054"/>
                </a:solidFill>
                <a:latin typeface="Arial"/>
              </a:rPr>
              <a:t>) </a:t>
            </a:r>
            <a:r>
              <a:rPr b="0" lang="ru-RU" sz="1200" spc="-1" strike="noStrike">
                <a:solidFill>
                  <a:srgbClr val="fa6054"/>
                </a:solidFill>
                <a:latin typeface="Arial"/>
              </a:rPr>
              <a:t>на уровне рассчитывается по формул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a6054"/>
                </a:solidFill>
                <a:latin typeface="Arial"/>
              </a:rPr>
              <a:t>N</a:t>
            </a:r>
            <a:r>
              <a:rPr b="1" lang="ru-RU" sz="1200" spc="-1" strike="noStrike">
                <a:solidFill>
                  <a:srgbClr val="fa6054"/>
                </a:solidFill>
                <a:latin typeface="Arial"/>
              </a:rPr>
              <a:t> = 2</a:t>
            </a:r>
            <a:r>
              <a:rPr b="1" lang="en-US" sz="1200" spc="-1" strike="noStrike">
                <a:solidFill>
                  <a:srgbClr val="fa6054"/>
                </a:solidFill>
                <a:latin typeface="Arial"/>
              </a:rPr>
              <a:t>n</a:t>
            </a:r>
            <a:r>
              <a:rPr b="1" lang="en-US" sz="1200" spc="-1" strike="noStrike" baseline="30000">
                <a:solidFill>
                  <a:srgbClr val="fa6054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CE88-55ED-49B3-8C32-A9A9A00FE3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I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арисуйте схемы строения электронных оболочек атомов: кислорода, натрия, водорода, кремния, углерода, гел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5A09A-0BF2-4B98-813A-24AE9B5451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I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троение электронной оболоч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- Орбиталь состоит из квантовых яче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- Энергетический уровень состоит из орбита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5FD3E-3123-486A-B3A2-FE00C87C1B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V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троение электронной оболоч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- На одной квантовой ячейке могут находиться два электрона с разными спин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E23DD-0810-4481-B4C8-4082D91EA2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ставить строение электронной оболочки элемента:  В,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93658-58AF-4DEC-A7D9-CFD4CF9E37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зна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арисуйте схемы строения электронных оболочек атом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2E5A0-85BD-4384-B2D6-AF6CF8576F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а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ение электронных оболочек атом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арисуйте схемы строения электронных оболочек атом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бора,  магния,  хлора,  лития,  серы,  алюми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C46B9-A333-4E2E-8C48-26D97167D2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тор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ить число протонов , нейтронов и электрон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2B19-9163-4D91-B7D6-B0EF2AF8F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9404-1CFF-45A1-8772-8F7562A6E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DBBA-D930-4F66-8BD1-D30C0F2C6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A793-E950-4731-970C-A4C2D7C81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991B-E289-4ED0-B37D-ED731EE05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2EAC-7129-4947-BDFE-903975F05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5406-BA2D-443C-90E2-87DBAE049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DE07-F576-442D-A7B8-1562892E4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BC4C-55BE-4724-BD39-A7109F6CE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1B6D-5518-4B27-8404-AAE9B555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4024-4B8B-4340-8676-1D27D618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84BA-2D93-4295-99A5-4E179988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01ECE-4FAD-4F7F-8E42-3ADA64401C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457200" y="6012000"/>
            <a:ext cx="21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124080" y="6012000"/>
            <a:ext cx="28958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85880" y="1238040"/>
            <a:ext cx="792144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13f26"/>
                </a:solidFill>
                <a:latin typeface="Tahoma"/>
              </a:rPr>
              <a:t>Тема: </a:t>
            </a:r>
            <a:r>
              <a:rPr b="0" lang="ru-RU" sz="4000" spc="-1" strike="noStrike">
                <a:solidFill>
                  <a:srgbClr val="413f26"/>
                </a:solidFill>
                <a:latin typeface="Tahoma"/>
              </a:rPr>
              <a:t>Строение электронных оболочек атомов.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56800" y="3438360"/>
            <a:ext cx="525780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работал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читель химии – биологии первой квалификационной категор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аженов Алексей Анатольеви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985680" y="182520"/>
            <a:ext cx="718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27f4c"/>
                </a:solidFill>
                <a:latin typeface="Tahoma"/>
              </a:rPr>
              <a:t>Тюменская область.  Ханты – Мансийский автономный  округ.</a:t>
            </a:r>
            <a:br>
              <a:rPr sz="1800"/>
            </a:br>
            <a:r>
              <a:rPr b="0" lang="ru-RU" sz="1800" spc="-1" strike="noStrike">
                <a:solidFill>
                  <a:srgbClr val="827f4c"/>
                </a:solidFill>
                <a:latin typeface="Tahoma"/>
              </a:rPr>
              <a:t>Нижневартовский  район.</a:t>
            </a:r>
            <a:br>
              <a:rPr sz="1800"/>
            </a:br>
            <a:r>
              <a:rPr b="0" lang="ru-RU" sz="1800" spc="-1" strike="noStrike">
                <a:solidFill>
                  <a:srgbClr val="827f4c"/>
                </a:solidFill>
                <a:latin typeface="Tahoma"/>
              </a:rPr>
              <a:t>МОУ Охтеурская ОСШ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Clr clrSpc="rgb">
                                      <p:cBhvr>
                                        <p:cTn id="6" dur="25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6054"/>
                                      </p:to>
                                    </p:animClr>
                                    <p:animClr clrSpc="rgb">
                                      <p:cBhvr>
                                        <p:cTn id="7" dur="25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6054"/>
                                      </p:to>
                                    </p:animClr>
                                    <p:set>
                                      <p:cBhvr>
                                        <p:cTn id="8" dur="25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Line 3"/>
          <p:cNvSpPr/>
          <p:nvPr/>
        </p:nvSpPr>
        <p:spPr>
          <a:xfrm>
            <a:off x="100008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0" y="260280"/>
            <a:ext cx="1079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2443-3C97-4459-9320-C3CF86DEC785}" type="datetime3">
              <a:rPr b="0" lang="ru-RU" sz="1600" spc="-1" strike="noStrike">
                <a:solidFill>
                  <a:srgbClr val="000000"/>
                </a:solidFill>
                <a:latin typeface="Tahoma"/>
              </a:rPr>
              <a:t>30 июля, 2026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Text Box 21"/>
          <p:cNvSpPr/>
          <p:nvPr/>
        </p:nvSpPr>
        <p:spPr>
          <a:xfrm>
            <a:off x="1099080" y="142920"/>
            <a:ext cx="42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13f26"/>
                </a:solidFill>
                <a:latin typeface="Tahoma"/>
              </a:rPr>
              <a:t>Проверка знаний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Прямая соединительная линия 20"/>
          <p:cNvSpPr/>
          <p:nvPr/>
        </p:nvSpPr>
        <p:spPr>
          <a:xfrm>
            <a:off x="1000080" y="857160"/>
            <a:ext cx="814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TextBox 48"/>
          <p:cNvSpPr/>
          <p:nvPr/>
        </p:nvSpPr>
        <p:spPr>
          <a:xfrm>
            <a:off x="1234080" y="1143000"/>
            <a:ext cx="750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пределить число протонов, электронов и нейтронов у атомов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u,  S,  As,  Sn,   Co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65" name="Управляющая кнопка: настраиваемая 8"/>
          <p:cNvGrpSpPr/>
          <p:nvPr/>
        </p:nvGrpSpPr>
        <p:grpSpPr>
          <a:xfrm>
            <a:off x="6516720" y="6327720"/>
            <a:ext cx="2608200" cy="536760"/>
            <a:chOff x="6516720" y="6327720"/>
            <a:chExt cx="2608200" cy="536760"/>
          </a:xfrm>
        </p:grpSpPr>
        <p:pic>
          <p:nvPicPr>
            <p:cNvPr id="366" name="Управляющая кнопка: настраиваемая 8" descr=""/>
            <p:cNvPicPr/>
            <p:nvPr/>
          </p:nvPicPr>
          <p:blipFill>
            <a:blip r:embed="rId1"/>
            <a:stretch/>
          </p:blipFill>
          <p:spPr>
            <a:xfrm>
              <a:off x="6516720" y="6327720"/>
              <a:ext cx="260820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6572160" y="6357960"/>
              <a:ext cx="25005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ahoma"/>
                </a:rPr>
                <a:t>Вернуться к теме урока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68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Line 3"/>
          <p:cNvSpPr/>
          <p:nvPr/>
        </p:nvSpPr>
        <p:spPr>
          <a:xfrm>
            <a:off x="100008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260280"/>
            <a:ext cx="1079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8A780-55E6-4DFF-906A-B768A7627099}" type="datetime3">
              <a:rPr b="0" lang="ru-RU" sz="1600" spc="-1" strike="noStrike">
                <a:solidFill>
                  <a:srgbClr val="000000"/>
                </a:solidFill>
                <a:latin typeface="Tahoma"/>
              </a:rPr>
              <a:t>30 июля, 2026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476360" y="1125360"/>
            <a:ext cx="74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Электронная оболочка – это совокупность электронов, двигающихся вокруг ядра атом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Text Box 21"/>
          <p:cNvSpPr/>
          <p:nvPr/>
        </p:nvSpPr>
        <p:spPr>
          <a:xfrm>
            <a:off x="1051560" y="142920"/>
            <a:ext cx="77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13f26"/>
                </a:solidFill>
                <a:latin typeface="Tahoma"/>
              </a:rPr>
              <a:t>Тема: </a:t>
            </a:r>
            <a:r>
              <a:rPr b="0" lang="ru-RU" sz="2400" spc="-1" strike="noStrike">
                <a:solidFill>
                  <a:srgbClr val="413f26"/>
                </a:solidFill>
                <a:latin typeface="Tahoma"/>
              </a:rPr>
              <a:t>Строение электронных оболочек атом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Прямая соединительная линия 20"/>
          <p:cNvSpPr/>
          <p:nvPr/>
        </p:nvSpPr>
        <p:spPr>
          <a:xfrm>
            <a:off x="1000080" y="857160"/>
            <a:ext cx="814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TextBox 42"/>
          <p:cNvSpPr/>
          <p:nvPr/>
        </p:nvSpPr>
        <p:spPr>
          <a:xfrm>
            <a:off x="1714680" y="2068560"/>
            <a:ext cx="721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a6054"/>
                </a:solidFill>
                <a:latin typeface="Tahoma"/>
              </a:rPr>
              <a:t>Электроны  в электронной оболочке располагаются на энергетических уровня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TextBox 48"/>
          <p:cNvSpPr/>
          <p:nvPr/>
        </p:nvSpPr>
        <p:spPr>
          <a:xfrm>
            <a:off x="1714680" y="2071800"/>
            <a:ext cx="721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6054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fa6054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a6054"/>
                </a:solidFill>
                <a:latin typeface="Tahoma"/>
              </a:rPr>
              <a:t>– главное квантовое число – определяет число энергетических уровней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TextBox 49"/>
          <p:cNvSpPr/>
          <p:nvPr/>
        </p:nvSpPr>
        <p:spPr>
          <a:xfrm>
            <a:off x="1643040" y="2071800"/>
            <a:ext cx="721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a6054"/>
                </a:solidFill>
                <a:latin typeface="Tahoma"/>
              </a:rPr>
              <a:t>Номер периода совпадает с числом  энергетических уровней элемент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Прямоугольник 51"/>
          <p:cNvSpPr/>
          <p:nvPr/>
        </p:nvSpPr>
        <p:spPr>
          <a:xfrm>
            <a:off x="1357200" y="3429000"/>
            <a:ext cx="1000080" cy="428760"/>
          </a:xfrm>
          <a:prstGeom prst="rect">
            <a:avLst/>
          </a:prstGeom>
          <a:gradFill rotWithShape="0">
            <a:gsLst>
              <a:gs pos="0">
                <a:srgbClr val="fbfbe9"/>
              </a:gs>
              <a:gs pos="100000">
                <a:srgbClr val="fefef8"/>
              </a:gs>
            </a:gsLst>
            <a:lin ang="16200000"/>
          </a:gradFill>
          <a:ln w="9360">
            <a:solidFill>
              <a:srgbClr val="e5e5d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ерио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2" name="Группа 67"/>
          <p:cNvGrpSpPr/>
          <p:nvPr/>
        </p:nvGrpSpPr>
        <p:grpSpPr>
          <a:xfrm>
            <a:off x="2336760" y="4286160"/>
            <a:ext cx="1383120" cy="1011600"/>
            <a:chOff x="2336760" y="4286160"/>
            <a:chExt cx="1383120" cy="1011600"/>
          </a:xfrm>
        </p:grpSpPr>
        <p:sp>
          <p:nvSpPr>
            <p:cNvPr id="63" name="Прямоугольник 59"/>
            <p:cNvSpPr/>
            <p:nvPr/>
          </p:nvSpPr>
          <p:spPr>
            <a:xfrm>
              <a:off x="2357280" y="4286160"/>
              <a:ext cx="1357560" cy="1000440"/>
            </a:xfrm>
            <a:prstGeom prst="rect">
              <a:avLst/>
            </a:prstGeom>
            <a:gradFill rotWithShape="0">
              <a:gsLst>
                <a:gs pos="0">
                  <a:srgbClr val="f2eed9"/>
                </a:gs>
                <a:gs pos="100000">
                  <a:srgbClr val="fcfbf4"/>
                </a:gs>
              </a:gsLst>
              <a:lin ang="16200000"/>
            </a:gradFill>
            <a:ln w="9360">
              <a:solidFill>
                <a:srgbClr val="cecbb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" name="TextBox 60"/>
            <p:cNvSpPr/>
            <p:nvPr/>
          </p:nvSpPr>
          <p:spPr>
            <a:xfrm>
              <a:off x="2347200" y="4286160"/>
              <a:ext cx="48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Tahoma"/>
                </a:rPr>
                <a:t>Р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TextBox 61"/>
            <p:cNvSpPr/>
            <p:nvPr/>
          </p:nvSpPr>
          <p:spPr>
            <a:xfrm>
              <a:off x="2336760" y="4929480"/>
              <a:ext cx="105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Фосфор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TextBox 62"/>
            <p:cNvSpPr/>
            <p:nvPr/>
          </p:nvSpPr>
          <p:spPr>
            <a:xfrm>
              <a:off x="3246480" y="428616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TextBox 63"/>
            <p:cNvSpPr/>
            <p:nvPr/>
          </p:nvSpPr>
          <p:spPr>
            <a:xfrm>
              <a:off x="2778840" y="4643640"/>
              <a:ext cx="840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ahoma"/>
                </a:rPr>
                <a:t>30,9748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8" name="Прямоугольник 68"/>
          <p:cNvSpPr/>
          <p:nvPr/>
        </p:nvSpPr>
        <p:spPr>
          <a:xfrm>
            <a:off x="1357200" y="3857760"/>
            <a:ext cx="1000080" cy="1428480"/>
          </a:xfrm>
          <a:prstGeom prst="rect">
            <a:avLst/>
          </a:prstGeom>
          <a:gradFill rotWithShape="0">
            <a:gsLst>
              <a:gs pos="0">
                <a:srgbClr val="fbfbe9"/>
              </a:gs>
              <a:gs pos="100000">
                <a:srgbClr val="fefef8"/>
              </a:gs>
            </a:gsLst>
            <a:lin ang="16200000"/>
          </a:gradFill>
          <a:ln w="9360">
            <a:solidFill>
              <a:srgbClr val="e5e5d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Прямоугольник 69"/>
          <p:cNvSpPr/>
          <p:nvPr/>
        </p:nvSpPr>
        <p:spPr>
          <a:xfrm>
            <a:off x="2357280" y="3429000"/>
            <a:ext cx="1357560" cy="428760"/>
          </a:xfrm>
          <a:prstGeom prst="rect">
            <a:avLst/>
          </a:prstGeom>
          <a:gradFill rotWithShape="0">
            <a:gsLst>
              <a:gs pos="0">
                <a:srgbClr val="fbfbe9"/>
              </a:gs>
              <a:gs pos="100000">
                <a:srgbClr val="fefef8"/>
              </a:gs>
            </a:gsLst>
            <a:lin ang="16200000"/>
          </a:gradFill>
          <a:ln w="9360">
            <a:solidFill>
              <a:srgbClr val="e5e5d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рупп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Прямоугольник 70"/>
          <p:cNvSpPr/>
          <p:nvPr/>
        </p:nvSpPr>
        <p:spPr>
          <a:xfrm>
            <a:off x="2357280" y="3857760"/>
            <a:ext cx="1357560" cy="428400"/>
          </a:xfrm>
          <a:prstGeom prst="rect">
            <a:avLst/>
          </a:prstGeom>
          <a:gradFill rotWithShape="0">
            <a:gsLst>
              <a:gs pos="0">
                <a:srgbClr val="fbfbe9"/>
              </a:gs>
              <a:gs pos="100000">
                <a:srgbClr val="fefef8"/>
              </a:gs>
            </a:gsLst>
            <a:lin ang="16200000"/>
          </a:gradFill>
          <a:ln w="9360">
            <a:solidFill>
              <a:srgbClr val="e5e5d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Прямоугольник 72"/>
          <p:cNvSpPr/>
          <p:nvPr/>
        </p:nvSpPr>
        <p:spPr>
          <a:xfrm>
            <a:off x="1632240" y="42829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Дуга 78"/>
          <p:cNvSpPr/>
          <p:nvPr/>
        </p:nvSpPr>
        <p:spPr>
          <a:xfrm>
            <a:off x="3643200" y="3429000"/>
            <a:ext cx="1143000" cy="1928880"/>
          </a:xfrm>
          <a:custGeom>
            <a:avLst/>
            <a:gdLst/>
            <a:ahLst/>
            <a:rect l="l" t="t" r="r" b="b"/>
            <a:pathLst>
              <a:path stroke="0" w="1143000" h="1928813">
                <a:moveTo>
                  <a:pt x="931514" y="215411"/>
                </a:moveTo>
                <a:cubicBezTo>
                  <a:pt x="1061288" y="393041"/>
                  <a:pt x="1138493" y="657616"/>
                  <a:pt x="1142809" y="939498"/>
                </a:cubicBezTo>
                <a:cubicBezTo>
                  <a:pt x="1146855" y="1203735"/>
                  <a:pt x="1086453" y="1459193"/>
                  <a:pt x="975726" y="1646153"/>
                </a:cubicBezTo>
                <a:lnTo>
                  <a:pt x="571500" y="964407"/>
                </a:lnTo>
                <a:lnTo>
                  <a:pt x="931514" y="215411"/>
                </a:lnTo>
                <a:close/>
              </a:path>
              <a:path fill="none" w="1143000" h="1928813">
                <a:moveTo>
                  <a:pt x="931514" y="215411"/>
                </a:moveTo>
                <a:cubicBezTo>
                  <a:pt x="1061288" y="393041"/>
                  <a:pt x="1138493" y="657616"/>
                  <a:pt x="1142809" y="939498"/>
                </a:cubicBezTo>
                <a:cubicBezTo>
                  <a:pt x="1146855" y="1203735"/>
                  <a:pt x="1086453" y="1459193"/>
                  <a:pt x="975726" y="164615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Дуга 79"/>
          <p:cNvSpPr/>
          <p:nvPr/>
        </p:nvSpPr>
        <p:spPr>
          <a:xfrm>
            <a:off x="4143240" y="3429000"/>
            <a:ext cx="1143000" cy="1928880"/>
          </a:xfrm>
          <a:custGeom>
            <a:avLst/>
            <a:gdLst/>
            <a:ahLst/>
            <a:rect l="l" t="t" r="r" b="b"/>
            <a:pathLst>
              <a:path stroke="0" w="1143000" h="1928813">
                <a:moveTo>
                  <a:pt x="931514" y="215411"/>
                </a:moveTo>
                <a:cubicBezTo>
                  <a:pt x="1061288" y="393041"/>
                  <a:pt x="1138493" y="657616"/>
                  <a:pt x="1142809" y="939498"/>
                </a:cubicBezTo>
                <a:cubicBezTo>
                  <a:pt x="1146855" y="1203735"/>
                  <a:pt x="1086453" y="1459193"/>
                  <a:pt x="975726" y="1646153"/>
                </a:cubicBezTo>
                <a:lnTo>
                  <a:pt x="571500" y="964407"/>
                </a:lnTo>
                <a:lnTo>
                  <a:pt x="931514" y="215411"/>
                </a:lnTo>
                <a:close/>
              </a:path>
              <a:path fill="none" w="1143000" h="1928813">
                <a:moveTo>
                  <a:pt x="931514" y="215411"/>
                </a:moveTo>
                <a:cubicBezTo>
                  <a:pt x="1061288" y="393041"/>
                  <a:pt x="1138493" y="657616"/>
                  <a:pt x="1142809" y="939498"/>
                </a:cubicBezTo>
                <a:cubicBezTo>
                  <a:pt x="1146855" y="1203735"/>
                  <a:pt x="1086453" y="1459193"/>
                  <a:pt x="975726" y="164615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Дуга 80"/>
          <p:cNvSpPr/>
          <p:nvPr/>
        </p:nvSpPr>
        <p:spPr>
          <a:xfrm>
            <a:off x="4643280" y="3429000"/>
            <a:ext cx="1143000" cy="1928880"/>
          </a:xfrm>
          <a:custGeom>
            <a:avLst/>
            <a:gdLst/>
            <a:ahLst/>
            <a:rect l="l" t="t" r="r" b="b"/>
            <a:pathLst>
              <a:path stroke="0" w="1143000" h="1928813">
                <a:moveTo>
                  <a:pt x="931514" y="215411"/>
                </a:moveTo>
                <a:cubicBezTo>
                  <a:pt x="1061288" y="393041"/>
                  <a:pt x="1138493" y="657616"/>
                  <a:pt x="1142809" y="939498"/>
                </a:cubicBezTo>
                <a:cubicBezTo>
                  <a:pt x="1146855" y="1203735"/>
                  <a:pt x="1086453" y="1459193"/>
                  <a:pt x="975726" y="1646153"/>
                </a:cubicBezTo>
                <a:lnTo>
                  <a:pt x="571500" y="964407"/>
                </a:lnTo>
                <a:lnTo>
                  <a:pt x="931514" y="215411"/>
                </a:lnTo>
                <a:close/>
              </a:path>
              <a:path fill="none" w="1143000" h="1928813">
                <a:moveTo>
                  <a:pt x="931514" y="215411"/>
                </a:moveTo>
                <a:cubicBezTo>
                  <a:pt x="1061288" y="393041"/>
                  <a:pt x="1138493" y="657616"/>
                  <a:pt x="1142809" y="939498"/>
                </a:cubicBezTo>
                <a:cubicBezTo>
                  <a:pt x="1146855" y="1203735"/>
                  <a:pt x="1086453" y="1459193"/>
                  <a:pt x="975726" y="164615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TextBox 81"/>
          <p:cNvSpPr/>
          <p:nvPr/>
        </p:nvSpPr>
        <p:spPr>
          <a:xfrm>
            <a:off x="1714680" y="2071800"/>
            <a:ext cx="721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a6054"/>
                </a:solidFill>
                <a:latin typeface="Tahoma"/>
              </a:rPr>
              <a:t>Число электронов </a:t>
            </a:r>
            <a:r>
              <a:rPr b="0" lang="en-US" sz="2400" spc="-1" strike="noStrike">
                <a:solidFill>
                  <a:srgbClr val="fa6054"/>
                </a:solidFill>
                <a:latin typeface="Tahoma"/>
              </a:rPr>
              <a:t> (</a:t>
            </a:r>
            <a:r>
              <a:rPr b="1" lang="en-US" sz="2400" spc="-1" strike="noStrike">
                <a:solidFill>
                  <a:srgbClr val="fa6054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fa6054"/>
                </a:solidFill>
                <a:latin typeface="Tahoma"/>
              </a:rPr>
              <a:t>) </a:t>
            </a:r>
            <a:r>
              <a:rPr b="0" lang="ru-RU" sz="2400" spc="-1" strike="noStrike">
                <a:solidFill>
                  <a:srgbClr val="fa6054"/>
                </a:solidFill>
                <a:latin typeface="Tahoma"/>
              </a:rPr>
              <a:t>на уровне рассчитывается по формул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6054"/>
                </a:solidFill>
                <a:latin typeface="Tahoma"/>
              </a:rPr>
              <a:t>N</a:t>
            </a:r>
            <a:r>
              <a:rPr b="1" lang="ru-RU" sz="2400" spc="-1" strike="noStrike">
                <a:solidFill>
                  <a:srgbClr val="fa6054"/>
                </a:solidFill>
                <a:latin typeface="Tahoma"/>
              </a:rPr>
              <a:t> = 2</a:t>
            </a:r>
            <a:r>
              <a:rPr b="1" lang="en-US" sz="2400" spc="-1" strike="noStrike">
                <a:solidFill>
                  <a:srgbClr val="fa6054"/>
                </a:solidFill>
                <a:latin typeface="Tahoma"/>
              </a:rPr>
              <a:t>n</a:t>
            </a:r>
            <a:r>
              <a:rPr b="1" lang="en-US" sz="2400" spc="-1" strike="noStrike" baseline="30000">
                <a:solidFill>
                  <a:srgbClr val="fa6054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TextBox 82"/>
          <p:cNvSpPr/>
          <p:nvPr/>
        </p:nvSpPr>
        <p:spPr>
          <a:xfrm>
            <a:off x="6394680" y="335772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 = 1,  N = 2 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Прямоугольник 83"/>
          <p:cNvSpPr/>
          <p:nvPr/>
        </p:nvSpPr>
        <p:spPr>
          <a:xfrm>
            <a:off x="8286480" y="3357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TextBox 84"/>
          <p:cNvSpPr/>
          <p:nvPr/>
        </p:nvSpPr>
        <p:spPr>
          <a:xfrm>
            <a:off x="6394680" y="378612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 =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N = 2 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Прямоугольник 85"/>
          <p:cNvSpPr/>
          <p:nvPr/>
        </p:nvSpPr>
        <p:spPr>
          <a:xfrm>
            <a:off x="8286480" y="3786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TextBox 86"/>
          <p:cNvSpPr/>
          <p:nvPr/>
        </p:nvSpPr>
        <p:spPr>
          <a:xfrm>
            <a:off x="1714680" y="2071800"/>
            <a:ext cx="721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a6054"/>
                </a:solidFill>
                <a:latin typeface="Tahoma"/>
              </a:rPr>
              <a:t>Номер группы совпадает с числом электронов на последнем энергетическом уровн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TextBox 87"/>
          <p:cNvSpPr/>
          <p:nvPr/>
        </p:nvSpPr>
        <p:spPr>
          <a:xfrm>
            <a:off x="3214440" y="3857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TextBox 88"/>
          <p:cNvSpPr/>
          <p:nvPr/>
        </p:nvSpPr>
        <p:spPr>
          <a:xfrm>
            <a:off x="6198840" y="4286160"/>
            <a:ext cx="30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щее число электроно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 =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Прямоугольник 89"/>
          <p:cNvSpPr/>
          <p:nvPr/>
        </p:nvSpPr>
        <p:spPr>
          <a:xfrm>
            <a:off x="3246480" y="428616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TextBox 90"/>
          <p:cNvSpPr/>
          <p:nvPr/>
        </p:nvSpPr>
        <p:spPr>
          <a:xfrm>
            <a:off x="6249960" y="4929120"/>
            <a:ext cx="12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вер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Правая фигурная скобка 93"/>
          <p:cNvSpPr/>
          <p:nvPr/>
        </p:nvSpPr>
        <p:spPr>
          <a:xfrm rot="5400000">
            <a:off x="4964760" y="4822200"/>
            <a:ext cx="285840" cy="1357200"/>
          </a:xfrm>
          <a:custGeom>
            <a:avLst/>
            <a:gdLst>
              <a:gd name="textAreaLeft" fmla="*/ 0 w 285840"/>
              <a:gd name="textAreaRight" fmla="*/ 103320 w 285840"/>
              <a:gd name="textAreaTop" fmla="*/ 35640 h 1357200"/>
              <a:gd name="textAreaBottom" fmla="*/ 1321560 h 13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9"/>
                  <a:pt x="10800" y="1818"/>
                </a:cubicBezTo>
                <a:lnTo>
                  <a:pt x="10800" y="9142"/>
                </a:lnTo>
                <a:cubicBezTo>
                  <a:pt x="10800" y="10051"/>
                  <a:pt x="16200" y="10960"/>
                  <a:pt x="21600" y="10960"/>
                </a:cubicBezTo>
                <a:cubicBezTo>
                  <a:pt x="16200" y="10960"/>
                  <a:pt x="10800" y="11869"/>
                  <a:pt x="10800" y="12778"/>
                </a:cubicBezTo>
                <a:lnTo>
                  <a:pt x="10800" y="19782"/>
                </a:lnTo>
                <a:cubicBezTo>
                  <a:pt x="10800" y="20691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TextBox 94"/>
          <p:cNvSpPr/>
          <p:nvPr/>
        </p:nvSpPr>
        <p:spPr>
          <a:xfrm>
            <a:off x="4917600" y="57024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7" name="Управляющая кнопка: настраиваемая 35"/>
          <p:cNvGrpSpPr/>
          <p:nvPr/>
        </p:nvGrpSpPr>
        <p:grpSpPr>
          <a:xfrm>
            <a:off x="19080" y="1243080"/>
            <a:ext cx="1011240" cy="609480"/>
            <a:chOff x="19080" y="1243080"/>
            <a:chExt cx="1011240" cy="609480"/>
          </a:xfrm>
        </p:grpSpPr>
        <p:pic>
          <p:nvPicPr>
            <p:cNvPr id="88" name="Управляющая кнопка: настраиваемая 35" descr="">
              <a:hlinkClick r:id="" action="ppaction://hlinkshowjump?jump=lastslide"/>
            </p:cNvPr>
            <p:cNvPicPr/>
            <p:nvPr/>
          </p:nvPicPr>
          <p:blipFill>
            <a:blip r:embed="rId1"/>
            <a:stretch/>
          </p:blipFill>
          <p:spPr>
            <a:xfrm>
              <a:off x="19080" y="1243080"/>
              <a:ext cx="1011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71280" y="1285920"/>
              <a:ext cx="8575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1a1a0f"/>
                  </a:solidFill>
                  <a:latin typeface="Tahoma"/>
                </a:rPr>
                <a:t>Проверка знаний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0" name="Управляющая кнопка: настраиваемая 36"/>
          <p:cNvGrpSpPr/>
          <p:nvPr/>
        </p:nvGrpSpPr>
        <p:grpSpPr>
          <a:xfrm>
            <a:off x="19080" y="828720"/>
            <a:ext cx="961920" cy="536400"/>
            <a:chOff x="19080" y="828720"/>
            <a:chExt cx="961920" cy="536400"/>
          </a:xfrm>
        </p:grpSpPr>
        <p:pic>
          <p:nvPicPr>
            <p:cNvPr id="91" name="Управляющая кнопка: настраиваемая 3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19080" y="828720"/>
              <a:ext cx="96192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71280" y="857160"/>
              <a:ext cx="8575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1a1a0f"/>
                  </a:solidFill>
                  <a:latin typeface="Tahoma"/>
                </a:rPr>
                <a:t>Повторение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3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4.86468E-006 L 0.27379 -0.0354 E">
                                      <p:cBhvr>
                                        <p:cTn id="57" dur="1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1.71177E-007 L -0.41545 0.24543 E">
                                      <p:cBhvr>
                                        <p:cTn id="94" dur="1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3.20148E-006 L -0.36805 0.18297 E">
                                      <p:cBhvr>
                                        <p:cTn id="106" dur="1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76359E-006 L 0.24166 0.17256 E">
                                      <p:cBhvr>
                                        <p:cTn id="122" dur="1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92783E-006 L 0.37118 0.04487 E">
                                      <p:cBhvr>
                                        <p:cTn id="134" dur="1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Line 3"/>
          <p:cNvSpPr/>
          <p:nvPr/>
        </p:nvSpPr>
        <p:spPr>
          <a:xfrm>
            <a:off x="100008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0" y="260280"/>
            <a:ext cx="1079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75AB6-3E44-40FA-ABCA-0B2384751A02}" type="datetime3">
              <a:rPr b="0" lang="ru-RU" sz="1600" spc="-1" strike="noStrike">
                <a:solidFill>
                  <a:srgbClr val="000000"/>
                </a:solidFill>
                <a:latin typeface="Tahoma"/>
              </a:rPr>
              <a:t>30 июля, 2026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Text Box 21"/>
          <p:cNvSpPr/>
          <p:nvPr/>
        </p:nvSpPr>
        <p:spPr>
          <a:xfrm>
            <a:off x="1051560" y="142920"/>
            <a:ext cx="77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13f26"/>
                </a:solidFill>
                <a:latin typeface="Tahoma"/>
              </a:rPr>
              <a:t>Тема: </a:t>
            </a:r>
            <a:r>
              <a:rPr b="0" lang="ru-RU" sz="2400" spc="-1" strike="noStrike">
                <a:solidFill>
                  <a:srgbClr val="413f26"/>
                </a:solidFill>
                <a:latin typeface="Tahoma"/>
              </a:rPr>
              <a:t>Строение электронных оболочек атом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Прямая соединительная линия 20"/>
          <p:cNvSpPr/>
          <p:nvPr/>
        </p:nvSpPr>
        <p:spPr>
          <a:xfrm>
            <a:off x="1000080" y="857160"/>
            <a:ext cx="814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1571760" y="1000080"/>
            <a:ext cx="735804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II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Нарисуйте схемы строения электронных оболочек атомов: кислорода, натрия, водорода, кремния, углерода, гел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1357200" y="2657520"/>
            <a:ext cx="7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4309920" y="2657520"/>
            <a:ext cx="101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N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7118280" y="2657520"/>
            <a:ext cx="101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1430280" y="4668840"/>
            <a:ext cx="101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4387680" y="4740120"/>
            <a:ext cx="101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2006640" y="3381480"/>
            <a:ext cx="42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Text Box 19"/>
          <p:cNvSpPr/>
          <p:nvPr/>
        </p:nvSpPr>
        <p:spPr>
          <a:xfrm>
            <a:off x="7623000" y="3381480"/>
            <a:ext cx="3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Text Box 27"/>
          <p:cNvSpPr/>
          <p:nvPr/>
        </p:nvSpPr>
        <p:spPr>
          <a:xfrm>
            <a:off x="7118280" y="4749840"/>
            <a:ext cx="101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 Box 29"/>
          <p:cNvSpPr/>
          <p:nvPr/>
        </p:nvSpPr>
        <p:spPr>
          <a:xfrm>
            <a:off x="7918560" y="5464080"/>
            <a:ext cx="4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Дуга 73"/>
          <p:cNvSpPr/>
          <p:nvPr/>
        </p:nvSpPr>
        <p:spPr>
          <a:xfrm>
            <a:off x="1500120" y="2214720"/>
            <a:ext cx="857160" cy="142848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Дуга 74"/>
          <p:cNvSpPr/>
          <p:nvPr/>
        </p:nvSpPr>
        <p:spPr>
          <a:xfrm>
            <a:off x="1928880" y="2214720"/>
            <a:ext cx="857160" cy="142848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Дуга 75"/>
          <p:cNvSpPr/>
          <p:nvPr/>
        </p:nvSpPr>
        <p:spPr>
          <a:xfrm>
            <a:off x="4572000" y="2214720"/>
            <a:ext cx="857160" cy="142848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Дуга 76"/>
          <p:cNvSpPr/>
          <p:nvPr/>
        </p:nvSpPr>
        <p:spPr>
          <a:xfrm>
            <a:off x="5000760" y="2214720"/>
            <a:ext cx="857160" cy="142848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Дуга 77"/>
          <p:cNvSpPr/>
          <p:nvPr/>
        </p:nvSpPr>
        <p:spPr>
          <a:xfrm>
            <a:off x="5429160" y="2214720"/>
            <a:ext cx="857520" cy="142848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Дуга 91"/>
          <p:cNvSpPr/>
          <p:nvPr/>
        </p:nvSpPr>
        <p:spPr>
          <a:xfrm>
            <a:off x="7143840" y="2214720"/>
            <a:ext cx="857160" cy="142848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Дуга 92"/>
          <p:cNvSpPr/>
          <p:nvPr/>
        </p:nvSpPr>
        <p:spPr>
          <a:xfrm>
            <a:off x="1500120" y="4214880"/>
            <a:ext cx="85716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Дуга 95"/>
          <p:cNvSpPr/>
          <p:nvPr/>
        </p:nvSpPr>
        <p:spPr>
          <a:xfrm>
            <a:off x="1928880" y="4214880"/>
            <a:ext cx="85716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Дуга 96"/>
          <p:cNvSpPr/>
          <p:nvPr/>
        </p:nvSpPr>
        <p:spPr>
          <a:xfrm>
            <a:off x="2357280" y="4214880"/>
            <a:ext cx="85752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Дуга 97"/>
          <p:cNvSpPr/>
          <p:nvPr/>
        </p:nvSpPr>
        <p:spPr>
          <a:xfrm>
            <a:off x="4506840" y="4214880"/>
            <a:ext cx="85716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Дуга 98"/>
          <p:cNvSpPr/>
          <p:nvPr/>
        </p:nvSpPr>
        <p:spPr>
          <a:xfrm>
            <a:off x="4935600" y="4214880"/>
            <a:ext cx="85716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Дуга 99"/>
          <p:cNvSpPr/>
          <p:nvPr/>
        </p:nvSpPr>
        <p:spPr>
          <a:xfrm>
            <a:off x="7358040" y="4249800"/>
            <a:ext cx="85716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2428920" y="3392640"/>
            <a:ext cx="42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6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5143680" y="3500280"/>
            <a:ext cx="42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5565600" y="3500280"/>
            <a:ext cx="42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8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19"/>
          <p:cNvSpPr/>
          <p:nvPr/>
        </p:nvSpPr>
        <p:spPr>
          <a:xfrm>
            <a:off x="5929200" y="3500280"/>
            <a:ext cx="3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13"/>
          <p:cNvSpPr/>
          <p:nvPr/>
        </p:nvSpPr>
        <p:spPr>
          <a:xfrm>
            <a:off x="2077920" y="5500800"/>
            <a:ext cx="42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2500200" y="5500800"/>
            <a:ext cx="42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8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2863800" y="5500800"/>
            <a:ext cx="3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5013360" y="5489640"/>
            <a:ext cx="42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5435640" y="5500800"/>
            <a:ext cx="42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1143000" y="307188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+8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1714680" y="2643120"/>
            <a:ext cx="28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4857840" y="2590920"/>
            <a:ext cx="2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7429680" y="2590920"/>
            <a:ext cx="28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1785960" y="4572000"/>
            <a:ext cx="2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4721400" y="4662360"/>
            <a:ext cx="28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7643880" y="4626000"/>
            <a:ext cx="2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 Box 13"/>
          <p:cNvSpPr/>
          <p:nvPr/>
        </p:nvSpPr>
        <p:spPr>
          <a:xfrm>
            <a:off x="3929040" y="307188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+11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13"/>
          <p:cNvSpPr/>
          <p:nvPr/>
        </p:nvSpPr>
        <p:spPr>
          <a:xfrm>
            <a:off x="6858000" y="307188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+1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1000080" y="514368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4149720" y="514368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+6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6858000" y="524988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+2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1143000" y="264312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16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4071960" y="264312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23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7000920" y="264312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1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1214280" y="466236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28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4214880" y="471492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12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Text Box 13"/>
          <p:cNvSpPr/>
          <p:nvPr/>
        </p:nvSpPr>
        <p:spPr>
          <a:xfrm>
            <a:off x="7000920" y="473400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4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Line 3"/>
          <p:cNvSpPr/>
          <p:nvPr/>
        </p:nvSpPr>
        <p:spPr>
          <a:xfrm>
            <a:off x="100008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0" y="260280"/>
            <a:ext cx="1079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6A574-D9DF-451D-AA89-4F6A1FEFAC16}" type="datetime3">
              <a:rPr b="0" lang="ru-RU" sz="1600" spc="-1" strike="noStrike">
                <a:solidFill>
                  <a:srgbClr val="000000"/>
                </a:solidFill>
                <a:latin typeface="Tahoma"/>
              </a:rPr>
              <a:t>30 июля, 2026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476360" y="1125360"/>
            <a:ext cx="74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II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Строение электронной оболочк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Text Box 21"/>
          <p:cNvSpPr/>
          <p:nvPr/>
        </p:nvSpPr>
        <p:spPr>
          <a:xfrm>
            <a:off x="1051560" y="142920"/>
            <a:ext cx="77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13f26"/>
                </a:solidFill>
                <a:latin typeface="Tahoma"/>
              </a:rPr>
              <a:t>Тема: </a:t>
            </a:r>
            <a:r>
              <a:rPr b="0" lang="ru-RU" sz="2400" spc="-1" strike="noStrike">
                <a:solidFill>
                  <a:srgbClr val="413f26"/>
                </a:solidFill>
                <a:latin typeface="Tahoma"/>
              </a:rPr>
              <a:t>Строение электронных оболочек атом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Прямая соединительная линия 20"/>
          <p:cNvSpPr/>
          <p:nvPr/>
        </p:nvSpPr>
        <p:spPr>
          <a:xfrm>
            <a:off x="1000080" y="857160"/>
            <a:ext cx="814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" name="Управляющая кнопка: настраиваемая 35"/>
          <p:cNvGrpSpPr/>
          <p:nvPr/>
        </p:nvGrpSpPr>
        <p:grpSpPr>
          <a:xfrm>
            <a:off x="19080" y="1243080"/>
            <a:ext cx="1011240" cy="609480"/>
            <a:chOff x="19080" y="1243080"/>
            <a:chExt cx="1011240" cy="609480"/>
          </a:xfrm>
        </p:grpSpPr>
        <p:pic>
          <p:nvPicPr>
            <p:cNvPr id="156" name="Управляющая кнопка: настраиваемая 35" descr="">
              <a:hlinkClick r:id="" action="ppaction://hlinkshowjump?jump=lastslide"/>
            </p:cNvPr>
            <p:cNvPicPr/>
            <p:nvPr/>
          </p:nvPicPr>
          <p:blipFill>
            <a:blip r:embed="rId1"/>
            <a:stretch/>
          </p:blipFill>
          <p:spPr>
            <a:xfrm>
              <a:off x="19080" y="1243080"/>
              <a:ext cx="1011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71280" y="1285920"/>
              <a:ext cx="8575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1a1a0f"/>
                  </a:solidFill>
                  <a:latin typeface="Tahoma"/>
                </a:rPr>
                <a:t>Проверка знаний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8" name="Управляющая кнопка: настраиваемая 36"/>
          <p:cNvGrpSpPr/>
          <p:nvPr/>
        </p:nvGrpSpPr>
        <p:grpSpPr>
          <a:xfrm>
            <a:off x="19080" y="828720"/>
            <a:ext cx="961920" cy="536400"/>
            <a:chOff x="19080" y="828720"/>
            <a:chExt cx="961920" cy="536400"/>
          </a:xfrm>
        </p:grpSpPr>
        <p:pic>
          <p:nvPicPr>
            <p:cNvPr id="159" name="Управляющая кнопка: настраиваемая 36" descr=""/>
            <p:cNvPicPr/>
            <p:nvPr/>
          </p:nvPicPr>
          <p:blipFill>
            <a:blip r:embed="rId2"/>
            <a:stretch/>
          </p:blipFill>
          <p:spPr>
            <a:xfrm>
              <a:off x="19080" y="828720"/>
              <a:ext cx="96192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71280" y="857160"/>
              <a:ext cx="8575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1a1a0f"/>
                  </a:solidFill>
                  <a:latin typeface="Tahoma"/>
                </a:rPr>
                <a:t>Повторение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1" name="TextBox 37"/>
          <p:cNvSpPr/>
          <p:nvPr/>
        </p:nvSpPr>
        <p:spPr>
          <a:xfrm>
            <a:off x="1586880" y="1785960"/>
            <a:ext cx="756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- Энергетический уровень состоит из орбитале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2" name="Группа 43"/>
          <p:cNvGrpSpPr/>
          <p:nvPr/>
        </p:nvGrpSpPr>
        <p:grpSpPr>
          <a:xfrm>
            <a:off x="1373400" y="3071880"/>
            <a:ext cx="1224000" cy="1191240"/>
            <a:chOff x="1373400" y="3071880"/>
            <a:chExt cx="1224000" cy="1191240"/>
          </a:xfrm>
        </p:grpSpPr>
        <p:sp>
          <p:nvSpPr>
            <p:cNvPr id="163" name="TextBox 38"/>
            <p:cNvSpPr/>
            <p:nvPr/>
          </p:nvSpPr>
          <p:spPr>
            <a:xfrm>
              <a:off x="1765800" y="3071880"/>
              <a:ext cx="734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200" spc="-1" strike="noStrike">
                  <a:solidFill>
                    <a:srgbClr val="000000"/>
                  </a:solidFill>
                  <a:latin typeface="Tahoma"/>
                </a:rPr>
                <a:t>Р</a:t>
              </a:r>
              <a:endParaRPr b="0" lang="en-US" sz="7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" name="TextBox 39"/>
            <p:cNvSpPr/>
            <p:nvPr/>
          </p:nvSpPr>
          <p:spPr>
            <a:xfrm>
              <a:off x="1373400" y="385776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+15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" name="TextBox 40"/>
            <p:cNvSpPr/>
            <p:nvPr/>
          </p:nvSpPr>
          <p:spPr>
            <a:xfrm>
              <a:off x="1497240" y="313092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" name="TextBox 41"/>
            <p:cNvSpPr/>
            <p:nvPr/>
          </p:nvSpPr>
          <p:spPr>
            <a:xfrm>
              <a:off x="2285640" y="30718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7" name="Дуга 44"/>
          <p:cNvSpPr/>
          <p:nvPr/>
        </p:nvSpPr>
        <p:spPr>
          <a:xfrm>
            <a:off x="2000160" y="3071880"/>
            <a:ext cx="85752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Дуга 45"/>
          <p:cNvSpPr/>
          <p:nvPr/>
        </p:nvSpPr>
        <p:spPr>
          <a:xfrm>
            <a:off x="2286000" y="3071880"/>
            <a:ext cx="85716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Дуга 46"/>
          <p:cNvSpPr/>
          <p:nvPr/>
        </p:nvSpPr>
        <p:spPr>
          <a:xfrm>
            <a:off x="2571840" y="3071880"/>
            <a:ext cx="85716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Box 47"/>
          <p:cNvSpPr/>
          <p:nvPr/>
        </p:nvSpPr>
        <p:spPr>
          <a:xfrm>
            <a:off x="2500200" y="4286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Box 50"/>
          <p:cNvSpPr/>
          <p:nvPr/>
        </p:nvSpPr>
        <p:spPr>
          <a:xfrm>
            <a:off x="2785680" y="4286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TextBox 52"/>
          <p:cNvSpPr/>
          <p:nvPr/>
        </p:nvSpPr>
        <p:spPr>
          <a:xfrm>
            <a:off x="3071520" y="4286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" name="Группа 55"/>
          <p:cNvGrpSpPr/>
          <p:nvPr/>
        </p:nvGrpSpPr>
        <p:grpSpPr>
          <a:xfrm>
            <a:off x="2000160" y="3071880"/>
            <a:ext cx="857520" cy="1583280"/>
            <a:chOff x="2000160" y="3071880"/>
            <a:chExt cx="857520" cy="1583280"/>
          </a:xfrm>
        </p:grpSpPr>
        <p:sp>
          <p:nvSpPr>
            <p:cNvPr id="174" name="Дуга 53"/>
            <p:cNvSpPr/>
            <p:nvPr/>
          </p:nvSpPr>
          <p:spPr>
            <a:xfrm>
              <a:off x="2000160" y="3071880"/>
              <a:ext cx="857520" cy="1428840"/>
            </a:xfrm>
            <a:custGeom>
              <a:avLst/>
              <a:gdLst/>
              <a:ahLst/>
              <a:rect l="l" t="t" r="r" b="b"/>
              <a:pathLst>
                <a:path stroke="0" w="857256" h="1428257">
                  <a:moveTo>
                    <a:pt x="696557" y="156711"/>
                  </a:moveTo>
                  <a:cubicBezTo>
                    <a:pt x="795070" y="288150"/>
                    <a:pt x="853807" y="485244"/>
                    <a:pt x="857109" y="695446"/>
                  </a:cubicBezTo>
                  <a:cubicBezTo>
                    <a:pt x="860208" y="892775"/>
                    <a:pt x="814145" y="1083440"/>
                    <a:pt x="729858" y="1222166"/>
                  </a:cubicBezTo>
                  <a:lnTo>
                    <a:pt x="428628" y="714129"/>
                  </a:lnTo>
                  <a:lnTo>
                    <a:pt x="696557" y="156711"/>
                  </a:lnTo>
                  <a:close/>
                </a:path>
                <a:path fill="none" w="857256" h="1428257">
                  <a:moveTo>
                    <a:pt x="696557" y="156711"/>
                  </a:moveTo>
                  <a:cubicBezTo>
                    <a:pt x="795070" y="288150"/>
                    <a:pt x="853807" y="485244"/>
                    <a:pt x="857109" y="695446"/>
                  </a:cubicBezTo>
                  <a:cubicBezTo>
                    <a:pt x="860208" y="892775"/>
                    <a:pt x="814145" y="1083440"/>
                    <a:pt x="729858" y="122216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5" name="TextBox 54"/>
            <p:cNvSpPr/>
            <p:nvPr/>
          </p:nvSpPr>
          <p:spPr>
            <a:xfrm>
              <a:off x="2500560" y="42868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6" name="TextBox 56"/>
          <p:cNvSpPr/>
          <p:nvPr/>
        </p:nvSpPr>
        <p:spPr>
          <a:xfrm>
            <a:off x="4502160" y="2786040"/>
            <a:ext cx="20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ервый уровен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Box 57"/>
          <p:cNvSpPr/>
          <p:nvPr/>
        </p:nvSpPr>
        <p:spPr>
          <a:xfrm>
            <a:off x="4547520" y="3143160"/>
            <a:ext cx="15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 –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рбитал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8" name="Группа 65"/>
          <p:cNvGrpSpPr/>
          <p:nvPr/>
        </p:nvGrpSpPr>
        <p:grpSpPr>
          <a:xfrm>
            <a:off x="2286000" y="3071880"/>
            <a:ext cx="857160" cy="1583280"/>
            <a:chOff x="2286000" y="3071880"/>
            <a:chExt cx="857160" cy="1583280"/>
          </a:xfrm>
        </p:grpSpPr>
        <p:sp>
          <p:nvSpPr>
            <p:cNvPr id="179" name="Дуга 58"/>
            <p:cNvSpPr/>
            <p:nvPr/>
          </p:nvSpPr>
          <p:spPr>
            <a:xfrm>
              <a:off x="2286000" y="3071880"/>
              <a:ext cx="857160" cy="1428840"/>
            </a:xfrm>
            <a:custGeom>
              <a:avLst/>
              <a:gdLst/>
              <a:ahLst/>
              <a:rect l="l" t="t" r="r" b="b"/>
              <a:pathLst>
                <a:path stroke="0" w="857256" h="1428257">
                  <a:moveTo>
                    <a:pt x="696557" y="156711"/>
                  </a:moveTo>
                  <a:cubicBezTo>
                    <a:pt x="795070" y="288150"/>
                    <a:pt x="853807" y="485244"/>
                    <a:pt x="857109" y="695446"/>
                  </a:cubicBezTo>
                  <a:cubicBezTo>
                    <a:pt x="860208" y="892775"/>
                    <a:pt x="814145" y="1083440"/>
                    <a:pt x="729858" y="1222166"/>
                  </a:cubicBezTo>
                  <a:lnTo>
                    <a:pt x="428628" y="714129"/>
                  </a:lnTo>
                  <a:lnTo>
                    <a:pt x="696557" y="156711"/>
                  </a:lnTo>
                  <a:close/>
                </a:path>
                <a:path fill="none" w="857256" h="1428257">
                  <a:moveTo>
                    <a:pt x="696557" y="156711"/>
                  </a:moveTo>
                  <a:cubicBezTo>
                    <a:pt x="795070" y="288150"/>
                    <a:pt x="853807" y="485244"/>
                    <a:pt x="857109" y="695446"/>
                  </a:cubicBezTo>
                  <a:cubicBezTo>
                    <a:pt x="860208" y="892775"/>
                    <a:pt x="814145" y="1083440"/>
                    <a:pt x="729858" y="122216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" name="TextBox 64"/>
            <p:cNvSpPr/>
            <p:nvPr/>
          </p:nvSpPr>
          <p:spPr>
            <a:xfrm>
              <a:off x="2785680" y="42868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1" name="TextBox 66"/>
          <p:cNvSpPr/>
          <p:nvPr/>
        </p:nvSpPr>
        <p:spPr>
          <a:xfrm>
            <a:off x="4505400" y="391644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торой уровен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TextBox 71"/>
          <p:cNvSpPr/>
          <p:nvPr/>
        </p:nvSpPr>
        <p:spPr>
          <a:xfrm>
            <a:off x="4547520" y="4273560"/>
            <a:ext cx="15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 –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рбитал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TextBox 73"/>
          <p:cNvSpPr/>
          <p:nvPr/>
        </p:nvSpPr>
        <p:spPr>
          <a:xfrm>
            <a:off x="4545000" y="4630680"/>
            <a:ext cx="16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 –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рбитал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" name="Группа 76"/>
          <p:cNvGrpSpPr/>
          <p:nvPr/>
        </p:nvGrpSpPr>
        <p:grpSpPr>
          <a:xfrm>
            <a:off x="2571840" y="3071880"/>
            <a:ext cx="857160" cy="1583280"/>
            <a:chOff x="2571840" y="3071880"/>
            <a:chExt cx="857160" cy="1583280"/>
          </a:xfrm>
        </p:grpSpPr>
        <p:sp>
          <p:nvSpPr>
            <p:cNvPr id="185" name="Дуга 74"/>
            <p:cNvSpPr/>
            <p:nvPr/>
          </p:nvSpPr>
          <p:spPr>
            <a:xfrm>
              <a:off x="2571840" y="3071880"/>
              <a:ext cx="857160" cy="1428840"/>
            </a:xfrm>
            <a:custGeom>
              <a:avLst/>
              <a:gdLst/>
              <a:ahLst/>
              <a:rect l="l" t="t" r="r" b="b"/>
              <a:pathLst>
                <a:path stroke="0" w="857256" h="1428257">
                  <a:moveTo>
                    <a:pt x="696557" y="156711"/>
                  </a:moveTo>
                  <a:cubicBezTo>
                    <a:pt x="795070" y="288150"/>
                    <a:pt x="853807" y="485244"/>
                    <a:pt x="857109" y="695446"/>
                  </a:cubicBezTo>
                  <a:cubicBezTo>
                    <a:pt x="860208" y="892775"/>
                    <a:pt x="814145" y="1083440"/>
                    <a:pt x="729858" y="1222166"/>
                  </a:cubicBezTo>
                  <a:lnTo>
                    <a:pt x="428628" y="714129"/>
                  </a:lnTo>
                  <a:lnTo>
                    <a:pt x="696557" y="156711"/>
                  </a:lnTo>
                  <a:close/>
                </a:path>
                <a:path fill="none" w="857256" h="1428257">
                  <a:moveTo>
                    <a:pt x="696557" y="156711"/>
                  </a:moveTo>
                  <a:cubicBezTo>
                    <a:pt x="795070" y="288150"/>
                    <a:pt x="853807" y="485244"/>
                    <a:pt x="857109" y="695446"/>
                  </a:cubicBezTo>
                  <a:cubicBezTo>
                    <a:pt x="860208" y="892775"/>
                    <a:pt x="814145" y="1083440"/>
                    <a:pt x="729858" y="122216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" name="TextBox 75"/>
            <p:cNvSpPr/>
            <p:nvPr/>
          </p:nvSpPr>
          <p:spPr>
            <a:xfrm>
              <a:off x="3071520" y="42868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7" name="TextBox 77"/>
          <p:cNvSpPr/>
          <p:nvPr/>
        </p:nvSpPr>
        <p:spPr>
          <a:xfrm>
            <a:off x="4517640" y="5273640"/>
            <a:ext cx="197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ретий уровен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TextBox 91"/>
          <p:cNvSpPr/>
          <p:nvPr/>
        </p:nvSpPr>
        <p:spPr>
          <a:xfrm>
            <a:off x="4547520" y="5630760"/>
            <a:ext cx="15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 –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рбитал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TextBox 92"/>
          <p:cNvSpPr/>
          <p:nvPr/>
        </p:nvSpPr>
        <p:spPr>
          <a:xfrm>
            <a:off x="4545000" y="5987880"/>
            <a:ext cx="16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 –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рбитал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TextBox 95"/>
          <p:cNvSpPr/>
          <p:nvPr/>
        </p:nvSpPr>
        <p:spPr>
          <a:xfrm>
            <a:off x="4545000" y="6345360"/>
            <a:ext cx="16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 –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рбитал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Прямая соединительная линия 97"/>
          <p:cNvSpPr/>
          <p:nvPr/>
        </p:nvSpPr>
        <p:spPr>
          <a:xfrm>
            <a:off x="4786200" y="3784680"/>
            <a:ext cx="4357800" cy="1440"/>
          </a:xfrm>
          <a:prstGeom prst="line">
            <a:avLst/>
          </a:prstGeom>
          <a:ln w="9360">
            <a:solidFill>
              <a:srgbClr val="a7a2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Прямая соединительная линия 98"/>
          <p:cNvSpPr/>
          <p:nvPr/>
        </p:nvSpPr>
        <p:spPr>
          <a:xfrm>
            <a:off x="4786200" y="5141880"/>
            <a:ext cx="4357800" cy="1800"/>
          </a:xfrm>
          <a:prstGeom prst="line">
            <a:avLst/>
          </a:prstGeom>
          <a:ln w="9360">
            <a:solidFill>
              <a:srgbClr val="a7a2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TextBox 99"/>
          <p:cNvSpPr/>
          <p:nvPr/>
        </p:nvSpPr>
        <p:spPr>
          <a:xfrm>
            <a:off x="1655280" y="1785960"/>
            <a:ext cx="619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- Орбиталь состоит из квантовых ячеек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Прямоугольник 100"/>
          <p:cNvSpPr/>
          <p:nvPr/>
        </p:nvSpPr>
        <p:spPr>
          <a:xfrm>
            <a:off x="6572160" y="3143160"/>
            <a:ext cx="28584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Прямоугольник 101"/>
          <p:cNvSpPr/>
          <p:nvPr/>
        </p:nvSpPr>
        <p:spPr>
          <a:xfrm>
            <a:off x="6572160" y="3143160"/>
            <a:ext cx="28584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TextBox 102"/>
          <p:cNvSpPr/>
          <p:nvPr/>
        </p:nvSpPr>
        <p:spPr>
          <a:xfrm>
            <a:off x="1712520" y="5072040"/>
            <a:ext cx="150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вантовая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ячей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Прямоугольник 103"/>
          <p:cNvSpPr/>
          <p:nvPr/>
        </p:nvSpPr>
        <p:spPr>
          <a:xfrm>
            <a:off x="6357960" y="4286160"/>
            <a:ext cx="28584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Прямоугольник 104"/>
          <p:cNvSpPr/>
          <p:nvPr/>
        </p:nvSpPr>
        <p:spPr>
          <a:xfrm>
            <a:off x="6357960" y="4643280"/>
            <a:ext cx="28584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Прямоугольник 105"/>
          <p:cNvSpPr/>
          <p:nvPr/>
        </p:nvSpPr>
        <p:spPr>
          <a:xfrm>
            <a:off x="6643800" y="4643280"/>
            <a:ext cx="28548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Прямоугольник 106"/>
          <p:cNvSpPr/>
          <p:nvPr/>
        </p:nvSpPr>
        <p:spPr>
          <a:xfrm>
            <a:off x="6929280" y="4643280"/>
            <a:ext cx="28584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Прямоугольник 107"/>
          <p:cNvSpPr/>
          <p:nvPr/>
        </p:nvSpPr>
        <p:spPr>
          <a:xfrm>
            <a:off x="6357960" y="5715000"/>
            <a:ext cx="28584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Прямоугольник 108"/>
          <p:cNvSpPr/>
          <p:nvPr/>
        </p:nvSpPr>
        <p:spPr>
          <a:xfrm>
            <a:off x="6357960" y="6072120"/>
            <a:ext cx="28584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Прямоугольник 109"/>
          <p:cNvSpPr/>
          <p:nvPr/>
        </p:nvSpPr>
        <p:spPr>
          <a:xfrm>
            <a:off x="6643800" y="6072120"/>
            <a:ext cx="28548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Прямоугольник 110"/>
          <p:cNvSpPr/>
          <p:nvPr/>
        </p:nvSpPr>
        <p:spPr>
          <a:xfrm>
            <a:off x="6929280" y="6072120"/>
            <a:ext cx="28584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Прямоугольник 111"/>
          <p:cNvSpPr/>
          <p:nvPr/>
        </p:nvSpPr>
        <p:spPr>
          <a:xfrm>
            <a:off x="6357960" y="6429240"/>
            <a:ext cx="28584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Прямоугольник 112"/>
          <p:cNvSpPr/>
          <p:nvPr/>
        </p:nvSpPr>
        <p:spPr>
          <a:xfrm>
            <a:off x="6643800" y="6429240"/>
            <a:ext cx="28548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Прямоугольник 113"/>
          <p:cNvSpPr/>
          <p:nvPr/>
        </p:nvSpPr>
        <p:spPr>
          <a:xfrm>
            <a:off x="6929280" y="6429240"/>
            <a:ext cx="28584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Прямоугольник 114"/>
          <p:cNvSpPr/>
          <p:nvPr/>
        </p:nvSpPr>
        <p:spPr>
          <a:xfrm>
            <a:off x="7215120" y="6429240"/>
            <a:ext cx="28584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Прямоугольник 115"/>
          <p:cNvSpPr/>
          <p:nvPr/>
        </p:nvSpPr>
        <p:spPr>
          <a:xfrm>
            <a:off x="7500960" y="6429240"/>
            <a:ext cx="28584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Місце для дати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Місце для нижнього колонтитула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28776E-006 L 0.17309 -0.10479 E">
                                      <p:cBhvr>
                                        <p:cTn id="371" dur="1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4.92945E-006 L 0.14011 0.11497 E">
                                      <p:cBhvr>
                                        <p:cTn id="385" dur="1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41 -4.92945E-006 L 0.10886 0.32478 E">
                                      <p:cBhvr>
                                        <p:cTn id="402" dur="1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4.14296E-006 L -0.56511 0.29355 E">
                                      <p:cBhvr>
                                        <p:cTn id="440" dur="1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Line 3"/>
          <p:cNvSpPr/>
          <p:nvPr/>
        </p:nvSpPr>
        <p:spPr>
          <a:xfrm>
            <a:off x="100008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0" y="260280"/>
            <a:ext cx="1079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D71C8-BCCD-4955-90F0-E9D6B62504D9}" type="datetime3">
              <a:rPr b="0" lang="ru-RU" sz="1600" spc="-1" strike="noStrike">
                <a:solidFill>
                  <a:srgbClr val="000000"/>
                </a:solidFill>
                <a:latin typeface="Tahoma"/>
              </a:rPr>
              <a:t>30 июля, 2026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1476360" y="1125360"/>
            <a:ext cx="74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V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Строение электронной оболочк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Text Box 21"/>
          <p:cNvSpPr/>
          <p:nvPr/>
        </p:nvSpPr>
        <p:spPr>
          <a:xfrm>
            <a:off x="1051560" y="142920"/>
            <a:ext cx="77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13f26"/>
                </a:solidFill>
                <a:latin typeface="Tahoma"/>
              </a:rPr>
              <a:t>Тема: </a:t>
            </a:r>
            <a:r>
              <a:rPr b="0" lang="ru-RU" sz="2400" spc="-1" strike="noStrike">
                <a:solidFill>
                  <a:srgbClr val="413f26"/>
                </a:solidFill>
                <a:latin typeface="Tahoma"/>
              </a:rPr>
              <a:t>Строение электронных оболочек атом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Прямая соединительная линия 20"/>
          <p:cNvSpPr/>
          <p:nvPr/>
        </p:nvSpPr>
        <p:spPr>
          <a:xfrm>
            <a:off x="1000080" y="857160"/>
            <a:ext cx="814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" name="Группа 43"/>
          <p:cNvGrpSpPr/>
          <p:nvPr/>
        </p:nvGrpSpPr>
        <p:grpSpPr>
          <a:xfrm>
            <a:off x="1373400" y="3071880"/>
            <a:ext cx="1224000" cy="1191240"/>
            <a:chOff x="1373400" y="3071880"/>
            <a:chExt cx="1224000" cy="1191240"/>
          </a:xfrm>
        </p:grpSpPr>
        <p:sp>
          <p:nvSpPr>
            <p:cNvPr id="218" name="TextBox 38"/>
            <p:cNvSpPr/>
            <p:nvPr/>
          </p:nvSpPr>
          <p:spPr>
            <a:xfrm>
              <a:off x="1765800" y="3071880"/>
              <a:ext cx="734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200" spc="-1" strike="noStrike">
                  <a:solidFill>
                    <a:srgbClr val="000000"/>
                  </a:solidFill>
                  <a:latin typeface="Tahoma"/>
                </a:rPr>
                <a:t>Р</a:t>
              </a:r>
              <a:endParaRPr b="0" lang="en-US" sz="7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" name="TextBox 39"/>
            <p:cNvSpPr/>
            <p:nvPr/>
          </p:nvSpPr>
          <p:spPr>
            <a:xfrm>
              <a:off x="1373400" y="385776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+15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" name="TextBox 40"/>
            <p:cNvSpPr/>
            <p:nvPr/>
          </p:nvSpPr>
          <p:spPr>
            <a:xfrm>
              <a:off x="1497240" y="313092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" name="TextBox 41"/>
            <p:cNvSpPr/>
            <p:nvPr/>
          </p:nvSpPr>
          <p:spPr>
            <a:xfrm>
              <a:off x="2285640" y="30718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2" name="Дуга 44"/>
          <p:cNvSpPr/>
          <p:nvPr/>
        </p:nvSpPr>
        <p:spPr>
          <a:xfrm>
            <a:off x="2000160" y="3071880"/>
            <a:ext cx="85752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Дуга 45"/>
          <p:cNvSpPr/>
          <p:nvPr/>
        </p:nvSpPr>
        <p:spPr>
          <a:xfrm>
            <a:off x="2286000" y="3071880"/>
            <a:ext cx="85716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Дуга 46"/>
          <p:cNvSpPr/>
          <p:nvPr/>
        </p:nvSpPr>
        <p:spPr>
          <a:xfrm>
            <a:off x="2571840" y="3071880"/>
            <a:ext cx="85716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TextBox 47"/>
          <p:cNvSpPr/>
          <p:nvPr/>
        </p:nvSpPr>
        <p:spPr>
          <a:xfrm>
            <a:off x="2500200" y="4286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TextBox 50"/>
          <p:cNvSpPr/>
          <p:nvPr/>
        </p:nvSpPr>
        <p:spPr>
          <a:xfrm>
            <a:off x="2785680" y="4286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TextBox 52"/>
          <p:cNvSpPr/>
          <p:nvPr/>
        </p:nvSpPr>
        <p:spPr>
          <a:xfrm>
            <a:off x="3071520" y="4286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TextBox 59"/>
          <p:cNvSpPr/>
          <p:nvPr/>
        </p:nvSpPr>
        <p:spPr>
          <a:xfrm>
            <a:off x="1655280" y="1785960"/>
            <a:ext cx="619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- Орбиталь состоит из квантовых ячеек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Прямоугольник 60"/>
          <p:cNvSpPr/>
          <p:nvPr/>
        </p:nvSpPr>
        <p:spPr>
          <a:xfrm>
            <a:off x="1714680" y="600084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Прямоугольник 61"/>
          <p:cNvSpPr/>
          <p:nvPr/>
        </p:nvSpPr>
        <p:spPr>
          <a:xfrm>
            <a:off x="2357280" y="5429160"/>
            <a:ext cx="50040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Прямоугольник 62"/>
          <p:cNvSpPr/>
          <p:nvPr/>
        </p:nvSpPr>
        <p:spPr>
          <a:xfrm>
            <a:off x="2857680" y="492912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Прямоугольник 63"/>
          <p:cNvSpPr/>
          <p:nvPr/>
        </p:nvSpPr>
        <p:spPr>
          <a:xfrm>
            <a:off x="3357720" y="492912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Прямоугольник 65"/>
          <p:cNvSpPr/>
          <p:nvPr/>
        </p:nvSpPr>
        <p:spPr>
          <a:xfrm>
            <a:off x="3857760" y="492912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Прямоугольник 67"/>
          <p:cNvSpPr/>
          <p:nvPr/>
        </p:nvSpPr>
        <p:spPr>
          <a:xfrm>
            <a:off x="4500720" y="435780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Прямоугольник 68"/>
          <p:cNvSpPr/>
          <p:nvPr/>
        </p:nvSpPr>
        <p:spPr>
          <a:xfrm>
            <a:off x="5000760" y="385776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Прямоугольник 69"/>
          <p:cNvSpPr/>
          <p:nvPr/>
        </p:nvSpPr>
        <p:spPr>
          <a:xfrm>
            <a:off x="5500800" y="385776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Прямоугольник 70"/>
          <p:cNvSpPr/>
          <p:nvPr/>
        </p:nvSpPr>
        <p:spPr>
          <a:xfrm>
            <a:off x="6000840" y="385776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Прямоугольник 72"/>
          <p:cNvSpPr/>
          <p:nvPr/>
        </p:nvSpPr>
        <p:spPr>
          <a:xfrm>
            <a:off x="6500880" y="335772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Прямоугольник 76"/>
          <p:cNvSpPr/>
          <p:nvPr/>
        </p:nvSpPr>
        <p:spPr>
          <a:xfrm>
            <a:off x="7000920" y="335772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Прямоугольник 78"/>
          <p:cNvSpPr/>
          <p:nvPr/>
        </p:nvSpPr>
        <p:spPr>
          <a:xfrm>
            <a:off x="7500960" y="335772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Прямоугольник 79"/>
          <p:cNvSpPr/>
          <p:nvPr/>
        </p:nvSpPr>
        <p:spPr>
          <a:xfrm>
            <a:off x="8001000" y="335772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Прямоугольник 80"/>
          <p:cNvSpPr/>
          <p:nvPr/>
        </p:nvSpPr>
        <p:spPr>
          <a:xfrm>
            <a:off x="8501040" y="335772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43" name="Прямая со стрелкой 89"/>
          <p:cNvCxnSpPr/>
          <p:nvPr/>
        </p:nvCxnSpPr>
        <p:spPr>
          <a:xfrm flipV="1">
            <a:off x="1855800" y="607356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244" name="Прямая со стрелкой 93"/>
          <p:cNvCxnSpPr/>
          <p:nvPr/>
        </p:nvCxnSpPr>
        <p:spPr>
          <a:xfrm flipH="1">
            <a:off x="2069280" y="6073920"/>
            <a:ext cx="252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245" name="TextBox 94"/>
          <p:cNvSpPr/>
          <p:nvPr/>
        </p:nvSpPr>
        <p:spPr>
          <a:xfrm>
            <a:off x="1785960" y="1785960"/>
            <a:ext cx="70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- На одной квантовой ячейке могут находиться два электрона с разными спина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TextBox 96"/>
          <p:cNvSpPr/>
          <p:nvPr/>
        </p:nvSpPr>
        <p:spPr>
          <a:xfrm>
            <a:off x="1714320" y="5643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TextBox 116"/>
          <p:cNvSpPr/>
          <p:nvPr/>
        </p:nvSpPr>
        <p:spPr>
          <a:xfrm>
            <a:off x="1717200" y="5643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48" name="Прямая со стрелкой 118"/>
          <p:cNvCxnSpPr/>
          <p:nvPr/>
        </p:nvCxnSpPr>
        <p:spPr>
          <a:xfrm flipV="1">
            <a:off x="2498760" y="550044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249" name="Прямая со стрелкой 119"/>
          <p:cNvCxnSpPr/>
          <p:nvPr/>
        </p:nvCxnSpPr>
        <p:spPr>
          <a:xfrm flipH="1">
            <a:off x="2714400" y="5500800"/>
            <a:ext cx="216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250" name="TextBox 120"/>
          <p:cNvSpPr/>
          <p:nvPr/>
        </p:nvSpPr>
        <p:spPr>
          <a:xfrm>
            <a:off x="2354040" y="50007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TextBox 121"/>
          <p:cNvSpPr/>
          <p:nvPr/>
        </p:nvSpPr>
        <p:spPr>
          <a:xfrm>
            <a:off x="2356920" y="50007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Прямая соединительная линия 123"/>
          <p:cNvSpPr/>
          <p:nvPr/>
        </p:nvSpPr>
        <p:spPr>
          <a:xfrm>
            <a:off x="4714920" y="6215040"/>
            <a:ext cx="6429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53" name="Прямая со стрелкой 124"/>
          <p:cNvCxnSpPr/>
          <p:nvPr/>
        </p:nvCxnSpPr>
        <p:spPr>
          <a:xfrm flipV="1">
            <a:off x="2999160" y="5000400"/>
            <a:ext cx="252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254" name="Прямая со стрелкой 125"/>
          <p:cNvCxnSpPr/>
          <p:nvPr/>
        </p:nvCxnSpPr>
        <p:spPr>
          <a:xfrm flipV="1">
            <a:off x="3499200" y="5000400"/>
            <a:ext cx="252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255" name="Прямая со стрелкой 126"/>
          <p:cNvCxnSpPr/>
          <p:nvPr/>
        </p:nvCxnSpPr>
        <p:spPr>
          <a:xfrm flipV="1">
            <a:off x="4000680" y="500040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256" name="Прямая со стрелкой 127"/>
          <p:cNvCxnSpPr/>
          <p:nvPr/>
        </p:nvCxnSpPr>
        <p:spPr>
          <a:xfrm flipH="1">
            <a:off x="3214440" y="5000760"/>
            <a:ext cx="216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257" name="Прямая со стрелкой 128"/>
          <p:cNvCxnSpPr/>
          <p:nvPr/>
        </p:nvCxnSpPr>
        <p:spPr>
          <a:xfrm flipH="1">
            <a:off x="3714480" y="5000760"/>
            <a:ext cx="216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258" name="Прямая со стрелкой 129"/>
          <p:cNvCxnSpPr/>
          <p:nvPr/>
        </p:nvCxnSpPr>
        <p:spPr>
          <a:xfrm flipH="1">
            <a:off x="4212360" y="5000760"/>
            <a:ext cx="252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259" name="TextBox 130"/>
          <p:cNvSpPr/>
          <p:nvPr/>
        </p:nvSpPr>
        <p:spPr>
          <a:xfrm>
            <a:off x="3209400" y="4500720"/>
            <a:ext cx="5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TextBox 131"/>
          <p:cNvSpPr/>
          <p:nvPr/>
        </p:nvSpPr>
        <p:spPr>
          <a:xfrm>
            <a:off x="3211560" y="4500720"/>
            <a:ext cx="5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61" name="Прямая со стрелкой 132"/>
          <p:cNvCxnSpPr/>
          <p:nvPr/>
        </p:nvCxnSpPr>
        <p:spPr>
          <a:xfrm flipV="1">
            <a:off x="4642200" y="4428720"/>
            <a:ext cx="252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262" name="Прямая со стрелкой 133"/>
          <p:cNvCxnSpPr/>
          <p:nvPr/>
        </p:nvCxnSpPr>
        <p:spPr>
          <a:xfrm flipH="1">
            <a:off x="4857480" y="4429080"/>
            <a:ext cx="216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263" name="TextBox 134"/>
          <p:cNvSpPr/>
          <p:nvPr/>
        </p:nvSpPr>
        <p:spPr>
          <a:xfrm>
            <a:off x="4497120" y="39290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TextBox 135"/>
          <p:cNvSpPr/>
          <p:nvPr/>
        </p:nvSpPr>
        <p:spPr>
          <a:xfrm>
            <a:off x="4500360" y="39290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65" name="Прямая со стрелкой 137"/>
          <p:cNvCxnSpPr/>
          <p:nvPr/>
        </p:nvCxnSpPr>
        <p:spPr>
          <a:xfrm flipV="1">
            <a:off x="5214960" y="392868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266" name="Прямая со стрелкой 138"/>
          <p:cNvCxnSpPr/>
          <p:nvPr/>
        </p:nvCxnSpPr>
        <p:spPr>
          <a:xfrm flipV="1">
            <a:off x="5715000" y="392868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267" name="Прямая со стрелкой 139"/>
          <p:cNvCxnSpPr/>
          <p:nvPr/>
        </p:nvCxnSpPr>
        <p:spPr>
          <a:xfrm flipV="1">
            <a:off x="6215040" y="392868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268" name="TextBox 143"/>
          <p:cNvSpPr/>
          <p:nvPr/>
        </p:nvSpPr>
        <p:spPr>
          <a:xfrm>
            <a:off x="5281200" y="3429000"/>
            <a:ext cx="5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TextBox 144"/>
          <p:cNvSpPr/>
          <p:nvPr/>
        </p:nvSpPr>
        <p:spPr>
          <a:xfrm>
            <a:off x="5283360" y="3429000"/>
            <a:ext cx="5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TextBox 145"/>
          <p:cNvSpPr/>
          <p:nvPr/>
        </p:nvSpPr>
        <p:spPr>
          <a:xfrm>
            <a:off x="7283520" y="2928960"/>
            <a:ext cx="5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d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TextBox 148"/>
          <p:cNvSpPr/>
          <p:nvPr/>
        </p:nvSpPr>
        <p:spPr>
          <a:xfrm>
            <a:off x="5361120" y="5786280"/>
            <a:ext cx="359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раткая электронная запись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2.50983E-006 L 0.19462 0.02845 E">
                                      <p:cBhvr>
                                        <p:cTn id="548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2.54916E-006 L 0.16406 0.12214 E">
                                      <p:cBhvr>
                                        <p:cTn id="568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3.51608E-006 L 0.10834 0.195 E">
                                      <p:cBhvr>
                                        <p:cTn id="604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9.808E-007 L 0.00833 0.27828 E">
                                      <p:cBhvr>
                                        <p:cTn id="624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91557E-006 L -0.03959 0.35115 E">
                                      <p:cBhvr>
                                        <p:cTn id="648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Line 3"/>
          <p:cNvSpPr/>
          <p:nvPr/>
        </p:nvSpPr>
        <p:spPr>
          <a:xfrm>
            <a:off x="100008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0" y="260280"/>
            <a:ext cx="1079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B4253-C75E-4A37-B5F2-4B0C54E861D6}" type="datetime3">
              <a:rPr b="0" lang="ru-RU" sz="1600" spc="-1" strike="noStrike">
                <a:solidFill>
                  <a:srgbClr val="000000"/>
                </a:solidFill>
                <a:latin typeface="Tahoma"/>
              </a:rPr>
              <a:t>30 июля, 2026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Text Box 21"/>
          <p:cNvSpPr/>
          <p:nvPr/>
        </p:nvSpPr>
        <p:spPr>
          <a:xfrm>
            <a:off x="1051560" y="142920"/>
            <a:ext cx="77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13f26"/>
                </a:solidFill>
                <a:latin typeface="Tahoma"/>
              </a:rPr>
              <a:t>Тема: </a:t>
            </a:r>
            <a:r>
              <a:rPr b="0" lang="ru-RU" sz="2400" spc="-1" strike="noStrike">
                <a:solidFill>
                  <a:srgbClr val="413f26"/>
                </a:solidFill>
                <a:latin typeface="Tahoma"/>
              </a:rPr>
              <a:t>Строение электронных оболочек атом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Прямая соединительная линия 20"/>
          <p:cNvSpPr/>
          <p:nvPr/>
        </p:nvSpPr>
        <p:spPr>
          <a:xfrm>
            <a:off x="1000080" y="857160"/>
            <a:ext cx="814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1571760" y="1000080"/>
            <a:ext cx="735804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V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Составить строение электронной оболочки элемента:  В,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l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TextBox 55"/>
          <p:cNvSpPr/>
          <p:nvPr/>
        </p:nvSpPr>
        <p:spPr>
          <a:xfrm>
            <a:off x="1785960" y="2000160"/>
            <a:ext cx="100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TextBox 56"/>
          <p:cNvSpPr/>
          <p:nvPr/>
        </p:nvSpPr>
        <p:spPr>
          <a:xfrm>
            <a:off x="1518480" y="28576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+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TextBox 57"/>
          <p:cNvSpPr/>
          <p:nvPr/>
        </p:nvSpPr>
        <p:spPr>
          <a:xfrm>
            <a:off x="1569600" y="20718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TextBox 58"/>
          <p:cNvSpPr/>
          <p:nvPr/>
        </p:nvSpPr>
        <p:spPr>
          <a:xfrm>
            <a:off x="2285640" y="20588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Дуга 59"/>
          <p:cNvSpPr/>
          <p:nvPr/>
        </p:nvSpPr>
        <p:spPr>
          <a:xfrm>
            <a:off x="2000160" y="1857240"/>
            <a:ext cx="85752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Дуга 60"/>
          <p:cNvSpPr/>
          <p:nvPr/>
        </p:nvSpPr>
        <p:spPr>
          <a:xfrm>
            <a:off x="2286000" y="1857240"/>
            <a:ext cx="85716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TextBox 61"/>
          <p:cNvSpPr/>
          <p:nvPr/>
        </p:nvSpPr>
        <p:spPr>
          <a:xfrm>
            <a:off x="2500200" y="3071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TextBox 62"/>
          <p:cNvSpPr/>
          <p:nvPr/>
        </p:nvSpPr>
        <p:spPr>
          <a:xfrm>
            <a:off x="2785680" y="3071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Прямоугольник 63"/>
          <p:cNvSpPr/>
          <p:nvPr/>
        </p:nvSpPr>
        <p:spPr>
          <a:xfrm>
            <a:off x="3500280" y="3286080"/>
            <a:ext cx="50040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Прямоугольник 64"/>
          <p:cNvSpPr/>
          <p:nvPr/>
        </p:nvSpPr>
        <p:spPr>
          <a:xfrm>
            <a:off x="4143240" y="271476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Прямоугольник 65"/>
          <p:cNvSpPr/>
          <p:nvPr/>
        </p:nvSpPr>
        <p:spPr>
          <a:xfrm>
            <a:off x="4643280" y="2214720"/>
            <a:ext cx="50040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Прямоугольник 67"/>
          <p:cNvSpPr/>
          <p:nvPr/>
        </p:nvSpPr>
        <p:spPr>
          <a:xfrm>
            <a:off x="5143680" y="221472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Прямоугольник 68"/>
          <p:cNvSpPr/>
          <p:nvPr/>
        </p:nvSpPr>
        <p:spPr>
          <a:xfrm>
            <a:off x="5643720" y="221472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92" name="Прямая со стрелкой 69"/>
          <p:cNvCxnSpPr/>
          <p:nvPr/>
        </p:nvCxnSpPr>
        <p:spPr>
          <a:xfrm flipV="1">
            <a:off x="3641760" y="3357720"/>
            <a:ext cx="2160" cy="35892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293" name="Прямая со стрелкой 70"/>
          <p:cNvCxnSpPr/>
          <p:nvPr/>
        </p:nvCxnSpPr>
        <p:spPr>
          <a:xfrm flipH="1">
            <a:off x="3855240" y="3357720"/>
            <a:ext cx="2520" cy="35892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294" name="TextBox 72"/>
          <p:cNvSpPr/>
          <p:nvPr/>
        </p:nvSpPr>
        <p:spPr>
          <a:xfrm>
            <a:off x="3499920" y="29289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TextBox 78"/>
          <p:cNvSpPr/>
          <p:nvPr/>
        </p:nvSpPr>
        <p:spPr>
          <a:xfrm>
            <a:off x="3503160" y="29289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96" name="Прямая со стрелкой 79"/>
          <p:cNvCxnSpPr/>
          <p:nvPr/>
        </p:nvCxnSpPr>
        <p:spPr>
          <a:xfrm flipV="1">
            <a:off x="4284720" y="278568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297" name="Прямая со стрелкой 80"/>
          <p:cNvCxnSpPr/>
          <p:nvPr/>
        </p:nvCxnSpPr>
        <p:spPr>
          <a:xfrm flipH="1">
            <a:off x="4500360" y="2786040"/>
            <a:ext cx="216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298" name="TextBox 81"/>
          <p:cNvSpPr/>
          <p:nvPr/>
        </p:nvSpPr>
        <p:spPr>
          <a:xfrm>
            <a:off x="4140000" y="2286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TextBox 82"/>
          <p:cNvSpPr/>
          <p:nvPr/>
        </p:nvSpPr>
        <p:spPr>
          <a:xfrm>
            <a:off x="4142880" y="2286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300" name="Прямая со стрелкой 83"/>
          <p:cNvCxnSpPr/>
          <p:nvPr/>
        </p:nvCxnSpPr>
        <p:spPr>
          <a:xfrm flipV="1">
            <a:off x="4785120" y="2285640"/>
            <a:ext cx="252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301" name="TextBox 89"/>
          <p:cNvSpPr/>
          <p:nvPr/>
        </p:nvSpPr>
        <p:spPr>
          <a:xfrm>
            <a:off x="4995360" y="1785960"/>
            <a:ext cx="5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p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TextBox 90"/>
          <p:cNvSpPr/>
          <p:nvPr/>
        </p:nvSpPr>
        <p:spPr>
          <a:xfrm>
            <a:off x="4997520" y="1785960"/>
            <a:ext cx="5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p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Прямая соединительная линия 93"/>
          <p:cNvSpPr/>
          <p:nvPr/>
        </p:nvSpPr>
        <p:spPr>
          <a:xfrm>
            <a:off x="5715000" y="3500280"/>
            <a:ext cx="7142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2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2.50983E-006 L 0.19462 0.02845 E">
                                      <p:cBhvr>
                                        <p:cTn id="726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2.54916E-006 L 0.16406 0.12214 E">
                                      <p:cBhvr>
                                        <p:cTn id="744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5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3.51608E-006 L 0.10834 0.195 E">
                                      <p:cBhvr>
                                        <p:cTn id="758" dur="10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Line 3"/>
          <p:cNvSpPr/>
          <p:nvPr/>
        </p:nvSpPr>
        <p:spPr>
          <a:xfrm>
            <a:off x="100008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0" y="260280"/>
            <a:ext cx="1079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0BAD3-33E8-4490-9C77-5C93FCBBC855}" type="datetime3">
              <a:rPr b="0" lang="ru-RU" sz="1600" spc="-1" strike="noStrike">
                <a:solidFill>
                  <a:srgbClr val="000000"/>
                </a:solidFill>
                <a:latin typeface="Tahoma"/>
              </a:rPr>
              <a:t>30 июля, 2026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Text Box 21"/>
          <p:cNvSpPr/>
          <p:nvPr/>
        </p:nvSpPr>
        <p:spPr>
          <a:xfrm>
            <a:off x="1099080" y="142920"/>
            <a:ext cx="42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13f26"/>
                </a:solidFill>
                <a:latin typeface="Tahoma"/>
              </a:rPr>
              <a:t>Проверка знаний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1000080" y="857160"/>
            <a:ext cx="814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TextBox 48"/>
          <p:cNvSpPr/>
          <p:nvPr/>
        </p:nvSpPr>
        <p:spPr>
          <a:xfrm>
            <a:off x="1237680" y="1143000"/>
            <a:ext cx="685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Нарисуйте схемы строения электронных оболочек атомов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1" name="Управляющая кнопка: настраиваемая 8"/>
          <p:cNvGrpSpPr/>
          <p:nvPr/>
        </p:nvGrpSpPr>
        <p:grpSpPr>
          <a:xfrm>
            <a:off x="6516720" y="6327720"/>
            <a:ext cx="2608200" cy="536760"/>
            <a:chOff x="6516720" y="6327720"/>
            <a:chExt cx="2608200" cy="536760"/>
          </a:xfrm>
        </p:grpSpPr>
        <p:pic>
          <p:nvPicPr>
            <p:cNvPr id="312" name="Управляющая кнопка: настраиваемая 8" descr=""/>
            <p:cNvPicPr/>
            <p:nvPr/>
          </p:nvPicPr>
          <p:blipFill>
            <a:blip r:embed="rId1"/>
            <a:stretch/>
          </p:blipFill>
          <p:spPr>
            <a:xfrm>
              <a:off x="6516720" y="6327720"/>
              <a:ext cx="260820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6572160" y="6357960"/>
              <a:ext cx="25005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ahoma"/>
                </a:rPr>
                <a:t>Вернуться к теме урока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4" name="TextBox 7"/>
          <p:cNvSpPr/>
          <p:nvPr/>
        </p:nvSpPr>
        <p:spPr>
          <a:xfrm>
            <a:off x="2691720" y="2143080"/>
            <a:ext cx="3647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C,  S,  Mg.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Line 3"/>
          <p:cNvSpPr/>
          <p:nvPr/>
        </p:nvSpPr>
        <p:spPr>
          <a:xfrm>
            <a:off x="100008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0" y="260280"/>
            <a:ext cx="1079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4E0EF-8834-434C-B99E-5F97F4C97D77}" type="datetime3">
              <a:rPr b="0" lang="ru-RU" sz="1600" spc="-1" strike="noStrike">
                <a:solidFill>
                  <a:srgbClr val="000000"/>
                </a:solidFill>
                <a:latin typeface="Tahoma"/>
              </a:rPr>
              <a:t>30 июля, 2026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Text Box 21"/>
          <p:cNvSpPr/>
          <p:nvPr/>
        </p:nvSpPr>
        <p:spPr>
          <a:xfrm>
            <a:off x="1051560" y="142920"/>
            <a:ext cx="77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13f26"/>
                </a:solidFill>
                <a:latin typeface="Tahoma"/>
              </a:rPr>
              <a:t>Тема: </a:t>
            </a:r>
            <a:r>
              <a:rPr b="0" lang="ru-RU" sz="2400" spc="-1" strike="noStrike">
                <a:solidFill>
                  <a:srgbClr val="413f26"/>
                </a:solidFill>
                <a:latin typeface="Tahoma"/>
              </a:rPr>
              <a:t>Строение электронных оболочек атом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Прямая соединительная линия 20"/>
          <p:cNvSpPr/>
          <p:nvPr/>
        </p:nvSpPr>
        <p:spPr>
          <a:xfrm>
            <a:off x="1000080" y="857160"/>
            <a:ext cx="814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TextBox 48"/>
          <p:cNvSpPr/>
          <p:nvPr/>
        </p:nvSpPr>
        <p:spPr>
          <a:xfrm>
            <a:off x="1365120" y="1143000"/>
            <a:ext cx="24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омашнее задание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TextBox 50"/>
          <p:cNvSpPr/>
          <p:nvPr/>
        </p:nvSpPr>
        <p:spPr>
          <a:xfrm>
            <a:off x="2731680" y="157176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amp; 8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тр. 46 - 5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Прямоугольник 51"/>
          <p:cNvSpPr/>
          <p:nvPr/>
        </p:nvSpPr>
        <p:spPr>
          <a:xfrm>
            <a:off x="2000160" y="2000160"/>
            <a:ext cx="66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Нарисуйте схемы строения электронных оболочек атомов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бора,  магния,  хлора,  лития,  серы,  алюмин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Line 3"/>
          <p:cNvSpPr/>
          <p:nvPr/>
        </p:nvSpPr>
        <p:spPr>
          <a:xfrm>
            <a:off x="100008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0" y="260280"/>
            <a:ext cx="1079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B781-5396-4AE0-B161-D260A115D11A}" type="datetime3">
              <a:rPr b="0" lang="ru-RU" sz="1600" spc="-1" strike="noStrike">
                <a:solidFill>
                  <a:srgbClr val="000000"/>
                </a:solidFill>
                <a:latin typeface="Tahoma"/>
              </a:rPr>
              <a:t>30 июля, 2026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Text Box 21"/>
          <p:cNvSpPr/>
          <p:nvPr/>
        </p:nvSpPr>
        <p:spPr>
          <a:xfrm>
            <a:off x="1137240" y="142920"/>
            <a:ext cx="305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13f26"/>
                </a:solidFill>
                <a:latin typeface="Tahoma"/>
              </a:rPr>
              <a:t>Повторение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Прямая соединительная линия 20"/>
          <p:cNvSpPr/>
          <p:nvPr/>
        </p:nvSpPr>
        <p:spPr>
          <a:xfrm>
            <a:off x="1000080" y="857160"/>
            <a:ext cx="814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TextBox 29"/>
          <p:cNvSpPr/>
          <p:nvPr/>
        </p:nvSpPr>
        <p:spPr>
          <a:xfrm>
            <a:off x="1500120" y="1143000"/>
            <a:ext cx="742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пределить число протонов , нейтронов и электрон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Прямоугольник 28"/>
          <p:cNvSpPr/>
          <p:nvPr/>
        </p:nvSpPr>
        <p:spPr>
          <a:xfrm>
            <a:off x="1357200" y="2344680"/>
            <a:ext cx="1357560" cy="1000080"/>
          </a:xfrm>
          <a:prstGeom prst="rect">
            <a:avLst/>
          </a:prstGeom>
          <a:gradFill rotWithShape="0">
            <a:gsLst>
              <a:gs pos="0">
                <a:srgbClr val="f2eed9"/>
              </a:gs>
              <a:gs pos="100000">
                <a:srgbClr val="fcfbf4"/>
              </a:gs>
            </a:gsLst>
            <a:lin ang="16200000"/>
          </a:gradFill>
          <a:ln w="9360">
            <a:solidFill>
              <a:srgbClr val="cecb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TextBox 30"/>
          <p:cNvSpPr/>
          <p:nvPr/>
        </p:nvSpPr>
        <p:spPr>
          <a:xfrm>
            <a:off x="1347120" y="2344680"/>
            <a:ext cx="48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TextBox 31"/>
          <p:cNvSpPr/>
          <p:nvPr/>
        </p:nvSpPr>
        <p:spPr>
          <a:xfrm>
            <a:off x="1336320" y="298764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осфо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TextBox 32"/>
          <p:cNvSpPr/>
          <p:nvPr/>
        </p:nvSpPr>
        <p:spPr>
          <a:xfrm>
            <a:off x="2246400" y="23446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TextBox 33"/>
          <p:cNvSpPr/>
          <p:nvPr/>
        </p:nvSpPr>
        <p:spPr>
          <a:xfrm>
            <a:off x="1778400" y="2701800"/>
            <a:ext cx="84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30,9748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TextBox 35"/>
          <p:cNvSpPr/>
          <p:nvPr/>
        </p:nvSpPr>
        <p:spPr>
          <a:xfrm>
            <a:off x="3307320" y="241632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 =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TextBox 36"/>
          <p:cNvSpPr/>
          <p:nvPr/>
        </p:nvSpPr>
        <p:spPr>
          <a:xfrm>
            <a:off x="3315600" y="29163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 =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TextBox 37"/>
          <p:cNvSpPr/>
          <p:nvPr/>
        </p:nvSpPr>
        <p:spPr>
          <a:xfrm>
            <a:off x="3309120" y="3416400"/>
            <a:ext cx="60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=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TextBox 38"/>
          <p:cNvSpPr/>
          <p:nvPr/>
        </p:nvSpPr>
        <p:spPr>
          <a:xfrm>
            <a:off x="1193400" y="398772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авила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TextBox 39"/>
          <p:cNvSpPr/>
          <p:nvPr/>
        </p:nvSpPr>
        <p:spPr>
          <a:xfrm>
            <a:off x="1643040" y="4344840"/>
            <a:ext cx="71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 Порядковый номер элемента определяет заряд ядра и равен числу протонов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TextBox 40"/>
          <p:cNvSpPr/>
          <p:nvPr/>
        </p:nvSpPr>
        <p:spPr>
          <a:xfrm>
            <a:off x="4250520" y="241632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+15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TextBox 41"/>
          <p:cNvSpPr/>
          <p:nvPr/>
        </p:nvSpPr>
        <p:spPr>
          <a:xfrm>
            <a:off x="2246400" y="23446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TextBox 43"/>
          <p:cNvSpPr/>
          <p:nvPr/>
        </p:nvSpPr>
        <p:spPr>
          <a:xfrm>
            <a:off x="1643040" y="4987800"/>
            <a:ext cx="71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. Атом в целом электронейтрален. Число протонов равно числу электронов 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TextBox 44"/>
          <p:cNvSpPr/>
          <p:nvPr/>
        </p:nvSpPr>
        <p:spPr>
          <a:xfrm>
            <a:off x="2246400" y="23446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TextBox 45"/>
          <p:cNvSpPr/>
          <p:nvPr/>
        </p:nvSpPr>
        <p:spPr>
          <a:xfrm>
            <a:off x="4236840" y="2916360"/>
            <a:ext cx="6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-15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Правая фигурная скобка 46"/>
          <p:cNvSpPr/>
          <p:nvPr/>
        </p:nvSpPr>
        <p:spPr>
          <a:xfrm>
            <a:off x="4929120" y="2416320"/>
            <a:ext cx="285840" cy="857160"/>
          </a:xfrm>
          <a:custGeom>
            <a:avLst/>
            <a:gdLst>
              <a:gd name="textAreaLeft" fmla="*/ 0 w 285840"/>
              <a:gd name="textAreaRight" fmla="*/ 103320 w 285840"/>
              <a:gd name="textAreaTop" fmla="*/ 19800 h 857160"/>
              <a:gd name="textAreaBottom" fmla="*/ 8373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07"/>
                  <a:pt x="10800" y="1613"/>
                </a:cubicBezTo>
                <a:lnTo>
                  <a:pt x="10800" y="9187"/>
                </a:lnTo>
                <a:cubicBezTo>
                  <a:pt x="10800" y="9994"/>
                  <a:pt x="16200" y="10800"/>
                  <a:pt x="21600" y="10800"/>
                </a:cubicBezTo>
                <a:cubicBezTo>
                  <a:pt x="16200" y="10800"/>
                  <a:pt x="10800" y="11607"/>
                  <a:pt x="10800" y="12413"/>
                </a:cubicBezTo>
                <a:lnTo>
                  <a:pt x="10800" y="19987"/>
                </a:lnTo>
                <a:cubicBezTo>
                  <a:pt x="10800" y="20794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TextBox 47"/>
          <p:cNvSpPr/>
          <p:nvPr/>
        </p:nvSpPr>
        <p:spPr>
          <a:xfrm>
            <a:off x="5317200" y="263052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= 0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TextBox 25"/>
          <p:cNvSpPr/>
          <p:nvPr/>
        </p:nvSpPr>
        <p:spPr>
          <a:xfrm>
            <a:off x="1784160" y="27018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TextBox 26"/>
          <p:cNvSpPr/>
          <p:nvPr/>
        </p:nvSpPr>
        <p:spPr>
          <a:xfrm>
            <a:off x="4029480" y="341640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15 = 16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TextBox 27"/>
          <p:cNvSpPr/>
          <p:nvPr/>
        </p:nvSpPr>
        <p:spPr>
          <a:xfrm>
            <a:off x="1643040" y="5630760"/>
            <a:ext cx="71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. Масса атома складывается из числа протонов и нейтронов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TextBox 42"/>
          <p:cNvSpPr/>
          <p:nvPr/>
        </p:nvSpPr>
        <p:spPr>
          <a:xfrm>
            <a:off x="6768000" y="2357280"/>
            <a:ext cx="688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ahoma"/>
              </a:rPr>
              <a:t>Р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Прямоугольник 48"/>
          <p:cNvSpPr/>
          <p:nvPr/>
        </p:nvSpPr>
        <p:spPr>
          <a:xfrm>
            <a:off x="4339080" y="241632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+1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TextBox 49"/>
          <p:cNvSpPr/>
          <p:nvPr/>
        </p:nvSpPr>
        <p:spPr>
          <a:xfrm>
            <a:off x="5486040" y="263052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0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TextBox 50"/>
          <p:cNvSpPr/>
          <p:nvPr/>
        </p:nvSpPr>
        <p:spPr>
          <a:xfrm>
            <a:off x="1784160" y="26924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55" name="Управляющая кнопка: настраиваемая 51"/>
          <p:cNvGrpSpPr/>
          <p:nvPr/>
        </p:nvGrpSpPr>
        <p:grpSpPr>
          <a:xfrm>
            <a:off x="6516720" y="6327720"/>
            <a:ext cx="2608200" cy="536760"/>
            <a:chOff x="6516720" y="6327720"/>
            <a:chExt cx="2608200" cy="536760"/>
          </a:xfrm>
        </p:grpSpPr>
        <p:pic>
          <p:nvPicPr>
            <p:cNvPr id="356" name="Управляющая кнопка: настраиваемая 51" descr=""/>
            <p:cNvPicPr/>
            <p:nvPr/>
          </p:nvPicPr>
          <p:blipFill>
            <a:blip r:embed="rId1"/>
            <a:stretch/>
          </p:blipFill>
          <p:spPr>
            <a:xfrm>
              <a:off x="6516720" y="6327720"/>
              <a:ext cx="260820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6572160" y="6357960"/>
              <a:ext cx="25005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ahoma"/>
                </a:rPr>
                <a:t>Вернуться к теме урока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58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24774E-006 L 0.15764 0.01179 E">
                                      <p:cBhvr>
                                        <p:cTn id="814" dur="10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9.57668E-007 L 0.2224 0.08998 E">
                                      <p:cBhvr>
                                        <p:cTn id="824" dur="1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24774E-006 L 0.15764 0.08512 E">
                                      <p:cBhvr>
                                        <p:cTn id="833" dur="1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644E-006 L 0.18368 -0.03563 E">
                                      <p:cBhvr>
                                        <p:cTn id="850" dur="1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77284E-006 L 0.52013 -0.04025 E">
                                      <p:cBhvr>
                                        <p:cTn id="863" dur="10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4.36271E-006 L 0.21302 0.11334 E">
                                      <p:cBhvr>
                                        <p:cTn id="865" dur="1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9" dur="1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11:33:14Z</dcterms:created>
  <dc:creator>Alekc</dc:creator>
  <dc:description/>
  <dc:language>en-US</dc:language>
  <cp:lastModifiedBy>LEGION</cp:lastModifiedBy>
  <dcterms:modified xsi:type="dcterms:W3CDTF">2015-05-01T11:14:39Z</dcterms:modified>
  <cp:revision>83</cp:revision>
  <dc:subject/>
  <dc:title>Системы органов</dc:title>
</cp:coreProperties>
</file>