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E377-D03E-436E-951A-5894C2525F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ac090"/>
                </a:solidFill>
                <a:latin typeface="Calibri"/>
              </a:rPr>
              <a:t>Строение электронных оболочек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5D86-E095-4D10-883D-AC7054568E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Электронная оболочка ат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D1E-6AFB-4786-AD20-EE934C3625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77F4-4655-48DB-B43F-980D9CDBEA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208-D2FD-4AE6-92A8-C2ABFD61E4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электронной обол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A257-11EA-4760-97EF-D98A1E9B7E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ов:  В,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9AF-B0AD-493B-9911-F122C9F9FF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я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E31-EE20-4826-B989-61D75CB46D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814-3143-4C5E-A737-7490FA7B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6C6-DBEC-4FF3-B1FF-D68D8D6D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E38-187E-4E69-831A-E9555C7E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A4B-0765-41E9-BB8B-80F47A94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A91-A676-4987-B2F2-54E318F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760-EC30-4E72-B47E-835A3727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8F0-357B-489D-BFA5-16040FD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B93-2E8F-4433-B165-B9876DAA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692-3194-4269-ACFD-A763BF33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C22-BE78-49E8-93D4-DDF0A5B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3D9-EB05-453D-A116-CA79AF7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AB7-E723-4133-BCCB-43482293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mbr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DE84-C0CD-4AA5-B9EB-B9BCC17EEB92}" type="slidenum">
              <a:rPr b="0" lang="ru-RU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6" descr=""/>
          <p:cNvPicPr/>
          <p:nvPr/>
        </p:nvPicPr>
        <p:blipFill>
          <a:blip r:embed="rId2"/>
          <a:stretch/>
        </p:blipFill>
        <p:spPr>
          <a:xfrm>
            <a:off x="-865080" y="-476280"/>
            <a:ext cx="10868040" cy="83710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7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0" y="939960"/>
            <a:ext cx="9144000" cy="568944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0" y="9288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с двумя скругленными соседними углами 11"/>
          <p:cNvSpPr/>
          <p:nvPr/>
        </p:nvSpPr>
        <p:spPr>
          <a:xfrm rot="5400000">
            <a:off x="8650800" y="740520"/>
            <a:ext cx="266760" cy="376200"/>
          </a:xfrm>
          <a:custGeom>
            <a:avLst/>
            <a:gdLst/>
            <a:ahLst/>
            <a:rect l="l" t="t" r="r" b="b"/>
            <a:pathLst>
              <a:path w="266700" h="376237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242887"/>
                </a:lnTo>
                <a:cubicBezTo>
                  <a:pt x="266700" y="316534"/>
                  <a:pt x="206997" y="376237"/>
                  <a:pt x="133350" y="376237"/>
                </a:cubicBezTo>
                <a:lnTo>
                  <a:pt x="133350" y="376237"/>
                </a:lnTo>
                <a:cubicBezTo>
                  <a:pt x="59703" y="376237"/>
                  <a:pt x="0" y="316534"/>
                  <a:pt x="0" y="242887"/>
                </a:cubicBez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extBox 12" descr=""/>
          <p:cNvPicPr/>
          <p:nvPr/>
        </p:nvPicPr>
        <p:blipFill>
          <a:blip r:embed="rId3"/>
          <a:stretch/>
        </p:blipFill>
        <p:spPr>
          <a:xfrm>
            <a:off x="-212760" y="-30240"/>
            <a:ext cx="1828800" cy="1073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с двумя скругленными соседними углами 13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с двумя скругленными соседними углами 14"/>
          <p:cNvSpPr/>
          <p:nvPr/>
        </p:nvSpPr>
        <p:spPr>
          <a:xfrm rot="16200000">
            <a:off x="792792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Прямая со стрелкой 15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cxnSp>
        <p:nvCxnSpPr>
          <p:cNvPr id="51" name="Прямая со стрелкой 16"/>
          <p:cNvCxnSpPr/>
          <p:nvPr/>
        </p:nvCxnSpPr>
        <p:spPr>
          <a:xfrm flipH="1">
            <a:off x="7905240" y="6629400"/>
            <a:ext cx="356400" cy="216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grpSp>
        <p:nvGrpSpPr>
          <p:cNvPr id="52" name="Группа 58"/>
          <p:cNvGrpSpPr/>
          <p:nvPr/>
        </p:nvGrpSpPr>
        <p:grpSpPr>
          <a:xfrm>
            <a:off x="8595360" y="740160"/>
            <a:ext cx="376560" cy="376560"/>
            <a:chOff x="8595360" y="740160"/>
            <a:chExt cx="376560" cy="376560"/>
          </a:xfrm>
        </p:grpSpPr>
        <p:sp>
          <p:nvSpPr>
            <p:cNvPr id="53" name="Прямоугольник 18"/>
            <p:cNvSpPr/>
            <p:nvPr/>
          </p:nvSpPr>
          <p:spPr>
            <a:xfrm rot="7923600">
              <a:off x="8650080" y="795240"/>
              <a:ext cx="26676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9"/>
            <p:cNvSpPr/>
            <p:nvPr/>
          </p:nvSpPr>
          <p:spPr>
            <a:xfrm flipV="1">
              <a:off x="8694360" y="830160"/>
              <a:ext cx="177480" cy="19692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0"/>
            <p:cNvSpPr/>
            <p:nvPr/>
          </p:nvSpPr>
          <p:spPr>
            <a:xfrm>
              <a:off x="8685360" y="839520"/>
              <a:ext cx="196560" cy="177840"/>
            </a:xfrm>
            <a:prstGeom prst="line">
              <a:avLst/>
            </a:prstGeom>
            <a:ln w="9360">
              <a:solidFill>
                <a:srgbClr val="5361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Прямоугольник с двумя скругленными соседними углами 21"/>
          <p:cNvSpPr/>
          <p:nvPr/>
        </p:nvSpPr>
        <p:spPr>
          <a:xfrm rot="16200000">
            <a:off x="571320" y="350280"/>
            <a:ext cx="266760" cy="1155600"/>
          </a:xfrm>
          <a:prstGeom prst="pie">
            <a:avLst/>
          </a:prstGeom>
          <a:solidFill>
            <a:srgbClr val="ccd8e7"/>
          </a:solidFill>
          <a:ln w="9360">
            <a:solidFill>
              <a:srgbClr val="7b9ab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36142"/>
                </a:solidFill>
                <a:latin typeface="Cambria"/>
              </a:rPr>
              <a:t>Урок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66"/>
          <p:cNvGrpSpPr/>
          <p:nvPr/>
        </p:nvGrpSpPr>
        <p:grpSpPr>
          <a:xfrm>
            <a:off x="127080" y="6475320"/>
            <a:ext cx="1155600" cy="307080"/>
            <a:chOff x="127080" y="6475320"/>
            <a:chExt cx="1155600" cy="307080"/>
          </a:xfrm>
        </p:grpSpPr>
        <p:sp>
          <p:nvSpPr>
            <p:cNvPr id="58" name="Прямоугольник с двумя скругленными соседними углами 23"/>
            <p:cNvSpPr/>
            <p:nvPr/>
          </p:nvSpPr>
          <p:spPr>
            <a:xfrm rot="16200000">
              <a:off x="571320" y="6048360"/>
              <a:ext cx="267120" cy="1155600"/>
            </a:xfrm>
            <a:custGeom>
              <a:avLst/>
              <a:gdLst/>
              <a:ahLst/>
              <a:rect l="l" t="t" r="r" b="b"/>
              <a:pathLst>
                <a:path w="266529" h="1155700">
                  <a:moveTo>
                    <a:pt x="133265" y="0"/>
                  </a:moveTo>
                  <a:lnTo>
                    <a:pt x="133265" y="0"/>
                  </a:lnTo>
                  <a:cubicBezTo>
                    <a:pt x="206865" y="0"/>
                    <a:pt x="266530" y="59665"/>
                    <a:pt x="266530" y="133265"/>
                  </a:cubicBezTo>
                  <a:cubicBezTo>
                    <a:pt x="266530" y="429655"/>
                    <a:pt x="266529" y="726046"/>
                    <a:pt x="266529" y="1022436"/>
                  </a:cubicBezTo>
                  <a:cubicBezTo>
                    <a:pt x="266529" y="1096036"/>
                    <a:pt x="206864" y="1155701"/>
                    <a:pt x="133264" y="1155701"/>
                  </a:cubicBezTo>
                  <a:lnTo>
                    <a:pt x="133265" y="1155700"/>
                  </a:lnTo>
                  <a:cubicBezTo>
                    <a:pt x="59665" y="1155700"/>
                    <a:pt x="0" y="1096035"/>
                    <a:pt x="0" y="1022435"/>
                  </a:cubicBezTo>
                  <a:lnTo>
                    <a:pt x="0" y="133265"/>
                  </a:lnTo>
                  <a:cubicBezTo>
                    <a:pt x="0" y="59665"/>
                    <a:pt x="59665" y="0"/>
                    <a:pt x="133265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0000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24"/>
            <p:cNvSpPr/>
            <p:nvPr/>
          </p:nvSpPr>
          <p:spPr>
            <a:xfrm>
              <a:off x="307440" y="6475320"/>
              <a:ext cx="76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5633370-3755-4F39-8AB4-2F8AD4E00AC3}" type="datetime">
                <a:rPr b="0" lang="ru-RU" sz="1400" spc="-1" strike="noStrike">
                  <a:solidFill>
                    <a:srgbClr val="536142"/>
                  </a:solidFill>
                  <a:latin typeface="Cambria"/>
                </a:rPr>
                <a:t>28.07.26</a:t>
              </a:fld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5">
            <a:hlinkClick r:id="" action="ppaction://hlinkshowjump?jump=previousslide"/>
          </p:cNvPr>
          <p:cNvSpPr/>
          <p:nvPr/>
        </p:nvSpPr>
        <p:spPr>
          <a:xfrm>
            <a:off x="777240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26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7">
            <a:hlinkClick r:id="" action="ppaction://hlinkshowjump?jump=endshow"/>
          </p:cNvPr>
          <p:cNvSpPr/>
          <p:nvPr/>
        </p:nvSpPr>
        <p:spPr>
          <a:xfrm>
            <a:off x="8596440" y="797040"/>
            <a:ext cx="3762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с двумя скругленными соседними углами 28"/>
          <p:cNvSpPr/>
          <p:nvPr/>
        </p:nvSpPr>
        <p:spPr>
          <a:xfrm>
            <a:off x="7094520" y="6494400"/>
            <a:ext cx="584280" cy="254160"/>
          </a:xfrm>
          <a:prstGeom prst="pie">
            <a:avLst/>
          </a:prstGeom>
          <a:solidFill>
            <a:srgbClr val="ccd8e7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5475"/>
                </a:solidFill>
                <a:latin typeface="Cambria"/>
              </a:rPr>
              <a:t>П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f0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6"/>
          <p:cNvSpPr/>
          <p:nvPr/>
        </p:nvSpPr>
        <p:spPr>
          <a:xfrm>
            <a:off x="0" y="6480"/>
            <a:ext cx="9144000" cy="6858000"/>
          </a:xfrm>
          <a:prstGeom prst="rect">
            <a:avLst/>
          </a:prstGeom>
          <a:solidFill>
            <a:srgbClr val="b3c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0" y="230040"/>
            <a:ext cx="9144000" cy="6399360"/>
          </a:xfrm>
          <a:prstGeom prst="rect">
            <a:avLst/>
          </a:prstGeom>
          <a:solidFill>
            <a:srgbClr val="dbe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8"/>
          <p:cNvSpPr/>
          <p:nvPr/>
        </p:nvSpPr>
        <p:spPr>
          <a:xfrm>
            <a:off x="0" y="6630840"/>
            <a:ext cx="9144000" cy="180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9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с двумя скругленными соседними углами 10"/>
          <p:cNvSpPr/>
          <p:nvPr/>
        </p:nvSpPr>
        <p:spPr>
          <a:xfrm rot="5400000">
            <a:off x="8594280" y="6340320"/>
            <a:ext cx="266400" cy="577800"/>
          </a:xfrm>
          <a:custGeom>
            <a:avLst/>
            <a:gdLst/>
            <a:ahLst/>
            <a:rect l="l" t="t" r="r" b="b"/>
            <a:pathLst>
              <a:path w="266700" h="577850">
                <a:moveTo>
                  <a:pt x="133350" y="0"/>
                </a:moveTo>
                <a:lnTo>
                  <a:pt x="133350" y="0"/>
                </a:lnTo>
                <a:cubicBezTo>
                  <a:pt x="206997" y="0"/>
                  <a:pt x="266700" y="59703"/>
                  <a:pt x="266700" y="133350"/>
                </a:cubicBezTo>
                <a:lnTo>
                  <a:pt x="266700" y="577850"/>
                </a:lnTo>
                <a:lnTo>
                  <a:pt x="266700" y="577850"/>
                </a:lnTo>
                <a:lnTo>
                  <a:pt x="0" y="577850"/>
                </a:lnTo>
                <a:lnTo>
                  <a:pt x="0" y="577850"/>
                </a:lnTo>
                <a:lnTo>
                  <a:pt x="0" y="133350"/>
                </a:lnTo>
                <a:cubicBezTo>
                  <a:pt x="0" y="59703"/>
                  <a:pt x="59703" y="0"/>
                  <a:pt x="133350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7b9ab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11"/>
          <p:cNvCxnSpPr/>
          <p:nvPr/>
        </p:nvCxnSpPr>
        <p:spPr>
          <a:xfrm>
            <a:off x="8528040" y="6628320"/>
            <a:ext cx="356400" cy="5400"/>
          </a:xfrm>
          <a:prstGeom prst="straightConnector1">
            <a:avLst/>
          </a:prstGeom>
          <a:ln w="9360">
            <a:solidFill>
              <a:srgbClr val="536142"/>
            </a:solidFill>
            <a:miter/>
            <a:tailEnd len="med" type="arrow" w="med"/>
          </a:ln>
        </p:spPr>
      </p:cxnSp>
      <p:sp>
        <p:nvSpPr>
          <p:cNvPr id="108" name="Прямоугольник 12">
            <a:hlinkClick r:id="" action="ppaction://hlinkshowjump?jump=nextslide"/>
          </p:cNvPr>
          <p:cNvSpPr/>
          <p:nvPr/>
        </p:nvSpPr>
        <p:spPr>
          <a:xfrm>
            <a:off x="8439120" y="6500880"/>
            <a:ext cx="577800" cy="26676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5;&#1088;&#1080;&#1083;&#1086;&#1078;&#1077;&#1085;&#1080;&#1077;%20&#1082;%20&#1091;&#1088;&#1086;&#1082;&#1091;/&#1058;&#1072;&#1073;&#1083;&#1080;&#1094;&#1072;/&#1055;&#1077;&#1088;&#1080;&#1086;&#1076;&#1080;&#1095;&#1077;&#1089;&#1082;&#1072;&#1103;%20&#1089;&#1080;&#1089;&#1090;&#1077;&#1090;&#1072;%20&#1093;&#1080;&#1084;&#1080;&#1095;&#1077;&#1089;&#1082;&#1080;&#1093;%20&#1101;&#1083;&#1077;&#1084;&#1077;&#1085;&#1090;&#1086;&#1074;.ppt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2"/>
          <p:cNvSpPr/>
          <p:nvPr/>
        </p:nvSpPr>
        <p:spPr>
          <a:xfrm>
            <a:off x="0" y="256212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TextBox 5" descr=""/>
          <p:cNvPicPr/>
          <p:nvPr/>
        </p:nvPicPr>
        <p:blipFill>
          <a:blip r:embed="rId1"/>
          <a:stretch/>
        </p:blipFill>
        <p:spPr>
          <a:xfrm>
            <a:off x="-152280" y="1017720"/>
            <a:ext cx="94550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49"/>
          <p:cNvGrpSpPr/>
          <p:nvPr/>
        </p:nvGrpSpPr>
        <p:grpSpPr>
          <a:xfrm>
            <a:off x="385920" y="1789200"/>
            <a:ext cx="8439120" cy="4578120"/>
            <a:chOff x="385920" y="1789200"/>
            <a:chExt cx="8439120" cy="4578120"/>
          </a:xfrm>
        </p:grpSpPr>
        <p:sp>
          <p:nvSpPr>
            <p:cNvPr id="159" name="Прямоугольник с двумя скругленными соседними углами 11"/>
            <p:cNvSpPr/>
            <p:nvPr/>
          </p:nvSpPr>
          <p:spPr>
            <a:xfrm>
              <a:off x="2490840" y="1850760"/>
              <a:ext cx="2170080" cy="555480"/>
            </a:xfrm>
            <a:custGeom>
              <a:avLst/>
              <a:gdLst/>
              <a:ahLst/>
              <a:rect l="l" t="t" r="r" b="b"/>
              <a:pathLst>
                <a:path w="2169967" h="555703">
                  <a:moveTo>
                    <a:pt x="148528" y="0"/>
                  </a:moveTo>
                  <a:lnTo>
                    <a:pt x="2021439" y="0"/>
                  </a:lnTo>
                  <a:cubicBezTo>
                    <a:pt x="2103469" y="0"/>
                    <a:pt x="2169967" y="66498"/>
                    <a:pt x="2169967" y="148528"/>
                  </a:cubicBezTo>
                  <a:lnTo>
                    <a:pt x="2169967" y="555703"/>
                  </a:lnTo>
                  <a:lnTo>
                    <a:pt x="2169967" y="555703"/>
                  </a:lnTo>
                  <a:lnTo>
                    <a:pt x="0" y="555703"/>
                  </a:lnTo>
                  <a:lnTo>
                    <a:pt x="0" y="555703"/>
                  </a:lnTo>
                  <a:lnTo>
                    <a:pt x="0" y="148528"/>
                  </a:lnTo>
                  <a:cubicBezTo>
                    <a:pt x="0" y="66498"/>
                    <a:pt x="66498" y="0"/>
                    <a:pt x="148528" y="0"/>
                  </a:cubicBezTo>
                  <a:close/>
                </a:path>
              </a:pathLst>
            </a:custGeom>
            <a:solidFill>
              <a:srgbClr val="ccd8e7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с двумя скругленными соседними углами 12"/>
            <p:cNvSpPr/>
            <p:nvPr/>
          </p:nvSpPr>
          <p:spPr>
            <a:xfrm>
              <a:off x="385920" y="2301840"/>
              <a:ext cx="8439120" cy="4065480"/>
            </a:xfrm>
            <a:custGeom>
              <a:avLst/>
              <a:gdLst/>
              <a:ahLst/>
              <a:rect l="l" t="t" r="r" b="b"/>
              <a:pathLst>
                <a:path w="8438587" h="4066158">
                  <a:moveTo>
                    <a:pt x="0" y="0"/>
                  </a:moveTo>
                  <a:lnTo>
                    <a:pt x="8438587" y="0"/>
                  </a:lnTo>
                  <a:lnTo>
                    <a:pt x="8438587" y="0"/>
                  </a:lnTo>
                  <a:lnTo>
                    <a:pt x="8438587" y="3896274"/>
                  </a:lnTo>
                  <a:cubicBezTo>
                    <a:pt x="8438587" y="3990098"/>
                    <a:pt x="8362527" y="4066158"/>
                    <a:pt x="8268703" y="4066158"/>
                  </a:cubicBezTo>
                  <a:lnTo>
                    <a:pt x="169884" y="4066158"/>
                  </a:lnTo>
                  <a:cubicBezTo>
                    <a:pt x="76060" y="4066158"/>
                    <a:pt x="0" y="3990098"/>
                    <a:pt x="0" y="3896274"/>
                  </a:cubicBez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Прямоугольник с двумя скругленными соседними углами 13"/>
            <p:cNvSpPr/>
            <p:nvPr/>
          </p:nvSpPr>
          <p:spPr>
            <a:xfrm>
              <a:off x="385920" y="1850760"/>
              <a:ext cx="2170080" cy="637920"/>
            </a:xfrm>
            <a:custGeom>
              <a:avLst/>
              <a:gdLst/>
              <a:ahLst/>
              <a:rect l="l" t="t" r="r" b="b"/>
              <a:pathLst>
                <a:path w="2169967" h="638264">
                  <a:moveTo>
                    <a:pt x="170595" y="0"/>
                  </a:moveTo>
                  <a:lnTo>
                    <a:pt x="1999372" y="0"/>
                  </a:lnTo>
                  <a:cubicBezTo>
                    <a:pt x="2093589" y="0"/>
                    <a:pt x="2169967" y="76378"/>
                    <a:pt x="2169967" y="170595"/>
                  </a:cubicBezTo>
                  <a:lnTo>
                    <a:pt x="2169967" y="638264"/>
                  </a:lnTo>
                  <a:lnTo>
                    <a:pt x="2169967" y="638264"/>
                  </a:lnTo>
                  <a:lnTo>
                    <a:pt x="0" y="638264"/>
                  </a:lnTo>
                  <a:lnTo>
                    <a:pt x="0" y="638264"/>
                  </a:lnTo>
                  <a:lnTo>
                    <a:pt x="0" y="170595"/>
                  </a:lnTo>
                  <a:cubicBezTo>
                    <a:pt x="0" y="76378"/>
                    <a:pt x="76378" y="0"/>
                    <a:pt x="170595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с двумя скругленными соседними углами 14"/>
            <p:cNvSpPr/>
            <p:nvPr/>
          </p:nvSpPr>
          <p:spPr>
            <a:xfrm>
              <a:off x="396720" y="2313000"/>
              <a:ext cx="2170080" cy="639720"/>
            </a:xfrm>
            <a:custGeom>
              <a:avLst/>
              <a:gdLst/>
              <a:ahLst/>
              <a:rect l="l" t="t" r="r" b="b"/>
              <a:pathLst>
                <a:path w="2169968" h="639852">
                  <a:moveTo>
                    <a:pt x="0" y="0"/>
                  </a:moveTo>
                  <a:lnTo>
                    <a:pt x="2169968" y="0"/>
                  </a:lnTo>
                  <a:lnTo>
                    <a:pt x="2169968" y="0"/>
                  </a:lnTo>
                  <a:lnTo>
                    <a:pt x="2169968" y="639852"/>
                  </a:lnTo>
                  <a:lnTo>
                    <a:pt x="2169968" y="639852"/>
                  </a:lnTo>
                  <a:lnTo>
                    <a:pt x="0" y="639852"/>
                  </a:lnTo>
                  <a:lnTo>
                    <a:pt x="0" y="6398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c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Прямоугольник 22"/>
            <p:cNvSpPr/>
            <p:nvPr/>
          </p:nvSpPr>
          <p:spPr>
            <a:xfrm>
              <a:off x="604440" y="1798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Уст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Прямая соединительная линия 18"/>
            <p:cNvSpPr/>
            <p:nvPr/>
          </p:nvSpPr>
          <p:spPr>
            <a:xfrm flipV="1">
              <a:off x="385920" y="2316240"/>
              <a:ext cx="84391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Прямоугольник 44"/>
            <p:cNvSpPr/>
            <p:nvPr/>
          </p:nvSpPr>
          <p:spPr>
            <a:xfrm>
              <a:off x="2639880" y="1789200"/>
              <a:ext cx="189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2060"/>
                  </a:solidFill>
                  <a:latin typeface="Calibri"/>
                </a:rPr>
                <a:t>Письмен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Box 21"/>
          <p:cNvSpPr/>
          <p:nvPr/>
        </p:nvSpPr>
        <p:spPr>
          <a:xfrm>
            <a:off x="561960" y="2495520"/>
            <a:ext cx="8196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электронная оболоч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нергетических уровней 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ая формула расчета максимального количества электронов на энергетическ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о периодической системе определить количество электронов у электронейтрального атома химического элемен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ить количество электронов на последнем уровне у элемента по периодическ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5">
            <a:hlinkClick r:id="rId2" action="ppaction://hlinksldjump"/>
          </p:cNvPr>
          <p:cNvSpPr/>
          <p:nvPr/>
        </p:nvSpPr>
        <p:spPr>
          <a:xfrm>
            <a:off x="255744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17" descr=""/>
          <p:cNvPicPr/>
          <p:nvPr/>
        </p:nvPicPr>
        <p:blipFill>
          <a:blip r:embed="rId3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верка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соседними углами 20"/>
          <p:cNvSpPr/>
          <p:nvPr/>
        </p:nvSpPr>
        <p:spPr>
          <a:xfrm>
            <a:off x="385920" y="1851120"/>
            <a:ext cx="2170080" cy="637920"/>
          </a:xfrm>
          <a:custGeom>
            <a:avLst/>
            <a:gdLst/>
            <a:ahLst/>
            <a:rect l="l" t="t" r="r" b="b"/>
            <a:pathLst>
              <a:path w="2170112" h="638175">
                <a:moveTo>
                  <a:pt x="170571" y="0"/>
                </a:moveTo>
                <a:lnTo>
                  <a:pt x="1999541" y="0"/>
                </a:lnTo>
                <a:cubicBezTo>
                  <a:pt x="2093745" y="0"/>
                  <a:pt x="2170112" y="76367"/>
                  <a:pt x="2170112" y="170571"/>
                </a:cubicBezTo>
                <a:lnTo>
                  <a:pt x="2170112" y="638175"/>
                </a:lnTo>
                <a:lnTo>
                  <a:pt x="2170112" y="638175"/>
                </a:lnTo>
                <a:lnTo>
                  <a:pt x="0" y="638175"/>
                </a:lnTo>
                <a:lnTo>
                  <a:pt x="0" y="638175"/>
                </a:lnTo>
                <a:lnTo>
                  <a:pt x="0" y="170571"/>
                </a:lnTo>
                <a:cubicBezTo>
                  <a:pt x="0" y="76367"/>
                  <a:pt x="76367" y="0"/>
                  <a:pt x="170571" y="0"/>
                </a:cubicBezTo>
                <a:close/>
              </a:path>
            </a:pathLst>
          </a:custGeom>
          <a:solidFill>
            <a:srgbClr val="ccd8e7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соседними углами 23"/>
          <p:cNvSpPr/>
          <p:nvPr/>
        </p:nvSpPr>
        <p:spPr>
          <a:xfrm>
            <a:off x="385920" y="2301840"/>
            <a:ext cx="8439120" cy="4065480"/>
          </a:xfrm>
          <a:custGeom>
            <a:avLst/>
            <a:gdLst/>
            <a:ahLst/>
            <a:rect l="l" t="t" r="r" b="b"/>
            <a:pathLst>
              <a:path w="8439150" h="4065588">
                <a:moveTo>
                  <a:pt x="0" y="0"/>
                </a:moveTo>
                <a:lnTo>
                  <a:pt x="8439150" y="0"/>
                </a:lnTo>
                <a:lnTo>
                  <a:pt x="8439150" y="0"/>
                </a:lnTo>
                <a:lnTo>
                  <a:pt x="8439150" y="3895728"/>
                </a:lnTo>
                <a:cubicBezTo>
                  <a:pt x="8439150" y="3989539"/>
                  <a:pt x="8363101" y="4065588"/>
                  <a:pt x="8269290" y="4065588"/>
                </a:cubicBezTo>
                <a:lnTo>
                  <a:pt x="169860" y="4065588"/>
                </a:lnTo>
                <a:cubicBezTo>
                  <a:pt x="76049" y="4065588"/>
                  <a:pt x="0" y="3989539"/>
                  <a:pt x="0" y="3895728"/>
                </a:cubicBez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2"/>
          <p:cNvSpPr/>
          <p:nvPr/>
        </p:nvSpPr>
        <p:spPr>
          <a:xfrm>
            <a:off x="604440" y="1798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Ус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с двумя скругленными соседними углами 27"/>
          <p:cNvSpPr/>
          <p:nvPr/>
        </p:nvSpPr>
        <p:spPr>
          <a:xfrm>
            <a:off x="2490840" y="1851120"/>
            <a:ext cx="2170080" cy="555480"/>
          </a:xfrm>
          <a:custGeom>
            <a:avLst/>
            <a:gdLst/>
            <a:ahLst/>
            <a:rect l="l" t="t" r="r" b="b"/>
            <a:pathLst>
              <a:path w="2170112" h="555625">
                <a:moveTo>
                  <a:pt x="148507" y="0"/>
                </a:moveTo>
                <a:lnTo>
                  <a:pt x="2021605" y="0"/>
                </a:lnTo>
                <a:cubicBezTo>
                  <a:pt x="2103623" y="0"/>
                  <a:pt x="2170112" y="66489"/>
                  <a:pt x="2170112" y="148507"/>
                </a:cubicBezTo>
                <a:lnTo>
                  <a:pt x="2170112" y="555625"/>
                </a:lnTo>
                <a:lnTo>
                  <a:pt x="2170112" y="555625"/>
                </a:lnTo>
                <a:lnTo>
                  <a:pt x="0" y="555625"/>
                </a:lnTo>
                <a:lnTo>
                  <a:pt x="0" y="555625"/>
                </a:lnTo>
                <a:lnTo>
                  <a:pt x="0" y="148507"/>
                </a:lnTo>
                <a:cubicBezTo>
                  <a:pt x="0" y="66489"/>
                  <a:pt x="66489" y="0"/>
                  <a:pt x="148507" y="0"/>
                </a:cubicBezTo>
                <a:close/>
              </a:path>
            </a:pathLst>
          </a:custGeom>
          <a:solidFill>
            <a:srgbClr val="e6ecf3"/>
          </a:solidFill>
          <a:ln w="936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2639880" y="17892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Пись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соседними углами 29"/>
          <p:cNvSpPr/>
          <p:nvPr/>
        </p:nvSpPr>
        <p:spPr>
          <a:xfrm>
            <a:off x="2409840" y="2322360"/>
            <a:ext cx="2333520" cy="640080"/>
          </a:xfrm>
          <a:custGeom>
            <a:avLst/>
            <a:gdLst/>
            <a:ahLst/>
            <a:rect l="l" t="t" r="r" b="b"/>
            <a:pathLst>
              <a:path w="2333625" h="639762">
                <a:moveTo>
                  <a:pt x="0" y="0"/>
                </a:moveTo>
                <a:lnTo>
                  <a:pt x="2333625" y="0"/>
                </a:lnTo>
                <a:lnTo>
                  <a:pt x="2333625" y="0"/>
                </a:lnTo>
                <a:lnTo>
                  <a:pt x="2333625" y="639762"/>
                </a:lnTo>
                <a:lnTo>
                  <a:pt x="2333625" y="639762"/>
                </a:lnTo>
                <a:lnTo>
                  <a:pt x="0" y="639762"/>
                </a:lnTo>
                <a:lnTo>
                  <a:pt x="0" y="6397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6e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30"/>
          <p:cNvSpPr/>
          <p:nvPr/>
        </p:nvSpPr>
        <p:spPr>
          <a:xfrm flipV="1">
            <a:off x="385920" y="2316240"/>
            <a:ext cx="8439120" cy="1440"/>
          </a:xfrm>
          <a:prstGeom prst="line">
            <a:avLst/>
          </a:prstGeom>
          <a:ln w="9360">
            <a:solidFill>
              <a:srgbClr val="a1b2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32">
            <a:hlinkClick r:id="rId2" action="ppaction://hlinksldjump"/>
          </p:cNvPr>
          <p:cNvSpPr/>
          <p:nvPr/>
        </p:nvSpPr>
        <p:spPr>
          <a:xfrm>
            <a:off x="395280" y="1855800"/>
            <a:ext cx="2103480" cy="46188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4"/>
          <p:cNvGrpSpPr/>
          <p:nvPr/>
        </p:nvGrpSpPr>
        <p:grpSpPr>
          <a:xfrm>
            <a:off x="8350200" y="5918040"/>
            <a:ext cx="355680" cy="355680"/>
            <a:chOff x="8350200" y="5918040"/>
            <a:chExt cx="355680" cy="355680"/>
          </a:xfrm>
        </p:grpSpPr>
        <p:sp>
          <p:nvSpPr>
            <p:cNvPr id="180" name="Овал 51"/>
            <p:cNvSpPr/>
            <p:nvPr/>
          </p:nvSpPr>
          <p:spPr>
            <a:xfrm>
              <a:off x="8350200" y="5918040"/>
              <a:ext cx="344880" cy="355680"/>
            </a:xfrm>
            <a:prstGeom prst="ellipse">
              <a:avLst/>
            </a:prstGeom>
            <a:solidFill>
              <a:srgbClr val="e6ecf3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Равнобедренный треугольник 52"/>
            <p:cNvGrpSpPr/>
            <p:nvPr/>
          </p:nvGrpSpPr>
          <p:grpSpPr>
            <a:xfrm>
              <a:off x="8392680" y="5949360"/>
              <a:ext cx="313200" cy="304920"/>
              <a:chOff x="8392680" y="5949360"/>
              <a:chExt cx="313200" cy="304920"/>
            </a:xfrm>
          </p:grpSpPr>
          <p:pic>
            <p:nvPicPr>
              <p:cNvPr id="182" name="Равнобедренный треугольник 52" descr=""/>
              <p:cNvPicPr/>
              <p:nvPr/>
            </p:nvPicPr>
            <p:blipFill>
              <a:blip r:embed="rId3"/>
              <a:stretch/>
            </p:blipFill>
            <p:spPr>
              <a:xfrm>
                <a:off x="8392680" y="5949360"/>
                <a:ext cx="31320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 rot="5400000">
                <a:off x="8467200" y="6057000"/>
                <a:ext cx="79200" cy="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54"/>
          <p:cNvGrpSpPr/>
          <p:nvPr/>
        </p:nvGrpSpPr>
        <p:grpSpPr>
          <a:xfrm>
            <a:off x="561960" y="2567160"/>
            <a:ext cx="8196120" cy="3749040"/>
            <a:chOff x="561960" y="2567160"/>
            <a:chExt cx="8196120" cy="3749040"/>
          </a:xfrm>
        </p:grpSpPr>
        <p:sp>
          <p:nvSpPr>
            <p:cNvPr id="185" name="TextBox 31"/>
            <p:cNvSpPr/>
            <p:nvPr/>
          </p:nvSpPr>
          <p:spPr>
            <a:xfrm>
              <a:off x="561960" y="2567160"/>
              <a:ext cx="81961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рисуйте схемы строения электронных оболочек атомов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Лит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Маг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рго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Фтор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ер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3"/>
            <p:cNvSpPr/>
            <p:nvPr/>
          </p:nvSpPr>
          <p:spPr>
            <a:xfrm>
              <a:off x="6844680" y="5856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Проверк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Шестиугольник 55"/>
          <p:cNvSpPr/>
          <p:nvPr/>
        </p:nvSpPr>
        <p:spPr>
          <a:xfrm>
            <a:off x="8319960" y="5918040"/>
            <a:ext cx="412920" cy="3556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Группа 56"/>
          <p:cNvGrpSpPr/>
          <p:nvPr/>
        </p:nvGrpSpPr>
        <p:grpSpPr>
          <a:xfrm>
            <a:off x="1338120" y="2584440"/>
            <a:ext cx="928800" cy="1994040"/>
            <a:chOff x="1338120" y="2584440"/>
            <a:chExt cx="928800" cy="1994040"/>
          </a:xfrm>
        </p:grpSpPr>
        <p:sp>
          <p:nvSpPr>
            <p:cNvPr id="189" name="Text Box 13"/>
            <p:cNvSpPr/>
            <p:nvPr/>
          </p:nvSpPr>
          <p:spPr>
            <a:xfrm>
              <a:off x="18446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Дуга 58"/>
            <p:cNvSpPr/>
            <p:nvPr/>
          </p:nvSpPr>
          <p:spPr>
            <a:xfrm>
              <a:off x="13381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Группа 59"/>
          <p:cNvGrpSpPr/>
          <p:nvPr/>
        </p:nvGrpSpPr>
        <p:grpSpPr>
          <a:xfrm>
            <a:off x="1727280" y="2585880"/>
            <a:ext cx="922320" cy="2005200"/>
            <a:chOff x="1727280" y="2585880"/>
            <a:chExt cx="922320" cy="2005200"/>
          </a:xfrm>
        </p:grpSpPr>
        <p:sp>
          <p:nvSpPr>
            <p:cNvPr id="192" name="Дуга 60"/>
            <p:cNvSpPr/>
            <p:nvPr/>
          </p:nvSpPr>
          <p:spPr>
            <a:xfrm>
              <a:off x="17272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3"/>
            <p:cNvSpPr/>
            <p:nvPr/>
          </p:nvSpPr>
          <p:spPr>
            <a:xfrm>
              <a:off x="22273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Группа 62"/>
          <p:cNvGrpSpPr/>
          <p:nvPr/>
        </p:nvGrpSpPr>
        <p:grpSpPr>
          <a:xfrm>
            <a:off x="838080" y="2927520"/>
            <a:ext cx="1022400" cy="838800"/>
            <a:chOff x="838080" y="2927520"/>
            <a:chExt cx="1022400" cy="838800"/>
          </a:xfrm>
        </p:grpSpPr>
        <p:sp>
          <p:nvSpPr>
            <p:cNvPr id="195" name="Text Box 5"/>
            <p:cNvSpPr/>
            <p:nvPr/>
          </p:nvSpPr>
          <p:spPr>
            <a:xfrm>
              <a:off x="1096920" y="2986200"/>
              <a:ext cx="7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L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83808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57464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927000" y="2971800"/>
              <a:ext cx="39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Группа 67"/>
          <p:cNvGrpSpPr/>
          <p:nvPr/>
        </p:nvGrpSpPr>
        <p:grpSpPr>
          <a:xfrm>
            <a:off x="3805200" y="2584440"/>
            <a:ext cx="928800" cy="1994040"/>
            <a:chOff x="3805200" y="2584440"/>
            <a:chExt cx="928800" cy="1994040"/>
          </a:xfrm>
        </p:grpSpPr>
        <p:sp>
          <p:nvSpPr>
            <p:cNvPr id="200" name="Text Box 13"/>
            <p:cNvSpPr/>
            <p:nvPr/>
          </p:nvSpPr>
          <p:spPr>
            <a:xfrm>
              <a:off x="431172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Дуга 69"/>
            <p:cNvSpPr/>
            <p:nvPr/>
          </p:nvSpPr>
          <p:spPr>
            <a:xfrm>
              <a:off x="380520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Группа 70"/>
          <p:cNvGrpSpPr/>
          <p:nvPr/>
        </p:nvGrpSpPr>
        <p:grpSpPr>
          <a:xfrm>
            <a:off x="4194000" y="2585880"/>
            <a:ext cx="922680" cy="2005200"/>
            <a:chOff x="4194000" y="2585880"/>
            <a:chExt cx="922680" cy="2005200"/>
          </a:xfrm>
        </p:grpSpPr>
        <p:sp>
          <p:nvSpPr>
            <p:cNvPr id="203" name="Дуга 71"/>
            <p:cNvSpPr/>
            <p:nvPr/>
          </p:nvSpPr>
          <p:spPr>
            <a:xfrm>
              <a:off x="4194000" y="2585880"/>
              <a:ext cx="85788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46944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Группа 73"/>
          <p:cNvGrpSpPr/>
          <p:nvPr/>
        </p:nvGrpSpPr>
        <p:grpSpPr>
          <a:xfrm>
            <a:off x="3216240" y="2927520"/>
            <a:ext cx="1289160" cy="838800"/>
            <a:chOff x="3216240" y="2927520"/>
            <a:chExt cx="1289160" cy="838800"/>
          </a:xfrm>
        </p:grpSpPr>
        <p:sp>
          <p:nvSpPr>
            <p:cNvPr id="206" name="Text Box 5"/>
            <p:cNvSpPr/>
            <p:nvPr/>
          </p:nvSpPr>
          <p:spPr>
            <a:xfrm>
              <a:off x="356400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M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3"/>
            <p:cNvSpPr/>
            <p:nvPr/>
          </p:nvSpPr>
          <p:spPr>
            <a:xfrm>
              <a:off x="321624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3"/>
            <p:cNvSpPr/>
            <p:nvPr/>
          </p:nvSpPr>
          <p:spPr>
            <a:xfrm>
              <a:off x="421956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330516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24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Группа 78"/>
          <p:cNvGrpSpPr/>
          <p:nvPr/>
        </p:nvGrpSpPr>
        <p:grpSpPr>
          <a:xfrm>
            <a:off x="4583160" y="2585880"/>
            <a:ext cx="922320" cy="2005200"/>
            <a:chOff x="4583160" y="2585880"/>
            <a:chExt cx="922320" cy="2005200"/>
          </a:xfrm>
        </p:grpSpPr>
        <p:sp>
          <p:nvSpPr>
            <p:cNvPr id="211" name="Дуга 79"/>
            <p:cNvSpPr/>
            <p:nvPr/>
          </p:nvSpPr>
          <p:spPr>
            <a:xfrm>
              <a:off x="458316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508320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Группа 81"/>
          <p:cNvGrpSpPr/>
          <p:nvPr/>
        </p:nvGrpSpPr>
        <p:grpSpPr>
          <a:xfrm>
            <a:off x="6649920" y="2584440"/>
            <a:ext cx="928800" cy="1994040"/>
            <a:chOff x="6649920" y="2584440"/>
            <a:chExt cx="928800" cy="1994040"/>
          </a:xfrm>
        </p:grpSpPr>
        <p:sp>
          <p:nvSpPr>
            <p:cNvPr id="214" name="Text Box 13"/>
            <p:cNvSpPr/>
            <p:nvPr/>
          </p:nvSpPr>
          <p:spPr>
            <a:xfrm>
              <a:off x="7156440" y="37530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Дуга 83"/>
            <p:cNvSpPr/>
            <p:nvPr/>
          </p:nvSpPr>
          <p:spPr>
            <a:xfrm>
              <a:off x="6649920" y="25844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84"/>
          <p:cNvGrpSpPr/>
          <p:nvPr/>
        </p:nvGrpSpPr>
        <p:grpSpPr>
          <a:xfrm>
            <a:off x="7039080" y="2585880"/>
            <a:ext cx="922320" cy="2005200"/>
            <a:chOff x="7039080" y="2585880"/>
            <a:chExt cx="922320" cy="2005200"/>
          </a:xfrm>
        </p:grpSpPr>
        <p:sp>
          <p:nvSpPr>
            <p:cNvPr id="217" name="Дуга 85"/>
            <p:cNvSpPr/>
            <p:nvPr/>
          </p:nvSpPr>
          <p:spPr>
            <a:xfrm>
              <a:off x="70390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  <a:lnTo>
                    <a:pt x="428625" y="714375"/>
                  </a:lnTo>
                  <a:lnTo>
                    <a:pt x="696609" y="156843"/>
                  </a:lnTo>
                  <a:close/>
                </a:path>
                <a:path fill="none" w="857249" h="1428750">
                  <a:moveTo>
                    <a:pt x="696609" y="156843"/>
                  </a:moveTo>
                  <a:cubicBezTo>
                    <a:pt x="795089" y="288331"/>
                    <a:pt x="853802" y="485460"/>
                    <a:pt x="857102" y="695694"/>
                  </a:cubicBezTo>
                  <a:cubicBezTo>
                    <a:pt x="860200" y="893045"/>
                    <a:pt x="814158" y="1083735"/>
                    <a:pt x="729905" y="12225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13"/>
            <p:cNvSpPr/>
            <p:nvPr/>
          </p:nvSpPr>
          <p:spPr>
            <a:xfrm>
              <a:off x="75391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Группа 87"/>
          <p:cNvGrpSpPr/>
          <p:nvPr/>
        </p:nvGrpSpPr>
        <p:grpSpPr>
          <a:xfrm>
            <a:off x="6060960" y="2927520"/>
            <a:ext cx="1278000" cy="838800"/>
            <a:chOff x="6060960" y="2927520"/>
            <a:chExt cx="1278000" cy="838800"/>
          </a:xfrm>
        </p:grpSpPr>
        <p:sp>
          <p:nvSpPr>
            <p:cNvPr id="220" name="Text Box 5"/>
            <p:cNvSpPr/>
            <p:nvPr/>
          </p:nvSpPr>
          <p:spPr>
            <a:xfrm>
              <a:off x="6441840" y="298620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A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3"/>
            <p:cNvSpPr/>
            <p:nvPr/>
          </p:nvSpPr>
          <p:spPr>
            <a:xfrm>
              <a:off x="6060960" y="34290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8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3"/>
            <p:cNvSpPr/>
            <p:nvPr/>
          </p:nvSpPr>
          <p:spPr>
            <a:xfrm>
              <a:off x="7027920" y="29275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6149880" y="297180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40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Группа 92"/>
          <p:cNvGrpSpPr/>
          <p:nvPr/>
        </p:nvGrpSpPr>
        <p:grpSpPr>
          <a:xfrm>
            <a:off x="7427880" y="2585880"/>
            <a:ext cx="922320" cy="2005200"/>
            <a:chOff x="7427880" y="2585880"/>
            <a:chExt cx="922320" cy="2005200"/>
          </a:xfrm>
        </p:grpSpPr>
        <p:sp>
          <p:nvSpPr>
            <p:cNvPr id="225" name="Дуга 93"/>
            <p:cNvSpPr/>
            <p:nvPr/>
          </p:nvSpPr>
          <p:spPr>
            <a:xfrm>
              <a:off x="7427880" y="2585880"/>
              <a:ext cx="857520" cy="142920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7927920" y="37656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Группа 95"/>
          <p:cNvGrpSpPr/>
          <p:nvPr/>
        </p:nvGrpSpPr>
        <p:grpSpPr>
          <a:xfrm>
            <a:off x="2538360" y="4494240"/>
            <a:ext cx="928800" cy="1994040"/>
            <a:chOff x="2538360" y="4494240"/>
            <a:chExt cx="928800" cy="1994040"/>
          </a:xfrm>
        </p:grpSpPr>
        <p:sp>
          <p:nvSpPr>
            <p:cNvPr id="228" name="Text Box 13"/>
            <p:cNvSpPr/>
            <p:nvPr/>
          </p:nvSpPr>
          <p:spPr>
            <a:xfrm>
              <a:off x="3044880" y="56628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Дуга 97"/>
            <p:cNvSpPr/>
            <p:nvPr/>
          </p:nvSpPr>
          <p:spPr>
            <a:xfrm>
              <a:off x="2538360" y="449424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Группа 98"/>
          <p:cNvGrpSpPr/>
          <p:nvPr/>
        </p:nvGrpSpPr>
        <p:grpSpPr>
          <a:xfrm>
            <a:off x="2927520" y="4495680"/>
            <a:ext cx="922320" cy="2005200"/>
            <a:chOff x="2927520" y="4495680"/>
            <a:chExt cx="922320" cy="2005200"/>
          </a:xfrm>
        </p:grpSpPr>
        <p:sp>
          <p:nvSpPr>
            <p:cNvPr id="231" name="Дуга 99"/>
            <p:cNvSpPr/>
            <p:nvPr/>
          </p:nvSpPr>
          <p:spPr>
            <a:xfrm>
              <a:off x="2927520" y="449568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3"/>
            <p:cNvSpPr/>
            <p:nvPr/>
          </p:nvSpPr>
          <p:spPr>
            <a:xfrm>
              <a:off x="3427560" y="567540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Группа 101"/>
          <p:cNvGrpSpPr/>
          <p:nvPr/>
        </p:nvGrpSpPr>
        <p:grpSpPr>
          <a:xfrm>
            <a:off x="2038320" y="4836960"/>
            <a:ext cx="1066680" cy="839160"/>
            <a:chOff x="2038320" y="4836960"/>
            <a:chExt cx="1066680" cy="839160"/>
          </a:xfrm>
        </p:grpSpPr>
        <p:sp>
          <p:nvSpPr>
            <p:cNvPr id="234" name="Text Box 5"/>
            <p:cNvSpPr/>
            <p:nvPr/>
          </p:nvSpPr>
          <p:spPr>
            <a:xfrm>
              <a:off x="2390760" y="4895640"/>
              <a:ext cx="71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F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2038320" y="533880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2774880" y="483696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3"/>
            <p:cNvSpPr/>
            <p:nvPr/>
          </p:nvSpPr>
          <p:spPr>
            <a:xfrm>
              <a:off x="2126880" y="488124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9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Группа 106"/>
          <p:cNvGrpSpPr/>
          <p:nvPr/>
        </p:nvGrpSpPr>
        <p:grpSpPr>
          <a:xfrm>
            <a:off x="5370480" y="4405320"/>
            <a:ext cx="928800" cy="1994040"/>
            <a:chOff x="5370480" y="4405320"/>
            <a:chExt cx="928800" cy="1994040"/>
          </a:xfrm>
        </p:grpSpPr>
        <p:sp>
          <p:nvSpPr>
            <p:cNvPr id="239" name="Text Box 13"/>
            <p:cNvSpPr/>
            <p:nvPr/>
          </p:nvSpPr>
          <p:spPr>
            <a:xfrm>
              <a:off x="5877000" y="55738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Дуга 108"/>
            <p:cNvSpPr/>
            <p:nvPr/>
          </p:nvSpPr>
          <p:spPr>
            <a:xfrm>
              <a:off x="5370480" y="440532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50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Группа 109"/>
          <p:cNvGrpSpPr/>
          <p:nvPr/>
        </p:nvGrpSpPr>
        <p:grpSpPr>
          <a:xfrm>
            <a:off x="5759280" y="4406760"/>
            <a:ext cx="922680" cy="2005200"/>
            <a:chOff x="5759280" y="4406760"/>
            <a:chExt cx="922680" cy="2005200"/>
          </a:xfrm>
        </p:grpSpPr>
        <p:sp>
          <p:nvSpPr>
            <p:cNvPr id="242" name="Дуга 110"/>
            <p:cNvSpPr/>
            <p:nvPr/>
          </p:nvSpPr>
          <p:spPr>
            <a:xfrm>
              <a:off x="5759280" y="4406760"/>
              <a:ext cx="857880" cy="1428840"/>
            </a:xfrm>
            <a:custGeom>
              <a:avLst/>
              <a:gdLst/>
              <a:ahLst/>
              <a:rect l="l" t="t" r="r" b="b"/>
              <a:pathLst>
                <a:path stroke="0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  <a:lnTo>
                    <a:pt x="428625" y="714375"/>
                  </a:lnTo>
                  <a:lnTo>
                    <a:pt x="696609" y="156842"/>
                  </a:lnTo>
                  <a:close/>
                </a:path>
                <a:path fill="none" w="857249" h="1428749">
                  <a:moveTo>
                    <a:pt x="696609" y="156842"/>
                  </a:moveTo>
                  <a:cubicBezTo>
                    <a:pt x="795089" y="288330"/>
                    <a:pt x="853802" y="485459"/>
                    <a:pt x="857102" y="695693"/>
                  </a:cubicBezTo>
                  <a:cubicBezTo>
                    <a:pt x="860200" y="893044"/>
                    <a:pt x="814158" y="1083734"/>
                    <a:pt x="729905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3"/>
            <p:cNvSpPr/>
            <p:nvPr/>
          </p:nvSpPr>
          <p:spPr>
            <a:xfrm>
              <a:off x="62596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Группа 112"/>
          <p:cNvGrpSpPr/>
          <p:nvPr/>
        </p:nvGrpSpPr>
        <p:grpSpPr>
          <a:xfrm>
            <a:off x="4883040" y="4748040"/>
            <a:ext cx="1354320" cy="839160"/>
            <a:chOff x="4883040" y="4748040"/>
            <a:chExt cx="1354320" cy="839160"/>
          </a:xfrm>
        </p:grpSpPr>
        <p:sp>
          <p:nvSpPr>
            <p:cNvPr id="245" name="Text Box 5"/>
            <p:cNvSpPr/>
            <p:nvPr/>
          </p:nvSpPr>
          <p:spPr>
            <a:xfrm>
              <a:off x="5340240" y="4806720"/>
              <a:ext cx="89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mbria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4883040" y="5249880"/>
              <a:ext cx="64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16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5748480" y="47480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4947840" y="4792320"/>
              <a:ext cx="48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mbria"/>
                </a:rPr>
                <a:t>32</a:t>
              </a:r>
              <a:r>
                <a:rPr b="0" lang="ru-RU" sz="1600" spc="-1" strike="noStrike">
                  <a:solidFill>
                    <a:srgbClr val="000000"/>
                  </a:solidFill>
                  <a:latin typeface="Cambri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Группа 117"/>
          <p:cNvGrpSpPr/>
          <p:nvPr/>
        </p:nvGrpSpPr>
        <p:grpSpPr>
          <a:xfrm>
            <a:off x="6148440" y="4406760"/>
            <a:ext cx="922320" cy="2005200"/>
            <a:chOff x="6148440" y="4406760"/>
            <a:chExt cx="922320" cy="2005200"/>
          </a:xfrm>
        </p:grpSpPr>
        <p:sp>
          <p:nvSpPr>
            <p:cNvPr id="250" name="Дуга 118"/>
            <p:cNvSpPr/>
            <p:nvPr/>
          </p:nvSpPr>
          <p:spPr>
            <a:xfrm>
              <a:off x="6148440" y="4406760"/>
              <a:ext cx="857520" cy="1428840"/>
            </a:xfrm>
            <a:custGeom>
              <a:avLst/>
              <a:gdLst/>
              <a:ahLst/>
              <a:rect l="l" t="t" r="r" b="b"/>
              <a:pathLst>
                <a:path stroke="0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  <a:lnTo>
                    <a:pt x="428625" y="714375"/>
                  </a:lnTo>
                  <a:lnTo>
                    <a:pt x="696610" y="156842"/>
                  </a:lnTo>
                  <a:close/>
                </a:path>
                <a:path fill="none" w="857250" h="1428749">
                  <a:moveTo>
                    <a:pt x="696610" y="156842"/>
                  </a:moveTo>
                  <a:cubicBezTo>
                    <a:pt x="795090" y="288330"/>
                    <a:pt x="853803" y="485459"/>
                    <a:pt x="857103" y="695693"/>
                  </a:cubicBezTo>
                  <a:cubicBezTo>
                    <a:pt x="860201" y="893044"/>
                    <a:pt x="814159" y="1083734"/>
                    <a:pt x="729906" y="12225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6648480" y="5586480"/>
              <a:ext cx="42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120"/>
          <p:cNvSpPr/>
          <p:nvPr/>
        </p:nvSpPr>
        <p:spPr>
          <a:xfrm>
            <a:off x="7289280" y="5856120"/>
            <a:ext cx="10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TextBox 84" descr=""/>
          <p:cNvPicPr/>
          <p:nvPr/>
        </p:nvPicPr>
        <p:blipFill>
          <a:blip r:embed="rId4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Группа 125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grpSp>
          <p:nvGrpSpPr>
            <p:cNvPr id="255" name="Группа 73"/>
            <p:cNvGrpSpPr/>
            <p:nvPr/>
          </p:nvGrpSpPr>
          <p:grpSpPr>
            <a:xfrm>
              <a:off x="259560" y="1784520"/>
              <a:ext cx="8668440" cy="4667040"/>
              <a:chOff x="259560" y="1784520"/>
              <a:chExt cx="8668440" cy="4667040"/>
            </a:xfrm>
          </p:grpSpPr>
          <p:sp>
            <p:nvSpPr>
              <p:cNvPr id="256" name="Прямоугольник с двумя скругленными соседними углами 5"/>
              <p:cNvSpPr/>
              <p:nvPr/>
            </p:nvSpPr>
            <p:spPr>
              <a:xfrm>
                <a:off x="260280" y="1784520"/>
                <a:ext cx="8667720" cy="4667040"/>
              </a:xfrm>
              <a:custGeom>
                <a:avLst/>
                <a:gdLst/>
                <a:ahLst/>
                <a:rect l="l" t="t" r="r" b="b"/>
                <a:pathLst>
                  <a:path w="8667750" h="3956049">
                    <a:moveTo>
                      <a:pt x="41420" y="0"/>
                    </a:moveTo>
                    <a:lnTo>
                      <a:pt x="8626330" y="0"/>
                    </a:lnTo>
                    <a:cubicBezTo>
                      <a:pt x="8649206" y="0"/>
                      <a:pt x="8667750" y="18544"/>
                      <a:pt x="8667750" y="41420"/>
                    </a:cubicBezTo>
                    <a:lnTo>
                      <a:pt x="8667750" y="3892871"/>
                    </a:lnTo>
                    <a:cubicBezTo>
                      <a:pt x="8667750" y="3927763"/>
                      <a:pt x="8639464" y="3956049"/>
                      <a:pt x="8604572" y="3956049"/>
                    </a:cubicBezTo>
                    <a:lnTo>
                      <a:pt x="63178" y="3956049"/>
                    </a:lnTo>
                    <a:cubicBezTo>
                      <a:pt x="28286" y="3956049"/>
                      <a:pt x="0" y="3927763"/>
                      <a:pt x="0" y="3892871"/>
                    </a:cubicBezTo>
                    <a:lnTo>
                      <a:pt x="0" y="41420"/>
                    </a:lnTo>
                    <a:cubicBezTo>
                      <a:pt x="0" y="18544"/>
                      <a:pt x="18544" y="0"/>
                      <a:pt x="41420" y="0"/>
                    </a:cubicBezTo>
                    <a:close/>
                  </a:path>
                </a:pathLst>
              </a:custGeom>
              <a:solidFill>
                <a:srgbClr val="e6ecf3"/>
              </a:solidFill>
              <a:ln w="93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Прямая соединительная линия 6"/>
              <p:cNvSpPr/>
              <p:nvPr/>
            </p:nvSpPr>
            <p:spPr>
              <a:xfrm flipV="1">
                <a:off x="259560" y="2718000"/>
                <a:ext cx="8667720" cy="1440"/>
              </a:xfrm>
              <a:prstGeom prst="line">
                <a:avLst/>
              </a:prstGeom>
              <a:ln w="9360">
                <a:solidFill>
                  <a:srgbClr val="a1b2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Группа 114"/>
            <p:cNvGrpSpPr/>
            <p:nvPr/>
          </p:nvGrpSpPr>
          <p:grpSpPr>
            <a:xfrm>
              <a:off x="376560" y="3429000"/>
              <a:ext cx="2905920" cy="2459520"/>
              <a:chOff x="376560" y="3429000"/>
              <a:chExt cx="2905920" cy="2459520"/>
            </a:xfrm>
          </p:grpSpPr>
          <p:sp>
            <p:nvSpPr>
              <p:cNvPr id="259" name="TextBox 61"/>
              <p:cNvSpPr/>
              <p:nvPr/>
            </p:nvSpPr>
            <p:spPr>
              <a:xfrm>
                <a:off x="911520" y="3725640"/>
                <a:ext cx="957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600" spc="-1" strike="noStrike">
                    <a:solidFill>
                      <a:srgbClr val="000000"/>
                    </a:solidFill>
                    <a:latin typeface="Cambria"/>
                  </a:rPr>
                  <a:t>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Box 62"/>
              <p:cNvSpPr/>
              <p:nvPr/>
            </p:nvSpPr>
            <p:spPr>
              <a:xfrm>
                <a:off x="376560" y="490680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+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63"/>
              <p:cNvSpPr/>
              <p:nvPr/>
            </p:nvSpPr>
            <p:spPr>
              <a:xfrm>
                <a:off x="577080" y="3794040"/>
                <a:ext cx="47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3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64"/>
              <p:cNvSpPr/>
              <p:nvPr/>
            </p:nvSpPr>
            <p:spPr>
              <a:xfrm>
                <a:off x="1600920" y="374940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mbria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Дуга 65"/>
              <p:cNvSpPr/>
              <p:nvPr/>
            </p:nvSpPr>
            <p:spPr>
              <a:xfrm>
                <a:off x="8377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68"/>
              <p:cNvSpPr/>
              <p:nvPr/>
            </p:nvSpPr>
            <p:spPr>
              <a:xfrm>
                <a:off x="1963800" y="542880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Дуга 110"/>
              <p:cNvSpPr/>
              <p:nvPr/>
            </p:nvSpPr>
            <p:spPr>
              <a:xfrm>
                <a:off x="12823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Дуга 111"/>
              <p:cNvSpPr/>
              <p:nvPr/>
            </p:nvSpPr>
            <p:spPr>
              <a:xfrm>
                <a:off x="1726920" y="3429000"/>
                <a:ext cx="1555560" cy="2266560"/>
              </a:xfrm>
              <a:custGeom>
                <a:avLst/>
                <a:gdLst/>
                <a:ahLst/>
                <a:rect l="l" t="t" r="r" b="b"/>
                <a:pathLst>
                  <a:path stroke="0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  <a:lnTo>
                      <a:pt x="777875" y="1133475"/>
                    </a:lnTo>
                    <a:lnTo>
                      <a:pt x="1223720" y="204655"/>
                    </a:lnTo>
                    <a:close/>
                  </a:path>
                  <a:path fill="none" w="1555750" h="2266950">
                    <a:moveTo>
                      <a:pt x="1223720" y="204655"/>
                    </a:moveTo>
                    <a:cubicBezTo>
                      <a:pt x="1423839" y="408615"/>
                      <a:pt x="1546607" y="737678"/>
                      <a:pt x="1555261" y="1093308"/>
                    </a:cubicBezTo>
                    <a:cubicBezTo>
                      <a:pt x="1563444" y="1429556"/>
                      <a:pt x="1468685" y="1753723"/>
                      <a:pt x="1296624" y="1978101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Box 112"/>
              <p:cNvSpPr/>
              <p:nvPr/>
            </p:nvSpPr>
            <p:spPr>
              <a:xfrm>
                <a:off x="2406240" y="5428800"/>
                <a:ext cx="328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TextBox 113"/>
              <p:cNvSpPr/>
              <p:nvPr/>
            </p:nvSpPr>
            <p:spPr>
              <a:xfrm>
                <a:off x="2852280" y="5428800"/>
                <a:ext cx="32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Cambri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15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1">
            <a:hlinkClick r:id="rId2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59"/>
          <p:cNvSpPr/>
          <p:nvPr/>
        </p:nvSpPr>
        <p:spPr>
          <a:xfrm>
            <a:off x="260280" y="1962000"/>
            <a:ext cx="866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Энергетический уровень состоит из подуров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Группа 129"/>
          <p:cNvGrpSpPr/>
          <p:nvPr/>
        </p:nvGrpSpPr>
        <p:grpSpPr>
          <a:xfrm>
            <a:off x="4451760" y="2673360"/>
            <a:ext cx="4433400" cy="1008000"/>
            <a:chOff x="4451760" y="2673360"/>
            <a:chExt cx="4433400" cy="1008000"/>
          </a:xfrm>
        </p:grpSpPr>
        <p:sp>
          <p:nvSpPr>
            <p:cNvPr id="274" name="TextBox 74"/>
            <p:cNvSpPr/>
            <p:nvPr/>
          </p:nvSpPr>
          <p:spPr>
            <a:xfrm>
              <a:off x="4451760" y="2673360"/>
              <a:ext cx="23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Первы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75"/>
            <p:cNvSpPr/>
            <p:nvPr/>
          </p:nvSpPr>
          <p:spPr>
            <a:xfrm>
              <a:off x="4532760" y="314784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89"/>
            <p:cNvSpPr/>
            <p:nvPr/>
          </p:nvSpPr>
          <p:spPr>
            <a:xfrm>
              <a:off x="4527360" y="36799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Группа 124"/>
          <p:cNvGrpSpPr/>
          <p:nvPr/>
        </p:nvGrpSpPr>
        <p:grpSpPr>
          <a:xfrm>
            <a:off x="3683160" y="2762280"/>
            <a:ext cx="708480" cy="1154520"/>
            <a:chOff x="3683160" y="2762280"/>
            <a:chExt cx="708480" cy="1154520"/>
          </a:xfrm>
        </p:grpSpPr>
        <p:sp>
          <p:nvSpPr>
            <p:cNvPr id="279" name="Дуга 115"/>
            <p:cNvSpPr/>
            <p:nvPr/>
          </p:nvSpPr>
          <p:spPr>
            <a:xfrm>
              <a:off x="3683160" y="276228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18"/>
            <p:cNvSpPr/>
            <p:nvPr/>
          </p:nvSpPr>
          <p:spPr>
            <a:xfrm>
              <a:off x="4098240" y="3579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Группа 122"/>
          <p:cNvGrpSpPr/>
          <p:nvPr/>
        </p:nvGrpSpPr>
        <p:grpSpPr>
          <a:xfrm>
            <a:off x="3683160" y="3962520"/>
            <a:ext cx="708480" cy="1154520"/>
            <a:chOff x="3683160" y="3962520"/>
            <a:chExt cx="708480" cy="1154520"/>
          </a:xfrm>
        </p:grpSpPr>
        <p:sp>
          <p:nvSpPr>
            <p:cNvPr id="282" name="Дуга 116"/>
            <p:cNvSpPr/>
            <p:nvPr/>
          </p:nvSpPr>
          <p:spPr>
            <a:xfrm>
              <a:off x="3683160" y="3962520"/>
              <a:ext cx="666720" cy="97776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19"/>
            <p:cNvSpPr/>
            <p:nvPr/>
          </p:nvSpPr>
          <p:spPr>
            <a:xfrm>
              <a:off x="4098240" y="4779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Группа 121"/>
          <p:cNvGrpSpPr/>
          <p:nvPr/>
        </p:nvGrpSpPr>
        <p:grpSpPr>
          <a:xfrm>
            <a:off x="3683160" y="5251320"/>
            <a:ext cx="708480" cy="1154880"/>
            <a:chOff x="3683160" y="5251320"/>
            <a:chExt cx="708480" cy="1154880"/>
          </a:xfrm>
        </p:grpSpPr>
        <p:sp>
          <p:nvSpPr>
            <p:cNvPr id="285" name="Дуга 117"/>
            <p:cNvSpPr/>
            <p:nvPr/>
          </p:nvSpPr>
          <p:spPr>
            <a:xfrm>
              <a:off x="3683160" y="5251320"/>
              <a:ext cx="666720" cy="978120"/>
            </a:xfrm>
            <a:custGeom>
              <a:avLst/>
              <a:gdLst/>
              <a:ahLst/>
              <a:rect l="l" t="t" r="r" b="b"/>
              <a:pathLst>
                <a:path stroke="0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  <a:lnTo>
                    <a:pt x="333375" y="488950"/>
                  </a:lnTo>
                  <a:lnTo>
                    <a:pt x="525288" y="89143"/>
                  </a:lnTo>
                  <a:close/>
                </a:path>
                <a:path fill="none" w="666750" h="977900">
                  <a:moveTo>
                    <a:pt x="525288" y="89143"/>
                  </a:moveTo>
                  <a:cubicBezTo>
                    <a:pt x="610597" y="177230"/>
                    <a:pt x="662871" y="318812"/>
                    <a:pt x="666544" y="471735"/>
                  </a:cubicBezTo>
                  <a:cubicBezTo>
                    <a:pt x="670014" y="616192"/>
                    <a:pt x="629726" y="755497"/>
                    <a:pt x="556500" y="852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20"/>
            <p:cNvSpPr/>
            <p:nvPr/>
          </p:nvSpPr>
          <p:spPr>
            <a:xfrm>
              <a:off x="4098240" y="6068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Группа 128"/>
          <p:cNvGrpSpPr/>
          <p:nvPr/>
        </p:nvGrpSpPr>
        <p:grpSpPr>
          <a:xfrm>
            <a:off x="838080" y="3429000"/>
            <a:ext cx="1555920" cy="2442600"/>
            <a:chOff x="838080" y="3429000"/>
            <a:chExt cx="1555920" cy="2442600"/>
          </a:xfrm>
        </p:grpSpPr>
        <p:sp>
          <p:nvSpPr>
            <p:cNvPr id="288" name="Дуга 126"/>
            <p:cNvSpPr/>
            <p:nvPr/>
          </p:nvSpPr>
          <p:spPr>
            <a:xfrm>
              <a:off x="8380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27"/>
            <p:cNvSpPr/>
            <p:nvPr/>
          </p:nvSpPr>
          <p:spPr>
            <a:xfrm>
              <a:off x="1964160" y="54118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Группа 151"/>
          <p:cNvGrpSpPr/>
          <p:nvPr/>
        </p:nvGrpSpPr>
        <p:grpSpPr>
          <a:xfrm>
            <a:off x="4492800" y="3695760"/>
            <a:ext cx="4392360" cy="1276200"/>
            <a:chOff x="4492800" y="3695760"/>
            <a:chExt cx="4392360" cy="1276200"/>
          </a:xfrm>
        </p:grpSpPr>
        <p:sp>
          <p:nvSpPr>
            <p:cNvPr id="291" name="Прямая соединительная линия 90"/>
            <p:cNvSpPr/>
            <p:nvPr/>
          </p:nvSpPr>
          <p:spPr>
            <a:xfrm>
              <a:off x="4527360" y="4970520"/>
              <a:ext cx="4357800" cy="1440"/>
            </a:xfrm>
            <a:prstGeom prst="line">
              <a:avLst/>
            </a:prstGeom>
            <a:ln w="9360">
              <a:solidFill>
                <a:srgbClr val="a7a2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130"/>
            <p:cNvSpPr/>
            <p:nvPr/>
          </p:nvSpPr>
          <p:spPr>
            <a:xfrm>
              <a:off x="4492800" y="3695760"/>
              <a:ext cx="224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Второ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46"/>
            <p:cNvSpPr/>
            <p:nvPr/>
          </p:nvSpPr>
          <p:spPr>
            <a:xfrm>
              <a:off x="4532760" y="412596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147"/>
            <p:cNvSpPr/>
            <p:nvPr/>
          </p:nvSpPr>
          <p:spPr>
            <a:xfrm>
              <a:off x="4533480" y="445140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Группа 148"/>
          <p:cNvGrpSpPr/>
          <p:nvPr/>
        </p:nvGrpSpPr>
        <p:grpSpPr>
          <a:xfrm>
            <a:off x="1282680" y="3429000"/>
            <a:ext cx="1555920" cy="2442600"/>
            <a:chOff x="1282680" y="3429000"/>
            <a:chExt cx="1555920" cy="2442600"/>
          </a:xfrm>
        </p:grpSpPr>
        <p:sp>
          <p:nvSpPr>
            <p:cNvPr id="296" name="Дуга 149"/>
            <p:cNvSpPr/>
            <p:nvPr/>
          </p:nvSpPr>
          <p:spPr>
            <a:xfrm>
              <a:off x="1282680" y="3429000"/>
              <a:ext cx="155592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50"/>
            <p:cNvSpPr/>
            <p:nvPr/>
          </p:nvSpPr>
          <p:spPr>
            <a:xfrm>
              <a:off x="2406600" y="541188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Группа 152"/>
          <p:cNvGrpSpPr/>
          <p:nvPr/>
        </p:nvGrpSpPr>
        <p:grpSpPr>
          <a:xfrm>
            <a:off x="4484520" y="4984920"/>
            <a:ext cx="2219760" cy="1479600"/>
            <a:chOff x="4484520" y="4984920"/>
            <a:chExt cx="2219760" cy="1479600"/>
          </a:xfrm>
        </p:grpSpPr>
        <p:sp>
          <p:nvSpPr>
            <p:cNvPr id="299" name="TextBox 154"/>
            <p:cNvSpPr/>
            <p:nvPr/>
          </p:nvSpPr>
          <p:spPr>
            <a:xfrm>
              <a:off x="4484520" y="4984920"/>
              <a:ext cx="22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Третий уров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155"/>
            <p:cNvSpPr/>
            <p:nvPr/>
          </p:nvSpPr>
          <p:spPr>
            <a:xfrm>
              <a:off x="4532760" y="54151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56"/>
            <p:cNvSpPr/>
            <p:nvPr/>
          </p:nvSpPr>
          <p:spPr>
            <a:xfrm>
              <a:off x="4533480" y="5740560"/>
              <a:ext cx="168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57"/>
            <p:cNvSpPr/>
            <p:nvPr/>
          </p:nvSpPr>
          <p:spPr>
            <a:xfrm>
              <a:off x="4533480" y="60962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одуровен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Группа 158"/>
          <p:cNvGrpSpPr/>
          <p:nvPr/>
        </p:nvGrpSpPr>
        <p:grpSpPr>
          <a:xfrm>
            <a:off x="1727280" y="3429000"/>
            <a:ext cx="1555560" cy="2442600"/>
            <a:chOff x="1727280" y="3429000"/>
            <a:chExt cx="1555560" cy="2442600"/>
          </a:xfrm>
        </p:grpSpPr>
        <p:sp>
          <p:nvSpPr>
            <p:cNvPr id="304" name="Дуга 159"/>
            <p:cNvSpPr/>
            <p:nvPr/>
          </p:nvSpPr>
          <p:spPr>
            <a:xfrm>
              <a:off x="1727280" y="3429000"/>
              <a:ext cx="1555560" cy="2267280"/>
            </a:xfrm>
            <a:custGeom>
              <a:avLst/>
              <a:gdLst/>
              <a:ahLst/>
              <a:rect l="l" t="t" r="r" b="b"/>
              <a:pathLst>
                <a:path stroke="0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  <a:lnTo>
                    <a:pt x="777875" y="1133475"/>
                  </a:lnTo>
                  <a:lnTo>
                    <a:pt x="1223720" y="204655"/>
                  </a:lnTo>
                  <a:close/>
                </a:path>
                <a:path fill="none" w="1555750" h="2266950">
                  <a:moveTo>
                    <a:pt x="1223720" y="204655"/>
                  </a:moveTo>
                  <a:cubicBezTo>
                    <a:pt x="1423839" y="408615"/>
                    <a:pt x="1546607" y="737678"/>
                    <a:pt x="1555261" y="1093308"/>
                  </a:cubicBezTo>
                  <a:cubicBezTo>
                    <a:pt x="1563444" y="1429556"/>
                    <a:pt x="1468685" y="1753723"/>
                    <a:pt x="1296624" y="1978101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60"/>
            <p:cNvSpPr/>
            <p:nvPr/>
          </p:nvSpPr>
          <p:spPr>
            <a:xfrm>
              <a:off x="2852640" y="54118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Прямоугольник 162"/>
          <p:cNvSpPr/>
          <p:nvPr/>
        </p:nvSpPr>
        <p:spPr>
          <a:xfrm>
            <a:off x="7194600" y="302904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65"/>
          <p:cNvSpPr/>
          <p:nvPr/>
        </p:nvSpPr>
        <p:spPr>
          <a:xfrm>
            <a:off x="4404600" y="314784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66"/>
          <p:cNvSpPr/>
          <p:nvPr/>
        </p:nvSpPr>
        <p:spPr>
          <a:xfrm>
            <a:off x="7194600" y="400680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67"/>
          <p:cNvSpPr/>
          <p:nvPr/>
        </p:nvSpPr>
        <p:spPr>
          <a:xfrm>
            <a:off x="4404600" y="412596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68"/>
          <p:cNvSpPr/>
          <p:nvPr/>
        </p:nvSpPr>
        <p:spPr>
          <a:xfrm>
            <a:off x="7194600" y="5295960"/>
            <a:ext cx="311040" cy="311040"/>
          </a:xfrm>
          <a:prstGeom prst="rect">
            <a:avLst/>
          </a:prstGeom>
          <a:solidFill>
            <a:srgbClr val="fdf69c"/>
          </a:solidFill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169"/>
          <p:cNvSpPr/>
          <p:nvPr/>
        </p:nvSpPr>
        <p:spPr>
          <a:xfrm>
            <a:off x="4404600" y="541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Группа 173"/>
          <p:cNvGrpSpPr/>
          <p:nvPr/>
        </p:nvGrpSpPr>
        <p:grpSpPr>
          <a:xfrm>
            <a:off x="7194600" y="4406760"/>
            <a:ext cx="933480" cy="311400"/>
            <a:chOff x="7194600" y="4406760"/>
            <a:chExt cx="933480" cy="311400"/>
          </a:xfrm>
        </p:grpSpPr>
        <p:sp>
          <p:nvSpPr>
            <p:cNvPr id="313" name="Прямоугольник 170"/>
            <p:cNvSpPr/>
            <p:nvPr/>
          </p:nvSpPr>
          <p:spPr>
            <a:xfrm>
              <a:off x="719460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Прямоугольник 171"/>
            <p:cNvSpPr/>
            <p:nvPr/>
          </p:nvSpPr>
          <p:spPr>
            <a:xfrm>
              <a:off x="75056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Прямоугольник 172"/>
            <p:cNvSpPr/>
            <p:nvPr/>
          </p:nvSpPr>
          <p:spPr>
            <a:xfrm>
              <a:off x="7817040" y="440676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оугольник 174"/>
          <p:cNvSpPr/>
          <p:nvPr/>
        </p:nvSpPr>
        <p:spPr>
          <a:xfrm>
            <a:off x="4418280" y="445140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Группа 175"/>
          <p:cNvGrpSpPr/>
          <p:nvPr/>
        </p:nvGrpSpPr>
        <p:grpSpPr>
          <a:xfrm>
            <a:off x="7194600" y="5695920"/>
            <a:ext cx="933480" cy="311040"/>
            <a:chOff x="7194600" y="5695920"/>
            <a:chExt cx="933480" cy="311040"/>
          </a:xfrm>
        </p:grpSpPr>
        <p:sp>
          <p:nvSpPr>
            <p:cNvPr id="318" name="Прямоугольник 176"/>
            <p:cNvSpPr/>
            <p:nvPr/>
          </p:nvSpPr>
          <p:spPr>
            <a:xfrm>
              <a:off x="719460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Прямоугольник 177"/>
            <p:cNvSpPr/>
            <p:nvPr/>
          </p:nvSpPr>
          <p:spPr>
            <a:xfrm>
              <a:off x="75056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Прямоугольник 178"/>
            <p:cNvSpPr/>
            <p:nvPr/>
          </p:nvSpPr>
          <p:spPr>
            <a:xfrm>
              <a:off x="7817040" y="5695920"/>
              <a:ext cx="311040" cy="3110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Прямоугольник 179"/>
          <p:cNvSpPr/>
          <p:nvPr/>
        </p:nvSpPr>
        <p:spPr>
          <a:xfrm>
            <a:off x="4418280" y="574056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Группа 180"/>
          <p:cNvGrpSpPr/>
          <p:nvPr/>
        </p:nvGrpSpPr>
        <p:grpSpPr>
          <a:xfrm>
            <a:off x="7194600" y="6095880"/>
            <a:ext cx="1555560" cy="311400"/>
            <a:chOff x="7194600" y="6095880"/>
            <a:chExt cx="1555560" cy="311400"/>
          </a:xfrm>
        </p:grpSpPr>
        <p:sp>
          <p:nvSpPr>
            <p:cNvPr id="323" name="Прямоугольник 181"/>
            <p:cNvSpPr/>
            <p:nvPr/>
          </p:nvSpPr>
          <p:spPr>
            <a:xfrm>
              <a:off x="719460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Прямоугольник 182"/>
            <p:cNvSpPr/>
            <p:nvPr/>
          </p:nvSpPr>
          <p:spPr>
            <a:xfrm>
              <a:off x="750564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Прямоугольник 183"/>
            <p:cNvSpPr/>
            <p:nvPr/>
          </p:nvSpPr>
          <p:spPr>
            <a:xfrm>
              <a:off x="78166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Прямоугольник 185"/>
            <p:cNvSpPr/>
            <p:nvPr/>
          </p:nvSpPr>
          <p:spPr>
            <a:xfrm>
              <a:off x="812808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Прямоугольник 186"/>
            <p:cNvSpPr/>
            <p:nvPr/>
          </p:nvSpPr>
          <p:spPr>
            <a:xfrm>
              <a:off x="8439120" y="6095880"/>
              <a:ext cx="311040" cy="31140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Прямоугольник 184"/>
          <p:cNvSpPr/>
          <p:nvPr/>
        </p:nvSpPr>
        <p:spPr>
          <a:xfrm>
            <a:off x="4418280" y="6095880"/>
            <a:ext cx="4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7.40741E-007 L 0.22968 -0.19792 E">
                                      <p:cBhvr>
                                        <p:cTn id="102" dur="1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7.40741E-007 L 0.17621 -0.02083 E">
                                      <p:cBhvr>
                                        <p:cTn id="119" dur="1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40741E-007 L 0.1276 0.16296 E">
                                      <p:cBhvr>
                                        <p:cTn id="136" dur="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44737E-006 L 0.25816 -0.01873 E">
                                      <p:cBhvr>
                                        <p:cTn id="165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1395E-006 L 0.25816 -0.01689 E">
                                      <p:cBhvr>
                                        <p:cTn id="167" dur="1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1.39024E-006 L 0.25816 -0.01457 E">
                                      <p:cBhvr>
                                        <p:cTn id="169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14134E-006 L 0.25504 -0.0118 E">
                                      <p:cBhvr>
                                        <p:cTn id="188" dur="1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6.17627E-007 L 0.25504 -0.00948 E">
                                      <p:cBhvr>
                                        <p:cTn id="190" dur="1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74902E-006 L 0.25504 -0.00232 E">
                                      <p:cBhvr>
                                        <p:cTn id="204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Группа 73"/>
          <p:cNvGrpSpPr/>
          <p:nvPr/>
        </p:nvGrpSpPr>
        <p:grpSpPr>
          <a:xfrm>
            <a:off x="259560" y="1784520"/>
            <a:ext cx="8668440" cy="4667040"/>
            <a:chOff x="259560" y="1784520"/>
            <a:chExt cx="8668440" cy="4667040"/>
          </a:xfrm>
        </p:grpSpPr>
        <p:sp>
          <p:nvSpPr>
            <p:cNvPr id="330" name="Прямоугольник с двумя скругленными соседними углами 5"/>
            <p:cNvSpPr/>
            <p:nvPr/>
          </p:nvSpPr>
          <p:spPr>
            <a:xfrm>
              <a:off x="260280" y="1784520"/>
              <a:ext cx="8667720" cy="4667040"/>
            </a:xfrm>
            <a:custGeom>
              <a:avLst/>
              <a:gdLst/>
              <a:ahLst/>
              <a:rect l="l" t="t" r="r" b="b"/>
              <a:pathLst>
                <a:path w="8667750" h="3956049">
                  <a:moveTo>
                    <a:pt x="41420" y="0"/>
                  </a:moveTo>
                  <a:lnTo>
                    <a:pt x="8626330" y="0"/>
                  </a:lnTo>
                  <a:cubicBezTo>
                    <a:pt x="8649206" y="0"/>
                    <a:pt x="8667750" y="18544"/>
                    <a:pt x="8667750" y="41420"/>
                  </a:cubicBezTo>
                  <a:lnTo>
                    <a:pt x="8667750" y="3892871"/>
                  </a:lnTo>
                  <a:cubicBezTo>
                    <a:pt x="8667750" y="3927763"/>
                    <a:pt x="8639464" y="3956049"/>
                    <a:pt x="8604572" y="3956049"/>
                  </a:cubicBezTo>
                  <a:lnTo>
                    <a:pt x="63178" y="3956049"/>
                  </a:lnTo>
                  <a:cubicBezTo>
                    <a:pt x="28286" y="3956049"/>
                    <a:pt x="0" y="3927763"/>
                    <a:pt x="0" y="3892871"/>
                  </a:cubicBezTo>
                  <a:lnTo>
                    <a:pt x="0" y="41420"/>
                  </a:lnTo>
                  <a:cubicBezTo>
                    <a:pt x="0" y="18544"/>
                    <a:pt x="18544" y="0"/>
                    <a:pt x="41420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6"/>
            <p:cNvSpPr/>
            <p:nvPr/>
          </p:nvSpPr>
          <p:spPr>
            <a:xfrm flipV="1">
              <a:off x="259560" y="2718000"/>
              <a:ext cx="8667720" cy="1440"/>
            </a:xfrm>
            <a:prstGeom prst="line">
              <a:avLst/>
            </a:prstGeom>
            <a:ln w="9360">
              <a:solidFill>
                <a:srgbClr val="a1b2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114"/>
          <p:cNvGrpSpPr/>
          <p:nvPr/>
        </p:nvGrpSpPr>
        <p:grpSpPr>
          <a:xfrm>
            <a:off x="376920" y="3429000"/>
            <a:ext cx="2905920" cy="2459880"/>
            <a:chOff x="376920" y="3429000"/>
            <a:chExt cx="2905920" cy="2459880"/>
          </a:xfrm>
        </p:grpSpPr>
        <p:sp>
          <p:nvSpPr>
            <p:cNvPr id="333" name="TextBox 61"/>
            <p:cNvSpPr/>
            <p:nvPr/>
          </p:nvSpPr>
          <p:spPr>
            <a:xfrm>
              <a:off x="911880" y="3725640"/>
              <a:ext cx="95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Р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62"/>
            <p:cNvSpPr/>
            <p:nvPr/>
          </p:nvSpPr>
          <p:spPr>
            <a:xfrm>
              <a:off x="376920" y="490680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63"/>
            <p:cNvSpPr/>
            <p:nvPr/>
          </p:nvSpPr>
          <p:spPr>
            <a:xfrm>
              <a:off x="577440" y="3794040"/>
              <a:ext cx="47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64"/>
            <p:cNvSpPr/>
            <p:nvPr/>
          </p:nvSpPr>
          <p:spPr>
            <a:xfrm>
              <a:off x="1601280" y="374940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Дуга 65"/>
            <p:cNvSpPr/>
            <p:nvPr/>
          </p:nvSpPr>
          <p:spPr>
            <a:xfrm>
              <a:off x="8380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68"/>
            <p:cNvSpPr/>
            <p:nvPr/>
          </p:nvSpPr>
          <p:spPr>
            <a:xfrm>
              <a:off x="1964160" y="54291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Дуга 110"/>
            <p:cNvSpPr/>
            <p:nvPr/>
          </p:nvSpPr>
          <p:spPr>
            <a:xfrm>
              <a:off x="12826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Дуга 111"/>
            <p:cNvSpPr/>
            <p:nvPr/>
          </p:nvSpPr>
          <p:spPr>
            <a:xfrm>
              <a:off x="1727280" y="342900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  <a:lnTo>
                    <a:pt x="777858" y="1133338"/>
                  </a:lnTo>
                  <a:lnTo>
                    <a:pt x="1223664" y="204600"/>
                  </a:lnTo>
                  <a:close/>
                </a:path>
                <a:path fill="none" w="1555715" h="2266676">
                  <a:moveTo>
                    <a:pt x="1223664" y="204600"/>
                  </a:moveTo>
                  <a:cubicBezTo>
                    <a:pt x="1423795" y="408532"/>
                    <a:pt x="1546572" y="737568"/>
                    <a:pt x="1555227" y="1093171"/>
                  </a:cubicBezTo>
                  <a:cubicBezTo>
                    <a:pt x="1563411" y="1429399"/>
                    <a:pt x="1468643" y="1753546"/>
                    <a:pt x="1296567" y="1977899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12"/>
            <p:cNvSpPr/>
            <p:nvPr/>
          </p:nvSpPr>
          <p:spPr>
            <a:xfrm>
              <a:off x="2406600" y="542916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113"/>
            <p:cNvSpPr/>
            <p:nvPr/>
          </p:nvSpPr>
          <p:spPr>
            <a:xfrm>
              <a:off x="2852640" y="54291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304920" y="108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троение электронной обол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1"/>
          <p:cNvSpPr/>
          <p:nvPr/>
        </p:nvSpPr>
        <p:spPr>
          <a:xfrm>
            <a:off x="152640" y="196200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Подуровень состоит из орби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Группа 140"/>
          <p:cNvGrpSpPr/>
          <p:nvPr/>
        </p:nvGrpSpPr>
        <p:grpSpPr>
          <a:xfrm>
            <a:off x="1641600" y="3117960"/>
            <a:ext cx="6530760" cy="2800080"/>
            <a:chOff x="1641600" y="3117960"/>
            <a:chExt cx="6530760" cy="2800080"/>
          </a:xfrm>
        </p:grpSpPr>
        <p:sp>
          <p:nvSpPr>
            <p:cNvPr id="347" name="Прямоугольник 76"/>
            <p:cNvSpPr/>
            <p:nvPr/>
          </p:nvSpPr>
          <p:spPr>
            <a:xfrm>
              <a:off x="359388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Прямоугольник 93"/>
            <p:cNvSpPr/>
            <p:nvPr/>
          </p:nvSpPr>
          <p:spPr>
            <a:xfrm>
              <a:off x="1682640" y="54738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Прямоугольник 94"/>
            <p:cNvSpPr/>
            <p:nvPr/>
          </p:nvSpPr>
          <p:spPr>
            <a:xfrm>
              <a:off x="226044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Прямоугольник 95"/>
            <p:cNvSpPr/>
            <p:nvPr/>
          </p:nvSpPr>
          <p:spPr>
            <a:xfrm>
              <a:off x="27050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Прямоугольник 96"/>
            <p:cNvSpPr/>
            <p:nvPr/>
          </p:nvSpPr>
          <p:spPr>
            <a:xfrm>
              <a:off x="3149640" y="46735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Прямоугольник 97"/>
            <p:cNvSpPr/>
            <p:nvPr/>
          </p:nvSpPr>
          <p:spPr>
            <a:xfrm>
              <a:off x="55054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Прямоугольник 98"/>
            <p:cNvSpPr/>
            <p:nvPr/>
          </p:nvSpPr>
          <p:spPr>
            <a:xfrm>
              <a:off x="4172040" y="4228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Прямоугольник 99"/>
            <p:cNvSpPr/>
            <p:nvPr/>
          </p:nvSpPr>
          <p:spPr>
            <a:xfrm>
              <a:off x="46162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Прямоугольник 100"/>
            <p:cNvSpPr/>
            <p:nvPr/>
          </p:nvSpPr>
          <p:spPr>
            <a:xfrm>
              <a:off x="5060880" y="38736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Прямоугольник 101"/>
            <p:cNvSpPr/>
            <p:nvPr/>
          </p:nvSpPr>
          <p:spPr>
            <a:xfrm>
              <a:off x="68389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Прямоугольник 102"/>
            <p:cNvSpPr/>
            <p:nvPr/>
          </p:nvSpPr>
          <p:spPr>
            <a:xfrm>
              <a:off x="595008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оугольник 103"/>
            <p:cNvSpPr/>
            <p:nvPr/>
          </p:nvSpPr>
          <p:spPr>
            <a:xfrm>
              <a:off x="63943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оугольник 104"/>
            <p:cNvSpPr/>
            <p:nvPr/>
          </p:nvSpPr>
          <p:spPr>
            <a:xfrm>
              <a:off x="77281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Прямоугольник 105"/>
            <p:cNvSpPr/>
            <p:nvPr/>
          </p:nvSpPr>
          <p:spPr>
            <a:xfrm>
              <a:off x="7283520" y="351792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Прямоугольник 106"/>
            <p:cNvSpPr/>
            <p:nvPr/>
          </p:nvSpPr>
          <p:spPr>
            <a:xfrm>
              <a:off x="1641600" y="507348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оугольник 107"/>
            <p:cNvSpPr/>
            <p:nvPr/>
          </p:nvSpPr>
          <p:spPr>
            <a:xfrm>
              <a:off x="2219400" y="462924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оугольник 108"/>
            <p:cNvSpPr/>
            <p:nvPr/>
          </p:nvSpPr>
          <p:spPr>
            <a:xfrm>
              <a:off x="3108240" y="42735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Прямоугольник 109"/>
            <p:cNvSpPr/>
            <p:nvPr/>
          </p:nvSpPr>
          <p:spPr>
            <a:xfrm>
              <a:off x="5019840" y="347328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Прямоугольник 114"/>
            <p:cNvSpPr/>
            <p:nvPr/>
          </p:nvSpPr>
          <p:spPr>
            <a:xfrm>
              <a:off x="4130640" y="3828960"/>
              <a:ext cx="45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оугольник 121"/>
            <p:cNvSpPr/>
            <p:nvPr/>
          </p:nvSpPr>
          <p:spPr>
            <a:xfrm>
              <a:off x="6797880" y="3117960"/>
              <a:ext cx="49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4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 одной орбителе могут находиться два электрона с разными спина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Прямая со стрелкой 142"/>
          <p:cNvCxnSpPr/>
          <p:nvPr/>
        </p:nvCxnSpPr>
        <p:spPr>
          <a:xfrm flipV="1">
            <a:off x="1813320" y="55177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69" name="Прямая со стрелкой 143"/>
          <p:cNvCxnSpPr/>
          <p:nvPr/>
        </p:nvCxnSpPr>
        <p:spPr>
          <a:xfrm flipH="1">
            <a:off x="1993680" y="551808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0" name="TextBox 144"/>
          <p:cNvSpPr/>
          <p:nvPr/>
        </p:nvSpPr>
        <p:spPr>
          <a:xfrm>
            <a:off x="1923480" y="51354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Прямая со стрелкой 145"/>
          <p:cNvCxnSpPr/>
          <p:nvPr/>
        </p:nvCxnSpPr>
        <p:spPr>
          <a:xfrm flipV="1">
            <a:off x="2394000" y="505584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2" name="Прямая со стрелкой 148"/>
          <p:cNvCxnSpPr/>
          <p:nvPr/>
        </p:nvCxnSpPr>
        <p:spPr>
          <a:xfrm flipH="1">
            <a:off x="2572560" y="505620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73" name="TextBox 151"/>
          <p:cNvSpPr/>
          <p:nvPr/>
        </p:nvSpPr>
        <p:spPr>
          <a:xfrm>
            <a:off x="2503080" y="46735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52"/>
          <p:cNvCxnSpPr/>
          <p:nvPr/>
        </p:nvCxnSpPr>
        <p:spPr>
          <a:xfrm flipV="1">
            <a:off x="283860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5" name="Прямая со стрелкой 153"/>
          <p:cNvCxnSpPr/>
          <p:nvPr/>
        </p:nvCxnSpPr>
        <p:spPr>
          <a:xfrm flipV="1">
            <a:off x="3281760" y="471780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6" name="Прямая со стрелкой 158"/>
          <p:cNvCxnSpPr/>
          <p:nvPr/>
        </p:nvCxnSpPr>
        <p:spPr>
          <a:xfrm flipV="1">
            <a:off x="3727440" y="471780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77" name="Прямая со стрелкой 161"/>
          <p:cNvCxnSpPr/>
          <p:nvPr/>
        </p:nvCxnSpPr>
        <p:spPr>
          <a:xfrm flipH="1">
            <a:off x="3015360" y="47181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8" name="Прямая со стрелкой 163"/>
          <p:cNvCxnSpPr/>
          <p:nvPr/>
        </p:nvCxnSpPr>
        <p:spPr>
          <a:xfrm flipH="1">
            <a:off x="3459960" y="4716360"/>
            <a:ext cx="252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379" name="Прямая со стрелкой 164"/>
          <p:cNvCxnSpPr/>
          <p:nvPr/>
        </p:nvCxnSpPr>
        <p:spPr>
          <a:xfrm flipH="1">
            <a:off x="3904920" y="4718160"/>
            <a:ext cx="2160" cy="35784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0" name="TextBox 173"/>
          <p:cNvSpPr/>
          <p:nvPr/>
        </p:nvSpPr>
        <p:spPr>
          <a:xfrm>
            <a:off x="3425400" y="433548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Прямая со стрелкой 175"/>
          <p:cNvCxnSpPr/>
          <p:nvPr/>
        </p:nvCxnSpPr>
        <p:spPr>
          <a:xfrm flipV="1">
            <a:off x="4316400" y="4255200"/>
            <a:ext cx="2160" cy="3582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2" name="Прямая со стрелкой 180"/>
          <p:cNvCxnSpPr/>
          <p:nvPr/>
        </p:nvCxnSpPr>
        <p:spPr>
          <a:xfrm flipH="1">
            <a:off x="4494960" y="4255560"/>
            <a:ext cx="2520" cy="3582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83" name="TextBox 187"/>
          <p:cNvSpPr/>
          <p:nvPr/>
        </p:nvSpPr>
        <p:spPr>
          <a:xfrm>
            <a:off x="4425480" y="387360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Прямая со стрелкой 188"/>
          <p:cNvCxnSpPr/>
          <p:nvPr/>
        </p:nvCxnSpPr>
        <p:spPr>
          <a:xfrm flipV="1">
            <a:off x="47498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5" name="Прямая со стрелкой 189"/>
          <p:cNvCxnSpPr/>
          <p:nvPr/>
        </p:nvCxnSpPr>
        <p:spPr>
          <a:xfrm flipV="1">
            <a:off x="5194440" y="3917520"/>
            <a:ext cx="216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386" name="Прямая со стрелкой 190"/>
          <p:cNvCxnSpPr/>
          <p:nvPr/>
        </p:nvCxnSpPr>
        <p:spPr>
          <a:xfrm flipV="1">
            <a:off x="5637600" y="3917520"/>
            <a:ext cx="2520" cy="3578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387" name="TextBox 191"/>
          <p:cNvSpPr/>
          <p:nvPr/>
        </p:nvSpPr>
        <p:spPr>
          <a:xfrm>
            <a:off x="5292360" y="349092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92"/>
          <p:cNvSpPr/>
          <p:nvPr/>
        </p:nvSpPr>
        <p:spPr>
          <a:xfrm>
            <a:off x="7114680" y="3117960"/>
            <a:ext cx="2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193"/>
          <p:cNvSpPr/>
          <p:nvPr/>
        </p:nvSpPr>
        <p:spPr>
          <a:xfrm>
            <a:off x="1649160" y="50734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6"/>
          <p:cNvSpPr/>
          <p:nvPr/>
        </p:nvSpPr>
        <p:spPr>
          <a:xfrm>
            <a:off x="2226960" y="462924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197"/>
          <p:cNvSpPr/>
          <p:nvPr/>
        </p:nvSpPr>
        <p:spPr>
          <a:xfrm>
            <a:off x="3115800" y="427356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198"/>
          <p:cNvSpPr/>
          <p:nvPr/>
        </p:nvSpPr>
        <p:spPr>
          <a:xfrm>
            <a:off x="4138200" y="382896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199"/>
          <p:cNvSpPr/>
          <p:nvPr/>
        </p:nvSpPr>
        <p:spPr>
          <a:xfrm>
            <a:off x="5027040" y="3473280"/>
            <a:ext cx="5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00"/>
          <p:cNvSpPr/>
          <p:nvPr/>
        </p:nvSpPr>
        <p:spPr>
          <a:xfrm>
            <a:off x="5891040" y="568152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ая электронная за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01"/>
          <p:cNvSpPr/>
          <p:nvPr/>
        </p:nvSpPr>
        <p:spPr>
          <a:xfrm>
            <a:off x="260280" y="1739880"/>
            <a:ext cx="848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Электроны последнего энергетического уровня называются валентными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202"/>
          <p:cNvSpPr/>
          <p:nvPr/>
        </p:nvSpPr>
        <p:spPr>
          <a:xfrm rot="20620800">
            <a:off x="3965040" y="3060360"/>
            <a:ext cx="4591080" cy="17240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204"/>
          <p:cNvSpPr/>
          <p:nvPr/>
        </p:nvSpPr>
        <p:spPr>
          <a:xfrm>
            <a:off x="5016600" y="6095880"/>
            <a:ext cx="88884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05"/>
          <p:cNvSpPr/>
          <p:nvPr/>
        </p:nvSpPr>
        <p:spPr>
          <a:xfrm>
            <a:off x="4943160" y="4718160"/>
            <a:ext cx="34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ентные электроны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TextBox 72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2871E-006 L -0.0467 -0.15961 E">
                                      <p:cBhvr>
                                        <p:cTn id="214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1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3315E-006 L 0.21111 0.08097 E">
                                      <p:cBhvr>
                                        <p:cTn id="313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09739E-006 L 0.19723 0.14574 E">
                                      <p:cBhvr>
                                        <p:cTn id="319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14688 0.19755 E">
                                      <p:cBhvr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69 L 0.08663 0.26232 E">
                                      <p:cBhvr>
                                        <p:cTn id="331" dur="1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007 L 0.03629 0.31414 E">
                                      <p:cBhvr>
                                        <p:cTn id="337" dur="1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8"/>
          <p:cNvSpPr/>
          <p:nvPr/>
        </p:nvSpPr>
        <p:spPr>
          <a:xfrm>
            <a:off x="304920" y="10825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II. 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Составить строение электронной оболочки элементов:  В,   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Cl.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41">
            <a:hlinkClick r:id="rId1"/>
          </p:cNvPr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Группа 77"/>
          <p:cNvGrpSpPr/>
          <p:nvPr/>
        </p:nvGrpSpPr>
        <p:grpSpPr>
          <a:xfrm>
            <a:off x="260280" y="2317680"/>
            <a:ext cx="8667720" cy="4133880"/>
            <a:chOff x="260280" y="2317680"/>
            <a:chExt cx="8667720" cy="4133880"/>
          </a:xfrm>
        </p:grpSpPr>
        <p:sp>
          <p:nvSpPr>
            <p:cNvPr id="403" name="Прямоугольник с двумя скругленными соседними углами 73"/>
            <p:cNvSpPr/>
            <p:nvPr/>
          </p:nvSpPr>
          <p:spPr>
            <a:xfrm>
              <a:off x="260280" y="2317680"/>
              <a:ext cx="8667720" cy="4133880"/>
            </a:xfrm>
            <a:custGeom>
              <a:avLst/>
              <a:gdLst/>
              <a:ahLst/>
              <a:rect l="l" t="t" r="r" b="b"/>
              <a:pathLst>
                <a:path w="8667750" h="4133910">
                  <a:moveTo>
                    <a:pt x="94543" y="0"/>
                  </a:moveTo>
                  <a:lnTo>
                    <a:pt x="8573207" y="0"/>
                  </a:lnTo>
                  <a:cubicBezTo>
                    <a:pt x="8625422" y="0"/>
                    <a:pt x="8667750" y="42328"/>
                    <a:pt x="8667750" y="94543"/>
                  </a:cubicBezTo>
                  <a:lnTo>
                    <a:pt x="8667750" y="4025147"/>
                  </a:lnTo>
                  <a:cubicBezTo>
                    <a:pt x="8667750" y="4085215"/>
                    <a:pt x="8619055" y="4133910"/>
                    <a:pt x="8558987" y="4133910"/>
                  </a:cubicBezTo>
                  <a:lnTo>
                    <a:pt x="108763" y="4133910"/>
                  </a:lnTo>
                  <a:cubicBezTo>
                    <a:pt x="48695" y="4133910"/>
                    <a:pt x="0" y="4085215"/>
                    <a:pt x="0" y="4025147"/>
                  </a:cubicBezTo>
                  <a:lnTo>
                    <a:pt x="0" y="94543"/>
                  </a:lnTo>
                  <a:cubicBezTo>
                    <a:pt x="0" y="42328"/>
                    <a:pt x="42328" y="0"/>
                    <a:pt x="94543" y="0"/>
                  </a:cubicBezTo>
                  <a:close/>
                </a:path>
              </a:pathLst>
            </a:custGeom>
            <a:solidFill>
              <a:srgbClr val="e6ecf3"/>
            </a:solidFill>
            <a:ln w="93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Box 75"/>
            <p:cNvSpPr/>
            <p:nvPr/>
          </p:nvSpPr>
          <p:spPr>
            <a:xfrm>
              <a:off x="262800" y="2317680"/>
              <a:ext cx="129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Провер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Группа 149"/>
          <p:cNvGrpSpPr/>
          <p:nvPr/>
        </p:nvGrpSpPr>
        <p:grpSpPr>
          <a:xfrm>
            <a:off x="495720" y="2540160"/>
            <a:ext cx="7102080" cy="2459880"/>
            <a:chOff x="495720" y="2540160"/>
            <a:chExt cx="7102080" cy="2459880"/>
          </a:xfrm>
        </p:grpSpPr>
        <p:sp>
          <p:nvSpPr>
            <p:cNvPr id="406" name="TextBox 79"/>
            <p:cNvSpPr/>
            <p:nvPr/>
          </p:nvSpPr>
          <p:spPr>
            <a:xfrm>
              <a:off x="868320" y="2836800"/>
              <a:ext cx="1000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В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80"/>
            <p:cNvSpPr/>
            <p:nvPr/>
          </p:nvSpPr>
          <p:spPr>
            <a:xfrm>
              <a:off x="495720" y="4017960"/>
              <a:ext cx="5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81"/>
            <p:cNvSpPr/>
            <p:nvPr/>
          </p:nvSpPr>
          <p:spPr>
            <a:xfrm>
              <a:off x="550440" y="2905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Box 82"/>
            <p:cNvSpPr/>
            <p:nvPr/>
          </p:nvSpPr>
          <p:spPr>
            <a:xfrm>
              <a:off x="155700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Дуга 83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84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Дуга 85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  <a:lnTo>
                    <a:pt x="777898" y="1133338"/>
                  </a:lnTo>
                  <a:lnTo>
                    <a:pt x="1223712" y="204584"/>
                  </a:lnTo>
                  <a:close/>
                </a:path>
                <a:path fill="none" w="1555796" h="2266676">
                  <a:moveTo>
                    <a:pt x="1223712" y="204584"/>
                  </a:moveTo>
                  <a:cubicBezTo>
                    <a:pt x="1423861" y="408514"/>
                    <a:pt x="1546651" y="737557"/>
                    <a:pt x="1555308" y="1093169"/>
                  </a:cubicBezTo>
                  <a:cubicBezTo>
                    <a:pt x="1563493" y="1429408"/>
                    <a:pt x="1468714" y="1753564"/>
                    <a:pt x="1296620" y="1977918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Box 87"/>
            <p:cNvSpPr/>
            <p:nvPr/>
          </p:nvSpPr>
          <p:spPr>
            <a:xfrm>
              <a:off x="2365920" y="454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Прямоугольник 90"/>
            <p:cNvSpPr/>
            <p:nvPr/>
          </p:nvSpPr>
          <p:spPr>
            <a:xfrm>
              <a:off x="56390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Прямоугольник 92"/>
            <p:cNvSpPr/>
            <p:nvPr/>
          </p:nvSpPr>
          <p:spPr>
            <a:xfrm>
              <a:off x="3727440" y="41403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Прямоугольник 115"/>
            <p:cNvSpPr/>
            <p:nvPr/>
          </p:nvSpPr>
          <p:spPr>
            <a:xfrm>
              <a:off x="4305240" y="36957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Прямоугольник 116"/>
            <p:cNvSpPr/>
            <p:nvPr/>
          </p:nvSpPr>
          <p:spPr>
            <a:xfrm>
              <a:off x="47498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Прямоугольник 117"/>
            <p:cNvSpPr/>
            <p:nvPr/>
          </p:nvSpPr>
          <p:spPr>
            <a:xfrm>
              <a:off x="5194440" y="33400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Прямоугольник 128"/>
            <p:cNvSpPr/>
            <p:nvPr/>
          </p:nvSpPr>
          <p:spPr>
            <a:xfrm>
              <a:off x="3648240" y="37404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Прямоугольник 129"/>
            <p:cNvSpPr/>
            <p:nvPr/>
          </p:nvSpPr>
          <p:spPr>
            <a:xfrm>
              <a:off x="4226040" y="329580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Прямоугольник 130"/>
            <p:cNvSpPr/>
            <p:nvPr/>
          </p:nvSpPr>
          <p:spPr>
            <a:xfrm>
              <a:off x="5160600" y="28954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Прямая со стрелкой 134"/>
            <p:cNvCxnSpPr/>
            <p:nvPr/>
          </p:nvCxnSpPr>
          <p:spPr>
            <a:xfrm flipV="1">
              <a:off x="4429080" y="37382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3" name="Прямая со стрелкой 135"/>
            <p:cNvCxnSpPr/>
            <p:nvPr/>
          </p:nvCxnSpPr>
          <p:spPr>
            <a:xfrm flipH="1">
              <a:off x="4605120" y="37386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4" name="Прямая со стрелкой 137"/>
            <p:cNvCxnSpPr/>
            <p:nvPr/>
          </p:nvCxnSpPr>
          <p:spPr>
            <a:xfrm flipV="1">
              <a:off x="3852720" y="41842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5" name="Прямая со стрелкой 138"/>
            <p:cNvCxnSpPr/>
            <p:nvPr/>
          </p:nvCxnSpPr>
          <p:spPr>
            <a:xfrm flipH="1">
              <a:off x="4028760" y="41846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26" name="Прямая со стрелкой 139"/>
            <p:cNvCxnSpPr/>
            <p:nvPr/>
          </p:nvCxnSpPr>
          <p:spPr>
            <a:xfrm flipV="1">
              <a:off x="4972320" y="3384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27" name="Прямоугольник 140"/>
            <p:cNvSpPr/>
            <p:nvPr/>
          </p:nvSpPr>
          <p:spPr>
            <a:xfrm>
              <a:off x="4777200" y="4523040"/>
              <a:ext cx="131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2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Прямоугольник 147"/>
            <p:cNvSpPr/>
            <p:nvPr/>
          </p:nvSpPr>
          <p:spPr>
            <a:xfrm>
              <a:off x="6267960" y="387360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Группа 150"/>
          <p:cNvGrpSpPr/>
          <p:nvPr/>
        </p:nvGrpSpPr>
        <p:grpSpPr>
          <a:xfrm>
            <a:off x="314280" y="2540160"/>
            <a:ext cx="8251920" cy="3749040"/>
            <a:chOff x="314280" y="2540160"/>
            <a:chExt cx="8251920" cy="3749040"/>
          </a:xfrm>
        </p:grpSpPr>
        <p:sp>
          <p:nvSpPr>
            <p:cNvPr id="430" name="TextBox 154"/>
            <p:cNvSpPr/>
            <p:nvPr/>
          </p:nvSpPr>
          <p:spPr>
            <a:xfrm>
              <a:off x="563400" y="2836800"/>
              <a:ext cx="1374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600" spc="-1" strike="noStrike">
                  <a:solidFill>
                    <a:srgbClr val="000000"/>
                  </a:solidFill>
                  <a:latin typeface="Cambria"/>
                </a:rPr>
                <a:t>С</a:t>
              </a:r>
              <a:r>
                <a:rPr b="1" lang="en-US" sz="9600" spc="-1" strike="noStrike">
                  <a:solidFill>
                    <a:srgbClr val="000000"/>
                  </a:solidFill>
                  <a:latin typeface="Cambria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155"/>
            <p:cNvSpPr/>
            <p:nvPr/>
          </p:nvSpPr>
          <p:spPr>
            <a:xfrm>
              <a:off x="314280" y="4016520"/>
              <a:ext cx="67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+</a:t>
              </a: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156"/>
            <p:cNvSpPr/>
            <p:nvPr/>
          </p:nvSpPr>
          <p:spPr>
            <a:xfrm>
              <a:off x="383400" y="2905200"/>
              <a:ext cx="51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157"/>
            <p:cNvSpPr/>
            <p:nvPr/>
          </p:nvSpPr>
          <p:spPr>
            <a:xfrm>
              <a:off x="1665720" y="28605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mbria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Дуга 159"/>
            <p:cNvSpPr/>
            <p:nvPr/>
          </p:nvSpPr>
          <p:spPr>
            <a:xfrm>
              <a:off x="7934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60"/>
            <p:cNvSpPr/>
            <p:nvPr/>
          </p:nvSpPr>
          <p:spPr>
            <a:xfrm>
              <a:off x="191952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Дуга 162"/>
            <p:cNvSpPr/>
            <p:nvPr/>
          </p:nvSpPr>
          <p:spPr>
            <a:xfrm>
              <a:off x="12380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165"/>
            <p:cNvSpPr/>
            <p:nvPr/>
          </p:nvSpPr>
          <p:spPr>
            <a:xfrm>
              <a:off x="2361960" y="454032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оугольник 166"/>
            <p:cNvSpPr/>
            <p:nvPr/>
          </p:nvSpPr>
          <p:spPr>
            <a:xfrm>
              <a:off x="39052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оугольник 167"/>
            <p:cNvSpPr/>
            <p:nvPr/>
          </p:nvSpPr>
          <p:spPr>
            <a:xfrm>
              <a:off x="1993680" y="58294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оугольник 168"/>
            <p:cNvSpPr/>
            <p:nvPr/>
          </p:nvSpPr>
          <p:spPr>
            <a:xfrm>
              <a:off x="2571480" y="5384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оугольник 169"/>
            <p:cNvSpPr/>
            <p:nvPr/>
          </p:nvSpPr>
          <p:spPr>
            <a:xfrm>
              <a:off x="30160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оугольник 170"/>
            <p:cNvSpPr/>
            <p:nvPr/>
          </p:nvSpPr>
          <p:spPr>
            <a:xfrm>
              <a:off x="3460680" y="502920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оугольник 171"/>
            <p:cNvSpPr/>
            <p:nvPr/>
          </p:nvSpPr>
          <p:spPr>
            <a:xfrm>
              <a:off x="1915200" y="5429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оугольник 172"/>
            <p:cNvSpPr/>
            <p:nvPr/>
          </p:nvSpPr>
          <p:spPr>
            <a:xfrm>
              <a:off x="2493000" y="49849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Прямоугольник 174"/>
            <p:cNvSpPr/>
            <p:nvPr/>
          </p:nvSpPr>
          <p:spPr>
            <a:xfrm>
              <a:off x="3427200" y="458496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6" name="Прямая со стрелкой 176"/>
            <p:cNvCxnSpPr/>
            <p:nvPr/>
          </p:nvCxnSpPr>
          <p:spPr>
            <a:xfrm flipV="1">
              <a:off x="2697120" y="54273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7" name="Прямая со стрелкой 177"/>
            <p:cNvCxnSpPr/>
            <p:nvPr/>
          </p:nvCxnSpPr>
          <p:spPr>
            <a:xfrm flipH="1">
              <a:off x="2872800" y="54277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48" name="Прямая со стрелкой 178"/>
            <p:cNvCxnSpPr/>
            <p:nvPr/>
          </p:nvCxnSpPr>
          <p:spPr>
            <a:xfrm flipV="1">
              <a:off x="2120760" y="587376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49" name="Прямая со стрелкой 179"/>
            <p:cNvCxnSpPr/>
            <p:nvPr/>
          </p:nvCxnSpPr>
          <p:spPr>
            <a:xfrm flipH="1">
              <a:off x="2296800" y="587412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50" name="Прямая со стрелкой 181"/>
            <p:cNvCxnSpPr/>
            <p:nvPr/>
          </p:nvCxnSpPr>
          <p:spPr>
            <a:xfrm flipV="1">
              <a:off x="314964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51" name="Прямоугольник 182"/>
            <p:cNvSpPr/>
            <p:nvPr/>
          </p:nvSpPr>
          <p:spPr>
            <a:xfrm>
              <a:off x="4127760" y="5829480"/>
              <a:ext cx="20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s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3p</a:t>
              </a:r>
              <a:r>
                <a:rPr b="0" lang="en-US" sz="2400" spc="-1" strike="noStrike" u="sng" baseline="30000">
                  <a:solidFill>
                    <a:srgbClr val="000000"/>
                  </a:solidFill>
                  <a:uFillTx/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Прямоугольник 183"/>
            <p:cNvSpPr/>
            <p:nvPr/>
          </p:nvSpPr>
          <p:spPr>
            <a:xfrm>
              <a:off x="6890040" y="4851720"/>
              <a:ext cx="13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Вал.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ē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-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Дуга 184"/>
            <p:cNvSpPr/>
            <p:nvPr/>
          </p:nvSpPr>
          <p:spPr>
            <a:xfrm>
              <a:off x="1682640" y="2540160"/>
              <a:ext cx="1555560" cy="2266920"/>
            </a:xfrm>
            <a:custGeom>
              <a:avLst/>
              <a:gdLst/>
              <a:ahLst/>
              <a:rect l="l" t="t" r="r" b="b"/>
              <a:pathLst>
                <a:path stroke="0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  <a:lnTo>
                    <a:pt x="777875" y="1133385"/>
                  </a:lnTo>
                  <a:lnTo>
                    <a:pt x="1223697" y="204614"/>
                  </a:lnTo>
                  <a:close/>
                </a:path>
                <a:path fill="none" w="1555750" h="2266770">
                  <a:moveTo>
                    <a:pt x="1223697" y="204614"/>
                  </a:moveTo>
                  <a:cubicBezTo>
                    <a:pt x="1423829" y="408555"/>
                    <a:pt x="1546606" y="737602"/>
                    <a:pt x="1555262" y="1093217"/>
                  </a:cubicBezTo>
                  <a:cubicBezTo>
                    <a:pt x="1563446" y="1429455"/>
                    <a:pt x="1468678" y="1753611"/>
                    <a:pt x="1296602" y="1977973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Box 185"/>
            <p:cNvSpPr/>
            <p:nvPr/>
          </p:nvSpPr>
          <p:spPr>
            <a:xfrm>
              <a:off x="2764080" y="45403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Прямоугольник 186"/>
            <p:cNvSpPr/>
            <p:nvPr/>
          </p:nvSpPr>
          <p:spPr>
            <a:xfrm>
              <a:off x="590544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Прямоугольник 194"/>
            <p:cNvSpPr/>
            <p:nvPr/>
          </p:nvSpPr>
          <p:spPr>
            <a:xfrm>
              <a:off x="4572000" y="458496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Прямоугольник 195"/>
            <p:cNvSpPr/>
            <p:nvPr/>
          </p:nvSpPr>
          <p:spPr>
            <a:xfrm>
              <a:off x="50166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Прямоугольник 203"/>
            <p:cNvSpPr/>
            <p:nvPr/>
          </p:nvSpPr>
          <p:spPr>
            <a:xfrm>
              <a:off x="5461200" y="42292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Прямоугольник 206"/>
            <p:cNvSpPr/>
            <p:nvPr/>
          </p:nvSpPr>
          <p:spPr>
            <a:xfrm>
              <a:off x="5427360" y="378468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Прямая со стрелкой 207"/>
            <p:cNvCxnSpPr/>
            <p:nvPr/>
          </p:nvCxnSpPr>
          <p:spPr>
            <a:xfrm flipV="1">
              <a:off x="4697280" y="462744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61" name="Прямая со стрелкой 208"/>
            <p:cNvCxnSpPr/>
            <p:nvPr/>
          </p:nvCxnSpPr>
          <p:spPr>
            <a:xfrm flipH="1">
              <a:off x="4873320" y="462780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62" name="Прямая со стрелкой 209"/>
            <p:cNvCxnSpPr/>
            <p:nvPr/>
          </p:nvCxnSpPr>
          <p:spPr>
            <a:xfrm flipV="1">
              <a:off x="612792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63" name="Прямоугольник 210"/>
            <p:cNvSpPr/>
            <p:nvPr/>
          </p:nvSpPr>
          <p:spPr>
            <a:xfrm>
              <a:off x="72392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Прямоугольник 211"/>
            <p:cNvSpPr/>
            <p:nvPr/>
          </p:nvSpPr>
          <p:spPr>
            <a:xfrm>
              <a:off x="63500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Прямоугольник 212"/>
            <p:cNvSpPr/>
            <p:nvPr/>
          </p:nvSpPr>
          <p:spPr>
            <a:xfrm>
              <a:off x="679464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Прямоугольник 213"/>
            <p:cNvSpPr/>
            <p:nvPr/>
          </p:nvSpPr>
          <p:spPr>
            <a:xfrm>
              <a:off x="81219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Прямоугольник 214"/>
            <p:cNvSpPr/>
            <p:nvPr/>
          </p:nvSpPr>
          <p:spPr>
            <a:xfrm>
              <a:off x="7677360" y="3917880"/>
              <a:ext cx="444240" cy="444240"/>
            </a:xfrm>
            <a:prstGeom prst="rect">
              <a:avLst/>
            </a:prstGeom>
            <a:solidFill>
              <a:srgbClr val="fdf69c"/>
            </a:solidFill>
            <a:ln w="1908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Прямоугольник 215"/>
            <p:cNvSpPr/>
            <p:nvPr/>
          </p:nvSpPr>
          <p:spPr>
            <a:xfrm>
              <a:off x="4449240" y="414036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s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9" name="Прямая со стрелкой 216"/>
            <p:cNvCxnSpPr/>
            <p:nvPr/>
          </p:nvCxnSpPr>
          <p:spPr>
            <a:xfrm flipH="1">
              <a:off x="33271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0" name="Прямая со стрелкой 217"/>
            <p:cNvCxnSpPr/>
            <p:nvPr/>
          </p:nvCxnSpPr>
          <p:spPr>
            <a:xfrm flipV="1">
              <a:off x="35938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1" name="Прямая со стрелкой 218"/>
            <p:cNvCxnSpPr/>
            <p:nvPr/>
          </p:nvCxnSpPr>
          <p:spPr>
            <a:xfrm flipH="1">
              <a:off x="376992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2" name="Прямая со стрелкой 219"/>
            <p:cNvCxnSpPr/>
            <p:nvPr/>
          </p:nvCxnSpPr>
          <p:spPr>
            <a:xfrm flipV="1">
              <a:off x="4040280" y="507348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3" name="Прямая со стрелкой 220"/>
            <p:cNvCxnSpPr/>
            <p:nvPr/>
          </p:nvCxnSpPr>
          <p:spPr>
            <a:xfrm flipH="1">
              <a:off x="4215960" y="507384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4" name="Прямая со стрелкой 221"/>
            <p:cNvCxnSpPr/>
            <p:nvPr/>
          </p:nvCxnSpPr>
          <p:spPr>
            <a:xfrm flipV="1">
              <a:off x="559584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5" name="Прямая со стрелкой 222"/>
            <p:cNvCxnSpPr/>
            <p:nvPr/>
          </p:nvCxnSpPr>
          <p:spPr>
            <a:xfrm flipH="1">
              <a:off x="57718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cxnSp>
          <p:nvCxnSpPr>
            <p:cNvPr id="476" name="Прямая со стрелкой 223"/>
            <p:cNvCxnSpPr/>
            <p:nvPr/>
          </p:nvCxnSpPr>
          <p:spPr>
            <a:xfrm flipV="1">
              <a:off x="5151600" y="4273200"/>
              <a:ext cx="2160" cy="357840"/>
            </a:xfrm>
            <a:prstGeom prst="straightConnector1">
              <a:avLst/>
            </a:prstGeom>
            <a:ln w="255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77" name="Прямая со стрелкой 224"/>
            <p:cNvCxnSpPr/>
            <p:nvPr/>
          </p:nvCxnSpPr>
          <p:spPr>
            <a:xfrm flipH="1">
              <a:off x="5327280" y="4273560"/>
              <a:ext cx="2160" cy="35784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triangle" w="med"/>
            </a:ln>
          </p:spPr>
        </p:cxnSp>
        <p:sp>
          <p:nvSpPr>
            <p:cNvPr id="478" name="Прямоугольник 225"/>
            <p:cNvSpPr/>
            <p:nvPr/>
          </p:nvSpPr>
          <p:spPr>
            <a:xfrm>
              <a:off x="7161120" y="3473640"/>
              <a:ext cx="58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d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TextBox 86" descr=""/>
          <p:cNvPicPr/>
          <p:nvPr/>
        </p:nvPicPr>
        <p:blipFill>
          <a:blip r:embed="rId2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Скругленный прямоугольник 19"/>
          <p:cNvSpPr/>
          <p:nvPr/>
        </p:nvSpPr>
        <p:spPr>
          <a:xfrm>
            <a:off x="527040" y="4940280"/>
            <a:ext cx="7467480" cy="885960"/>
          </a:xfrm>
          <a:prstGeom prst="roundRect">
            <a:avLst>
              <a:gd name="adj" fmla="val 12338"/>
            </a:avLst>
          </a:prstGeom>
          <a:solidFill>
            <a:srgbClr val="ccd8e7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ый прямоугольник 9"/>
          <p:cNvSpPr/>
          <p:nvPr/>
        </p:nvSpPr>
        <p:spPr>
          <a:xfrm>
            <a:off x="527040" y="3962520"/>
            <a:ext cx="7467480" cy="885600"/>
          </a:xfrm>
          <a:prstGeom prst="roundRect">
            <a:avLst>
              <a:gd name="adj" fmla="val 12338"/>
            </a:avLst>
          </a:prstGeom>
          <a:solidFill>
            <a:srgbClr val="e6ecf3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1"/>
          <p:cNvSpPr/>
          <p:nvPr/>
        </p:nvSpPr>
        <p:spPr>
          <a:xfrm>
            <a:off x="7088040" y="6450120"/>
            <a:ext cx="571680" cy="334800"/>
          </a:xfrm>
          <a:prstGeom prst="rect">
            <a:avLst/>
          </a:prstGeom>
          <a:solidFill>
            <a:srgbClr val="a5b592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TextBox 59" descr=""/>
          <p:cNvPicPr/>
          <p:nvPr/>
        </p:nvPicPr>
        <p:blipFill>
          <a:blip r:embed="rId1"/>
          <a:stretch/>
        </p:blipFill>
        <p:spPr>
          <a:xfrm>
            <a:off x="1096920" y="-30240"/>
            <a:ext cx="7693200" cy="1127160"/>
          </a:xfrm>
          <a:prstGeom prst="rect">
            <a:avLst/>
          </a:prstGeom>
          <a:ln w="0">
            <a:noFill/>
          </a:ln>
        </p:spPr>
      </p:pic>
      <p:sp>
        <p:nvSpPr>
          <p:cNvPr id="484" name="TextBox 61"/>
          <p:cNvSpPr/>
          <p:nvPr/>
        </p:nvSpPr>
        <p:spPr>
          <a:xfrm>
            <a:off x="304920" y="10825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машня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6"/>
          <p:cNvSpPr/>
          <p:nvPr/>
        </p:nvSpPr>
        <p:spPr>
          <a:xfrm>
            <a:off x="2109960" y="172260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раграф 37, стр. 129- 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6"/>
          <p:cNvSpPr/>
          <p:nvPr/>
        </p:nvSpPr>
        <p:spPr>
          <a:xfrm>
            <a:off x="2082960" y="2273400"/>
            <a:ext cx="68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строение электронной оболочки элемента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304920" y="3384720"/>
            <a:ext cx="8839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Дополнитель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571680" y="3917880"/>
            <a:ext cx="742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битально – планетарная модель строения ат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6"/>
          <p:cNvSpPr/>
          <p:nvPr/>
        </p:nvSpPr>
        <p:spPr>
          <a:xfrm>
            <a:off x="527040" y="5073480"/>
            <a:ext cx="75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труктор строения электронной обол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Группа 32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1" name="Скругленный прямоугольник 11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"/>
            <p:cNvPicPr/>
            <p:nvPr/>
          </p:nvPicPr>
          <p:blipFill>
            <a:blip r:embed="rId2"/>
            <a:stretch/>
          </p:blipFill>
          <p:spPr>
            <a:xfrm>
              <a:off x="8153280" y="400968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3" name="Группа 35"/>
          <p:cNvGrpSpPr/>
          <p:nvPr/>
        </p:nvGrpSpPr>
        <p:grpSpPr>
          <a:xfrm>
            <a:off x="8086680" y="3971880"/>
            <a:ext cx="847800" cy="857160"/>
            <a:chOff x="8086680" y="3971880"/>
            <a:chExt cx="847800" cy="857160"/>
          </a:xfrm>
        </p:grpSpPr>
        <p:sp>
          <p:nvSpPr>
            <p:cNvPr id="494" name="Скругленный прямоугольник 14"/>
            <p:cNvSpPr/>
            <p:nvPr/>
          </p:nvSpPr>
          <p:spPr>
            <a:xfrm>
              <a:off x="8086680" y="397188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Группа 52"/>
            <p:cNvGrpSpPr/>
            <p:nvPr/>
          </p:nvGrpSpPr>
          <p:grpSpPr>
            <a:xfrm>
              <a:off x="8248680" y="4106520"/>
              <a:ext cx="534960" cy="560520"/>
              <a:chOff x="8248680" y="4106520"/>
              <a:chExt cx="534960" cy="560520"/>
            </a:xfrm>
          </p:grpSpPr>
          <p:sp>
            <p:nvSpPr>
              <p:cNvPr id="496" name="Дуга 16"/>
              <p:cNvSpPr/>
              <p:nvPr/>
            </p:nvSpPr>
            <p:spPr>
              <a:xfrm>
                <a:off x="8248680" y="413352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Прямая соединительная линия 17"/>
              <p:cNvSpPr/>
              <p:nvPr/>
            </p:nvSpPr>
            <p:spPr>
              <a:xfrm flipH="1">
                <a:off x="8528040" y="410652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8" name="Скругленный прямоугольник 18"/>
          <p:cNvSpPr/>
          <p:nvPr/>
        </p:nvSpPr>
        <p:spPr>
          <a:xfrm>
            <a:off x="8096400" y="396252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Группа 32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0" name="Скругленный прямоугольник 21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Picture 2" descr=""/>
            <p:cNvPicPr/>
            <p:nvPr/>
          </p:nvPicPr>
          <p:blipFill>
            <a:blip r:embed="rId3"/>
            <a:stretch/>
          </p:blipFill>
          <p:spPr>
            <a:xfrm>
              <a:off x="8153280" y="4987800"/>
              <a:ext cx="723960" cy="723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2" name="Группа 35"/>
          <p:cNvGrpSpPr/>
          <p:nvPr/>
        </p:nvGrpSpPr>
        <p:grpSpPr>
          <a:xfrm>
            <a:off x="8086680" y="4950000"/>
            <a:ext cx="847800" cy="857160"/>
            <a:chOff x="8086680" y="4950000"/>
            <a:chExt cx="847800" cy="857160"/>
          </a:xfrm>
        </p:grpSpPr>
        <p:sp>
          <p:nvSpPr>
            <p:cNvPr id="503" name="Скругленный прямоугольник 24"/>
            <p:cNvSpPr/>
            <p:nvPr/>
          </p:nvSpPr>
          <p:spPr>
            <a:xfrm>
              <a:off x="8086680" y="4950000"/>
              <a:ext cx="847800" cy="857160"/>
            </a:xfrm>
            <a:custGeom>
              <a:avLst/>
              <a:gdLst>
                <a:gd name="textAreaLeft" fmla="*/ 41400 w 847800"/>
                <a:gd name="textAreaRight" fmla="*/ 806400 w 847800"/>
                <a:gd name="textAreaTop" fmla="*/ 41400 h 857160"/>
                <a:gd name="textAreaBottom" fmla="*/ 815760 h 857160"/>
              </a:gdLst>
              <a:ahLst/>
              <a:rect l="textAreaLeft" t="textAreaTop" r="textAreaRight" b="textAreaBottom"/>
              <a:pathLst>
                <a:path w="21600" h="21838">
                  <a:moveTo>
                    <a:pt x="3600" y="0"/>
                  </a:moveTo>
                  <a:arcTo wR="3600" hR="3600" stAng="16200000" swAng="-5400000"/>
                  <a:lnTo>
                    <a:pt x="0" y="18238"/>
                  </a:lnTo>
                  <a:arcTo wR="3600" hR="3600" stAng="10800000" swAng="-5400000"/>
                  <a:lnTo>
                    <a:pt x="18000" y="218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df69c"/>
            </a:solidFill>
            <a:ln w="1260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Группа 52"/>
            <p:cNvGrpSpPr/>
            <p:nvPr/>
          </p:nvGrpSpPr>
          <p:grpSpPr>
            <a:xfrm>
              <a:off x="8248680" y="5084640"/>
              <a:ext cx="534960" cy="560520"/>
              <a:chOff x="8248680" y="5084640"/>
              <a:chExt cx="534960" cy="560520"/>
            </a:xfrm>
          </p:grpSpPr>
          <p:sp>
            <p:nvSpPr>
              <p:cNvPr id="505" name="Дуга 26"/>
              <p:cNvSpPr/>
              <p:nvPr/>
            </p:nvSpPr>
            <p:spPr>
              <a:xfrm>
                <a:off x="8248680" y="5111640"/>
                <a:ext cx="534960" cy="533520"/>
              </a:xfrm>
              <a:custGeom>
                <a:avLst/>
                <a:gdLst/>
                <a:ahLst/>
                <a:rect l="l" t="t" r="r" b="b"/>
                <a:pathLst>
                  <a:path stroke="0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  <a:lnTo>
                      <a:pt x="371920" y="370815"/>
                    </a:lnTo>
                    <a:lnTo>
                      <a:pt x="637864" y="111592"/>
                    </a:lnTo>
                    <a:close/>
                  </a:path>
                  <a:path fill="none" w="743839" h="741630">
                    <a:moveTo>
                      <a:pt x="637864" y="111592"/>
                    </a:moveTo>
                    <a:cubicBezTo>
                      <a:pt x="781478" y="258056"/>
                      <a:pt x="778788" y="492873"/>
                      <a:pt x="631855" y="636028"/>
                    </a:cubicBezTo>
                    <a:cubicBezTo>
                      <a:pt x="485540" y="778581"/>
                      <a:pt x="251221" y="776554"/>
                      <a:pt x="107408" y="631492"/>
                    </a:cubicBezTo>
                    <a:cubicBezTo>
                      <a:pt x="-37012" y="485817"/>
                      <a:pt x="-35617" y="250989"/>
                      <a:pt x="110524" y="107031"/>
                    </a:cubicBezTo>
                  </a:path>
                </a:pathLst>
              </a:custGeom>
              <a:noFill/>
              <a:ln cap="rnd" w="101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Прямая соединительная линия 27"/>
              <p:cNvSpPr/>
              <p:nvPr/>
            </p:nvSpPr>
            <p:spPr>
              <a:xfrm flipH="1">
                <a:off x="8528040" y="5084640"/>
                <a:ext cx="1440" cy="239760"/>
              </a:xfrm>
              <a:prstGeom prst="line">
                <a:avLst/>
              </a:prstGeom>
              <a:ln cap="rnd" w="111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Скругленный прямоугольник 28"/>
          <p:cNvSpPr/>
          <p:nvPr/>
        </p:nvSpPr>
        <p:spPr>
          <a:xfrm>
            <a:off x="8096400" y="4940280"/>
            <a:ext cx="847440" cy="857160"/>
          </a:xfrm>
          <a:custGeom>
            <a:avLst/>
            <a:gdLst>
              <a:gd name="textAreaLeft" fmla="*/ 41040 w 847440"/>
              <a:gd name="textAreaRight" fmla="*/ 806400 w 847440"/>
              <a:gd name="textAreaTop" fmla="*/ 41040 h 857160"/>
              <a:gd name="textAreaBottom" fmla="*/ 816120 h 857160"/>
            </a:gdLst>
            <a:ahLst/>
            <a:rect l="textAreaLeft" t="textAreaTop" r="textAreaRight" b="textAreaBottom"/>
            <a:pathLst>
              <a:path w="21600" h="21848">
                <a:moveTo>
                  <a:pt x="3600" y="0"/>
                </a:moveTo>
                <a:arcTo wR="3600" hR="3600" stAng="16200000" swAng="-5400000"/>
                <a:lnTo>
                  <a:pt x="0" y="18248"/>
                </a:lnTo>
                <a:arcTo wR="3600" hR="3600" stAng="10800000" swAng="-5400000"/>
                <a:lnTo>
                  <a:pt x="18000" y="21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f69c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7:13:57Z</dcterms:created>
  <dc:creator>Баженов А.А.</dc:creator>
  <dc:description>Тема. Атомы химических элементов.</dc:description>
  <dc:language>en-US</dc:language>
  <cp:lastModifiedBy>LEGION</cp:lastModifiedBy>
  <dcterms:modified xsi:type="dcterms:W3CDTF">2015-05-01T11:15:26Z</dcterms:modified>
  <cp:revision>95</cp:revision>
  <dc:subject>Строение электронных оболочек атомов</dc:subject>
  <dc:title>Урок 14</dc:title>
</cp:coreProperties>
</file>