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6.jpeg" ContentType="image/jpeg"/>
  <Override PartName="/ppt/media/image40.png" ContentType="image/png"/>
  <Override PartName="/ppt/media/image11.jpeg" ContentType="image/jpeg"/>
  <Override PartName="/ppt/media/image37.jpeg" ContentType="image/jpeg"/>
  <Override PartName="/ppt/media/image50.jpeg" ContentType="image/jpeg"/>
  <Override PartName="/ppt/media/image9.jpeg" ContentType="image/jpeg"/>
  <Override PartName="/ppt/media/image48.png" ContentType="image/png"/>
  <Override PartName="/ppt/media/image39.png" ContentType="image/png"/>
  <Override PartName="/ppt/media/image41.png" ContentType="image/pn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44.jpeg" ContentType="image/jpeg"/>
  <Override PartName="/ppt/media/image49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31.png" ContentType="image/png"/>
  <Override PartName="/ppt/media/image3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38.png" ContentType="image/png"/>
  <Override PartName="/ppt/media/image8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2120-B6CE-45B8-924D-0C509D9878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Химия – наука о веществ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339A-1EAA-4983-B8E7-78CAC189BD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ип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евнем Египте умели выплавлять из руд металлы, получать их сплавы, производили стекло, керамику, пигменты, краски, духи, делали ви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иптяне были непревзойдёнными скульпторами и стро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3F6C-2B4C-4F77-A9F3-E0DC5D5976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в Древнем Егип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C551-B15F-4EDB-9217-D5C645C091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реческий философ Демокр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се тела состоят из мельчайших, невидимых, неделимых и вечно движущихся частиц-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0517-CD93-423C-BBAA-292004D6B79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еческий философ Аристотель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. до н. 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снове окружающей природы лежит вечная ПЕРВОМАТ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40D5-B4E2-403D-973D-2C2901EAA1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Доалхимически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ло веществ дошло до наших дней из глубокой древности. Одно из таких веществ аммиак (хлорид аммо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09B0-1853-43FF-B356-CF7D14BDCB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Алхимический период</a:t>
            </a:r>
            <a:br>
              <a:rPr sz="1200"/>
            </a:b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 (с III в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исках философского камня, который якобы превращает металлы в золото зародилас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спериментальная хим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убились и расширились знания о веществах и химических проце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7EDE-0F97-474B-80F1-67A90FAEA8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рацель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ЦЕЛЬС (1493-1541), врач и естествоиспытател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ателей – «отец» ятрохимии – науки о лекар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л внедрению химических препаратов в медици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8695-38A3-4BBE-A39A-B7920F29C4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Бойль (1627-169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тель  аналитической хим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ник атом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химии в изучении состава веществ и зависимости свойств веществ от его сост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отовил первый индикатор – реактив, изменяющий свою окраску в присутствии кисл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107D-8900-42B7-B43E-4954B914CB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XVIII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туан Лоран Лавуазье(1743-1794 гг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л, что атмосферный воздух имеет сложный сост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овал основы кислородной теории го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л суть процессов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ил новую номенклатуру хим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24C7-635F-41E1-B2A3-5F07E621E4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XVIII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ихаил Васильевич Ломоносов (1711-1765 гг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л точные измерения при изучении химических реак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550E-D37D-44F5-A108-7F0A80E8BC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35FF-C866-4E7B-904F-B3D1E26AFD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ЦЕЛИУС Йёнс Якоб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779 г. - 1848 г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обозначения химических эле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ввёл формулы хим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516A-ED17-46B5-AA27-50C1232C0F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Дальтон (1766-184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о подтвердил атомистическую те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л атомно-молекулярную те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понятие атомной ма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7B42-DF58-4977-8A58-3A2B6E134F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 1869 г. открыл основополагающий закон химии – Периодически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5D7F-B757-4F84-8DF7-5F491059B5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.Н. Беке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л ряд активности мет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6597-30C4-4AA3-BFD7-5FD4AC6889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П. Ан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ург, изобрёл способ закалки стали. Раскрыл секрет получения булатной ст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0CD4-EE31-4712-9153-3580205E6E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ки химических знаний – в старинных ремеслах и философских представлениях Древн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слова «химия» не имеет однозначного толк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н.э. длился доалхимический этап развития химии. Теоретические и практические знания о веществах развивались относительно независимо друг от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и алхимического период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-X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в.) зародилась экспериментальная химия, накопились знания о веще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началось становление химии как науки. Современный этап развития химии берет начало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и длится до наших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34FF-186A-420C-B379-562883DDC3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0F8F-B7DA-4379-BEB1-844BC98112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FBEF-6840-40E0-903F-B586F8D5A1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 химии известный ученый М.В. Ломоносов сказал следующее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Широко распростирает химия руки сво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ла человеческие…куда не посмотрим, куда не оглянемся, везде обращаются перед очами нашими успехи ее и прилеж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DB66-F593-4184-9068-C69ED1B2E23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7EFA-B6DD-4766-8A56-4BD239F9C8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e1c11"/>
                </a:solidFill>
                <a:latin typeface="Calibri"/>
              </a:rPr>
              <a:t>Химия</a:t>
            </a: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 – наука о веществ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их свойств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взаимных превращени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и процессах, их сопровождающих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7FBB-6B6D-40EA-9782-02ED3E627D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ещество</a:t>
            </a:r>
            <a:r>
              <a:rPr b="0" lang="ru-RU" sz="1200" spc="-1" strike="noStrike">
                <a:solidFill>
                  <a:srgbClr val="d6e8b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d6e8b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, из чего состоят физические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78BD-5257-4301-B681-F37AD01031D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язь химии с другими на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59F3-A845-4A66-A7BB-E9F769472C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нденции развит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F1CE-542F-4461-A655-447CC30CE0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eada"/>
                </a:solidFill>
                <a:latin typeface="Calibri"/>
              </a:rPr>
              <a:t>Происхождение термина “химия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и зрения на происхождение слова хи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</a:t>
            </a:r>
            <a:r>
              <a:rPr b="0" lang="ru-RU" sz="1200" spc="-1" strike="noStrike">
                <a:solidFill>
                  <a:srgbClr val="fcfbf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е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ипет.) — «черная» (земля). Это древнее название Египта, где зародилась наука хим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Кг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ипет.) — «черная» (наука). Алхимия как темная, дьявольская наука (сравнить с чернокнижием — колдовством, основанным на действия нечистой силы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ю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ревнегреч.) - «литье» металлов (глагол хго — «лью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о же корня и греч.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юм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«сок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К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ревнекитайск.) — «золото». Тогда химию можно толковать как златодели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583A-AD09-4A46-9B15-4A0289B6C5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в дре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ое производство существовало уже за 3 – 4 тысячи лет до н. 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1AF0-EB0A-435A-BC09-AC15DB32C9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DF58-5377-4B1B-A10D-D2C6F6FE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30D-FF97-4A6E-BA5D-27A5CA96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42E-FE41-49C1-820A-2C4EA66C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D98-1A80-414F-B771-34BD1AF3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7444-A1E6-4E25-940A-E7C4B5CC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FFC9-EC10-4E6B-8FFF-7F32E013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F1BC-423F-4857-8467-8EDD1F18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AAC0-8BFB-4964-97BF-71E3CCD0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7021-1E23-4377-8083-46BDBB51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BDFC-F517-4EC8-B3F2-AA9081BE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0C9B-C4E3-4386-A279-4AE8C703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AC5-8B5E-4FB5-A701-9D778738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175A-4719-478E-93A6-9B098D02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DA47-C1EC-4F6B-9DB2-81527812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AA23-C23C-45DA-A1A5-2523EB5A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9A88-E0C3-4861-B7C7-BFFD444A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A31A-C655-442D-BCAB-FE7F8FAE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B989-1890-4E2C-B521-F6D5BB8F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898E-A2F4-49EE-9379-22ECFAB5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8CC-97DE-4E13-8678-897AA21D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DF1D-561F-46F0-804D-AE0B0633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906D-D9D2-4370-8C84-25A23EFF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5F3-BC31-4E7F-8556-1247C14E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4A7B-A4AD-427B-9F3A-E0E4C5B7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77D3-1275-4719-9B07-AA726C22BC34}" type="datetime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FA2B-4BB4-48DD-981F-4D7C55173246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9EE1-2D9C-4FD2-877D-6B707B6192D1}" type="datetime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A360-389E-4CA6-BB20-1CFBE9C21EE1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82520" y="1474920"/>
            <a:ext cx="9326520" cy="327960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5"/>
          <p:cNvSpPr/>
          <p:nvPr/>
        </p:nvSpPr>
        <p:spPr>
          <a:xfrm>
            <a:off x="6934320" y="6172200"/>
            <a:ext cx="2057400" cy="380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724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Занятие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Египет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240" y="129528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Древнем Египте умели выплавлять из руд металлы, получать их сплавы, производили стекло, керамику, пигменты, краски, духи, делали вино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Египтяне были непревзойдёнными скульпторами и строителями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3" name="Picture 14" descr="Сфинкс"/>
          <p:cNvPicPr/>
          <p:nvPr/>
        </p:nvPicPr>
        <p:blipFill>
          <a:blip r:embed="rId1"/>
          <a:stretch/>
        </p:blipFill>
        <p:spPr>
          <a:xfrm>
            <a:off x="4648320" y="3200400"/>
            <a:ext cx="4284720" cy="28623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Химия в Древнем Египте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6" name="Picture 3" descr="Химия в Древнем Египте"/>
          <p:cNvPicPr/>
          <p:nvPr/>
        </p:nvPicPr>
        <p:blipFill>
          <a:blip r:embed="rId1"/>
          <a:stretch/>
        </p:blipFill>
        <p:spPr>
          <a:xfrm>
            <a:off x="0" y="2133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533412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Египетские жрецы владели приёмами бальзамирования тел умерших фараонов и зна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демокрит"/>
          <p:cNvPicPr/>
          <p:nvPr/>
        </p:nvPicPr>
        <p:blipFill>
          <a:blip r:embed="rId1"/>
          <a:stretch/>
        </p:blipFill>
        <p:spPr>
          <a:xfrm>
            <a:off x="4800600" y="2666880"/>
            <a:ext cx="4038480" cy="3694320"/>
          </a:xfrm>
          <a:prstGeom prst="rect">
            <a:avLst/>
          </a:prstGeom>
          <a:ln w="0">
            <a:noFill/>
          </a:ln>
        </p:spPr>
      </p:pic>
      <p:pic>
        <p:nvPicPr>
          <p:cNvPr id="140" name="Text Box 4" descr=""/>
          <p:cNvPicPr/>
          <p:nvPr/>
        </p:nvPicPr>
        <p:blipFill>
          <a:blip r:embed="rId2"/>
          <a:stretch/>
        </p:blipFill>
        <p:spPr>
          <a:xfrm>
            <a:off x="384120" y="341280"/>
            <a:ext cx="8491680" cy="1663560"/>
          </a:xfrm>
          <a:prstGeom prst="rect">
            <a:avLst/>
          </a:prstGeom>
          <a:ln w="0">
            <a:noFill/>
          </a:ln>
        </p:spPr>
      </p:pic>
      <p:pic>
        <p:nvPicPr>
          <p:cNvPr id="141" name="Text Box 5" descr=""/>
          <p:cNvPicPr/>
          <p:nvPr/>
        </p:nvPicPr>
        <p:blipFill>
          <a:blip r:embed="rId3"/>
          <a:stretch/>
        </p:blipFill>
        <p:spPr>
          <a:xfrm>
            <a:off x="341280" y="2249640"/>
            <a:ext cx="4675320" cy="3365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аристотель"/>
          <p:cNvPicPr/>
          <p:nvPr/>
        </p:nvPicPr>
        <p:blipFill>
          <a:blip r:embed="rId1"/>
          <a:stretch/>
        </p:blipFill>
        <p:spPr>
          <a:xfrm>
            <a:off x="457200" y="1523880"/>
            <a:ext cx="4495680" cy="4910400"/>
          </a:xfrm>
          <a:prstGeom prst="rect">
            <a:avLst/>
          </a:prstGeom>
          <a:ln w="0">
            <a:noFill/>
          </a:ln>
        </p:spPr>
      </p:pic>
      <p:pic>
        <p:nvPicPr>
          <p:cNvPr id="145" name="Text Box 6" descr=""/>
          <p:cNvPicPr/>
          <p:nvPr/>
        </p:nvPicPr>
        <p:blipFill>
          <a:blip r:embed="rId2"/>
          <a:stretch/>
        </p:blipFill>
        <p:spPr>
          <a:xfrm>
            <a:off x="841320" y="201600"/>
            <a:ext cx="7388280" cy="1560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Text Box 8" descr=""/>
          <p:cNvPicPr/>
          <p:nvPr/>
        </p:nvPicPr>
        <p:blipFill>
          <a:blip r:embed="rId3"/>
          <a:stretch/>
        </p:blipFill>
        <p:spPr>
          <a:xfrm>
            <a:off x="4724280" y="2462040"/>
            <a:ext cx="4303800" cy="3232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79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емало веществ дошло до наших дней из глубокой древности. Одно из таких веществ аммиак (хлорид аммония)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1" name="Picture 3" descr="C:\Documents and Settings\User\Мои документы\Загрузки\для Саши\Храм Амона\2.jpg"/>
          <p:cNvPicPr/>
          <p:nvPr/>
        </p:nvPicPr>
        <p:blipFill>
          <a:blip r:embed="rId2"/>
          <a:stretch/>
        </p:blipFill>
        <p:spPr>
          <a:xfrm>
            <a:off x="2209680" y="27432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Text Box 6" descr=""/>
          <p:cNvPicPr/>
          <p:nvPr/>
        </p:nvPicPr>
        <p:blipFill>
          <a:blip r:embed="rId3"/>
          <a:stretch/>
        </p:blipFill>
        <p:spPr>
          <a:xfrm>
            <a:off x="4041720" y="6108840"/>
            <a:ext cx="5102280" cy="6886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2" descr=""/>
          <p:cNvPicPr/>
          <p:nvPr/>
        </p:nvPicPr>
        <p:blipFill>
          <a:blip r:embed="rId1"/>
          <a:stretch/>
        </p:blipFill>
        <p:spPr>
          <a:xfrm>
            <a:off x="384120" y="-96840"/>
            <a:ext cx="8229600" cy="1736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304920" y="1295280"/>
            <a:ext cx="4952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поисках философского камня, который якобы превращает металлы в золото зародилась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entury Gothic"/>
              </a:rPr>
              <a:t>экспериментальная химия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углубились и расширились знания о веществах и химических процессах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57" name="Содержимое 1"/>
          <p:cNvSpPr/>
          <p:nvPr/>
        </p:nvSpPr>
        <p:spPr>
          <a:xfrm>
            <a:off x="2057400" y="487692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Парацельс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86200" y="1828800"/>
            <a:ext cx="4952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АРАЦЕЛЬС (1493-1541), врач и естествоиспытатель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дин из основателей – «отец» ятрохимии – науки о лекарствах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пособствовал внедрению химических препаратов в медицину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1" name="Picture 6" descr="Парацельс"/>
          <p:cNvPicPr/>
          <p:nvPr/>
        </p:nvPicPr>
        <p:blipFill>
          <a:blip r:embed="rId1"/>
          <a:stretch/>
        </p:blipFill>
        <p:spPr>
          <a:xfrm>
            <a:off x="533520" y="1600200"/>
            <a:ext cx="2703240" cy="42577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Заголовок 2"/>
          <p:cNvGrpSpPr/>
          <p:nvPr/>
        </p:nvGrpSpPr>
        <p:grpSpPr>
          <a:xfrm>
            <a:off x="401760" y="579600"/>
            <a:ext cx="8340480" cy="1176120"/>
            <a:chOff x="401760" y="579600"/>
            <a:chExt cx="8340480" cy="1176120"/>
          </a:xfrm>
        </p:grpSpPr>
        <p:pic>
          <p:nvPicPr>
            <p:cNvPr id="164" name="Заголовок 2" descr=""/>
            <p:cNvPicPr/>
            <p:nvPr/>
          </p:nvPicPr>
          <p:blipFill>
            <a:blip r:embed="rId1"/>
            <a:stretch/>
          </p:blipFill>
          <p:spPr>
            <a:xfrm>
              <a:off x="401760" y="579600"/>
              <a:ext cx="834048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57200" y="762120"/>
              <a:ext cx="8229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entury Gothic"/>
                </a:rPr>
                <a:t>Роберт Бойль (1627-1691 гг.)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 txBox="1"/>
          <p:nvPr/>
        </p:nvSpPr>
        <p:spPr>
          <a:xfrm>
            <a:off x="457200" y="1523880"/>
            <a:ext cx="5029200" cy="51055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Основатель  аналитической химии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Сторонник атомизма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Главная задача химии в изучении состава веществ и зависимости свойств веществ от его состава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Приготовил первый индикатор – реактив, изменяющий свою окраску в присутствии кислот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7" name="Picture 2" descr="C:\Documents and Settings\User\Мои документы\Загрузки\для Саши\Боиль\BOYLE.JPG"/>
          <p:cNvPicPr/>
          <p:nvPr/>
        </p:nvPicPr>
        <p:blipFill>
          <a:blip r:embed="rId2"/>
          <a:stretch/>
        </p:blipFill>
        <p:spPr>
          <a:xfrm>
            <a:off x="5715000" y="2133720"/>
            <a:ext cx="3219480" cy="38862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68256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Конец XVIII век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Антуан Лоран Лавуазье(1743-1794 г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1" name="Содержимое 1"/>
          <p:cNvGrpSpPr/>
          <p:nvPr/>
        </p:nvGrpSpPr>
        <p:grpSpPr>
          <a:xfrm>
            <a:off x="4054320" y="1901880"/>
            <a:ext cx="4997520" cy="4657680"/>
            <a:chOff x="4054320" y="1901880"/>
            <a:chExt cx="4997520" cy="4657680"/>
          </a:xfrm>
        </p:grpSpPr>
        <p:pic>
          <p:nvPicPr>
            <p:cNvPr id="172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4054320" y="1901880"/>
              <a:ext cx="4997520" cy="46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191120" y="1981080"/>
              <a:ext cx="4724280" cy="44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едположил, что атмосферный воздух имеет сложный состав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сформулировал основы кислородной теории горения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Выявил суть процессов дыхания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едложил новую номенклатуру химических соединений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4" name="Picture 2" descr="C:\Documents and Settings\User\Мои документы\Загрузки\для Саши\лавуазье\33e15b432c7b16d85194a2064d3.jpg"/>
          <p:cNvPicPr/>
          <p:nvPr/>
        </p:nvPicPr>
        <p:blipFill>
          <a:blip r:embed="rId2"/>
          <a:stretch/>
        </p:blipFill>
        <p:spPr>
          <a:xfrm>
            <a:off x="380880" y="1828800"/>
            <a:ext cx="3581640" cy="47228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68256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Конец XVIII век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Михаил Васильевич Ломоносов (1711-1765 г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8" name="Содержимое 1"/>
          <p:cNvGrpSpPr/>
          <p:nvPr/>
        </p:nvGrpSpPr>
        <p:grpSpPr>
          <a:xfrm>
            <a:off x="4121280" y="2133720"/>
            <a:ext cx="4717800" cy="1603080"/>
            <a:chOff x="4121280" y="2133720"/>
            <a:chExt cx="4717800" cy="1603080"/>
          </a:xfrm>
        </p:grpSpPr>
        <p:pic>
          <p:nvPicPr>
            <p:cNvPr id="179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4121280" y="2133720"/>
              <a:ext cx="471780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267080" y="2209680"/>
              <a:ext cx="449604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именял точные измерения при изучении химических реакций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Picture 3" descr="C:\Documents and Settings\User\Мои документы\Загрузки\для Саши\Ломоносов\timeline-lomonosov.jpg"/>
          <p:cNvPicPr/>
          <p:nvPr/>
        </p:nvPicPr>
        <p:blipFill>
          <a:blip r:embed="rId2"/>
          <a:stretch/>
        </p:blipFill>
        <p:spPr>
          <a:xfrm>
            <a:off x="457200" y="1600200"/>
            <a:ext cx="3505320" cy="5011560"/>
          </a:xfrm>
          <a:prstGeom prst="rect">
            <a:avLst/>
          </a:prstGeom>
          <a:ln w="0">
            <a:noFill/>
          </a:ln>
        </p:spPr>
      </p:pic>
      <p:grpSp>
        <p:nvGrpSpPr>
          <p:cNvPr id="182" name="Содержимое 1"/>
          <p:cNvGrpSpPr/>
          <p:nvPr/>
        </p:nvGrpSpPr>
        <p:grpSpPr>
          <a:xfrm>
            <a:off x="4194000" y="4078440"/>
            <a:ext cx="4700880" cy="1736640"/>
            <a:chOff x="4194000" y="4078440"/>
            <a:chExt cx="4700880" cy="1736640"/>
          </a:xfrm>
        </p:grpSpPr>
        <p:pic>
          <p:nvPicPr>
            <p:cNvPr id="183" name="Содержимое 1" descr=""/>
            <p:cNvPicPr/>
            <p:nvPr/>
          </p:nvPicPr>
          <p:blipFill>
            <a:blip r:embed="rId3"/>
            <a:stretch/>
          </p:blipFill>
          <p:spPr>
            <a:xfrm>
              <a:off x="4194000" y="4078440"/>
              <a:ext cx="470088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343400" y="4191120"/>
              <a:ext cx="44956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Сформулировал закон сохранения массы веществ в химических реакция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План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3" name="Содержимое 5" descr=""/>
          <p:cNvPicPr/>
          <p:nvPr/>
        </p:nvPicPr>
        <p:blipFill>
          <a:blip r:embed="rId1"/>
          <a:stretch/>
        </p:blipFill>
        <p:spPr>
          <a:xfrm>
            <a:off x="208080" y="1523880"/>
            <a:ext cx="8339040" cy="498024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БЕРЦЕЛИУС Йёнс Якоб</a:t>
            </a:r>
            <a:br>
              <a:rPr sz="3200"/>
            </a:b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1779 г. - 1848 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42960" y="1857240"/>
            <a:ext cx="3643200" cy="477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648320" y="1928520"/>
            <a:ext cx="4038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временные обозначения химических элементов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первые ввёл формулы химических соединений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Заголовок 4"/>
          <p:cNvGrpSpPr/>
          <p:nvPr/>
        </p:nvGrpSpPr>
        <p:grpSpPr>
          <a:xfrm>
            <a:off x="219240" y="347760"/>
            <a:ext cx="8699400" cy="1279440"/>
            <a:chOff x="219240" y="347760"/>
            <a:chExt cx="8699400" cy="1279440"/>
          </a:xfrm>
        </p:grpSpPr>
        <p:pic>
          <p:nvPicPr>
            <p:cNvPr id="191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219240" y="347760"/>
              <a:ext cx="869940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7200" y="457200"/>
              <a:ext cx="82296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entury Gothic"/>
                </a:rPr>
                <a:t>Джон Дальтон (1766-1844 гг.)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3" name="Picture 2" descr="C:\Documents and Settings\User\Мои документы\Загрузки\для Саши\Дальтон\200px-John_Pond.jpg"/>
          <p:cNvPicPr/>
          <p:nvPr/>
        </p:nvPicPr>
        <p:blipFill>
          <a:blip r:embed="rId2"/>
          <a:stretch/>
        </p:blipFill>
        <p:spPr>
          <a:xfrm>
            <a:off x="609480" y="2135160"/>
            <a:ext cx="3581640" cy="4226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4419360" y="2742840"/>
            <a:ext cx="4421160" cy="2971800"/>
          </a:xfrm>
          <a:prstGeom prst="rect">
            <a:avLst/>
          </a:prstGeom>
          <a:gradFill rotWithShape="0">
            <a:gsLst>
              <a:gs pos="0">
                <a:srgbClr val="e4ff9f"/>
              </a:gs>
              <a:gs pos="100000">
                <a:srgbClr val="f8ffe4"/>
              </a:gs>
            </a:gsLst>
            <a:lin ang="16200000"/>
          </a:gradFill>
          <a:ln w="9360">
            <a:solidFill>
              <a:srgbClr val="a3c1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Экспериментально подтвердил атомистическую теорию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здал атомно-молекулярную теорию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вел понятие атомной масс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2133720" y="304920"/>
            <a:ext cx="4114800" cy="116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Д. И. Менделе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(1834-19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Text Box 4" descr=""/>
          <p:cNvPicPr/>
          <p:nvPr/>
        </p:nvPicPr>
        <p:blipFill>
          <a:blip r:embed="rId1"/>
          <a:stretch/>
        </p:blipFill>
        <p:spPr>
          <a:xfrm>
            <a:off x="231840" y="1511280"/>
            <a:ext cx="8686800" cy="1231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таблица"/>
          <p:cNvPicPr/>
          <p:nvPr/>
        </p:nvPicPr>
        <p:blipFill>
          <a:blip r:embed="rId2"/>
          <a:stretch/>
        </p:blipFill>
        <p:spPr>
          <a:xfrm>
            <a:off x="228600" y="281952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E:\Загрузки\mendeleev.jpg"/>
          <p:cNvPicPr/>
          <p:nvPr/>
        </p:nvPicPr>
        <p:blipFill>
          <a:blip r:embed="rId3"/>
          <a:stretch/>
        </p:blipFill>
        <p:spPr>
          <a:xfrm>
            <a:off x="4857840" y="3200400"/>
            <a:ext cx="4286160" cy="27432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5640" y="4571640"/>
            <a:ext cx="3352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Н.Н. Бекетов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2" name="Picture 5" descr="Бекетов"/>
          <p:cNvPicPr/>
          <p:nvPr/>
        </p:nvPicPr>
        <p:blipFill>
          <a:blip r:embed="rId1"/>
          <a:stretch/>
        </p:blipFill>
        <p:spPr>
          <a:xfrm>
            <a:off x="0" y="3886200"/>
            <a:ext cx="2476440" cy="2971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7920" y="5562720"/>
            <a:ext cx="3124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ткрыл ряд активности металлов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Picture 7" descr="Лебедев"/>
          <p:cNvPicPr/>
          <p:nvPr/>
        </p:nvPicPr>
        <p:blipFill>
          <a:blip r:embed="rId2"/>
          <a:stretch/>
        </p:blipFill>
        <p:spPr>
          <a:xfrm>
            <a:off x="6656400" y="2057400"/>
            <a:ext cx="2487600" cy="29844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"/>
          <p:cNvSpPr/>
          <p:nvPr/>
        </p:nvSpPr>
        <p:spPr>
          <a:xfrm>
            <a:off x="3200400" y="24382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С.В. Лебеде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3733920" y="3276720"/>
            <a:ext cx="3276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олучил первый синтетический кауч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2"/>
          <p:cNvSpPr/>
          <p:nvPr/>
        </p:nvSpPr>
        <p:spPr>
          <a:xfrm>
            <a:off x="2514600" y="4572000"/>
            <a:ext cx="3962520" cy="152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оугольник 13"/>
          <p:cNvSpPr/>
          <p:nvPr/>
        </p:nvSpPr>
        <p:spPr>
          <a:xfrm>
            <a:off x="2895480" y="2209680"/>
            <a:ext cx="3657600" cy="152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3809880" y="838080"/>
            <a:ext cx="4267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оздал теорию строения органическ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4114800" y="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А.М. Бутле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Бутлеров"/>
          <p:cNvPicPr/>
          <p:nvPr/>
        </p:nvPicPr>
        <p:blipFill>
          <a:blip r:embed="rId3"/>
          <a:stretch/>
        </p:blipFill>
        <p:spPr>
          <a:xfrm>
            <a:off x="152280" y="0"/>
            <a:ext cx="2676600" cy="32115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П.П. Аносов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4" name="Picture 7" descr="Аносов"/>
          <p:cNvPicPr/>
          <p:nvPr/>
        </p:nvPicPr>
        <p:blipFill>
          <a:blip r:embed="rId1"/>
          <a:stretch/>
        </p:blipFill>
        <p:spPr>
          <a:xfrm>
            <a:off x="1692360" y="1989000"/>
            <a:ext cx="2852640" cy="3841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Металлург, изобрёл способ закалки стали. Раскрыл секрет получения булатной стал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solidFill>
            <a:srgbClr val="7cca6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entury Gothic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44792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стоки химических знаний – в старинных ремеслах и философских представлениях Древнего мир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оисхождение слова «химия» не имеет однозначного толкования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До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II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.н.э. длился доалхимический этап развития химии. Теоретические и практические знания о веществах развивались относительно независимо друг от друг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 течении алхимического периода (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II-XVI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в.) зародилась экспериментальная химия, накопились знания о веществах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. началось становление химии как науки. Современный этап развития химии берет начало в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. и длится до наших дней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066680" y="922320"/>
            <a:ext cx="6878880" cy="59356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395280" y="54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2411280" y="549360"/>
            <a:ext cx="4537080" cy="71892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 flipH="1">
            <a:off x="1186920" y="1341360"/>
            <a:ext cx="223236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7"/>
          <p:cNvSpPr/>
          <p:nvPr/>
        </p:nvSpPr>
        <p:spPr>
          <a:xfrm flipH="1">
            <a:off x="3492360" y="1341360"/>
            <a:ext cx="503280" cy="295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4643280" y="1341360"/>
            <a:ext cx="108108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5867280" y="1268280"/>
            <a:ext cx="172908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250920" y="2349360"/>
            <a:ext cx="2881080" cy="129564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1403280" y="4149720"/>
            <a:ext cx="2952720" cy="15112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ельское хозяй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4859280" y="3933720"/>
            <a:ext cx="3600360" cy="15112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пробле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охр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окружающей сре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5867280" y="2276640"/>
            <a:ext cx="3097440" cy="129672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повседнев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жизнь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451440" y="236844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производ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1"/>
          <p:cNvSpPr/>
          <p:nvPr/>
        </p:nvSpPr>
        <p:spPr>
          <a:xfrm flipH="1">
            <a:off x="3492360" y="1341360"/>
            <a:ext cx="50328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22"/>
          <p:cNvSpPr/>
          <p:nvPr/>
        </p:nvSpPr>
        <p:spPr>
          <a:xfrm flipH="1">
            <a:off x="1186920" y="1341360"/>
            <a:ext cx="223236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240" name="Diagram 2"/>
          <p:cNvGrpSpPr/>
          <p:nvPr/>
        </p:nvGrpSpPr>
        <p:grpSpPr>
          <a:xfrm>
            <a:off x="457200" y="1600200"/>
            <a:ext cx="8228880" cy="4525560"/>
            <a:chOff x="457200" y="1600200"/>
            <a:chExt cx="8228880" cy="4525560"/>
          </a:xfrm>
        </p:grpSpPr>
        <p:sp>
          <p:nvSpPr>
            <p:cNvPr id="241" name="_s38916"/>
            <p:cNvSpPr/>
            <p:nvPr/>
          </p:nvSpPr>
          <p:spPr>
            <a:xfrm flipH="1" flipV="1">
              <a:off x="2931840" y="3218040"/>
              <a:ext cx="825480" cy="364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38917"/>
            <p:cNvSpPr/>
            <p:nvPr/>
          </p:nvSpPr>
          <p:spPr>
            <a:xfrm>
              <a:off x="1065240" y="2265480"/>
              <a:ext cx="2096280" cy="11750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Бытовые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прибор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38918"/>
            <p:cNvSpPr/>
            <p:nvPr/>
          </p:nvSpPr>
          <p:spPr>
            <a:xfrm flipH="1">
              <a:off x="2530440" y="4079880"/>
              <a:ext cx="1022760" cy="1321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38919"/>
            <p:cNvSpPr/>
            <p:nvPr/>
          </p:nvSpPr>
          <p:spPr>
            <a:xfrm>
              <a:off x="457200" y="3745800"/>
              <a:ext cx="2096280" cy="11754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ИКТ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_s38920"/>
            <p:cNvSpPr/>
            <p:nvPr/>
          </p:nvSpPr>
          <p:spPr>
            <a:xfrm flipH="1">
              <a:off x="3666600" y="4478760"/>
              <a:ext cx="453240" cy="5292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38921"/>
            <p:cNvSpPr/>
            <p:nvPr/>
          </p:nvSpPr>
          <p:spPr>
            <a:xfrm>
              <a:off x="2169000" y="4950360"/>
              <a:ext cx="2096280" cy="1175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медицин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38922"/>
            <p:cNvSpPr/>
            <p:nvPr/>
          </p:nvSpPr>
          <p:spPr>
            <a:xfrm>
              <a:off x="5029560" y="4478760"/>
              <a:ext cx="456120" cy="5292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38923"/>
            <p:cNvSpPr/>
            <p:nvPr/>
          </p:nvSpPr>
          <p:spPr>
            <a:xfrm>
              <a:off x="4893840" y="4946400"/>
              <a:ext cx="2096280" cy="1175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83763"/>
                  </a:solidFill>
                  <a:latin typeface="Arial"/>
                </a:rPr>
                <a:t>Бытовая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83763"/>
                  </a:solidFill>
                  <a:latin typeface="Arial"/>
                </a:rPr>
                <a:t>химия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_s38924"/>
            <p:cNvSpPr/>
            <p:nvPr/>
          </p:nvSpPr>
          <p:spPr>
            <a:xfrm>
              <a:off x="5595480" y="4079880"/>
              <a:ext cx="1022760" cy="130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38925"/>
            <p:cNvSpPr/>
            <p:nvPr/>
          </p:nvSpPr>
          <p:spPr>
            <a:xfrm>
              <a:off x="6589080" y="3751200"/>
              <a:ext cx="2097000" cy="117540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Tahoma"/>
                  <a:ea typeface="Arial"/>
                </a:rPr>
                <a:t>одежд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38926"/>
            <p:cNvSpPr/>
            <p:nvPr/>
          </p:nvSpPr>
          <p:spPr>
            <a:xfrm flipV="1">
              <a:off x="5392080" y="3216240"/>
              <a:ext cx="817920" cy="3657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_s38927"/>
            <p:cNvSpPr/>
            <p:nvPr/>
          </p:nvSpPr>
          <p:spPr>
            <a:xfrm>
              <a:off x="5980680" y="2261880"/>
              <a:ext cx="2097000" cy="1175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Средства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гигиен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38928"/>
            <p:cNvSpPr/>
            <p:nvPr/>
          </p:nvSpPr>
          <p:spPr>
            <a:xfrm flipV="1">
              <a:off x="4573080" y="2775240"/>
              <a:ext cx="0" cy="5875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_s38929"/>
            <p:cNvSpPr/>
            <p:nvPr/>
          </p:nvSpPr>
          <p:spPr>
            <a:xfrm>
              <a:off x="3524400" y="1600200"/>
              <a:ext cx="2097000" cy="117504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Arial"/>
                  <a:ea typeface="Arial"/>
                </a:rPr>
                <a:t>Пита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38930"/>
            <p:cNvSpPr/>
            <p:nvPr/>
          </p:nvSpPr>
          <p:spPr>
            <a:xfrm>
              <a:off x="3136320" y="3339360"/>
              <a:ext cx="2876400" cy="125712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Потребност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челове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6" name="Picture 2" descr="E:\Загрузки\ima3424ges.jpg"/>
          <p:cNvPicPr/>
          <p:nvPr/>
        </p:nvPicPr>
        <p:blipFill>
          <a:blip r:embed="rId1"/>
          <a:stretch/>
        </p:blipFill>
        <p:spPr>
          <a:xfrm>
            <a:off x="0" y="304920"/>
            <a:ext cx="2190600" cy="2085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E:\Загрузки\im965ages.jpg"/>
          <p:cNvPicPr/>
          <p:nvPr/>
        </p:nvPicPr>
        <p:blipFill>
          <a:blip r:embed="rId2"/>
          <a:stretch/>
        </p:blipFill>
        <p:spPr>
          <a:xfrm>
            <a:off x="7005600" y="4986360"/>
            <a:ext cx="2138400" cy="18716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Oval 6"/>
          <p:cNvSpPr/>
          <p:nvPr/>
        </p:nvSpPr>
        <p:spPr>
          <a:xfrm>
            <a:off x="2666880" y="1523880"/>
            <a:ext cx="3048120" cy="13384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5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Tahoma"/>
              </a:rPr>
              <a:t>Произ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7"/>
          <p:cNvSpPr/>
          <p:nvPr/>
        </p:nvSpPr>
        <p:spPr>
          <a:xfrm>
            <a:off x="755640" y="2781360"/>
            <a:ext cx="1511280" cy="10080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Times New Roman"/>
              </a:rPr>
              <a:t>Сырьё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8"/>
          <p:cNvSpPr/>
          <p:nvPr/>
        </p:nvSpPr>
        <p:spPr>
          <a:xfrm>
            <a:off x="4648320" y="3352680"/>
            <a:ext cx="2449440" cy="720720"/>
          </a:xfrm>
          <a:prstGeom prst="ellipse">
            <a:avLst/>
          </a:prstGeom>
          <a:solidFill>
            <a:srgbClr val="fd5e1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Аппарату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9"/>
          <p:cNvSpPr/>
          <p:nvPr/>
        </p:nvSpPr>
        <p:spPr>
          <a:xfrm>
            <a:off x="1547640" y="4437000"/>
            <a:ext cx="201636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Энерг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3733920" y="4724280"/>
            <a:ext cx="4464000" cy="151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Times New Roman"/>
              </a:rPr>
              <a:t>В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Times New Roman"/>
              </a:rPr>
              <a:t>и другие вспомогательные материа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 flipH="1">
            <a:off x="2195640" y="2492280"/>
            <a:ext cx="100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 flipH="1">
            <a:off x="3059280" y="2781360"/>
            <a:ext cx="79200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3348000" y="256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4356000" y="2781360"/>
            <a:ext cx="0" cy="2162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4876920" y="2743200"/>
            <a:ext cx="660240" cy="65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3" descr="E:\Загрузки\image1s.jpg"/>
          <p:cNvPicPr/>
          <p:nvPr/>
        </p:nvPicPr>
        <p:blipFill>
          <a:blip r:embed="rId1"/>
          <a:stretch/>
        </p:blipFill>
        <p:spPr>
          <a:xfrm>
            <a:off x="152280" y="457200"/>
            <a:ext cx="2009880" cy="2276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E:\Загрузки\imag7674es.jpg"/>
          <p:cNvPicPr/>
          <p:nvPr/>
        </p:nvPicPr>
        <p:blipFill>
          <a:blip r:embed="rId2"/>
          <a:stretch/>
        </p:blipFill>
        <p:spPr>
          <a:xfrm>
            <a:off x="6665760" y="1143000"/>
            <a:ext cx="2478240" cy="247824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О химии известный ученый М.В. Ломоносов сказал следующе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«Широко распростирает химия руки свои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дела человеческие…куда не посмотрим, куда не оглянемся, везде обращаются перед очами нашими успехи ее и прилежения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3" descr=""/>
          <p:cNvPicPr/>
          <p:nvPr/>
        </p:nvPicPr>
        <p:blipFill>
          <a:blip r:embed="rId1"/>
          <a:stretch/>
        </p:blipFill>
        <p:spPr>
          <a:xfrm>
            <a:off x="365040" y="1590840"/>
            <a:ext cx="8334360" cy="5114880"/>
          </a:xfrm>
          <a:prstGeom prst="rect">
            <a:avLst/>
          </a:prstGeom>
          <a:ln w="0">
            <a:noFill/>
          </a:ln>
        </p:spPr>
      </p:pic>
      <p:sp>
        <p:nvSpPr>
          <p:cNvPr id="274" name="Овал 4"/>
          <p:cNvSpPr/>
          <p:nvPr/>
        </p:nvSpPr>
        <p:spPr>
          <a:xfrm>
            <a:off x="609480" y="2438280"/>
            <a:ext cx="27432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Book Antiqua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Содержимое 5" descr=""/>
          <p:cNvPicPr/>
          <p:nvPr/>
        </p:nvPicPr>
        <p:blipFill>
          <a:blip r:embed="rId1"/>
          <a:stretch/>
        </p:blipFill>
        <p:spPr>
          <a:xfrm>
            <a:off x="219240" y="1328760"/>
            <a:ext cx="8400960" cy="5316480"/>
          </a:xfrm>
          <a:prstGeom prst="rect">
            <a:avLst/>
          </a:prstGeom>
          <a:ln w="0">
            <a:noFill/>
          </a:ln>
        </p:spPr>
      </p:pic>
      <p:sp>
        <p:nvSpPr>
          <p:cNvPr id="278" name="Овал 6"/>
          <p:cNvSpPr/>
          <p:nvPr/>
        </p:nvSpPr>
        <p:spPr>
          <a:xfrm>
            <a:off x="3124080" y="2819520"/>
            <a:ext cx="2895840" cy="1600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Загрязнение  окружающей сре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E:\Загрузки\set_56.jpg"/>
          <p:cNvPicPr/>
          <p:nvPr/>
        </p:nvPicPr>
        <p:blipFill>
          <a:blip r:embed="rId2"/>
          <a:stretch/>
        </p:blipFill>
        <p:spPr>
          <a:xfrm>
            <a:off x="3886200" y="4191120"/>
            <a:ext cx="1428840" cy="1361880"/>
          </a:xfrm>
          <a:prstGeom prst="rect">
            <a:avLst/>
          </a:prstGeom>
          <a:ln w="0">
            <a:noFill/>
          </a:ln>
        </p:spPr>
      </p:pic>
      <p:sp>
        <p:nvSpPr>
          <p:cNvPr id="280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entury Gothic"/>
              </a:rPr>
              <a:t>Спасибо за внимание!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entury Gothic"/>
              </a:rPr>
              <a:t>Химия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Скругленный прямоугольник 6"/>
          <p:cNvSpPr/>
          <p:nvPr/>
        </p:nvSpPr>
        <p:spPr>
          <a:xfrm>
            <a:off x="0" y="762120"/>
            <a:ext cx="4429080" cy="16761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a0c"/>
                </a:solidFill>
                <a:latin typeface="Century Gothic"/>
              </a:rPr>
              <a:t>Химия</a:t>
            </a: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 – наука о вещества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их свойствах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взаимных превращения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и процессах, их сопровождающих</a:t>
            </a:r>
            <a:r>
              <a:rPr b="0" lang="ru-RU" sz="2000" spc="-1" strike="noStrike">
                <a:solidFill>
                  <a:srgbClr val="0076a3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Скругленный прямоугольник 9"/>
          <p:cNvSpPr/>
          <p:nvPr/>
        </p:nvSpPr>
        <p:spPr>
          <a:xfrm>
            <a:off x="380880" y="2590920"/>
            <a:ext cx="2590920" cy="6858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Century Gothic"/>
              </a:rPr>
              <a:t>одна из </a:t>
            </a:r>
            <a:r>
              <a:rPr b="1" i="1" lang="ru-RU" sz="1800" spc="-1" strike="noStrike">
                <a:solidFill>
                  <a:srgbClr val="072428"/>
                </a:solidFill>
                <a:latin typeface="Century Gothic"/>
              </a:rPr>
              <a:t>естественных на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E:\документы\Мои документы\Я-учитель\Уроки\Химия\Картинки\Новая папка\35574.gif"/>
          <p:cNvPicPr/>
          <p:nvPr/>
        </p:nvPicPr>
        <p:blipFill>
          <a:blip r:embed="rId1"/>
          <a:stretch/>
        </p:blipFill>
        <p:spPr>
          <a:xfrm>
            <a:off x="3828960" y="3809880"/>
            <a:ext cx="5315040" cy="3048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E:\документы\Мои документы\Я-учитель\Уроки\Химия\Картинки\Новая папка\1196.jpg"/>
          <p:cNvPicPr/>
          <p:nvPr/>
        </p:nvPicPr>
        <p:blipFill>
          <a:blip r:embed="rId2"/>
          <a:stretch/>
        </p:blipFill>
        <p:spPr>
          <a:xfrm>
            <a:off x="228600" y="3524400"/>
            <a:ext cx="3279600" cy="3333600"/>
          </a:xfrm>
          <a:prstGeom prst="rect">
            <a:avLst/>
          </a:prstGeom>
          <a:ln w="0">
            <a:noFill/>
          </a:ln>
        </p:spPr>
      </p:pic>
      <p:sp>
        <p:nvSpPr>
          <p:cNvPr id="103" name="Скругленный прямоугольник 11"/>
          <p:cNvSpPr/>
          <p:nvPr/>
        </p:nvSpPr>
        <p:spPr>
          <a:xfrm>
            <a:off x="6072120" y="20718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Хим.элемен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х соеди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акономерности хим.реак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кругленный прямоугольник 12"/>
          <p:cNvSpPr/>
          <p:nvPr/>
        </p:nvSpPr>
        <p:spPr>
          <a:xfrm>
            <a:off x="3929040" y="2286000"/>
            <a:ext cx="1428840" cy="771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0c"/>
                </a:solidFill>
                <a:latin typeface="Century Gothic"/>
              </a:rPr>
              <a:t>ПРЕДМЕТ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Стрелка вправо 13"/>
          <p:cNvSpPr/>
          <p:nvPr/>
        </p:nvSpPr>
        <p:spPr>
          <a:xfrm>
            <a:off x="5357880" y="250020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Скругленный прямоугольник 14"/>
          <p:cNvSpPr/>
          <p:nvPr/>
        </p:nvSpPr>
        <p:spPr>
          <a:xfrm>
            <a:off x="6572160" y="1000080"/>
            <a:ext cx="2571840" cy="78588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олучение веществ с заранее заданными свойств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кругленный прямоугольник 15"/>
          <p:cNvSpPr/>
          <p:nvPr/>
        </p:nvSpPr>
        <p:spPr>
          <a:xfrm>
            <a:off x="4714920" y="857160"/>
            <a:ext cx="1285920" cy="771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0c"/>
                </a:solidFill>
                <a:latin typeface="Century Gothic"/>
              </a:rPr>
              <a:t>ЗАДАЧА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Стрелка вправо 16"/>
          <p:cNvSpPr/>
          <p:nvPr/>
        </p:nvSpPr>
        <p:spPr>
          <a:xfrm>
            <a:off x="6000840" y="107172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Вещество</a:t>
            </a:r>
            <a:r>
              <a:rPr b="0" lang="ru-RU" sz="2800" spc="-1" strike="noStrike">
                <a:solidFill>
                  <a:srgbClr val="d6e8b6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–</a:t>
            </a:r>
            <a:r>
              <a:rPr b="0" lang="ru-RU" sz="2800" spc="-1" strike="noStrike">
                <a:solidFill>
                  <a:srgbClr val="d6e8b6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то то, из чего состоят физические тел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1" name="Picture 17" descr="брызги моря"/>
          <p:cNvPicPr/>
          <p:nvPr/>
        </p:nvPicPr>
        <p:blipFill>
          <a:blip r:embed="rId1"/>
          <a:stretch/>
        </p:blipFill>
        <p:spPr>
          <a:xfrm>
            <a:off x="380880" y="1447920"/>
            <a:ext cx="3770280" cy="282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Айсберг"/>
          <p:cNvPicPr/>
          <p:nvPr/>
        </p:nvPicPr>
        <p:blipFill>
          <a:blip r:embed="rId2"/>
          <a:stretch/>
        </p:blipFill>
        <p:spPr>
          <a:xfrm>
            <a:off x="4824360" y="3886200"/>
            <a:ext cx="4319640" cy="275580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ый прямоугольник 4"/>
          <p:cNvSpPr/>
          <p:nvPr/>
        </p:nvSpPr>
        <p:spPr>
          <a:xfrm>
            <a:off x="5029200" y="1600200"/>
            <a:ext cx="3048120" cy="18288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имеры вещест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етал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го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исл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оло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Скругленный прямоугольник 5"/>
          <p:cNvSpPr/>
          <p:nvPr/>
        </p:nvSpPr>
        <p:spPr>
          <a:xfrm>
            <a:off x="914400" y="4572000"/>
            <a:ext cx="3048120" cy="18288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им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изических </a:t>
            </a:r>
            <a:r>
              <a:rPr b="1" lang="uk-UA" sz="1800" spc="-1" strike="noStrike">
                <a:solidFill>
                  <a:srgbClr val="000000"/>
                </a:solidFill>
                <a:latin typeface="Century Gothic"/>
              </a:rPr>
              <a:t>те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Чай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Мя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Кувш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Ч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Связь химии с другими наукам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-420840" y="1643040"/>
            <a:ext cx="9564840" cy="38433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Тенденции развития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2" name="Picture 2" descr="на схеме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f3db"/>
                </a:solidFill>
                <a:latin typeface="Century Gothic"/>
              </a:rPr>
              <a:t>Происхождение термина “химия”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Точки зрения на происхождение слова хими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1.   </a:t>
            </a:r>
            <a:r>
              <a:rPr b="0" lang="ru-RU" sz="2400" spc="-1" strike="noStrike">
                <a:solidFill>
                  <a:srgbClr val="b5edfd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ем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египет.) — «черная» (земля). Это древнее название Египта, где зародилась наука хими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2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Кгм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египет.) — «черная» (наука). Алхимия как темная, дьявольская наука (сравнить с чернокнижием — колдовством, основанным на действия нечистой силы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3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юма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древнегреч.) - «литье» металлов (глагол хго — «лью»)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Того же корня и греч.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юмо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— «сок»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4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Ким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древнекитайск.) — «золото». Тогда химию можно толковать как златодели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Химия в древност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Химическое производство существовало уже за 3 – 4 тысячи лет до н. э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9" name="Picture 12" descr="сканирование0006"/>
          <p:cNvPicPr/>
          <p:nvPr/>
        </p:nvPicPr>
        <p:blipFill>
          <a:blip r:embed="rId1"/>
          <a:stretch/>
        </p:blipFill>
        <p:spPr>
          <a:xfrm>
            <a:off x="838080" y="3429000"/>
            <a:ext cx="7705800" cy="27766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Галочка</dc:creator>
  <dc:description/>
  <dc:language>en-US</dc:language>
  <cp:lastModifiedBy>LEGION</cp:lastModifiedBy>
  <dcterms:modified xsi:type="dcterms:W3CDTF">2015-05-01T11:16:35Z</dcterms:modified>
  <cp:revision>85</cp:revision>
  <dc:subject/>
  <dc:title>История развития химии</dc:title>
</cp:coreProperties>
</file>