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37.jpeg" ContentType="image/jpeg"/>
  <Override PartName="/ppt/media/image50.jpeg" ContentType="image/jpeg"/>
  <Override PartName="/ppt/media/image9.jpeg" ContentType="image/jpeg"/>
  <Override PartName="/ppt/media/image48.png" ContentType="image/png"/>
  <Override PartName="/ppt/media/image39.png" ContentType="image/png"/>
  <Override PartName="/ppt/media/image41.png" ContentType="image/pn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4.jpeg" ContentType="image/jpeg"/>
  <Override PartName="/ppt/media/image49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1.png" ContentType="image/png"/>
  <Override PartName="/ppt/media/image3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4ABD-9F50-4F41-A994-85D9AF8DE7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Химия – наука о вещест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EDE7-2F28-42DF-A472-23DEE8ECC2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тяне были непревзойдёнными скульпторами и стро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1BAF-D058-48ED-BEB6-3B96FFAA38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ем Егип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05E3-7F18-4896-A7B0-0257ED9B4A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реческий философ 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 тела состоят из мельчайших, невидимых, неделимых и вечно движущихся частиц-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9173-5958-48E6-8995-B12E96FA6E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ий философ Аристотел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до н. 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D7B5-4B20-467F-8A68-0EB7048437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Доалхимиче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B208-35A2-4EA3-8C30-62C29019F5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Алхимический период</a:t>
            </a:r>
            <a:br>
              <a:rPr sz="1200"/>
            </a:b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 (с III в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спериментальная хи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ились и расширились знания о веществах и химических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2270-BEE1-47CE-A687-C864FFE047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ацель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), врач и естествоиспытате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– «отец» ятрохимии – науки о лекар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 внедрению химических препаратов в медиц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4D8E-1CED-4A6C-895B-7EB81F4971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(1627-169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 аналитической хим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ник атом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 первый индикатор – реактив, изменяющий свою окраску в присутствии 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65F4-1B7C-4CC9-9C3E-C2C7288896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туан Лоран Лавуазье(1743-1794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л, что атмосферный воздух имеет сложный сост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основы кислородной теории го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л суть процессов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ил новую номенклатуру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127C-23F1-4D31-B036-F41BFBEA7F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хаил Васильевич Ломоносов (1711-1765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л точные измерения при изучении химических реа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3A42-10FA-4AE7-ADC2-54812DAC77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CE46-0F53-4617-9DC0-507A2567E4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ЦЕЛИУС Йёнс Якоб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779 г. - 1848 г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бозначения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вёл формулы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2CB4-9862-48CF-99D1-33F62E14F8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альтон (1766-184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 подтвердил атомистическ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 атомно-молекулярн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е атомной ма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A351-BC78-41EE-8E93-4F605D6D3A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3860-5C5A-41D2-9591-91F0592311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.Н. Беке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ряд активности 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AE29-CA60-4EA8-B1BE-B51700CB6D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А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, изобрёл способ закалки стали. Раскрыл секрет получения булатной ст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A2EB-2B01-4DA7-B663-45E0595318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ова «химия» не имеет однозначного толк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и алхимического перио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-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) зародилась экспериментальная химия, накопились знания о веще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и длится до наш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BB07-93FF-401F-94DC-19EE871AF6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062B-FBD6-4C27-95AA-BC11959EEC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5D31-3E74-4AEE-B2E4-BA7D72401C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химии известный ученый М.В. Ломоносов сказал следующее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6CD6-359C-404E-BE76-8052434F8D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0D62-0060-4164-B2BA-0206AD898F2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Химия</a:t>
            </a: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 – наука о веществ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х свойств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взаимных превращен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 процессах, их сопровождающих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E4D3-EB2F-4244-96E8-D0272A4A01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ещество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, из чего состоят физически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4FFA-C1D5-4A62-A96A-4C4258147D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язь хим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24EA-C493-42A1-B8EC-6175161811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и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7932-86A5-4CF4-8486-7D04A4EC4E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eada"/>
                </a:solidFill>
                <a:latin typeface="Calibri"/>
              </a:rPr>
              <a:t>Происхождение термина “химия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зрения на происхождение слов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</a:t>
            </a:r>
            <a:r>
              <a:rPr b="0" lang="ru-RU" sz="1200" spc="-1" strike="noStrike">
                <a:solidFill>
                  <a:srgbClr val="fcfbf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е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земля). Это древнее название Египта, где зародилась наука хим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г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греч.) - «литье» металлов (глагол хго — «лью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о же корня и греч.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«сок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китайск.) — «золото». Тогда химию можно толковать как златодел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C07D-488F-44D0-BA67-7F2DA22A8A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е производство существовало уже за 3 – 4 тысячи лет до н.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974A-D9B7-4F2A-9B34-65182971AF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84B-0FD5-4704-B200-5B33A31B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8BD-8103-4A79-8371-D209DE0F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CA2-D34C-413B-937C-07A8C832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C75-4C13-470F-AF80-1B3A217B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B899-EF4C-4C7D-AB59-FBC5E44D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1E9D-AEDD-4A84-B73A-2318DEE9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00F7-E468-43F9-B714-A794C1A5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3E22-92E3-43FC-8236-4586706C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9F6C-39AF-4FFE-BDF2-C84A3CE7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B833-1AE7-4158-A982-0338E871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E370-6461-4FC8-B114-3DC59819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19D-F69A-4E7A-B7A0-A9C1EEA3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7689-EC46-4D70-BEF2-F2E3D3DF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61FF-51EB-4322-B840-05F5C889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C878-0EC3-4013-B966-FE1C988B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D561-8A13-4A06-9F82-CD9A4D8A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B8B0-D054-43D9-9F6B-EE6475B9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0A4-B480-4299-A844-FDD56790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5DB-5D17-4895-82C6-8AB279EA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84E-4639-4E14-8AD0-51D3201A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34B-2CC4-4734-8A55-2901170E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CA7-4263-4CE0-8E76-3A288474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C24-01D8-4F2B-AD71-85C47154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F0E-30A8-4A1D-8CCB-337DA0DC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2AD0-0AFF-4886-9C12-150BCB1C0AE2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504D-B092-46DC-BFF3-63B56D930B41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4447-3085-449B-9643-960A60B25DB9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1149-1764-4D27-A750-69F65B0FB1B3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82520" y="1474920"/>
            <a:ext cx="9326520" cy="327960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5"/>
          <p:cNvSpPr/>
          <p:nvPr/>
        </p:nvSpPr>
        <p:spPr>
          <a:xfrm>
            <a:off x="6934320" y="6172200"/>
            <a:ext cx="205740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72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нятие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Египет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2952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тяне были непревзойдёнными скульпторами и строителя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3" name="Picture 14" descr="Сфинкс"/>
          <p:cNvPicPr/>
          <p:nvPr/>
        </p:nvPicPr>
        <p:blipFill>
          <a:blip r:embed="rId1"/>
          <a:stretch/>
        </p:blipFill>
        <p:spPr>
          <a:xfrm>
            <a:off x="4648320" y="3200400"/>
            <a:ext cx="4284720" cy="2862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ем Египт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6" name="Picture 3" descr="Химия в Древнем Египте"/>
          <p:cNvPicPr/>
          <p:nvPr/>
        </p:nvPicPr>
        <p:blipFill>
          <a:blip r:embed="rId1"/>
          <a:stretch/>
        </p:blipFill>
        <p:spPr>
          <a:xfrm>
            <a:off x="0" y="2133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3341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етские жрецы владели приёмами бальзамирования тел умерших фараонов и зна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демокрит"/>
          <p:cNvPicPr/>
          <p:nvPr/>
        </p:nvPicPr>
        <p:blipFill>
          <a:blip r:embed="rId1"/>
          <a:stretch/>
        </p:blipFill>
        <p:spPr>
          <a:xfrm>
            <a:off x="4800600" y="2666880"/>
            <a:ext cx="4038480" cy="369432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4" descr=""/>
          <p:cNvPicPr/>
          <p:nvPr/>
        </p:nvPicPr>
        <p:blipFill>
          <a:blip r:embed="rId2"/>
          <a:stretch/>
        </p:blipFill>
        <p:spPr>
          <a:xfrm>
            <a:off x="384120" y="341280"/>
            <a:ext cx="8491680" cy="166356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5" descr=""/>
          <p:cNvPicPr/>
          <p:nvPr/>
        </p:nvPicPr>
        <p:blipFill>
          <a:blip r:embed="rId3"/>
          <a:stretch/>
        </p:blipFill>
        <p:spPr>
          <a:xfrm>
            <a:off x="341280" y="2249640"/>
            <a:ext cx="4675320" cy="3365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аристотель"/>
          <p:cNvPicPr/>
          <p:nvPr/>
        </p:nvPicPr>
        <p:blipFill>
          <a:blip r:embed="rId1"/>
          <a:stretch/>
        </p:blipFill>
        <p:spPr>
          <a:xfrm>
            <a:off x="457200" y="1523880"/>
            <a:ext cx="4495680" cy="4910400"/>
          </a:xfrm>
          <a:prstGeom prst="rect">
            <a:avLst/>
          </a:prstGeom>
          <a:ln w="0">
            <a:noFill/>
          </a:ln>
        </p:spPr>
      </p:pic>
      <p:pic>
        <p:nvPicPr>
          <p:cNvPr id="145" name="Text Box 6" descr=""/>
          <p:cNvPicPr/>
          <p:nvPr/>
        </p:nvPicPr>
        <p:blipFill>
          <a:blip r:embed="rId2"/>
          <a:stretch/>
        </p:blipFill>
        <p:spPr>
          <a:xfrm>
            <a:off x="841320" y="201600"/>
            <a:ext cx="7388280" cy="1560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Text Box 8" descr=""/>
          <p:cNvPicPr/>
          <p:nvPr/>
        </p:nvPicPr>
        <p:blipFill>
          <a:blip r:embed="rId3"/>
          <a:stretch/>
        </p:blipFill>
        <p:spPr>
          <a:xfrm>
            <a:off x="4724280" y="2462040"/>
            <a:ext cx="4303800" cy="3232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1" name="Picture 3" descr="C:\Documents and Settings\User\Мои документы\Загрузки\для Саши\Храм Амона\2.jpg"/>
          <p:cNvPicPr/>
          <p:nvPr/>
        </p:nvPicPr>
        <p:blipFill>
          <a:blip r:embed="rId2"/>
          <a:stretch/>
        </p:blipFill>
        <p:spPr>
          <a:xfrm>
            <a:off x="220968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Text Box 6" descr=""/>
          <p:cNvPicPr/>
          <p:nvPr/>
        </p:nvPicPr>
        <p:blipFill>
          <a:blip r:embed="rId3"/>
          <a:stretch/>
        </p:blipFill>
        <p:spPr>
          <a:xfrm>
            <a:off x="4041720" y="6108840"/>
            <a:ext cx="5102280" cy="6886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2" descr=""/>
          <p:cNvPicPr/>
          <p:nvPr/>
        </p:nvPicPr>
        <p:blipFill>
          <a:blip r:embed="rId1"/>
          <a:stretch/>
        </p:blipFill>
        <p:spPr>
          <a:xfrm>
            <a:off x="384120" y="-96840"/>
            <a:ext cx="822960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04920" y="12952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 Gothic"/>
              </a:rPr>
              <a:t>экспериментальная хим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углубились и расширились знания о веществах и химических процесс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1"/>
          <p:cNvSpPr/>
          <p:nvPr/>
        </p:nvSpPr>
        <p:spPr>
          <a:xfrm>
            <a:off x="2057400" y="487692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арацель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АРАЦЕЛЬС (1493-1541), врач и естествоиспытатель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дин из основателей – «отец» ятрохимии – науки о лекарств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пособствовал внедрению химических препаратов в медицин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1" name="Picture 6" descr="Парацельс"/>
          <p:cNvPicPr/>
          <p:nvPr/>
        </p:nvPicPr>
        <p:blipFill>
          <a:blip r:embed="rId1"/>
          <a:stretch/>
        </p:blipFill>
        <p:spPr>
          <a:xfrm>
            <a:off x="533520" y="1600200"/>
            <a:ext cx="2703240" cy="42577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Заголовок 2"/>
          <p:cNvGrpSpPr/>
          <p:nvPr/>
        </p:nvGrpSpPr>
        <p:grpSpPr>
          <a:xfrm>
            <a:off x="401760" y="579600"/>
            <a:ext cx="8340480" cy="1176120"/>
            <a:chOff x="401760" y="579600"/>
            <a:chExt cx="8340480" cy="1176120"/>
          </a:xfrm>
        </p:grpSpPr>
        <p:pic>
          <p:nvPicPr>
            <p:cNvPr id="164" name="Заголовок 2" descr=""/>
            <p:cNvPicPr/>
            <p:nvPr/>
          </p:nvPicPr>
          <p:blipFill>
            <a:blip r:embed="rId1"/>
            <a:stretch/>
          </p:blipFill>
          <p:spPr>
            <a:xfrm>
              <a:off x="401760" y="579600"/>
              <a:ext cx="8340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57200" y="7621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entury Gothic"/>
                </a:rPr>
                <a:t>Роберт Бойль (1627-1691 гг.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457200" y="1523880"/>
            <a:ext cx="5029200" cy="51055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снователь  аналитической химии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Сторонник атомизм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Приготовил первый индикатор – реактив, изменяющий свою окраску в присутствии кисло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7" name="Picture 2" descr="C:\Documents and Settings\User\Мои документы\Загрузки\для Саши\Боиль\BOYLE.JPG"/>
          <p:cNvPicPr/>
          <p:nvPr/>
        </p:nvPicPr>
        <p:blipFill>
          <a:blip r:embed="rId2"/>
          <a:stretch/>
        </p:blipFill>
        <p:spPr>
          <a:xfrm>
            <a:off x="5715000" y="213372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Антуан Лоран Лавуазье(1743-1794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1" name="Содержимое 1"/>
          <p:cNvGrpSpPr/>
          <p:nvPr/>
        </p:nvGrpSpPr>
        <p:grpSpPr>
          <a:xfrm>
            <a:off x="4054320" y="1901880"/>
            <a:ext cx="4997520" cy="4657680"/>
            <a:chOff x="4054320" y="1901880"/>
            <a:chExt cx="4997520" cy="4657680"/>
          </a:xfrm>
        </p:grpSpPr>
        <p:pic>
          <p:nvPicPr>
            <p:cNvPr id="172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054320" y="1901880"/>
              <a:ext cx="499752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191120" y="1981080"/>
              <a:ext cx="472428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положил, что атмосферный воздух имеет сложный соста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основы кислородной теории горения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Выявил суть процессов дыха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ложил новую номенклатуру химических соединени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4" name="Picture 2" descr="C:\Documents and Settings\User\Мои документы\Загрузки\для Саши\лавуазье\33e15b432c7b16d85194a2064d3.jpg"/>
          <p:cNvPicPr/>
          <p:nvPr/>
        </p:nvPicPr>
        <p:blipFill>
          <a:blip r:embed="rId2"/>
          <a:stretch/>
        </p:blipFill>
        <p:spPr>
          <a:xfrm>
            <a:off x="380880" y="1828800"/>
            <a:ext cx="3581640" cy="4722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Михаил Васильевич Ломоносов (1711-1765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8" name="Содержимое 1"/>
          <p:cNvGrpSpPr/>
          <p:nvPr/>
        </p:nvGrpSpPr>
        <p:grpSpPr>
          <a:xfrm>
            <a:off x="4121280" y="2133720"/>
            <a:ext cx="4717800" cy="1603080"/>
            <a:chOff x="4121280" y="2133720"/>
            <a:chExt cx="4717800" cy="1603080"/>
          </a:xfrm>
        </p:grpSpPr>
        <p:pic>
          <p:nvPicPr>
            <p:cNvPr id="179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121280" y="2133720"/>
              <a:ext cx="471780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267080" y="2209680"/>
              <a:ext cx="44960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именял точные измерения при изучении химических реакций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3" descr="C:\Documents and Settings\User\Мои документы\Загрузки\для Саши\Ломоносов\timeline-lomonosov.jpg"/>
          <p:cNvPicPr/>
          <p:nvPr/>
        </p:nvPicPr>
        <p:blipFill>
          <a:blip r:embed="rId2"/>
          <a:stretch/>
        </p:blipFill>
        <p:spPr>
          <a:xfrm>
            <a:off x="457200" y="1600200"/>
            <a:ext cx="3505320" cy="5011560"/>
          </a:xfrm>
          <a:prstGeom prst="rect">
            <a:avLst/>
          </a:prstGeom>
          <a:ln w="0">
            <a:noFill/>
          </a:ln>
        </p:spPr>
      </p:pic>
      <p:grpSp>
        <p:nvGrpSpPr>
          <p:cNvPr id="182" name="Содержимое 1"/>
          <p:cNvGrpSpPr/>
          <p:nvPr/>
        </p:nvGrpSpPr>
        <p:grpSpPr>
          <a:xfrm>
            <a:off x="4194000" y="4078440"/>
            <a:ext cx="4700880" cy="1736640"/>
            <a:chOff x="4194000" y="4078440"/>
            <a:chExt cx="4700880" cy="1736640"/>
          </a:xfrm>
        </p:grpSpPr>
        <p:pic>
          <p:nvPicPr>
            <p:cNvPr id="183" name="Содержимое 1" descr=""/>
            <p:cNvPicPr/>
            <p:nvPr/>
          </p:nvPicPr>
          <p:blipFill>
            <a:blip r:embed="rId3"/>
            <a:stretch/>
          </p:blipFill>
          <p:spPr>
            <a:xfrm>
              <a:off x="4194000" y="4078440"/>
              <a:ext cx="4700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43400" y="4191120"/>
              <a:ext cx="44956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закон сохранения массы веществ в химических реакция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3" name="Содержимое 5" descr=""/>
          <p:cNvPicPr/>
          <p:nvPr/>
        </p:nvPicPr>
        <p:blipFill>
          <a:blip r:embed="rId1"/>
          <a:stretch/>
        </p:blipFill>
        <p:spPr>
          <a:xfrm>
            <a:off x="208080" y="1523880"/>
            <a:ext cx="8339040" cy="49802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БЕРЦЕЛИУС Йёнс Якоб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1779 г. - 1848 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643200" cy="477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4832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временные обозначения химических элементов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ервые ввёл формулы химических соединений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Заголовок 4"/>
          <p:cNvGrpSpPr/>
          <p:nvPr/>
        </p:nvGrpSpPr>
        <p:grpSpPr>
          <a:xfrm>
            <a:off x="219240" y="347760"/>
            <a:ext cx="8699400" cy="1279440"/>
            <a:chOff x="219240" y="347760"/>
            <a:chExt cx="8699400" cy="1279440"/>
          </a:xfrm>
        </p:grpSpPr>
        <p:pic>
          <p:nvPicPr>
            <p:cNvPr id="191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219240" y="347760"/>
              <a:ext cx="86994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7200" y="457200"/>
              <a:ext cx="82296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entury Gothic"/>
                </a:rPr>
                <a:t>Джон Дальтон (1766-1844 гг.)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3" name="Picture 2" descr="C:\Documents and Settings\User\Мои документы\Загрузки\для Саши\Дальтон\200px-John_Pond.jpg"/>
          <p:cNvPicPr/>
          <p:nvPr/>
        </p:nvPicPr>
        <p:blipFill>
          <a:blip r:embed="rId2"/>
          <a:stretch/>
        </p:blipFill>
        <p:spPr>
          <a:xfrm>
            <a:off x="609480" y="2135160"/>
            <a:ext cx="3581640" cy="422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419360" y="2742840"/>
            <a:ext cx="4421160" cy="297180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кспериментально подтвердил атомистическ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л атомно-молекулярн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вел понятие атомной масс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2133720" y="304920"/>
            <a:ext cx="411480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Д. И. 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(1834-19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Text Box 4" descr=""/>
          <p:cNvPicPr/>
          <p:nvPr/>
        </p:nvPicPr>
        <p:blipFill>
          <a:blip r:embed="rId1"/>
          <a:stretch/>
        </p:blipFill>
        <p:spPr>
          <a:xfrm>
            <a:off x="231840" y="1511280"/>
            <a:ext cx="868680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таблица"/>
          <p:cNvPicPr/>
          <p:nvPr/>
        </p:nvPicPr>
        <p:blipFill>
          <a:blip r:embed="rId2"/>
          <a:stretch/>
        </p:blipFill>
        <p:spPr>
          <a:xfrm>
            <a:off x="228600" y="28195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E:\Загрузки\mendeleev.jpg"/>
          <p:cNvPicPr/>
          <p:nvPr/>
        </p:nvPicPr>
        <p:blipFill>
          <a:blip r:embed="rId3"/>
          <a:stretch/>
        </p:blipFill>
        <p:spPr>
          <a:xfrm>
            <a:off x="4857840" y="3200400"/>
            <a:ext cx="4286160" cy="2743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5640" y="457164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Н.Н. Бекето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Picture 5" descr="Бекетов"/>
          <p:cNvPicPr/>
          <p:nvPr/>
        </p:nvPicPr>
        <p:blipFill>
          <a:blip r:embed="rId1"/>
          <a:stretch/>
        </p:blipFill>
        <p:spPr>
          <a:xfrm>
            <a:off x="0" y="3886200"/>
            <a:ext cx="2476440" cy="2971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5562720"/>
            <a:ext cx="3124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ткрыл ряд активности металл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7" descr="Лебедев"/>
          <p:cNvPicPr/>
          <p:nvPr/>
        </p:nvPicPr>
        <p:blipFill>
          <a:blip r:embed="rId2"/>
          <a:stretch/>
        </p:blipFill>
        <p:spPr>
          <a:xfrm>
            <a:off x="6656400" y="2057400"/>
            <a:ext cx="2487600" cy="2984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3200400" y="24382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С.В. Лебед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3733920" y="3276720"/>
            <a:ext cx="327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лучил первый синтетический кауч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2514600" y="4572000"/>
            <a:ext cx="396252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3"/>
          <p:cNvSpPr/>
          <p:nvPr/>
        </p:nvSpPr>
        <p:spPr>
          <a:xfrm>
            <a:off x="2895480" y="2209680"/>
            <a:ext cx="3657600" cy="152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809880" y="838080"/>
            <a:ext cx="426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здал теорию строения органическ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4114800" y="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А.М. Бутл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Бутлеров"/>
          <p:cNvPicPr/>
          <p:nvPr/>
        </p:nvPicPr>
        <p:blipFill>
          <a:blip r:embed="rId3"/>
          <a:stretch/>
        </p:blipFill>
        <p:spPr>
          <a:xfrm>
            <a:off x="152280" y="0"/>
            <a:ext cx="2676600" cy="3211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.П. Аносов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7" descr="Аносов"/>
          <p:cNvPicPr/>
          <p:nvPr/>
        </p:nvPicPr>
        <p:blipFill>
          <a:blip r:embed="rId1"/>
          <a:stretch/>
        </p:blipFill>
        <p:spPr>
          <a:xfrm>
            <a:off x="1692360" y="1989000"/>
            <a:ext cx="2852640" cy="3841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еталлург, изобрёл способ закалки стали. Раскрыл секрет получения булатной стал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solidFill>
            <a:srgbClr val="7cca6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4479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исхождение слова «химия» не имеет однозначного толкова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о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 течении алхимического периода (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-XV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в.) зародилась экспериментальная химия, накопились знания о вещества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и длится до наших дне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066680" y="922320"/>
            <a:ext cx="6878880" cy="59356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95280" y="5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411280" y="549360"/>
            <a:ext cx="453708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 flipH="1">
            <a:off x="3492360" y="1341360"/>
            <a:ext cx="503280" cy="29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643280" y="1341360"/>
            <a:ext cx="1081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867280" y="1268280"/>
            <a:ext cx="172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50920" y="2349360"/>
            <a:ext cx="288108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403280" y="4149720"/>
            <a:ext cx="295272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859280" y="3933720"/>
            <a:ext cx="360036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пробл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х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5867280" y="2276640"/>
            <a:ext cx="3097440" cy="12967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повседне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жизнь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51440" y="236844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извод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 flipH="1">
            <a:off x="3492360" y="1341360"/>
            <a:ext cx="50328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40" name="Diagram 2"/>
          <p:cNvGrpSpPr/>
          <p:nvPr/>
        </p:nvGrpSpPr>
        <p:grpSpPr>
          <a:xfrm>
            <a:off x="457200" y="1600200"/>
            <a:ext cx="8228880" cy="4525560"/>
            <a:chOff x="457200" y="1600200"/>
            <a:chExt cx="8228880" cy="4525560"/>
          </a:xfrm>
        </p:grpSpPr>
        <p:sp>
          <p:nvSpPr>
            <p:cNvPr id="241" name="_s38916"/>
            <p:cNvSpPr/>
            <p:nvPr/>
          </p:nvSpPr>
          <p:spPr>
            <a:xfrm flipH="1" flipV="1">
              <a:off x="2931840" y="3218040"/>
              <a:ext cx="825480" cy="364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38917"/>
            <p:cNvSpPr/>
            <p:nvPr/>
          </p:nvSpPr>
          <p:spPr>
            <a:xfrm>
              <a:off x="1065240" y="2265480"/>
              <a:ext cx="2096280" cy="1175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Бытов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прибор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38918"/>
            <p:cNvSpPr/>
            <p:nvPr/>
          </p:nvSpPr>
          <p:spPr>
            <a:xfrm flipH="1">
              <a:off x="2530440" y="4079880"/>
              <a:ext cx="1022760" cy="13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8919"/>
            <p:cNvSpPr/>
            <p:nvPr/>
          </p:nvSpPr>
          <p:spPr>
            <a:xfrm>
              <a:off x="457200" y="374580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ИКТ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38920"/>
            <p:cNvSpPr/>
            <p:nvPr/>
          </p:nvSpPr>
          <p:spPr>
            <a:xfrm flipH="1">
              <a:off x="3666600" y="4478760"/>
              <a:ext cx="45324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38921"/>
            <p:cNvSpPr/>
            <p:nvPr/>
          </p:nvSpPr>
          <p:spPr>
            <a:xfrm>
              <a:off x="2169000" y="495036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медиц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8922"/>
            <p:cNvSpPr/>
            <p:nvPr/>
          </p:nvSpPr>
          <p:spPr>
            <a:xfrm>
              <a:off x="5029560" y="4478760"/>
              <a:ext cx="45612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38923"/>
            <p:cNvSpPr/>
            <p:nvPr/>
          </p:nvSpPr>
          <p:spPr>
            <a:xfrm>
              <a:off x="4893840" y="4946400"/>
              <a:ext cx="2096280" cy="1175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Бытовая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хим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8924"/>
            <p:cNvSpPr/>
            <p:nvPr/>
          </p:nvSpPr>
          <p:spPr>
            <a:xfrm>
              <a:off x="5595480" y="4079880"/>
              <a:ext cx="1022760" cy="13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38925"/>
            <p:cNvSpPr/>
            <p:nvPr/>
          </p:nvSpPr>
          <p:spPr>
            <a:xfrm>
              <a:off x="6589080" y="375120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ahoma"/>
                  <a:ea typeface="Arial"/>
                </a:rPr>
                <a:t>одеж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8926"/>
            <p:cNvSpPr/>
            <p:nvPr/>
          </p:nvSpPr>
          <p:spPr>
            <a:xfrm flipV="1">
              <a:off x="5392080" y="3216240"/>
              <a:ext cx="817920" cy="3657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38927"/>
            <p:cNvSpPr/>
            <p:nvPr/>
          </p:nvSpPr>
          <p:spPr>
            <a:xfrm>
              <a:off x="5980680" y="226188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редст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гигиен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8928"/>
            <p:cNvSpPr/>
            <p:nvPr/>
          </p:nvSpPr>
          <p:spPr>
            <a:xfrm flipV="1">
              <a:off x="4573080" y="2775240"/>
              <a:ext cx="0" cy="587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38929"/>
            <p:cNvSpPr/>
            <p:nvPr/>
          </p:nvSpPr>
          <p:spPr>
            <a:xfrm>
              <a:off x="3524400" y="1600200"/>
              <a:ext cx="2097000" cy="11750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Arial"/>
                  <a:ea typeface="Arial"/>
                </a:rPr>
                <a:t>Пит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8930"/>
            <p:cNvSpPr/>
            <p:nvPr/>
          </p:nvSpPr>
          <p:spPr>
            <a:xfrm>
              <a:off x="3136320" y="3339360"/>
              <a:ext cx="2876400" cy="12571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отребност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2" descr="E:\Загрузки\ima3424ges.jpg"/>
          <p:cNvPicPr/>
          <p:nvPr/>
        </p:nvPicPr>
        <p:blipFill>
          <a:blip r:embed="rId1"/>
          <a:stretch/>
        </p:blipFill>
        <p:spPr>
          <a:xfrm>
            <a:off x="0" y="304920"/>
            <a:ext cx="2190600" cy="2085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E:\Загрузки\im965ages.jpg"/>
          <p:cNvPicPr/>
          <p:nvPr/>
        </p:nvPicPr>
        <p:blipFill>
          <a:blip r:embed="rId2"/>
          <a:stretch/>
        </p:blipFill>
        <p:spPr>
          <a:xfrm>
            <a:off x="7005600" y="4986360"/>
            <a:ext cx="2138400" cy="1871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6"/>
          <p:cNvSpPr/>
          <p:nvPr/>
        </p:nvSpPr>
        <p:spPr>
          <a:xfrm>
            <a:off x="2666880" y="1523880"/>
            <a:ext cx="3048120" cy="13384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ahoma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755640" y="2781360"/>
            <a:ext cx="1511280" cy="1008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Сырь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4648320" y="3352680"/>
            <a:ext cx="2449440" cy="720720"/>
          </a:xfrm>
          <a:prstGeom prst="ellipse">
            <a:avLst/>
          </a:prstGeom>
          <a:solidFill>
            <a:srgbClr val="fd5e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ппа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9"/>
          <p:cNvSpPr/>
          <p:nvPr/>
        </p:nvSpPr>
        <p:spPr>
          <a:xfrm>
            <a:off x="1547640" y="4437000"/>
            <a:ext cx="2016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Энерг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3733920" y="4724280"/>
            <a:ext cx="446400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и другие вспомогательные матери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2195640" y="249228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>
            <a:off x="3059280" y="2781360"/>
            <a:ext cx="79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3348000" y="256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4356000" y="2781360"/>
            <a:ext cx="0" cy="2162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4876920" y="2743200"/>
            <a:ext cx="660240" cy="65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" descr="E:\Загрузки\image1s.jpg"/>
          <p:cNvPicPr/>
          <p:nvPr/>
        </p:nvPicPr>
        <p:blipFill>
          <a:blip r:embed="rId1"/>
          <a:stretch/>
        </p:blipFill>
        <p:spPr>
          <a:xfrm>
            <a:off x="152280" y="4572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E:\Загрузки\imag7674es.jpg"/>
          <p:cNvPicPr/>
          <p:nvPr/>
        </p:nvPicPr>
        <p:blipFill>
          <a:blip r:embed="rId2"/>
          <a:stretch/>
        </p:blipFill>
        <p:spPr>
          <a:xfrm>
            <a:off x="6665760" y="1143000"/>
            <a:ext cx="2478240" cy="24782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О химии известный ученый М.В. Ломоносов сказал следующе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«Широко распростирает химия руки свои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3" descr=""/>
          <p:cNvPicPr/>
          <p:nvPr/>
        </p:nvPicPr>
        <p:blipFill>
          <a:blip r:embed="rId1"/>
          <a:stretch/>
        </p:blipFill>
        <p:spPr>
          <a:xfrm>
            <a:off x="365040" y="1590840"/>
            <a:ext cx="8334360" cy="511488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4"/>
          <p:cNvSpPr/>
          <p:nvPr/>
        </p:nvSpPr>
        <p:spPr>
          <a:xfrm>
            <a:off x="609480" y="2438280"/>
            <a:ext cx="27432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Book Antiqua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5" descr=""/>
          <p:cNvPicPr/>
          <p:nvPr/>
        </p:nvPicPr>
        <p:blipFill>
          <a:blip r:embed="rId1"/>
          <a:stretch/>
        </p:blipFill>
        <p:spPr>
          <a:xfrm>
            <a:off x="219240" y="1328760"/>
            <a:ext cx="8400960" cy="53164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6"/>
          <p:cNvSpPr/>
          <p:nvPr/>
        </p:nvSpPr>
        <p:spPr>
          <a:xfrm>
            <a:off x="3124080" y="2819520"/>
            <a:ext cx="2895840" cy="1600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грязнение  окружающе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E:\Загрузки\set_56.jpg"/>
          <p:cNvPicPr/>
          <p:nvPr/>
        </p:nvPicPr>
        <p:blipFill>
          <a:blip r:embed="rId2"/>
          <a:stretch/>
        </p:blipFill>
        <p:spPr>
          <a:xfrm>
            <a:off x="3886200" y="4191120"/>
            <a:ext cx="1428840" cy="1361880"/>
          </a:xfrm>
          <a:prstGeom prst="rect">
            <a:avLst/>
          </a:prstGeom>
          <a:ln w="0">
            <a:noFill/>
          </a:ln>
        </p:spPr>
      </p:pic>
      <p:sp>
        <p:nvSpPr>
          <p:cNvPr id="280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entury Gothic"/>
              </a:rPr>
              <a:t>Химия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0" y="762120"/>
            <a:ext cx="4429080" cy="16761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a0c"/>
                </a:solidFill>
                <a:latin typeface="Century Gothic"/>
              </a:rPr>
              <a:t>Химия</a:t>
            </a: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 – наука о веществ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х свойств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взаимных превращени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 процессах, их сопровождающих</a:t>
            </a:r>
            <a:r>
              <a:rPr b="0" lang="ru-RU" sz="2000" spc="-1" strike="noStrike">
                <a:solidFill>
                  <a:srgbClr val="0076a3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9"/>
          <p:cNvSpPr/>
          <p:nvPr/>
        </p:nvSpPr>
        <p:spPr>
          <a:xfrm>
            <a:off x="380880" y="25909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Century Gothic"/>
              </a:rPr>
              <a:t>одна из </a:t>
            </a:r>
            <a:r>
              <a:rPr b="1" i="1" lang="ru-RU" sz="1800" spc="-1" strike="noStrike">
                <a:solidFill>
                  <a:srgbClr val="072428"/>
                </a:solidFill>
                <a:latin typeface="Century Gothic"/>
              </a:rPr>
              <a:t>естественных на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E:\документы\Мои документы\Я-учитель\Уроки\Химия\Картинки\Новая папка\35574.gif"/>
          <p:cNvPicPr/>
          <p:nvPr/>
        </p:nvPicPr>
        <p:blipFill>
          <a:blip r:embed="rId1"/>
          <a:stretch/>
        </p:blipFill>
        <p:spPr>
          <a:xfrm>
            <a:off x="3828960" y="3809880"/>
            <a:ext cx="53150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E:\документы\Мои документы\Я-учитель\Уроки\Химия\Картинки\Новая папка\1196.jpg"/>
          <p:cNvPicPr/>
          <p:nvPr/>
        </p:nvPicPr>
        <p:blipFill>
          <a:blip r:embed="rId2"/>
          <a:stretch/>
        </p:blipFill>
        <p:spPr>
          <a:xfrm>
            <a:off x="228600" y="3524400"/>
            <a:ext cx="3279600" cy="333360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11"/>
          <p:cNvSpPr/>
          <p:nvPr/>
        </p:nvSpPr>
        <p:spPr>
          <a:xfrm>
            <a:off x="60721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Хим.элеме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х со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акономерности хим.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12"/>
          <p:cNvSpPr/>
          <p:nvPr/>
        </p:nvSpPr>
        <p:spPr>
          <a:xfrm>
            <a:off x="3929040" y="2286000"/>
            <a:ext cx="142884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ПРЕДМЕТ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трелка вправо 13"/>
          <p:cNvSpPr/>
          <p:nvPr/>
        </p:nvSpPr>
        <p:spPr>
          <a:xfrm>
            <a:off x="5357880" y="250020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кругленный прямоугольник 14"/>
          <p:cNvSpPr/>
          <p:nvPr/>
        </p:nvSpPr>
        <p:spPr>
          <a:xfrm>
            <a:off x="6572160" y="1000080"/>
            <a:ext cx="2571840" cy="78588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учение веществ с заранее заданными свойст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15"/>
          <p:cNvSpPr/>
          <p:nvPr/>
        </p:nvSpPr>
        <p:spPr>
          <a:xfrm>
            <a:off x="4714920" y="857160"/>
            <a:ext cx="128592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ЗАДАЧА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6"/>
          <p:cNvSpPr/>
          <p:nvPr/>
        </p:nvSpPr>
        <p:spPr>
          <a:xfrm>
            <a:off x="6000840" y="1071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ещество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–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о, из чего состоят физические те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1" name="Picture 17" descr="брызги моря"/>
          <p:cNvPicPr/>
          <p:nvPr/>
        </p:nvPicPr>
        <p:blipFill>
          <a:blip r:embed="rId1"/>
          <a:stretch/>
        </p:blipFill>
        <p:spPr>
          <a:xfrm>
            <a:off x="380880" y="1447920"/>
            <a:ext cx="3770280" cy="282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Айсберг"/>
          <p:cNvPicPr/>
          <p:nvPr/>
        </p:nvPicPr>
        <p:blipFill>
          <a:blip r:embed="rId2"/>
          <a:stretch/>
        </p:blipFill>
        <p:spPr>
          <a:xfrm>
            <a:off x="4824360" y="3886200"/>
            <a:ext cx="4319640" cy="275580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5029200" y="16002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веще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т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г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914400" y="45720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изических </a:t>
            </a:r>
            <a:r>
              <a:rPr b="1" lang="uk-UA" sz="1800" spc="-1" strike="noStrike">
                <a:solidFill>
                  <a:srgbClr val="000000"/>
                </a:solidFill>
                <a:latin typeface="Century Gothic"/>
              </a:rPr>
              <a:t>т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й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Мя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Кув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Связь химии с другими наука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420840" y="1643040"/>
            <a:ext cx="9564840" cy="38433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Тенденции развития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2" name="Picture 2" descr="на схеме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f3db"/>
                </a:solidFill>
                <a:latin typeface="Century Gothic"/>
              </a:rPr>
              <a:t>Происхождение термина “химия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чки зрения на происхождение слова хим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.   </a:t>
            </a:r>
            <a:r>
              <a:rPr b="0" lang="ru-RU" sz="2400" spc="-1" strike="noStrike">
                <a:solidFill>
                  <a:srgbClr val="b5edf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е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земля). Это древнее название Египта, где зародилась наука хим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г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греч.) - «литье» металлов (глагол хго — «лью»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го же корня и греч.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о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— «сок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4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им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китайск.) — «золото». Тогда химию можно толковать как златодели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ост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Химическое производство существовало уже за 3 – 4 тысячи лет до н. э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12" descr="сканирование0006"/>
          <p:cNvPicPr/>
          <p:nvPr/>
        </p:nvPicPr>
        <p:blipFill>
          <a:blip r:embed="rId1"/>
          <a:stretch/>
        </p:blipFill>
        <p:spPr>
          <a:xfrm>
            <a:off x="838080" y="3429000"/>
            <a:ext cx="7705800" cy="2776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Галочка</dc:creator>
  <dc:description/>
  <dc:language>en-US</dc:language>
  <cp:lastModifiedBy>LEGION</cp:lastModifiedBy>
  <dcterms:modified xsi:type="dcterms:W3CDTF">2015-05-01T11:16:35Z</dcterms:modified>
  <cp:revision>85</cp:revision>
  <dc:subject/>
  <dc:title>История развития химии</dc:title>
</cp:coreProperties>
</file>