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195C-73EF-427A-8F54-1567E0A97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1200"/>
            </a:b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ель химии МОУ лицея №8 города Ставроп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ейникова Татьяна Александровн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5EDA-6556-4874-AD56-BF4B57B8CE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обнаружен буквально во всех органах зеленых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рганизме животных – в мышцах, скелете, нервной тк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285-E485-416E-975F-860CDFAA1A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«Хоть многие вещества сера превращает в яд, в химии достойна всяческих наград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добываемой  мире серы идет на производство серн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8C9E-9797-444A-A07B-6F5FFA11E0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формулируется периодический закон Д.И.Менделее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физическое обоснование зак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Менделеева «Посев научный взойдет для жатвы народной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ется роль биогенных элемен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ПСХЭ и ПЗ для современной науки и техн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2F6E-3FA0-48BD-B8F4-AE6B40D66E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AF44-EC87-4529-A2F3-111715E5DE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один из общих законов природы – фундамент современной хим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научное и практическое значение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свойства биогенных элементов и их соедин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1DFC-40B9-4CF1-B08E-243B9E92F1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с высказываниями 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ции азотных и фосфорных удобр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чки химических элементов для монтажа на доске – С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, О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9FC7-D4D4-40A7-A1A4-14DF6A35B2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215-A669-4615-B0CF-30F9A65177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шественники Менделеева – Доберейнер, Мейер, Ньюленд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арта 2006 года исполнилось 137 лет со дня открытия периодического зак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046F-95C7-4A10-8B7A-7CEC9B4B4E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FB23-4B96-4F57-90A7-32DEF2D43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, C, N, O, P, 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х долю приходится 98% массы живого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CCA9-DFC7-4A63-A7EE-1AF38B7E72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С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р +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6 е,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FBF3-1D9F-4B76-BE70-0330FD79D4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7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7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A33-70A2-4913-9077-4A93AA173D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209-6FFF-4323-8DF2-ABDEEE79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FD9-55B1-4CDC-82CE-B32E94DB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631-880B-444A-970F-4E619243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59D-7783-418B-967B-394C4A1A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368C-1FE6-4850-9AC4-9551D6A3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F812-9B68-40B1-BF5A-AA36B7AD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8CF6-AC9F-4334-B32C-0300924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A81A-C5C3-4D03-B92B-45CD8269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2660-8CB8-4677-96BB-6807ACA8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5EB-041C-4305-92C0-BE550178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900F-CD69-49B2-9FD3-FA4F4675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50E-C5B8-4CEE-ADE8-9D80B679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14EC-075F-4C4C-938C-7410571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E2E3-EA60-42F9-A2CD-64ECB0E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91CB-29EF-4015-8E3B-C4CE3D88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2B65-2DE7-4003-8396-0483C03D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22B0-8598-4E3C-9235-7218CB3E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3BA-8714-4869-9B47-05A7730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CB8-53BA-49CA-8BBD-93F3A978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AF7-B5E3-4EC4-9055-B7F773FB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00D-B26A-4C78-A952-7EBEF2BA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E99-DF42-431F-A1F1-D077C55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848-AF2B-4497-B592-8F38FDF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1BD-F1E9-4ED1-89B7-63E1BAE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E440-62EA-41EB-A162-39E8A62BF9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EC75-79B8-430D-8D08-4DE6E8CDEF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48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40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химии МОУ лицея №8 города Ставроп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йникова Татьяна Александ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connected_networks_big"/>
          <p:cNvPicPr/>
          <p:nvPr/>
        </p:nvPicPr>
        <p:blipFill>
          <a:blip r:embed="rId1"/>
          <a:stretch/>
        </p:blipFill>
        <p:spPr>
          <a:xfrm>
            <a:off x="0" y="2617920"/>
            <a:ext cx="2643120" cy="20937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 обнаружен буквально во всех органах зеленых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изме животных – в мышцах, скелете, нерв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12" descr="images(6)"/>
          <p:cNvPicPr/>
          <p:nvPr/>
        </p:nvPicPr>
        <p:blipFill>
          <a:blip r:embed="rId1"/>
          <a:stretch/>
        </p:blipFill>
        <p:spPr>
          <a:xfrm>
            <a:off x="973080" y="2492280"/>
            <a:ext cx="3162240" cy="291492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Хоть многие вещества сера превращает в яд, в химии достойна всяческих нагр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вина добываемой  мире серы идет на производство серной 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формулируется периодический закон Д.И.Менделеев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физическое обоснование зак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понимаете высказывание Менделеева «Посев научный взойдет для жатвы народной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м заключается роль биогенных элемент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значение ПСХЭ и ПЗ для современной науки и техни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воить один из общих законов природы – фундамент современной хим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арактеризовать научное и практическое значение зако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войства биогенных элементов и их соеди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125360"/>
            <a:ext cx="7491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химических элементов Д.И.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каты с высказываниями 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формулировка периодического зако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ции азотных и фосфорных удобр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чки химических элементов для монтажа на доске – С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, О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шественники Менделеева – Доберейнер, Мейер, Ньюленд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марта 2006 года исполнилось 137 лет со дня открытия периодического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1" descr="p38"/>
          <p:cNvPicPr/>
          <p:nvPr/>
        </p:nvPicPr>
        <p:blipFill>
          <a:blip r:embed="rId1"/>
          <a:stretch/>
        </p:blipFill>
        <p:spPr>
          <a:xfrm>
            <a:off x="1258920" y="1844640"/>
            <a:ext cx="2879640" cy="460872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3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, C, N, O, P, 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х долю приходится 98% массы жив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320" y="1599840"/>
            <a:ext cx="4182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С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6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р +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6 е,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12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Diagram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17" name="Picture 23" descr="Алмаз"/>
          <p:cNvPicPr/>
          <p:nvPr/>
        </p:nvPicPr>
        <p:blipFill>
          <a:blip r:embed="rId1"/>
          <a:stretch/>
        </p:blipFill>
        <p:spPr>
          <a:xfrm>
            <a:off x="5867280" y="4653000"/>
            <a:ext cx="2960640" cy="1973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= 7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7 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16:25Z</dcterms:created>
  <dc:creator>Юзер</dc:creator>
  <dc:description/>
  <dc:language>en-US</dc:language>
  <cp:lastModifiedBy>LEGION</cp:lastModifiedBy>
  <dcterms:modified xsi:type="dcterms:W3CDTF">2015-05-01T11:17:52Z</dcterms:modified>
  <cp:revision>25</cp:revision>
  <dc:subject/>
  <dc:title>Вода – вещество удивительное</dc:title>
</cp:coreProperties>
</file>