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3584-DDFF-42FF-B4EA-04D3B01610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6CC4-2850-4EB6-A2C5-61EEE2F7D7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521A-6636-40A5-8688-1E1F41F9B3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ение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AE90-5292-4C53-A6F7-C84C1E149D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9E78-8E4C-493E-9E3A-8882358999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ение учител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 – химический эле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элемен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зна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C1F6-07A5-4C42-AE0B-E8348AEB28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видеофрагмента по теме урока для повторения и закрепления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обозначает зап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зо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ме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FEEE-7CCD-44D3-8371-3E7F72CE81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AD23-2702-4551-880E-E338C2A2FD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граф 9, 10 (читать, выучить определения);  рабочая тетрадь задание 34-35, 36-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272B-13D0-4A41-A258-F67C77FFCA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из перечисленного является физическим телом, а что веществом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D54F-056A-459B-A2EC-0157EF435B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телами и веществами происходят различные из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ойдет с кусочком льда в теплой комна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сахаром в вод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водой в чайнике, поставленном на огон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1CF0-CE12-43D7-8E19-CB560AAAA1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8F19-D0F9-4E2C-8406-23233EC209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явления можно объяснить, если предположить, что вещества, из которых состоят тела, не сплошные, а из частиц. Впервые эта мысль была высказана учеными в Древней Греции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-IV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ах до н.э. Вот как об этом писал древнегреческий ученый и поэт Тит Лукреций Кар в поэме «Природа вещей»: (след.с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ный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Как можно объяснить эти и множество других явлен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4C93-E9F8-4511-86DE-1167BDD51A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почему же белье сыреет? (Потому, что мельчайшие частицы воды оседают на нем, но мы их не види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е белье с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ском берегу, разбивающем вол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ье сыреет всегда, а на солнце вися, оно сох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ть, однако, нельзя, как влага на нем оседае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 и не видно того, как она исчезает от зно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 дробиться вода на такие мельчайшие ча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недоступны они совершенно для нашего взгля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т Лукреций Ка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Природа вещей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? (Мельчайшие частицы покидают ег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CB79-6283-4893-B8DF-B6F03F7D87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- молек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лекул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9A52-F3BC-4169-9829-29B6E08AE4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ому веществу соответстует определенный вид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206B-EA1C-48B1-94DF-D393897D13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B8A0-C44B-49B5-8721-B4161F8BC8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еся работают с текстом 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а – наименьшая частица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одного и того же вещества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молекул очень ма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молекулами есть промеж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постоянно находятся в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аграфа 9, стр.41. Вопрос: Можно ли разделить молекулу? Мож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0FB-A7FF-4CDB-AE0B-4FBCCEAA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434-CCB3-4569-839B-712BA97F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5FC-7512-4F4B-9BD3-B2B3E654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21E-45F3-48F8-8158-EB328DC4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D593-813D-46DA-A935-4BD86925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BE93-8D88-4564-9830-F772F9BB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B5A9-D032-4D2E-A66F-A4481B34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9DA7-B2DE-48FD-8A2E-5B4A922E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8C86-BABB-44F4-ADBF-9BFA826B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F3DE-A0EE-4991-B8AE-5B380376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F2A4-B45D-4A12-A26C-DFAB831E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BF5-6A69-45FD-AD2B-87A11321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EFA9-B5C8-4FA9-BD8D-D2012B5C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8954-3C02-497E-8B38-F78DE1F1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3142-0B9D-47EA-9879-07CB7EB8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88D5-F170-42F4-B959-A6640B77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8E51-42D4-4769-B434-8B6DDA19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3F8-6659-4530-822B-2584F9A2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A76-324D-403C-8B05-2C9DF237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573-4E6E-4159-ADAC-857E9AB3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B44-0640-4192-8BF6-57EF1FD0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297-BA59-409E-8911-AB63957F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3AA-6B96-4D18-8FE5-002CA406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DF8-101E-43C4-85D1-3B3DC14F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94A4-9825-49FC-B842-574178BB73A3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CB23-63C8-47E7-BA40-4460D5630232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3280" y="2565000"/>
            <a:ext cx="316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95280" y="404640"/>
            <a:ext cx="446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284720" y="4653000"/>
            <a:ext cx="446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1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Picture 6" descr="атом2"/>
          <p:cNvPicPr/>
          <p:nvPr/>
        </p:nvPicPr>
        <p:blipFill>
          <a:blip r:embed="rId1"/>
          <a:srcRect l="0" t="0" r="0" b="5221"/>
          <a:stretch/>
        </p:blipFill>
        <p:spPr>
          <a:xfrm>
            <a:off x="2843280" y="1844640"/>
            <a:ext cx="3425760" cy="3448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3851280" y="566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486080" y="5516640"/>
            <a:ext cx="64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то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молеку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атом.avi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Строение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5564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8728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21164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8000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79280" y="2421000"/>
            <a:ext cx="2160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>
            <a:off x="468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1116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25092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147636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0" y="4221000"/>
            <a:ext cx="104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187280" y="4221000"/>
            <a:ext cx="11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132000" y="2492280"/>
            <a:ext cx="216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3563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4211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98764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428472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>
            <a:off x="327672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7"/>
          <p:cNvSpPr/>
          <p:nvPr/>
        </p:nvSpPr>
        <p:spPr>
          <a:xfrm>
            <a:off x="464328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673272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9"/>
          <p:cNvSpPr/>
          <p:nvPr/>
        </p:nvSpPr>
        <p:spPr>
          <a:xfrm>
            <a:off x="7093080" y="1773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0"/>
          <p:cNvSpPr/>
          <p:nvPr/>
        </p:nvSpPr>
        <p:spPr>
          <a:xfrm>
            <a:off x="745164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6300720" y="256536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 flipH="1">
            <a:off x="6732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7380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>
            <a:off x="738036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5"/>
          <p:cNvSpPr/>
          <p:nvPr/>
        </p:nvSpPr>
        <p:spPr>
          <a:xfrm>
            <a:off x="6590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716652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7812000" y="43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9"/>
          <p:cNvSpPr/>
          <p:nvPr/>
        </p:nvSpPr>
        <p:spPr>
          <a:xfrm>
            <a:off x="7164360" y="530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6300720" y="486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>
            <a:off x="8028000" y="494172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 – химический элемент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116000" y="2276640"/>
            <a:ext cx="703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элемен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16000" y="4149720"/>
            <a:ext cx="703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зна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молекула. атом.вещество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 обозначает запись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озо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Н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мета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азот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хлор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те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раграф 9, 10 (читать, выучить определения);  рабочая тетрадь задание 34-35, 36-38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water"/>
          <p:cNvPicPr/>
          <p:nvPr/>
        </p:nvPicPr>
        <p:blipFill>
          <a:blip r:embed="rId1"/>
          <a:stretch/>
        </p:blipFill>
        <p:spPr>
          <a:xfrm>
            <a:off x="6400800" y="914400"/>
            <a:ext cx="2438280" cy="2236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i"/>
          <p:cNvPicPr/>
          <p:nvPr/>
        </p:nvPicPr>
        <p:blipFill>
          <a:blip r:embed="rId2"/>
          <a:stretch/>
        </p:blipFill>
        <p:spPr>
          <a:xfrm>
            <a:off x="4343400" y="1905120"/>
            <a:ext cx="1890720" cy="19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Z7ZV1XCATNEC85CAEVXSOQCAW1FG3XCAS9WATOCAKK2JIECAGA8B77CASVFZEWCAH3KFU6CAZWXY81CA62H4H6CAMVH3XNCAKD2TPRCALKLVYDCA0X6BBBCAL4ANZ4CAIM1XSQCA2SALKFCA0Z6VNICAYI31YV"/>
          <p:cNvPicPr/>
          <p:nvPr/>
        </p:nvPicPr>
        <p:blipFill>
          <a:blip r:embed="rId3"/>
          <a:stretch/>
        </p:blipFill>
        <p:spPr>
          <a:xfrm>
            <a:off x="2209680" y="3200400"/>
            <a:ext cx="198144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WVQTL8CA02E0KFCAPXD3H6CA4WV9I6CAOPO1WCCA0U1XUZCAP9QKHWCA7LZXNZCA1ECVYKCAAPM939CABQDRO0CAGT3ZBKCA0H56D4CALDB4GSCAAUQ59BCAPIPGEVCA4SMA6VCAP6DHUKCAK8SWMDCA0KMLIF"/>
          <p:cNvPicPr/>
          <p:nvPr/>
        </p:nvPicPr>
        <p:blipFill>
          <a:blip r:embed="rId4"/>
          <a:stretch/>
        </p:blipFill>
        <p:spPr>
          <a:xfrm>
            <a:off x="380880" y="502920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T2SHAGCAF2VETQCA7106ZXCAYVOB0ICA8GSAOVCATBWV3WCA3G1LDFCATV4J07CA0QL5KKCAWHC6KECAKHG526CADM8LDYCAA2304ICABMN7GNCAL2CTFYCA0X729VCABP0WNOCAMMAFG8CA95O98HCA6FQX77"/>
          <p:cNvPicPr/>
          <p:nvPr/>
        </p:nvPicPr>
        <p:blipFill>
          <a:blip r:embed="rId5"/>
          <a:stretch/>
        </p:blipFill>
        <p:spPr>
          <a:xfrm>
            <a:off x="4572000" y="4419720"/>
            <a:ext cx="1397160" cy="179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6732720" y="3716280"/>
            <a:ext cx="19047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реве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е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пля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124000" y="189000"/>
            <a:ext cx="4248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из перечисленного является физическим телом, а что веществом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С телами и веществами происходят различные изменения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зойдет с кусочком льда в теплой комнат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сахаром в вод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водой в чайнике, поставленном на огонь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206028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5280" y="3933360"/>
            <a:ext cx="8353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Arial Narrow"/>
              </a:rPr>
              <a:t>Как можно объяснить эти и множество других явлений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 морском берегу, разбивающем волны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латье сыреет всегда, а на солнце вися, оно сохнет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идеть, однако, нельзя, как влага на нем оседает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 и не видно того, как она исчезает от зно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чит дробиться вода на такие мельчайшие части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Что недоступны они совершенно для нашего взгляд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ит Лукреций Ка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«Природа вещей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ело – вещество - молеку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7" name="Picture 4" descr="84679_3"/>
          <p:cNvPicPr/>
          <p:nvPr/>
        </p:nvPicPr>
        <p:blipFill>
          <a:blip r:embed="rId1"/>
          <a:stretch/>
        </p:blipFill>
        <p:spPr>
          <a:xfrm>
            <a:off x="53964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84679_1"/>
          <p:cNvPicPr/>
          <p:nvPr/>
        </p:nvPicPr>
        <p:blipFill>
          <a:blip r:embed="rId2"/>
          <a:stretch/>
        </p:blipFill>
        <p:spPr>
          <a:xfrm>
            <a:off x="349236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84679_2"/>
          <p:cNvPicPr/>
          <p:nvPr/>
        </p:nvPicPr>
        <p:blipFill>
          <a:blip r:embed="rId3"/>
          <a:stretch/>
        </p:blipFill>
        <p:spPr>
          <a:xfrm>
            <a:off x="6588000" y="191628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685800" y="45813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419280" y="4581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6156360" y="458136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тве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258920" y="51577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Молеку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45684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аждому веществу соответстует определенный вид молеку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Picture 4" descr="p4"/>
          <p:cNvPicPr/>
          <p:nvPr/>
        </p:nvPicPr>
        <p:blipFill>
          <a:blip r:embed="rId1"/>
          <a:stretch/>
        </p:blipFill>
        <p:spPr>
          <a:xfrm>
            <a:off x="684360" y="1844640"/>
            <a:ext cx="7710480" cy="4854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а – наименьшая частица вещества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одного и того же вещества одинаков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азмеры молекул очень мал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жду молекулами есть промежутк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постоянно находятся в движени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6:24:52Z</dcterms:created>
  <dc:creator>st1-9</dc:creator>
  <dc:description/>
  <dc:language>en-US</dc:language>
  <cp:lastModifiedBy>LEGION</cp:lastModifiedBy>
  <dcterms:modified xsi:type="dcterms:W3CDTF">2015-05-01T11:25:25Z</dcterms:modified>
  <cp:revision>76</cp:revision>
  <dc:subject/>
  <dc:title>Атомы</dc:title>
</cp:coreProperties>
</file>