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EE87-11BB-4FE9-90FD-3441D62E2A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BEA2-473F-4676-9495-180AB77D8B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CC64-E0EC-4C8B-9347-69F24D443A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ение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AFB4-8CCA-4F0C-A691-A60F48F0A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E5E-9EBE-47D5-95F4-B44C8855C6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ение учител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– молекула – атом – химический эле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эле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Химический знак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6154-44AB-44BD-8942-9B799FB5B8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видеофрагмента по теме урока для повторения и закрепления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обозначает запис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зо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ме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FF22-F694-40FB-BFBB-6CCDEBD81D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т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AAE2-B6F0-44E1-A287-FF981977E2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граф 9, 10 (читать, выучить определения);  рабочая тетрадь задание 34-35, 36-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80B-0272-4BDC-A9BC-ACAE04CBBD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из перечисленного является физическим телом, а что веществом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FA83-D8D2-4CC0-82DC-598AD00F4D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телами и веществами происходят различные из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ойдет с кусочком льда в теплой комна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сахаром в вод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сходит с водой в чайнике, поставленном на огон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02DF-E04E-4FA5-A984-38FFAC1AB7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FC1F-5C07-4126-BD38-8E2DD76E30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явления можно объяснить, если предположить, что вещества, из которых состоят тела, не сплошные, а из частиц. Впервые эта мысль была высказана учеными в Древней Греции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-IV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ах до н.э. Вот как об этом писал древнегреческий ученый и поэт Тит Лукреций Кар в поэме «Природа вещей»: (след.с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ный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Как можно объяснить эти и множество других явлени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C8C7-A8E9-45EB-9950-C366220E56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 почему же белье сыреет? (Потому, что мельчайшие частицы воды оседают на нем, но мы их не види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же белье со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морском берегу, разбивающем вол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тье сыреет всегда, а на солнце вися, оно сох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ть, однако, нельзя, как влага на нем оседае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 и не видно того, как она исчезает от зно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 дробиться вода на такие мельчайшие ча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недоступны они совершенно для нашего взгля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т Лукреций Ка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«Природа вещей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? (Мельчайшие частицы покидают ег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96B1-800D-45F2-89F8-E603C48209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о – вещество - молеку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Молекул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F536-B588-4BEB-8C7D-1CA152297F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ому веществу соответстует определенный вид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C1FA-641A-4E20-9269-C366E759AD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DE07-73D8-4B4A-B900-175561A445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еся работают с текстом п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а – наименьшая частица вещ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одного и того же вещества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молекул очень мал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 молекулами есть промеж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ы постоянно находятся в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аграфа 9, стр.41. Вопрос: Можно ли разделить молекулу? Мож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D99-6A1C-413F-8329-C2F64817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72D-72D5-4300-8C29-C0EA511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171-CBD1-4721-B35B-E096DD14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597-B1BD-4558-97DA-0A8CB947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555E-C110-4685-ADA8-54929BA2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A97C-DB4D-4091-A2BA-E4009B97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E1B0-BCA2-46FF-A1AF-5DE1FB38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5D80-8B58-4811-ABF5-6301A9FF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024E-EA73-4669-A50F-7721ADD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5747-186E-4C61-87E8-585CA4D5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9581-30FB-4E41-8716-D0BD683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54F-0697-4F46-A848-B4438CA7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48B1-9535-4485-9A9F-36716EC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4C3D-13C1-4A04-9160-97C7429B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102C-93D0-454C-8644-7079690A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4B33-715C-4A58-8EDF-8B31CA30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01CE-74AA-40ED-9420-A6FE870F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8F1-775C-409B-8823-740E2392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E64-1394-4541-A5C0-3966F2C4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36D-F881-43A1-A69E-F0F581FC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AB8-DAB5-4ED7-82A7-FAEBAD9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FD0D-C240-4486-BFFA-5BC79BD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205-FB0A-4CF3-B83B-0D9289A1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F08-F78D-4B79-A5E0-941EF108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BA9E-A564-4189-BAB9-1470801AF319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ffe8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AA0E-52EF-41FC-9961-A3E3B7EA90D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2565000"/>
            <a:ext cx="316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том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95280" y="404640"/>
            <a:ext cx="446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284720" y="4653000"/>
            <a:ext cx="446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1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45684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Picture 6" descr="атом2"/>
          <p:cNvPicPr/>
          <p:nvPr/>
        </p:nvPicPr>
        <p:blipFill>
          <a:blip r:embed="rId1"/>
          <a:srcRect l="0" t="0" r="0" b="5221"/>
          <a:stretch/>
        </p:blipFill>
        <p:spPr>
          <a:xfrm>
            <a:off x="2843280" y="1844640"/>
            <a:ext cx="3425760" cy="3448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3851280" y="566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486080" y="551664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то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молеку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атом.avi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Строение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87280" y="191628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21164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80000" y="198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79280" y="2421000"/>
            <a:ext cx="216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>
            <a:off x="468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1116000" y="371628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25092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7"/>
          <p:cNvSpPr/>
          <p:nvPr/>
        </p:nvSpPr>
        <p:spPr>
          <a:xfrm>
            <a:off x="1476360" y="5805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0" y="4221000"/>
            <a:ext cx="104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187280" y="4221000"/>
            <a:ext cx="11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132000" y="2492280"/>
            <a:ext cx="216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563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4211640" y="378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298764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4284720" y="4292640"/>
            <a:ext cx="11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>
            <a:off x="327672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>
            <a:off x="4643280" y="573408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673272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9"/>
          <p:cNvSpPr/>
          <p:nvPr/>
        </p:nvSpPr>
        <p:spPr>
          <a:xfrm>
            <a:off x="7093080" y="177336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7451640" y="206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6300720" y="2565360"/>
            <a:ext cx="21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2"/>
          <p:cNvSpPr/>
          <p:nvPr/>
        </p:nvSpPr>
        <p:spPr>
          <a:xfrm flipH="1">
            <a:off x="6732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7380360" y="3860640"/>
            <a:ext cx="647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4"/>
          <p:cNvSpPr/>
          <p:nvPr/>
        </p:nvSpPr>
        <p:spPr>
          <a:xfrm>
            <a:off x="7380360" y="386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5"/>
          <p:cNvSpPr/>
          <p:nvPr/>
        </p:nvSpPr>
        <p:spPr>
          <a:xfrm>
            <a:off x="6590160" y="436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716652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7812000" y="436572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9"/>
          <p:cNvSpPr/>
          <p:nvPr/>
        </p:nvSpPr>
        <p:spPr>
          <a:xfrm>
            <a:off x="7164360" y="530064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6300720" y="4869000"/>
            <a:ext cx="457200" cy="457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>
            <a:off x="8028000" y="4941720"/>
            <a:ext cx="457200" cy="4572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ло – вещество – молекула – атом – химический элемент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116000" y="2276640"/>
            <a:ext cx="70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элемен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ный вид ат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16000" y="4149720"/>
            <a:ext cx="703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Химический зн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ет один атом химического элемен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молекула. атом.вещество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Что обозначает запись?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озо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СН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(метан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азот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хлор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те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ть характеристику любому природному телу по плану: тело, вещество, молекула, атомы, химические элементы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ример: Сосулька (тело) – вода (вещество) – молекула (молекула воды) – атомы (атомы водорода и кислорода) – химические элементы (водород и кислород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раграф 9, 10 (читать, выучить определения);  рабочая тетрадь задание 34-35, 36-38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water"/>
          <p:cNvPicPr/>
          <p:nvPr/>
        </p:nvPicPr>
        <p:blipFill>
          <a:blip r:embed="rId1"/>
          <a:stretch/>
        </p:blipFill>
        <p:spPr>
          <a:xfrm>
            <a:off x="6400800" y="914400"/>
            <a:ext cx="2438280" cy="2236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i"/>
          <p:cNvPicPr/>
          <p:nvPr/>
        </p:nvPicPr>
        <p:blipFill>
          <a:blip r:embed="rId2"/>
          <a:stretch/>
        </p:blipFill>
        <p:spPr>
          <a:xfrm>
            <a:off x="4343400" y="1905120"/>
            <a:ext cx="1890720" cy="19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Z7ZV1XCATNEC85CAEVXSOQCAW1FG3XCAS9WATOCAKK2JIECAGA8B77CASVFZEWCAH3KFU6CAZWXY81CA62H4H6CAMVH3XNCAKD2TPRCALKLVYDCA0X6BBBCAL4ANZ4CAIM1XSQCA2SALKFCA0Z6VNICAYI31YV"/>
          <p:cNvPicPr/>
          <p:nvPr/>
        </p:nvPicPr>
        <p:blipFill>
          <a:blip r:embed="rId3"/>
          <a:stretch/>
        </p:blipFill>
        <p:spPr>
          <a:xfrm>
            <a:off x="2209680" y="320040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VQTL8CA02E0KFCAPXD3H6CA4WV9I6CAOPO1WCCA0U1XUZCAP9QKHWCA7LZXNZCA1ECVYKCAAPM939CABQDRO0CAGT3ZBKCA0H56D4CALDB4GSCAAUQ59BCAPIPGEVCA4SMA6VCAP6DHUKCAK8SWMDCA0KMLIF"/>
          <p:cNvPicPr/>
          <p:nvPr/>
        </p:nvPicPr>
        <p:blipFill>
          <a:blip r:embed="rId4"/>
          <a:stretch/>
        </p:blipFill>
        <p:spPr>
          <a:xfrm>
            <a:off x="380880" y="502920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T2SHAGCAF2VETQCA7106ZXCAYVOB0ICA8GSAOVCATBWV3WCA3G1LDFCATV4J07CA0QL5KKCAWHC6KECAKHG526CADM8LDYCAA2304ICABMN7GNCAL2CTFYCA0X729VCABP0WNOCAMMAFG8CA95O98HCA6FQX77"/>
          <p:cNvPicPr/>
          <p:nvPr/>
        </p:nvPicPr>
        <p:blipFill>
          <a:blip r:embed="rId5"/>
          <a:stretch/>
        </p:blipFill>
        <p:spPr>
          <a:xfrm>
            <a:off x="4572000" y="4419720"/>
            <a:ext cx="1397160" cy="179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6732720" y="3716280"/>
            <a:ext cx="19047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реве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е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пля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124000" y="189000"/>
            <a:ext cx="424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то из перечисленного является физическим телом, а что веществом?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С телами и веществами происходят различные изменения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зойдет с кусочком льда в теплой комнат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сахаром в воде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Что происходит с водой в чайнике, поставленном на огонь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206028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облемный вопро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95280" y="393336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Arial Narrow"/>
              </a:rPr>
              <a:t>Как можно объяснить эти и множество других явлений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642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 морском берегу, разбивающем волны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латье сыреет всегда, а на солнце вися, оно сохнет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еть, однако, нельзя, как влага на нем оседает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а и не видно того, как она исчезает от зно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ит дробиться вода на такие мельчайшие части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Что недоступны они совершенно для нашего взгляд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Тит Лукреций Кар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Природа вещей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усский ученый М.В.Ломоносов (1711 – 1765) в своих трудах впервые стал говорить о сложных частицах, которые состоят из простых частиц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XIX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веке ученые доказали существование мельчайших частиц вещества, «между которыми есть пустые промежутки»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Тело – вещество - молекул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Picture 4" descr="84679_3"/>
          <p:cNvPicPr/>
          <p:nvPr/>
        </p:nvPicPr>
        <p:blipFill>
          <a:blip r:embed="rId1"/>
          <a:stretch/>
        </p:blipFill>
        <p:spPr>
          <a:xfrm>
            <a:off x="53964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84679_1"/>
          <p:cNvPicPr/>
          <p:nvPr/>
        </p:nvPicPr>
        <p:blipFill>
          <a:blip r:embed="rId2"/>
          <a:stretch/>
        </p:blipFill>
        <p:spPr>
          <a:xfrm>
            <a:off x="3492360" y="1916280"/>
            <a:ext cx="2159280" cy="259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84679_2"/>
          <p:cNvPicPr/>
          <p:nvPr/>
        </p:nvPicPr>
        <p:blipFill>
          <a:blip r:embed="rId3"/>
          <a:stretch/>
        </p:blipFill>
        <p:spPr>
          <a:xfrm>
            <a:off x="6588000" y="191628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685800" y="4581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г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3419280" y="4581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жид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156360" y="4581360"/>
            <a:ext cx="28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екулы твердого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258920" y="5157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Молеку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частиц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которых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45684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ждому веществу соответстует определенный вид молеку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4" descr="p4"/>
          <p:cNvPicPr/>
          <p:nvPr/>
        </p:nvPicPr>
        <p:blipFill>
          <a:blip r:embed="rId1"/>
          <a:stretch/>
        </p:blipFill>
        <p:spPr>
          <a:xfrm>
            <a:off x="684360" y="1844640"/>
            <a:ext cx="7710480" cy="4854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Характеристика молеку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а – наименьшая частица вещества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одного и того же вещества одинаков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Размеры молекул очень малы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ежду молекулами есть промежутк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Молекулы постоянно находятся в движении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Narrow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6:24:52Z</dcterms:created>
  <dc:creator>st1-9</dc:creator>
  <dc:description/>
  <dc:language>en-US</dc:language>
  <cp:lastModifiedBy>LEGION</cp:lastModifiedBy>
  <dcterms:modified xsi:type="dcterms:W3CDTF">2015-05-01T11:25:25Z</dcterms:modified>
  <cp:revision>76</cp:revision>
  <dc:subject/>
  <dc:title>Атомы</dc:title>
</cp:coreProperties>
</file>