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E6B1-84B1-46F4-95A1-C099CDC73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7B21-FA17-497B-B7E6-7CF22F765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C95A-2288-4928-80E1-A07C1ADFF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E57B-6343-4255-9E99-29729B7D6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CF17-BB52-4319-9505-F6DD113CD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D3A1-6644-4E3D-B808-6588893E9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ет несколько толкований происхождения слова «алхимия». Согласно одному из них, корень слова «алхимия» — «khem» означает «черную землю» или «черную страну». Так называли Древний Египет, с которым связывают искусство черных магов, рудознатцев, золотых дел масте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14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E515-B861-4AA3-B22F-8253AC62A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E91B-3EF5-408E-AAE4-66A9A20874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240E-60F0-4723-9277-18AC44D857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26C8-E493-4218-8F4C-0D1A10FB0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BA3D-A4ED-4243-8E2E-DF12333BB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2526-5E0B-4303-8B1A-54D420AF5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D79-79EA-4D47-8A79-EE20488F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23F-86FC-4BB0-8831-0D04351B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5BE-C369-4A21-A870-BC20316D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E71-7938-4E74-8FFD-C5269D2A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AFF-B254-4055-8755-22AF4F6F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BD1-64EB-43DF-897A-8CEB411B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142-D56D-4CE3-8D2E-C193D5B2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9FD-59DA-4F00-9E52-4DAB2480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EED-7EAB-4AF5-889F-2C2C1E69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375-82CA-4DA4-A61C-7A0936AC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695-27F8-4FE5-A3E6-19A96F01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3CD-4FD7-4F11-A83A-EFEA0240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4649-1223-4FEF-B794-D0CED7BA2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80880" y="985680"/>
            <a:ext cx="83059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ccecff"/>
                    </a:gs>
                    <a:gs pos="50000">
                      <a:srgbClr val="000099"/>
                    </a:gs>
                    <a:gs pos="100000">
                      <a:srgbClr val="ccecff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редмет химии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ccecff"/>
                  </a:gs>
                  <a:gs pos="5000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9" name="Picture 5" descr="chemistry"/>
          <p:cNvPicPr/>
          <p:nvPr/>
        </p:nvPicPr>
        <p:blipFill>
          <a:blip r:embed="rId1"/>
          <a:stretch/>
        </p:blipFill>
        <p:spPr>
          <a:xfrm>
            <a:off x="5105520" y="2311560"/>
            <a:ext cx="3262320" cy="300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08760" y="5665680"/>
            <a:ext cx="51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узнецова Ольг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БОУ "Лицей № 3" г.Нориль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00400" y="19810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Желез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430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257800" y="32306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98108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648320" y="4678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OWL"/>
          <p:cNvPicPr/>
          <p:nvPr/>
        </p:nvPicPr>
        <p:blipFill>
          <a:blip r:embed="rId1"/>
          <a:stretch/>
        </p:blipFill>
        <p:spPr>
          <a:xfrm>
            <a:off x="6477120" y="228600"/>
            <a:ext cx="226692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657600" y="1905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71600" y="2819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34120" y="2849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7200" y="4114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Бесформ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876920" y="4114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 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5364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ерастворимо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572000" y="51055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оддается обработке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OWL"/>
          <p:cNvPicPr/>
          <p:nvPr/>
        </p:nvPicPr>
        <p:blipFill>
          <a:blip r:embed="rId1"/>
          <a:stretch/>
        </p:blipFill>
        <p:spPr>
          <a:xfrm>
            <a:off x="6400800" y="228600"/>
            <a:ext cx="2406600" cy="25891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о – молекула - а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1219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Comic Sans MS"/>
              </a:rPr>
              <a:t>Химический элемент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это определенный вид ат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514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одного химического элемента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прост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ещества, образованные атомами разных химических элементов, называются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сложными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MOLECL2"/>
          <p:cNvPicPr/>
          <p:nvPr/>
        </p:nvPicPr>
        <p:blipFill>
          <a:blip r:embed="rId1"/>
          <a:stretch/>
        </p:blipFill>
        <p:spPr>
          <a:xfrm>
            <a:off x="5029200" y="4572000"/>
            <a:ext cx="266688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Comic Sans MS"/>
              </a:rPr>
              <a:t>Формы существования химического эле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2514600" y="16765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Химический 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1522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б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124080" y="396252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095880" y="4800600"/>
            <a:ext cx="2895840" cy="1523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495680" y="33526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1600200" y="3352680"/>
            <a:ext cx="182880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5791320" y="3352680"/>
            <a:ext cx="190476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295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Из приведенного перечня выпишите отдельно названия веществ и названия тел: медь, монета, стекло, стакан, ваза, фарфор, проволока, алюми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TESTTUB1"/>
          <p:cNvPicPr/>
          <p:nvPr/>
        </p:nvPicPr>
        <p:blipFill>
          <a:blip r:embed="rId1"/>
          <a:stretch/>
        </p:blipFill>
        <p:spPr>
          <a:xfrm>
            <a:off x="2209680" y="2743200"/>
            <a:ext cx="4672080" cy="3795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1219320"/>
            <a:ext cx="807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9680" y="2286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  </a:t>
            </a: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Тела           Вещества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143000" y="1295280"/>
            <a:ext cx="2133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о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ров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943600" y="1295280"/>
            <a:ext cx="2514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тек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Фар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ирамиды..."/>
          <p:cNvPicPr/>
          <p:nvPr/>
        </p:nvPicPr>
        <p:blipFill>
          <a:blip r:embed="rId1"/>
          <a:stretch/>
        </p:blipFill>
        <p:spPr>
          <a:xfrm>
            <a:off x="250920" y="1447920"/>
            <a:ext cx="4316400" cy="3384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24480" y="475920"/>
            <a:ext cx="46195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Термин "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Comic Sans MS"/>
              </a:rPr>
              <a:t>химия"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египетского происхождения. В древности Египет называли Страной Кеми - Черной Землей. Жрецы Древнего Египта были выдающимися мастерами химических ремесел, а химию постепенно стали называть "египетской наукой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494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Самым знаменитым алхимиком Европы был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Альберт фон Больштат (Великий).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  его своде правил говорилось, что «алхимик должен быть молчаливым и скромным и никому не сообщать результатов своих операций; он должен жить в отдельном от людей дом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Великий"/>
          <p:cNvPicPr/>
          <p:nvPr/>
        </p:nvPicPr>
        <p:blipFill>
          <a:blip r:embed="rId1"/>
          <a:stretch/>
        </p:blipFill>
        <p:spPr>
          <a:xfrm>
            <a:off x="5148360" y="838080"/>
            <a:ext cx="3398760" cy="475164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митрий Иванович Менделеев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праведливо отметил, что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23600"/>
            <a:ext cx="4392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«…только благодаря запасу сведений, собранных алхимиками, можно было начать действительные научные изучения химических явлени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m_043"/>
          <p:cNvPicPr/>
          <p:nvPr/>
        </p:nvPicPr>
        <p:blipFill>
          <a:blip r:embed="rId1"/>
          <a:stretch/>
        </p:blipFill>
        <p:spPr>
          <a:xfrm>
            <a:off x="5364000" y="1773360"/>
            <a:ext cx="3429000" cy="3816360"/>
          </a:xfrm>
          <a:prstGeom prst="rect">
            <a:avLst/>
          </a:prstGeom>
          <a:ln w="127080">
            <a:solidFill>
              <a:srgbClr val="808080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14600" y="762120"/>
            <a:ext cx="4114800" cy="1676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Химия изу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3124080" y="2895480"/>
            <a:ext cx="289584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22860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6019920" y="4267080"/>
            <a:ext cx="2895480" cy="15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ревра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>
            <a:off x="1676160" y="2438280"/>
            <a:ext cx="160020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5943600" y="2438280"/>
            <a:ext cx="175248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ATOM"/>
          <p:cNvPicPr/>
          <p:nvPr/>
        </p:nvPicPr>
        <p:blipFill>
          <a:blip r:embed="rId1"/>
          <a:stretch/>
        </p:blipFill>
        <p:spPr>
          <a:xfrm>
            <a:off x="6902280" y="380880"/>
            <a:ext cx="200376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CHEMIST"/>
          <p:cNvPicPr/>
          <p:nvPr/>
        </p:nvPicPr>
        <p:blipFill>
          <a:blip r:embed="rId2"/>
          <a:stretch/>
        </p:blipFill>
        <p:spPr>
          <a:xfrm>
            <a:off x="304920" y="304920"/>
            <a:ext cx="1895400" cy="2298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99"/>
                </a:solidFill>
                <a:uFillTx/>
                <a:latin typeface="Comic Sans MS"/>
              </a:rPr>
              <a:t>Вещества</a:t>
            </a: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 – это то, из чего состоят физические т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глрп"/>
          <p:cNvPicPr/>
          <p:nvPr/>
        </p:nvPicPr>
        <p:blipFill>
          <a:blip r:embed="rId1"/>
          <a:stretch/>
        </p:blipFill>
        <p:spPr>
          <a:xfrm>
            <a:off x="2876400" y="2743200"/>
            <a:ext cx="33721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22860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Свойства веществ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– это признаки, по которым вещества отличаются друг от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6320" y="2201760"/>
            <a:ext cx="41907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Хруп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верд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зрач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льзя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 проводит тепло и 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267080" y="2201760"/>
            <a:ext cx="464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АЛЮМ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яг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Непрозра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Можно вытянуть в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Тепло - и электропров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425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99"/>
                </a:solidFill>
                <a:uFillTx/>
                <a:latin typeface="Comic Sans MS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190656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ыберите признаки для следующих веществ: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Comic Sans MS"/>
              </a:rPr>
              <a:t>МЕДЬ, ЖЕЛЕЗО, ГЛ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Мягкое, твердое, пластичное, ковкое, бесформенное, проводит ток, не проводит ток,  растворимо в воде, поддается обработке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Comic Sans MS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581280" y="1981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М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04920" y="3200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Мяг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124080" y="3809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562720" y="335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ласти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990720" y="48769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Ков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562720" y="4800600"/>
            <a:ext cx="281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оводит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OWL"/>
          <p:cNvPicPr/>
          <p:nvPr/>
        </p:nvPicPr>
        <p:blipFill>
          <a:blip r:embed="rId1"/>
          <a:stretch/>
        </p:blipFill>
        <p:spPr>
          <a:xfrm>
            <a:off x="6324480" y="304920"/>
            <a:ext cx="24796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1T11:19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