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F85D-800F-484F-A356-68C8F6E6B0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Предмет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1070-67A1-4588-ACB2-55FCE8BC88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о – молекула - а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Comic Sans MS"/>
              </a:rPr>
              <a:t>Химический элемент</a:t>
            </a: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это определенный вид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одного химического элемента, называются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простыми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разных химических элементов, называются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сложными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E88B-541C-4265-8B35-91001CFE84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Формы существования химического эле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4F88-4345-4EE0-801B-75F54FA8C2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Из приведенного перечня выпишите отдельно названия веществ и названия тел: медь, монета, стекло, стакан, ваза, фарфор, проволока, алюми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588C-B223-4E34-8FD5-95A9B7E5E3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45E9-72EA-41F2-BEC5-DB449CDD99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ществует несколько толкований происхождения слова «алхимия». Согласно одному из них, корень слова «алхимия» — «khem» означает «черную землю» или «черную страну». Так называли Древний Египет, с которым связывают искусство черных магов, рудознатцев, золотых дел мастер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Термин "</a:t>
            </a:r>
            <a:r>
              <a:rPr b="1" lang="ru-RU" sz="1400" spc="-1" strike="noStrike" u="sng">
                <a:solidFill>
                  <a:srgbClr val="000099"/>
                </a:solidFill>
                <a:uFillTx/>
                <a:latin typeface="Comic Sans MS"/>
              </a:rPr>
              <a:t>химия"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египетского происхождения. В древности Египет называли Страной Кеми - Черной Землей. Жрецы Древнего Египта были выдающимися мастерами химических ремесел, а химию постепенно стали называть "египетской наукой"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933C-F57E-47AD-A14E-2FBCBC3056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Самым знаменитым алхимиком Европы был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Альберт фон Больштат (Великий).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В  его своде правил говорилось, что «алхимик должен быть молчаливым и скромным и никому не сообщать результатов своих операций; он должен жить в отдельном от людей дом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0D22-1896-4C09-945F-6E7A0F1EDC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Дмитрий Иванович Менделеев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праведливо отметил, что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«…только благодаря запасу сведений, собранных алхимиками, можно было начать действительные научные изучения химических явлений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а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 – это то, из чего состоят физические т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6FF6-A14B-41BE-B8AB-72A748A765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99"/>
                </a:solidFill>
                <a:uFillTx/>
                <a:latin typeface="Comic Sans MS"/>
              </a:rPr>
              <a:t>Свойства веществ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 – это признаки, по которым вещества отличаются друг от д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F642-5C41-4187-81F4-1F4427B50E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Выберите признаки для следующих веществ: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Comic Sans MS"/>
              </a:rPr>
              <a:t>МЕДЬ, ЖЕЛЕЗО, ГЛ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Мягкое, твердое, пластичное, ковкое, бесформенное, проводит ток, не проводит ток,  растворимо в воде, поддается обработке р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6552-0BFB-4D48-9BBF-536511155A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017A-9CC3-4A90-B7A9-E45FEA550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C6F-7FEA-4C76-A123-0B0CF0CE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264-0246-4FE2-A2E4-A24991E1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7CC9-BD3A-4515-BA79-07C8F818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966-7BF0-4595-9267-D141FEDA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15D-B5FF-409D-9AFA-9CF388C1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724-0C6F-44B7-B968-DFCB3E51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777-5054-4378-B11A-897C55E1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483-BF7F-49BC-82BA-27252FBB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C2D-8E1B-45BD-BCB0-F991C461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BB1-E217-41F9-8509-92CA8C2D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8A07-161D-4A85-AE62-8116AB8A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6CE1-FE71-4AEA-8C39-74343BDF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C545-B592-48E7-9AA4-3516477FC0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80880" y="985680"/>
            <a:ext cx="830592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ccecff"/>
                    </a:gs>
                    <a:gs pos="50000">
                      <a:srgbClr val="000099"/>
                    </a:gs>
                    <a:gs pos="100000">
                      <a:srgbClr val="ccecff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Предмет химии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ccecff"/>
                  </a:gs>
                  <a:gs pos="5000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9" name="Picture 5" descr="chemistry"/>
          <p:cNvPicPr/>
          <p:nvPr/>
        </p:nvPicPr>
        <p:blipFill>
          <a:blip r:embed="rId1"/>
          <a:stretch/>
        </p:blipFill>
        <p:spPr>
          <a:xfrm>
            <a:off x="5105520" y="2311560"/>
            <a:ext cx="3262320" cy="3009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608760" y="5665680"/>
            <a:ext cx="51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узнецова Ольг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БОУ "Лицей № 3" г.Нориль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00400" y="19810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Желез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143000" y="3200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257800" y="323064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аст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981080" y="4648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Ков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648320" y="4678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роводит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OWL"/>
          <p:cNvPicPr/>
          <p:nvPr/>
        </p:nvPicPr>
        <p:blipFill>
          <a:blip r:embed="rId1"/>
          <a:stretch/>
        </p:blipFill>
        <p:spPr>
          <a:xfrm>
            <a:off x="6477120" y="228600"/>
            <a:ext cx="226692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657600" y="19051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Г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371600" y="2819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Мяг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334120" y="2849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аст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7200" y="4114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Бесформ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876920" y="4114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е проводит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6320" y="5364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ерастворимо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572000" y="51055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оддается обработке р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OWL"/>
          <p:cNvPicPr/>
          <p:nvPr/>
        </p:nvPicPr>
        <p:blipFill>
          <a:blip r:embed="rId1"/>
          <a:stretch/>
        </p:blipFill>
        <p:spPr>
          <a:xfrm>
            <a:off x="6400800" y="228600"/>
            <a:ext cx="2406600" cy="25891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о – молекула - а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0" y="121932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Comic Sans MS"/>
              </a:rPr>
              <a:t>Химический элемент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это определенный вид ато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0" y="2514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одного химического элемента, называются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простыми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0" y="3657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разных химических элементов, называются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сложными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MOLECL2"/>
          <p:cNvPicPr/>
          <p:nvPr/>
        </p:nvPicPr>
        <p:blipFill>
          <a:blip r:embed="rId1"/>
          <a:stretch/>
        </p:blipFill>
        <p:spPr>
          <a:xfrm>
            <a:off x="5029200" y="4572000"/>
            <a:ext cx="2666880" cy="2160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99"/>
                </a:solidFill>
                <a:uFillTx/>
                <a:latin typeface="Comic Sans MS"/>
              </a:rPr>
              <a:t>Формы существования химического эле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2514600" y="1676520"/>
            <a:ext cx="4114800" cy="1676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Химический э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152280" y="480060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воб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а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3124080" y="396252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6095880" y="480060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4495680" y="3352680"/>
            <a:ext cx="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1600200" y="3352680"/>
            <a:ext cx="182880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5791320" y="3352680"/>
            <a:ext cx="190476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0" y="1295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Из приведенного перечня выпишите отдельно названия веществ и названия тел: медь, монета, стекло, стакан, ваза, фарфор, проволока, алюми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TESTTUB1"/>
          <p:cNvPicPr/>
          <p:nvPr/>
        </p:nvPicPr>
        <p:blipFill>
          <a:blip r:embed="rId1"/>
          <a:stretch/>
        </p:blipFill>
        <p:spPr>
          <a:xfrm>
            <a:off x="2209680" y="2743200"/>
            <a:ext cx="4672080" cy="37958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457200" y="1219320"/>
            <a:ext cx="8077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9680" y="2286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99"/>
                </a:solidFill>
                <a:uFillTx/>
                <a:latin typeface="Comic Sans MS"/>
              </a:rPr>
              <a:t>  </a:t>
            </a:r>
            <a:r>
              <a:rPr b="1" lang="ru-RU" sz="4800" spc="-1" strike="noStrike" u="sng">
                <a:solidFill>
                  <a:srgbClr val="000099"/>
                </a:solidFill>
                <a:uFillTx/>
                <a:latin typeface="Comic Sans MS"/>
              </a:rPr>
              <a:t>Тела           Вещества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143000" y="1295280"/>
            <a:ext cx="2133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Мо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Ста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Пров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5943600" y="1295280"/>
            <a:ext cx="2514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М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Стек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Фар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Алюм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пирамиды..."/>
          <p:cNvPicPr/>
          <p:nvPr/>
        </p:nvPicPr>
        <p:blipFill>
          <a:blip r:embed="rId1"/>
          <a:stretch/>
        </p:blipFill>
        <p:spPr>
          <a:xfrm>
            <a:off x="250920" y="1447920"/>
            <a:ext cx="4316400" cy="3384360"/>
          </a:xfrm>
          <a:prstGeom prst="rect">
            <a:avLst/>
          </a:prstGeom>
          <a:ln w="127080">
            <a:solidFill>
              <a:srgbClr val="80808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24480" y="475920"/>
            <a:ext cx="461952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Термин "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химия"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египетского происхождения. В древности Египет называли Страной Кеми - Черной Землей. Жрецы Древнего Египта были выдающимися мастерами химических ремесел, а химию постепенно стали называть "египетской наукой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494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Самым знаменитым алхимиком Европы был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Альберт фон Больштат (Великий).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  его своде правил говорилось, что «алхимик должен быть молчаливым и скромным и никому не сообщать результатов своих операций; он должен жить в отдельном от людей дом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Великий"/>
          <p:cNvPicPr/>
          <p:nvPr/>
        </p:nvPicPr>
        <p:blipFill>
          <a:blip r:embed="rId1"/>
          <a:stretch/>
        </p:blipFill>
        <p:spPr>
          <a:xfrm>
            <a:off x="5148360" y="838080"/>
            <a:ext cx="3398760" cy="4751640"/>
          </a:xfrm>
          <a:prstGeom prst="rect">
            <a:avLst/>
          </a:prstGeom>
          <a:ln w="127080">
            <a:solidFill>
              <a:srgbClr val="808080"/>
            </a:solidFill>
            <a:miter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Дмитрий Иванович Менделеев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праведливо отметил, что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623600"/>
            <a:ext cx="4392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«…только благодаря запасу сведений, собранных алхимиками, можно было начать действительные научные изучения химических явлений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m_043"/>
          <p:cNvPicPr/>
          <p:nvPr/>
        </p:nvPicPr>
        <p:blipFill>
          <a:blip r:embed="rId1"/>
          <a:stretch/>
        </p:blipFill>
        <p:spPr>
          <a:xfrm>
            <a:off x="5364000" y="1773360"/>
            <a:ext cx="3429000" cy="3816360"/>
          </a:xfrm>
          <a:prstGeom prst="rect">
            <a:avLst/>
          </a:prstGeom>
          <a:ln w="127080">
            <a:solidFill>
              <a:srgbClr val="808080"/>
            </a:solidFill>
            <a:miter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"/>
          <p:cNvSpPr/>
          <p:nvPr/>
        </p:nvSpPr>
        <p:spPr>
          <a:xfrm>
            <a:off x="2514600" y="762120"/>
            <a:ext cx="4114800" cy="1676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Химия изуч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3124080" y="2895480"/>
            <a:ext cx="289584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228600" y="4267080"/>
            <a:ext cx="289548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6019920" y="4267080"/>
            <a:ext cx="289548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ревра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 flipH="1">
            <a:off x="1676160" y="2438280"/>
            <a:ext cx="160020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5943600" y="2438280"/>
            <a:ext cx="175248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6" descr="ATOM"/>
          <p:cNvPicPr/>
          <p:nvPr/>
        </p:nvPicPr>
        <p:blipFill>
          <a:blip r:embed="rId1"/>
          <a:stretch/>
        </p:blipFill>
        <p:spPr>
          <a:xfrm>
            <a:off x="6902280" y="380880"/>
            <a:ext cx="200376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CHEMIST"/>
          <p:cNvPicPr/>
          <p:nvPr/>
        </p:nvPicPr>
        <p:blipFill>
          <a:blip r:embed="rId2"/>
          <a:stretch/>
        </p:blipFill>
        <p:spPr>
          <a:xfrm>
            <a:off x="304920" y="304920"/>
            <a:ext cx="1895400" cy="22986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609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а</a:t>
            </a: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 – это то, из чего состоят физические те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глрп"/>
          <p:cNvPicPr/>
          <p:nvPr/>
        </p:nvPicPr>
        <p:blipFill>
          <a:blip r:embed="rId1"/>
          <a:stretch/>
        </p:blipFill>
        <p:spPr>
          <a:xfrm>
            <a:off x="2876400" y="2743200"/>
            <a:ext cx="33721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0" y="228600"/>
            <a:ext cx="9144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Свойства веществ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– это признаки, по которым вещества отличаются друг от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6320" y="2201760"/>
            <a:ext cx="41907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СТЕК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Хруп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Тверд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розрач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льзя вытянуть в 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 проводит тепло и т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267080" y="2201760"/>
            <a:ext cx="4648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АЛЮМ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р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Мяг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прозра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Можно вытянуть в 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Тепло - и электропрово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425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1906560"/>
            <a:ext cx="91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ыберите признаки для следующих веществ: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МЕДЬ, ЖЕЛЕЗО, ГЛ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Мягкое, твердое, пластичное, ковкое, бесформенное, проводит ток, не проводит ток,  растворимо в воде, поддается обработке ру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581280" y="19810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М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04920" y="3200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Мяг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124080" y="3809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562720" y="335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аст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990720" y="48769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Ков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562720" y="4800600"/>
            <a:ext cx="281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роводит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OWL"/>
          <p:cNvPicPr/>
          <p:nvPr/>
        </p:nvPicPr>
        <p:blipFill>
          <a:blip r:embed="rId1"/>
          <a:stretch/>
        </p:blipFill>
        <p:spPr>
          <a:xfrm>
            <a:off x="6324480" y="304920"/>
            <a:ext cx="2479680" cy="26668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1T11:19:1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