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3AD4-569C-4F39-AF7D-953CA84718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Предмет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4286-4061-40BD-8D6C-6DAFAA40E4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о – молекула - а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Comic Sans MS"/>
              </a:rPr>
              <a:t>Химический элемент</a:t>
            </a: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это определенный вид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одного химического элемента, называются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простыми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разных химических элементов, называются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сложными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F9CD-3897-4FDA-B5CC-89E4C2E5D9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Формы существования химического эле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2F3A-6EB7-4A97-B9F1-C225372C68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Из приведенного перечня выпишите отдельно названия веществ и названия тел: медь, монета, стекло, стакан, ваза, фарфор, проволока, алюми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CF55-C77D-4B86-8011-714D440FA5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A03F-16DE-402D-B59B-F6A6BC4D15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ществует несколько толкований происхождения слова «алхимия». Согласно одному из них, корень слова «алхимия» — «khem» означает «черную землю» или «черную страну». Так называли Древний Египет, с которым связывают искусство черных магов, рудознатцев, золотых дел мастер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Термин "</a:t>
            </a:r>
            <a:r>
              <a:rPr b="1" lang="ru-RU" sz="1400" spc="-1" strike="noStrike" u="sng">
                <a:solidFill>
                  <a:srgbClr val="000099"/>
                </a:solidFill>
                <a:uFillTx/>
                <a:latin typeface="Comic Sans MS"/>
              </a:rPr>
              <a:t>химия"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египетского происхождения. В древности Египет называли Страной Кеми - Черной Землей. Жрецы Древнего Египта были выдающимися мастерами химических ремесел, а химию постепенно стали называть "египетской наукой"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30AF-EA08-4DCD-9CA3-7909BBF4B9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Самым знаменитым алхимиком Европы был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Альберт фон Больштат (Великий).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В  его своде правил говорилось, что «алхимик должен быть молчаливым и скромным и никому не сообщать результатов своих операций; он должен жить в отдельном от людей дом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39D8-8EA0-438D-820F-240BAB1087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Дмитрий Иванович Менделеев 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праведливо отметил, что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«…только благодаря запасу сведений, собранных алхимиками, можно было начать действительные научные изучения химических явлений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а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 – это то, из чего состоят физические т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C9DD-0809-4E62-83E9-865C388BAD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99"/>
                </a:solidFill>
                <a:uFillTx/>
                <a:latin typeface="Comic Sans MS"/>
              </a:rPr>
              <a:t>Свойства веществ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 – это признаки, по которым вещества отличаются друг от дру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567B-CDD2-4373-A3D8-A95356B763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Выберите признаки для следующих веществ: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Comic Sans MS"/>
              </a:rPr>
              <a:t>МЕДЬ, ЖЕЛЕЗО, ГЛ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Мягкое, твердое, пластичное, ковкое, бесформенное, проводит ток, не проводит ток,  растворимо в воде, поддается обработке ру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3A3B-E6A2-426B-B821-D8FE5BD015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8F9B-BA72-4340-8799-16F643967F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8087-5DBA-48B5-B9B5-361096E6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051D-1E6A-44C7-A8F8-F67D733B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57CF-0646-4D3D-B3E5-2A057D2D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E44-68F5-4B32-8B78-9D477A80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1F2-D909-4589-80CA-070CC90E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080-340F-4583-9DE3-610743DF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BD69-E3A1-41AD-AF48-FD95F2FD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3F43-CFC8-47AF-96F5-282961F0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924-5DE7-44F5-82A0-82A0AC13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DA6-4D55-4230-93FC-9F1F5231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750-CA55-43AB-BED8-BC306CB1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4A3A-582A-4E56-9FA4-CB625F08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1E90-CEE4-41FF-BCD7-8EFD141829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80880" y="985680"/>
            <a:ext cx="830592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ccecff"/>
                    </a:gs>
                    <a:gs pos="50000">
                      <a:srgbClr val="000099"/>
                    </a:gs>
                    <a:gs pos="100000">
                      <a:srgbClr val="ccecff"/>
                    </a:gs>
                  </a:gsLst>
                  <a:lin ang="27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Предмет химии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ccecff"/>
                  </a:gs>
                  <a:gs pos="5000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9" name="Picture 5" descr="chemistry"/>
          <p:cNvPicPr/>
          <p:nvPr/>
        </p:nvPicPr>
        <p:blipFill>
          <a:blip r:embed="rId1"/>
          <a:stretch/>
        </p:blipFill>
        <p:spPr>
          <a:xfrm>
            <a:off x="5105520" y="2311560"/>
            <a:ext cx="3262320" cy="3009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608760" y="5665680"/>
            <a:ext cx="51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узнецова Ольг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БОУ "Лицей № 3" г.Нориль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00400" y="19810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Желез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143000" y="3200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Твер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257800" y="323064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ласт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981080" y="4648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Ков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4648320" y="4678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роводит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OWL"/>
          <p:cNvPicPr/>
          <p:nvPr/>
        </p:nvPicPr>
        <p:blipFill>
          <a:blip r:embed="rId1"/>
          <a:stretch/>
        </p:blipFill>
        <p:spPr>
          <a:xfrm>
            <a:off x="6477120" y="228600"/>
            <a:ext cx="226692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657600" y="19051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Г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371600" y="2819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Мяг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334120" y="2849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ласт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7200" y="4114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Бесформ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876920" y="4114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е проводит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76320" y="5364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ерастворимо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572000" y="51055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оддается обработке р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OWL"/>
          <p:cNvPicPr/>
          <p:nvPr/>
        </p:nvPicPr>
        <p:blipFill>
          <a:blip r:embed="rId1"/>
          <a:stretch/>
        </p:blipFill>
        <p:spPr>
          <a:xfrm>
            <a:off x="6400800" y="228600"/>
            <a:ext cx="2406600" cy="25891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о – молекула - а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0" y="121932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Comic Sans MS"/>
              </a:rPr>
              <a:t>Химический элемент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это определенный вид ато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0" y="2514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одного химического элемента, называются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простыми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0" y="3657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разных химических элементов, называются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сложными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MOLECL2"/>
          <p:cNvPicPr/>
          <p:nvPr/>
        </p:nvPicPr>
        <p:blipFill>
          <a:blip r:embed="rId1"/>
          <a:stretch/>
        </p:blipFill>
        <p:spPr>
          <a:xfrm>
            <a:off x="5029200" y="4572000"/>
            <a:ext cx="2666880" cy="21607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99"/>
                </a:solidFill>
                <a:uFillTx/>
                <a:latin typeface="Comic Sans MS"/>
              </a:rPr>
              <a:t>Формы существования химического эле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2514600" y="1676520"/>
            <a:ext cx="4114800" cy="1676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Химический эл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152280" y="4800600"/>
            <a:ext cx="2895840" cy="1523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Своб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а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3124080" y="3962520"/>
            <a:ext cx="2895840" cy="1523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6095880" y="4800600"/>
            <a:ext cx="2895840" cy="1523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4495680" y="3352680"/>
            <a:ext cx="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1600200" y="3352680"/>
            <a:ext cx="182880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5791320" y="3352680"/>
            <a:ext cx="190476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0" y="1295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Из приведенного перечня выпишите отдельно названия веществ и названия тел: медь, монета, стекло, стакан, ваза, фарфор, проволока, алюми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TESTTUB1"/>
          <p:cNvPicPr/>
          <p:nvPr/>
        </p:nvPicPr>
        <p:blipFill>
          <a:blip r:embed="rId1"/>
          <a:stretch/>
        </p:blipFill>
        <p:spPr>
          <a:xfrm>
            <a:off x="2209680" y="2743200"/>
            <a:ext cx="4672080" cy="37958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457200" y="1219320"/>
            <a:ext cx="8077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9680" y="2286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99"/>
                </a:solidFill>
                <a:uFillTx/>
                <a:latin typeface="Comic Sans MS"/>
              </a:rPr>
              <a:t>  </a:t>
            </a:r>
            <a:r>
              <a:rPr b="1" lang="ru-RU" sz="4800" spc="-1" strike="noStrike" u="sng">
                <a:solidFill>
                  <a:srgbClr val="000099"/>
                </a:solidFill>
                <a:uFillTx/>
                <a:latin typeface="Comic Sans MS"/>
              </a:rPr>
              <a:t>Тела           Вещества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143000" y="1295280"/>
            <a:ext cx="2133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Мо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Ста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Пров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5943600" y="1295280"/>
            <a:ext cx="2514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М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Стек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Фарф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Алюми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пирамиды..."/>
          <p:cNvPicPr/>
          <p:nvPr/>
        </p:nvPicPr>
        <p:blipFill>
          <a:blip r:embed="rId1"/>
          <a:stretch/>
        </p:blipFill>
        <p:spPr>
          <a:xfrm>
            <a:off x="250920" y="1447920"/>
            <a:ext cx="4316400" cy="3384360"/>
          </a:xfrm>
          <a:prstGeom prst="rect">
            <a:avLst/>
          </a:prstGeom>
          <a:ln w="127080">
            <a:solidFill>
              <a:srgbClr val="808080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24480" y="475920"/>
            <a:ext cx="461952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Термин "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химия"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египетского происхождения. В древности Египет называли Страной Кеми - Черной Землей. Жрецы Древнего Египта были выдающимися мастерами химических ремесел, а химию постепенно стали называть "египетской наукой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494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Самым знаменитым алхимиком Европы был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Альберт фон Больштат (Великий).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  его своде правил говорилось, что «алхимик должен быть молчаливым и скромным и никому не сообщать результатов своих операций; он должен жить в отдельном от людей дом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Великий"/>
          <p:cNvPicPr/>
          <p:nvPr/>
        </p:nvPicPr>
        <p:blipFill>
          <a:blip r:embed="rId1"/>
          <a:stretch/>
        </p:blipFill>
        <p:spPr>
          <a:xfrm>
            <a:off x="5148360" y="838080"/>
            <a:ext cx="3398760" cy="4751640"/>
          </a:xfrm>
          <a:prstGeom prst="rect">
            <a:avLst/>
          </a:prstGeom>
          <a:ln w="127080">
            <a:solidFill>
              <a:srgbClr val="808080"/>
            </a:solidFill>
            <a:miter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Дмитрий Иванович Менделеев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праведливо отметил, что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623600"/>
            <a:ext cx="4392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«…только благодаря запасу сведений, собранных алхимиками, можно было начать действительные научные изучения химических явлений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m_043"/>
          <p:cNvPicPr/>
          <p:nvPr/>
        </p:nvPicPr>
        <p:blipFill>
          <a:blip r:embed="rId1"/>
          <a:stretch/>
        </p:blipFill>
        <p:spPr>
          <a:xfrm>
            <a:off x="5364000" y="1773360"/>
            <a:ext cx="3429000" cy="3816360"/>
          </a:xfrm>
          <a:prstGeom prst="rect">
            <a:avLst/>
          </a:prstGeom>
          <a:ln w="127080">
            <a:solidFill>
              <a:srgbClr val="808080"/>
            </a:solidFill>
            <a:miter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4"/>
          <p:cNvSpPr/>
          <p:nvPr/>
        </p:nvSpPr>
        <p:spPr>
          <a:xfrm>
            <a:off x="2514600" y="762120"/>
            <a:ext cx="4114800" cy="1676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Химия изуч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3124080" y="2895480"/>
            <a:ext cx="289584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228600" y="4267080"/>
            <a:ext cx="289548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6019920" y="4267080"/>
            <a:ext cx="289548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ревра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 flipH="1">
            <a:off x="1676160" y="2438280"/>
            <a:ext cx="160020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5943600" y="2438280"/>
            <a:ext cx="175248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6" descr="ATOM"/>
          <p:cNvPicPr/>
          <p:nvPr/>
        </p:nvPicPr>
        <p:blipFill>
          <a:blip r:embed="rId1"/>
          <a:stretch/>
        </p:blipFill>
        <p:spPr>
          <a:xfrm>
            <a:off x="6902280" y="380880"/>
            <a:ext cx="200376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CHEMIST"/>
          <p:cNvPicPr/>
          <p:nvPr/>
        </p:nvPicPr>
        <p:blipFill>
          <a:blip r:embed="rId2"/>
          <a:stretch/>
        </p:blipFill>
        <p:spPr>
          <a:xfrm>
            <a:off x="304920" y="304920"/>
            <a:ext cx="1895400" cy="22986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0" y="609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а</a:t>
            </a: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 – это то, из чего состоят физические те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глрп"/>
          <p:cNvPicPr/>
          <p:nvPr/>
        </p:nvPicPr>
        <p:blipFill>
          <a:blip r:embed="rId1"/>
          <a:stretch/>
        </p:blipFill>
        <p:spPr>
          <a:xfrm>
            <a:off x="2876400" y="2743200"/>
            <a:ext cx="33721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0" y="228600"/>
            <a:ext cx="9144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Свойства веществ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 – это признаки, по которым вещества отличаются друг от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6320" y="2201760"/>
            <a:ext cx="41907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СТЕК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Хруп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Тверд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розрач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льзя вытянуть в 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 проводит тепло и т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267080" y="2201760"/>
            <a:ext cx="4648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АЛЮМ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р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Мяг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прозра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Можно вытянуть в 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Тепло - и электропрово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425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1906560"/>
            <a:ext cx="9144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ыберите признаки для следующих веществ: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МЕДЬ, ЖЕЛЕЗО, ГЛ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Мягкое, твердое, пластичное, ковкое, бесформенное, проводит ток, не проводит ток,  растворимо в воде, поддается обработке ру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581280" y="19810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М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04920" y="3200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Мяг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124080" y="3809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Твер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562720" y="335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ласт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990720" y="48769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Ков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5562720" y="4800600"/>
            <a:ext cx="281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роводит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OWL"/>
          <p:cNvPicPr/>
          <p:nvPr/>
        </p:nvPicPr>
        <p:blipFill>
          <a:blip r:embed="rId1"/>
          <a:stretch/>
        </p:blipFill>
        <p:spPr>
          <a:xfrm>
            <a:off x="6324480" y="304920"/>
            <a:ext cx="2479680" cy="26668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1T11:19:1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