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E16B-7633-439D-BA1A-9425CC4259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рода как ценность. Антропоцентризм и натуроцентризм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AAB3-DD26-48AD-A40C-E5D078E2C4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егодня находит отражение реализаци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деи гармонии человека с природой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CB95-9152-4C70-A918-ED45AC49BE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4F61-0254-4AA4-9027-41F142DD0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роду легче всего подчинить, повинуясь 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Фрэнсис Бэ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7448-C57E-4342-B666-8167A763E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сновные направления в понимании сути взаимодействия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972-7D3D-433A-8AB1-C397229E37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Антропоцент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лософии под антропоцентризмом понимается воззрение, согласно которо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есть центр и высшая цель миро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присутствует в общественном сознании, начиная с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лассической а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приобретает центральное место в идеологии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ового време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9DB2-FCBC-4B21-98CA-4D4B04FEA0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Основные особенности антропоцентризм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ысшую ценность представляет человек.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ерархическая картина мир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елью взаимодействия с природой яв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Характер взаимодействия с природой опреде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тические нормы и правила дей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только в мир людей и не распространяются на взаимодействие с миром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 Дальнейшее развитие природы мысли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ак процесс, который должен быть подчинен процессу развит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6E12-FFBD-490F-AA75-0EAD9D2609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1488b"/>
                </a:solidFill>
                <a:latin typeface="Calibri"/>
              </a:rPr>
              <a:t>Идеи антропоцентризма в концепции христианской морали (Б. Калликотт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Бог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царство священного и таинственного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олицетворяет прир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оздан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о образу и подобию Божье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и тем самым обособлен от всей остальной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едоставил 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управление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природным ми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заповедал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множаться и покорять природу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Богоподоби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является основанием для него считать себя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ысшей ценностью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Посколь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иродные объекты лишены богоподоб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гарант существования природы; неразумны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ещи суще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в качестве средства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ля поддержа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наделенного разумом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A473-BBEE-4B00-9CBE-413D4BA561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деи К. Маркса и Ф. Энгельса в трудах «Капитал» и «Диалектика природы»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(на рубеже XIX и XX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К. Маркс писал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5153-F8FA-45B6-A60E-EB13BBE29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488b"/>
                </a:solidFill>
                <a:latin typeface="Calibri"/>
              </a:rPr>
              <a:t>Натуроцентр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идеях Франциска  Ассизского, сформулировавшего альтернативный взгляд на приро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ера в добродетель смирения не только отдельного человека, но и человечеств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тверждается духовная самоценность всего, что есть в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3459-8E2A-4805-8FDC-E2AE610CDD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Теннис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росший средь руин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бя из трещин Древних извлека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предо мною весь </a:t>
            </a:r>
            <a:r>
              <a:rPr b="0" lang="ru-RU" sz="1200" spc="-1" strike="noStrike">
                <a:solidFill>
                  <a:srgbClr val="1f497d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от корень, стебелек, здесь, на моей ладо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мал, цветок, но если бы я поня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то есть твой корень, стебелек, и в чем вся суть твоя,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огда я Бога суть и человека суть познал 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Автором второго стихотворения является японский поэт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Ба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нимательно вглядис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веты «пастушьей сум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видишь под плетн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ECD4-E575-4F08-81BE-A2F19CB0F3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107-76F9-4517-A150-48606426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D95-38A6-4874-BD97-B6601806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4AD-F1C5-47AB-926B-62B0A08A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284-5806-43EA-81BB-01F90205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19F8-AB4B-422B-8887-0D464B66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8334-5108-43C3-9684-ED981832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7B39-A72B-47DA-B9C5-B601A7B9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B57C-2DD5-4164-8BFD-A28E9EDF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B54B-D0C9-4C51-899A-814E2DC0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5A3C-A8DA-4744-AA06-85ABFCED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03CA-75A5-40EA-B338-5447FC0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72F-102C-4677-AB51-AAE81006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111A-8A7D-4233-902E-E99018E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3FA5-FF48-4D24-B23A-781C1E27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3DF0-20E8-4AC0-B1DC-B927CD31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456E-178B-473A-A9B4-52E75826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21EE-AA5F-4ACF-B3B7-D05884A4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5606-347F-43D6-95DA-A8F1CB29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4ACA-0C57-40B7-8C6C-6B49758C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AF793-955F-43D8-B865-6F42BA24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4468-9530-4F06-ACD1-A28B8EA5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6A92-7969-445F-8A95-112DAE41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2BB-06F9-4D92-8C65-2C99CCA2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7B6E-9BDE-41F5-9DBA-C209BED3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86DE-2EA6-4FDA-BD32-9E864DFE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0440-542C-4EC3-8097-0FE0CD4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C341-33D8-4EE5-9C10-5683E044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258E-77DF-4211-B5E9-D1836A7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6D77-57BC-461C-91F3-ECDD956B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23DB-82D7-4A47-85D6-09E9230C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16F4-5FD0-4468-8FD8-28C47882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EF885-27C2-4AD7-AC29-002EF399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A2F6-934D-4517-91FE-AB4B65FD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345-F700-4F87-A66C-E4880518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E5E0-6ECB-405F-B4CE-DC28518A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ADD8-D2E3-441D-B00D-4BAA3F7A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3C2D4-F136-4677-A951-9AA2F9A6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92B7-3653-45D1-A5D0-2DDA1547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3421E-0E5B-447B-A56F-C41B3757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5582D-BFD8-45F0-ADF1-695EA2A6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0BDF-8211-4190-872C-2C7407BE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293BF-A85F-4909-90F1-0BA2EA2A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4717-DDCC-4208-8976-B42FD0FE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BB315-B6AD-4451-8727-A5E200A9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395-15DE-4D58-A241-F5B09D4E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EF71C-D47A-4C05-99A2-6BC45D3E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17279-4526-4B29-87CE-558369DF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615FD-3132-4675-99BA-733C8BF9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241D-B968-441F-98A4-6DDE242E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826E2-A5D1-4B77-AB6F-E7A59ACC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6E5C-A479-4400-A934-8F89C080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FD9D4-470A-4990-9461-C922C7C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6CF4C-6294-4F76-B6B7-690FDC39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8FB7F-3543-4E48-920B-070F2ACE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B7B9-5F10-4262-88ED-CEDBD872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EE0-DDC2-4CA6-A925-AD3CED38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701B8-81D6-4B17-9F64-C6922546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2224E-9A4F-480F-A73B-F959A01D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F47AC-08DD-48E1-90D4-BA343ABC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8302-D911-40D4-B10B-0B328864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70488-E7F1-4384-B93B-A11BD54C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3438-A175-4B12-9627-12BA4776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BD895-AB8E-4D52-B0A5-8DA90D4F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475DE-95F1-4BCA-9D50-C0FBF261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4DB0-E535-462E-9B3A-C1651400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6E1B8-7C5F-43EA-BBB5-DC6D162B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96B-6B31-4C2E-BBCF-CA10A3B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EA207-69DF-4C78-BDB5-1D893EC8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ACB94-AD91-439F-8075-A534C959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646E9-73B2-43B2-9F5F-F43F8E35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96D2A-4BBF-46C8-8A90-51374FE0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63D5D-DD08-4B3C-AA66-E5FCFB83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92B17-C18B-4688-91D0-F09629A4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0B74B-26E7-46FC-A3A3-28F87979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4B67B-B544-4A98-A040-25E56C38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B0E5C-A1EF-420F-941A-1D2AFB52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141C4-1E0B-4D43-9F0E-513F168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1AD-BF6C-4994-A2AE-A376042E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4705D-319F-4FA6-A47D-69662133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45894-DC88-4FC7-A611-E80266B5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C733C-897A-4111-83AE-54502D50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77FCF-7C78-473C-80D9-EF83451C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5B07-A368-44AB-B75F-2A5C3542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097-F753-49B6-A44B-9A0B8D6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8DBC-C6DA-4D94-BC84-E447710A30E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F726-F878-4F40-B636-F1C2A1B9E1B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CD69-7C6C-401B-98AE-353FAD763BF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D4E6-08C5-4DC4-8B44-705952A4898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06FE-085F-4513-891D-29327FBCD90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4418-4162-4AC6-BDA1-183BA6B929A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6B35-B12B-4221-A7FE-CAE553DCC2C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495B-79E5-47D9-A78C-4CA0A957D6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8FF6-854F-4158-B07F-898EEE5B45F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4A70-964E-4887-BF77-20716725F30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D1D-D81C-40A6-962C-DEDF70853B3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78D8-C4B1-426B-9675-1D738D9A94F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2F8F-FEE2-4A55-A931-E54D72FFD2B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2575-1CF8-4E03-A3D5-BD4D463625C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orbel"/>
                <a:ea typeface="Times New Roman"/>
              </a:rPr>
              <a:t>Природа как ценность. Антропоцентризм и натуроцентризм</a:t>
            </a:r>
            <a:br>
              <a:rPr sz="48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80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040" y="9903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егодня находит отражение реализация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деи гармонии человека с природой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6019920" y="762120"/>
            <a:ext cx="3657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Бродил я лесо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глуш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айти не ча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ни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Смотрю, цветоч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ени ветв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глаз прекрас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звезд светл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ростер я ру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о молвил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«Ужель погиб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осужден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взял с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итомца 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 в сад прохла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 себе отн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иши месте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му отв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ет он сн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ак прежде цв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6661440" y="3808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.В. Гёте  «Наш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www.novoshakhtinsk.org/upload/iblock/10a/10a4974d8b842b367b9e9358c21dfb21.jpg"/>
          <p:cNvPicPr/>
          <p:nvPr/>
        </p:nvPicPr>
        <p:blipFill>
          <a:blip r:embed="rId1"/>
          <a:srcRect l="13341" t="0" r="6664" b="0"/>
          <a:stretch/>
        </p:blipFill>
        <p:spPr>
          <a:xfrm>
            <a:off x="4876920" y="1143000"/>
            <a:ext cx="1752480" cy="163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cs421726.userapi.com/v421726437/921/tLMX6chKNVU.jpg"/>
          <p:cNvPicPr/>
          <p:nvPr/>
        </p:nvPicPr>
        <p:blipFill>
          <a:blip r:embed="rId2"/>
          <a:srcRect l="14999" t="0" r="14999" b="0"/>
          <a:stretch/>
        </p:blipFill>
        <p:spPr>
          <a:xfrm>
            <a:off x="4876920" y="3886200"/>
            <a:ext cx="1842840" cy="17524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998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Corbe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http://t2.gstatic.com/images?q=tbn:ANd9GcQOq1M_7HXqtR04VCdggHgJyw6iDnXxYc-znGclC18WYGkg49uV"/>
          <p:cNvPicPr/>
          <p:nvPr/>
        </p:nvPicPr>
        <p:blipFill>
          <a:blip r:embed="rId1"/>
          <a:stretch/>
        </p:blipFill>
        <p:spPr>
          <a:xfrm>
            <a:off x="2362320" y="10666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i.imgur.com/27UVN.jpg"/>
          <p:cNvPicPr/>
          <p:nvPr/>
        </p:nvPicPr>
        <p:blipFill>
          <a:blip r:embed="rId2"/>
          <a:stretch/>
        </p:blipFill>
        <p:spPr>
          <a:xfrm>
            <a:off x="1905120" y="2895480"/>
            <a:ext cx="6095880" cy="352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rossahar.ru/netcat_files/userfiles/files/Rossahar/Images/ekologiya.jpg"/>
          <p:cNvPicPr/>
          <p:nvPr/>
        </p:nvPicPr>
        <p:blipFill>
          <a:blip r:embed="rId3"/>
          <a:stretch/>
        </p:blipFill>
        <p:spPr>
          <a:xfrm>
            <a:off x="5181480" y="10666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971440" y="1066680"/>
            <a:ext cx="603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Природу легче всего подчинить, повинуясь е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Фрэнсис Бэкон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dayevents.ru/uploads/f911af3e4838_C6DC/2038843764_u89zW3VU_jean_paul02.jpg"/>
          <p:cNvPicPr/>
          <p:nvPr/>
        </p:nvPicPr>
        <p:blipFill>
          <a:blip r:embed="rId1"/>
          <a:stretch/>
        </p:blipFill>
        <p:spPr>
          <a:xfrm>
            <a:off x="144792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3720" y="609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f271c"/>
                </a:solidFill>
                <a:latin typeface="Corbel"/>
              </a:rPr>
              <a:t>Основные направления в понимании сути взаимодействия человека и природы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3124080" y="533520"/>
            <a:ext cx="3657600" cy="13716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"/>
          <p:cNvSpPr/>
          <p:nvPr/>
        </p:nvSpPr>
        <p:spPr>
          <a:xfrm>
            <a:off x="1295280" y="3429000"/>
            <a:ext cx="350532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5257800" y="3429000"/>
            <a:ext cx="365760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9"/>
          <p:cNvSpPr/>
          <p:nvPr/>
        </p:nvSpPr>
        <p:spPr>
          <a:xfrm flipH="1" flipV="1">
            <a:off x="2437920" y="1219320"/>
            <a:ext cx="68580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1"/>
          <p:cNvSpPr/>
          <p:nvPr/>
        </p:nvSpPr>
        <p:spPr>
          <a:xfrm>
            <a:off x="6781680" y="1219320"/>
            <a:ext cx="6098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 стрелкой 13"/>
          <p:cNvCxnSpPr/>
          <p:nvPr/>
        </p:nvCxnSpPr>
        <p:spPr>
          <a:xfrm flipH="1">
            <a:off x="243612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7" name="Прямая со стрелкой 15"/>
          <p:cNvCxnSpPr/>
          <p:nvPr/>
        </p:nvCxnSpPr>
        <p:spPr>
          <a:xfrm flipH="1">
            <a:off x="738900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8" name="Прямоугольник 16"/>
          <p:cNvSpPr/>
          <p:nvPr/>
        </p:nvSpPr>
        <p:spPr>
          <a:xfrm>
            <a:off x="1767600" y="39625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АНТРОП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7"/>
          <p:cNvSpPr/>
          <p:nvPr/>
        </p:nvSpPr>
        <p:spPr>
          <a:xfrm>
            <a:off x="5885280" y="3962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НАТУР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Антроп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философии под антропоцентризмом понимается воззрение, согласно которому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человек есть центр и высшая цель мирозд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о присутствует в общественном сознании, начиная с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классической антич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и приобретает центральное место в идеологии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Ново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1" descr="C:\Users\с1фа\Desktop\Рисунок1.jpg"/>
          <p:cNvPicPr/>
          <p:nvPr/>
        </p:nvPicPr>
        <p:blipFill>
          <a:blip r:embed="rId1"/>
          <a:stretch/>
        </p:blipFill>
        <p:spPr>
          <a:xfrm>
            <a:off x="5867280" y="1828800"/>
            <a:ext cx="2895840" cy="369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особенности антропоцентризма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218960" y="1219320"/>
            <a:ext cx="770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1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Высшую ценность представляет человек.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2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Иерархическая картина мира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3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Целью взаимодействия с природой яв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4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Характер взаимодействия с природой опреде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5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Этические нормы и правила действуют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только в мир людей и не распространяются на взаимодействие с миром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. Дальнейшее развитие природы мысли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как процесс, который должен быть подчинен процессу развития челове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деи антропоцентризма в концепции христианской морали (Б. Калликотт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90720" y="12189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1.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 Бог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царство священного и таинственного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олицетворяет природ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2.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оздан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о образу и подобию Божьему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 тем самым обособлен от всей остальной прир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3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едоставил 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управление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природным миром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4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заповедал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размножаться и покорять природу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Богоподоби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является основанием для него считать себя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ысшей ценностью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Посколь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риродные объекты лишены богоподоб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гарант существования природы; неразумны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ещи существуют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лишь в качестве средства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для поддержан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наделенного разумом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Рисунок 4" descr="49809486_1255364429_007.jpg"/>
          <p:cNvPicPr/>
          <p:nvPr/>
        </p:nvPicPr>
        <p:blipFill>
          <a:blip r:embed="rId1"/>
          <a:stretch/>
        </p:blipFill>
        <p:spPr>
          <a:xfrm>
            <a:off x="6019920" y="1295280"/>
            <a:ext cx="2971800" cy="31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1" name="Рисунок 5" descr="1227624102Sotvorenie.jpg"/>
          <p:cNvPicPr/>
          <p:nvPr/>
        </p:nvPicPr>
        <p:blipFill>
          <a:blip r:embed="rId2"/>
          <a:srcRect l="0" t="141" r="622" b="0"/>
          <a:stretch/>
        </p:blipFill>
        <p:spPr>
          <a:xfrm>
            <a:off x="6248520" y="4572000"/>
            <a:ext cx="2590560" cy="20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деи К. Маркса и Ф. Энгельса в трудах «Капитал» и «Диалектика природы»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(на рубеже XIX и XX вв.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4" name="Picture 2" descr="http://krotov.info/pictures/maps/12/01285ch.jpg"/>
          <p:cNvPicPr/>
          <p:nvPr/>
        </p:nvPicPr>
        <p:blipFill>
          <a:blip r:embed="rId1"/>
          <a:srcRect l="2881" t="2110" r="1966" b="9181"/>
          <a:stretch/>
        </p:blipFill>
        <p:spPr>
          <a:xfrm>
            <a:off x="5867280" y="1676520"/>
            <a:ext cx="3124440" cy="38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5" name="Прямоугольник 4"/>
          <p:cNvSpPr/>
          <p:nvPr/>
        </p:nvSpPr>
        <p:spPr>
          <a:xfrm>
            <a:off x="1219320" y="16002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 К. Маркс писал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Натур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66680" y="914040"/>
            <a:ext cx="56390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f271c"/>
                </a:solidFill>
                <a:latin typeface="Corbel"/>
              </a:rPr>
              <a:t>В идеях Франциска  Ассизского, сформулировавшего альтернативный взгляд на природу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вера в добродетель смирения не только отдельного человека, но и человечества в цело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утверждается духовная самоценность всего, что есть в природе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RLFOA"/>
          <p:cNvPicPr/>
          <p:nvPr/>
        </p:nvPicPr>
        <p:blipFill>
          <a:blip r:embed="rId1"/>
          <a:stretch/>
        </p:blipFill>
        <p:spPr>
          <a:xfrm>
            <a:off x="6858000" y="990720"/>
            <a:ext cx="2154240" cy="274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cs319531.userapi.com/v319531659/3d50/8FlFfCrThzQ.jpg"/>
          <p:cNvPicPr/>
          <p:nvPr/>
        </p:nvPicPr>
        <p:blipFill>
          <a:blip r:embed="rId2"/>
          <a:stretch/>
        </p:blipFill>
        <p:spPr>
          <a:xfrm>
            <a:off x="6781680" y="4114800"/>
            <a:ext cx="2178000" cy="24382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6"/>
          <p:cNvSpPr/>
          <p:nvPr/>
        </p:nvSpPr>
        <p:spPr>
          <a:xfrm>
            <a:off x="6705720" y="37339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(5 июля 1182-3 октября 122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360" y="12193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IX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Теннисона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озросший средь руин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ебя из трещин Древних извлека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предо мною весь </a:t>
            </a:r>
            <a:r>
              <a:rPr b="0" lang="ru-RU" sz="1800" spc="-1" strike="noStrike">
                <a:solidFill>
                  <a:srgbClr val="4f271c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вот корень, стебелек, здесь, на моей ладон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мал, цветок, но если бы я понял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 есть твой корень, стебелек, и в чем вся суть твоя,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огда я Бога суть и человека суть познал б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Автором второго стихотворения является японский поэт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Басе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нимательно вглядись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ы «пастушьей сумки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Увидишь под плетнем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1219320" y="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7:26:09Z</dcterms:created>
  <dc:creator>с1фа</dc:creator>
  <dc:description/>
  <dc:language>en-US</dc:language>
  <cp:lastModifiedBy>LEGION</cp:lastModifiedBy>
  <dcterms:modified xsi:type="dcterms:W3CDTF">2014-11-11T08:59:10Z</dcterms:modified>
  <cp:revision>21</cp:revision>
  <dc:subject/>
  <dc:title>Слайд 1</dc:title>
</cp:coreProperties>
</file>