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9F21-2E6D-4956-B6A6-A6C328B39B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ирода как ценность. Антропоцентризм и натуроцентризм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F2BE-CF16-4573-A1D5-D4F7776915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егодня находит отражение реализаци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деи гармонии человека с природой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FB78-F473-48EE-AD21-D5B6E92C7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715-4042-4AEE-853A-DE3EAD302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роду легче всего подчинить, повинуясь 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Фрэнсис Бэ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BCDC-9EDF-4AF8-A0A8-E10A4EA12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сновные направления в понимании сути взаимодействия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0566-CDDA-4FB0-B244-C61C31234A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488b"/>
                </a:solidFill>
                <a:latin typeface="Calibri"/>
              </a:rPr>
              <a:t>Антропоцент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лософии под антропоцентризмом понимается воззрение, согласно которо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есть центр и высшая цель миро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присутствует в общественном сознании, начиная с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лассической а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приобретает центральное место в идеологии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ового време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D21F-41A1-4516-8630-657DBBB45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Основные особенности антропоцентриз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ысшую ценность представляет человек.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ерархическая картина мир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елью взаимодействия с природой яв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Характер взаимодействия с природой определяе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 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тические нормы и правила дей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только в мир людей и не распространяются на взаимодействие с миром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 Дальнейшее развитие природы мыслится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как процесс, который должен быть подчинен процессу развит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FCB2-E1D4-45CF-B22C-F7E03456ED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1488b"/>
                </a:solidFill>
                <a:latin typeface="Calibri"/>
              </a:rPr>
              <a:t>Идеи антропоцентризма в концепции христианской морали (Б. Калликотт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Бог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царство священного и таинственного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олицетворяет прир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оздан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о образу и подобию Божьему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и тем самым обособлен от всей остальной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едоставил 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управление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природным ми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. Бог заповедал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множаться и покорять природу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Богоподоби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является основанием для него считать себя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ысшей ценностью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 Поскольку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иродные объекты лишены богоподоб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200" spc="-1" strike="noStrike">
                <a:solidFill>
                  <a:srgbClr val="31859c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гарант существования природы; неразумные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ещи существуют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лишь в качестве средства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ля поддержа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наделенного разумом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еловека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5026-3614-4604-9B0E-105D12463A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деи К. Маркса и Ф. Энгельса в трудах «Капитал» и «Диалектика природы»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(на рубеже XIX и XX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К. Маркс писал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98C9-093C-4E50-A959-7C5E3C48E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488b"/>
                </a:solidFill>
                <a:latin typeface="Calibri"/>
              </a:rPr>
              <a:t>Натуроцентр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идеях Франциска  Ассизского, сформулировавшего альтернативный взгляд на приро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ера в добродетель смирения не только отдельного человека, но и человечеств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утверждается духовная самоценность всего, что есть в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E717-5FAA-4009-AAAB-AEF8E9710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185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Теннис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росший средь руин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бя из трещин Древних извлека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предо мною весь </a:t>
            </a:r>
            <a:r>
              <a:rPr b="0" lang="ru-RU" sz="1200" spc="-1" strike="noStrike">
                <a:solidFill>
                  <a:srgbClr val="1f497d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от корень, стебелек, здесь, на моей ладо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ы мал, цветок, но если бы я поня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то есть твой корень, стебелек, и в чем вся суть твоя, цвет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огда я Бога суть и человека суть познал 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Автором второго стихотворения является японский поэт </a:t>
            </a:r>
            <a:r>
              <a:rPr b="0" lang="en-US" sz="1200" spc="-1" strike="noStrike">
                <a:solidFill>
                  <a:srgbClr val="31859c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в. Ба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нимательно вгляди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Цветы «пастушьей сум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видишь под плетн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2C47-4D21-4F91-91E0-CF224462E6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5A7-6EBC-4D63-83B9-B6B32E5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9B6-78D7-4864-AB23-178B0276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26B-6B51-4EBE-B75E-7251BD3F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B87-401E-4C95-A860-AC325A4C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0263-5093-428E-9B8F-CB95F5B2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4DBD-B076-4A4E-9586-A946E52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1BF6-5BC9-4E12-9BEB-4D5C8D3D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5FFB-93F7-47B5-A7FD-0B564D53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01A2-BD8F-4916-AB27-1A9235F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92E9-E4B4-47D5-9A2C-797DB52E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565B-4CB9-4DD1-A6D3-4D976A5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E9D-5D15-4FB2-B547-6BD1E2AA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A0BD-3107-42FE-9944-C08C443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64AF-0FF7-4EAA-B2D2-5EE6A586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302A-AD1B-4E7D-885C-EB35157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FA23-F653-4BE2-9278-A2A64486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3959-BBDC-49AC-A76C-C1EAACE8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F206-EDFB-4892-93F6-4F452DC5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DC47-9F8C-42C5-8834-500A9D2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DDC7-EBFE-4E23-8AF1-FBE0D347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8A58-6B3B-4B7D-998E-8458B91D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007C-C262-4CF2-B6FC-9151FADD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10F-869F-468E-A2A8-6675A98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7EEE-F31D-453F-BEF3-6642E3D8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2B14-83CE-419D-BBB2-5FC3E166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C8DE-F505-4C57-8E09-D5C772A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5664-1920-4BE1-BE78-CAA61FA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5455-1368-41F7-8A1E-5FAA14EE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9CD5-9EC5-453D-A161-18E03D22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A54B-AA94-4CC4-97A9-80A45055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2FE03-29BD-4E96-9756-6D49197F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865E-8CF6-4888-8549-386DE195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EAC3-6313-4C0A-A68B-E20FD8A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F10-1715-4FFD-A3BF-79DC67F2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F048-9696-45F1-9C50-368C7BC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088A-00EB-4CC2-A4EF-2E8187B6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C1EC-BFC5-435A-832E-67943860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BC38-9075-4F88-97FC-8B83881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2AAB-0131-4690-B0A1-3B1633B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B03C-EA6A-454F-922E-CF2EB30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0210E-4FD4-4446-8329-27DCEDF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F3B2-F57B-40B3-A635-0AE235B0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72F3-E41C-45F8-AB84-68864F13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CA38-7E4D-4969-A93B-4840A0B1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782-2CA9-46F5-82EC-62044ECD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1AF4-1F85-4431-9494-21049E19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D141-CDB6-415F-A0A8-A6F3399C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C2602-B4F4-4032-86EA-5AA6510B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A876-A103-497A-9641-B406C74E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1D4D-B899-47BC-BAAB-F4E48390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5FED-5C8C-43F7-A6A1-A4A9409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9E72F-B626-4BF4-B6EB-BDBCFC9A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E339-786C-44A9-9ADE-76F7105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304FE-7888-4DC9-9194-C2784212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CE56-2864-4EC3-916B-A42330C1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232-7B2F-41A5-BF6C-ED4E703E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5431F-201B-4C46-91C5-0B84071D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A5582-1C6A-4510-968E-FAE53E21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8738D-35CB-48DE-8D71-E5A8B801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E6D25-659E-4217-8BAC-AE00E452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3292-5D2E-4DF8-AAE8-D5518715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0A51-0354-4229-A9E9-5221CC90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C2F0-4C3F-4009-B278-E066B73C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5763-F71B-45DD-AF58-3635CD9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D3D5-52EC-4257-A0F3-80CAB502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3EE4-6CC0-4715-8A2F-12DF982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524-1750-4AD0-9E12-F431B8F2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BA379-5853-42BE-88A2-B2BBE3A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72375-AA16-4942-86D7-D28C602B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DEED-B72D-4273-AC9B-D225582F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B865D-C189-4AFE-B0CA-37CF6DFF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3F2B4-0006-4F67-B595-F967714D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414B7-1C3F-4FD5-9DF1-6A45F020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D9E88-51DF-4EC8-B124-781A7B9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5FEB3-975D-4A76-87B1-9DC89D56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ABD8-A00D-4734-96EA-5EF39D44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912E8-A59F-4716-8806-152AE7B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918-AC12-45BF-A65A-02F6DB47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E8C2-9A9B-42D6-BB3C-861560F6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E007-1D74-47A6-9D56-4629C99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0E2A-B960-4A82-8F76-7E1F64D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FE56-B7E7-4CC2-9AC4-07430916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1CCE1-C038-402E-A20C-E956A413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61D-9FC8-40F7-AD82-C26FEFE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4FF2-8F10-4A59-8371-75AFD8DB0E2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CE7C-8BF1-47F4-8915-5F2457CDE8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00D-130D-477E-B930-ACDFF7ACBF1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F4AB-EB77-4289-B6FD-4ABFFF681CF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628-9F79-4A16-AC31-B9E3B175060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5A4-83E9-4B30-B5F5-6C3BC53BA5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599C-C13C-4E14-9C25-A2C1BDCDD4A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066D-4F21-44E1-AEA0-46405B300DD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1185-2EA0-4D35-A3ED-27F6AF3DFE9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6961-2D73-49D2-8F7A-B3FC67E94D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EDD0-CBE3-4FF3-ADDB-8D0E46B7311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E407-9B4F-4748-8AF4-2656033238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A5A6-5A5B-4710-8CA4-95DCEEB4861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701E-C22E-407A-A19A-A38A240390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4977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71c"/>
                </a:solidFill>
                <a:latin typeface="Corbel"/>
                <a:ea typeface="Times New Roman"/>
              </a:rPr>
              <a:t>Природа как ценность. Антропоцентризм и натуроцентризм</a:t>
            </a:r>
            <a:br>
              <a:rPr sz="48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8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егодня находит отражение реализация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деи гармонии человека с природой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подходить к природе с точки зрения интересов всего человечества, при этом имея в виду не только интересы нынешнего поколения, но и грядущих поколений людей; проявлять заботливость, бережливость и разумность по отношению ко всем природным ресурсам, сводить к минимуму вред, наносимый живым творениям природы и всем другим.    В этом   смысле   наглядным   примером    служит   стихотворение И.В. Гёте  «Нашел», которое приводит Э. Фромм в своей книг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6019920" y="762120"/>
            <a:ext cx="3657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Бродил я лесо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глуш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айти не чая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ни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Смотрю, цвет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ени ветв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глаз прекрас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сех звезд светл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ростер я ру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Но молвил 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«Ужель погиб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осужден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Я взял с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Питомца р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И в сад прохл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 себе отн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 тиши месте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му отв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ет он с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Как прежде цв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661440" y="3808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.В. Гёте  «Наш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://www.novoshakhtinsk.org/upload/iblock/10a/10a4974d8b842b367b9e9358c21dfb21.jpg"/>
          <p:cNvPicPr/>
          <p:nvPr/>
        </p:nvPicPr>
        <p:blipFill>
          <a:blip r:embed="rId1"/>
          <a:srcRect l="13341" t="0" r="6664" b="0"/>
          <a:stretch/>
        </p:blipFill>
        <p:spPr>
          <a:xfrm>
            <a:off x="4876920" y="1143000"/>
            <a:ext cx="1752480" cy="163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cs421726.userapi.com/v421726437/921/tLMX6chKNVU.jpg"/>
          <p:cNvPicPr/>
          <p:nvPr/>
        </p:nvPicPr>
        <p:blipFill>
          <a:blip r:embed="rId2"/>
          <a:srcRect l="14999" t="0" r="14999" b="0"/>
          <a:stretch/>
        </p:blipFill>
        <p:spPr>
          <a:xfrm>
            <a:off x="4876920" y="3886200"/>
            <a:ext cx="1842840" cy="17524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998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271c"/>
                </a:solidFill>
                <a:latin typeface="Corbe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2.gstatic.com/images?q=tbn:ANd9GcQOq1M_7HXqtR04VCdggHgJyw6iDnXxYc-znGclC18WYGkg49uV"/>
          <p:cNvPicPr/>
          <p:nvPr/>
        </p:nvPicPr>
        <p:blipFill>
          <a:blip r:embed="rId1"/>
          <a:stretch/>
        </p:blipFill>
        <p:spPr>
          <a:xfrm>
            <a:off x="2362320" y="10666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.imgur.com/27UVN.jpg"/>
          <p:cNvPicPr/>
          <p:nvPr/>
        </p:nvPicPr>
        <p:blipFill>
          <a:blip r:embed="rId2"/>
          <a:stretch/>
        </p:blipFill>
        <p:spPr>
          <a:xfrm>
            <a:off x="1905120" y="2895480"/>
            <a:ext cx="6095880" cy="352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rossahar.ru/netcat_files/userfiles/files/Rossahar/Images/ekologiya.jpg"/>
          <p:cNvPicPr/>
          <p:nvPr/>
        </p:nvPicPr>
        <p:blipFill>
          <a:blip r:embed="rId3"/>
          <a:stretch/>
        </p:blipFill>
        <p:spPr>
          <a:xfrm>
            <a:off x="5181480" y="10666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971440" y="1066680"/>
            <a:ext cx="6032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Природу легче всего подчинить, повинуясь е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c0654c"/>
                </a:solidFill>
                <a:latin typeface="Corbel"/>
              </a:rPr>
              <a:t>Фрэнсис Бэко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dayevents.ru/uploads/f911af3e4838_C6DC/2038843764_u89zW3VU_jean_paul02.jpg"/>
          <p:cNvPicPr/>
          <p:nvPr/>
        </p:nvPicPr>
        <p:blipFill>
          <a:blip r:embed="rId1"/>
          <a:stretch/>
        </p:blipFill>
        <p:spPr>
          <a:xfrm>
            <a:off x="1447920" y="31240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123720" y="6094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f271c"/>
                </a:solidFill>
                <a:latin typeface="Corbel"/>
              </a:rPr>
              <a:t>Основные направления в понимании сути взаимодействия человека и природы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3124080" y="533520"/>
            <a:ext cx="3657600" cy="13716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1295280" y="3429000"/>
            <a:ext cx="350532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"/>
          <p:cNvSpPr/>
          <p:nvPr/>
        </p:nvSpPr>
        <p:spPr>
          <a:xfrm>
            <a:off x="5257800" y="3429000"/>
            <a:ext cx="3657600" cy="1447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9"/>
          <p:cNvSpPr/>
          <p:nvPr/>
        </p:nvSpPr>
        <p:spPr>
          <a:xfrm flipH="1" flipV="1">
            <a:off x="2437920" y="1219320"/>
            <a:ext cx="68580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1"/>
          <p:cNvSpPr/>
          <p:nvPr/>
        </p:nvSpPr>
        <p:spPr>
          <a:xfrm>
            <a:off x="6781680" y="1219320"/>
            <a:ext cx="6098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 стрелкой 13"/>
          <p:cNvCxnSpPr/>
          <p:nvPr/>
        </p:nvCxnSpPr>
        <p:spPr>
          <a:xfrm flipH="1">
            <a:off x="243612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37" name="Прямая со стрелкой 15"/>
          <p:cNvCxnSpPr/>
          <p:nvPr/>
        </p:nvCxnSpPr>
        <p:spPr>
          <a:xfrm flipH="1">
            <a:off x="7389000" y="1220400"/>
            <a:ext cx="3960" cy="2057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8" name="Прямоугольник 16"/>
          <p:cNvSpPr/>
          <p:nvPr/>
        </p:nvSpPr>
        <p:spPr>
          <a:xfrm>
            <a:off x="1767600" y="39625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ТРОП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7"/>
          <p:cNvSpPr/>
          <p:nvPr/>
        </p:nvSpPr>
        <p:spPr>
          <a:xfrm>
            <a:off x="5885280" y="396252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НАТУР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Антроп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философии под антропоцентризмом понимается воззрение, согласно которому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человек есть центр и высшая цель мирозд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о присутствует в общественном сознании, начиная с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классической антич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и приобретает центральное место в идеологии </a:t>
            </a:r>
            <a:r>
              <a:rPr b="0" lang="ru-RU" sz="2400" spc="-1" strike="noStrike">
                <a:solidFill>
                  <a:srgbClr val="713204"/>
                </a:solidFill>
                <a:latin typeface="Corbel"/>
              </a:rPr>
              <a:t>Ново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" descr="C:\Users\с1фа\Desktop\Рисунок1.jpg"/>
          <p:cNvPicPr/>
          <p:nvPr/>
        </p:nvPicPr>
        <p:blipFill>
          <a:blip r:embed="rId1"/>
          <a:stretch/>
        </p:blipFill>
        <p:spPr>
          <a:xfrm>
            <a:off x="5867280" y="1828800"/>
            <a:ext cx="2895840" cy="369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ые особенности антропоцентризм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8960" y="1219320"/>
            <a:ext cx="7708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1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Высшую ценность представляет человек.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Лишь он самоценен, все остальное в природе ценно лишь постольку, поскольку оно может быть полезно человеку. Природа объявляется собственностью человече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2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Иерархическая картина мира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. На вершине пирамиды стоит человек, несколько ниже — вещи, созданные человеком и для человека, еще ниже располагаются различные объекты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3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Целью взаимодействия с природой яв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удовлетворение тех или иных прагматических потребностей, т. е. получение определенного «полезного продукта». Сущность его выражается словом «использование»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4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Характер взаимодействия с природой определяе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своего рода «прагматическим императивом»: правильно и разрешено то, что полезно человеку и человечеств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5. 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Этические нормы и правила действуют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только в мир людей и не распространяются на взаимодействие с миром природы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6</a:t>
            </a:r>
            <a:r>
              <a:rPr b="0" lang="ru-RU" sz="2000" spc="-1" strike="noStrike">
                <a:solidFill>
                  <a:srgbClr val="4f271c"/>
                </a:solidFill>
                <a:latin typeface="Corbel"/>
              </a:rPr>
              <a:t>. Дальнейшее развитие природы мыслится </a:t>
            </a:r>
            <a:r>
              <a:rPr b="0" lang="ru-RU" sz="2000" spc="-1" strike="noStrike">
                <a:solidFill>
                  <a:srgbClr val="713204"/>
                </a:solidFill>
                <a:latin typeface="Corbel"/>
              </a:rPr>
              <a:t>как процесс, который должен быть подчинен процессу развития челове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деи антропоцентризма в концепции христианской морали (Б. Калликотт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90720" y="121896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 Бог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царство священного и таинственного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олицетворяет природу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2.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оздан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о образу и подобию Божьему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и тем самым обособлен от всей остальной прир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3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едоставил 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управление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природным миром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4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. Бог заповедал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челове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размножаться и покорять природу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Богоподоби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является основанием для него считать себя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ысшей ценностью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 Поскольку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природные объекты лишены богоподоб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, они считаются морально несовершенными. В лучшем случае за ними признается инструментальная ценнос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5. Все сказанное было закреплено в аристотелетомистской телеологии: рациональная жизнь </a:t>
            </a:r>
            <a:r>
              <a:rPr b="0" lang="ru-RU" sz="1800" spc="-1" strike="noStrike">
                <a:solidFill>
                  <a:srgbClr val="713204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гарант существования природы; неразумные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ещи существуют 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лишь в качестве средства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для поддержания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наделенного разумом </a:t>
            </a: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человека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Рисунок 4" descr="49809486_1255364429_007.jpg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312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1" name="Рисунок 5" descr="1227624102Sotvorenie.jpg"/>
          <p:cNvPicPr/>
          <p:nvPr/>
        </p:nvPicPr>
        <p:blipFill>
          <a:blip r:embed="rId2"/>
          <a:srcRect l="0" t="141" r="622" b="0"/>
          <a:stretch/>
        </p:blipFill>
        <p:spPr>
          <a:xfrm>
            <a:off x="6248520" y="4572000"/>
            <a:ext cx="2590560" cy="20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Идеи К. Маркса и Ф. Энгельса в трудах «Капитал» и «Диалектика природы»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(на рубеже XIX и XX вв.)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4" name="Picture 2" descr="http://krotov.info/pictures/maps/12/01285ch.jpg"/>
          <p:cNvPicPr/>
          <p:nvPr/>
        </p:nvPicPr>
        <p:blipFill>
          <a:blip r:embed="rId1"/>
          <a:srcRect l="2881" t="2110" r="1966" b="9181"/>
          <a:stretch/>
        </p:blipFill>
        <p:spPr>
          <a:xfrm>
            <a:off x="5867280" y="1676520"/>
            <a:ext cx="3124440" cy="38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5" name="Прямоугольник 4"/>
          <p:cNvSpPr/>
          <p:nvPr/>
        </p:nvSpPr>
        <p:spPr>
          <a:xfrm>
            <a:off x="1219320" y="16002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С позиции диалектического материализма в этих работах подчеркивалось, что человек не в состоянии отменить или изменить законы природы — они объективны и действуют помимо его воли. Человек не может господствовать над природой, он принадлежит ей и находится внутри нее. Господство человека над природой есть не что иное, как деятельность, основанная на использовании ее законов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. К. Маркс писал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: «Человеческие проекты, не считающиеся с великими законами природы, приносят только несчасть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Натуроцентризм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66680" y="914040"/>
            <a:ext cx="56390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Направление выделяется довольно условно, тем не менее первые наброски такого подхода можно найти как в религиозных системах, например, в комплексе даостско-буддистского миропонимания, так и в философи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f271c"/>
                </a:solidFill>
                <a:latin typeface="Corbel"/>
              </a:rPr>
              <a:t>В идеях Франциска  Ассизского, сформулировавшего альтернативный взгляд на природу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вера в добродетель смирения не только отдельного человека, но и человечества в целом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он низводит человека с его трона монархического господства над каждой тварью и устанавливает демократию между всеми формами жизни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утверждается духовная самоценность всего, что есть в природе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13204"/>
                </a:solidFill>
                <a:latin typeface="Corbel"/>
              </a:rPr>
              <a:t>человек должен признать эту самоценность и не вмешиваться своей деятельностью в естественный ход событий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2" descr="RLFOA"/>
          <p:cNvPicPr/>
          <p:nvPr/>
        </p:nvPicPr>
        <p:blipFill>
          <a:blip r:embed="rId1"/>
          <a:stretch/>
        </p:blipFill>
        <p:spPr>
          <a:xfrm>
            <a:off x="6858000" y="990720"/>
            <a:ext cx="215424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319531.userapi.com/v319531659/3d50/8FlFfCrThzQ.jpg"/>
          <p:cNvPicPr/>
          <p:nvPr/>
        </p:nvPicPr>
        <p:blipFill>
          <a:blip r:embed="rId2"/>
          <a:stretch/>
        </p:blipFill>
        <p:spPr>
          <a:xfrm>
            <a:off x="6781680" y="4114800"/>
            <a:ext cx="2178000" cy="2438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6"/>
          <p:cNvSpPr/>
          <p:nvPr/>
        </p:nvSpPr>
        <p:spPr>
          <a:xfrm>
            <a:off x="6705720" y="37339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300" spc="-1" strike="noStrike">
                <a:solidFill>
                  <a:srgbClr val="713204"/>
                </a:solidFill>
                <a:latin typeface="Corbel"/>
              </a:rPr>
              <a:t>(5 июля 1182-3 октября 122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360" y="12193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При всей полярности отмеченные подходы имеют между собой общие черты. В них природа рассматривается как нечто внешнее по отношению к человеку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В логике подобной дихотомии развивается анализ двух основных способов существования человека: обладания и бытия, осуществляемый Э. Фроммом в книге «Иметь или быть».  Э. Фромм приводит два стихотворения. Первое принадлежит перу английского поэта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IX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Теннисона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озросший средь руин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ебя из трещин Древних извлека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предо мною весь </a:t>
            </a:r>
            <a:r>
              <a:rPr b="0" lang="ru-RU" sz="1800" spc="-1" strike="noStrike">
                <a:solidFill>
                  <a:srgbClr val="4f271c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вот корень, стебелек, здесь, на моей ладон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ы мал, цветок, но если бы я понял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 есть твой корень, стебелек, и в чем вся суть твоя, цветок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Тогда я Бога суть и человека суть познал б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 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Автором второго стихотворения является японский поэт </a:t>
            </a:r>
            <a:r>
              <a:rPr b="0" lang="en-US" sz="18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в. Басе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Внимательно вглядись!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ы «пастушьей сумки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Увидишь под плетнем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121932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Связь антропоцентризма и натуроцент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26:09Z</dcterms:created>
  <dc:creator>с1фа</dc:creator>
  <dc:description/>
  <dc:language>en-US</dc:language>
  <cp:lastModifiedBy>LEGION</cp:lastModifiedBy>
  <dcterms:modified xsi:type="dcterms:W3CDTF">2014-11-11T08:59:10Z</dcterms:modified>
  <cp:revision>21</cp:revision>
  <dc:subject/>
  <dc:title>Слайд 1</dc:title>
</cp:coreProperties>
</file>