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7616-3A74-411A-B6DE-1001DD0DE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D2B1-09AF-450A-B00C-00EA490409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науки и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и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на Алекс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озникновен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-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яя Гре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 - первоначало неразложимые части 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же до первоначал, то они еще больше име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редств для того, чтоб из них возникали различные вещи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 ни одной из вещей, доступных для нашего взора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б она из начал состояла вполне однородных..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воначала вещей уносятся собственным весо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ли толчками других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природе вещ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т Лукреций Кар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28DF-99FD-461A-80EE-CA0586CCE3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ай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и Ин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рево, огонь, земля,  металл,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000 вещей, в том числе -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5EBB-AFD1-4BA2-9BAB-DB63C42201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з Стагиры (384-322 до н. э.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кси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стинного смешивания (в отличие от механическог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66D-76A0-41BD-9D1C-7236ECF598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руктур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8352-C46F-46BB-AC44-49E68525ED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ткрытие явления изом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"изомерия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греческого ισοζ μερον) – равной 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BD91-1018-4C31-A5B0-2CDA7DED65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A7F9-C956-4B5A-B763-4D0F833171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он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50 – 1960 гг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952F-1212-4560-90E0-B24D4D54BF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B73D-BDFC-4EEF-A56D-B1C0D4FFD2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алхимический период (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– 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становления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-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оличественных законов (атомно-молекулярной теории): 1789 – 1860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лассической химии: 1860 г. – конец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период: с начала XX века по настоящее врем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FA96-165F-4CCD-A0F5-82DCE636F4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лександрийская алхи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8900-F47E-4714-A627-475355785A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ACDB-5BDB-491C-9BE8-A0CCB70A0C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ександрийская Академ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на А.Македонским в 332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943-C1FB-420B-BC12-D02E0111A0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первых представителей александрийской ал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зика и мис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трансмутации мет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ывалась на основе теории четырех элементов - стих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A8F3-0AA1-4EAB-BCDC-4C97B6BD6E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и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цилийский астроном Юлиус Матерн Фирмик (336 г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D268-F113-45F2-8C15-BDDA6B306F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зумрудная скрижаль» Герм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его отец, а Луна его мать. Ветер выносил его, а земля выпестовал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9EF3-EF74-44D5-B423-F239D2AD54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алхимические 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086A-2B09-489A-816A-11B159FB39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я греко-римских алхим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очистки золота купелированием – нагреванием руды со свинцом и селитр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нсмутации мет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F6DD-B06A-4340-A5D6-DFE5BD40F2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метал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ера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горюче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A112-A94F-4457-8248-616F4C6092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бу Бакр Мухаммед ибн Закария Ар-Раз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65 г. – 92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 = неделимые элементы + пустое простр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– вечные, неизменные, обладают определенным разме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, составляющие металлы: ртуть, сера, 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C40-1BB0-4585-9666-4CAC732E50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нига тайн» Ар-Ра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материал алхимии делится на три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ознание ве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ознание прибор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знание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 класса веще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стые (минераль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с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живо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7DA0-FA6B-4B49-A754-6897ADB097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F1A4-70E8-4212-94FD-2ACBD4A7CD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современная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7566-F95A-454F-9BD6-B5AC3CD2BC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европейской алхим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Приготовление Эликсира или Философского Камня (Lapis Philosoiphoru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 Создание гомункул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 Приготовление алкагеста – универсального раствор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 Палигенез, или восстановление растений из пеп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 Извлечение квинтэсс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 Приготовление жидкого золота (aurum potabile), совершеннейшего средства для из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80A-3CB5-4894-9795-B6096FE061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Великий (1193-1280) «Книга об Алхимии», «Малый Алхимический св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 Бэкон (1214-1292) «Зеркало Ал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монд Луллий (1235-1313) – философский ка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289D-EEA9-4E8E-AA5F-2EF7672AC6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 философского камня. Раймунд Луллий, XIII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FF8-A706-4013-AF2A-47E5768909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алхимическ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значительного запаса знаний о вещест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эмпирического (опытного) подхода к изучению свойст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3E62-7C8A-4C64-9EAC-4DE42FB90C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ая химия и ятро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Здоровый организм – равновесие 3 принципов – Ртуть, Сера, С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0740-A270-4B69-BBDD-4795744393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наука и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389-A13B-40B3-9623-E1911137AB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- теория самоорганизации нелинейных динамических с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6CF2-C361-4670-BC52-BB4766762F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синергетикии – сложны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FFF-7379-471C-A774-66143F86E1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идеи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рган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е сис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B91-D1F9-4066-8C4D-8A193B89B3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минирование роли целого над частны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ое больше суммы свои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выделяется из среды своими качествами. Системы бывают открытые и закрыт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338C-A71A-43E2-B163-DCE001CE93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B69-09DA-4350-B8B4-C18C711D3F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96E-F692-46E3-A904-5EEC463EA3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обратная связь призвана создавать устойчивость в систем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A51B-8DD1-45B0-BC01-C98014B298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F587-05A7-49AF-8B7C-7BCE74B3AE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Г.Хакена, профессора Института синергетики и теоретической физики в Штутгар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93EB-7E4F-4EE2-AFA0-E55DF05BF1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36BD-94EF-4D47-B96E-6420281F08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хими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вещество с заданны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пособы управления свойствам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еоретическа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причин происхождения и обусловленности свойств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B777-E2B7-4073-A8C2-261B6E8681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организаци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Субатомные част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Атомы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Молекулы химических веществ как унитарные (единые)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 Микро- и макроскопические системы реагирующих молеку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 Мегасистемы (Солнечная система, Галактик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12B7-4BB8-446B-897A-4CFE2D33CD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Элементарный соста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а молекулы вещества;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Организац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704D-8DF8-479D-ACE2-30176A5063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Учение о соста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ная хим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Учение о хим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44F-8D0B-44D3-BA9A-AFD64EA53B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чение о сост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учения о составе является вещество как совокупность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48F-3889-4170-AD92-2121D57FFB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2E0-EEE0-468D-B772-A4D09A25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EDB-9B02-4BED-98E5-0A4F1E4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297-9109-44C0-B2D6-749B3326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45C-5A27-48F1-9631-5112EBE5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39E6-DB01-46BF-BDD5-0DC298F8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E47-69D7-499A-A461-5DC2D025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9C33-FB14-4C17-AF09-1732DC35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7C57-10D2-45BE-93E6-D4E7902E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F10D-4B63-4F2D-AACD-3293AD63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663F-8A40-44F5-B9DC-BF5E8FB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5B6C-ECAC-4E3D-B28B-81BF56E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86D-79FD-497E-9B0F-330CEDC7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7DD5-98E3-4CB0-AB5E-CC6E079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8D89-9292-461D-A127-B3DEA46A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42C3-6F07-4BF7-BA1A-8B19494E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506-594A-4F8F-B033-D282BE8B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F2B9-EBB7-43F3-9CCB-0E0C6329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DD8-00EF-4F4F-8363-867AA2FA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614-8A1D-45E3-9165-B91ED093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1DF-F194-400A-B701-D3DA6FFB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C1F-51B8-498E-B941-AB4A608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3EB-3DF0-4E40-A986-A88D2C5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0EE-DFDE-4970-A509-421BA13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9B3-2A57-48F0-AB76-7370BB9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B020-A61F-47F5-8CEA-431254CE1B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46FE-3C6B-4D3A-810C-E97262BDBA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науки и тех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и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а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ериод возникновения 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I-V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евняя Гре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 - первоначало неразложимые части 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 же до первоначал, то они еще больше имеют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едств для того, чтоб из них возникали различные вещи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т ни одной из вещей, доступных для нашего взора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б она из начал состояла вполне однородных..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оначала вещей уносятся собственным весом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ли толчками других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 природе веще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ит Лукреций Кар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итайская философ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н и И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ево, огонь, земля,  металл,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0 000 вещей, в том числе -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424400"/>
          </a:xfrm>
          <a:prstGeom prst="rect">
            <a:avLst/>
          </a:prstGeom>
          <a:ln w="0">
            <a:noFill/>
          </a:ln>
        </p:spPr>
      </p:pic>
      <p:sp>
        <p:nvSpPr>
          <p:cNvPr id="191" name="Line 9"/>
          <p:cNvSpPr/>
          <p:nvPr/>
        </p:nvSpPr>
        <p:spPr>
          <a:xfrm>
            <a:off x="1332000" y="314172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31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из Стагиры (384-322 до н. э.)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кси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тинного смешивания (в отличие от механического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Элементы Аристотеля: квадрат противоположностей"/>
          <p:cNvPicPr/>
          <p:nvPr/>
        </p:nvPicPr>
        <p:blipFill>
          <a:blip r:embed="rId2"/>
          <a:stretch/>
        </p:blipFill>
        <p:spPr>
          <a:xfrm>
            <a:off x="981000" y="977760"/>
            <a:ext cx="4454640" cy="2581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http://www.tonnel.ru/gzl/249518943_tonnel.gif"/>
          <p:cNvPicPr/>
          <p:nvPr/>
        </p:nvPicPr>
        <p:blipFill>
          <a:blip r:embed="rId3"/>
          <a:stretch/>
        </p:blipFill>
        <p:spPr>
          <a:xfrm>
            <a:off x="6084720" y="836640"/>
            <a:ext cx="2160720" cy="25891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2. Структур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в. – открытие явления изомер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изомерия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т греческого ισοζ μερον) – равной ме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волюцион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50 – 1960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История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тапы развития хим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алхимический период (д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н.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химический период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– 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становления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-XV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оличественных законов (атомно-молекулярной теории): 1789 – 1860 г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лассической химии: 1860 г. – конец XIX 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й период: с начала XX века по настоящее врем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лхимический пери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ийская алхим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вропей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http://oko-project.ru/index/Azoth.jpg"/>
          <p:cNvPicPr/>
          <p:nvPr/>
        </p:nvPicPr>
        <p:blipFill>
          <a:blip r:embed="rId1"/>
          <a:stretch/>
        </p:blipFill>
        <p:spPr>
          <a:xfrm>
            <a:off x="4572000" y="170028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9440" y="277920"/>
            <a:ext cx="8217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Александрийская Академия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снована А.Македонским в 332 г. до н.э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первых представителей александрийской ал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Физика и мистик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ована идея трансмутации мет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сновывалась на основе теории четырех элементов - стих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Химия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цилийский астроном Юлиус Матерн Фирмик (336 г.н.э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Изумрудная скрижаль» Герме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V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его отец, а Луна его мать. Ветер выносил его, а земля выпестовала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жнейшие алхимические зна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7" name="Picture 12" descr="Moon_symbol_crescent-1"/>
          <p:cNvPicPr/>
          <p:nvPr/>
        </p:nvPicPr>
        <p:blipFill>
          <a:blip r:embed="rId1"/>
          <a:stretch/>
        </p:blipFill>
        <p:spPr>
          <a:xfrm>
            <a:off x="684360" y="1268280"/>
            <a:ext cx="38088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ercury_symbol-1"/>
          <p:cNvPicPr/>
          <p:nvPr/>
        </p:nvPicPr>
        <p:blipFill>
          <a:blip r:embed="rId2"/>
          <a:stretch/>
        </p:blipFill>
        <p:spPr>
          <a:xfrm>
            <a:off x="684360" y="2136600"/>
            <a:ext cx="380880" cy="570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Venus_symbol-1"/>
          <p:cNvPicPr/>
          <p:nvPr/>
        </p:nvPicPr>
        <p:blipFill>
          <a:blip r:embed="rId3"/>
          <a:stretch/>
        </p:blipFill>
        <p:spPr>
          <a:xfrm>
            <a:off x="684360" y="2921040"/>
            <a:ext cx="380880" cy="58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1332000" y="1413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ебро, Луна, понеде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22" descr="Sun_symbol-1"/>
          <p:cNvPicPr/>
          <p:nvPr/>
        </p:nvPicPr>
        <p:blipFill>
          <a:blip r:embed="rId4"/>
          <a:stretch/>
        </p:blipFill>
        <p:spPr>
          <a:xfrm>
            <a:off x="684360" y="3646440"/>
            <a:ext cx="380880" cy="57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Mars_symbol-1"/>
          <p:cNvPicPr/>
          <p:nvPr/>
        </p:nvPicPr>
        <p:blipFill>
          <a:blip r:embed="rId5"/>
          <a:stretch/>
        </p:blipFill>
        <p:spPr>
          <a:xfrm>
            <a:off x="684360" y="4292640"/>
            <a:ext cx="3808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Jupiter_symbol-1"/>
          <p:cNvPicPr/>
          <p:nvPr/>
        </p:nvPicPr>
        <p:blipFill>
          <a:blip r:embed="rId6"/>
          <a:stretch/>
        </p:blipFill>
        <p:spPr>
          <a:xfrm>
            <a:off x="684360" y="4797360"/>
            <a:ext cx="380880" cy="64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7" descr="Saturn_symbol-1"/>
          <p:cNvPicPr/>
          <p:nvPr/>
        </p:nvPicPr>
        <p:blipFill>
          <a:blip r:embed="rId7"/>
          <a:stretch/>
        </p:blipFill>
        <p:spPr>
          <a:xfrm>
            <a:off x="684360" y="5300640"/>
            <a:ext cx="38088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Alchemy_transmutation_symbol-2"/>
          <p:cNvPicPr/>
          <p:nvPr/>
        </p:nvPicPr>
        <p:blipFill>
          <a:blip r:embed="rId8"/>
          <a:stretch/>
        </p:blipFill>
        <p:spPr>
          <a:xfrm>
            <a:off x="684360" y="5877000"/>
            <a:ext cx="341280" cy="525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9"/>
          <p:cNvSpPr/>
          <p:nvPr/>
        </p:nvSpPr>
        <p:spPr>
          <a:xfrm>
            <a:off x="1258200" y="227664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туть, Меркурий, среда, философская рту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260360" y="29973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ь, Венера, пятн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187280" y="3716280"/>
            <a:ext cx="33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, Солнце, воскресен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332720" y="436572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о, Марс, вто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60000" y="49417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лово, Юпитер, четве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240560" y="53211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нец, Сатурн, суб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1095480" y="59691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е делание, трансму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стижения греко-римских алхими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очистки золота купелированием – нагреванием руды со свинцом и селитр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улирована иде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ансмутации мет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рабская ал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метал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ера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горюче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4" descr="Merc_Sulf"/>
          <p:cNvPicPr/>
          <p:nvPr/>
        </p:nvPicPr>
        <p:blipFill>
          <a:blip r:embed="rId1"/>
          <a:stretch/>
        </p:blipFill>
        <p:spPr>
          <a:xfrm>
            <a:off x="1476360" y="5300640"/>
            <a:ext cx="6191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Абу Бакр Мухаммед ибн Закария Ар-Раз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865 г. – 925 г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 = неделимые элементы + пустое простран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 – вечные, неизменные, обладают определенным раз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, составляющие металлы: ртуть, сера, с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3467160" cy="39942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нига тайн» Ар-Раз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материал алхимии делится на три раздел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Познание вещест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Познание прибор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ние опер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 класса вещест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истые (минеральные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Растите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жив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птуальные системы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современная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европейской алхим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  Приготовление Эликсира или Философского Камня (Lapis Philosoiphoru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  Создание гомункулу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  Приготовление алкагеста – универсального раствор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  Палигенез, или восстановление растений из пеп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  Извлечение квинтэссен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  Приготовление жидкого золота (aurum potabile), совершеннейшего средства для изле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95640" y="2707920"/>
            <a:ext cx="28861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6" descr="http://luxaur.narod.ru/biblio/2/tr/atal21.gif"/>
          <p:cNvPicPr/>
          <p:nvPr/>
        </p:nvPicPr>
        <p:blipFill>
          <a:blip r:embed="rId1"/>
          <a:stretch/>
        </p:blipFill>
        <p:spPr>
          <a:xfrm>
            <a:off x="5796000" y="2060640"/>
            <a:ext cx="2981160" cy="27432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вропейская алхим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ьберт Великий (1193-1280) «Книга об Алхимии», «Малый Алхимический св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жер Бэкон (1214-1292) «Зеркало Алхими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ймонд Луллий (1235-1313) – философский кам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 философского камня. Раймунд Луллий, XIII 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алхимического период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копление значительного запаса знаний о ве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эмпирического (опытного) подхода к изучению свойст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хническая химия и ятрохим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Здоровый организм – равновесие 3 принципов – Ртуть, Сера, С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наука и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7" descr="Изображение “http://vladimir.socio.msu.ru/3_SYNERGY/SYNERGY_01/03_nonlinear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2843280" y="3933720"/>
            <a:ext cx="3816360" cy="208764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2920" y="3500280"/>
            <a:ext cx="424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- теория самоорганизации нелинейных динамических с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7" descr="Изображение “http://vladimir.socio.msu.ru/3_SYNERGY/SYNERGY_01/01_galaxy-001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391680" y="2076480"/>
            <a:ext cx="88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требление тер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Хакен «Кооперативные явления в сильно неравновесных и нефизическ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х 1973г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синергетикии – сложные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ючевые идеи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организац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ые систем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ция систем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нирование роли целого над част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е больше суммы свои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выделяется из среды своими качествами. Системы бывают открытые и закрыт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онцептуальные системы хим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 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ая обратная связь призвана создавать устойчивость в систем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е школы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Г.Хакена, профессора Института синергетики и теоретической физики в Штутг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 химии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ь вещество с заданными свойств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актическ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пособы управления свойствами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оретическая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ричин происхождения и обусловленности свойств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ровни организации 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Субатомные час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Атомы химических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Молекулы химических веществ как унитарные (единые)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 Микро- и макроскопические системы реагирующих молеку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 Мегасистемы (Солнечная система, Галактика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Элементарный соста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а молекулы вещества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Организация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туальные сист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Учение о соста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ная хим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Учение о химическом проце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.Учение о состав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учения о составе является вещество как совокупность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24:16Z</dcterms:created>
  <dc:creator>Inspiron</dc:creator>
  <dc:description/>
  <dc:language>en-US</dc:language>
  <cp:lastModifiedBy>LEGION</cp:lastModifiedBy>
  <dcterms:modified xsi:type="dcterms:W3CDTF">2015-05-01T11:20:50Z</dcterms:modified>
  <cp:revision>50</cp:revision>
  <dc:subject/>
  <dc:title>Философские проблемы науки и техники</dc:title>
</cp:coreProperties>
</file>