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0ED0-933F-4B3A-9498-0580A73998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28904.html" TargetMode="External"/><Relationship Id="rId2" Type="http://schemas.openxmlformats.org/officeDocument/2006/relationships/hyperlink" Target="http://www.clker.com/clipart-red-arrows-set-right.html" TargetMode="External"/><Relationship Id="rId3" Type="http://schemas.openxmlformats.org/officeDocument/2006/relationships/hyperlink" Target="http://www.clker.com/clipart-3259.html" TargetMode="External"/><Relationship Id="rId4" Type="http://schemas.openxmlformats.org/officeDocument/2006/relationships/hyperlink" Target="http://www.clker.com/clipart-3190.html" TargetMode="External"/><Relationship Id="rId5" Type="http://schemas.openxmlformats.org/officeDocument/2006/relationships/hyperlink" Target="http://www.clker.com/clipart-chemistry-explosion.html" TargetMode="External"/><Relationship Id="rId6" Type="http://schemas.openxmlformats.org/officeDocument/2006/relationships/hyperlink" Target="http://www.clker.com/clipart-1970.html" TargetMode="External"/><Relationship Id="rId7" Type="http://schemas.openxmlformats.org/officeDocument/2006/relationships/hyperlink" Target="http://www.clker.com/clipart-orange-dress.html" TargetMode="External"/><Relationship Id="rId8" Type="http://schemas.openxmlformats.org/officeDocument/2006/relationships/hyperlink" Target="http://www.clker.com/clipart-40425.html" TargetMode="External"/><Relationship Id="rId9" Type="http://schemas.openxmlformats.org/officeDocument/2006/relationships/hyperlink" Target="http://www.clker.com/clipart-men-suit-tie.html" TargetMode="External"/><Relationship Id="rId10" Type="http://schemas.openxmlformats.org/officeDocument/2006/relationships/hyperlink" Target="http://www.clker.com/clipart-gown.html" TargetMode="External"/><Relationship Id="rId11" Type="http://schemas.openxmlformats.org/officeDocument/2006/relationships/hyperlink" Target="http://www.clker.com/clipart-autobusrouge.html" TargetMode="External"/><Relationship Id="rId12" Type="http://schemas.openxmlformats.org/officeDocument/2006/relationships/hyperlink" Target="http://www.clker.com/clipart-12379.html" TargetMode="External"/><Relationship Id="rId13" Type="http://schemas.openxmlformats.org/officeDocument/2006/relationships/hyperlink" Target="http://www.clker.com/clipart-3924.html" TargetMode="External"/><Relationship Id="rId14" Type="http://schemas.openxmlformats.org/officeDocument/2006/relationships/slide" Target="../slides/slide20.xml"/><Relationship Id="rId15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мет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1C03-B188-46E6-B811-77AF304A73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2890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штатив с пробир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red-arrows-set-right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правляющая кноп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325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ол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3190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лаборатор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chemistry-explosion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ий экспери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1970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пос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http://www.clker.com/clipart-orange-dress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оранжевое плат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/>
              </a:rPr>
              <a:t>http://www.clker.com/clipart-40425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джин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9"/>
              </a:rPr>
              <a:t>http://www.clker.com/clipart-men-suit-tie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мужской костю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/>
              </a:rPr>
              <a:t>http://www.clker.com/clipart-gown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расное плат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/>
              </a:rPr>
              <a:t>http://www.clker.com/clipart-autobusrouge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расный автобу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/>
              </a:rPr>
              <a:t>http://www.clker.com/clipart-1237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негови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3"/>
              </a:rPr>
              <a:t>http://www.clker.com/clipart-392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убик ль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107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горение кост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838D-E23E-49BB-A7C5-97A6F0CDC2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773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фабр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261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индустриальные з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39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загрязнение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362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мо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2066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sdagh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приготовление пи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7174-BD52-41C4-B363-EDCBF54CC7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BD1-D5DC-43B3-A076-52E5B32B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0E63-64D9-4B02-8508-856EB96D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538-1E43-4905-9F87-1AB143D7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3FD2-54B6-4C19-8BD1-65C07E6C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A5C-92B2-42F8-8F28-EBF58E44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681-8170-49CA-8C7A-A1C38C04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A12-91AF-4243-B8D2-F98F83DC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90D-C9B0-4491-A7DA-D5507DC2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602-DF1B-47A1-B18A-B7ABD146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7CF-F6DE-49F3-AB70-20DD304D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1C6-0982-4C7B-82E2-95772CE2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0CA-DCFE-4BE0-B9EC-61426721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C873-6982-4C7E-8E37-933720B67AE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D09C-45E3-4D04-847B-454EF3A045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slide2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" Target="slide11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slide" Target="slide12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" Target="slide13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5.png"/><Relationship Id="rId4" Type="http://schemas.openxmlformats.org/officeDocument/2006/relationships/slide" Target="slide14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5.png"/><Relationship Id="rId4" Type="http://schemas.openxmlformats.org/officeDocument/2006/relationships/slide" Target="slide15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5.png"/><Relationship Id="rId8" Type="http://schemas.openxmlformats.org/officeDocument/2006/relationships/slide" Target="slide16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5.png"/><Relationship Id="rId6" Type="http://schemas.openxmlformats.org/officeDocument/2006/relationships/slide" Target="slide17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5.png"/><Relationship Id="rId4" Type="http://schemas.openxmlformats.org/officeDocument/2006/relationships/slide" Target="slide18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5.png"/><Relationship Id="rId4" Type="http://schemas.openxmlformats.org/officeDocument/2006/relationships/slide" Target="slide19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6.png"/><Relationship Id="rId3" Type="http://schemas.openxmlformats.org/officeDocument/2006/relationships/image" Target="../media/image78.png"/><Relationship Id="rId4" Type="http://schemas.openxmlformats.org/officeDocument/2006/relationships/image" Target="../media/image25.png"/><Relationship Id="rId5" Type="http://schemas.openxmlformats.org/officeDocument/2006/relationships/image" Target="../media/image79.png"/><Relationship Id="rId6" Type="http://schemas.openxmlformats.org/officeDocument/2006/relationships/image" Target="../media/image5.png"/><Relationship Id="rId7" Type="http://schemas.openxmlformats.org/officeDocument/2006/relationships/slide" Target="slide20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28904.html" TargetMode="External"/><Relationship Id="rId2" Type="http://schemas.openxmlformats.org/officeDocument/2006/relationships/hyperlink" Target="http://www.clker.com/clipart-red-arrows-set-right.html" TargetMode="External"/><Relationship Id="rId3" Type="http://schemas.openxmlformats.org/officeDocument/2006/relationships/hyperlink" Target="http://www.clker.com/clipart-3259.html" TargetMode="External"/><Relationship Id="rId4" Type="http://schemas.openxmlformats.org/officeDocument/2006/relationships/hyperlink" Target="http://www.clker.com/clipart-3190.html" TargetMode="External"/><Relationship Id="rId5" Type="http://schemas.openxmlformats.org/officeDocument/2006/relationships/hyperlink" Target="http://www.clker.com/clipart-chemistry-explosion.html" TargetMode="External"/><Relationship Id="rId6" Type="http://schemas.openxmlformats.org/officeDocument/2006/relationships/hyperlink" Target="http://www.clker.com/clipart-1970.html" TargetMode="External"/><Relationship Id="rId7" Type="http://schemas.openxmlformats.org/officeDocument/2006/relationships/hyperlink" Target="http://www.clker.com/clipart-orange-dress.html" TargetMode="External"/><Relationship Id="rId8" Type="http://schemas.openxmlformats.org/officeDocument/2006/relationships/hyperlink" Target="http://www.clker.com/clipart-40425.html" TargetMode="External"/><Relationship Id="rId9" Type="http://schemas.openxmlformats.org/officeDocument/2006/relationships/hyperlink" Target="http://www.clker.com/clipart-men-suit-tie.html" TargetMode="External"/><Relationship Id="rId10" Type="http://schemas.openxmlformats.org/officeDocument/2006/relationships/hyperlink" Target="http://www.clker.com/clipart-gown.html" TargetMode="External"/><Relationship Id="rId11" Type="http://schemas.openxmlformats.org/officeDocument/2006/relationships/hyperlink" Target="http://www.clker.com/clipart-autobusrouge.html" TargetMode="External"/><Relationship Id="rId12" Type="http://schemas.openxmlformats.org/officeDocument/2006/relationships/hyperlink" Target="http://www.clker.com/clipart-12379.html" TargetMode="External"/><Relationship Id="rId13" Type="http://schemas.openxmlformats.org/officeDocument/2006/relationships/hyperlink" Target="http://www.clker.com/clipart-3924.html" TargetMode="External"/><Relationship Id="rId14" Type="http://schemas.openxmlformats.org/officeDocument/2006/relationships/hyperlink" Target="http://www.clker.com/clipart-11074.html" TargetMode="External"/><Relationship Id="rId15" Type="http://schemas.openxmlformats.org/officeDocument/2006/relationships/slide" Target="slide21.xml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773.html" TargetMode="External"/><Relationship Id="rId2" Type="http://schemas.openxmlformats.org/officeDocument/2006/relationships/hyperlink" Target="http://www.clker.com/clipart-16261.html" TargetMode="External"/><Relationship Id="rId3" Type="http://schemas.openxmlformats.org/officeDocument/2006/relationships/hyperlink" Target="http://www.clker.com/clipart-16399.html" TargetMode="External"/><Relationship Id="rId4" Type="http://schemas.openxmlformats.org/officeDocument/2006/relationships/hyperlink" Target="http://www.clker.com/clipart-16362.html" TargetMode="External"/><Relationship Id="rId5" Type="http://schemas.openxmlformats.org/officeDocument/2006/relationships/hyperlink" Target="http://www.clker.com/clipart-2066.html" TargetMode="External"/><Relationship Id="rId6" Type="http://schemas.openxmlformats.org/officeDocument/2006/relationships/hyperlink" Target="http://www.clker.com/clipart-sdagh.html" TargetMode="External"/><Relationship Id="rId7" Type="http://schemas.openxmlformats.org/officeDocument/2006/relationships/slide" Target="slide1.xml"/><Relationship Id="rId8" Type="http://schemas.openxmlformats.org/officeDocument/2006/relationships/image" Target="../media/image8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5.png"/><Relationship Id="rId7" Type="http://schemas.openxmlformats.org/officeDocument/2006/relationships/slide" Target="slide4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6.xml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5.png"/><Relationship Id="rId12" Type="http://schemas.openxmlformats.org/officeDocument/2006/relationships/slide" Target="slide7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5.png"/><Relationship Id="rId12" Type="http://schemas.openxmlformats.org/officeDocument/2006/relationships/slide" Target="slide8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5.png"/><Relationship Id="rId12" Type="http://schemas.openxmlformats.org/officeDocument/2006/relationships/slide" Target="slide9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.png"/><Relationship Id="rId8" Type="http://schemas.openxmlformats.org/officeDocument/2006/relationships/slide" Target="slide10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21"/>
          <p:cNvSpPr/>
          <p:nvPr/>
        </p:nvSpPr>
        <p:spPr>
          <a:xfrm>
            <a:off x="357120" y="138240"/>
            <a:ext cx="8429760" cy="632592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hemistry Flask Clip Art"/>
          <p:cNvPicPr/>
          <p:nvPr/>
        </p:nvPicPr>
        <p:blipFill>
          <a:blip r:embed="rId1"/>
          <a:stretch/>
        </p:blipFill>
        <p:spPr>
          <a:xfrm>
            <a:off x="5500800" y="2751120"/>
            <a:ext cx="2282760" cy="275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hemical Lab Flasks Clip Art"/>
          <p:cNvPicPr/>
          <p:nvPr/>
        </p:nvPicPr>
        <p:blipFill>
          <a:blip r:embed="rId2"/>
          <a:stretch/>
        </p:blipFill>
        <p:spPr>
          <a:xfrm>
            <a:off x="857160" y="4676760"/>
            <a:ext cx="1528920" cy="1558800"/>
          </a:xfrm>
          <a:prstGeom prst="rect">
            <a:avLst/>
          </a:prstGeom>
          <a:ln w="0">
            <a:noFill/>
          </a:ln>
        </p:spPr>
      </p:pic>
      <p:grpSp>
        <p:nvGrpSpPr>
          <p:cNvPr id="51" name="Freeform 4"/>
          <p:cNvGrpSpPr/>
          <p:nvPr/>
        </p:nvGrpSpPr>
        <p:grpSpPr>
          <a:xfrm>
            <a:off x="4938120" y="2544480"/>
            <a:ext cx="3028680" cy="3171240"/>
            <a:chOff x="4938120" y="2544480"/>
            <a:chExt cx="3028680" cy="3171240"/>
          </a:xfrm>
        </p:grpSpPr>
        <p:pic>
          <p:nvPicPr>
            <p:cNvPr id="52" name="Freeform 4" descr=""/>
            <p:cNvPicPr/>
            <p:nvPr/>
          </p:nvPicPr>
          <p:blipFill>
            <a:blip r:embed="rId3"/>
            <a:stretch/>
          </p:blipFill>
          <p:spPr>
            <a:xfrm>
              <a:off x="5132520" y="2820960"/>
              <a:ext cx="2811240" cy="267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rot="16781400">
              <a:off x="5065560" y="2830320"/>
              <a:ext cx="2773440" cy="25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AutoShape 6"/>
          <p:cNvSpPr/>
          <p:nvPr/>
        </p:nvSpPr>
        <p:spPr>
          <a:xfrm rot="5433000">
            <a:off x="3537000" y="311580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 rot="5433000">
            <a:off x="2825640" y="201744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 rot="5433000">
            <a:off x="2901600" y="4263840"/>
            <a:ext cx="1527480" cy="1387440"/>
          </a:xfrm>
          <a:prstGeom prst="hexagon">
            <a:avLst>
              <a:gd name="adj" fmla="val 26493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 rot="5433000">
            <a:off x="1511280" y="207756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 rot="5433000">
            <a:off x="866880" y="322236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4807440" y="1787400"/>
            <a:ext cx="35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ука о прекрас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19"/>
          <p:cNvGrpSpPr/>
          <p:nvPr/>
        </p:nvGrpSpPr>
        <p:grpSpPr>
          <a:xfrm>
            <a:off x="5362560" y="344520"/>
            <a:ext cx="1747800" cy="2376360"/>
            <a:chOff x="5362560" y="344520"/>
            <a:chExt cx="1747800" cy="2376360"/>
          </a:xfrm>
        </p:grpSpPr>
        <p:sp>
          <p:nvSpPr>
            <p:cNvPr id="61" name="Text Box 13"/>
            <p:cNvSpPr/>
            <p:nvPr/>
          </p:nvSpPr>
          <p:spPr>
            <a:xfrm>
              <a:off x="5362560" y="2016720"/>
              <a:ext cx="18396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Овал 12"/>
            <p:cNvSpPr/>
            <p:nvPr/>
          </p:nvSpPr>
          <p:spPr>
            <a:xfrm>
              <a:off x="5572080" y="2201760"/>
              <a:ext cx="468360" cy="450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Овал 13"/>
            <p:cNvSpPr/>
            <p:nvPr/>
          </p:nvSpPr>
          <p:spPr>
            <a:xfrm>
              <a:off x="6429240" y="2270160"/>
              <a:ext cx="468360" cy="450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Овал 14"/>
            <p:cNvSpPr/>
            <p:nvPr/>
          </p:nvSpPr>
          <p:spPr>
            <a:xfrm>
              <a:off x="5643360" y="1376280"/>
              <a:ext cx="215640" cy="207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Овал 15"/>
            <p:cNvSpPr/>
            <p:nvPr/>
          </p:nvSpPr>
          <p:spPr>
            <a:xfrm>
              <a:off x="6072120" y="137628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Овал 16"/>
            <p:cNvSpPr/>
            <p:nvPr/>
          </p:nvSpPr>
          <p:spPr>
            <a:xfrm>
              <a:off x="5786280" y="344520"/>
              <a:ext cx="252360" cy="2426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Овал 17"/>
            <p:cNvSpPr/>
            <p:nvPr/>
          </p:nvSpPr>
          <p:spPr>
            <a:xfrm>
              <a:off x="6786720" y="130788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Овал 18"/>
            <p:cNvSpPr/>
            <p:nvPr/>
          </p:nvSpPr>
          <p:spPr>
            <a:xfrm>
              <a:off x="6429240" y="89532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6" descr="Test Tubes Holder Clip Art"/>
          <p:cNvPicPr/>
          <p:nvPr/>
        </p:nvPicPr>
        <p:blipFill>
          <a:blip r:embed="rId4"/>
          <a:stretch/>
        </p:blipFill>
        <p:spPr>
          <a:xfrm>
            <a:off x="4643280" y="5021280"/>
            <a:ext cx="1236960" cy="1177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редмет хим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214200" y="2062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Red Arrows Set Right Clip Art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01000" y="5846760"/>
            <a:ext cx="539640" cy="5191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Autobusrouge Clip Art"/>
          <p:cNvPicPr/>
          <p:nvPr/>
        </p:nvPicPr>
        <p:blipFill>
          <a:blip r:embed="rId1"/>
          <a:stretch/>
        </p:blipFill>
        <p:spPr>
          <a:xfrm>
            <a:off x="2571840" y="2786040"/>
            <a:ext cx="3855960" cy="1979640"/>
          </a:xfrm>
          <a:prstGeom prst="rect">
            <a:avLst/>
          </a:prstGeom>
          <a:ln w="0">
            <a:noFill/>
          </a:ln>
        </p:spPr>
      </p:pic>
      <p:sp>
        <p:nvSpPr>
          <p:cNvPr id="305" name="Стрелка вниз 5"/>
          <p:cNvSpPr/>
          <p:nvPr/>
        </p:nvSpPr>
        <p:spPr>
          <a:xfrm rot="18417600">
            <a:off x="2111400" y="2841120"/>
            <a:ext cx="484200" cy="1357560"/>
          </a:xfrm>
          <a:prstGeom prst="downArrow">
            <a:avLst>
              <a:gd name="adj1" fmla="val 81444"/>
              <a:gd name="adj2" fmla="val 92925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12"/>
          <p:cNvGrpSpPr/>
          <p:nvPr/>
        </p:nvGrpSpPr>
        <p:grpSpPr>
          <a:xfrm>
            <a:off x="953640" y="1428840"/>
            <a:ext cx="2370600" cy="1449720"/>
            <a:chOff x="953640" y="1428840"/>
            <a:chExt cx="2370600" cy="1449720"/>
          </a:xfrm>
        </p:grpSpPr>
        <p:sp>
          <p:nvSpPr>
            <p:cNvPr id="307" name="Rectangle 14"/>
            <p:cNvSpPr/>
            <p:nvPr/>
          </p:nvSpPr>
          <p:spPr>
            <a:xfrm>
              <a:off x="953640" y="2358000"/>
              <a:ext cx="237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таль кузо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Стрелка вниз 10"/>
            <p:cNvSpPr/>
            <p:nvPr/>
          </p:nvSpPr>
          <p:spPr>
            <a:xfrm flipV="1">
              <a:off x="1709640" y="1928880"/>
              <a:ext cx="85896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1638360" y="1428840"/>
              <a:ext cx="10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у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Стрелка вниз 13"/>
          <p:cNvSpPr/>
          <p:nvPr/>
        </p:nvSpPr>
        <p:spPr>
          <a:xfrm rot="14464800">
            <a:off x="3755880" y="4076280"/>
            <a:ext cx="484200" cy="1357200"/>
          </a:xfrm>
          <a:prstGeom prst="downArrow">
            <a:avLst>
              <a:gd name="adj1" fmla="val 81444"/>
              <a:gd name="adj2" fmla="val 92900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Группа 14"/>
          <p:cNvGrpSpPr/>
          <p:nvPr/>
        </p:nvGrpSpPr>
        <p:grpSpPr>
          <a:xfrm>
            <a:off x="1939680" y="4786200"/>
            <a:ext cx="1370880" cy="1449720"/>
            <a:chOff x="1939680" y="4786200"/>
            <a:chExt cx="1370880" cy="1449720"/>
          </a:xfrm>
        </p:grpSpPr>
        <p:sp>
          <p:nvSpPr>
            <p:cNvPr id="312" name="Rectangle 14"/>
            <p:cNvSpPr/>
            <p:nvPr/>
          </p:nvSpPr>
          <p:spPr>
            <a:xfrm>
              <a:off x="1939680" y="5715360"/>
              <a:ext cx="137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зи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Стрелка вниз 16"/>
            <p:cNvSpPr/>
            <p:nvPr/>
          </p:nvSpPr>
          <p:spPr>
            <a:xfrm>
              <a:off x="2195280" y="5286240"/>
              <a:ext cx="85896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1940760" y="4786200"/>
              <a:ext cx="13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лес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Группа 18"/>
          <p:cNvGrpSpPr/>
          <p:nvPr/>
        </p:nvGrpSpPr>
        <p:grpSpPr>
          <a:xfrm>
            <a:off x="6621480" y="2357280"/>
            <a:ext cx="1579680" cy="1449720"/>
            <a:chOff x="6621480" y="2357280"/>
            <a:chExt cx="1579680" cy="1449720"/>
          </a:xfrm>
        </p:grpSpPr>
        <p:sp>
          <p:nvSpPr>
            <p:cNvPr id="316" name="Rectangle 14"/>
            <p:cNvSpPr/>
            <p:nvPr/>
          </p:nvSpPr>
          <p:spPr>
            <a:xfrm>
              <a:off x="6621480" y="3286440"/>
              <a:ext cx="15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пли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Стрелка вниз 20"/>
            <p:cNvSpPr/>
            <p:nvPr/>
          </p:nvSpPr>
          <p:spPr>
            <a:xfrm flipV="1">
              <a:off x="6983280" y="2857320"/>
              <a:ext cx="85572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4"/>
            <p:cNvSpPr/>
            <p:nvPr/>
          </p:nvSpPr>
          <p:spPr>
            <a:xfrm>
              <a:off x="6773400" y="2357280"/>
              <a:ext cx="127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ф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Стрелка вниз 22"/>
          <p:cNvSpPr/>
          <p:nvPr/>
        </p:nvSpPr>
        <p:spPr>
          <a:xfrm flipH="1" rot="4800000">
            <a:off x="6897240" y="3391920"/>
            <a:ext cx="484560" cy="1356840"/>
          </a:xfrm>
          <a:prstGeom prst="downArrow">
            <a:avLst>
              <a:gd name="adj1" fmla="val 81444"/>
              <a:gd name="adj2" fmla="val 92806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21" name="AutoShape 4" descr=""/>
            <p:cNvPicPr/>
            <p:nvPr/>
          </p:nvPicPr>
          <p:blipFill>
            <a:blip r:embed="rId2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Рассуждаем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Picture 4" descr="Red Arrows Set Right Clip Art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26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Превращение вещест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4"/>
          <p:cNvSpPr/>
          <p:nvPr/>
        </p:nvSpPr>
        <p:spPr>
          <a:xfrm>
            <a:off x="3869280" y="1143000"/>
            <a:ext cx="29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спарени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516600" y="5429160"/>
            <a:ext cx="379872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4780080" y="5429160"/>
            <a:ext cx="384588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Группа 12"/>
          <p:cNvGrpSpPr/>
          <p:nvPr/>
        </p:nvGrpSpPr>
        <p:grpSpPr>
          <a:xfrm>
            <a:off x="714240" y="1500120"/>
            <a:ext cx="3211560" cy="2648160"/>
            <a:chOff x="714240" y="1500120"/>
            <a:chExt cx="3211560" cy="2648160"/>
          </a:xfrm>
        </p:grpSpPr>
        <p:grpSp>
          <p:nvGrpSpPr>
            <p:cNvPr id="332" name="Облако 11"/>
            <p:cNvGrpSpPr/>
            <p:nvPr/>
          </p:nvGrpSpPr>
          <p:grpSpPr>
            <a:xfrm>
              <a:off x="714240" y="1699920"/>
              <a:ext cx="3211560" cy="2448360"/>
              <a:chOff x="714240" y="1699920"/>
              <a:chExt cx="3211560" cy="2448360"/>
            </a:xfrm>
          </p:grpSpPr>
          <p:pic>
            <p:nvPicPr>
              <p:cNvPr id="333" name="Облако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714240" y="1699920"/>
                <a:ext cx="3211560" cy="24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 rot="20851800">
                <a:off x="1142640" y="2236320"/>
                <a:ext cx="2125440" cy="14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5" name="Picture 2" descr="Ice Cube Clip Art"/>
            <p:cNvPicPr/>
            <p:nvPr/>
          </p:nvPicPr>
          <p:blipFill>
            <a:blip r:embed="rId3"/>
            <a:stretch/>
          </p:blipFill>
          <p:spPr>
            <a:xfrm>
              <a:off x="1027440" y="1500120"/>
              <a:ext cx="135360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2" descr="Ice Cube Clip Art"/>
            <p:cNvPicPr/>
            <p:nvPr/>
          </p:nvPicPr>
          <p:blipFill>
            <a:blip r:embed="rId4"/>
            <a:stretch/>
          </p:blipFill>
          <p:spPr>
            <a:xfrm>
              <a:off x="1895760" y="1855800"/>
              <a:ext cx="135360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2" descr="Ice Cube Clip Art"/>
            <p:cNvPicPr/>
            <p:nvPr/>
          </p:nvPicPr>
          <p:blipFill>
            <a:blip r:embed="rId5"/>
            <a:stretch/>
          </p:blipFill>
          <p:spPr>
            <a:xfrm>
              <a:off x="1099800" y="2639160"/>
              <a:ext cx="1353600" cy="125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8" name="Picture 4" descr="Snowman Clip Art"/>
          <p:cNvPicPr/>
          <p:nvPr/>
        </p:nvPicPr>
        <p:blipFill>
          <a:blip r:embed="rId6"/>
          <a:stretch/>
        </p:blipFill>
        <p:spPr>
          <a:xfrm>
            <a:off x="5357880" y="2000160"/>
            <a:ext cx="2857320" cy="2762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Скругленный прямоугольник 11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43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Горение костр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14"/>
          <p:cNvSpPr/>
          <p:nvPr/>
        </p:nvSpPr>
        <p:spPr>
          <a:xfrm>
            <a:off x="2823480" y="128592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превращ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4"/>
          <p:cNvSpPr/>
          <p:nvPr/>
        </p:nvSpPr>
        <p:spPr>
          <a:xfrm>
            <a:off x="516600" y="5429160"/>
            <a:ext cx="379872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4780080" y="5429160"/>
            <a:ext cx="384588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Fire 7 Clip Art"/>
          <p:cNvPicPr/>
          <p:nvPr/>
        </p:nvPicPr>
        <p:blipFill>
          <a:blip r:embed="rId2"/>
          <a:stretch/>
        </p:blipFill>
        <p:spPr>
          <a:xfrm>
            <a:off x="3586320" y="2000160"/>
            <a:ext cx="1971360" cy="2838600"/>
          </a:xfrm>
          <a:prstGeom prst="rect">
            <a:avLst/>
          </a:prstGeom>
          <a:ln w="0">
            <a:noFill/>
          </a:ln>
        </p:spPr>
      </p:pic>
      <p:sp>
        <p:nvSpPr>
          <p:cNvPr id="349" name="Скругленная прямоугольная выноска 8"/>
          <p:cNvSpPr/>
          <p:nvPr/>
        </p:nvSpPr>
        <p:spPr>
          <a:xfrm>
            <a:off x="5786280" y="1785960"/>
            <a:ext cx="1451160" cy="971640"/>
          </a:xfrm>
          <a:prstGeom prst="wedgeRoundRectCallout">
            <a:avLst>
              <a:gd name="adj1" fmla="val -70027"/>
              <a:gd name="adj2" fmla="val 96916"/>
              <a:gd name="adj3" fmla="val 1666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ая прямоугольная выноска 9"/>
          <p:cNvSpPr/>
          <p:nvPr/>
        </p:nvSpPr>
        <p:spPr>
          <a:xfrm flipH="1">
            <a:off x="1928880" y="2286000"/>
            <a:ext cx="1450800" cy="971640"/>
          </a:xfrm>
          <a:prstGeom prst="wedgeRoundRectCallout">
            <a:avLst>
              <a:gd name="adj1" fmla="val -91550"/>
              <a:gd name="adj2" fmla="val 102652"/>
              <a:gd name="adj3" fmla="val 1666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6013440" y="3286080"/>
            <a:ext cx="246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ходя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став д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Red Arrows Set Right Clip Art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55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ыв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14"/>
          <p:cNvSpPr/>
          <p:nvPr/>
        </p:nvSpPr>
        <p:spPr>
          <a:xfrm>
            <a:off x="3823920" y="128592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Группа 45"/>
          <p:cNvGrpSpPr/>
          <p:nvPr/>
        </p:nvGrpSpPr>
        <p:grpSpPr>
          <a:xfrm>
            <a:off x="4228560" y="1190520"/>
            <a:ext cx="4359600" cy="3490920"/>
            <a:chOff x="4228560" y="1190520"/>
            <a:chExt cx="4359600" cy="3490920"/>
          </a:xfrm>
        </p:grpSpPr>
        <p:sp>
          <p:nvSpPr>
            <p:cNvPr id="359" name="Овал 44"/>
            <p:cNvSpPr/>
            <p:nvPr/>
          </p:nvSpPr>
          <p:spPr>
            <a:xfrm flipH="1" rot="1500000">
              <a:off x="4482360" y="1907640"/>
              <a:ext cx="3851280" cy="2055960"/>
            </a:xfrm>
            <a:prstGeom prst="ellipse">
              <a:avLst/>
            </a:prstGeom>
            <a:solidFill>
              <a:srgbClr val="e6b9b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Группа 27"/>
            <p:cNvGrpSpPr/>
            <p:nvPr/>
          </p:nvGrpSpPr>
          <p:grpSpPr>
            <a:xfrm>
              <a:off x="4668120" y="1803240"/>
              <a:ext cx="3485880" cy="2041560"/>
              <a:chOff x="4668120" y="1803240"/>
              <a:chExt cx="3485880" cy="2041560"/>
            </a:xfrm>
          </p:grpSpPr>
          <p:grpSp>
            <p:nvGrpSpPr>
              <p:cNvPr id="361" name="Group 59"/>
              <p:cNvGrpSpPr/>
              <p:nvPr/>
            </p:nvGrpSpPr>
            <p:grpSpPr>
              <a:xfrm>
                <a:off x="5047920" y="1937520"/>
                <a:ext cx="2421720" cy="1523520"/>
                <a:chOff x="5047920" y="1937520"/>
                <a:chExt cx="2421720" cy="1523520"/>
              </a:xfrm>
            </p:grpSpPr>
            <p:grpSp>
              <p:nvGrpSpPr>
                <p:cNvPr id="362" name="Group 60"/>
                <p:cNvGrpSpPr/>
                <p:nvPr/>
              </p:nvGrpSpPr>
              <p:grpSpPr>
                <a:xfrm>
                  <a:off x="5047920" y="2042640"/>
                  <a:ext cx="2264040" cy="1418400"/>
                  <a:chOff x="5047920" y="2042640"/>
                  <a:chExt cx="2264040" cy="1418400"/>
                </a:xfrm>
              </p:grpSpPr>
              <p:sp>
                <p:nvSpPr>
                  <p:cNvPr id="363" name="Freeform 61"/>
                  <p:cNvSpPr/>
                  <p:nvPr/>
                </p:nvSpPr>
                <p:spPr>
                  <a:xfrm flipH="1" rot="1522800">
                    <a:off x="5042880" y="2505960"/>
                    <a:ext cx="2273040" cy="491400"/>
                  </a:xfrm>
                  <a:custGeom>
                    <a:avLst/>
                    <a:gdLst>
                      <a:gd name="textAreaLeft" fmla="*/ 360 w 2273040"/>
                      <a:gd name="textAreaRight" fmla="*/ 227376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62"/>
                  <p:cNvSpPr/>
                  <p:nvPr/>
                </p:nvSpPr>
                <p:spPr>
                  <a:xfrm flipH="1" rot="1522800">
                    <a:off x="5167080" y="2143080"/>
                    <a:ext cx="357120" cy="402120"/>
                  </a:xfrm>
                  <a:custGeom>
                    <a:avLst/>
                    <a:gdLst>
                      <a:gd name="textAreaLeft" fmla="*/ 360 w 357120"/>
                      <a:gd name="textAreaRight" fmla="*/ 35784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63"/>
                <p:cNvGrpSpPr/>
                <p:nvPr/>
              </p:nvGrpSpPr>
              <p:grpSpPr>
                <a:xfrm>
                  <a:off x="5732280" y="1937520"/>
                  <a:ext cx="1737360" cy="1087920"/>
                  <a:chOff x="5732280" y="1937520"/>
                  <a:chExt cx="1737360" cy="1087920"/>
                </a:xfrm>
              </p:grpSpPr>
              <p:sp>
                <p:nvSpPr>
                  <p:cNvPr id="366" name="Freeform 64"/>
                  <p:cNvSpPr/>
                  <p:nvPr/>
                </p:nvSpPr>
                <p:spPr>
                  <a:xfrm flipH="1" flipV="1" rot="1523400">
                    <a:off x="5728680" y="2293200"/>
                    <a:ext cx="1744200" cy="376560"/>
                  </a:xfrm>
                  <a:custGeom>
                    <a:avLst/>
                    <a:gdLst>
                      <a:gd name="textAreaLeft" fmla="*/ -360 w 1744200"/>
                      <a:gd name="textAreaRight" fmla="*/ 1744200 w 174420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b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65"/>
                  <p:cNvSpPr/>
                  <p:nvPr/>
                </p:nvSpPr>
                <p:spPr>
                  <a:xfrm flipH="1" flipV="1" rot="1523400">
                    <a:off x="5816520" y="2029320"/>
                    <a:ext cx="273600" cy="308520"/>
                  </a:xfrm>
                  <a:custGeom>
                    <a:avLst/>
                    <a:gdLst>
                      <a:gd name="textAreaLeft" fmla="*/ 360 w 273600"/>
                      <a:gd name="textAreaRight" fmla="*/ 274320 w 27360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8" name="Group 72"/>
              <p:cNvGrpSpPr/>
              <p:nvPr/>
            </p:nvGrpSpPr>
            <p:grpSpPr>
              <a:xfrm>
                <a:off x="7161840" y="2754360"/>
                <a:ext cx="992160" cy="960480"/>
                <a:chOff x="7161840" y="2754360"/>
                <a:chExt cx="992160" cy="960480"/>
              </a:xfrm>
            </p:grpSpPr>
            <p:sp>
              <p:nvSpPr>
                <p:cNvPr id="369" name="Oval 73"/>
                <p:cNvSpPr/>
                <p:nvPr/>
              </p:nvSpPr>
              <p:spPr>
                <a:xfrm flipH="1" rot="5400000">
                  <a:off x="7177680" y="2738520"/>
                  <a:ext cx="960480" cy="9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74"/>
                <p:cNvSpPr/>
                <p:nvPr/>
              </p:nvSpPr>
              <p:spPr>
                <a:xfrm flipH="1" rot="5400000">
                  <a:off x="7196040" y="2750400"/>
                  <a:ext cx="937440" cy="9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Oval 75"/>
                <p:cNvSpPr/>
                <p:nvPr/>
              </p:nvSpPr>
              <p:spPr>
                <a:xfrm flipH="1" rot="5400000">
                  <a:off x="7241040" y="2795040"/>
                  <a:ext cx="891360" cy="90396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76"/>
                <p:cNvSpPr/>
                <p:nvPr/>
              </p:nvSpPr>
              <p:spPr>
                <a:xfrm flipH="1" rot="5400000">
                  <a:off x="7350480" y="2877480"/>
                  <a:ext cx="792360" cy="73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3" name="Text Box 77"/>
              <p:cNvSpPr/>
              <p:nvPr/>
            </p:nvSpPr>
            <p:spPr>
              <a:xfrm flipH="1" rot="1473600">
                <a:off x="4680000" y="2441880"/>
                <a:ext cx="32378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Физические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Группа 46"/>
          <p:cNvGrpSpPr/>
          <p:nvPr/>
        </p:nvGrpSpPr>
        <p:grpSpPr>
          <a:xfrm>
            <a:off x="555840" y="1190520"/>
            <a:ext cx="4359240" cy="3490920"/>
            <a:chOff x="555840" y="1190520"/>
            <a:chExt cx="4359240" cy="3490920"/>
          </a:xfrm>
        </p:grpSpPr>
        <p:sp>
          <p:nvSpPr>
            <p:cNvPr id="375" name="Овал 43"/>
            <p:cNvSpPr/>
            <p:nvPr/>
          </p:nvSpPr>
          <p:spPr>
            <a:xfrm rot="20100000">
              <a:off x="809640" y="1907640"/>
              <a:ext cx="3851280" cy="2055960"/>
            </a:xfrm>
            <a:prstGeom prst="ellipse">
              <a:avLst/>
            </a:prstGeom>
            <a:solidFill>
              <a:srgbClr val="e6b9b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Группа 28"/>
            <p:cNvGrpSpPr/>
            <p:nvPr/>
          </p:nvGrpSpPr>
          <p:grpSpPr>
            <a:xfrm>
              <a:off x="970560" y="1787400"/>
              <a:ext cx="3520440" cy="2073240"/>
              <a:chOff x="970560" y="1787400"/>
              <a:chExt cx="3520440" cy="2073240"/>
            </a:xfrm>
          </p:grpSpPr>
          <p:grpSp>
            <p:nvGrpSpPr>
              <p:cNvPr id="377" name="Group 59"/>
              <p:cNvGrpSpPr/>
              <p:nvPr/>
            </p:nvGrpSpPr>
            <p:grpSpPr>
              <a:xfrm>
                <a:off x="1654920" y="1937160"/>
                <a:ext cx="2421720" cy="1523880"/>
                <a:chOff x="1654920" y="1937160"/>
                <a:chExt cx="2421720" cy="1523880"/>
              </a:xfrm>
            </p:grpSpPr>
            <p:grpSp>
              <p:nvGrpSpPr>
                <p:cNvPr id="378" name="Group 60"/>
                <p:cNvGrpSpPr/>
                <p:nvPr/>
              </p:nvGrpSpPr>
              <p:grpSpPr>
                <a:xfrm>
                  <a:off x="1812600" y="2042640"/>
                  <a:ext cx="2264040" cy="1418400"/>
                  <a:chOff x="1812600" y="2042640"/>
                  <a:chExt cx="2264040" cy="1418400"/>
                </a:xfrm>
              </p:grpSpPr>
              <p:sp>
                <p:nvSpPr>
                  <p:cNvPr id="379" name="Freeform 61"/>
                  <p:cNvSpPr/>
                  <p:nvPr/>
                </p:nvSpPr>
                <p:spPr>
                  <a:xfrm rot="20077200">
                    <a:off x="1807920" y="2505960"/>
                    <a:ext cx="2273040" cy="49140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Freeform 62"/>
                  <p:cNvSpPr/>
                  <p:nvPr/>
                </p:nvSpPr>
                <p:spPr>
                  <a:xfrm rot="20077200">
                    <a:off x="3599640" y="214308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Group 63"/>
                <p:cNvGrpSpPr/>
                <p:nvPr/>
              </p:nvGrpSpPr>
              <p:grpSpPr>
                <a:xfrm>
                  <a:off x="1654920" y="1937160"/>
                  <a:ext cx="1737360" cy="1088280"/>
                  <a:chOff x="1654920" y="1937160"/>
                  <a:chExt cx="1737360" cy="1088280"/>
                </a:xfrm>
              </p:grpSpPr>
              <p:sp>
                <p:nvSpPr>
                  <p:cNvPr id="382" name="Freeform 64"/>
                  <p:cNvSpPr/>
                  <p:nvPr/>
                </p:nvSpPr>
                <p:spPr>
                  <a:xfrm flipV="1" rot="20076600">
                    <a:off x="1651320" y="2292480"/>
                    <a:ext cx="1744200" cy="37692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b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5"/>
                  <p:cNvSpPr/>
                  <p:nvPr/>
                </p:nvSpPr>
                <p:spPr>
                  <a:xfrm flipV="1" rot="20076600">
                    <a:off x="3033720" y="202932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72"/>
              <p:cNvGrpSpPr/>
              <p:nvPr/>
            </p:nvGrpSpPr>
            <p:grpSpPr>
              <a:xfrm>
                <a:off x="970560" y="2754360"/>
                <a:ext cx="992160" cy="960480"/>
                <a:chOff x="970560" y="2754360"/>
                <a:chExt cx="992160" cy="960480"/>
              </a:xfrm>
            </p:grpSpPr>
            <p:sp>
              <p:nvSpPr>
                <p:cNvPr id="385" name="Oval 73"/>
                <p:cNvSpPr/>
                <p:nvPr/>
              </p:nvSpPr>
              <p:spPr>
                <a:xfrm rot="16200000">
                  <a:off x="986400" y="2738520"/>
                  <a:ext cx="960480" cy="9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74"/>
                <p:cNvSpPr/>
                <p:nvPr/>
              </p:nvSpPr>
              <p:spPr>
                <a:xfrm rot="16200000">
                  <a:off x="991080" y="2750400"/>
                  <a:ext cx="937440" cy="9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Oval 75"/>
                <p:cNvSpPr/>
                <p:nvPr/>
              </p:nvSpPr>
              <p:spPr>
                <a:xfrm rot="16200000">
                  <a:off x="991440" y="2795040"/>
                  <a:ext cx="891360" cy="90396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76"/>
                <p:cNvSpPr/>
                <p:nvPr/>
              </p:nvSpPr>
              <p:spPr>
                <a:xfrm rot="16200000">
                  <a:off x="981360" y="2877480"/>
                  <a:ext cx="792360" cy="73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Text Box 77"/>
              <p:cNvSpPr/>
              <p:nvPr/>
            </p:nvSpPr>
            <p:spPr>
              <a:xfrm rot="20126400">
                <a:off x="1167840" y="2441520"/>
                <a:ext cx="3314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имические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0" name="Группа 50" descr=""/>
          <p:cNvPicPr/>
          <p:nvPr/>
        </p:nvPicPr>
        <p:blipFill>
          <a:blip r:embed="rId2"/>
          <a:stretch/>
        </p:blipFill>
        <p:spPr>
          <a:xfrm>
            <a:off x="2060640" y="4237200"/>
            <a:ext cx="5108400" cy="58392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14"/>
          <p:cNvSpPr/>
          <p:nvPr/>
        </p:nvSpPr>
        <p:spPr>
          <a:xfrm>
            <a:off x="584640" y="4929120"/>
            <a:ext cx="3506040" cy="18003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ссы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превращ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4"/>
          <p:cNvSpPr/>
          <p:nvPr/>
        </p:nvSpPr>
        <p:spPr>
          <a:xfrm>
            <a:off x="5053320" y="4929120"/>
            <a:ext cx="3506040" cy="18003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ссы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 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превращ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Овал 13"/>
          <p:cNvSpPr/>
          <p:nvPr/>
        </p:nvSpPr>
        <p:spPr>
          <a:xfrm rot="21300000">
            <a:off x="466200" y="3074760"/>
            <a:ext cx="3853080" cy="20574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  <a:effectLst>
            <a:outerShdw dist="101451" dir="2397705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а, вступающие в химическую реак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14"/>
          <p:cNvSpPr/>
          <p:nvPr/>
        </p:nvSpPr>
        <p:spPr>
          <a:xfrm rot="21300000">
            <a:off x="4824000" y="3074760"/>
            <a:ext cx="3853080" cy="20574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  <a:effectLst>
            <a:outerShdw dist="101451" dir="2397705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а, получающиеся в результате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99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Химические реакци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хо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578628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к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Группа 11"/>
          <p:cNvGrpSpPr/>
          <p:nvPr/>
        </p:nvGrpSpPr>
        <p:grpSpPr>
          <a:xfrm>
            <a:off x="3301920" y="1249200"/>
            <a:ext cx="2539800" cy="1241640"/>
            <a:chOff x="3301920" y="1249200"/>
            <a:chExt cx="2539800" cy="1241640"/>
          </a:xfrm>
        </p:grpSpPr>
        <p:sp>
          <p:nvSpPr>
            <p:cNvPr id="404" name="Freeform 7"/>
            <p:cNvSpPr/>
            <p:nvPr/>
          </p:nvSpPr>
          <p:spPr>
            <a:xfrm>
              <a:off x="3301920" y="124920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100000">
                  <a:srgbClr val="d790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"/>
            <p:cNvSpPr/>
            <p:nvPr/>
          </p:nvSpPr>
          <p:spPr>
            <a:xfrm flipH="1">
              <a:off x="4938120" y="124920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100000">
                  <a:srgbClr val="d790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4" descr="Chemistry Explosion Clip Art"/>
          <p:cNvPicPr/>
          <p:nvPr/>
        </p:nvPicPr>
        <p:blipFill>
          <a:blip r:embed="rId2"/>
          <a:stretch/>
        </p:blipFill>
        <p:spPr>
          <a:xfrm>
            <a:off x="3371760" y="3857760"/>
            <a:ext cx="2400480" cy="2847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Factory Clip Art"/>
          <p:cNvPicPr/>
          <p:nvPr/>
        </p:nvPicPr>
        <p:blipFill>
          <a:blip r:embed="rId1"/>
          <a:stretch/>
        </p:blipFill>
        <p:spPr>
          <a:xfrm>
            <a:off x="571680" y="2428920"/>
            <a:ext cx="2857320" cy="2343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Industrial Building Clip Art"/>
          <p:cNvPicPr/>
          <p:nvPr/>
        </p:nvPicPr>
        <p:blipFill>
          <a:blip r:embed="rId2"/>
          <a:stretch/>
        </p:blipFill>
        <p:spPr>
          <a:xfrm>
            <a:off x="2286000" y="4357800"/>
            <a:ext cx="2857680" cy="1923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Witchlines Skyline With Black Smoke Clip Art"/>
          <p:cNvPicPr/>
          <p:nvPr/>
        </p:nvPicPr>
        <p:blipFill>
          <a:blip r:embed="rId3"/>
          <a:stretch/>
        </p:blipFill>
        <p:spPr>
          <a:xfrm>
            <a:off x="4071960" y="13572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Industry Smoke Smog Clip Art"/>
          <p:cNvPicPr/>
          <p:nvPr/>
        </p:nvPicPr>
        <p:blipFill>
          <a:blip r:embed="rId4"/>
          <a:stretch/>
        </p:blipFill>
        <p:spPr>
          <a:xfrm>
            <a:off x="5214960" y="3571920"/>
            <a:ext cx="2771640" cy="2847960"/>
          </a:xfrm>
          <a:prstGeom prst="rect">
            <a:avLst/>
          </a:prstGeom>
          <a:ln w="0">
            <a:noFill/>
          </a:ln>
        </p:spPr>
      </p:pic>
      <p:grpSp>
        <p:nvGrpSpPr>
          <p:cNvPr id="414" name="Группа 10"/>
          <p:cNvGrpSpPr/>
          <p:nvPr/>
        </p:nvGrpSpPr>
        <p:grpSpPr>
          <a:xfrm>
            <a:off x="357120" y="142920"/>
            <a:ext cx="8429760" cy="6572160"/>
            <a:chOff x="357120" y="142920"/>
            <a:chExt cx="8429760" cy="6572160"/>
          </a:xfrm>
        </p:grpSpPr>
        <p:sp>
          <p:nvSpPr>
            <p:cNvPr id="415" name="Скругленный прямоугольник 9"/>
            <p:cNvSpPr/>
            <p:nvPr/>
          </p:nvSpPr>
          <p:spPr>
            <a:xfrm>
              <a:off x="357120" y="142920"/>
              <a:ext cx="8429760" cy="6572160"/>
            </a:xfrm>
            <a:prstGeom prst="roundRect">
              <a:avLst>
                <a:gd name="adj" fmla="val 3417"/>
              </a:avLst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25560">
              <a:solidFill>
                <a:srgbClr val="00b0f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Picture 10" descr="Face House Clip Art"/>
            <p:cNvPicPr/>
            <p:nvPr/>
          </p:nvPicPr>
          <p:blipFill>
            <a:blip r:embed="rId5"/>
            <a:stretch/>
          </p:blipFill>
          <p:spPr>
            <a:xfrm>
              <a:off x="2139480" y="1487520"/>
              <a:ext cx="4864680" cy="38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18" name="AutoShape 4" descr=""/>
            <p:cNvPicPr/>
            <p:nvPr/>
          </p:nvPicPr>
          <p:blipFill>
            <a:blip r:embed="rId6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кологический всеобу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Red Arrows Set Right Clip Art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2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бщие выв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" name="Группа 103" descr=""/>
          <p:cNvPicPr/>
          <p:nvPr/>
        </p:nvPicPr>
        <p:blipFill>
          <a:blip r:embed="rId2"/>
          <a:stretch/>
        </p:blipFill>
        <p:spPr>
          <a:xfrm>
            <a:off x="549360" y="1189080"/>
            <a:ext cx="7405560" cy="2157480"/>
          </a:xfrm>
          <a:prstGeom prst="rect">
            <a:avLst/>
          </a:prstGeom>
          <a:ln w="0">
            <a:noFill/>
          </a:ln>
        </p:spPr>
      </p:pic>
      <p:pic>
        <p:nvPicPr>
          <p:cNvPr id="427" name="Группа 103" descr=""/>
          <p:cNvPicPr/>
          <p:nvPr/>
        </p:nvPicPr>
        <p:blipFill>
          <a:blip r:embed="rId3"/>
          <a:stretch/>
        </p:blipFill>
        <p:spPr>
          <a:xfrm>
            <a:off x="549360" y="2835360"/>
            <a:ext cx="7405560" cy="2290680"/>
          </a:xfrm>
          <a:prstGeom prst="rect">
            <a:avLst/>
          </a:prstGeom>
          <a:ln w="0">
            <a:noFill/>
          </a:ln>
        </p:spPr>
      </p:pic>
      <p:pic>
        <p:nvPicPr>
          <p:cNvPr id="428" name="Группа 103" descr=""/>
          <p:cNvPicPr/>
          <p:nvPr/>
        </p:nvPicPr>
        <p:blipFill>
          <a:blip r:embed="rId4"/>
          <a:stretch/>
        </p:blipFill>
        <p:spPr>
          <a:xfrm>
            <a:off x="549360" y="4973760"/>
            <a:ext cx="7405560" cy="2244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Red Arrows Set Right Clip Art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3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то интересн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37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топили кусочек сливочного мас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гото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ич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4"/>
          <p:cNvSpPr/>
          <p:nvPr/>
        </p:nvSpPr>
        <p:spPr>
          <a:xfrm>
            <a:off x="5018760" y="1857240"/>
            <a:ext cx="309744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змен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5890680" y="2666880"/>
            <a:ext cx="135396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о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5167440" y="3476520"/>
            <a:ext cx="28000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4"/>
          <p:cNvSpPr/>
          <p:nvPr/>
        </p:nvSpPr>
        <p:spPr>
          <a:xfrm>
            <a:off x="5286240" y="4286160"/>
            <a:ext cx="25624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доказ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50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то интересн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53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ар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рто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5018760" y="1857240"/>
            <a:ext cx="309744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змен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4"/>
          <p:cNvSpPr/>
          <p:nvPr/>
        </p:nvSpPr>
        <p:spPr>
          <a:xfrm>
            <a:off x="5890680" y="2666880"/>
            <a:ext cx="135396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о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4"/>
          <p:cNvSpPr/>
          <p:nvPr/>
        </p:nvSpPr>
        <p:spPr>
          <a:xfrm>
            <a:off x="5167440" y="3476520"/>
            <a:ext cx="28000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4"/>
          <p:cNvSpPr/>
          <p:nvPr/>
        </p:nvSpPr>
        <p:spPr>
          <a:xfrm>
            <a:off x="4860000" y="4286160"/>
            <a:ext cx="3416400" cy="104940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чем основа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е заключ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66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Творческое зада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69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ивем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круж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Milk Clip Art"/>
          <p:cNvPicPr/>
          <p:nvPr/>
        </p:nvPicPr>
        <p:blipFill>
          <a:blip r:embed="rId3"/>
          <a:stretch/>
        </p:blipFill>
        <p:spPr>
          <a:xfrm>
            <a:off x="4572000" y="1714680"/>
            <a:ext cx="1174680" cy="1439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Juice Glass Clip Art"/>
          <p:cNvPicPr/>
          <p:nvPr/>
        </p:nvPicPr>
        <p:blipFill>
          <a:blip r:embed="rId4"/>
          <a:stretch/>
        </p:blipFill>
        <p:spPr>
          <a:xfrm>
            <a:off x="1214280" y="3429000"/>
            <a:ext cx="1846440" cy="16923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Sdagh Clip Art"/>
          <p:cNvPicPr/>
          <p:nvPr/>
        </p:nvPicPr>
        <p:blipFill>
          <a:blip r:embed="rId5"/>
          <a:stretch/>
        </p:blipFill>
        <p:spPr>
          <a:xfrm>
            <a:off x="5286240" y="2286000"/>
            <a:ext cx="2629080" cy="2847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7"/>
          <p:cNvSpPr/>
          <p:nvPr/>
        </p:nvSpPr>
        <p:spPr>
          <a:xfrm>
            <a:off x="1071720" y="1357200"/>
            <a:ext cx="2852640" cy="1567080"/>
          </a:xfrm>
          <a:prstGeom prst="cloudCallout">
            <a:avLst>
              <a:gd name="adj1" fmla="val 15777"/>
              <a:gd name="adj2" fmla="val 156268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чем мне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Girl Face Clip Art"/>
          <p:cNvPicPr/>
          <p:nvPr/>
        </p:nvPicPr>
        <p:blipFill>
          <a:blip r:embed="rId2"/>
          <a:stretch/>
        </p:blipFill>
        <p:spPr>
          <a:xfrm rot="21100800">
            <a:off x="1357200" y="4142880"/>
            <a:ext cx="2857680" cy="22384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4714920" y="1143000"/>
            <a:ext cx="2852640" cy="1566720"/>
          </a:xfrm>
          <a:prstGeom prst="cloudCallout">
            <a:avLst>
              <a:gd name="adj1" fmla="val 28749"/>
              <a:gd name="adj2" fmla="val 126398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интере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Boy Face Cartoon 2 Clip Art"/>
          <p:cNvPicPr/>
          <p:nvPr/>
        </p:nvPicPr>
        <p:blipFill>
          <a:blip r:embed="rId3"/>
          <a:stretch/>
        </p:blipFill>
        <p:spPr>
          <a:xfrm rot="757800">
            <a:off x="6057720" y="4123800"/>
            <a:ext cx="2017440" cy="2052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2890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штатив с пробирк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red-arrows-set-right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яющая кноп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325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олб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3190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лаборатор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chemistry-explosion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ий эксперимен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1970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посу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http://www.clker.com/clipart-orange-dress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оранжевое плать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/>
              </a:rPr>
              <a:t>http://www.clker.com/clipart-40425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джинс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9"/>
              </a:rPr>
              <a:t>http://www.clker.com/clipart-men-suit-tie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мужской костю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/>
              </a:rPr>
              <a:t>http://www.clker.com/clipart-gown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расное плать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/>
              </a:rPr>
              <a:t>http://www.clker.com/clipart-autobusrouge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расный автобус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/>
              </a:rPr>
              <a:t>http://www.clker.com/clipart-1237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негови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3"/>
              </a:rPr>
              <a:t>http://www.clker.com/clipart-392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убик ль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4"/>
              </a:rPr>
              <a:t>http://www.clker.com/clipart-1107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горение кост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4" descr="Red Arrows Set Right Clip Art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5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1773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фабри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16261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индустриальные зд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1639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загрязнение атмосфер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16362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мог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2066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о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sdagh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приготовление пищ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82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лово «химия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14"/>
          <p:cNvSpPr/>
          <p:nvPr/>
        </p:nvSpPr>
        <p:spPr>
          <a:xfrm rot="322800">
            <a:off x="5264640" y="1236240"/>
            <a:ext cx="34948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 flipH="1" rot="21277200">
            <a:off x="979200" y="1990800"/>
            <a:ext cx="35434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10"/>
          <p:cNvGrpSpPr/>
          <p:nvPr/>
        </p:nvGrpSpPr>
        <p:grpSpPr>
          <a:xfrm>
            <a:off x="627120" y="3143160"/>
            <a:ext cx="7889760" cy="2114640"/>
            <a:chOff x="627120" y="3143160"/>
            <a:chExt cx="7889760" cy="2114640"/>
          </a:xfrm>
        </p:grpSpPr>
        <p:grpSp>
          <p:nvGrpSpPr>
            <p:cNvPr id="87" name="Rectangle 14"/>
            <p:cNvGrpSpPr/>
            <p:nvPr/>
          </p:nvGrpSpPr>
          <p:grpSpPr>
            <a:xfrm>
              <a:off x="627120" y="3143160"/>
              <a:ext cx="3867480" cy="930240"/>
              <a:chOff x="627120" y="3143160"/>
              <a:chExt cx="3867480" cy="930240"/>
            </a:xfrm>
          </p:grpSpPr>
          <p:pic>
            <p:nvPicPr>
              <p:cNvPr id="88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627120" y="3143160"/>
                <a:ext cx="3867480" cy="93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672480" y="3183120"/>
                <a:ext cx="370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волокн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Rectangle 14"/>
            <p:cNvGrpSpPr/>
            <p:nvPr/>
          </p:nvGrpSpPr>
          <p:grpSpPr>
            <a:xfrm>
              <a:off x="627120" y="4154400"/>
              <a:ext cx="3867480" cy="1103400"/>
              <a:chOff x="627120" y="4154400"/>
              <a:chExt cx="3867480" cy="1103400"/>
            </a:xfrm>
          </p:grpSpPr>
          <p:pic>
            <p:nvPicPr>
              <p:cNvPr id="9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627120" y="4154400"/>
                <a:ext cx="386748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672480" y="419688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удобрени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Rectangle 14"/>
            <p:cNvGrpSpPr/>
            <p:nvPr/>
          </p:nvGrpSpPr>
          <p:grpSpPr>
            <a:xfrm>
              <a:off x="4536360" y="3143160"/>
              <a:ext cx="3980520" cy="1098000"/>
              <a:chOff x="4536360" y="3143160"/>
              <a:chExt cx="3980520" cy="1098000"/>
            </a:xfrm>
          </p:grpSpPr>
          <p:pic>
            <p:nvPicPr>
              <p:cNvPr id="94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536360" y="3143160"/>
                <a:ext cx="3980520" cy="109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4583880" y="318312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моющие средств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Rectangle 14"/>
            <p:cNvGrpSpPr/>
            <p:nvPr/>
          </p:nvGrpSpPr>
          <p:grpSpPr>
            <a:xfrm>
              <a:off x="4536360" y="4154400"/>
              <a:ext cx="3867480" cy="1103400"/>
              <a:chOff x="4536360" y="4154400"/>
              <a:chExt cx="3867480" cy="1103400"/>
            </a:xfrm>
          </p:grpSpPr>
          <p:pic>
            <p:nvPicPr>
              <p:cNvPr id="9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4536360" y="4154400"/>
                <a:ext cx="386748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4583880" y="419688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ая технологи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103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лово «химия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4"/>
          <p:cNvSpPr/>
          <p:nvPr/>
        </p:nvSpPr>
        <p:spPr>
          <a:xfrm rot="322800">
            <a:off x="5264640" y="1236240"/>
            <a:ext cx="34948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 flipH="1" rot="21277200">
            <a:off x="979200" y="1990800"/>
            <a:ext cx="35434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Rectangle 14"/>
          <p:cNvGrpSpPr/>
          <p:nvPr/>
        </p:nvGrpSpPr>
        <p:grpSpPr>
          <a:xfrm>
            <a:off x="639720" y="3432240"/>
            <a:ext cx="3956040" cy="792000"/>
            <a:chOff x="639720" y="3432240"/>
            <a:chExt cx="3956040" cy="792000"/>
          </a:xfrm>
        </p:grpSpPr>
        <p:pic>
          <p:nvPicPr>
            <p:cNvPr id="108" name="Rectangle 14" descr=""/>
            <p:cNvPicPr/>
            <p:nvPr/>
          </p:nvPicPr>
          <p:blipFill>
            <a:blip r:embed="rId2"/>
            <a:stretch/>
          </p:blipFill>
          <p:spPr>
            <a:xfrm>
              <a:off x="639720" y="3432240"/>
              <a:ext cx="39560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71400" y="3457440"/>
              <a:ext cx="383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воздух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Rectangle 14"/>
          <p:cNvGrpSpPr/>
          <p:nvPr/>
        </p:nvGrpSpPr>
        <p:grpSpPr>
          <a:xfrm>
            <a:off x="639720" y="4572000"/>
            <a:ext cx="3956040" cy="1243080"/>
            <a:chOff x="639720" y="4572000"/>
            <a:chExt cx="3956040" cy="1243080"/>
          </a:xfrm>
        </p:grpSpPr>
        <p:pic>
          <p:nvPicPr>
            <p:cNvPr id="111" name="Rectangle 14" descr=""/>
            <p:cNvPicPr/>
            <p:nvPr/>
          </p:nvPicPr>
          <p:blipFill>
            <a:blip r:embed="rId3"/>
            <a:stretch/>
          </p:blipFill>
          <p:spPr>
            <a:xfrm>
              <a:off x="639720" y="4572000"/>
              <a:ext cx="39560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93720" y="4622760"/>
              <a:ext cx="378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водоем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ectangle 14"/>
          <p:cNvGrpSpPr/>
          <p:nvPr/>
        </p:nvGrpSpPr>
        <p:grpSpPr>
          <a:xfrm>
            <a:off x="4645080" y="3432240"/>
            <a:ext cx="3956040" cy="1243080"/>
            <a:chOff x="4645080" y="3432240"/>
            <a:chExt cx="3956040" cy="1243080"/>
          </a:xfrm>
        </p:grpSpPr>
        <p:pic>
          <p:nvPicPr>
            <p:cNvPr id="114" name="Rectangle 14" descr=""/>
            <p:cNvPicPr/>
            <p:nvPr/>
          </p:nvPicPr>
          <p:blipFill>
            <a:blip r:embed="rId4"/>
            <a:stretch/>
          </p:blipFill>
          <p:spPr>
            <a:xfrm>
              <a:off x="4645080" y="3432240"/>
              <a:ext cx="39560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694400" y="3479760"/>
              <a:ext cx="378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Химические отрав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ectangle 14"/>
          <p:cNvGrpSpPr/>
          <p:nvPr/>
        </p:nvGrpSpPr>
        <p:grpSpPr>
          <a:xfrm>
            <a:off x="4645080" y="4932360"/>
            <a:ext cx="3956040" cy="792000"/>
            <a:chOff x="4645080" y="4932360"/>
            <a:chExt cx="3956040" cy="792000"/>
          </a:xfrm>
        </p:grpSpPr>
        <p:pic>
          <p:nvPicPr>
            <p:cNvPr id="117" name="Rectangle 14" descr=""/>
            <p:cNvPicPr/>
            <p:nvPr/>
          </p:nvPicPr>
          <p:blipFill>
            <a:blip r:embed="rId5"/>
            <a:stretch/>
          </p:blipFill>
          <p:spPr>
            <a:xfrm>
              <a:off x="4645080" y="4932360"/>
              <a:ext cx="39560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672080" y="4957920"/>
              <a:ext cx="38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почв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3"/>
          <p:cNvSpPr/>
          <p:nvPr/>
        </p:nvSpPr>
        <p:spPr>
          <a:xfrm flipV="1">
            <a:off x="1692360" y="1141920"/>
            <a:ext cx="575928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12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Естественные нау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AutoShape 4"/>
          <p:cNvSpPr/>
          <p:nvPr/>
        </p:nvSpPr>
        <p:spPr>
          <a:xfrm rot="20880000">
            <a:off x="606600" y="3571560"/>
            <a:ext cx="371448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 rot="20880000">
            <a:off x="4224240" y="3951000"/>
            <a:ext cx="371484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 rot="20880000">
            <a:off x="519120" y="5522400"/>
            <a:ext cx="3714840" cy="57492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. ге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>
            <a:hlinkClick r:id="rId2" action="ppaction://hlinksldjump"/>
          </p:cNvPr>
          <p:cNvSpPr/>
          <p:nvPr/>
        </p:nvSpPr>
        <p:spPr>
          <a:xfrm rot="20880000">
            <a:off x="5019840" y="5236920"/>
            <a:ext cx="371448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hemical Science Experience Clip Art"/>
          <p:cNvPicPr/>
          <p:nvPr/>
        </p:nvPicPr>
        <p:blipFill>
          <a:blip r:embed="rId3"/>
          <a:stretch/>
        </p:blipFill>
        <p:spPr>
          <a:xfrm>
            <a:off x="5214960" y="557208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Red Arrows Set Right Clip Art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81"/>
          <p:cNvGrpSpPr/>
          <p:nvPr/>
        </p:nvGrpSpPr>
        <p:grpSpPr>
          <a:xfrm>
            <a:off x="1641600" y="1873080"/>
            <a:ext cx="5298840" cy="3111840"/>
            <a:chOff x="1641600" y="1873080"/>
            <a:chExt cx="5298840" cy="3111840"/>
          </a:xfrm>
        </p:grpSpPr>
        <p:grpSp>
          <p:nvGrpSpPr>
            <p:cNvPr id="136" name="Группа 78"/>
            <p:cNvGrpSpPr/>
            <p:nvPr/>
          </p:nvGrpSpPr>
          <p:grpSpPr>
            <a:xfrm>
              <a:off x="1641600" y="1873080"/>
              <a:ext cx="1727640" cy="3111840"/>
              <a:chOff x="1641600" y="1873080"/>
              <a:chExt cx="1727640" cy="3111840"/>
            </a:xfrm>
          </p:grpSpPr>
          <p:sp>
            <p:nvSpPr>
              <p:cNvPr id="137" name="AutoShape 4"/>
              <p:cNvSpPr/>
              <p:nvPr/>
            </p:nvSpPr>
            <p:spPr>
              <a:xfrm>
                <a:off x="1641600" y="4410000"/>
                <a:ext cx="1727640" cy="57492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Бан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Группа 23"/>
              <p:cNvGrpSpPr/>
              <p:nvPr/>
            </p:nvGrpSpPr>
            <p:grpSpPr>
              <a:xfrm>
                <a:off x="1641600" y="1873080"/>
                <a:ext cx="1727640" cy="2413080"/>
                <a:chOff x="1641600" y="1873080"/>
                <a:chExt cx="1727640" cy="2413080"/>
              </a:xfrm>
            </p:grpSpPr>
            <p:sp>
              <p:nvSpPr>
                <p:cNvPr id="139" name="Скругленный прямоугольник 14"/>
                <p:cNvSpPr/>
                <p:nvPr/>
              </p:nvSpPr>
              <p:spPr>
                <a:xfrm>
                  <a:off x="16416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0" name="Picture 2" descr="C:\Documents and Settings\Admin\Рабочий стол\jar-with-red-lid-md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855800" y="2051640"/>
                  <a:ext cx="1326240" cy="205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1" name="Группа 80"/>
            <p:cNvGrpSpPr/>
            <p:nvPr/>
          </p:nvGrpSpPr>
          <p:grpSpPr>
            <a:xfrm>
              <a:off x="5212800" y="1873080"/>
              <a:ext cx="1727640" cy="3111840"/>
              <a:chOff x="5212800" y="1873080"/>
              <a:chExt cx="1727640" cy="3111840"/>
            </a:xfrm>
          </p:grpSpPr>
          <p:sp>
            <p:nvSpPr>
              <p:cNvPr id="142" name="AutoShape 4"/>
              <p:cNvSpPr/>
              <p:nvPr/>
            </p:nvSpPr>
            <p:spPr>
              <a:xfrm>
                <a:off x="5212800" y="4410000"/>
                <a:ext cx="1727640" cy="57492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Банка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Группа 25"/>
              <p:cNvGrpSpPr/>
              <p:nvPr/>
            </p:nvGrpSpPr>
            <p:grpSpPr>
              <a:xfrm>
                <a:off x="5212800" y="1873080"/>
                <a:ext cx="1727640" cy="2413080"/>
                <a:chOff x="5212800" y="1873080"/>
                <a:chExt cx="1727640" cy="2413080"/>
              </a:xfrm>
            </p:grpSpPr>
            <p:sp>
              <p:nvSpPr>
                <p:cNvPr id="144" name="Скругленный прямоугольник 14"/>
                <p:cNvSpPr/>
                <p:nvPr/>
              </p:nvSpPr>
              <p:spPr>
                <a:xfrm>
                  <a:off x="52128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5" name="Picture 3" descr="C:\Documents and Settings\Admin\Рабочий стол\jar-with-blue-lid-md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6640" y="2051640"/>
                  <a:ext cx="1326240" cy="205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6" name="Группа 79"/>
            <p:cNvGrpSpPr/>
            <p:nvPr/>
          </p:nvGrpSpPr>
          <p:grpSpPr>
            <a:xfrm>
              <a:off x="3427200" y="1873080"/>
              <a:ext cx="1727640" cy="3111840"/>
              <a:chOff x="3427200" y="1873080"/>
              <a:chExt cx="1727640" cy="3111840"/>
            </a:xfrm>
          </p:grpSpPr>
          <p:sp>
            <p:nvSpPr>
              <p:cNvPr id="147" name="AutoShape 4"/>
              <p:cNvSpPr/>
              <p:nvPr/>
            </p:nvSpPr>
            <p:spPr>
              <a:xfrm>
                <a:off x="3427200" y="4410360"/>
                <a:ext cx="172728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Фужер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Группа 24"/>
              <p:cNvGrpSpPr/>
              <p:nvPr/>
            </p:nvGrpSpPr>
            <p:grpSpPr>
              <a:xfrm>
                <a:off x="3427200" y="1873080"/>
                <a:ext cx="1727640" cy="2413080"/>
                <a:chOff x="3427200" y="1873080"/>
                <a:chExt cx="1727640" cy="2413080"/>
              </a:xfrm>
            </p:grpSpPr>
            <p:sp>
              <p:nvSpPr>
                <p:cNvPr id="149" name="Скругленный прямоугольник 14"/>
                <p:cNvSpPr/>
                <p:nvPr/>
              </p:nvSpPr>
              <p:spPr>
                <a:xfrm>
                  <a:off x="34272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50" name="Picture 5" descr="C:\Documents and Settings\Admin\Рабочий стол\1195427192355627869JicJac_Happy_Hour.svg.med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38160" y="2168280"/>
                  <a:ext cx="1332360" cy="181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51" name="Picture 5" descr="C:\Documents and Settings\Admin\Рабочий стол\red-go-next-md.png"/>
          <p:cNvPicPr/>
          <p:nvPr/>
        </p:nvPicPr>
        <p:blipFill>
          <a:blip r:embed="rId4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52" name="Группа 82"/>
          <p:cNvGrpSpPr/>
          <p:nvPr/>
        </p:nvGrpSpPr>
        <p:grpSpPr>
          <a:xfrm>
            <a:off x="1643040" y="1857240"/>
            <a:ext cx="5300640" cy="3111480"/>
            <a:chOff x="1643040" y="1857240"/>
            <a:chExt cx="5300640" cy="3111480"/>
          </a:xfrm>
        </p:grpSpPr>
        <p:grpSp>
          <p:nvGrpSpPr>
            <p:cNvPr id="153" name="Группа 54"/>
            <p:cNvGrpSpPr/>
            <p:nvPr/>
          </p:nvGrpSpPr>
          <p:grpSpPr>
            <a:xfrm>
              <a:off x="3429360" y="1857240"/>
              <a:ext cx="1728000" cy="3111480"/>
              <a:chOff x="3429360" y="1857240"/>
              <a:chExt cx="1728000" cy="3111480"/>
            </a:xfrm>
          </p:grpSpPr>
          <p:sp>
            <p:nvSpPr>
              <p:cNvPr id="154" name="AutoShape 4"/>
              <p:cNvSpPr/>
              <p:nvPr/>
            </p:nvSpPr>
            <p:spPr>
              <a:xfrm>
                <a:off x="342936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Колба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Скругленный прямоугольник 14"/>
              <p:cNvSpPr/>
              <p:nvPr/>
            </p:nvSpPr>
            <p:spPr>
              <a:xfrm>
                <a:off x="342936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" name="Picture 7" descr="C:\Documents and Settings\Admin\Рабочий стол\Мусор\chemistry-flash-purple-md.png"/>
              <p:cNvPicPr/>
              <p:nvPr/>
            </p:nvPicPr>
            <p:blipFill>
              <a:blip r:embed="rId5"/>
              <a:stretch/>
            </p:blipFill>
            <p:spPr>
              <a:xfrm>
                <a:off x="3646080" y="2269440"/>
                <a:ext cx="1294560" cy="16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Группа 53"/>
            <p:cNvGrpSpPr/>
            <p:nvPr/>
          </p:nvGrpSpPr>
          <p:grpSpPr>
            <a:xfrm>
              <a:off x="1643040" y="1857240"/>
              <a:ext cx="1728000" cy="3111480"/>
              <a:chOff x="1643040" y="1857240"/>
              <a:chExt cx="1728000" cy="3111480"/>
            </a:xfrm>
          </p:grpSpPr>
          <p:sp>
            <p:nvSpPr>
              <p:cNvPr id="158" name="AutoShape 4"/>
              <p:cNvSpPr/>
              <p:nvPr/>
            </p:nvSpPr>
            <p:spPr>
              <a:xfrm>
                <a:off x="1643040" y="4394160"/>
                <a:ext cx="172764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Аквариу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Скругленный прямоугольник 14"/>
              <p:cNvSpPr/>
              <p:nvPr/>
            </p:nvSpPr>
            <p:spPr>
              <a:xfrm>
                <a:off x="164304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" name="Picture 9" descr="C:\Documents and Settings\Admin\Рабочий стол\Мусор\11971234151950210022TomK32_Gold-fish_glas.svg.med.png"/>
              <p:cNvPicPr/>
              <p:nvPr/>
            </p:nvPicPr>
            <p:blipFill>
              <a:blip r:embed="rId6"/>
              <a:stretch/>
            </p:blipFill>
            <p:spPr>
              <a:xfrm>
                <a:off x="1733400" y="2471400"/>
                <a:ext cx="1547280" cy="1287360"/>
              </a:xfrm>
              <a:prstGeom prst="rect">
                <a:avLst/>
              </a:prstGeom>
              <a:ln w="0">
                <a:noFill/>
              </a:ln>
              <a:effectLst>
                <a:outerShdw dist="50841" dir="2407034" blurRad="0" rotWithShape="0">
                  <a:srgbClr val="0066ff">
                    <a:alpha val="50000"/>
                  </a:srgbClr>
                </a:outerShdw>
              </a:effectLst>
            </p:spPr>
          </p:pic>
        </p:grpSp>
        <p:grpSp>
          <p:nvGrpSpPr>
            <p:cNvPr id="161" name="Группа 55"/>
            <p:cNvGrpSpPr/>
            <p:nvPr/>
          </p:nvGrpSpPr>
          <p:grpSpPr>
            <a:xfrm>
              <a:off x="5215680" y="1857240"/>
              <a:ext cx="1728000" cy="3111480"/>
              <a:chOff x="5215680" y="1857240"/>
              <a:chExt cx="1728000" cy="3111480"/>
            </a:xfrm>
          </p:grpSpPr>
          <p:sp>
            <p:nvSpPr>
              <p:cNvPr id="162" name="AutoShape 4"/>
              <p:cNvSpPr/>
              <p:nvPr/>
            </p:nvSpPr>
            <p:spPr>
              <a:xfrm>
                <a:off x="5216040" y="4394160"/>
                <a:ext cx="172764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Стакан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Скругленный прямоугольник 14"/>
              <p:cNvSpPr/>
              <p:nvPr/>
            </p:nvSpPr>
            <p:spPr>
              <a:xfrm>
                <a:off x="521568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" name="Picture 8" descr="C:\Documents and Settings\Admin\Рабочий стол\Мусор\11949841641888548339juice_glass_andremarcel._01.svg.med.png"/>
              <p:cNvPicPr/>
              <p:nvPr/>
            </p:nvPicPr>
            <p:blipFill>
              <a:blip r:embed="rId7"/>
              <a:srcRect l="18039" t="-4914" r="0" b="0"/>
              <a:stretch/>
            </p:blipFill>
            <p:spPr>
              <a:xfrm>
                <a:off x="5374440" y="2353680"/>
                <a:ext cx="1410840" cy="1656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5" name="Группа 95"/>
          <p:cNvGrpSpPr/>
          <p:nvPr/>
        </p:nvGrpSpPr>
        <p:grpSpPr>
          <a:xfrm>
            <a:off x="1643040" y="1857240"/>
            <a:ext cx="5641560" cy="3111480"/>
            <a:chOff x="1643040" y="1857240"/>
            <a:chExt cx="5641560" cy="3111480"/>
          </a:xfrm>
        </p:grpSpPr>
        <p:grpSp>
          <p:nvGrpSpPr>
            <p:cNvPr id="166" name="Группа 65"/>
            <p:cNvGrpSpPr/>
            <p:nvPr/>
          </p:nvGrpSpPr>
          <p:grpSpPr>
            <a:xfrm>
              <a:off x="5125320" y="1857240"/>
              <a:ext cx="2159280" cy="3111480"/>
              <a:chOff x="5125320" y="1857240"/>
              <a:chExt cx="2159280" cy="3111480"/>
            </a:xfrm>
          </p:grpSpPr>
          <p:sp>
            <p:nvSpPr>
              <p:cNvPr id="167" name="AutoShape 4"/>
              <p:cNvSpPr/>
              <p:nvPr/>
            </p:nvSpPr>
            <p:spPr>
              <a:xfrm>
                <a:off x="521496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Лупа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Скругленный прямоугольник 14"/>
              <p:cNvSpPr/>
              <p:nvPr/>
            </p:nvSpPr>
            <p:spPr>
              <a:xfrm>
                <a:off x="5214960" y="1857240"/>
                <a:ext cx="172872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" name="Picture 3" descr="C:\Documents and Settings\Admin\Рабочий стол\search-md.png"/>
              <p:cNvPicPr/>
              <p:nvPr/>
            </p:nvPicPr>
            <p:blipFill>
              <a:blip r:embed="rId8"/>
              <a:stretch/>
            </p:blipFill>
            <p:spPr>
              <a:xfrm rot="1108200">
                <a:off x="5340960" y="2320920"/>
                <a:ext cx="1728000" cy="164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" name="Группа 64"/>
            <p:cNvGrpSpPr/>
            <p:nvPr/>
          </p:nvGrpSpPr>
          <p:grpSpPr>
            <a:xfrm>
              <a:off x="3429000" y="1857240"/>
              <a:ext cx="1728000" cy="3111480"/>
              <a:chOff x="3429000" y="1857240"/>
              <a:chExt cx="1728000" cy="3111480"/>
            </a:xfrm>
          </p:grpSpPr>
          <p:sp>
            <p:nvSpPr>
              <p:cNvPr id="171" name="AutoShape 4"/>
              <p:cNvSpPr/>
              <p:nvPr/>
            </p:nvSpPr>
            <p:spPr>
              <a:xfrm>
                <a:off x="342900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Лампа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Скругленный прямоугольник 14"/>
              <p:cNvSpPr/>
              <p:nvPr/>
            </p:nvSpPr>
            <p:spPr>
              <a:xfrm>
                <a:off x="342900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Picture 4" descr="C:\Documents and Settings\Admin\Рабочий стол\11949844971468298061lamp_sergio_luiz_araujo__01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3741120" y="2169720"/>
                <a:ext cx="1102680" cy="1944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Группа 63"/>
            <p:cNvGrpSpPr/>
            <p:nvPr/>
          </p:nvGrpSpPr>
          <p:grpSpPr>
            <a:xfrm>
              <a:off x="1643040" y="1857240"/>
              <a:ext cx="1728000" cy="3111480"/>
              <a:chOff x="1643040" y="1857240"/>
              <a:chExt cx="1728000" cy="3111480"/>
            </a:xfrm>
          </p:grpSpPr>
          <p:sp>
            <p:nvSpPr>
              <p:cNvPr id="175" name="AutoShape 4"/>
              <p:cNvSpPr/>
              <p:nvPr/>
            </p:nvSpPr>
            <p:spPr>
              <a:xfrm>
                <a:off x="1643040" y="4394160"/>
                <a:ext cx="172728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Час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Скругленный прямоугольник 14"/>
              <p:cNvSpPr/>
              <p:nvPr/>
            </p:nvSpPr>
            <p:spPr>
              <a:xfrm>
                <a:off x="164304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" name="Picture 2" descr="C:\Documents and Settings\Admin\Рабочий стол\1194984469218270249clessidra_architetto_fra_01.svg.med.png"/>
              <p:cNvPicPr/>
              <p:nvPr/>
            </p:nvPicPr>
            <p:blipFill>
              <a:blip r:embed="rId10"/>
              <a:stretch/>
            </p:blipFill>
            <p:spPr>
              <a:xfrm>
                <a:off x="1930680" y="2169720"/>
                <a:ext cx="1158840" cy="194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8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стекла 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C:\Documents and Settings\Admin\Рабочий стол\red-go-next-md.png"/>
          <p:cNvPicPr/>
          <p:nvPr/>
        </p:nvPicPr>
        <p:blipFill>
          <a:blip r:embed="rId1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84" name="Группа 82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185" name="Группа 80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186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187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Кольцо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89" name="Picture 3" descr="C:\Documents and Settings\Admin\Рабочий стол\12316860852106964535freedo_Wedding_Ring.svg.med.png"/>
              <p:cNvPicPr/>
              <p:nvPr/>
            </p:nvPicPr>
            <p:blipFill>
              <a:blip r:embed="rId2"/>
              <a:stretch/>
            </p:blipFill>
            <p:spPr>
              <a:xfrm>
                <a:off x="3323160" y="2396520"/>
                <a:ext cx="1512000" cy="97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0" name="Группа 81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191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192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Замо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4" name="Picture 11" descr="C:\Documents and Settings\Admin\Рабочий стол\Мусор\1194983714761092458lucchetto_ottone_archite_01.svg.med.png"/>
              <p:cNvPicPr/>
              <p:nvPr/>
            </p:nvPicPr>
            <p:blipFill>
              <a:blip r:embed="rId3"/>
              <a:stretch/>
            </p:blipFill>
            <p:spPr>
              <a:xfrm>
                <a:off x="5253480" y="2000520"/>
                <a:ext cx="1224000" cy="1580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Группа 79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196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197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локол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9" name="Picture 12" descr="C:\Documents and Settings\Admin\Рабочий стол\Мусор\1237099802785615674nicubunu_Bell.svg.med.png"/>
              <p:cNvPicPr/>
              <p:nvPr/>
            </p:nvPicPr>
            <p:blipFill>
              <a:blip r:embed="rId4"/>
              <a:stretch/>
            </p:blipFill>
            <p:spPr>
              <a:xfrm>
                <a:off x="1608840" y="2220480"/>
                <a:ext cx="1368000" cy="1396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0" name="Группа 83"/>
          <p:cNvGrpSpPr/>
          <p:nvPr/>
        </p:nvGrpSpPr>
        <p:grpSpPr>
          <a:xfrm>
            <a:off x="1428840" y="1714680"/>
            <a:ext cx="5316480" cy="3111480"/>
            <a:chOff x="1428840" y="1714680"/>
            <a:chExt cx="5316480" cy="3111480"/>
          </a:xfrm>
        </p:grpSpPr>
        <p:grpSp>
          <p:nvGrpSpPr>
            <p:cNvPr id="201" name="Группа 41"/>
            <p:cNvGrpSpPr/>
            <p:nvPr/>
          </p:nvGrpSpPr>
          <p:grpSpPr>
            <a:xfrm>
              <a:off x="3223080" y="1714680"/>
              <a:ext cx="1728000" cy="3111480"/>
              <a:chOff x="3223080" y="1714680"/>
              <a:chExt cx="1728000" cy="3111480"/>
            </a:xfrm>
          </p:grpSpPr>
          <p:grpSp>
            <p:nvGrpSpPr>
              <p:cNvPr id="202" name="Группа 64"/>
              <p:cNvGrpSpPr/>
              <p:nvPr/>
            </p:nvGrpSpPr>
            <p:grpSpPr>
              <a:xfrm>
                <a:off x="3223080" y="1714680"/>
                <a:ext cx="1728000" cy="3111480"/>
                <a:chOff x="3223080" y="1714680"/>
                <a:chExt cx="1728000" cy="3111480"/>
              </a:xfrm>
            </p:grpSpPr>
            <p:sp>
              <p:nvSpPr>
                <p:cNvPr id="203" name="AutoShape 4"/>
                <p:cNvSpPr/>
                <p:nvPr/>
              </p:nvSpPr>
              <p:spPr>
                <a:xfrm>
                  <a:off x="322308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Труб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Скругленный прямоугольник 14"/>
                <p:cNvSpPr/>
                <p:nvPr/>
              </p:nvSpPr>
              <p:spPr>
                <a:xfrm>
                  <a:off x="32230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5" name="Picture 2" descr="C:\Documents and Settings\Admin\Рабочий стол\11949866582142581929french_horn_ganson.svg.med.png"/>
              <p:cNvPicPr/>
              <p:nvPr/>
            </p:nvPicPr>
            <p:blipFill>
              <a:blip r:embed="rId5"/>
              <a:stretch/>
            </p:blipFill>
            <p:spPr>
              <a:xfrm>
                <a:off x="3267000" y="2343600"/>
                <a:ext cx="1623240" cy="115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" name="Группа 42"/>
            <p:cNvGrpSpPr/>
            <p:nvPr/>
          </p:nvGrpSpPr>
          <p:grpSpPr>
            <a:xfrm>
              <a:off x="5017320" y="1714680"/>
              <a:ext cx="1728000" cy="3111480"/>
              <a:chOff x="5017320" y="1714680"/>
              <a:chExt cx="1728000" cy="3111480"/>
            </a:xfrm>
          </p:grpSpPr>
          <p:grpSp>
            <p:nvGrpSpPr>
              <p:cNvPr id="207" name="Группа 65"/>
              <p:cNvGrpSpPr/>
              <p:nvPr/>
            </p:nvGrpSpPr>
            <p:grpSpPr>
              <a:xfrm>
                <a:off x="5017320" y="1714680"/>
                <a:ext cx="1728000" cy="3111480"/>
                <a:chOff x="5017320" y="1714680"/>
                <a:chExt cx="1728000" cy="3111480"/>
              </a:xfrm>
            </p:grpSpPr>
            <p:sp>
              <p:nvSpPr>
                <p:cNvPr id="208" name="AutoShape 4"/>
                <p:cNvSpPr/>
                <p:nvPr/>
              </p:nvSpPr>
              <p:spPr>
                <a:xfrm>
                  <a:off x="501732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убо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Скругленный прямоугольник 14"/>
                <p:cNvSpPr/>
                <p:nvPr/>
              </p:nvSpPr>
              <p:spPr>
                <a:xfrm>
                  <a:off x="501768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0" name="Picture 5" descr="C:\Documents and Settings\Admin\Рабочий стол\1298268524507354096Trophy.svg.med.png"/>
              <p:cNvPicPr/>
              <p:nvPr/>
            </p:nvPicPr>
            <p:blipFill>
              <a:blip r:embed="rId6"/>
              <a:stretch/>
            </p:blipFill>
            <p:spPr>
              <a:xfrm>
                <a:off x="5036040" y="1857600"/>
                <a:ext cx="1690560" cy="2124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" name="Группа 40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12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13" name="AutoShape 4"/>
                <p:cNvSpPr/>
                <p:nvPr/>
              </p:nvSpPr>
              <p:spPr>
                <a:xfrm>
                  <a:off x="14288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Монеты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Скругленный прямоугольник 14"/>
                <p:cNvSpPr/>
                <p:nvPr/>
              </p:nvSpPr>
              <p:spPr>
                <a:xfrm>
                  <a:off x="142884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5" name="Picture 6" descr="C:\Documents and Settings\Admin\Рабочий стол\1195425990911699381ArtFavor_Money_stack_of_coins.svg.med.png"/>
              <p:cNvPicPr/>
              <p:nvPr/>
            </p:nvPicPr>
            <p:blipFill>
              <a:blip r:embed="rId7"/>
              <a:stretch/>
            </p:blipFill>
            <p:spPr>
              <a:xfrm>
                <a:off x="1590840" y="2313720"/>
                <a:ext cx="1404000" cy="1212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6" name="Группа 99"/>
          <p:cNvGrpSpPr/>
          <p:nvPr/>
        </p:nvGrpSpPr>
        <p:grpSpPr>
          <a:xfrm>
            <a:off x="1428840" y="1714680"/>
            <a:ext cx="5308560" cy="3111480"/>
            <a:chOff x="1428840" y="1714680"/>
            <a:chExt cx="5308560" cy="3111480"/>
          </a:xfrm>
        </p:grpSpPr>
        <p:grpSp>
          <p:nvGrpSpPr>
            <p:cNvPr id="217" name="Группа 47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18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19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рон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1" name="Picture 4" descr="C:\Documents and Settings\Admin\Рабочий стол\12199886922028689060crown.svg.med.png"/>
              <p:cNvPicPr/>
              <p:nvPr/>
            </p:nvPicPr>
            <p:blipFill>
              <a:blip r:embed="rId8"/>
              <a:stretch/>
            </p:blipFill>
            <p:spPr>
              <a:xfrm>
                <a:off x="1446840" y="2422440"/>
                <a:ext cx="1692000" cy="902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2" name="Группа 48"/>
            <p:cNvGrpSpPr/>
            <p:nvPr/>
          </p:nvGrpSpPr>
          <p:grpSpPr>
            <a:xfrm>
              <a:off x="3223080" y="1714680"/>
              <a:ext cx="1728000" cy="3111480"/>
              <a:chOff x="3223080" y="1714680"/>
              <a:chExt cx="1728000" cy="3111480"/>
            </a:xfrm>
          </p:grpSpPr>
          <p:grpSp>
            <p:nvGrpSpPr>
              <p:cNvPr id="223" name="Группа 64"/>
              <p:cNvGrpSpPr/>
              <p:nvPr/>
            </p:nvGrpSpPr>
            <p:grpSpPr>
              <a:xfrm>
                <a:off x="3223080" y="1714680"/>
                <a:ext cx="1728000" cy="3111480"/>
                <a:chOff x="3223080" y="1714680"/>
                <a:chExt cx="1728000" cy="3111480"/>
              </a:xfrm>
            </p:grpSpPr>
            <p:sp>
              <p:nvSpPr>
                <p:cNvPr id="224" name="AutoShape 4"/>
                <p:cNvSpPr/>
                <p:nvPr/>
              </p:nvSpPr>
              <p:spPr>
                <a:xfrm>
                  <a:off x="322308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Ножницы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Скругленный прямоугольник 14"/>
                <p:cNvSpPr/>
                <p:nvPr/>
              </p:nvSpPr>
              <p:spPr>
                <a:xfrm>
                  <a:off x="32230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6" name="Picture 10" descr="C:\Documents and Settings\Admin\Рабочий стол\Мусор\12247845911693553444schoolfreeware_Scissors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3331080" y="2036160"/>
                <a:ext cx="1512000" cy="1675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7" name="Группа 49"/>
            <p:cNvGrpSpPr/>
            <p:nvPr/>
          </p:nvGrpSpPr>
          <p:grpSpPr>
            <a:xfrm>
              <a:off x="5009400" y="1714680"/>
              <a:ext cx="1728000" cy="3111480"/>
              <a:chOff x="5009400" y="1714680"/>
              <a:chExt cx="1728000" cy="3111480"/>
            </a:xfrm>
          </p:grpSpPr>
          <p:grpSp>
            <p:nvGrpSpPr>
              <p:cNvPr id="228" name="Группа 65"/>
              <p:cNvGrpSpPr/>
              <p:nvPr/>
            </p:nvGrpSpPr>
            <p:grpSpPr>
              <a:xfrm>
                <a:off x="5009400" y="1714680"/>
                <a:ext cx="1728000" cy="3111480"/>
                <a:chOff x="5009400" y="1714680"/>
                <a:chExt cx="1728000" cy="3111480"/>
              </a:xfrm>
            </p:grpSpPr>
            <p:sp>
              <p:nvSpPr>
                <p:cNvPr id="229" name="AutoShape 4"/>
                <p:cNvSpPr/>
                <p:nvPr/>
              </p:nvSpPr>
              <p:spPr>
                <a:xfrm>
                  <a:off x="500976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Цепочка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Скругленный прямоугольник 14"/>
                <p:cNvSpPr/>
                <p:nvPr/>
              </p:nvSpPr>
              <p:spPr>
                <a:xfrm>
                  <a:off x="500940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1" name="Picture 14" descr="C:\Documents and Settings\Admin\Рабочий стол\Мусор\11949864351257141895gold_chain_of_round_lin_01.svg.med.png"/>
              <p:cNvPicPr/>
              <p:nvPr/>
            </p:nvPicPr>
            <p:blipFill>
              <a:blip r:embed="rId10"/>
              <a:stretch/>
            </p:blipFill>
            <p:spPr>
              <a:xfrm>
                <a:off x="5009400" y="2044080"/>
                <a:ext cx="1728000" cy="1658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2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металла 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C:\Documents and Settings\Admin\Рабочий стол\red-go-next-md.png"/>
          <p:cNvPicPr/>
          <p:nvPr/>
        </p:nvPicPr>
        <p:blipFill>
          <a:blip r:embed="rId1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пластмас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Группа 65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240" name="Группа 63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41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42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Ведро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4" name="Picture 2" descr="C:\Documents and Settings\Admin\Рабочий стол\pail-bucket-md.png"/>
              <p:cNvPicPr/>
              <p:nvPr/>
            </p:nvPicPr>
            <p:blipFill>
              <a:blip r:embed="rId2"/>
              <a:stretch/>
            </p:blipFill>
            <p:spPr>
              <a:xfrm>
                <a:off x="1590840" y="2307600"/>
                <a:ext cx="1404000" cy="137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Группа 64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246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247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Игрушки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9" name="Picture 3" descr="C:\Documents and Settings\Admin\Рабочий стол\1197103980603314298addon_bucket_and_spade.svg.med.png"/>
              <p:cNvPicPr/>
              <p:nvPr/>
            </p:nvPicPr>
            <p:blipFill>
              <a:blip r:embed="rId3"/>
              <a:srcRect l="18503" t="0" r="11460" b="0"/>
              <a:stretch/>
            </p:blipFill>
            <p:spPr>
              <a:xfrm>
                <a:off x="5145480" y="2128320"/>
                <a:ext cx="1440000" cy="1734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0" name="Группа 62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251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252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Весы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4" name="Picture 4" descr="C:\Documents and Settings\Admin\Рабочий стол\12316857481156954714rg1024_kitchen_scales.svg.med.png"/>
              <p:cNvPicPr/>
              <p:nvPr/>
            </p:nvPicPr>
            <p:blipFill>
              <a:blip r:embed="rId4"/>
              <a:stretch/>
            </p:blipFill>
            <p:spPr>
              <a:xfrm>
                <a:off x="3359160" y="2126520"/>
                <a:ext cx="1440000" cy="173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5" name="Группа 66"/>
          <p:cNvGrpSpPr/>
          <p:nvPr/>
        </p:nvGrpSpPr>
        <p:grpSpPr>
          <a:xfrm>
            <a:off x="1428840" y="1714680"/>
            <a:ext cx="5406840" cy="3111480"/>
            <a:chOff x="1428840" y="1714680"/>
            <a:chExt cx="5406840" cy="3111480"/>
          </a:xfrm>
        </p:grpSpPr>
        <p:grpSp>
          <p:nvGrpSpPr>
            <p:cNvPr id="256" name="Группа 53"/>
            <p:cNvGrpSpPr/>
            <p:nvPr/>
          </p:nvGrpSpPr>
          <p:grpSpPr>
            <a:xfrm>
              <a:off x="3214080" y="1714680"/>
              <a:ext cx="1987200" cy="3111480"/>
              <a:chOff x="3214080" y="1714680"/>
              <a:chExt cx="1987200" cy="3111480"/>
            </a:xfrm>
          </p:grpSpPr>
          <p:grpSp>
            <p:nvGrpSpPr>
              <p:cNvPr id="257" name="Группа 64"/>
              <p:cNvGrpSpPr/>
              <p:nvPr/>
            </p:nvGrpSpPr>
            <p:grpSpPr>
              <a:xfrm>
                <a:off x="3214440" y="1714680"/>
                <a:ext cx="1728000" cy="3111480"/>
                <a:chOff x="3214440" y="1714680"/>
                <a:chExt cx="1728000" cy="3111480"/>
              </a:xfrm>
            </p:grpSpPr>
            <p:sp>
              <p:nvSpPr>
                <p:cNvPr id="258" name="AutoShape 4"/>
                <p:cNvSpPr/>
                <p:nvPr/>
              </p:nvSpPr>
              <p:spPr>
                <a:xfrm>
                  <a:off x="32144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Щетк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Скругленный прямоугольник 14"/>
                <p:cNvSpPr/>
                <p:nvPr/>
              </p:nvSpPr>
              <p:spPr>
                <a:xfrm>
                  <a:off x="32144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60" name="Picture 2" descr="C:\Documents and Settings\Admin\Рабочий стол\1194985030578652702toothbrush_and_paste_ganson.svg.med.png"/>
              <p:cNvPicPr/>
              <p:nvPr/>
            </p:nvPicPr>
            <p:blipFill>
              <a:blip r:embed="rId5"/>
              <a:stretch/>
            </p:blipFill>
            <p:spPr>
              <a:xfrm rot="19303200">
                <a:off x="3289680" y="2474640"/>
                <a:ext cx="1836000" cy="88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1" name="Группа 50"/>
            <p:cNvGrpSpPr/>
            <p:nvPr/>
          </p:nvGrpSpPr>
          <p:grpSpPr>
            <a:xfrm>
              <a:off x="1428840" y="1714680"/>
              <a:ext cx="1727640" cy="3111480"/>
              <a:chOff x="1428840" y="1714680"/>
              <a:chExt cx="1727640" cy="3111480"/>
            </a:xfrm>
          </p:grpSpPr>
          <p:grpSp>
            <p:nvGrpSpPr>
              <p:cNvPr id="262" name="Группа 63"/>
              <p:cNvGrpSpPr/>
              <p:nvPr/>
            </p:nvGrpSpPr>
            <p:grpSpPr>
              <a:xfrm>
                <a:off x="1428840" y="1714680"/>
                <a:ext cx="1727640" cy="3111480"/>
                <a:chOff x="1428840" y="1714680"/>
                <a:chExt cx="1727640" cy="3111480"/>
              </a:xfrm>
            </p:grpSpPr>
            <p:sp>
              <p:nvSpPr>
                <p:cNvPr id="263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Горшок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Скругленный прямоугольник 14"/>
                <p:cNvSpPr/>
                <p:nvPr/>
              </p:nvSpPr>
              <p:spPr>
                <a:xfrm>
                  <a:off x="1428840" y="1714680"/>
                  <a:ext cx="172728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65" name="Picture 3" descr="C:\Documents and Settings\Admin\Рабочий стол\plant-in-pot-md.png"/>
              <p:cNvPicPr/>
              <p:nvPr/>
            </p:nvPicPr>
            <p:blipFill>
              <a:blip r:embed="rId6"/>
              <a:stretch/>
            </p:blipFill>
            <p:spPr>
              <a:xfrm>
                <a:off x="1770480" y="1874160"/>
                <a:ext cx="1043640" cy="200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6" name="Группа 51"/>
            <p:cNvGrpSpPr/>
            <p:nvPr/>
          </p:nvGrpSpPr>
          <p:grpSpPr>
            <a:xfrm>
              <a:off x="5000400" y="1714680"/>
              <a:ext cx="1835280" cy="3111480"/>
              <a:chOff x="5000400" y="1714680"/>
              <a:chExt cx="1835280" cy="3111480"/>
            </a:xfrm>
          </p:grpSpPr>
          <p:grpSp>
            <p:nvGrpSpPr>
              <p:cNvPr id="267" name="Группа 65"/>
              <p:cNvGrpSpPr/>
              <p:nvPr/>
            </p:nvGrpSpPr>
            <p:grpSpPr>
              <a:xfrm>
                <a:off x="5000400" y="1714680"/>
                <a:ext cx="1728000" cy="3111480"/>
                <a:chOff x="5000400" y="1714680"/>
                <a:chExt cx="1728000" cy="3111480"/>
              </a:xfrm>
            </p:grpSpPr>
            <p:sp>
              <p:nvSpPr>
                <p:cNvPr id="268" name="AutoShape 4"/>
                <p:cNvSpPr/>
                <p:nvPr/>
              </p:nvSpPr>
              <p:spPr>
                <a:xfrm>
                  <a:off x="500040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Портфель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Скругленный прямоугольник 14"/>
                <p:cNvSpPr/>
                <p:nvPr/>
              </p:nvSpPr>
              <p:spPr>
                <a:xfrm>
                  <a:off x="500040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0" name="Picture 4" descr="C:\Documents and Settings\Admin\Рабочий стол\briefcase-md.png"/>
              <p:cNvPicPr/>
              <p:nvPr/>
            </p:nvPicPr>
            <p:blipFill>
              <a:blip r:embed="rId7"/>
              <a:stretch/>
            </p:blipFill>
            <p:spPr>
              <a:xfrm>
                <a:off x="5071680" y="2286360"/>
                <a:ext cx="1764000" cy="1248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71" name="Группа 85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272" name="Группа 62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273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274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Корзин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6" name="Picture 5" descr="C:\Documents and Settings\Admin\Рабочий стол\11949853531506526982cesto_architetto_frances_01.svg.med.png"/>
              <p:cNvPicPr/>
              <p:nvPr/>
            </p:nvPicPr>
            <p:blipFill>
              <a:blip r:embed="rId8"/>
              <a:stretch/>
            </p:blipFill>
            <p:spPr>
              <a:xfrm>
                <a:off x="3394800" y="2433240"/>
                <a:ext cx="1368360" cy="1300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7" name="Группа 63"/>
            <p:cNvGrpSpPr/>
            <p:nvPr/>
          </p:nvGrpSpPr>
          <p:grpSpPr>
            <a:xfrm>
              <a:off x="1428840" y="1714680"/>
              <a:ext cx="1907640" cy="3111480"/>
              <a:chOff x="1428840" y="1714680"/>
              <a:chExt cx="1907640" cy="3111480"/>
            </a:xfrm>
          </p:grpSpPr>
          <p:grpSp>
            <p:nvGrpSpPr>
              <p:cNvPr id="278" name="Группа 63"/>
              <p:cNvGrpSpPr/>
              <p:nvPr/>
            </p:nvGrpSpPr>
            <p:grpSpPr>
              <a:xfrm>
                <a:off x="1428840" y="1714680"/>
                <a:ext cx="1728360" cy="3111480"/>
                <a:chOff x="1428840" y="1714680"/>
                <a:chExt cx="1728360" cy="3111480"/>
              </a:xfrm>
            </p:grpSpPr>
            <p:sp>
              <p:nvSpPr>
                <p:cNvPr id="279" name="AutoShape 4"/>
                <p:cNvSpPr/>
                <p:nvPr/>
              </p:nvSpPr>
              <p:spPr>
                <a:xfrm>
                  <a:off x="14288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анистр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Скругленный прямоугольник 14"/>
                <p:cNvSpPr/>
                <p:nvPr/>
              </p:nvSpPr>
              <p:spPr>
                <a:xfrm>
                  <a:off x="1428840" y="1714680"/>
                  <a:ext cx="172836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1" name="Picture 7" descr="C:\Documents and Settings\Admin\Рабочий стол\1195433841573371478jerrican__tienne_bersac_01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1500120" y="2143440"/>
                <a:ext cx="1836360" cy="1880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2" name="Группа 64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283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284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Грузови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6" name="Picture 8" descr="C:\Documents and Settings\Admin\Рабочий стол\1194985156292479120truck_jarno_vasamaa_.svg.med.png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091480" y="2256480"/>
                <a:ext cx="1548000" cy="165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87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Скругленный прямоугольник 11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Orange Dress Clip Art"/>
          <p:cNvPicPr/>
          <p:nvPr/>
        </p:nvPicPr>
        <p:blipFill>
          <a:blip r:embed="rId1"/>
          <a:stretch/>
        </p:blipFill>
        <p:spPr>
          <a:xfrm rot="21051600">
            <a:off x="642960" y="2714760"/>
            <a:ext cx="2232000" cy="2409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Women Clothing Jeans With Patterns Clip Art"/>
          <p:cNvPicPr/>
          <p:nvPr/>
        </p:nvPicPr>
        <p:blipFill>
          <a:blip r:embed="rId2"/>
          <a:stretch/>
        </p:blipFill>
        <p:spPr>
          <a:xfrm>
            <a:off x="6357960" y="2071800"/>
            <a:ext cx="1485720" cy="2857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Men Suit Tie Clip Art"/>
          <p:cNvPicPr/>
          <p:nvPr/>
        </p:nvPicPr>
        <p:blipFill>
          <a:blip r:embed="rId3"/>
          <a:stretch/>
        </p:blipFill>
        <p:spPr>
          <a:xfrm>
            <a:off x="3000240" y="4714920"/>
            <a:ext cx="2857680" cy="1542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Red Wedding Gown Clip Art"/>
          <p:cNvPicPr/>
          <p:nvPr/>
        </p:nvPicPr>
        <p:blipFill>
          <a:blip r:embed="rId4"/>
          <a:stretch/>
        </p:blipFill>
        <p:spPr>
          <a:xfrm>
            <a:off x="4786200" y="1714680"/>
            <a:ext cx="1543320" cy="2809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Maroon Suit Clip Art"/>
          <p:cNvPicPr/>
          <p:nvPr/>
        </p:nvPicPr>
        <p:blipFill>
          <a:blip r:embed="rId5"/>
          <a:stretch/>
        </p:blipFill>
        <p:spPr>
          <a:xfrm rot="21139200">
            <a:off x="2643120" y="1571400"/>
            <a:ext cx="1886040" cy="2838240"/>
          </a:xfrm>
          <a:prstGeom prst="rect">
            <a:avLst/>
          </a:prstGeom>
          <a:ln w="0">
            <a:noFill/>
          </a:ln>
        </p:spPr>
      </p:pic>
      <p:grpSp>
        <p:nvGrpSpPr>
          <p:cNvPr id="296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297" name="AutoShape 4" descr=""/>
            <p:cNvPicPr/>
            <p:nvPr/>
          </p:nvPicPr>
          <p:blipFill>
            <a:blip r:embed="rId6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дежд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Rectangle 14"/>
          <p:cNvSpPr/>
          <p:nvPr/>
        </p:nvSpPr>
        <p:spPr>
          <a:xfrm rot="322800">
            <a:off x="5600160" y="1203120"/>
            <a:ext cx="2821680" cy="576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став оде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 rot="20859600">
            <a:off x="6390360" y="5203440"/>
            <a:ext cx="1983240" cy="576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ас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Red Arrows Set Right Clip Art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9:36:35Z</dcterms:created>
  <dc:creator>Admin</dc:creator>
  <dc:description/>
  <dc:language>en-US</dc:language>
  <cp:lastModifiedBy>LEGION</cp:lastModifiedBy>
  <dcterms:modified xsi:type="dcterms:W3CDTF">2015-05-01T11:21:31Z</dcterms:modified>
  <cp:revision>26</cp:revision>
  <dc:subject/>
  <dc:title>Предмет химии</dc:title>
</cp:coreProperties>
</file>