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B179-245F-411D-80EF-0E403C0F12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2" Type="http://schemas.openxmlformats.org/officeDocument/2006/relationships/hyperlink" Target="http://ru.wikipedia.org/wiki/&#1042;&#1077;&#1097;&#1077;&#1089;&#1090;&#1074;&#1086;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личество вещества, число Авогадро, молярная масса, молярный объём, уравнение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цапкина  Людмила  Василь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химии ГБОУ гимназии 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ского район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67E7-EDAD-4187-9A11-87644E492F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Уравнение 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44E4-E56A-47E5-A2F2-C14CC260F4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 (закреп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число молекул в 2 молях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массу 3 моль углекислого газа (СО2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считайте массу 112 л водорода (н.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тяжелее: 2 моль СО2 или 2 моль СаО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количество вещества серной кислоты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H2SO4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ссой 4,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ой объем займет сернистый газ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O2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масса которого равна 3,2 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8F6A-14E5-4518-AA37-2FFA3BDD23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ом вещества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9E38-5CF7-4FBF-9941-69F291280A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физическая величин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веще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атомы, молекулы, ионы  или любые другие частицы). Единицей измерения количества вещества в СИ служит  моль. Нужно знать, что моль содержит столько же структурных частиц, сколько содержится атомов в 12г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14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F981-D8F7-4FDF-A0DA-9A29294139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ярная  м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масса одного моля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/мол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лярная масса численно равна молекулярной м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 отсюд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C6DB-FCDC-4215-BA8F-5296879E28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Закон объем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яя объемы, и объемы газов, в результате реакц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Л. Гей-Люсс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закон газовых (объемных) 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6B46-E85B-40E7-B7A6-32966BF31F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Н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F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3B33-96B6-4FFF-832E-C65A56A7E1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F7C3-223A-4194-9578-E0AAC8391C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едствия (для газ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н.у. 1 моль любого газа занимает      объем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2,4 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C285-A46B-4E49-BB5F-F3982A85E1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297-85A8-49CF-B286-2436408A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172-53B0-4AD7-A444-042C02BC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9FB-9996-446C-9C6B-7DEE1478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238-0510-4D83-A369-F87E460B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854-79F0-4872-8A21-C9E31B32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197-E5CD-4A0F-9696-1B207873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A0F-3EAF-4132-8322-C74B5899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B50-EB86-4696-82E2-F8CF4D4F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F21-370E-41F6-8AE3-73D7AE68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12C-5118-4470-957D-54FFC788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2A3-58D2-4E9D-B928-D355B31D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A8A-1F6A-42CC-8F0C-C3FB2949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3E8B-6EA0-4CFB-8DC7-6EC7430B9A9A}" type="datetime">
              <a:rPr b="0" lang="ru-RU" sz="1200" spc="-1" strike="noStrike">
                <a:solidFill>
                  <a:srgbClr val="89898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F1AE-BB1B-4834-AB14-A307A711CA79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3" Type="http://schemas.openxmlformats.org/officeDocument/2006/relationships/hyperlink" Target="http://ru.wikipedia.org/wiki/&#1042;&#1077;&#1097;&#1077;&#1089;&#1090;&#1074;&#1086;" TargetMode="External"/><Relationship Id="rId4" Type="http://schemas.openxmlformats.org/officeDocument/2006/relationships/hyperlink" Target="http://ru.wikipedia.org/wiki/&#1040;&#1090;&#1086;&#1084;" TargetMode="External"/><Relationship Id="rId5" Type="http://schemas.openxmlformats.org/officeDocument/2006/relationships/hyperlink" Target="http://ru.wikipedia.org/wiki/&#1052;&#1086;&#1083;&#1077;&#1082;&#1091;&#1083;&#1072;" TargetMode="External"/><Relationship Id="rId6" Type="http://schemas.openxmlformats.org/officeDocument/2006/relationships/hyperlink" Target="http://ru.wikipedia.org/wiki/&#1048;&#1086;&#1085;" TargetMode="External"/><Relationship Id="rId7" Type="http://schemas.openxmlformats.org/officeDocument/2006/relationships/hyperlink" Target="http://ru.wikipedia.org/wiki/&#1045;&#1076;&#1080;&#1085;&#1080;&#1094;&#1072;_&#1080;&#1079;&#1084;&#1077;&#1088;&#1077;&#1085;&#1080;&#1103;" TargetMode="External"/><Relationship Id="rId8" Type="http://schemas.openxmlformats.org/officeDocument/2006/relationships/hyperlink" Target="http://ru.wikipedia.org/wiki/&#1057;&#1048;" TargetMode="External"/><Relationship Id="rId9" Type="http://schemas.openxmlformats.org/officeDocument/2006/relationships/hyperlink" Target="http://ru.wikipedia.org/wiki/&#1052;&#1086;&#1083;&#1100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501040" cy="27147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Количество вещества, число Авогадро, молярная масса, молярный объём, уравнение связ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99800" y="4214520"/>
            <a:ext cx="6572520" cy="17859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уцапкина  Людмила  Васильевн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читель химии ГБОУ гимназии 34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в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785880" y="1143000"/>
            <a:ext cx="6653160" cy="497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113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000160" y="93024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Calibri"/>
              </a:rPr>
              <a:t>Уравнение 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1" descr="n = \frac{m}{M} = \frac{N}{N_A} = \frac{V}{V_m}"/>
          <p:cNvPicPr/>
          <p:nvPr/>
        </p:nvPicPr>
        <p:blipFill>
          <a:blip r:embed="rId2"/>
          <a:stretch/>
        </p:blipFill>
        <p:spPr>
          <a:xfrm>
            <a:off x="1071720" y="2214720"/>
            <a:ext cx="6000480" cy="207144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</p:pic>
      <p:sp>
        <p:nvSpPr>
          <p:cNvPr id="116" name="TextBox 21"/>
          <p:cNvSpPr/>
          <p:nvPr/>
        </p:nvSpPr>
        <p:spPr>
          <a:xfrm>
            <a:off x="1214280" y="4857840"/>
            <a:ext cx="62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4"/>
          <p:cNvSpPr/>
          <p:nvPr/>
        </p:nvSpPr>
        <p:spPr>
          <a:xfrm>
            <a:off x="5434560" y="3500280"/>
            <a:ext cx="2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000080" y="1357200"/>
            <a:ext cx="65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 (закреп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число молекул в 2 молях вод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массу 3 моль углекислого газа (СО2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читайте массу 112 л водорода (н.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тяжелее: 2 моль СО2 или 2 моль Са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количество вещества серной кислоты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2SO4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сой 4,9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 объем займет сернистый газ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2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масса которого равна 3,2 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214280" y="1571760"/>
            <a:ext cx="6286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количеством вещества (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714240" y="1214280"/>
            <a:ext cx="700092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изическая велич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ве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ато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молеку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ио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ли любые другие частицы).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Единицей измер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ичества вещества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лужит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м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ужно знать, что моль содержит столько же структурных частиц, сколько содержится атомов в 12г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2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000160" y="1143000"/>
            <a:ext cx="54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олярная  м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571680" y="2214720"/>
            <a:ext cx="7072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это масса одного моля веществ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=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/моль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молярная масса численно равна молекулярной масс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,  отсюда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714240" y="4286160"/>
                <a:ext cx="1714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4786200" y="4429080"/>
                <a:ext cx="2643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144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>
            <a:off x="5286240" y="5786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gaylussac"/>
          <p:cNvPicPr/>
          <p:nvPr/>
        </p:nvPicPr>
        <p:blipFill>
          <a:blip r:embed="rId2"/>
          <a:stretch/>
        </p:blipFill>
        <p:spPr>
          <a:xfrm>
            <a:off x="857160" y="178596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Закон объемных отношен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3786120" y="1071720"/>
            <a:ext cx="392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меряя объемы, и объемы газов, в результате реакции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крыл закон газовых (объемных) отно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285840" y="528624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8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571920" y="3786120"/>
            <a:ext cx="5000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7162920" cy="3002040"/>
        </p:xfrm>
        <a:graphic>
          <a:graphicData uri="http://schemas.openxmlformats.org/drawingml/2006/table">
            <a:tbl>
              <a:tblPr/>
              <a:tblGrid>
                <a:gridCol w="3284640"/>
                <a:gridCol w="38782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2714760" y="114300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5880" y="2214720"/>
          <a:ext cx="7000920" cy="3643200"/>
        </p:xfrm>
        <a:graphic>
          <a:graphicData uri="http://schemas.openxmlformats.org/drawingml/2006/table">
            <a:tbl>
              <a:tblPr/>
              <a:tblGrid>
                <a:gridCol w="3209760"/>
                <a:gridCol w="3791160"/>
              </a:tblGrid>
              <a:tr h="1236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  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</a:t>
                      </a:r>
                      <a:r>
                        <a:rPr b="1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85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35796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(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…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7" name="Picture 6" descr="C:\Users\User\Desktop\nitrogeno_-molecular-.jpg"/>
          <p:cNvPicPr/>
          <p:nvPr/>
        </p:nvPicPr>
        <p:blipFill>
          <a:blip r:embed="rId2"/>
          <a:stretch/>
        </p:blipFill>
        <p:spPr>
          <a:xfrm>
            <a:off x="5786280" y="5143680"/>
            <a:ext cx="1428840" cy="1250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42960" y="3500280"/>
            <a:ext cx="71438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о лишь восемь элементов в природе существуют в виде двухатомных молекул: 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е галогены: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B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At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857160" y="5460840"/>
            <a:ext cx="47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екула азота имеет такой 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" name="Picture 6" descr="gaylussac"/>
          <p:cNvPicPr/>
          <p:nvPr/>
        </p:nvPicPr>
        <p:blipFill>
          <a:blip r:embed="rId1"/>
          <a:stretch/>
        </p:blipFill>
        <p:spPr>
          <a:xfrm>
            <a:off x="838080" y="16765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4998960" y="3429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3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vogadro"/>
          <p:cNvPicPr/>
          <p:nvPr/>
        </p:nvPicPr>
        <p:blipFill>
          <a:blip r:embed="rId3"/>
          <a:stretch/>
        </p:blipFill>
        <p:spPr>
          <a:xfrm>
            <a:off x="1500120" y="1000080"/>
            <a:ext cx="3848040" cy="3643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7"/>
          <p:cNvSpPr/>
          <p:nvPr/>
        </p:nvSpPr>
        <p:spPr>
          <a:xfrm>
            <a:off x="5214960" y="2286000"/>
            <a:ext cx="2286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.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8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571680" y="4714920"/>
            <a:ext cx="75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1714680" y="10000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едствия (для газ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642960" y="1500120"/>
            <a:ext cx="70722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ри н.у. 1 моль любого газа занимает      объем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22,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Кирилл\Рабочий стол\Мама\z26_2.gif"/>
          <p:cNvPicPr/>
          <p:nvPr/>
        </p:nvPicPr>
        <p:blipFill>
          <a:blip r:embed="rId2"/>
          <a:stretch/>
        </p:blipFill>
        <p:spPr>
          <a:xfrm>
            <a:off x="5500800" y="3071880"/>
            <a:ext cx="1714320" cy="9288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4:30:29Z</dcterms:created>
  <dc:creator>Кирилл</dc:creator>
  <dc:description/>
  <dc:language>en-US</dc:language>
  <cp:lastModifiedBy>LEGION</cp:lastModifiedBy>
  <dcterms:modified xsi:type="dcterms:W3CDTF">2015-05-01T11:23:01Z</dcterms:modified>
  <cp:revision>166</cp:revision>
  <dc:subject/>
  <dc:title>Количество вещества, число Авогадро, молярная масса, молярный объём, уравнение связи</dc:title>
</cp:coreProperties>
</file>