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A2C7-2F7F-4303-87CB-B324FB892F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2" Type="http://schemas.openxmlformats.org/officeDocument/2006/relationships/hyperlink" Target="http://ru.wikipedia.org/wiki/&#1042;&#1077;&#1097;&#1077;&#1089;&#1090;&#1074;&#1086;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личество вещества, число Авогадро, молярная масса, молярный объём, уравнени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цапкина  Людмила  Васи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химии ГБОУ гимназии 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591C-36D7-4454-A818-AA0516BB4A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Уравнение 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2A51-5A2B-45B5-A57E-A0E2D3AA99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 (закреп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число молекул в 2 молях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массу 3 моль углекислого газа (СО2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считайте массу 112 л водорода (н.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яжелее: 2 моль СО2 или 2 моль СаО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количество вещества серной кислоты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H2SO4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ссой 4,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ой объем займет сернистый газ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O2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масса которого равна 3,2 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1653-46D0-42FC-9AB2-53C0578749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ом вещества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240C-ECFF-4C45-8BF6-625419523B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изическая величин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е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атомы, молекулы, ионы  или любые другие частицы). Единицей измерения количества вещества в СИ служит  моль. Нужно знать, что моль содержит столько же структурных частиц, сколько содержится атомов в 12г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1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2D7F-E73F-424A-8C19-A23BADF35B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ярная  м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масса одного моля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/мол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лярная масса численно равна молекулярной м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 отсюд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36D4-0F19-4441-B414-7DF36401F5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Закон объем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яя объемы, и объемы газов, в результате реакц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Л. Гей-Люсс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закон газовых (объемных) 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03A6-3809-4CF4-9FA6-B782F987FB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Н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ABF5-1464-49DE-A162-86912719A2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F8D8-A74C-4EA3-A1C0-FD7E761D7C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едствия (для газ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н.у. 1 моль любого газа занимает      объе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2,4 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2398-42A1-4342-B2AD-67EDCF9422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84C-F24B-4FE7-9375-45B51D3F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B70-E0BC-4A88-BA1A-9DFCD6A6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F1C-53C6-4718-AC9D-1D3229E7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A35-6B48-408D-AEC4-787A9A24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715-DC6C-4E04-8F08-252F968F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921-DE16-4F8C-A75F-D97D8E9D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945-F8D7-4E6D-8006-3646E6B9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568-7060-47DB-A367-4A33A0BC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70E-1EAC-4E5B-89BD-B5BF7300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E1F-DE8C-4918-B7CD-E73D9A58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D99-3DF3-4A3C-9A34-7D1FA819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140-76B3-49C5-921F-66CCE0B4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83FD-F587-46E5-BCBB-A7E3BC4695C3}" type="datetime">
              <a:rPr b="0" lang="ru-RU" sz="1200" spc="-1" strike="noStrike">
                <a:solidFill>
                  <a:srgbClr val="89898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A946-1714-48A7-BEDF-25C0C439DEEB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3" Type="http://schemas.openxmlformats.org/officeDocument/2006/relationships/hyperlink" Target="http://ru.wikipedia.org/wiki/&#1042;&#1077;&#1097;&#1077;&#1089;&#1090;&#1074;&#1086;" TargetMode="External"/><Relationship Id="rId4" Type="http://schemas.openxmlformats.org/officeDocument/2006/relationships/hyperlink" Target="http://ru.wikipedia.org/wiki/&#1040;&#1090;&#1086;&#1084;" TargetMode="External"/><Relationship Id="rId5" Type="http://schemas.openxmlformats.org/officeDocument/2006/relationships/hyperlink" Target="http://ru.wikipedia.org/wiki/&#1052;&#1086;&#1083;&#1077;&#1082;&#1091;&#1083;&#1072;" TargetMode="External"/><Relationship Id="rId6" Type="http://schemas.openxmlformats.org/officeDocument/2006/relationships/hyperlink" Target="http://ru.wikipedia.org/wiki/&#1048;&#1086;&#1085;" TargetMode="External"/><Relationship Id="rId7" Type="http://schemas.openxmlformats.org/officeDocument/2006/relationships/hyperlink" Target="http://ru.wikipedia.org/wiki/&#1045;&#1076;&#1080;&#1085;&#1080;&#1094;&#1072;_&#1080;&#1079;&#1084;&#1077;&#1088;&#1077;&#1085;&#1080;&#1103;" TargetMode="External"/><Relationship Id="rId8" Type="http://schemas.openxmlformats.org/officeDocument/2006/relationships/hyperlink" Target="http://ru.wikipedia.org/wiki/&#1057;&#1048;" TargetMode="External"/><Relationship Id="rId9" Type="http://schemas.openxmlformats.org/officeDocument/2006/relationships/hyperlink" Target="http://ru.wikipedia.org/wiki/&#1052;&#1086;&#1083;&#1100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501040" cy="27147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Количество вещества, число Авогадро, молярная масса, молярный объём, уравнение связ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99800" y="4214520"/>
            <a:ext cx="6572520" cy="17859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уцапкина  Людмила  Васильев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читель химии ГБОУ гимназии 34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6653160" cy="497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113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00160" y="9302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Calibri"/>
              </a:rPr>
              <a:t>Уравнение 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1" descr="n = \frac{m}{M} = \frac{N}{N_A} = \frac{V}{V_m}"/>
          <p:cNvPicPr/>
          <p:nvPr/>
        </p:nvPicPr>
        <p:blipFill>
          <a:blip r:embed="rId2"/>
          <a:stretch/>
        </p:blipFill>
        <p:spPr>
          <a:xfrm>
            <a:off x="1071720" y="2214720"/>
            <a:ext cx="6000480" cy="20714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</p:pic>
      <p:sp>
        <p:nvSpPr>
          <p:cNvPr id="116" name="TextBox 21"/>
          <p:cNvSpPr/>
          <p:nvPr/>
        </p:nvSpPr>
        <p:spPr>
          <a:xfrm>
            <a:off x="1214280" y="485784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4"/>
          <p:cNvSpPr/>
          <p:nvPr/>
        </p:nvSpPr>
        <p:spPr>
          <a:xfrm>
            <a:off x="5434560" y="3500280"/>
            <a:ext cx="2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000080" y="135720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 (закре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число молекул в 2 молях 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массу 3 моль углекислого газа (СО2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читайте массу 112 л водорода (н.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яжелее: 2 моль СО2 или 2 моль Са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количество вещества серной кислоты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2SO4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сой 4,9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 объем займет сернистый газ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масса которого равна 3,2 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214280" y="1571760"/>
            <a:ext cx="628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м вещества (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714240" y="1214280"/>
            <a:ext cx="70009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изическая велич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е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то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лек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и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ли любые другие частицы)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Единицей измер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а вещества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лужит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м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ужно знать, что моль содержит столько же структурных частиц, сколько содержится атомов в 12г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2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000160" y="114300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олярная  м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571680" y="2214720"/>
            <a:ext cx="70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это масса одного моля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=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/моль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молярная масса численно равна молекулярной масс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,  отсюда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714240" y="4286160"/>
                <a:ext cx="1714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4786200" y="4429080"/>
                <a:ext cx="2643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144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5286240" y="5786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aylussac"/>
          <p:cNvPicPr/>
          <p:nvPr/>
        </p:nvPicPr>
        <p:blipFill>
          <a:blip r:embed="rId2"/>
          <a:stretch/>
        </p:blipFill>
        <p:spPr>
          <a:xfrm>
            <a:off x="857160" y="178596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Закон объемных отношен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3786120" y="107172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меряя объемы, и объемы газов, в результате реакци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рыл закон газовых (объемных) отно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285840" y="52862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571920" y="3786120"/>
            <a:ext cx="50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7162920" cy="3002040"/>
        </p:xfrm>
        <a:graphic>
          <a:graphicData uri="http://schemas.openxmlformats.org/drawingml/2006/table">
            <a:tbl>
              <a:tblPr/>
              <a:tblGrid>
                <a:gridCol w="3284640"/>
                <a:gridCol w="3878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2714760" y="114300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5880" y="2214720"/>
          <a:ext cx="7000920" cy="3643200"/>
        </p:xfrm>
        <a:graphic>
          <a:graphicData uri="http://schemas.openxmlformats.org/drawingml/2006/table">
            <a:tbl>
              <a:tblPr/>
              <a:tblGrid>
                <a:gridCol w="3209760"/>
                <a:gridCol w="3791160"/>
              </a:tblGrid>
              <a:tr h="1236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  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</a:t>
                      </a:r>
                      <a:r>
                        <a:rPr b="1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85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(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6" descr="C:\Users\User\Desktop\nitrogeno_-molecular-.jpg"/>
          <p:cNvPicPr/>
          <p:nvPr/>
        </p:nvPicPr>
        <p:blipFill>
          <a:blip r:embed="rId2"/>
          <a:stretch/>
        </p:blipFill>
        <p:spPr>
          <a:xfrm>
            <a:off x="5786280" y="5143680"/>
            <a:ext cx="1428840" cy="1250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42960" y="3500280"/>
            <a:ext cx="7143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о лишь восемь элементов в природе существуют в виде двухатомных молекул: 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галогены: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A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857160" y="5460840"/>
            <a:ext cx="47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екула азота имеет такой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" name="Picture 6" descr="gaylussac"/>
          <p:cNvPicPr/>
          <p:nvPr/>
        </p:nvPicPr>
        <p:blipFill>
          <a:blip r:embed="rId1"/>
          <a:stretch/>
        </p:blipFill>
        <p:spPr>
          <a:xfrm>
            <a:off x="838080" y="16765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499896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vogadro"/>
          <p:cNvPicPr/>
          <p:nvPr/>
        </p:nvPicPr>
        <p:blipFill>
          <a:blip r:embed="rId3"/>
          <a:stretch/>
        </p:blipFill>
        <p:spPr>
          <a:xfrm>
            <a:off x="1500120" y="1000080"/>
            <a:ext cx="3848040" cy="3643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7"/>
          <p:cNvSpPr/>
          <p:nvPr/>
        </p:nvSpPr>
        <p:spPr>
          <a:xfrm>
            <a:off x="5214960" y="2286000"/>
            <a:ext cx="2286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.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71680" y="471492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14680" y="10000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едствия (для г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42960" y="1500120"/>
            <a:ext cx="7072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 н.у. 1 моль любого газа занимает      объем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Кирилл\Рабочий стол\Мама\z26_2.gif"/>
          <p:cNvPicPr/>
          <p:nvPr/>
        </p:nvPicPr>
        <p:blipFill>
          <a:blip r:embed="rId2"/>
          <a:stretch/>
        </p:blipFill>
        <p:spPr>
          <a:xfrm>
            <a:off x="5500800" y="3071880"/>
            <a:ext cx="1714320" cy="928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30:29Z</dcterms:created>
  <dc:creator>Кирилл</dc:creator>
  <dc:description/>
  <dc:language>en-US</dc:language>
  <cp:lastModifiedBy>LEGION</cp:lastModifiedBy>
  <dcterms:modified xsi:type="dcterms:W3CDTF">2015-05-01T11:23:01Z</dcterms:modified>
  <cp:revision>166</cp:revision>
  <dc:subject/>
  <dc:title>Количество вещества, число Авогадро, молярная масса, молярный объём, уравнение связи</dc:title>
</cp:coreProperties>
</file>