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0D55-13B5-45B9-8148-D6BCB9E1F9F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НЫЕ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D344-D627-48DC-BD48-DBD3C35EC3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ХИМИЧЕСКИЕ СВОЙ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1. Диссоци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↔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2+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+ 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кции по внешне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e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→KFe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+3K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Ba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→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Ba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кции с участием лиган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4HCl→4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l+Cu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акции по центральному и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бменные: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l + KI → AgI↓ + KCl + 2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кислительно-восстанов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H+R-C=O →2Ag↓+RCOO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+3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B099-803A-41B2-9B13-6AFC0ACCA8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комплексны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красителей (кобальтовые краски), ядохимикаты, удоб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становления жесткости в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тимуляторов биохим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деления некоторых металлов (лантаноидов) и получения металлов высокой чист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налитической химии для определения ионов, например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8D80-90BE-40D2-A6F8-D66F0D1C18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Изучение комплексных соединений – одна из интереснейших областей химии, в том числе биологической хи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Так, красное вещество гем, составная часть гемоглобина крови теплокровных животных и человека – это комплексное соединение: комплексообразователь – ион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2+, лиганды – четыре кольца пиррола, имеющие боковые цепи. Похожее строение у хлорофилла, но в нем комплексообразователем служит ион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Mg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2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AA3D-A94E-45DD-BB67-9FCDF31E2B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форму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Гесацианоферрат (3) к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Тетрагидроксоцинкат к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ексафторалюминат натр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Хлорид гексааквахрома (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Тетрацианомеркурат (2) каль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Гидроксид диаминсеребра 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273A-805D-424A-9884-88E8F75D33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Zn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Al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Cr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a[Hg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A65B-9444-4A77-A5A6-A21C915E98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Bookman Old Style"/>
              </a:rPr>
              <a:t>Соединения, имеющие в своем составе комплексные ионы, относят к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Bookman Old Style"/>
              </a:rPr>
              <a:t>комплексным соедин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3CE4-E7F4-4D51-AA9B-509C61E777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</a:rPr>
              <a:t>Основные положения координационной теории  (1893г. Альфред Вернер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В комплексном соединении один из ионов или атомов считается центральным, ег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ообразов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округ центрального иона (атома) – комплексообразователя расположено (координировано) определенное число противоположно заряженных ионов или полярных молекул, называемы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ган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Центральный ион (атом) с лигандами образу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утреннюю координационную сфер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ения, которую при написании заключают в квадратные ско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 большинстве случаев число лигандов, непосредственно связанных с центральным ионом (атомом)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ординационным числ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которое чаще всего принимает значения 2,4,6,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Ионы, которые располагаются на более далеком расстоянии от центрального иона (атома), образу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ешнюю координационную 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4D71-F19F-44FD-842C-714357A575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02B-4E32-48B6-997D-33FDA3D1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342-9545-4177-A60F-F916E734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2C48A-47FB-4A46-B24B-1BA942BE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D1713-578B-42D4-8736-7A1CEF7A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5052D-F543-47CD-8F1C-DE9598BC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7F372-4CA3-4B25-84C7-3515A176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01C4A-7CEA-403E-A8B9-28E1EE98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E7484-B04E-4E1B-BCF1-7DCE90FF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1AE66-5D08-4843-8FFC-05700738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60531-F499-4253-BE61-11BC86C9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CD5F9-4831-46F7-9AAD-3BC4CCBA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5585C-F9ED-4FAC-9C57-767A691F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AD6-A175-4254-9820-7512E69B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E7B9A-FCDD-4E97-8C36-BFD27A09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25992E-CFB6-43A4-822E-1D414A8E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413CA-2AAD-4749-9A9C-1F8AD59A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25C08-F91E-4203-9656-2DBC6AC4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E0A12F-6ED9-4389-BA4D-8B14C5FA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210364-C52E-481A-B7B9-0EB82ADA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A585A-EB84-4270-88F1-581F1A5A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95B7A-5B76-4EF1-9E26-8847865B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046205-8811-4BE8-B521-B81A67AB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205B4-78A0-473A-8002-73440E66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F16-71FF-4B82-AAF3-AED885B0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93C6F-0394-4BBC-9EEB-DA4FCF47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E83CB-05CB-4B1D-BD23-66CFF687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C2247-485F-43E3-95F5-8F8BEB9D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19FDE-E6C2-443C-B8CD-040CC6D2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F6201-9E8C-467C-8133-28726E47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EAEAC-2137-4A50-BB3B-27C985C4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9E648-B025-4DFB-BEBD-84249753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68446-F272-4789-BB4B-F05EF0D9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E81CD-6399-447D-9B34-FA027845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8E8A4-6676-4162-8F88-7E48BEEB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2AFB-69E6-4B0B-85FD-49E7FC10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0EB2D-850C-4082-867B-B84670E0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CF962-0B82-45A1-ABAD-3D15868E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8FA30-2122-4770-9348-3CE80FED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538305-1023-4D57-8AD6-4D2813C9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DBA750-A626-4163-960D-AAE9197F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2AF0B2-0BCE-49CF-B29B-3AF43894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8B6003-1F87-414A-9C8B-3BCAD7CF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904520-A31C-4F63-98DE-BB73B3E6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632CBD-1214-4C57-954E-7F71D881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C10E81-65BC-40F4-AF9B-4D168500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A9DD-A106-41F8-9356-D567DBCB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46A23A-2376-4EC3-A013-1597A0F7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F48E73-4FC6-4203-92CB-8BCA87AC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0BBC46-1608-481F-93E3-197A3D0D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CA3B46-2226-4960-86E5-7D1BBADF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4A237B-94AB-402F-949A-742503A7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B6641-F71C-45E8-9B7C-DD81C0C4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93C8B-E0C2-4B5F-A14B-87C0B243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E2A16-9D75-44B7-86D4-43A94423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A580A-8C8C-4AF2-90E3-31BE09B4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8D546-6FE2-4924-BC77-891640DD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5CB3-2FAD-458C-9DAF-F0E4F69A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25CC1-E597-44BB-AF9A-63DEFC7C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5E573-B28B-41F6-97FE-43DF4A45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B142F-9732-47CC-BB29-137330F4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38D4B-42A1-4713-887B-BB2AE0B2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EF26B6-E647-4804-B844-1BFFFD52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DC2CA-AC88-4C60-8C92-D7C069A9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5FE2F6-B946-4DEA-BBCA-CB948483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5227EC-8588-487E-B522-52B19DC1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6892C5-36E3-4FBA-A64E-A2E16042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B6189-A3F1-4242-A438-1D2DD3BA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26A5-DA4E-4214-82D1-FDE23EB5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D65A3-604F-49A5-82C6-96D461B5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A63C8C-C39D-4154-A9EE-ED0FDD7C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DA0CF-64A1-4118-A4CF-7E8AF6DF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BF7577-8425-4EF3-9CA6-485174E4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89CB38-CF6A-4331-A135-C0EFA6EC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70E98-B204-4261-93CE-14ACA056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81B75-E4FA-4BE3-9AAD-3E4605CA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C7DE3A-3F3F-4B8C-B1DF-A7070692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79451-485B-44D3-9CA8-257E69F5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B364-2DE8-4673-B461-4EA03860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FA3D-450F-4CC6-8D08-8368296E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91AC-8AFD-4166-9D37-0DF223CC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E90-5898-4F7D-8628-7CC21B94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6454-C4C2-443C-B8A4-4A05AFAA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9D18-621C-4D01-8DAA-48A572BC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226A-4177-436D-ACF2-795901DF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BE7E-9636-4D6F-9F1C-3D77CC1C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9DA0-C42E-4DF9-9521-0A0B7487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549B5-51EA-45BC-A139-83B316A4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AD375-F51D-4BFC-9DC4-36ADECAA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C273-09A7-4E0E-8B1D-39A504E7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E7E4B-6887-49BB-8CEE-E7217AE2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56F20-6D99-4455-8082-0B7D58D0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3665-63D0-4E2B-A659-9A45721D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CFC85-DC47-40C4-B416-8362C794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B30E5-F4B4-4147-BFA3-0AD8FBB4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217BF-56AC-4D30-A535-5CB3526D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8191D-8C9F-4FE0-BC1E-F1169F3C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B86AB-826F-49E6-A68E-3D5628C9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F2856-3BFC-493D-ADCC-2BE7BFAE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CEF5E-B2B5-4A8B-A073-C63E08CE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E2A4A-576A-4C42-B7EB-6494E35C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4E023-55FA-48FF-80F6-CDE35915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42034-714F-440D-A581-FF739CE2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EBC-0C34-4657-B06D-4E7D3255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046F0-7254-468E-ABA1-99F1F3E2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6B15A-3670-4E68-8F23-137ABEE5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C0F24-83A2-4FB3-93A9-466EABB3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84807-D90A-4D58-A918-08A54408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18258-D957-495F-8BE5-A5029FE4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8EA4E-570D-4A41-BBAA-55B9E75A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09649-5395-4DDA-890E-6A5B54CF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13063-9C53-48D8-AB80-0D275CCD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1A93B-65D0-44FF-B35F-3066081A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1B07D-023E-4605-A091-4717914C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2F1-66F9-4011-BB6D-5F2421CF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B0878-6461-433B-A63F-C997F2B8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AC389-519F-43D3-9E09-4CA6D34C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FD95B-5FE0-4047-9A72-A4DDD1BE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64DDF-7E96-445C-B207-2C4278A1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7ED90-82D1-477A-8E8C-BA6C714F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475C7-D588-4C2B-8E6E-EF78781B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68B73-D1B1-4152-ACB2-AC94DE63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ED951-8F49-45CD-8A74-25E000AF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F50CC-A43C-4383-9E6A-C247F57A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4B923-F8D2-4C2D-9A40-9CF10B1E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EF5-4A6A-4794-B506-5796F687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F2F21-DD3E-48A3-B406-2ADC5BF4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7B4FE-4F19-4A32-9A72-C8D6C5F9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A05A2-5ACD-4189-92D6-75A54EB2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1EB3F-3902-4B05-A844-71D67B9F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7DF6A-26D6-4EAE-BCB2-A1311D9C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A3483-EA92-4FA1-B2DC-7850B0F8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E1EC0-E504-4DB5-B86E-60AA9C25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7BC12-8F16-409E-9E96-4C613431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C93FB-8591-4FFA-8B17-7D8C4C0F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35A1F-F7A3-4BE7-B015-33D6BD25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51C-45F8-410A-8920-99457523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19D66-8C89-411A-875B-256314EB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2258E-58A3-4803-BFB3-C41503F0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EBD47-F190-4F59-B483-3D5EC72C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9CE3D-10CD-4771-BA6A-4A9302CF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19172-812A-413F-A984-F1925E6C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270CA-C053-4C0A-B3CB-1769EBAA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D4209-9549-4A8B-8BF1-AE01B3A5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0A8A4-CF9E-4968-870D-B34FA9B2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8F84A-3FCD-4D31-BE42-CEDAFCC3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E349C-0DA1-4FBE-8636-EF634582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339-2F7E-4CBD-85D8-1C9E9D76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908B7-89CC-4386-9729-596D4C74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0CC71-15E1-41DC-96E1-FDA275AE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A65C3-36B7-4C85-83E0-5F14076B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CDEED-6672-4705-8A3D-DE1F3BED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54C88-A831-40AF-B5FE-E455917E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3263A-FE3A-4B95-A62A-5E77ACFD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08554-19A5-4A97-86E0-9BB1FBE8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56F20-CFBF-4F3A-9C59-39183AEE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A6A0B-DA20-46D9-B5C1-8741D018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88783-2F68-4C2E-BE7B-B8144E19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CAD-EEB4-493C-9CB5-0C9AFD69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11281-D055-4B09-B318-412B4D72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A5740-E89F-4126-97C2-6B879377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2B862-5FD7-4D74-AD8D-6C167448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B0D77-EBD2-4949-97E1-62D7DECC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CA8B1-8A32-4BAF-AD5E-39F5C574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A09BD-0D40-4C97-82E3-5BD40C6C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00804-D533-4AF9-B175-2789DA7F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0F95C-8393-419F-BBB4-5E5D04DF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0112B-DDC4-41FB-8299-E8578EB1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DB5E2-2CDE-447A-8818-8BE92458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E85A-F371-49B6-93BF-A63F81A06E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28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11F5-6988-4500-91D6-159F31430A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29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dt" idx="30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5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2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14EF-5187-44D3-AA8E-EFCC5BE509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84FA-1ADA-4B3B-9BFF-3CF382D38C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4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EB6E-85E0-4186-B912-4542F9CCD37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9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F433-4736-4E8C-BB9E-C730F541E3A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791A-DB6B-4EB5-AFFD-F10C6BA7D3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5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5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5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6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7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7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8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8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8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9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9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9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0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0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0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1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BE59-C886-4BD4-9E94-B2407710C6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9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4645-EC03-42AD-82D3-581419D76D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0A7D-0D9D-4501-9B11-8E5BF5EE0D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8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0FBB-36EA-4DB4-A9AF-8050F1BCC2A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B826-F125-4779-A8B8-E6FEA1F2D8B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1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E1C7-2FAA-4250-B04B-370895308D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462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1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642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648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4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D381-359A-4634-9BC2-2934C04DEC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10920" y="1915920"/>
            <a:ext cx="799308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4176"/>
                </a:solidFill>
                <a:latin typeface="Times New Roman"/>
              </a:rPr>
              <a:t>КОМПЛЕКСНЫЕ </a:t>
            </a:r>
            <a:br>
              <a:rPr sz="4400"/>
            </a:br>
            <a:r>
              <a:rPr b="1" i="1" lang="ru-RU" sz="4400" spc="-1" strike="noStrike">
                <a:solidFill>
                  <a:srgbClr val="404176"/>
                </a:solidFill>
                <a:latin typeface="Times New Roman"/>
              </a:rPr>
              <a:t>СОЕДИНЕНИЯ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84360" y="11592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Monotype Corsiva"/>
              </a:rPr>
              <a:t>Муниципальное общеобразовательное учреждение Сусанинская средняя шк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4356000" y="4365720"/>
            <a:ext cx="4392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176"/>
                </a:solidFill>
                <a:latin typeface="Bookman Old Style"/>
              </a:rPr>
              <a:t>Выполнила: учитель хим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176"/>
                </a:solidFill>
                <a:latin typeface="Bookman Old Style"/>
              </a:rPr>
              <a:t>                        </a:t>
            </a:r>
            <a:r>
              <a:rPr b="1" i="1" lang="ru-RU" sz="2000" spc="-1" strike="noStrike">
                <a:solidFill>
                  <a:srgbClr val="404176"/>
                </a:solidFill>
                <a:latin typeface="Bookman Old Style"/>
              </a:rPr>
              <a:t>Обливанова Светлана Викто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 Box 12"/>
          <p:cNvSpPr/>
          <p:nvPr/>
        </p:nvSpPr>
        <p:spPr>
          <a:xfrm>
            <a:off x="5003640" y="1628640"/>
            <a:ext cx="17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Text Box 13"/>
          <p:cNvSpPr/>
          <p:nvPr/>
        </p:nvSpPr>
        <p:spPr>
          <a:xfrm>
            <a:off x="3635280" y="162864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идрокс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 Box 15"/>
          <p:cNvSpPr/>
          <p:nvPr/>
        </p:nvSpPr>
        <p:spPr>
          <a:xfrm>
            <a:off x="4284720" y="162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цинк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 Box 5"/>
          <p:cNvSpPr/>
          <p:nvPr/>
        </p:nvSpPr>
        <p:spPr>
          <a:xfrm>
            <a:off x="2411280" y="907920"/>
            <a:ext cx="136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Na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Text Box 10"/>
          <p:cNvSpPr/>
          <p:nvPr/>
        </p:nvSpPr>
        <p:spPr>
          <a:xfrm>
            <a:off x="6012000" y="90792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Text Box 11"/>
          <p:cNvSpPr/>
          <p:nvPr/>
        </p:nvSpPr>
        <p:spPr>
          <a:xfrm>
            <a:off x="4788000" y="9079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(OH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4"/>
          <p:cNvSpPr/>
          <p:nvPr/>
        </p:nvSpPr>
        <p:spPr>
          <a:xfrm>
            <a:off x="3492360" y="9079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Zn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16"/>
          <p:cNvSpPr/>
          <p:nvPr/>
        </p:nvSpPr>
        <p:spPr>
          <a:xfrm>
            <a:off x="6804000" y="162864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натр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Text Box 18"/>
          <p:cNvSpPr/>
          <p:nvPr/>
        </p:nvSpPr>
        <p:spPr>
          <a:xfrm>
            <a:off x="2268360" y="249228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Cr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9"/>
          <p:cNvSpPr/>
          <p:nvPr/>
        </p:nvSpPr>
        <p:spPr>
          <a:xfrm>
            <a:off x="3419640" y="2492280"/>
            <a:ext cx="1942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(H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O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 Box 20"/>
          <p:cNvSpPr/>
          <p:nvPr/>
        </p:nvSpPr>
        <p:spPr>
          <a:xfrm>
            <a:off x="5076720" y="2492280"/>
            <a:ext cx="57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21"/>
          <p:cNvSpPr/>
          <p:nvPr/>
        </p:nvSpPr>
        <p:spPr>
          <a:xfrm>
            <a:off x="5508720" y="2492280"/>
            <a:ext cx="115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Cl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22"/>
          <p:cNvSpPr/>
          <p:nvPr/>
        </p:nvSpPr>
        <p:spPr>
          <a:xfrm>
            <a:off x="611280" y="3716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хлори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 Box 23"/>
          <p:cNvSpPr/>
          <p:nvPr/>
        </p:nvSpPr>
        <p:spPr>
          <a:xfrm>
            <a:off x="4500720" y="371628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ак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 Box 24"/>
          <p:cNvSpPr/>
          <p:nvPr/>
        </p:nvSpPr>
        <p:spPr>
          <a:xfrm>
            <a:off x="3132000" y="3716280"/>
            <a:ext cx="17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ек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25"/>
          <p:cNvSpPr/>
          <p:nvPr/>
        </p:nvSpPr>
        <p:spPr>
          <a:xfrm>
            <a:off x="5796000" y="3716280"/>
            <a:ext cx="33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x</a:t>
            </a: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ром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ext Box 27"/>
          <p:cNvSpPr/>
          <p:nvPr/>
        </p:nvSpPr>
        <p:spPr>
          <a:xfrm>
            <a:off x="3059280" y="4508640"/>
            <a:ext cx="115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K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+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 Box 28"/>
          <p:cNvSpPr/>
          <p:nvPr/>
        </p:nvSpPr>
        <p:spPr>
          <a:xfrm>
            <a:off x="3995640" y="4508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Hg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9"/>
          <p:cNvSpPr/>
          <p:nvPr/>
        </p:nvSpPr>
        <p:spPr>
          <a:xfrm>
            <a:off x="5148360" y="4581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I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30"/>
          <p:cNvSpPr/>
          <p:nvPr/>
        </p:nvSpPr>
        <p:spPr>
          <a:xfrm>
            <a:off x="5796000" y="4508640"/>
            <a:ext cx="72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 Box 31"/>
          <p:cNvSpPr/>
          <p:nvPr/>
        </p:nvSpPr>
        <p:spPr>
          <a:xfrm>
            <a:off x="250920" y="5300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32"/>
          <p:cNvSpPr/>
          <p:nvPr/>
        </p:nvSpPr>
        <p:spPr>
          <a:xfrm>
            <a:off x="2050920" y="5300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йод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 Box 33"/>
          <p:cNvSpPr/>
          <p:nvPr/>
        </p:nvSpPr>
        <p:spPr>
          <a:xfrm>
            <a:off x="3348000" y="5300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меркурат 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7020000" y="5300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кал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0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1" dur="2000" fill="hold"/>
                                        <p:tgtEl>
                                          <p:spTgt spid="10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L -0.54705 0.00139 E">
                                      <p:cBhvr>
                                        <p:cTn id="630" dur="1000" fill="hold"/>
                                        <p:tgtEl>
                                          <p:spTgt spid="10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2000" fill="hold"/>
                                        <p:tgtEl>
                                          <p:spTgt spid="10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69942E-006 L -0.2243 0.00139 E">
                                      <p:cBhvr>
                                        <p:cTn id="643" dur="1000" fill="hold"/>
                                        <p:tgtEl>
                                          <p:spTgt spid="10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7" dur="2000" fill="hold"/>
                                        <p:tgtEl>
                                          <p:spTgt spid="10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7" dur="2000" fill="hold"/>
                                        <p:tgtEl>
                                          <p:spTgt spid="10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9" dur="2000" fill="hold"/>
                                        <p:tgtEl>
                                          <p:spTgt spid="1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9" dur="2000" fill="hold"/>
                                        <p:tgtEl>
                                          <p:spTgt spid="10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9" dur="2000" fill="hold"/>
                                        <p:tgtEl>
                                          <p:spTgt spid="10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9" dur="2000" fill="hold"/>
                                        <p:tgtEl>
                                          <p:spTgt spid="10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1" dur="2000" fill="hold"/>
                                        <p:tgtEl>
                                          <p:spTgt spid="1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1" dur="2000" fill="hold"/>
                                        <p:tgtEl>
                                          <p:spTgt spid="1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1" dur="2000" fill="hold"/>
                                        <p:tgtEl>
                                          <p:spTgt spid="1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2000" fill="hold"/>
                                        <p:tgtEl>
                                          <p:spTgt spid="1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НАЗОВИТЕ КОМПЛЕКСНЫЕ 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 Box 11"/>
          <p:cNvSpPr/>
          <p:nvPr/>
        </p:nvSpPr>
        <p:spPr>
          <a:xfrm>
            <a:off x="2987640" y="98100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Text Box 12"/>
          <p:cNvSpPr/>
          <p:nvPr/>
        </p:nvSpPr>
        <p:spPr>
          <a:xfrm>
            <a:off x="2843280" y="2637000"/>
            <a:ext cx="320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Text Box 13"/>
          <p:cNvSpPr/>
          <p:nvPr/>
        </p:nvSpPr>
        <p:spPr>
          <a:xfrm>
            <a:off x="2700360" y="4149720"/>
            <a:ext cx="331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14"/>
          <p:cNvSpPr/>
          <p:nvPr/>
        </p:nvSpPr>
        <p:spPr>
          <a:xfrm>
            <a:off x="1908000" y="1700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фтороалюми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 Box 15"/>
          <p:cNvSpPr/>
          <p:nvPr/>
        </p:nvSpPr>
        <p:spPr>
          <a:xfrm>
            <a:off x="1692360" y="3284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Тетрагидроксоалюми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 Box 16"/>
          <p:cNvSpPr/>
          <p:nvPr/>
        </p:nvSpPr>
        <p:spPr>
          <a:xfrm>
            <a:off x="1835280" y="5157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ционоферрат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к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0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2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НАЗОВИТЕ КОМПЛЕКСНЫЕ 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 Box 3"/>
          <p:cNvSpPr/>
          <p:nvPr/>
        </p:nvSpPr>
        <p:spPr>
          <a:xfrm>
            <a:off x="2627280" y="981000"/>
            <a:ext cx="46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908000" y="1700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Сульфат тетраамминмеди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9"/>
          <p:cNvSpPr/>
          <p:nvPr/>
        </p:nvSpPr>
        <p:spPr>
          <a:xfrm>
            <a:off x="2627280" y="2492280"/>
            <a:ext cx="46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g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 Box 10"/>
          <p:cNvSpPr/>
          <p:nvPr/>
        </p:nvSpPr>
        <p:spPr>
          <a:xfrm>
            <a:off x="1692360" y="3429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Хлорид диамминсереб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 Box 11"/>
          <p:cNvSpPr/>
          <p:nvPr/>
        </p:nvSpPr>
        <p:spPr>
          <a:xfrm>
            <a:off x="1619280" y="5373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Хлорид гексааквахрома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12"/>
          <p:cNvSpPr/>
          <p:nvPr/>
        </p:nvSpPr>
        <p:spPr>
          <a:xfrm>
            <a:off x="2556000" y="4365720"/>
            <a:ext cx="460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r(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O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 Box 3"/>
          <p:cNvSpPr/>
          <p:nvPr/>
        </p:nvSpPr>
        <p:spPr>
          <a:xfrm>
            <a:off x="1692360" y="1484280"/>
            <a:ext cx="54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Pt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6"/>
          <p:cNvSpPr/>
          <p:nvPr/>
        </p:nvSpPr>
        <p:spPr>
          <a:xfrm>
            <a:off x="684360" y="7650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хлороплатинат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(IV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к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7"/>
          <p:cNvSpPr/>
          <p:nvPr/>
        </p:nvSpPr>
        <p:spPr>
          <a:xfrm>
            <a:off x="468360" y="22050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Нитрат хлоронитротетраамминкобальта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8"/>
          <p:cNvSpPr/>
          <p:nvPr/>
        </p:nvSpPr>
        <p:spPr>
          <a:xfrm>
            <a:off x="1258920" y="3500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гидроксохромат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 Box 9"/>
          <p:cNvSpPr/>
          <p:nvPr/>
        </p:nvSpPr>
        <p:spPr>
          <a:xfrm>
            <a:off x="1116000" y="189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ОСТАВЬТЕ ФОРМУЛЫ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Text Box 10"/>
          <p:cNvSpPr/>
          <p:nvPr/>
        </p:nvSpPr>
        <p:spPr>
          <a:xfrm>
            <a:off x="539640" y="2781360"/>
            <a:ext cx="8353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o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Cl]N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Text Box 11"/>
          <p:cNvSpPr/>
          <p:nvPr/>
        </p:nvSpPr>
        <p:spPr>
          <a:xfrm>
            <a:off x="1908000" y="4149720"/>
            <a:ext cx="547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r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Text Box 13"/>
          <p:cNvSpPr/>
          <p:nvPr/>
        </p:nvSpPr>
        <p:spPr>
          <a:xfrm>
            <a:off x="826920" y="501336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Нитрат гексаамминникеля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 Box 14"/>
          <p:cNvSpPr/>
          <p:nvPr/>
        </p:nvSpPr>
        <p:spPr>
          <a:xfrm>
            <a:off x="1258920" y="5734080"/>
            <a:ext cx="66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Ni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(N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0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4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Text Box 2"/>
          <p:cNvSpPr/>
          <p:nvPr/>
        </p:nvSpPr>
        <p:spPr>
          <a:xfrm>
            <a:off x="971640" y="26028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ЛУЧЕНИЕ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250920" y="765000"/>
            <a:ext cx="8424720" cy="25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лучение тетрагидроксоалюмината на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l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+3NaOH = 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3Na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NaOH = Na[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11"/>
          <p:cNvSpPr/>
          <p:nvPr/>
        </p:nvSpPr>
        <p:spPr>
          <a:xfrm>
            <a:off x="0" y="3573360"/>
            <a:ext cx="903600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лучение гидроксида тетраамминмеди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u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+2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+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O = Cu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4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[Cu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Bookman Old Style"/>
              </a:rPr>
              <a:t>ХИМИЧЕСКИЕ СВОЙСТВ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1. Диссоци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↔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+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+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Реакции по внешней сфе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e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→KFe[Fe(CN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3K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Ba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→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Ba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Реакции с участием лиган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4HCl→4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+Cu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Реакции по центральному ио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Обменные: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[Ag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l + KI → AgI↓ + KCl + 2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Окислительно-восстановитель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[Ag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H+R-C=O →2Ag↓+RCOO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+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+3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"/>
          <p:cNvSpPr/>
          <p:nvPr/>
        </p:nvSpPr>
        <p:spPr>
          <a:xfrm>
            <a:off x="3132000" y="465300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1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1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именение комплексных соединен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красителей (кобальтовые краски), ядохимикаты, удоб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ления жесткости во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стимуляторов биохимических процес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разделения некоторых металлов (лантаноидов) и получения металлов высокой чист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налитической химии для определения ионов, например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+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+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2" dur="500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7" dur="500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2" dur="500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7" dur="500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2" dur="500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Изучение комплексных соединений – одна из интереснейших областей химии, в том числе биологической хими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Так, красное вещество гем, составная часть гемоглобина крови теплокровных животных и человека – это комплексное соединение: комплексообразователь – ион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Fe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2+, лиганды – четыре кольца пиррола, имеющие боковые цепи. Похожее строение у хлорофилла, но в нем комплексообразователем служит ион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Mg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2+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ьте формул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Гесацианоферрат (3) кал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Тетрагидроксоцинкат кал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Гексафторалюминат натр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Хлорид гексааквахрома (3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Тетрацианомеркурат (2) кальц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Гидроксид диаминсеребра (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6" name="Picture 4" descr="Research"/>
          <p:cNvPicPr/>
          <p:nvPr/>
        </p:nvPicPr>
        <p:blipFill>
          <a:blip r:embed="rId1"/>
          <a:stretch/>
        </p:blipFill>
        <p:spPr>
          <a:xfrm>
            <a:off x="7451640" y="-316080"/>
            <a:ext cx="1152720" cy="1440000"/>
          </a:xfrm>
          <a:prstGeom prst="rect">
            <a:avLst/>
          </a:prstGeom>
          <a:ln w="0">
            <a:noFill/>
          </a:ln>
        </p:spPr>
      </p:pic>
      <p:sp>
        <p:nvSpPr>
          <p:cNvPr id="115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тв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Fe(CN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Zn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Al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Cr(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[Hg(CN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Ag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0" name="Picture 4" descr="image595"/>
          <p:cNvPicPr/>
          <p:nvPr/>
        </p:nvPicPr>
        <p:blipFill>
          <a:blip r:embed="rId1"/>
          <a:stretch/>
        </p:blipFill>
        <p:spPr>
          <a:xfrm>
            <a:off x="7885080" y="62064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16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4"/>
          <p:cNvSpPr/>
          <p:nvPr/>
        </p:nvSpPr>
        <p:spPr>
          <a:xfrm>
            <a:off x="900000" y="1844640"/>
            <a:ext cx="7920000" cy="2531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Соединения, имеющие в своем составе комплексные ионы, относят к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Bookman Old Style"/>
              </a:rPr>
              <a:t>комплексным соединения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6612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Основные положения координационной теории  (1893г. Альфред Верне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516880" cy="488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В комплексном соединении один из ионов или атомов считается центральным, его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мплексообразовател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Вокруг центрального иона (атома) – комплексообразователя расположено (координировано) определенное число противоположно заряженных ионов или полярных молекул, называемых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иганд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Центральный ион (атом) с лигандами образуе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нутреннюю координационную сфер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единения, которую при написании заключают в квадратные скоб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В большинстве случаев число лигандов, непосредственно связанных с центральным ионом (атомом),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ординационным число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которое чаще всего принимает значения 2,4,6,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Ионы, которые располагаются на более далеком расстоянии от центрального иона (атома), образую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нешнюю координационную сфер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27"/>
          <p:cNvSpPr/>
          <p:nvPr/>
        </p:nvSpPr>
        <p:spPr>
          <a:xfrm>
            <a:off x="179280" y="404640"/>
            <a:ext cx="896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b7"/>
                </a:solidFill>
                <a:latin typeface="Bookman Old Style"/>
              </a:rPr>
              <a:t>СТРОЕНИЕ КОМПЛЕКСНЫХ СОЕДИНЕ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WordArt 4"/>
          <p:cNvSpPr txBox="1"/>
          <p:nvPr/>
        </p:nvSpPr>
        <p:spPr>
          <a:xfrm>
            <a:off x="3708360" y="2781360"/>
            <a:ext cx="72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1" name="WordArt 5"/>
          <p:cNvSpPr txBox="1"/>
          <p:nvPr/>
        </p:nvSpPr>
        <p:spPr>
          <a:xfrm>
            <a:off x="2340000" y="2852640"/>
            <a:ext cx="64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2" name="WordArt 6"/>
          <p:cNvSpPr txBox="1"/>
          <p:nvPr/>
        </p:nvSpPr>
        <p:spPr>
          <a:xfrm>
            <a:off x="5003640" y="2781360"/>
            <a:ext cx="64944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3" name="WordArt 7"/>
          <p:cNvSpPr txBox="1"/>
          <p:nvPr/>
        </p:nvSpPr>
        <p:spPr>
          <a:xfrm>
            <a:off x="3708360" y="4508640"/>
            <a:ext cx="72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4" name="WordArt 8"/>
          <p:cNvSpPr txBox="1"/>
          <p:nvPr/>
        </p:nvSpPr>
        <p:spPr>
          <a:xfrm>
            <a:off x="7093080" y="2565360"/>
            <a:ext cx="86508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l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5" name="WordArt 13"/>
          <p:cNvSpPr txBox="1"/>
          <p:nvPr/>
        </p:nvSpPr>
        <p:spPr>
          <a:xfrm>
            <a:off x="4643280" y="765000"/>
            <a:ext cx="57636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6" name="WordArt 14"/>
          <p:cNvSpPr txBox="1"/>
          <p:nvPr/>
        </p:nvSpPr>
        <p:spPr>
          <a:xfrm>
            <a:off x="8172360" y="2349360"/>
            <a:ext cx="5050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7" name="WordArt 15"/>
          <p:cNvSpPr txBox="1"/>
          <p:nvPr/>
        </p:nvSpPr>
        <p:spPr>
          <a:xfrm>
            <a:off x="1908000" y="692280"/>
            <a:ext cx="43200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8" name="WordArt 16"/>
          <p:cNvSpPr txBox="1"/>
          <p:nvPr/>
        </p:nvSpPr>
        <p:spPr>
          <a:xfrm>
            <a:off x="5796000" y="692280"/>
            <a:ext cx="50472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9" name="WordArt 18"/>
          <p:cNvSpPr txBox="1"/>
          <p:nvPr/>
        </p:nvSpPr>
        <p:spPr>
          <a:xfrm>
            <a:off x="3203640" y="2997360"/>
            <a:ext cx="28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0" name="WordArt 19"/>
          <p:cNvSpPr txBox="1"/>
          <p:nvPr/>
        </p:nvSpPr>
        <p:spPr>
          <a:xfrm>
            <a:off x="3635280" y="2276640"/>
            <a:ext cx="2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1" name="WordArt 20"/>
          <p:cNvSpPr txBox="1"/>
          <p:nvPr/>
        </p:nvSpPr>
        <p:spPr>
          <a:xfrm>
            <a:off x="4140360" y="2276640"/>
            <a:ext cx="3585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2" name="WordArt 21"/>
          <p:cNvSpPr txBox="1"/>
          <p:nvPr/>
        </p:nvSpPr>
        <p:spPr>
          <a:xfrm>
            <a:off x="4643280" y="2997360"/>
            <a:ext cx="287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3" name="WordArt 22"/>
          <p:cNvSpPr txBox="1"/>
          <p:nvPr/>
        </p:nvSpPr>
        <p:spPr>
          <a:xfrm>
            <a:off x="3780000" y="4076640"/>
            <a:ext cx="21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4" name="WordArt 23"/>
          <p:cNvSpPr txBox="1"/>
          <p:nvPr/>
        </p:nvSpPr>
        <p:spPr>
          <a:xfrm>
            <a:off x="320364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5" name="WordArt 25"/>
          <p:cNvSpPr txBox="1"/>
          <p:nvPr/>
        </p:nvSpPr>
        <p:spPr>
          <a:xfrm>
            <a:off x="464328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6" name="WordArt 26"/>
          <p:cNvSpPr txBox="1"/>
          <p:nvPr/>
        </p:nvSpPr>
        <p:spPr>
          <a:xfrm>
            <a:off x="4284720" y="407664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3780000" y="1052640"/>
            <a:ext cx="180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Bookman Old Style"/>
              </a:rPr>
              <a:t>NH</a:t>
            </a:r>
            <a:r>
              <a:rPr b="1" lang="en-US" sz="36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3600" spc="-1" strike="noStrike">
                <a:solidFill>
                  <a:srgbClr val="ffffb7"/>
                </a:solidFill>
                <a:latin typeface="Bookman Old Style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WordArt 29"/>
          <p:cNvSpPr txBox="1"/>
          <p:nvPr/>
        </p:nvSpPr>
        <p:spPr>
          <a:xfrm>
            <a:off x="3708360" y="1125360"/>
            <a:ext cx="649440" cy="10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1403280" y="4437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МПЛЕКСООБРАЗОВ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2700360" y="5157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ЛИГ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1258920" y="6165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ОРДИНАЦИОННОЕ ЧИСЛО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1763640" y="587700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УТРЕН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6119640" y="4869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ЕШ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1835280" y="0"/>
            <a:ext cx="48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КОМПЛЕКСНЫЙ 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0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7341E-006 L -0.32691 0.00416 E">
                                      <p:cBhvr>
                                        <p:cTn id="145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5" dur="1000" fill="hold"/>
                                        <p:tgtEl>
                                          <p:spTgt spid="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Text Box 4"/>
          <p:cNvSpPr/>
          <p:nvPr/>
        </p:nvSpPr>
        <p:spPr>
          <a:xfrm>
            <a:off x="2195640" y="620640"/>
            <a:ext cx="5111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[N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3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H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1</a:t>
            </a:r>
            <a:r>
              <a:rPr b="1" lang="en-US" sz="54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]Cl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5"/>
          <p:cNvSpPr/>
          <p:nvPr/>
        </p:nvSpPr>
        <p:spPr>
          <a:xfrm>
            <a:off x="900000" y="306864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КОМПЛЕКСНЫЙ 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7"/>
          <p:cNvSpPr/>
          <p:nvPr/>
        </p:nvSpPr>
        <p:spPr>
          <a:xfrm>
            <a:off x="5651640" y="2637000"/>
            <a:ext cx="2520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[NH</a:t>
            </a:r>
            <a:r>
              <a:rPr b="1" lang="en-US" sz="54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]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8"/>
          <p:cNvSpPr/>
          <p:nvPr/>
        </p:nvSpPr>
        <p:spPr>
          <a:xfrm>
            <a:off x="1042920" y="213372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УТРЕННЯЯ СФЕРА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 Box 9"/>
          <p:cNvSpPr/>
          <p:nvPr/>
        </p:nvSpPr>
        <p:spPr>
          <a:xfrm>
            <a:off x="1042920" y="39337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МПЛЕКСООБРАЗОВАТЕЛЬ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 Box 10"/>
          <p:cNvSpPr/>
          <p:nvPr/>
        </p:nvSpPr>
        <p:spPr>
          <a:xfrm>
            <a:off x="6659640" y="3645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N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 Box 11"/>
          <p:cNvSpPr/>
          <p:nvPr/>
        </p:nvSpPr>
        <p:spPr>
          <a:xfrm>
            <a:off x="1116000" y="4797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ЛИГ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Text Box 12"/>
          <p:cNvSpPr/>
          <p:nvPr/>
        </p:nvSpPr>
        <p:spPr>
          <a:xfrm>
            <a:off x="3564000" y="450864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H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Text Box 13"/>
          <p:cNvSpPr/>
          <p:nvPr/>
        </p:nvSpPr>
        <p:spPr>
          <a:xfrm>
            <a:off x="1042920" y="558972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ЕШ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Text Box 14"/>
          <p:cNvSpPr/>
          <p:nvPr/>
        </p:nvSpPr>
        <p:spPr>
          <a:xfrm>
            <a:off x="5148360" y="566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АНИ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15"/>
          <p:cNvSpPr/>
          <p:nvPr/>
        </p:nvSpPr>
        <p:spPr>
          <a:xfrm>
            <a:off x="7164360" y="544500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Cl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Text Box 6"/>
          <p:cNvSpPr/>
          <p:nvPr/>
        </p:nvSpPr>
        <p:spPr>
          <a:xfrm>
            <a:off x="493236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Text Box 4"/>
          <p:cNvSpPr/>
          <p:nvPr/>
        </p:nvSpPr>
        <p:spPr>
          <a:xfrm>
            <a:off x="6012000" y="90792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Text Box 5"/>
          <p:cNvSpPr/>
          <p:nvPr/>
        </p:nvSpPr>
        <p:spPr>
          <a:xfrm>
            <a:off x="356400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 Box 8"/>
          <p:cNvSpPr/>
          <p:nvPr/>
        </p:nvSpPr>
        <p:spPr>
          <a:xfrm>
            <a:off x="2556000" y="9079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 Box 9"/>
          <p:cNvSpPr/>
          <p:nvPr/>
        </p:nvSpPr>
        <p:spPr>
          <a:xfrm>
            <a:off x="1979640" y="1773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+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Text Box 10"/>
          <p:cNvSpPr/>
          <p:nvPr/>
        </p:nvSpPr>
        <p:spPr>
          <a:xfrm>
            <a:off x="3635280" y="17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+ 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 Box 11"/>
          <p:cNvSpPr/>
          <p:nvPr/>
        </p:nvSpPr>
        <p:spPr>
          <a:xfrm>
            <a:off x="4356000" y="17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+ (-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 Box 12"/>
          <p:cNvSpPr/>
          <p:nvPr/>
        </p:nvSpPr>
        <p:spPr>
          <a:xfrm>
            <a:off x="6443640" y="9079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 Box 13"/>
          <p:cNvSpPr/>
          <p:nvPr/>
        </p:nvSpPr>
        <p:spPr>
          <a:xfrm>
            <a:off x="3348000" y="907920"/>
            <a:ext cx="503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 Box 14"/>
          <p:cNvSpPr/>
          <p:nvPr/>
        </p:nvSpPr>
        <p:spPr>
          <a:xfrm>
            <a:off x="2987640" y="1773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·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 Box 15"/>
          <p:cNvSpPr/>
          <p:nvPr/>
        </p:nvSpPr>
        <p:spPr>
          <a:xfrm>
            <a:off x="5940360" y="1773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·4 = 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Text Box 17"/>
          <p:cNvSpPr/>
          <p:nvPr/>
        </p:nvSpPr>
        <p:spPr>
          <a:xfrm>
            <a:off x="2411280" y="263700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x = 0-2+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18"/>
          <p:cNvSpPr/>
          <p:nvPr/>
        </p:nvSpPr>
        <p:spPr>
          <a:xfrm>
            <a:off x="2411280" y="335772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x = 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 Box 19"/>
          <p:cNvSpPr/>
          <p:nvPr/>
        </p:nvSpPr>
        <p:spPr>
          <a:xfrm>
            <a:off x="2340000" y="4797360"/>
            <a:ext cx="4319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Text Box 5"/>
          <p:cNvSpPr/>
          <p:nvPr/>
        </p:nvSpPr>
        <p:spPr>
          <a:xfrm>
            <a:off x="468360" y="260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АССТАВЬТЕ СТЕПЕНЬ ОКИСЛЕНИЯ ИОНА КОМПЛЕКСООБРАЗОВАТЕ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 Box 7"/>
          <p:cNvSpPr/>
          <p:nvPr/>
        </p:nvSpPr>
        <p:spPr>
          <a:xfrm>
            <a:off x="0" y="141300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 Box 8"/>
          <p:cNvSpPr/>
          <p:nvPr/>
        </p:nvSpPr>
        <p:spPr>
          <a:xfrm>
            <a:off x="3564000" y="1413000"/>
            <a:ext cx="525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9"/>
          <p:cNvSpPr/>
          <p:nvPr/>
        </p:nvSpPr>
        <p:spPr>
          <a:xfrm>
            <a:off x="0" y="227664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[Mg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10"/>
          <p:cNvSpPr/>
          <p:nvPr/>
        </p:nvSpPr>
        <p:spPr>
          <a:xfrm>
            <a:off x="0" y="3068640"/>
            <a:ext cx="320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179280" y="3933720"/>
            <a:ext cx="331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12"/>
          <p:cNvSpPr/>
          <p:nvPr/>
        </p:nvSpPr>
        <p:spPr>
          <a:xfrm>
            <a:off x="179280" y="4797360"/>
            <a:ext cx="3241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13"/>
          <p:cNvSpPr/>
          <p:nvPr/>
        </p:nvSpPr>
        <p:spPr>
          <a:xfrm>
            <a:off x="0" y="5661000"/>
            <a:ext cx="360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14"/>
          <p:cNvSpPr/>
          <p:nvPr/>
        </p:nvSpPr>
        <p:spPr>
          <a:xfrm>
            <a:off x="3348000" y="3068640"/>
            <a:ext cx="57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 Box 15"/>
          <p:cNvSpPr/>
          <p:nvPr/>
        </p:nvSpPr>
        <p:spPr>
          <a:xfrm>
            <a:off x="3564000" y="2276640"/>
            <a:ext cx="51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K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M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3348000" y="3933720"/>
            <a:ext cx="57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CN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17"/>
          <p:cNvSpPr/>
          <p:nvPr/>
        </p:nvSpPr>
        <p:spPr>
          <a:xfrm>
            <a:off x="3492360" y="4797360"/>
            <a:ext cx="5651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18"/>
          <p:cNvSpPr/>
          <p:nvPr/>
        </p:nvSpPr>
        <p:spPr>
          <a:xfrm>
            <a:off x="3203640" y="5661000"/>
            <a:ext cx="594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[Cu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(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Text Box 11"/>
          <p:cNvSpPr/>
          <p:nvPr/>
        </p:nvSpPr>
        <p:spPr>
          <a:xfrm>
            <a:off x="755640" y="112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Text Box 12"/>
          <p:cNvSpPr/>
          <p:nvPr/>
        </p:nvSpPr>
        <p:spPr>
          <a:xfrm>
            <a:off x="75564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4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 Box 13"/>
          <p:cNvSpPr/>
          <p:nvPr/>
        </p:nvSpPr>
        <p:spPr>
          <a:xfrm>
            <a:off x="755640" y="17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3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Text Box 14"/>
          <p:cNvSpPr/>
          <p:nvPr/>
        </p:nvSpPr>
        <p:spPr>
          <a:xfrm>
            <a:off x="755640" y="3141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5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 Box 15"/>
          <p:cNvSpPr/>
          <p:nvPr/>
        </p:nvSpPr>
        <p:spPr>
          <a:xfrm>
            <a:off x="755640" y="3860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6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Text Box 16"/>
          <p:cNvSpPr/>
          <p:nvPr/>
        </p:nvSpPr>
        <p:spPr>
          <a:xfrm>
            <a:off x="1547640" y="105264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ди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Text Box 18"/>
          <p:cNvSpPr/>
          <p:nvPr/>
        </p:nvSpPr>
        <p:spPr>
          <a:xfrm>
            <a:off x="1547640" y="177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ри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19"/>
          <p:cNvSpPr/>
          <p:nvPr/>
        </p:nvSpPr>
        <p:spPr>
          <a:xfrm>
            <a:off x="1476360" y="2421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Box 20"/>
          <p:cNvSpPr/>
          <p:nvPr/>
        </p:nvSpPr>
        <p:spPr>
          <a:xfrm>
            <a:off x="1476360" y="314172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пент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21"/>
          <p:cNvSpPr/>
          <p:nvPr/>
        </p:nvSpPr>
        <p:spPr>
          <a:xfrm>
            <a:off x="1476360" y="3860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екс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Text Box 22"/>
          <p:cNvSpPr/>
          <p:nvPr/>
        </p:nvSpPr>
        <p:spPr>
          <a:xfrm>
            <a:off x="468360" y="765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ЧИСЛИТЕЛЬ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 Box 23"/>
          <p:cNvSpPr/>
          <p:nvPr/>
        </p:nvSpPr>
        <p:spPr>
          <a:xfrm>
            <a:off x="421164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НАЗВАНИЯ ЛИГАНД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Text Box 24"/>
          <p:cNvSpPr/>
          <p:nvPr/>
        </p:nvSpPr>
        <p:spPr>
          <a:xfrm>
            <a:off x="4427640" y="1125360"/>
            <a:ext cx="259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ак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 Box 26"/>
          <p:cNvSpPr/>
          <p:nvPr/>
        </p:nvSpPr>
        <p:spPr>
          <a:xfrm>
            <a:off x="4356000" y="1773360"/>
            <a:ext cx="288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а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 Box 27"/>
          <p:cNvSpPr/>
          <p:nvPr/>
        </p:nvSpPr>
        <p:spPr>
          <a:xfrm>
            <a:off x="4427640" y="2492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С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карбон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 Box 28"/>
          <p:cNvSpPr/>
          <p:nvPr/>
        </p:nvSpPr>
        <p:spPr>
          <a:xfrm>
            <a:off x="4427640" y="328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Н</a:t>
            </a:r>
            <a:r>
              <a:rPr b="1" lang="ru-RU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гидрокс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29"/>
          <p:cNvSpPr/>
          <p:nvPr/>
        </p:nvSpPr>
        <p:spPr>
          <a:xfrm>
            <a:off x="4427640" y="39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(С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)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ци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30"/>
          <p:cNvSpPr/>
          <p:nvPr/>
        </p:nvSpPr>
        <p:spPr>
          <a:xfrm>
            <a:off x="900000" y="5229360"/>
            <a:ext cx="69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F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Cl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Br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I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фторо-, хлоро-, бромо-, йод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 Box 31"/>
          <p:cNvSpPr/>
          <p:nvPr/>
        </p:nvSpPr>
        <p:spPr>
          <a:xfrm>
            <a:off x="4356000" y="4581360"/>
            <a:ext cx="338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)</a:t>
            </a:r>
            <a:r>
              <a:rPr b="1" lang="ru-RU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ни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140328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НАЗВАНИЯ АНИОН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 Box 15"/>
          <p:cNvSpPr/>
          <p:nvPr/>
        </p:nvSpPr>
        <p:spPr>
          <a:xfrm>
            <a:off x="2050920" y="1341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Fe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фер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 Box 16"/>
          <p:cNvSpPr/>
          <p:nvPr/>
        </p:nvSpPr>
        <p:spPr>
          <a:xfrm>
            <a:off x="2050920" y="2060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Cu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куп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Text Box 17"/>
          <p:cNvSpPr/>
          <p:nvPr/>
        </p:nvSpPr>
        <p:spPr>
          <a:xfrm>
            <a:off x="2050920" y="27082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g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ргент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Text Box 18"/>
          <p:cNvSpPr/>
          <p:nvPr/>
        </p:nvSpPr>
        <p:spPr>
          <a:xfrm>
            <a:off x="2050920" y="3429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u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у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 Box 19"/>
          <p:cNvSpPr/>
          <p:nvPr/>
        </p:nvSpPr>
        <p:spPr>
          <a:xfrm>
            <a:off x="1979640" y="4149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Hg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мерку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Text Box 20"/>
          <p:cNvSpPr/>
          <p:nvPr/>
        </p:nvSpPr>
        <p:spPr>
          <a:xfrm>
            <a:off x="2050920" y="551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l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люмин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 Box 21"/>
          <p:cNvSpPr/>
          <p:nvPr/>
        </p:nvSpPr>
        <p:spPr>
          <a:xfrm>
            <a:off x="2050920" y="48690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Zn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цинк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2:29:01Z</dcterms:created>
  <dc:creator>Марина</dc:creator>
  <dc:description/>
  <dc:language>en-US</dc:language>
  <cp:lastModifiedBy>LEGION</cp:lastModifiedBy>
  <dcterms:modified xsi:type="dcterms:W3CDTF">2015-05-01T11:26:32Z</dcterms:modified>
  <cp:revision>64</cp:revision>
  <dc:subject/>
  <dc:title>Комплексные соединения</dc:title>
</cp:coreProperties>
</file>