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18.gif" ContentType="image/gi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9.gif" ContentType="image/gif"/>
  <Override PartName="/ppt/media/image1.png" ContentType="image/png"/>
  <Override PartName="/ppt/media/image2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C1DB-0A00-4279-B16D-C1012330A37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МПЛЕКСНЫЕ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ЕДИ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AA86-BEFB-4E4A-9E64-35B91B30DD2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ХИМИЧЕСКИЕ СВОЙСТ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1. Диссоци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[Cu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Arial"/>
              </a:rPr>
              <a:t>↔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[Cu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</a:t>
            </a:r>
            <a:r>
              <a:rPr b="0" lang="en-US" sz="1200" spc="-1" strike="noStrike" baseline="30000">
                <a:solidFill>
                  <a:srgbClr val="000000"/>
                </a:solidFill>
                <a:latin typeface="Bookman Old Style"/>
              </a:rPr>
              <a:t>2+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+ 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Bookman Old Style"/>
              </a:rPr>
              <a:t>2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2.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еакции по внешней 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Fe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+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[Fe(CN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→KFe[Fe(CN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+3K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[Cu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+Ba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→[Cu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+Ba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еакции с участием лиган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[Cu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+4HCl→4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Cl+Cu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4.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Реакции по центральному ио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бменные: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[Ag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Cl + KI → AgI↓ + KCl + 2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кислительно-восстановитель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2[Ag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OH+R-C=O →2Ag↓+RCOO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+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O+3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1986-D3E2-43C0-80F8-6260B015034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нение комплексных соедин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красителей (кобальтовые краски), ядохимикаты, удоб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установления жесткости во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стимуляторов биохимических процес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зделения некоторых металлов (лантаноидов) и получения металлов высокой чисто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налитической химии для определения ионов, например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+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+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0D54-A150-41AB-88AD-077DF3AF2AD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тересные ф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Изучение комплексных соединений – одна из интереснейших областей химии, в том числе биологической хим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Так, красное вещество гем, составная часть гемоглобина крови теплокровных животных и человека – это комплексное соединение: комплексообразователь – ион </a:t>
            </a:r>
            <a:r>
              <a:rPr b="0" lang="en-US" sz="1200" spc="-1" strike="noStrike">
                <a:solidFill>
                  <a:srgbClr val="006600"/>
                </a:solidFill>
                <a:latin typeface="Calibri"/>
              </a:rPr>
              <a:t>Fe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2+, лиганды – четыре кольца пиррола, имеющие боковые цепи. Похожее строение у хлорофилла, но в нем комплексообразователем служит ион </a:t>
            </a:r>
            <a:r>
              <a:rPr b="0" lang="en-US" sz="1200" spc="-1" strike="noStrike">
                <a:solidFill>
                  <a:srgbClr val="006600"/>
                </a:solidFill>
                <a:latin typeface="Calibri"/>
              </a:rPr>
              <a:t>Mg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2+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0B81-ECE9-4973-A36D-BBF1F5BFB44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те формул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Гесацианоферрат (3) кал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Тетрагидроксоцинкат кал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Гексафторалюминат натр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Хлорид гексааквахрома (3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Тетрацианомеркурат (2) кальц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Гидроксид диаминсеребра (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50CF-9001-44AC-8828-533E97FFF70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[Fe(CN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[Zn(OH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[Al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[Cr(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O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a[Hg(CN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[Ag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B7A1-776C-46F0-A373-1ADB503316E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Bookman Old Style"/>
              </a:rPr>
              <a:t>Соединения, имеющие в своем составе комплексные ионы, относят к </a:t>
            </a:r>
            <a:r>
              <a:rPr b="1" lang="ru-RU" sz="1200" spc="-1" strike="noStrike" u="sng">
                <a:solidFill>
                  <a:srgbClr val="0000ff"/>
                </a:solidFill>
                <a:uFillTx/>
                <a:latin typeface="Bookman Old Style"/>
              </a:rPr>
              <a:t>комплексным соедин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28ED-62DC-4806-8CBF-71B0C04AFC8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Calibri"/>
              </a:rPr>
              <a:t>Основные положения координационной теории  (1893г. Альфред Вернер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В комплексном соединении один из ионов или атомов считается центральным, его называю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мплексообразова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Вокруг центрального иона (атома) – комплексообразователя расположено (координировано) определенное число противоположно заряженных ионов или полярных молекул, называемых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ган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Центральный ион (атом) с лигандами образуе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нутреннюю координационную сфер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единения, которую при написании заключают в квадратные скоб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В большинстве случаев число лигандов, непосредственно связанных с центральным ионом (атомом), называет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ординационным числ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которое чаще всего принимает значения 2,4,6,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Ионы, которые располагаются на более далеком расстоянии от центрального иона (атома), образую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нешнюю координационную сф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0324-1054-4FF8-95DD-2B864525879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757B-2F12-4450-ACE7-7C18E4EA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A4EC-5118-4358-B22F-5E789423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84E472-9872-4603-977A-80EAB383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E1CA6-2625-4C0F-B11E-25E200E7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C712D-810C-4122-99B4-4487D84B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55D61-5120-4166-9842-5CC3D784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F3D287-526E-4277-B087-0372EA4A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11AC62-CC09-494A-9564-F1345AA6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FDB54-5C25-445F-8D1F-E10695A1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E2C29-B154-4835-A893-E8EC66790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66AAA-C3A9-43FA-85AB-2B98DAC3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F48B11-CCDC-48B9-B58C-9C86C0C6E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25C4-8974-4982-9E97-ADE75A8B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1FE935-5DC7-489D-98A5-F277E1E4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451143-8281-4339-9E9E-8F499183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74930F-BE45-4A44-B443-7F9E6866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DF7250-8819-41BD-A5E1-79ACC809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C5DC2F-01A1-40F9-93CC-095B63A5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772BA2-5BFF-4C96-9B03-A1D9804C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83E3BD-AC9B-4153-B58F-96DDC513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2EA55C-60A5-4D4F-B3CF-9616F8A6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43DD82-6F7C-4516-BF0A-10C4D664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E016E3-CEDC-452F-9A4B-F67601805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AE7F-C127-45B1-8357-9DD765AC2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63B2E7-FAEC-4E19-BA5F-F920CE58E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3BED7-4648-43D2-A789-F266C9E4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7B630-D5F8-407D-88A9-340E96E8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68894-2C39-4950-A5F4-3E5D176E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0565F-AD5A-45D3-8AC7-7846CAB6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55CA8-BA86-4C59-894E-F4895619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4ECF1-A1F6-4CE6-BE47-D27C1C80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AEB19-6E87-4539-B5ED-91863FCF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564F7-CA74-40B4-BD7C-67988F85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7E1CE-7ADA-4434-B58E-ABBC7B6C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775A-2F47-494D-996B-556F6EA4F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FE586-C028-464E-B23B-7E6F3DAB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D9B26-D446-439D-99F3-B22901CF7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A5BA9-A3F6-44E0-91D4-E8CBE4927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AEA5AB6-DC7B-4BF6-A3F1-8F4A09718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A6B08FF-4024-4947-AAC4-6999ABB7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6EEE9B9-94BF-4773-A113-AB24B14E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42151A-1C08-4DD4-81F8-DE9E5CC2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1578B1-44FF-4225-AA9C-B68325A7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766F5AB-CD98-4B8D-9A25-D3E2AE54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0A5BBCE-7721-47B4-B74D-9A41024C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3A1D-0F5E-4A14-8ED2-A5F48771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FCFC259-ABB8-4EB6-9696-AFBECC14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9FB5F28-D368-4EAD-B5DA-A9E13B37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23DCECA-1D32-4C6F-A9F9-ED6547D6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80690F3-86B3-45D5-BEBF-7BAE80905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19C7985-C74F-47D7-A93D-7F902A0F0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6ED622-86C3-4001-AD73-96687094A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C2D747-CA06-4525-B5A4-164EB020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1F4178-19DE-463A-B2C1-971A7528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AE803D-50D3-484D-B761-B43D46B6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9F274A-DD0D-40B5-A4EA-14EC144D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F8E9-1D41-445B-A581-6CBD0871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D27C72-96EB-46A0-A324-3BDE8C4D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997A8C-3718-4320-9339-E9B99A86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EFE3D4-5F1B-46C1-84AA-83E563CB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FB3FCF-3DB5-4FD6-8372-3949A072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C4E99E-D7E0-4333-AF54-7CBDBFB3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B7D22E-3A8D-4E77-A7A6-A44D38215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135E1D-43F0-4103-B6E1-FD498EC73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7D496A-6E1F-4AB0-BADB-6639B7CC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0FC553-D9D7-4B9E-A885-A597FEE4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2C1306-CA47-4715-BB96-CBA6BD2C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FE0E-B1ED-4532-B102-D88E3918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94708D-0F4C-4AC1-8D7C-409143FD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61AC9F-B78A-4D3F-977D-2AAD0739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306E36-9061-42D0-BB89-C30D66BB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651910-18C4-48D1-89D3-5AF9DF4C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4CD8F9-FE24-4DE2-BAC9-C80DCA65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EBAC14-05A6-4299-B0A0-2970F85E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598D71-F5F1-441B-A4F0-19EB4276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281A87-A8DB-4C29-8414-3756334D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F894A2-2465-4870-8F13-A4A548096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7E2B-38AB-4BBC-BE93-566898C0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327E-49C5-4566-9B89-9F548D3E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1D48-2D63-4373-B3B8-C2528D49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497A-C96C-400B-8774-B82E5D4D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7B39-19A1-4005-97BC-A079F4C4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3469-0404-463C-9A2B-7CD87E79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2191-5404-4A6F-A6F0-63C898D8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8D7F-C7AF-4A6A-858A-82210B223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610E-EED8-421F-8C1C-1E524FA56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768EF-465F-44AB-A82B-28ACD7D0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9C3DC-01B9-4CA6-B3EF-344DDEA6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A04CA-CBE2-4962-B2C3-703DD2A9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85638-66CA-4925-8306-5F5604F7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E3679-955C-4A86-8E5D-56BAF251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880D-E5FC-42F7-8EF6-A88CF807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B8588-23CF-475E-B661-EB46A7FA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E909F-9AF7-4CFC-814E-8CF0454C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5222F-00F6-40DE-A645-D0FB6178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DE924-950C-453D-8348-39F44ADD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BA7A2-89D4-4A90-94A0-9AAB7049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F600F-5608-41F6-BDAC-1577E572E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A75D8-BFA5-4A7F-B2E4-62AA17259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B4C9C-B338-4007-9E26-982A1645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D391A-C067-48DF-A346-FEEF1E49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30703-2381-4B95-8CB6-8E9AAB18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A39A-B2C9-4843-BD0A-CEEA4BD4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0F0D6-7B19-4C10-B19D-B90B3A25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6C185-F827-4C29-ACEC-6799C200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5F75B-9398-4388-BB9F-D9F527A2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61DEF-5228-4686-9179-1F3C64DB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BB792-22A8-4303-9AE5-49A6075A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DB1DD-40FF-417C-8502-76D61283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F1286-2118-4293-96CB-4BF5C75E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A80FA-BA29-4737-9F97-93DF6B85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F4C9E-88F9-4C05-BFB1-AEB1B5354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75E45-589D-48B0-94CD-B7A8E5AF6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569B-E6E6-411F-8392-780F7BA2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671FE-41D6-4245-BC64-D5E9459F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AC16F-04B0-48B4-B0DE-C9F0DABC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6B527-0137-4730-A404-67C4C3D0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1CE0A-9C10-4060-83F1-625689A3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3120C-BAAF-4F40-AF8C-ACE2D513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8B4E3-F87A-4796-8EAC-CC59B78C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C0CA6-D0C2-40E2-AAC4-6CF09AD1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8D59A-D516-4F74-BDA9-A71E3B7E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C27A5-5851-4ED4-8AA4-41493BD2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6C04E-F813-4610-A3E0-C25B161BE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03BE-27AA-4CB7-BCA7-E30EECAB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A182F-59DA-4CEC-BA27-30BC4E3FE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5BAFB-1876-4943-ADAF-07ABA76EF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E5DCA-16A6-4233-B69A-C78FAD29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4174B-3188-4BD2-AE5D-1B7B9AC9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37053-01D3-4588-BDBB-A42DC617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AB0D3-7350-4647-8F4A-6D2499E2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F65C0-2446-4900-99C1-49608121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300AF-FA11-4B8D-B076-AA91A1AC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562B5-648F-4299-93AB-4F2B813C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57528-904A-40B5-8DA4-027176DF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4823-C85C-4E2A-B3EF-A09B4824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E3304-8E9F-44E1-A13B-AFCE1B60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23E8E-3F5B-4538-BCCC-55F913172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4673A-20E7-4A5C-B839-49E077BFD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4DB69-942A-47E6-8BE8-AFD579AEB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2AFAC-A95B-42DA-9D5C-5FF25538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32BCB-58CD-41A9-A709-79C95339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E1BF9-1C6B-4346-81F7-BCF12015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7FEFF-220B-44B7-867C-E7F83585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0F125-7A9F-4353-8772-A6C1AC83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8F254-4B44-48B2-918D-D755681C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23B2-7F38-4F04-9FA9-9A3867DB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C2CFF-7581-477A-ABA6-5BDC6E85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FA722-63F0-44FB-B56C-77DBE67C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00652-5D4E-4EB6-836F-A8A79FFF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269D8-505C-4D5A-8DD8-D9B9A0F94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C5C38-0FB9-4B65-BD45-E07C752A2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455B5-224E-4138-9536-716E6E3D3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43DE1-FAB3-423A-8F47-6C3BD807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262FE-943C-4A47-BBD9-1D78C63C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74E4B-BE4B-44F6-9DB5-92C4DDCE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65E44-0138-44EA-A365-6D10DFA1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F47D-841F-495E-B6EB-454F4CC4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2CA90-0BF2-4E60-8B6A-822A4374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0268E-97CA-4832-A30B-D15FC9FA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246AF-FAC9-4539-B101-0B9470BD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EBBE4-FCF5-489E-9F96-AF75F3BA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E173D-16D8-4478-A0B6-AC6E07F9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7F8CF-08AC-47FC-9F99-0F88DF71B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DA076-4BBE-44CC-B2D0-FCEB0B376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E99DB-98C6-4451-8AEC-0A60C62A5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56672-F234-40D4-90C9-00D0F1FD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46EAB-034B-4153-8C7F-0C5220F9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B90B-6E37-4BBA-AA64-415292B8CD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sldNum" idx="28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A89A-213F-4377-BFED-DAF1BA5411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29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dt" idx="30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75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ftr" idx="32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C08C-CF23-4724-9193-4B347A74760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1003-E4DF-4508-AF89-60CBCF29B5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4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C636-1DE3-4029-AA82-103FFBE5DA6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89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 type="dt" idx="4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 type="ftr" idx="4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A35C-0B92-41F5-91E1-2934AF78C2E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B670-9CC0-4C71-9940-1B6665F499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5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5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5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6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7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7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8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8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8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9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9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9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10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10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10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11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dt" idx="7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ftr" idx="8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9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9853-DC57-4B54-A5F8-C5B0506882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96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2354-1518-48C1-8C58-4DAD0982935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B621-9F46-4174-9948-7FE20BF884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8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46D5-1A8C-444F-9759-8612F3ADD5C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3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C01C-B33D-4AD4-8623-43CB40E56BA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14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42BA-2AB8-47D3-BF30-9DC4EE99F8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462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1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642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7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648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64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6C6D-0988-40EA-BB03-6F2677BC8D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5.png"/><Relationship Id="rId28" Type="http://schemas.openxmlformats.org/officeDocument/2006/relationships/image" Target="../media/image15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image" Target="../media/image17.png"/><Relationship Id="rId36" Type="http://schemas.openxmlformats.org/officeDocument/2006/relationships/image" Target="../media/image17.png"/><Relationship Id="rId3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10920" y="1915920"/>
            <a:ext cx="7993080" cy="15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04176"/>
                </a:solidFill>
                <a:latin typeface="Times New Roman"/>
              </a:rPr>
              <a:t>КОМПЛЕКСНЫЕ </a:t>
            </a:r>
            <a:br>
              <a:rPr sz="4400"/>
            </a:br>
            <a:r>
              <a:rPr b="1" i="1" lang="ru-RU" sz="4400" spc="-1" strike="noStrike">
                <a:solidFill>
                  <a:srgbClr val="404176"/>
                </a:solidFill>
                <a:latin typeface="Times New Roman"/>
              </a:rPr>
              <a:t>СОЕДИНЕНИЯ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81" name="Text Box 4"/>
          <p:cNvSpPr/>
          <p:nvPr/>
        </p:nvSpPr>
        <p:spPr>
          <a:xfrm>
            <a:off x="684360" y="11592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Monotype Corsiva"/>
              </a:rPr>
              <a:t>Муниципальное общеобразовательное учреждение Сусанинская средняя шко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Text Box 5"/>
          <p:cNvSpPr/>
          <p:nvPr/>
        </p:nvSpPr>
        <p:spPr>
          <a:xfrm>
            <a:off x="4356000" y="4365720"/>
            <a:ext cx="4392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176"/>
                </a:solidFill>
                <a:latin typeface="Bookman Old Style"/>
              </a:rPr>
              <a:t>Выполнила: учитель хим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176"/>
                </a:solidFill>
                <a:latin typeface="Bookman Old Style"/>
              </a:rPr>
              <a:t>                        </a:t>
            </a:r>
            <a:r>
              <a:rPr b="1" i="1" lang="ru-RU" sz="2000" spc="-1" strike="noStrike">
                <a:solidFill>
                  <a:srgbClr val="404176"/>
                </a:solidFill>
                <a:latin typeface="Bookman Old Style"/>
              </a:rPr>
              <a:t>Обливанова Светлана Виктор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Text Box 12"/>
          <p:cNvSpPr/>
          <p:nvPr/>
        </p:nvSpPr>
        <p:spPr>
          <a:xfrm>
            <a:off x="5003640" y="1628640"/>
            <a:ext cx="179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тет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Text Box 13"/>
          <p:cNvSpPr/>
          <p:nvPr/>
        </p:nvSpPr>
        <p:spPr>
          <a:xfrm>
            <a:off x="3635280" y="1628640"/>
            <a:ext cx="29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гидрокс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Text Box 15"/>
          <p:cNvSpPr/>
          <p:nvPr/>
        </p:nvSpPr>
        <p:spPr>
          <a:xfrm>
            <a:off x="4284720" y="1628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цинк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Text Box 4"/>
          <p:cNvSpPr/>
          <p:nvPr/>
        </p:nvSpPr>
        <p:spPr>
          <a:xfrm>
            <a:off x="25092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Bookman Old Style"/>
              </a:rPr>
              <a:t>НОМЕНКЛАТУРА КОМПЛЕКСНЫХ СОЕДИ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Text Box 5"/>
          <p:cNvSpPr/>
          <p:nvPr/>
        </p:nvSpPr>
        <p:spPr>
          <a:xfrm>
            <a:off x="2411280" y="907920"/>
            <a:ext cx="1368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Na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+</a:t>
            </a: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Text Box 10"/>
          <p:cNvSpPr/>
          <p:nvPr/>
        </p:nvSpPr>
        <p:spPr>
          <a:xfrm>
            <a:off x="6012000" y="907920"/>
            <a:ext cx="718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4</a:t>
            </a: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Text Box 11"/>
          <p:cNvSpPr/>
          <p:nvPr/>
        </p:nvSpPr>
        <p:spPr>
          <a:xfrm>
            <a:off x="4788000" y="9079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(OH)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Text Box 14"/>
          <p:cNvSpPr/>
          <p:nvPr/>
        </p:nvSpPr>
        <p:spPr>
          <a:xfrm>
            <a:off x="3492360" y="90792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[Zn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+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Text Box 16"/>
          <p:cNvSpPr/>
          <p:nvPr/>
        </p:nvSpPr>
        <p:spPr>
          <a:xfrm>
            <a:off x="6804000" y="1628640"/>
            <a:ext cx="23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натр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Text Box 18"/>
          <p:cNvSpPr/>
          <p:nvPr/>
        </p:nvSpPr>
        <p:spPr>
          <a:xfrm>
            <a:off x="2268360" y="249228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[Cr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+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Text Box 19"/>
          <p:cNvSpPr/>
          <p:nvPr/>
        </p:nvSpPr>
        <p:spPr>
          <a:xfrm>
            <a:off x="3419640" y="2492280"/>
            <a:ext cx="1942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(H</a:t>
            </a: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2</a:t>
            </a: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O)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Text Box 20"/>
          <p:cNvSpPr/>
          <p:nvPr/>
        </p:nvSpPr>
        <p:spPr>
          <a:xfrm>
            <a:off x="5076720" y="2492280"/>
            <a:ext cx="576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Text Box 21"/>
          <p:cNvSpPr/>
          <p:nvPr/>
        </p:nvSpPr>
        <p:spPr>
          <a:xfrm>
            <a:off x="5508720" y="2492280"/>
            <a:ext cx="115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Cl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Text Box 22"/>
          <p:cNvSpPr/>
          <p:nvPr/>
        </p:nvSpPr>
        <p:spPr>
          <a:xfrm>
            <a:off x="611280" y="371628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хлори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Text Box 23"/>
          <p:cNvSpPr/>
          <p:nvPr/>
        </p:nvSpPr>
        <p:spPr>
          <a:xfrm>
            <a:off x="4500720" y="3716280"/>
            <a:ext cx="179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ак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Text Box 24"/>
          <p:cNvSpPr/>
          <p:nvPr/>
        </p:nvSpPr>
        <p:spPr>
          <a:xfrm>
            <a:off x="3132000" y="3716280"/>
            <a:ext cx="179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гекс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Text Box 25"/>
          <p:cNvSpPr/>
          <p:nvPr/>
        </p:nvSpPr>
        <p:spPr>
          <a:xfrm>
            <a:off x="5796000" y="3716280"/>
            <a:ext cx="33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x</a:t>
            </a: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рома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 (II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Text Box 27"/>
          <p:cNvSpPr/>
          <p:nvPr/>
        </p:nvSpPr>
        <p:spPr>
          <a:xfrm>
            <a:off x="3059280" y="4508640"/>
            <a:ext cx="115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K</a:t>
            </a:r>
            <a:r>
              <a:rPr b="1" lang="en-US" sz="4000" spc="-1" strike="noStrike" baseline="30000">
                <a:solidFill>
                  <a:srgbClr val="ff3300"/>
                </a:solidFill>
                <a:latin typeface="Bookman Old Style"/>
              </a:rPr>
              <a:t>+</a:t>
            </a: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Text Box 28"/>
          <p:cNvSpPr/>
          <p:nvPr/>
        </p:nvSpPr>
        <p:spPr>
          <a:xfrm>
            <a:off x="3995640" y="450864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[Hg</a:t>
            </a:r>
            <a:r>
              <a:rPr b="1" lang="en-US" sz="4000" spc="-1" strike="noStrike" baseline="30000">
                <a:solidFill>
                  <a:srgbClr val="ff3300"/>
                </a:solidFill>
                <a:latin typeface="Bookman Old Style"/>
              </a:rPr>
              <a:t>+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Text Box 29"/>
          <p:cNvSpPr/>
          <p:nvPr/>
        </p:nvSpPr>
        <p:spPr>
          <a:xfrm>
            <a:off x="5148360" y="458136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I</a:t>
            </a:r>
            <a:r>
              <a:rPr b="1" lang="en-US" sz="40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Text Box 30"/>
          <p:cNvSpPr/>
          <p:nvPr/>
        </p:nvSpPr>
        <p:spPr>
          <a:xfrm>
            <a:off x="5796000" y="4508640"/>
            <a:ext cx="720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4</a:t>
            </a: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Text Box 31"/>
          <p:cNvSpPr/>
          <p:nvPr/>
        </p:nvSpPr>
        <p:spPr>
          <a:xfrm>
            <a:off x="250920" y="5300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тет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Text Box 32"/>
          <p:cNvSpPr/>
          <p:nvPr/>
        </p:nvSpPr>
        <p:spPr>
          <a:xfrm>
            <a:off x="2050920" y="530064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йод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Text Box 33"/>
          <p:cNvSpPr/>
          <p:nvPr/>
        </p:nvSpPr>
        <p:spPr>
          <a:xfrm>
            <a:off x="3348000" y="5300640"/>
            <a:ext cx="39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меркурат 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(I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Text Box 34"/>
          <p:cNvSpPr/>
          <p:nvPr/>
        </p:nvSpPr>
        <p:spPr>
          <a:xfrm>
            <a:off x="7020000" y="530064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кал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0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2" dur="1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2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7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1" dur="2000" fill="hold"/>
                                        <p:tgtEl>
                                          <p:spTgt spid="10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69942E-006 L -0.54705 0.00139 E">
                                      <p:cBhvr>
                                        <p:cTn id="630" dur="1000" fill="hold"/>
                                        <p:tgtEl>
                                          <p:spTgt spid="10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4" dur="2000" fill="hold"/>
                                        <p:tgtEl>
                                          <p:spTgt spid="10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69942E-006 L -0.2243 0.00139 E">
                                      <p:cBhvr>
                                        <p:cTn id="643" dur="1000" fill="hold"/>
                                        <p:tgtEl>
                                          <p:spTgt spid="10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7" dur="2000" fill="hold"/>
                                        <p:tgtEl>
                                          <p:spTgt spid="10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7" dur="2000" fill="hold"/>
                                        <p:tgtEl>
                                          <p:spTgt spid="10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0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5" dur="1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0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5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9" dur="2000" fill="hold"/>
                                        <p:tgtEl>
                                          <p:spTgt spid="1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9" dur="2000" fill="hold"/>
                                        <p:tgtEl>
                                          <p:spTgt spid="10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9" dur="2000" fill="hold"/>
                                        <p:tgtEl>
                                          <p:spTgt spid="10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9" dur="2000" fill="hold"/>
                                        <p:tgtEl>
                                          <p:spTgt spid="10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7" dur="1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2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7" dur="1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1" dur="2000" fill="hold"/>
                                        <p:tgtEl>
                                          <p:spTgt spid="1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1" dur="2000" fill="hold"/>
                                        <p:tgtEl>
                                          <p:spTgt spid="1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1" dur="2000" fill="hold"/>
                                        <p:tgtEl>
                                          <p:spTgt spid="1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1" dur="2000" fill="hold"/>
                                        <p:tgtEl>
                                          <p:spTgt spid="1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Text Box 2"/>
          <p:cNvSpPr/>
          <p:nvPr/>
        </p:nvSpPr>
        <p:spPr>
          <a:xfrm>
            <a:off x="25092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НАЗОВИТЕ КОМПЛЕКСНЫЕ СОЕДИ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Text Box 11"/>
          <p:cNvSpPr/>
          <p:nvPr/>
        </p:nvSpPr>
        <p:spPr>
          <a:xfrm>
            <a:off x="2987640" y="981000"/>
            <a:ext cx="259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F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Text Box 12"/>
          <p:cNvSpPr/>
          <p:nvPr/>
        </p:nvSpPr>
        <p:spPr>
          <a:xfrm>
            <a:off x="2843280" y="2637000"/>
            <a:ext cx="3203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[Al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Text Box 13"/>
          <p:cNvSpPr/>
          <p:nvPr/>
        </p:nvSpPr>
        <p:spPr>
          <a:xfrm>
            <a:off x="2700360" y="4149720"/>
            <a:ext cx="3313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Fe(CN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Text Box 14"/>
          <p:cNvSpPr/>
          <p:nvPr/>
        </p:nvSpPr>
        <p:spPr>
          <a:xfrm>
            <a:off x="1908000" y="170028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Гексафтороалюминат нат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Text Box 15"/>
          <p:cNvSpPr/>
          <p:nvPr/>
        </p:nvSpPr>
        <p:spPr>
          <a:xfrm>
            <a:off x="1692360" y="3284640"/>
            <a:ext cx="71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Тетрагидроксоалюминат нат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Text Box 16"/>
          <p:cNvSpPr/>
          <p:nvPr/>
        </p:nvSpPr>
        <p:spPr>
          <a:xfrm>
            <a:off x="1835280" y="515772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Гексационоферрат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II)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 кал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0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6" dur="1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8" dur="1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0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2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Text Box 2"/>
          <p:cNvSpPr/>
          <p:nvPr/>
        </p:nvSpPr>
        <p:spPr>
          <a:xfrm>
            <a:off x="25092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НАЗОВИТЕ КОМПЛЕКСНЫЕ СОЕДИ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Text Box 3"/>
          <p:cNvSpPr/>
          <p:nvPr/>
        </p:nvSpPr>
        <p:spPr>
          <a:xfrm>
            <a:off x="2627280" y="981000"/>
            <a:ext cx="4608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Text Box 6"/>
          <p:cNvSpPr/>
          <p:nvPr/>
        </p:nvSpPr>
        <p:spPr>
          <a:xfrm>
            <a:off x="1908000" y="170028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Сульфат тетраамминмеди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I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Text Box 9"/>
          <p:cNvSpPr/>
          <p:nvPr/>
        </p:nvSpPr>
        <p:spPr>
          <a:xfrm>
            <a:off x="2627280" y="2492280"/>
            <a:ext cx="4608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g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C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Text Box 10"/>
          <p:cNvSpPr/>
          <p:nvPr/>
        </p:nvSpPr>
        <p:spPr>
          <a:xfrm>
            <a:off x="1692360" y="342900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Хлорид диамминсереб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Text Box 11"/>
          <p:cNvSpPr/>
          <p:nvPr/>
        </p:nvSpPr>
        <p:spPr>
          <a:xfrm>
            <a:off x="1619280" y="537372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Хлорид гексааквахрома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II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Text Box 12"/>
          <p:cNvSpPr/>
          <p:nvPr/>
        </p:nvSpPr>
        <p:spPr>
          <a:xfrm>
            <a:off x="2556000" y="4365720"/>
            <a:ext cx="4608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Cr(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O)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nodeType="clickEffect" fill="hold">
                      <p:stCondLst>
                        <p:cond delay="0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1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3" dur="1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5" dur="1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7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Text Box 3"/>
          <p:cNvSpPr/>
          <p:nvPr/>
        </p:nvSpPr>
        <p:spPr>
          <a:xfrm>
            <a:off x="1692360" y="1484280"/>
            <a:ext cx="5472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 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K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Pt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Text Box 6"/>
          <p:cNvSpPr/>
          <p:nvPr/>
        </p:nvSpPr>
        <p:spPr>
          <a:xfrm>
            <a:off x="684360" y="76500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Гексахлороплатинат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(IV)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 кал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Text Box 7"/>
          <p:cNvSpPr/>
          <p:nvPr/>
        </p:nvSpPr>
        <p:spPr>
          <a:xfrm>
            <a:off x="468360" y="220500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Нитрат хлоронитротетраамминкобальта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Text Box 8"/>
          <p:cNvSpPr/>
          <p:nvPr/>
        </p:nvSpPr>
        <p:spPr>
          <a:xfrm>
            <a:off x="1258920" y="350028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Гексагидроксохромат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III)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 нат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Text Box 9"/>
          <p:cNvSpPr/>
          <p:nvPr/>
        </p:nvSpPr>
        <p:spPr>
          <a:xfrm>
            <a:off x="1116000" y="1890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СОСТАВЬТЕ ФОРМУЛЫ 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Text Box 10"/>
          <p:cNvSpPr/>
          <p:nvPr/>
        </p:nvSpPr>
        <p:spPr>
          <a:xfrm>
            <a:off x="539640" y="2781360"/>
            <a:ext cx="8353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 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Co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Cl]NO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Text Box 11"/>
          <p:cNvSpPr/>
          <p:nvPr/>
        </p:nvSpPr>
        <p:spPr>
          <a:xfrm>
            <a:off x="1908000" y="4149720"/>
            <a:ext cx="547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 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Cr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Text Box 13"/>
          <p:cNvSpPr/>
          <p:nvPr/>
        </p:nvSpPr>
        <p:spPr>
          <a:xfrm>
            <a:off x="826920" y="5013360"/>
            <a:ext cx="79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Нитрат гексаамминникеля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I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Text Box 14"/>
          <p:cNvSpPr/>
          <p:nvPr/>
        </p:nvSpPr>
        <p:spPr>
          <a:xfrm>
            <a:off x="1258920" y="5734080"/>
            <a:ext cx="6696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 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Ni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(NO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nodeType="clickEffect" fill="hold">
                      <p:stCondLst>
                        <p:cond delay="0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6" dur="1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2" dur="1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4" dur="1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6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8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Text Box 2"/>
          <p:cNvSpPr/>
          <p:nvPr/>
        </p:nvSpPr>
        <p:spPr>
          <a:xfrm>
            <a:off x="971640" y="260280"/>
            <a:ext cx="76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ОЛУЧЕНИЕ КОМПЛЕКСНЫХ СОЕДИ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Text Box 10"/>
          <p:cNvSpPr/>
          <p:nvPr/>
        </p:nvSpPr>
        <p:spPr>
          <a:xfrm>
            <a:off x="250920" y="765000"/>
            <a:ext cx="8424720" cy="25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олучение тетрагидроксоалюмината нат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Al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+3NaOH = Al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+3Na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NaOH = Na[Al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Text Box 11"/>
          <p:cNvSpPr/>
          <p:nvPr/>
        </p:nvSpPr>
        <p:spPr>
          <a:xfrm>
            <a:off x="0" y="3573360"/>
            <a:ext cx="903600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олучение гидроксида тетраамминмеди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(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Cu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+2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+2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O = Cu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+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4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[Cu(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nodeType="clickEffect" fill="hold">
                      <p:stCondLst>
                        <p:cond delay="0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2" dur="1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3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Bookman Old Style"/>
              </a:rPr>
              <a:t>ХИМИЧЕСКИЕ СВОЙСТВА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78544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1. Диссоци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↔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man Old Style"/>
              </a:rPr>
              <a:t>2+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+ 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man Old Style"/>
              </a:rPr>
              <a:t>2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2. </a:t>
            </a: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Реакции по внешней сфе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eCl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+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[Fe(CN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→KFe[Fe(CN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+3K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+BaCl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→[Cu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Cl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+Ba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3. </a:t>
            </a: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Реакции с участием лиганд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+4HCl→4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l+Cu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4. </a:t>
            </a:r>
            <a:r>
              <a:rPr b="0" lang="ru-RU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Реакции по центральному ион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Обменные: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[Ag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Cl + KI → AgI↓ + KCl + 2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Окислительно-восстановительны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2[Ag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OH+R-C=O →2Ag↓+RCOO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+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O+3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Line 4"/>
          <p:cNvSpPr/>
          <p:nvPr/>
        </p:nvSpPr>
        <p:spPr>
          <a:xfrm>
            <a:off x="3132000" y="4653000"/>
            <a:ext cx="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500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3" dur="500"/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8" dur="500"/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6" dur="500"/>
                                        <p:tgtEl>
                                          <p:spTgt spid="1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1" dur="500"/>
                                        <p:tgtEl>
                                          <p:spTgt spid="1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1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0" dur="500"/>
                                        <p:tgtEl>
                                          <p:spTgt spid="1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1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500"/>
                                        <p:tgtEl>
                                          <p:spTgt spid="1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1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1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9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именение комплексных соединений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ачестве красителей (кобальтовые краски), ядохимикаты, удобр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установления жесткости вод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ачестве стимуляторов биохимических процес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разделения некоторых металлов (лантаноидов) и получения металлов высокой чисто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аналитической химии для определения ионов, например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+ 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+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2" dur="500"/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7" dur="500"/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2" dur="500"/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7" dur="500"/>
                                        <p:tgtEl>
                                          <p:spTgt spid="1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2" dur="500"/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Arial"/>
              </a:rPr>
              <a:t>Интересные факт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1907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Verdana"/>
              </a:rPr>
              <a:t>Изучение комплексных соединений – одна из интереснейших областей химии, в том числе биологической хими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Verdana"/>
              </a:rPr>
              <a:t>Так, красное вещество гем, составная часть гемоглобина крови теплокровных животных и человека – это комплексное соединение: комплексообразователь – ион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Fe</a:t>
            </a:r>
            <a:r>
              <a:rPr b="0" lang="ru-RU" sz="2400" spc="-1" strike="noStrike">
                <a:solidFill>
                  <a:srgbClr val="006600"/>
                </a:solidFill>
                <a:latin typeface="Verdana"/>
              </a:rPr>
              <a:t>2+, лиганды – четыре кольца пиррола, имеющие боковые цепи. Похожее строение у хлорофилла, но в нем комплексообразователем служит ион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Mg</a:t>
            </a:r>
            <a:r>
              <a:rPr b="0" lang="ru-RU" sz="2400" spc="-1" strike="noStrike">
                <a:solidFill>
                  <a:srgbClr val="006600"/>
                </a:solidFill>
                <a:latin typeface="Verdana"/>
              </a:rPr>
              <a:t>2+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1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1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1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1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авьте формул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Гесацианоферрат (3) кал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Тетрагидроксоцинкат кал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Гексафторалюминат натр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Хлорид гексааквахрома (3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 Тетрацианомеркурат (2) кальц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. Гидроксид диаминсеребра (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6" name="Picture 4" descr="Research"/>
          <p:cNvPicPr/>
          <p:nvPr/>
        </p:nvPicPr>
        <p:blipFill>
          <a:blip r:embed="rId1"/>
          <a:stretch/>
        </p:blipFill>
        <p:spPr>
          <a:xfrm>
            <a:off x="7451640" y="-316080"/>
            <a:ext cx="1152720" cy="1440000"/>
          </a:xfrm>
          <a:prstGeom prst="rect">
            <a:avLst/>
          </a:prstGeom>
          <a:ln w="0">
            <a:noFill/>
          </a:ln>
        </p:spPr>
      </p:pic>
      <p:sp>
        <p:nvSpPr>
          <p:cNvPr id="115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1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1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1000"/>
                                        <p:tgtEl>
                                          <p:spTgt spid="1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1000"/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1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1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1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1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1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1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1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1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1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тв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Fe(CN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Zn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Al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Cr(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[Hg(CN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Ag(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O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0" name="Picture 4" descr="image595"/>
          <p:cNvPicPr/>
          <p:nvPr/>
        </p:nvPicPr>
        <p:blipFill>
          <a:blip r:embed="rId1"/>
          <a:stretch/>
        </p:blipFill>
        <p:spPr>
          <a:xfrm>
            <a:off x="7885080" y="62064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116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1000"/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1000"/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1000"/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1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1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6" dur="1000"/>
                                        <p:tgtEl>
                                          <p:spTgt spid="1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1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1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3" dur="1000"/>
                                        <p:tgtEl>
                                          <p:spTgt spid="1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1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1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0" dur="1000"/>
                                        <p:tgtEl>
                                          <p:spTgt spid="1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Text Box 4"/>
          <p:cNvSpPr/>
          <p:nvPr/>
        </p:nvSpPr>
        <p:spPr>
          <a:xfrm>
            <a:off x="900000" y="1844640"/>
            <a:ext cx="7920000" cy="2531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4000" spc="-1" strike="noStrike">
                <a:solidFill>
                  <a:srgbClr val="0000ff"/>
                </a:solidFill>
                <a:latin typeface="Bookman Old Style"/>
              </a:rPr>
              <a:t>Соединения, имеющие в своем составе комплексные ионы, относят к 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Bookman Old Style"/>
              </a:rPr>
              <a:t>комплексным соединения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66124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Основные положения координационной теории  (1893г. Альфред Вернер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516880" cy="488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В комплексном соединении один из ионов или атомов считается центральным, его называют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омплексообразователе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Вокруг центрального иона (атома) – комплексообразователя расположено (координировано) определенное число противоположно заряженных ионов или полярных молекул, называемых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лиганда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Центральный ион (атом) с лигандами образует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нутреннюю координационную сферу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единения, которую при написании заключают в квадратные скоб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В большинстве случаев число лигандов, непосредственно связанных с центральным ионом (атомом), называется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оординационным число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которое чаще всего принимает значения 2,4,6,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Ионы, которые располагаются на более далеком расстоянии от центрального иона (атома), образуют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нешнюю координационную сфер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Text Box 27"/>
          <p:cNvSpPr/>
          <p:nvPr/>
        </p:nvSpPr>
        <p:spPr>
          <a:xfrm>
            <a:off x="179280" y="404640"/>
            <a:ext cx="896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b7"/>
                </a:solidFill>
                <a:latin typeface="Bookman Old Style"/>
              </a:rPr>
              <a:t>СТРОЕНИЕ КОМПЛЕКСНЫХ СОЕДИНЕНИ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WordArt 4"/>
          <p:cNvSpPr txBox="1"/>
          <p:nvPr/>
        </p:nvSpPr>
        <p:spPr>
          <a:xfrm>
            <a:off x="3708360" y="2781360"/>
            <a:ext cx="720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1" name="WordArt 5"/>
          <p:cNvSpPr txBox="1"/>
          <p:nvPr/>
        </p:nvSpPr>
        <p:spPr>
          <a:xfrm>
            <a:off x="2340000" y="2852640"/>
            <a:ext cx="649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2" name="WordArt 6"/>
          <p:cNvSpPr txBox="1"/>
          <p:nvPr/>
        </p:nvSpPr>
        <p:spPr>
          <a:xfrm>
            <a:off x="5003640" y="2781360"/>
            <a:ext cx="649440" cy="12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3" name="WordArt 7"/>
          <p:cNvSpPr txBox="1"/>
          <p:nvPr/>
        </p:nvSpPr>
        <p:spPr>
          <a:xfrm>
            <a:off x="3708360" y="4508640"/>
            <a:ext cx="72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4" name="WordArt 8"/>
          <p:cNvSpPr txBox="1"/>
          <p:nvPr/>
        </p:nvSpPr>
        <p:spPr>
          <a:xfrm>
            <a:off x="7093080" y="2565360"/>
            <a:ext cx="865080" cy="14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l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5" name="WordArt 13"/>
          <p:cNvSpPr txBox="1"/>
          <p:nvPr/>
        </p:nvSpPr>
        <p:spPr>
          <a:xfrm>
            <a:off x="4643280" y="765000"/>
            <a:ext cx="576360" cy="56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6" name="WordArt 14"/>
          <p:cNvSpPr txBox="1"/>
          <p:nvPr/>
        </p:nvSpPr>
        <p:spPr>
          <a:xfrm>
            <a:off x="8172360" y="2349360"/>
            <a:ext cx="50508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</a:t>
            </a:r>
            <a:endParaRPr b="0" lang="en-US" sz="18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7" name="WordArt 15"/>
          <p:cNvSpPr txBox="1"/>
          <p:nvPr/>
        </p:nvSpPr>
        <p:spPr>
          <a:xfrm>
            <a:off x="1908000" y="692280"/>
            <a:ext cx="43200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[</a:t>
            </a:r>
            <a:endParaRPr b="0" lang="en-US" sz="18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8" name="WordArt 16"/>
          <p:cNvSpPr txBox="1"/>
          <p:nvPr/>
        </p:nvSpPr>
        <p:spPr>
          <a:xfrm>
            <a:off x="5796000" y="692280"/>
            <a:ext cx="504720" cy="51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[</a:t>
            </a:r>
            <a:endParaRPr b="0" lang="en-US" sz="1800" spc="1" strike="noStrike">
              <a:ln w="0">
                <a:noFill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9" name="WordArt 18"/>
          <p:cNvSpPr txBox="1"/>
          <p:nvPr/>
        </p:nvSpPr>
        <p:spPr>
          <a:xfrm>
            <a:off x="3203640" y="2997360"/>
            <a:ext cx="288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0" name="WordArt 19"/>
          <p:cNvSpPr txBox="1"/>
          <p:nvPr/>
        </p:nvSpPr>
        <p:spPr>
          <a:xfrm>
            <a:off x="3635280" y="2276640"/>
            <a:ext cx="2890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1" name="WordArt 20"/>
          <p:cNvSpPr txBox="1"/>
          <p:nvPr/>
        </p:nvSpPr>
        <p:spPr>
          <a:xfrm>
            <a:off x="4140360" y="2276640"/>
            <a:ext cx="3585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2" name="WordArt 21"/>
          <p:cNvSpPr txBox="1"/>
          <p:nvPr/>
        </p:nvSpPr>
        <p:spPr>
          <a:xfrm>
            <a:off x="4643280" y="2997360"/>
            <a:ext cx="287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3" name="WordArt 22"/>
          <p:cNvSpPr txBox="1"/>
          <p:nvPr/>
        </p:nvSpPr>
        <p:spPr>
          <a:xfrm>
            <a:off x="3780000" y="4076640"/>
            <a:ext cx="2156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4" name="WordArt 23"/>
          <p:cNvSpPr txBox="1"/>
          <p:nvPr/>
        </p:nvSpPr>
        <p:spPr>
          <a:xfrm>
            <a:off x="3203640" y="357336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</a:t>
            </a:r>
            <a:endParaRPr b="0" lang="en-US" sz="1800" spc="1" strike="noStrike">
              <a:ln w="0">
                <a:noFill/>
              </a:ln>
              <a:blipFill rotWithShape="0">
                <a:blip r:embed="rId3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5" name="WordArt 25"/>
          <p:cNvSpPr txBox="1"/>
          <p:nvPr/>
        </p:nvSpPr>
        <p:spPr>
          <a:xfrm>
            <a:off x="4643280" y="357336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</a:t>
            </a:r>
            <a:endParaRPr b="0" lang="en-US" sz="1800" spc="1" strike="noStrike">
              <a:ln w="0">
                <a:noFill/>
              </a:ln>
              <a:blipFill rotWithShape="0">
                <a:blip r:embed="rId3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6" name="WordArt 26"/>
          <p:cNvSpPr txBox="1"/>
          <p:nvPr/>
        </p:nvSpPr>
        <p:spPr>
          <a:xfrm>
            <a:off x="4284720" y="407664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</a:t>
            </a:r>
            <a:endParaRPr b="0" lang="en-US" sz="1800" spc="1" strike="noStrike">
              <a:ln w="0">
                <a:noFill/>
              </a:ln>
              <a:blipFill rotWithShape="0">
                <a:blip r:embed="rId3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7" name="Text Box 28"/>
          <p:cNvSpPr/>
          <p:nvPr/>
        </p:nvSpPr>
        <p:spPr>
          <a:xfrm>
            <a:off x="3780000" y="1052640"/>
            <a:ext cx="1800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Bookman Old Style"/>
              </a:rPr>
              <a:t>NH</a:t>
            </a:r>
            <a:r>
              <a:rPr b="1" lang="en-US" sz="3600" spc="-1" strike="noStrike" baseline="-25000">
                <a:solidFill>
                  <a:srgbClr val="ffffb7"/>
                </a:solidFill>
                <a:latin typeface="Bookman Old Style"/>
              </a:rPr>
              <a:t>4</a:t>
            </a:r>
            <a:r>
              <a:rPr b="1" lang="en-US" sz="3600" spc="-1" strike="noStrike">
                <a:solidFill>
                  <a:srgbClr val="ffffb7"/>
                </a:solidFill>
                <a:latin typeface="Bookman Old Style"/>
              </a:rPr>
              <a:t>C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WordArt 29"/>
          <p:cNvSpPr txBox="1"/>
          <p:nvPr/>
        </p:nvSpPr>
        <p:spPr>
          <a:xfrm>
            <a:off x="3708360" y="1125360"/>
            <a:ext cx="649440" cy="100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</a:t>
            </a:r>
            <a:endParaRPr b="0" lang="en-US" sz="1800" spc="1" strike="noStrike">
              <a:ln w="0">
                <a:noFill/>
              </a:ln>
              <a:blipFill rotWithShape="0">
                <a:blip r:embed="rId3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9" name="Text Box 30"/>
          <p:cNvSpPr/>
          <p:nvPr/>
        </p:nvSpPr>
        <p:spPr>
          <a:xfrm>
            <a:off x="1403280" y="443700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КОМПЛЕКСООБРАЗОВАТ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Text Box 31"/>
          <p:cNvSpPr/>
          <p:nvPr/>
        </p:nvSpPr>
        <p:spPr>
          <a:xfrm>
            <a:off x="2700360" y="515772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ЛИГАН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Text Box 32"/>
          <p:cNvSpPr/>
          <p:nvPr/>
        </p:nvSpPr>
        <p:spPr>
          <a:xfrm>
            <a:off x="1258920" y="616572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КООРДИНАЦИОННОЕ ЧИСЛО -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Text Box 33"/>
          <p:cNvSpPr/>
          <p:nvPr/>
        </p:nvSpPr>
        <p:spPr>
          <a:xfrm>
            <a:off x="1763640" y="5877000"/>
            <a:ext cx="48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ВНУТРЕННЯЯ СФ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6119640" y="4869000"/>
            <a:ext cx="30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ВНЕШНЯЯ СФ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Text Box 35"/>
          <p:cNvSpPr/>
          <p:nvPr/>
        </p:nvSpPr>
        <p:spPr>
          <a:xfrm>
            <a:off x="1835280" y="0"/>
            <a:ext cx="48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КОМПЛЕКСНЫЙ И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10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7341E-006 L -0.32691 0.00416 E">
                                      <p:cBhvr>
                                        <p:cTn id="145" dur="2000" fill="hold"/>
                                        <p:tgtEl>
                                          <p:spTgt spid="10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95" dur="1000" fill="hold"/>
                                        <p:tgtEl>
                                          <p:spTgt spid="9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Text Box 4"/>
          <p:cNvSpPr/>
          <p:nvPr/>
        </p:nvSpPr>
        <p:spPr>
          <a:xfrm>
            <a:off x="2195640" y="620640"/>
            <a:ext cx="51116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[N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-3</a:t>
            </a: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H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+1</a:t>
            </a:r>
            <a:r>
              <a:rPr b="1" lang="en-US" sz="5400" spc="-1" strike="noStrike" baseline="-25000">
                <a:solidFill>
                  <a:srgbClr val="ffffb7"/>
                </a:solidFill>
                <a:latin typeface="Bookman Old Style"/>
              </a:rPr>
              <a:t>4</a:t>
            </a: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]Cl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-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Text Box 5"/>
          <p:cNvSpPr/>
          <p:nvPr/>
        </p:nvSpPr>
        <p:spPr>
          <a:xfrm>
            <a:off x="900000" y="3068640"/>
            <a:ext cx="48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КОМПЛЕКСНЫЙ И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Text Box 7"/>
          <p:cNvSpPr/>
          <p:nvPr/>
        </p:nvSpPr>
        <p:spPr>
          <a:xfrm>
            <a:off x="5651640" y="2637000"/>
            <a:ext cx="25207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[NH</a:t>
            </a:r>
            <a:r>
              <a:rPr b="1" lang="en-US" sz="5400" spc="-1" strike="noStrike" baseline="-25000">
                <a:solidFill>
                  <a:srgbClr val="ffffb7"/>
                </a:solidFill>
                <a:latin typeface="Bookman Old Style"/>
              </a:rPr>
              <a:t>4</a:t>
            </a: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]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Text Box 8"/>
          <p:cNvSpPr/>
          <p:nvPr/>
        </p:nvSpPr>
        <p:spPr>
          <a:xfrm>
            <a:off x="1042920" y="2133720"/>
            <a:ext cx="48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ВНУТРЕННЯЯ СФЕРА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Text Box 9"/>
          <p:cNvSpPr/>
          <p:nvPr/>
        </p:nvSpPr>
        <p:spPr>
          <a:xfrm>
            <a:off x="1042920" y="393372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КОМПЛЕКСООБРАЗОВАТЕЛЬ</a:t>
            </a:r>
            <a:r>
              <a:rPr b="1" lang="en-US" sz="2800" spc="-1" strike="noStrike">
                <a:solidFill>
                  <a:srgbClr val="ffffb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Text Box 10"/>
          <p:cNvSpPr/>
          <p:nvPr/>
        </p:nvSpPr>
        <p:spPr>
          <a:xfrm>
            <a:off x="6659640" y="364500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N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-3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Text Box 11"/>
          <p:cNvSpPr/>
          <p:nvPr/>
        </p:nvSpPr>
        <p:spPr>
          <a:xfrm>
            <a:off x="1116000" y="4797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ЛИГАН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Text Box 12"/>
          <p:cNvSpPr/>
          <p:nvPr/>
        </p:nvSpPr>
        <p:spPr>
          <a:xfrm>
            <a:off x="3564000" y="4508640"/>
            <a:ext cx="107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H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Text Box 13"/>
          <p:cNvSpPr/>
          <p:nvPr/>
        </p:nvSpPr>
        <p:spPr>
          <a:xfrm>
            <a:off x="1042920" y="558972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ВНЕШНЯЯ СФ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Text Box 14"/>
          <p:cNvSpPr/>
          <p:nvPr/>
        </p:nvSpPr>
        <p:spPr>
          <a:xfrm>
            <a:off x="5148360" y="5661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АНИ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Text Box 15"/>
          <p:cNvSpPr/>
          <p:nvPr/>
        </p:nvSpPr>
        <p:spPr>
          <a:xfrm>
            <a:off x="7164360" y="5445000"/>
            <a:ext cx="11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Cl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Text Box 6"/>
          <p:cNvSpPr/>
          <p:nvPr/>
        </p:nvSpPr>
        <p:spPr>
          <a:xfrm>
            <a:off x="4932360" y="90792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OH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Text Box 4"/>
          <p:cNvSpPr/>
          <p:nvPr/>
        </p:nvSpPr>
        <p:spPr>
          <a:xfrm>
            <a:off x="6012000" y="907920"/>
            <a:ext cx="718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Text Box 5"/>
          <p:cNvSpPr/>
          <p:nvPr/>
        </p:nvSpPr>
        <p:spPr>
          <a:xfrm>
            <a:off x="3564000" y="90792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Z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Text Box 8"/>
          <p:cNvSpPr/>
          <p:nvPr/>
        </p:nvSpPr>
        <p:spPr>
          <a:xfrm>
            <a:off x="2556000" y="90792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Text Box 9"/>
          <p:cNvSpPr/>
          <p:nvPr/>
        </p:nvSpPr>
        <p:spPr>
          <a:xfrm>
            <a:off x="1979640" y="177336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+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Text Box 10"/>
          <p:cNvSpPr/>
          <p:nvPr/>
        </p:nvSpPr>
        <p:spPr>
          <a:xfrm>
            <a:off x="3635280" y="1773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+ 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Text Box 11"/>
          <p:cNvSpPr/>
          <p:nvPr/>
        </p:nvSpPr>
        <p:spPr>
          <a:xfrm>
            <a:off x="4356000" y="177336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+ (-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Text Box 12"/>
          <p:cNvSpPr/>
          <p:nvPr/>
        </p:nvSpPr>
        <p:spPr>
          <a:xfrm>
            <a:off x="6443640" y="90792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Text Box 13"/>
          <p:cNvSpPr/>
          <p:nvPr/>
        </p:nvSpPr>
        <p:spPr>
          <a:xfrm>
            <a:off x="3348000" y="907920"/>
            <a:ext cx="5032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Text Box 14"/>
          <p:cNvSpPr/>
          <p:nvPr/>
        </p:nvSpPr>
        <p:spPr>
          <a:xfrm>
            <a:off x="2987640" y="177336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·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Text Box 15"/>
          <p:cNvSpPr/>
          <p:nvPr/>
        </p:nvSpPr>
        <p:spPr>
          <a:xfrm>
            <a:off x="5940360" y="177336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·4 = 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Text Box 17"/>
          <p:cNvSpPr/>
          <p:nvPr/>
        </p:nvSpPr>
        <p:spPr>
          <a:xfrm>
            <a:off x="2411280" y="2637000"/>
            <a:ext cx="32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x = 0-2+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Text Box 18"/>
          <p:cNvSpPr/>
          <p:nvPr/>
        </p:nvSpPr>
        <p:spPr>
          <a:xfrm>
            <a:off x="2411280" y="3357720"/>
            <a:ext cx="32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x = +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Text Box 19"/>
          <p:cNvSpPr/>
          <p:nvPr/>
        </p:nvSpPr>
        <p:spPr>
          <a:xfrm>
            <a:off x="2340000" y="4797360"/>
            <a:ext cx="4319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Z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OH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5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Text Box 5"/>
          <p:cNvSpPr/>
          <p:nvPr/>
        </p:nvSpPr>
        <p:spPr>
          <a:xfrm>
            <a:off x="468360" y="260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РАССТАВЬТЕ СТЕПЕНЬ ОКИСЛЕНИЯ ИОНА КОМПЛЕКСООБРАЗОВАТЕЛ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Text Box 7"/>
          <p:cNvSpPr/>
          <p:nvPr/>
        </p:nvSpPr>
        <p:spPr>
          <a:xfrm>
            <a:off x="0" y="1413000"/>
            <a:ext cx="259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F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Text Box 8"/>
          <p:cNvSpPr/>
          <p:nvPr/>
        </p:nvSpPr>
        <p:spPr>
          <a:xfrm>
            <a:off x="3564000" y="1413000"/>
            <a:ext cx="5256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 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Text Box 9"/>
          <p:cNvSpPr/>
          <p:nvPr/>
        </p:nvSpPr>
        <p:spPr>
          <a:xfrm>
            <a:off x="0" y="2276640"/>
            <a:ext cx="259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K[Mg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Text Box 10"/>
          <p:cNvSpPr/>
          <p:nvPr/>
        </p:nvSpPr>
        <p:spPr>
          <a:xfrm>
            <a:off x="0" y="3068640"/>
            <a:ext cx="3203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[Al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Text Box 11"/>
          <p:cNvSpPr/>
          <p:nvPr/>
        </p:nvSpPr>
        <p:spPr>
          <a:xfrm>
            <a:off x="179280" y="3933720"/>
            <a:ext cx="3313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Fe(CN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Text Box 12"/>
          <p:cNvSpPr/>
          <p:nvPr/>
        </p:nvSpPr>
        <p:spPr>
          <a:xfrm>
            <a:off x="179280" y="4797360"/>
            <a:ext cx="3241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Text Box 13"/>
          <p:cNvSpPr/>
          <p:nvPr/>
        </p:nvSpPr>
        <p:spPr>
          <a:xfrm>
            <a:off x="0" y="5661000"/>
            <a:ext cx="3600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Text Box 14"/>
          <p:cNvSpPr/>
          <p:nvPr/>
        </p:nvSpPr>
        <p:spPr>
          <a:xfrm>
            <a:off x="3348000" y="3068640"/>
            <a:ext cx="5796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 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OH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Text Box 15"/>
          <p:cNvSpPr/>
          <p:nvPr/>
        </p:nvSpPr>
        <p:spPr>
          <a:xfrm>
            <a:off x="3564000" y="2276640"/>
            <a:ext cx="5148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 K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Mg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Text Box 16"/>
          <p:cNvSpPr/>
          <p:nvPr/>
        </p:nvSpPr>
        <p:spPr>
          <a:xfrm>
            <a:off x="3348000" y="3933720"/>
            <a:ext cx="5796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F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CN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Text Box 17"/>
          <p:cNvSpPr/>
          <p:nvPr/>
        </p:nvSpPr>
        <p:spPr>
          <a:xfrm>
            <a:off x="3492360" y="4797360"/>
            <a:ext cx="5651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OH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Text Box 18"/>
          <p:cNvSpPr/>
          <p:nvPr/>
        </p:nvSpPr>
        <p:spPr>
          <a:xfrm>
            <a:off x="3203640" y="5661000"/>
            <a:ext cx="5940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[Cu</a:t>
            </a:r>
            <a:r>
              <a:rPr b="0" lang="en-US" sz="3600" spc="-1" strike="noStrike" baseline="30000">
                <a:solidFill>
                  <a:srgbClr val="ffffff"/>
                </a:solidFill>
                <a:latin typeface="Bookman Old Style"/>
              </a:rPr>
              <a:t>+2</a:t>
            </a: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(N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3600" spc="-1" strike="noStrike" baseline="30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]Cl</a:t>
            </a:r>
            <a:r>
              <a:rPr b="0" lang="en-US" sz="36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Text Box 2"/>
          <p:cNvSpPr/>
          <p:nvPr/>
        </p:nvSpPr>
        <p:spPr>
          <a:xfrm>
            <a:off x="25092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Bookman Old Style"/>
              </a:rPr>
              <a:t>НОМЕНКЛАТУРА КОМПЛЕКСНЫХ СОЕДИ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Text Box 11"/>
          <p:cNvSpPr/>
          <p:nvPr/>
        </p:nvSpPr>
        <p:spPr>
          <a:xfrm>
            <a:off x="755640" y="1125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2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Text Box 12"/>
          <p:cNvSpPr/>
          <p:nvPr/>
        </p:nvSpPr>
        <p:spPr>
          <a:xfrm>
            <a:off x="755640" y="2421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4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Text Box 13"/>
          <p:cNvSpPr/>
          <p:nvPr/>
        </p:nvSpPr>
        <p:spPr>
          <a:xfrm>
            <a:off x="755640" y="1773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3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Text Box 14"/>
          <p:cNvSpPr/>
          <p:nvPr/>
        </p:nvSpPr>
        <p:spPr>
          <a:xfrm>
            <a:off x="755640" y="314172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5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Text Box 15"/>
          <p:cNvSpPr/>
          <p:nvPr/>
        </p:nvSpPr>
        <p:spPr>
          <a:xfrm>
            <a:off x="755640" y="3860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6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Text Box 16"/>
          <p:cNvSpPr/>
          <p:nvPr/>
        </p:nvSpPr>
        <p:spPr>
          <a:xfrm>
            <a:off x="1547640" y="1052640"/>
            <a:ext cx="11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ди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Text Box 18"/>
          <p:cNvSpPr/>
          <p:nvPr/>
        </p:nvSpPr>
        <p:spPr>
          <a:xfrm>
            <a:off x="1547640" y="177336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три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Text Box 19"/>
          <p:cNvSpPr/>
          <p:nvPr/>
        </p:nvSpPr>
        <p:spPr>
          <a:xfrm>
            <a:off x="1476360" y="2421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тетра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Text Box 20"/>
          <p:cNvSpPr/>
          <p:nvPr/>
        </p:nvSpPr>
        <p:spPr>
          <a:xfrm>
            <a:off x="1476360" y="3141720"/>
            <a:ext cx="21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пента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Text Box 21"/>
          <p:cNvSpPr/>
          <p:nvPr/>
        </p:nvSpPr>
        <p:spPr>
          <a:xfrm>
            <a:off x="1476360" y="386064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гекса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Text Box 22"/>
          <p:cNvSpPr/>
          <p:nvPr/>
        </p:nvSpPr>
        <p:spPr>
          <a:xfrm>
            <a:off x="468360" y="76500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Bookman Old Style"/>
              </a:rPr>
              <a:t>ЧИСЛИТЕЛЬНЫ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Text Box 23"/>
          <p:cNvSpPr/>
          <p:nvPr/>
        </p:nvSpPr>
        <p:spPr>
          <a:xfrm>
            <a:off x="4211640" y="76500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Bookman Old Style"/>
              </a:rPr>
              <a:t>НАЗВАНИЯ ЛИГАНД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Text Box 24"/>
          <p:cNvSpPr/>
          <p:nvPr/>
        </p:nvSpPr>
        <p:spPr>
          <a:xfrm>
            <a:off x="4427640" y="1125360"/>
            <a:ext cx="2592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Bookman Old Style"/>
              </a:rPr>
              <a:t>2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O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ак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Text Box 26"/>
          <p:cNvSpPr/>
          <p:nvPr/>
        </p:nvSpPr>
        <p:spPr>
          <a:xfrm>
            <a:off x="4356000" y="1773360"/>
            <a:ext cx="2881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NH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Bookman Old Style"/>
              </a:rPr>
              <a:t>3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ам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Text Box 27"/>
          <p:cNvSpPr/>
          <p:nvPr/>
        </p:nvSpPr>
        <p:spPr>
          <a:xfrm>
            <a:off x="4427640" y="249228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Bookman Old Style"/>
              </a:rPr>
              <a:t>С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O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карбони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Text Box 28"/>
          <p:cNvSpPr/>
          <p:nvPr/>
        </p:nvSpPr>
        <p:spPr>
          <a:xfrm>
            <a:off x="4427640" y="328464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O</a:t>
            </a:r>
            <a:r>
              <a:rPr b="1" lang="ru-RU" sz="3200" spc="-1" strike="noStrike">
                <a:solidFill>
                  <a:srgbClr val="ff3300"/>
                </a:solidFill>
                <a:latin typeface="Bookman Old Style"/>
              </a:rPr>
              <a:t>Н</a:t>
            </a:r>
            <a:r>
              <a:rPr b="1" lang="ru-RU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гидроксо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Text Box 29"/>
          <p:cNvSpPr/>
          <p:nvPr/>
        </p:nvSpPr>
        <p:spPr>
          <a:xfrm>
            <a:off x="4427640" y="393372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Bookman Old Style"/>
              </a:rPr>
              <a:t>(С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N)</a:t>
            </a:r>
            <a:r>
              <a:rPr b="1" lang="en-US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циа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Text Box 30"/>
          <p:cNvSpPr/>
          <p:nvPr/>
        </p:nvSpPr>
        <p:spPr>
          <a:xfrm>
            <a:off x="900000" y="5229360"/>
            <a:ext cx="69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F</a:t>
            </a:r>
            <a:r>
              <a:rPr b="1" lang="en-US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, Cl</a:t>
            </a:r>
            <a:r>
              <a:rPr b="1" lang="en-US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, Br</a:t>
            </a:r>
            <a:r>
              <a:rPr b="1" lang="en-US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, I</a:t>
            </a:r>
            <a:r>
              <a:rPr b="1" lang="en-US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фторо-, хлоро-, бромо-, йодо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Text Box 31"/>
          <p:cNvSpPr/>
          <p:nvPr/>
        </p:nvSpPr>
        <p:spPr>
          <a:xfrm>
            <a:off x="4356000" y="4581360"/>
            <a:ext cx="3384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Bookman Old Style"/>
              </a:rPr>
              <a:t>(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NO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Bookman Old Style"/>
              </a:rPr>
              <a:t>3</a:t>
            </a:r>
            <a:r>
              <a:rPr b="1" lang="ru-RU" sz="3200" spc="-1" strike="noStrike">
                <a:solidFill>
                  <a:srgbClr val="ff3300"/>
                </a:solidFill>
                <a:latin typeface="Bookman Old Style"/>
              </a:rPr>
              <a:t>)</a:t>
            </a:r>
            <a:r>
              <a:rPr b="1" lang="ru-RU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нитр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Text Box 2"/>
          <p:cNvSpPr/>
          <p:nvPr/>
        </p:nvSpPr>
        <p:spPr>
          <a:xfrm>
            <a:off x="25092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Bookman Old Style"/>
              </a:rPr>
              <a:t>НОМЕНКЛАТУРА КОМПЛЕКСНЫХ СОЕДИ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Text Box 14"/>
          <p:cNvSpPr/>
          <p:nvPr/>
        </p:nvSpPr>
        <p:spPr>
          <a:xfrm>
            <a:off x="1403280" y="76500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Bookman Old Style"/>
              </a:rPr>
              <a:t>НАЗВАНИЯ АНИОН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Text Box 15"/>
          <p:cNvSpPr/>
          <p:nvPr/>
        </p:nvSpPr>
        <p:spPr>
          <a:xfrm>
            <a:off x="2050920" y="1341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Fe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ферр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Text Box 16"/>
          <p:cNvSpPr/>
          <p:nvPr/>
        </p:nvSpPr>
        <p:spPr>
          <a:xfrm>
            <a:off x="2050920" y="206064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Cu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купр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Text Box 17"/>
          <p:cNvSpPr/>
          <p:nvPr/>
        </p:nvSpPr>
        <p:spPr>
          <a:xfrm>
            <a:off x="2050920" y="270828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Ag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аргент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Text Box 18"/>
          <p:cNvSpPr/>
          <p:nvPr/>
        </p:nvSpPr>
        <p:spPr>
          <a:xfrm>
            <a:off x="2050920" y="342900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Au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аур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Text Box 19"/>
          <p:cNvSpPr/>
          <p:nvPr/>
        </p:nvSpPr>
        <p:spPr>
          <a:xfrm>
            <a:off x="1979640" y="414972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Hg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меркур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Text Box 20"/>
          <p:cNvSpPr/>
          <p:nvPr/>
        </p:nvSpPr>
        <p:spPr>
          <a:xfrm>
            <a:off x="2050920" y="5516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Al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алюмин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Text Box 21"/>
          <p:cNvSpPr/>
          <p:nvPr/>
        </p:nvSpPr>
        <p:spPr>
          <a:xfrm>
            <a:off x="2050920" y="486900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Zn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цинк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1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8T12:29:01Z</dcterms:created>
  <dc:creator>Марина</dc:creator>
  <dc:description/>
  <dc:language>en-US</dc:language>
  <cp:lastModifiedBy>LEGION</cp:lastModifiedBy>
  <dcterms:modified xsi:type="dcterms:W3CDTF">2015-05-01T11:26:32Z</dcterms:modified>
  <cp:revision>64</cp:revision>
  <dc:subject/>
  <dc:title>Комплексные соединения</dc:title>
</cp:coreProperties>
</file>