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8519-1F85-4219-85BC-DA22348461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 л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биологической химии (биохими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сентября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8E1E-7532-4770-A666-AFB9ACFB69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лиза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аторы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елков-ферментов характерна высокая степень структур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екулы, благодаря чему возможен катализ химической реакции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активного центра и регуляция активности фермента чер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эффекторов с аллостерическим центром. Извест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-активаторы (апопротеин ) и ингибиторы ( 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псина из поджелудочной железы, соевых бобов; 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иназ из яда гадюки, ингибитор химотрипсина из картофел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м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белки (м. м. 20-30 кДа), которые содержат небольш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ы определяющие гормональную активность; относятся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е непроникающих в клетку гормонов, на поверхности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уют с рецепторами, гормональный эффект реал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внутриклеточные посредники (гормоны гипоталамус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физа, поджелудочной железы, паращитовидных желе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стоны стабилизируют структуру ДНК и регулиру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онирование генома (проявление матричной активности Д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лаблении связей с гистонами); гетерогенная груп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истоновых белков (м. м. 5-200 кДа) участвует в формир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клеосом и взаимодействии с хроматином гормон - рецептор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ов, в регуляции процессов репликации, транскрипции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ляции; белки теплового шока (стрессовые белки)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бел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щие синтез циклических нуклеотидов; онкобелки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онкобелки, определяющие малигнизацию кле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C9A2-EDD3-4F40-A5A7-CD4D70A9D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тела (иммуноглобулины) вырабатываются в ответ на 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генов; белки системы свертывания крови; белки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мента; ферменты обезвреживания ксенобиот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фероны, интерлейкины, лизоцим; белки-антифризы ры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вирусные белки растений; антибактериаль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молекулярные белковые токсины микроорганизмов и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ы тремя типами белков. Мультимерные дифтерий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холерный токсины, токсин шигеллы построены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субъединицы типа А (20, 28 и 32 кДа, соответственно) и п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диниц типа В (25, 12 и 7,7 кДа, соответственно); субъединицы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ываются с клеточной поверхностью, а субъединица А проник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ь клетки, где блокирует синтез белков на рибосо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огично действуют растительные токсины — рицин, аб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цин, лектин. Энтеротоксин стафилококка или гемолиз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шечной палочки, встраиваясь в плазматическую мембран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уют в ней поры, через которые теряются важные компон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ы клеток. Токсины ядов змей представлены мал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ами — 6,7-7 кДа (примерно 60 аминокислотных остат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ческие пептиды ядов скорпиона, пчелы и осы состоят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м из 45 аминокислотных остатков. Эти токсины связываются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линергическими белками и оказывают нейротокс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5138-BECC-4EEE-8D9F-2593F3EAE6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умины и глобулины — переносчики различных веществ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зме крови. Порины — образуют поры для переноса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клеточные мембраны. Транслоказы — обеспечивают обм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ами различных компартментов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 белки мембран являются их структур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ами, склонны к агрегации и специфическ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ям (процессы самосборки), содержат в своем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е до 20 % гидрофобных аминокислотных остатков и до 4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ходится на долю а-спиральных участков. Эти белки лег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уют с фосфолипидами мембран. Структур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выполняют также белки межклеточного матрик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оллаген, ретикулин, кератин), кристаллины, белки ядер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рикса, белки цитоплазматического скел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ют в механическом сокращении для осуществления движения(обладают, как правило, аденозинтрифосфатазной активностью):актин и миозин мышц, белки центральных и периферических фибрилл жгутиков и ресничек простейших, жгутиков сперматозоидов, тубулин аппарата движения хромосом в процессе митоза, миксомиозин — нитевидный белок из плазмодия гриба физариум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E62C-825C-4049-962E-031A33FD10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епт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нутренней среде организма служат для взаимодействия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екулами-биорегуляторами (сигнальными молекула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кализуются в мембранных структурах клеток, а также могут быть в растворенном состоянии. Клетка, содержащая рецептор, является клеткой-мишенью для управляющего химического сигнала, а также для взаимодействия с липопротеинами или вирусами. Для восприятия сигналов внешней среды известны фоторецепторные белки (опсин), для оценки вкуса сладкочувствительный белок, для восприятия запаха обонятельный белок, для восприятия звука холинорецепторные белки; в жизнедеятельности живых организмов важное место занимает рецепция ферромонов, аттрактантов, репеллентов, стрессогенных веществ 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6827-BBB3-4A84-9BC6-0EBA83F575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активного центра у ряда ферментов имее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регуляторный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ллостерическ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ной, чужой) центр, который в молекуле фермента, как правило, пространственно отделен от активного центра. К аллостерическому центру присоединяются вещества —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эффекторы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делятся на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ктиваторы и ингибиторы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эффектора к аллостерическому центру приводит к изменению третичной и/ или четвертичной структуры молекулы фермента и соответственно конфигурации активного центра, вызывая снижение или повышение ферментативной активности. Ферменты, имеющие аллостерический центр, назыв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ллостерическим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ехмерной структуре фермента выделяют несколько участков, несущих определенную функцию. В молекуле фермента выделяют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ктивны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цент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. е. участок, с которым связывается субстрат и где протекает каталитическая реа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а, вступающие в ферментативную реакцию, назыв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субстратами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ферментативных превращений получ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родукты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е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6713-DEC9-4EFA-B4ED-DA054882D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0682-1D75-4620-B95A-FF5957D29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C9C3-125F-4807-9428-80855CEC63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0062-69F2-408B-A67A-151A6DC683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кции и ферменты их катализирующие делят на 6 классов, каждый из которых состоит из 4—13 подклассов: оксидореКлассификация ферментов, отличие ферментов от биологических катализат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ктазы, трансферазы, гидролазы, лиазы, изомеразы, лигазы (синтетазы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называются добавлением суффикса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за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азванию субстрата, на который данный фермент действует. Например, уреаза катализирует гидролиз мочевины; ферменты, гидролизующие крахмал (амилон), были названы амилазами; гидролизующис жиры (липос) — липазами; ферменты, гидролизующис белки (протеины) — протеиназам 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спользуются названия для групп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тализирующих сходные по механизму реакции. Их название строится по принципу — «субстрат-тип реакции». Например, ферменты, которые переносят остаток фосфорной кислоты от АТФ на другую молекулу, называются киназами (глюкокиназа катализирует перенос фосфорильного остатка от АТФ на глюкоз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ривиальные назва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 показывают механизма действия, но они широко используются. Например, пепсин, трипси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Международный Совет Биохими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U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предложил систематическое название и классификацию ферментов по типу и механизму катализируемой ре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C75D-B551-4D04-9AEF-F37C3A355A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EA63-75A4-4787-BFDB-6B5141D5F2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Л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редмет и задачи биохим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троение и свойства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Функциональное многообразие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лассификация белков по биологическим функ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троение фер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лассификация ферментов, отличие ферментов от биологических катализа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Зависимость скорости ферментативной реакции от температуры, рН среды, концентрации фермента и субстра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Активаторы и ингибиторы ферментативных реакций. 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1E4A-8834-4B77-976C-4EE323189C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а концентрации субстрата 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|, при которой половина мест связывания в активном центре фермента заполнена субстратом. Или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 равна концентрации субстрата 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торой скорость реакции равна половине максималь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яда ферментов установлено, что велич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а к концентрации субстрат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оответству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станте диссоциации фермент-субстратного комплекс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если к1&lt; к2. В этих условия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 прочно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лекса (аффинность, сродство субстрата к ферменту): высокое знач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видетельствует о слабом связывании субстрата с активным центром фермента, низкое знач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зывает на сильное связывание (высокое сродство субстрата к ферменту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0FD7-7F43-4B4F-B90C-ACBFB24350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2151-17A7-447D-836B-E5122A1898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3A1E-21E8-4E6C-B63E-379D9AC469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в течение многих лет приме­няются в различных областях практи­ческой деятельности человека: в коже­венной, пищевой, текстильной, фармацевтической и других отраслях промышленности, а также в медицине, сельском хозяйстве, химическом синте­зе. Эффективность действия ферментов многократно выше по сравнению с хи­мическими катализаторами, однако их промышленное применение затруднено из-за неустойчивости при хранении и температурных воздейст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Энзимо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сследование ферментов в биологических средах организма с диагностической цел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е уровни активности ферментов в сыворотке крови отражают соотношение между биосинтезом и высвобождением ферментов (при обычном обновлении клеток), а также их клиренсом из кровотока. Повышение скорости обновления ферментов, повреждения клеток или индуцирование синтеза обычно приводят к повышению активности ферментов в сыворотке крови. В сыворотке крови выделяют три группы ферментов: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клеточные, секреторные и экскреторны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Клеточ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зависимости от локализации в тканях делят на несколько гру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Неспецифические 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е катализируют общие для всех тканей реакции обменов белков, углеводов, липидов и находятся в большинстве органов и тканей. При повреждении мембран клеток и гистогематических барьеров эти ферменты появляются в крови или повышается их количество. Определение повышенного количества этих ферментов в крови не позволяет локализовать патологически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Органоспецифические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индикаторные, ферменты, специфичные только для определенного типа тканей. Как правило, эти ферменты катализируют реакции, обеспечивающие специфические функции органа. В клетках других органов этих ферментов нет или находят следы. Выход органоспецифических ферментов в кровь сигнализирует о поражении определен¬ного орг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зо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группа или семейство ферментов с четвертичной структурой, которые катализируют одну и ту же реакцию, но отличаются по строению (т. е. первичной структуре) субъединиц и физико-химическим свойствам. Например, фермент лактатдегидроген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ерменты, локализованные в органеллах клето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кислительно-восстановительные в митохондриях; кислые гидролазы в лизосома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, выходя в кровь, сигнализируют о глубоком поражении клет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2F45-0BCE-49D7-BBAC-AD22D5DC09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Секретор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псевдохолинэстераза) поступают непосредственно в кровь и выполняют в ней специфические функции. Эти ферменты синтезируются в печени и постоянно высвобождаются в кров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активность в сыворотке крови выше, чем в клетках или тканя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нарушении функции печени их активность в сыворотке крови становится ниже но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A958-FFBF-493D-B1E6-C849554C57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Экскретор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органами пищеварительной системы (поджелудочной железой, слизистой оболочкой кишечника, печенью, эндотелием желчных путей). К ним относятся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милаза, щелочная фосфатаза. В норме их активность в сыворотке крови низкая и постоянная. Однако при патологии, когда блокирован любой из обычных путей экскреции, активность этих ферментов в сыворотке крови значительно увеличив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B0B8-7C73-4425-A625-C13D5C7BF5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следственные энзимопа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яд пороков обмена веществ является результатом наследственного дефицита определенных ферментов. В этом случае диагноз ставится, главным образом, на основе исследования показателей обмена этих ферментативных реакций (биохимический диагно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FA17-3A62-4256-AA2D-0BB72B6471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Энзимотерап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спользование ферментов и метаболитов в качестве лечебных 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заместитель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рапия ферментами используется при болезнях желудочно-кишечного факта (пепсин, трипсин, химотрипсин, амилаза, липаз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для очистки р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здействия на избыточно разрастающуюся соединительную ткань применяют гиалуронидазу, трипсин, химотрипси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ли применение </a:t>
            </a: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регулято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ктиваторы и ингибиторы) ферментов. Например, ингибиторы моноаминооксидазы используют при нервных и психических заболеваниях; тканевые ингибиторы протеиназ эффективны при лечении панкреатита, эмфиземы легких, инфаркте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D922-0D6B-4CB7-B37F-BBFEFC2243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Ферменты как аналитические реаг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 применяются в практике лабораторных исследований при определении субстратов, нуклеотидов и пр. В настоящее время выпускается ряд набор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пределения глюкозы, этанола, молочной кислоты, АТФ и п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исследуемом материале содержится неизвестное количество субстрата. Чтобы определить его количество, вводят фермент, катализирующий превращение только этого субстрата, создают оптимальные условия реакции (рН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 и регистрируют скорость реакции (по образованию продукта или изменению кофермента). Затем определяют концентрацию искомого субстрата по скорости реакции, используя калибровочный граф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6919-F462-485B-A2A5-B5DDAE28C7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химия изуч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ую природу веществ, входящих в состав живых 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евра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этих превращений с деятельностью клеток, тканей, органов и организм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биохим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, как функционируют живые системы с точки зрения молекулярных процессов в состоянии «здоровья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 молекулярные процессы, лежащие в основе заболеваний и их эффективного 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4F24-E59B-40EF-9F7D-94A242DF2F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A10C-CF7E-43E8-ACF8-DD08FEC06D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о выделяют: 1) биохимию микроорганизмов; 2) биохимию простейших; 3) биохимию растений; 4) биохим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х (ветеринарную биохимию); 5) биохимию человека (медицинскую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ю). Однако, несмотря на определенные, порой принципиальные различия в химическом составе и обмене веществ тех или иных видов живых организмов, существу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иохимическое един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форм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биохимии: 1) объяснить, как функционируют живые системы с точки зрения молекулярных процессов в состоянии «здоровья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бъяснить молекулярные процессы, лежащие в основе заболеваний и их эффективного 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Основные разделы и направления в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разделы биохимии по направлениям исследований: техническая биохимия (молекулярные основы хлебопечения, сыроварения, виноделия и пр.); медицинская биохимия (биохимические процессы в организме человека в норме и при патологии), эволюционная биохимия (эволюция обмена веществ в рамках эволюции живых организмов); квантовая биохимия (квантово-физические характеристики метаболитов и их превращений в живом организме); энзимология.(структура, свойства и механизм действия ферментов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2685-B527-40B6-99CA-8DDBF434C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три основных разде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татическ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изучает химическую природу организ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инамическ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изучает превращения химических веществ в организме (метаболизм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ункциональн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 роль превращений химических веществ в проявлении функций клеток, тканей. органов, орг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несколько направлений (частная биохимия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биохимию систем органов (нервной, гепатобилпарной, сердечно-сосудистой, эндокринной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иохимию основных процессов (движения, пищеварения, размножения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икладную биохимию (клиническая биохимия, биохимическая лабораторная диагностик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1822-D32E-4B8F-89CC-F052273234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5CB5-9996-47AA-822C-BF41AD75AA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«белок» происходит от немецкого слова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wei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, что означает яичный белок или вообще белок. Другое название — протеины, происходит от греческого слова «протос» — первич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 являются линейными неразветвленными полимерами построенными из аминокислот. Информация о структуре белка закодирована в ДНК. Все живые организмы используют 20 идентичных аминокислот и, за некоторым исключением, имеют одинаковый генетический к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руктурные функц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структурными белками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ллаген, эласти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ормируют костный матрикс, сосудистую систему и другие органы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-керати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исутствует в эпидермальной ткан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инамические функц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функции реализую разнообразные белки: ферменты, гормоны, факторы свертывания крови, иммуноглобулины, мембранные рецепторы, резервные белки, сократительные белки, дыхательные белки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BD95-34BA-4599-9D5D-C0CC0F2BA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ют несколько принципов классификации бел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по функ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по химической структуре и растворим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по биологической (пищевой) цен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1225-929D-44A9-BF77-DBB0365D81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7B0-27A0-4370-A5E9-10EF2DB1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3F8-081B-4923-9EE5-DEF4C258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CDC-DCB3-42B0-A7BB-BCF53EA2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4AB-F3D2-46AC-9169-338BA95A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373-E017-46C0-9731-D2219D25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A0E-50E6-46A3-BF37-67BF27E3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454-1975-4BDE-B593-1C20154C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E92-EA4E-416C-816A-E13212A7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CC2-CF33-4C52-AFA9-66F394B6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C31A-661E-457D-AC8B-A8266959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524-2293-41D1-8BAD-23E14B44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4C1-36E7-4E7D-BA19-6C8395E8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D4C5-2993-422B-AF7A-88485B537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одная лек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5589360"/>
            <a:ext cx="878508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биологической химии (биохим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сентября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611280" y="3860640"/>
            <a:ext cx="80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СТОМАТОЛОГИЧЕС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 ФАКУЛЬТЕТ (ОЧНО-ЗАОЧНОЕ ОТДЕЛЕНИЕ) НА ТРЕТИЙ СЕМЕСТР 2013/2014уч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68360" y="260280"/>
          <a:ext cx="8229600" cy="5999400"/>
        </p:xfrm>
        <a:graphic>
          <a:graphicData uri="http://schemas.openxmlformats.org/drawingml/2006/table">
            <a:tbl>
              <a:tblPr/>
              <a:tblGrid>
                <a:gridCol w="1708200"/>
                <a:gridCol w="65214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рменты 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ализатор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тиваторы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рм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лков-ферментов характерна высокая степень структур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лы, благодаря чему возможен катализ химической реакции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и активного центра и регуляция активности фермента чере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эффекторов с аллостерическим центром. Извес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-активаторы (апопротеин ) и ингибиторы ( 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псина из поджелудочной железы, соевых бобов; 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иназ из яда гадюки, ингибитор химотрипсина из картофел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м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белки (м. м. 20-30 кДа), которые содержат небольш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гменты определяющие гормональную активность; относятся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е непроникающих в клетку гормонов, на поверхности кле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уют с рецепторами, гормональный эффект реализу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внутриклеточные посредники (гормоны гипоталамус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физа, поджелудочной железы, паращитовидных желе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улято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ны стабилизируют структуру ДНК и регулиру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генома (проявление матричной активности ДН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слаблении связей с гистонами); гетерогенн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истоновых белков (м. м. 5-200 кДа) участвует в формиров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осом и взаимодействии с хроматином гормон - р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птор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ов, в регуляции процессов репликации, транскрипции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ляции; белки теплового шока (стрессовые белки);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лк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ирующие синтез циклических нуклеотидов; онкобелки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нкобелки, определяющие малигнизацию клет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274680"/>
          <a:ext cx="8642160" cy="5546520"/>
        </p:xfrm>
        <a:graphic>
          <a:graphicData uri="http://schemas.openxmlformats.org/drawingml/2006/table">
            <a:tbl>
              <a:tblPr/>
              <a:tblGrid>
                <a:gridCol w="1793880"/>
                <a:gridCol w="684828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щитные 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тела (иммуноглобулины) вырабатываются в ответ на в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генов; белки системы свертывания крови; белки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лемента; ферменты обезвреживания ксенобиотик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фероны, интерлейкины, лизоцим; белки-антифризы рыб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вирусные белки растений; антибактериальные 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5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с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молекулярные белковые токсины микроорганизмов и раст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ы тремя типами белков. Мультимерные дифтерий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холерный токсины, токсин шигеллы построены 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й субъединицы типа А (20, 28 и 32 кДа, соответственно) и пя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диниц типа В (25, 12 и 7,7 кДа, соответственно); субъединицы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ываются с клеточной поверхностью, а субъединица А проник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ь клетки, где блокирует синтез белков на рибосом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о действуют растительные токсины — рицин, абрин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цин, лектин. Энтеротоксин стафилококка или гемолиз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ой палочки, встраиваясь в плазматическую мембран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уют в ней поры, через которые теряются важные компон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плазмы клеток. Токсины ядов змей представлены мал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ами — 6,7-7 кДа (примерно 60 аминокислотных остатков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ческие пептиды ядов скорпиона, пчелы и осы состоят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 из 45 аминокислотных остатков. Эти токсины связываются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линергическими белками и оказывают нейротокс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50920" y="692280"/>
          <a:ext cx="8497800" cy="5222880"/>
        </p:xfrm>
        <a:graphic>
          <a:graphicData uri="http://schemas.openxmlformats.org/drawingml/2006/table">
            <a:tbl>
              <a:tblPr/>
              <a:tblGrid>
                <a:gridCol w="1873080"/>
                <a:gridCol w="6624720"/>
              </a:tblGrid>
              <a:tr h="1137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ьбумины и глобулины — переносчики различных веществ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зме крови. Порины — образуют поры для переноса веще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рез клеточные мембраны. Транслоказы — обеспечивают об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ами различных компартментов клет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ные белки мембран являются их структур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ами, склонны к агрегации и специфическ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заимодействиям (процессы самосборки), содержат в своем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20 % гидрофобных аминокислотных остатков и до 4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ходится на долю а-спиральных участков. Эти белки лег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заимодействуют с фосфолипидами мембран. Структур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ют также белки межклеточного матрик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оллаген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тикулин, кератин), кристаллины, белки ядерн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трикса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 цитоплазматического скел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крат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вуют в механическом сокращении для осуществления движ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ладают, как правило, аденозинтрифосфатазной активностью):актин и миозин мышц, белки центральных и периферических фибрилл жгутиков и ресничек простейших, жгутиков сперматозоидов, тубулин аппарата движения хромосом в процессе митоза, миксомиозин — нитевидный белок из плазмодия гриба физариума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8360" y="1916280"/>
          <a:ext cx="8229600" cy="3260520"/>
        </p:xfrm>
        <a:graphic>
          <a:graphicData uri="http://schemas.openxmlformats.org/drawingml/2006/table">
            <a:tbl>
              <a:tblPr/>
              <a:tblGrid>
                <a:gridCol w="1577880"/>
                <a:gridCol w="6651720"/>
              </a:tblGrid>
              <a:tr h="32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цепто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 внутренней среде организма служат для взаимодействия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екулами-биорегуляторами (сигнальными молекулам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кализуются в мембранных структурах клеток, а также могут быть 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енном состоянии. Клетка, содержащая рецептор, являетс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еткой-мишенью для управляющего химического сигнала, а такж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взаимодействия с липопротеинами или вирусами. Дл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риятия сигналов внешней среды известны фоторецепторны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 (опсин), для оценки вкуса сладкочувствительный белок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восприятия запаха обонятельный белок, для восприят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вука холинорецепторные белки; в жизнедеятельности живы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мов важное место занимает рецепция ферромонов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трактантов, репеллентов, стрессогенных веществ р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11280" y="90684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Фермент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логические катализаторы белковой природы (от гре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в дрожжах или от лат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rmentati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бро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84360" y="169992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, вступающие в ферментативную реакцию, назыв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убстратами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ферментативных превращений получ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одукт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84360" y="2492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хмерной структуре фермента выделяют несколько участков, несущих определенную функцию. В молекуле фермента выделяют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ктивны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нт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 е. участок, с которым связывается субстрат и где протекает каталитическая реа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84360" y="3832920"/>
            <a:ext cx="81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активного центра у ряда ферментов имее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регуляторны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ллостерическ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ной, чужой) центр, который в молекуле фермента, как правило, пространственно отделен от активного центра. К аллостерическому центру присоединяются вещества —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эффектор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делятся на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ктиваторы и ингибитор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ие эффектора к аллостерическому центру приводит к изменению третичной и/ или четвертичной структуры молекулы фермента и соответственно конфигурации активного центра, вызывая снижение или повышение ферментативной активности. Ферменты, имеющие аллостерический центр, назыв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ллостерическим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04920" y="976320"/>
            <a:ext cx="4114800" cy="245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28600" y="5132520"/>
            <a:ext cx="5280120" cy="14652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4"/>
          <p:cNvGrpSpPr/>
          <p:nvPr/>
        </p:nvGrpSpPr>
        <p:grpSpPr>
          <a:xfrm>
            <a:off x="1066680" y="4191120"/>
            <a:ext cx="2928600" cy="1828800"/>
            <a:chOff x="1066680" y="4191120"/>
            <a:chExt cx="2928600" cy="1828800"/>
          </a:xfrm>
        </p:grpSpPr>
        <p:sp>
          <p:nvSpPr>
            <p:cNvPr id="96" name="Line 5"/>
            <p:cNvSpPr/>
            <p:nvPr/>
          </p:nvSpPr>
          <p:spPr>
            <a:xfrm flipH="1">
              <a:off x="1066680" y="4191120"/>
              <a:ext cx="190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1257480" y="41911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1257480" y="4191120"/>
              <a:ext cx="381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1257480" y="4191120"/>
              <a:ext cx="184644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1257480" y="4191120"/>
              <a:ext cx="2737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0"/>
          <p:cNvSpPr/>
          <p:nvPr/>
        </p:nvSpPr>
        <p:spPr>
          <a:xfrm>
            <a:off x="0" y="35053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минокислоты, образующие активный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875200" y="4535640"/>
            <a:ext cx="1185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вязы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934320" y="4556160"/>
            <a:ext cx="15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талитический 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 rot="5400000">
            <a:off x="6977880" y="3186000"/>
            <a:ext cx="331920" cy="2313000"/>
          </a:xfrm>
          <a:custGeom>
            <a:avLst/>
            <a:gdLst>
              <a:gd name="textAreaLeft" fmla="*/ 0 w 331920"/>
              <a:gd name="textAreaRight" fmla="*/ 119880 w 331920"/>
              <a:gd name="textAreaTop" fmla="*/ 53640 h 2313000"/>
              <a:gd name="textAreaBottom" fmla="*/ 2259360 h 23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1"/>
                  <a:pt x="10800" y="1602"/>
                </a:cubicBezTo>
                <a:lnTo>
                  <a:pt x="10800" y="8298"/>
                </a:lnTo>
                <a:cubicBezTo>
                  <a:pt x="10800" y="9099"/>
                  <a:pt x="16200" y="9900"/>
                  <a:pt x="21600" y="9900"/>
                </a:cubicBezTo>
                <a:cubicBezTo>
                  <a:pt x="16200" y="9900"/>
                  <a:pt x="10800" y="10701"/>
                  <a:pt x="10800" y="11502"/>
                </a:cubicBezTo>
                <a:lnTo>
                  <a:pt x="10800" y="19998"/>
                </a:lnTo>
                <a:cubicBezTo>
                  <a:pt x="10800" y="2079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270480" y="3987720"/>
            <a:ext cx="20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ктивный цен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5410080" y="2637000"/>
            <a:ext cx="3260880" cy="3066840"/>
            <a:chOff x="5410080" y="2637000"/>
            <a:chExt cx="3260880" cy="3066840"/>
          </a:xfrm>
        </p:grpSpPr>
        <p:sp>
          <p:nvSpPr>
            <p:cNvPr id="107" name="Freeform 16"/>
            <p:cNvSpPr/>
            <p:nvPr/>
          </p:nvSpPr>
          <p:spPr>
            <a:xfrm>
              <a:off x="5410080" y="3309840"/>
              <a:ext cx="3260880" cy="2394000"/>
            </a:xfrm>
            <a:custGeom>
              <a:avLst/>
              <a:gdLst/>
              <a:ahLst/>
              <a:rect l="l" t="t" r="r" b="b"/>
              <a:pathLst>
                <a:path w="2774" h="1733">
                  <a:moveTo>
                    <a:pt x="2495" y="135"/>
                  </a:moveTo>
                  <a:cubicBezTo>
                    <a:pt x="2440" y="137"/>
                    <a:pt x="2251" y="125"/>
                    <a:pt x="2172" y="179"/>
                  </a:cubicBezTo>
                  <a:cubicBezTo>
                    <a:pt x="2093" y="233"/>
                    <a:pt x="2078" y="452"/>
                    <a:pt x="2024" y="458"/>
                  </a:cubicBezTo>
                  <a:cubicBezTo>
                    <a:pt x="1970" y="464"/>
                    <a:pt x="1970" y="260"/>
                    <a:pt x="1849" y="214"/>
                  </a:cubicBezTo>
                  <a:cubicBezTo>
                    <a:pt x="1728" y="168"/>
                    <a:pt x="1421" y="144"/>
                    <a:pt x="1299" y="179"/>
                  </a:cubicBezTo>
                  <a:cubicBezTo>
                    <a:pt x="1177" y="214"/>
                    <a:pt x="1199" y="379"/>
                    <a:pt x="1116" y="423"/>
                  </a:cubicBezTo>
                  <a:cubicBezTo>
                    <a:pt x="1033" y="467"/>
                    <a:pt x="891" y="483"/>
                    <a:pt x="802" y="441"/>
                  </a:cubicBezTo>
                  <a:cubicBezTo>
                    <a:pt x="713" y="399"/>
                    <a:pt x="683" y="0"/>
                    <a:pt x="584" y="170"/>
                  </a:cubicBezTo>
                  <a:cubicBezTo>
                    <a:pt x="485" y="340"/>
                    <a:pt x="0" y="1218"/>
                    <a:pt x="208" y="1462"/>
                  </a:cubicBezTo>
                  <a:cubicBezTo>
                    <a:pt x="416" y="1706"/>
                    <a:pt x="1429" y="1613"/>
                    <a:pt x="1832" y="1636"/>
                  </a:cubicBezTo>
                  <a:cubicBezTo>
                    <a:pt x="2119" y="1663"/>
                    <a:pt x="2491" y="1733"/>
                    <a:pt x="2626" y="1601"/>
                  </a:cubicBezTo>
                  <a:cubicBezTo>
                    <a:pt x="2774" y="1445"/>
                    <a:pt x="2743" y="941"/>
                    <a:pt x="2722" y="702"/>
                  </a:cubicBezTo>
                  <a:cubicBezTo>
                    <a:pt x="2701" y="463"/>
                    <a:pt x="2540" y="260"/>
                    <a:pt x="2502" y="166"/>
                  </a:cubicBezTo>
                  <a:cubicBezTo>
                    <a:pt x="2464" y="72"/>
                    <a:pt x="2550" y="133"/>
                    <a:pt x="2495" y="135"/>
                  </a:cubicBezTo>
                  <a:close/>
                </a:path>
              </a:pathLst>
            </a:custGeom>
            <a:blipFill rotWithShape="0">
              <a:blip r:embed="rId3">
                <a:alphaModFix amt="35000"/>
              </a:blip>
              <a:srcRect/>
              <a:stretch/>
            </a:blip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17"/>
            <p:cNvGrpSpPr/>
            <p:nvPr/>
          </p:nvGrpSpPr>
          <p:grpSpPr>
            <a:xfrm>
              <a:off x="6294600" y="2637000"/>
              <a:ext cx="1858680" cy="1350720"/>
              <a:chOff x="6294600" y="2637000"/>
              <a:chExt cx="1858680" cy="1350720"/>
            </a:xfrm>
          </p:grpSpPr>
          <p:sp>
            <p:nvSpPr>
              <p:cNvPr id="109" name="Freeform 18"/>
              <p:cNvSpPr/>
              <p:nvPr/>
            </p:nvSpPr>
            <p:spPr>
              <a:xfrm>
                <a:off x="6294600" y="2637000"/>
                <a:ext cx="1838160" cy="1350720"/>
              </a:xfrm>
              <a:custGeom>
                <a:avLst/>
                <a:gdLst/>
                <a:ahLst/>
                <a:rect l="l" t="t" r="r" b="b"/>
                <a:pathLst>
                  <a:path w="1158" h="851">
                    <a:moveTo>
                      <a:pt x="1158" y="291"/>
                    </a:moveTo>
                    <a:cubicBezTo>
                      <a:pt x="1137" y="311"/>
                      <a:pt x="1076" y="344"/>
                      <a:pt x="1038" y="405"/>
                    </a:cubicBezTo>
                    <a:cubicBezTo>
                      <a:pt x="1001" y="466"/>
                      <a:pt x="974" y="636"/>
                      <a:pt x="934" y="653"/>
                    </a:cubicBezTo>
                    <a:cubicBezTo>
                      <a:pt x="893" y="671"/>
                      <a:pt x="881" y="538"/>
                      <a:pt x="793" y="512"/>
                    </a:cubicBezTo>
                    <a:cubicBezTo>
                      <a:pt x="705" y="485"/>
                      <a:pt x="498" y="453"/>
                      <a:pt x="405" y="489"/>
                    </a:cubicBezTo>
                    <a:cubicBezTo>
                      <a:pt x="311" y="525"/>
                      <a:pt x="286" y="684"/>
                      <a:pt x="234" y="727"/>
                    </a:cubicBezTo>
                    <a:cubicBezTo>
                      <a:pt x="183" y="771"/>
                      <a:pt x="123" y="851"/>
                      <a:pt x="94" y="748"/>
                    </a:cubicBezTo>
                    <a:cubicBezTo>
                      <a:pt x="65" y="645"/>
                      <a:pt x="0" y="216"/>
                      <a:pt x="58" y="108"/>
                    </a:cubicBezTo>
                    <a:cubicBezTo>
                      <a:pt x="116" y="0"/>
                      <a:pt x="313" y="100"/>
                      <a:pt x="442" y="99"/>
                    </a:cubicBezTo>
                    <a:cubicBezTo>
                      <a:pt x="571" y="98"/>
                      <a:pt x="737" y="101"/>
                      <a:pt x="835" y="99"/>
                    </a:cubicBezTo>
                    <a:cubicBezTo>
                      <a:pt x="1000" y="112"/>
                      <a:pt x="976" y="56"/>
                      <a:pt x="1030" y="88"/>
                    </a:cubicBezTo>
                    <a:cubicBezTo>
                      <a:pt x="1084" y="120"/>
                      <a:pt x="1131" y="249"/>
                      <a:pt x="1158" y="291"/>
                    </a:cubicBez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9"/>
              <p:cNvSpPr/>
              <p:nvPr/>
            </p:nvSpPr>
            <p:spPr>
              <a:xfrm>
                <a:off x="6629400" y="3036960"/>
                <a:ext cx="152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ffffff"/>
                    </a:solidFill>
                    <a:latin typeface="Arial"/>
                  </a:rPr>
                  <a:t>Субстра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20"/>
          <p:cNvSpPr/>
          <p:nvPr/>
        </p:nvSpPr>
        <p:spPr>
          <a:xfrm>
            <a:off x="5257800" y="1295280"/>
            <a:ext cx="3657600" cy="7038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ение активного центра  фер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03440" y="1168560"/>
            <a:ext cx="42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03440" y="457200"/>
            <a:ext cx="42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228600" y="457200"/>
            <a:ext cx="1951200" cy="6235200"/>
            <a:chOff x="228600" y="457200"/>
            <a:chExt cx="1951200" cy="6235200"/>
          </a:xfrm>
        </p:grpSpPr>
        <p:sp>
          <p:nvSpPr>
            <p:cNvPr id="117" name="Text Box 5"/>
            <p:cNvSpPr/>
            <p:nvPr/>
          </p:nvSpPr>
          <p:spPr>
            <a:xfrm>
              <a:off x="990720" y="6248520"/>
              <a:ext cx="4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6"/>
            <p:cNvGrpSpPr/>
            <p:nvPr/>
          </p:nvGrpSpPr>
          <p:grpSpPr>
            <a:xfrm>
              <a:off x="228600" y="457200"/>
              <a:ext cx="1951200" cy="6235200"/>
              <a:chOff x="228600" y="457200"/>
              <a:chExt cx="1951200" cy="6235200"/>
            </a:xfrm>
          </p:grpSpPr>
          <p:grpSp>
            <p:nvGrpSpPr>
              <p:cNvPr id="119" name="Group 7"/>
              <p:cNvGrpSpPr/>
              <p:nvPr/>
            </p:nvGrpSpPr>
            <p:grpSpPr>
              <a:xfrm>
                <a:off x="533520" y="457200"/>
                <a:ext cx="1447560" cy="1219320"/>
                <a:chOff x="533520" y="457200"/>
                <a:chExt cx="1447560" cy="1219320"/>
              </a:xfrm>
            </p:grpSpPr>
            <p:sp>
              <p:nvSpPr>
                <p:cNvPr id="120" name="Freeform 8"/>
                <p:cNvSpPr/>
                <p:nvPr/>
              </p:nvSpPr>
              <p:spPr>
                <a:xfrm>
                  <a:off x="619200" y="1054080"/>
                  <a:ext cx="1361880" cy="622440"/>
                </a:xfrm>
                <a:custGeom>
                  <a:avLst/>
                  <a:gdLst>
                    <a:gd name="textAreaLeft" fmla="*/ 0 w 1361880"/>
                    <a:gd name="textAreaRight" fmla="*/ 1362240 w 1361880"/>
                    <a:gd name="textAreaTop" fmla="*/ 0 h 622440"/>
                    <a:gd name="textAreaBottom" fmla="*/ 622800 h 6224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9"/>
                <p:cNvSpPr/>
                <p:nvPr/>
              </p:nvSpPr>
              <p:spPr>
                <a:xfrm>
                  <a:off x="619200" y="1047600"/>
                  <a:ext cx="1361880" cy="139680"/>
                </a:xfrm>
                <a:custGeom>
                  <a:avLst/>
                  <a:gdLst>
                    <a:gd name="textAreaLeft" fmla="*/ 0 w 1361880"/>
                    <a:gd name="textAreaRight" fmla="*/ 1362240 w 136188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10"/>
                <p:cNvGrpSpPr/>
                <p:nvPr/>
              </p:nvGrpSpPr>
              <p:grpSpPr>
                <a:xfrm>
                  <a:off x="533520" y="457200"/>
                  <a:ext cx="1447560" cy="507960"/>
                  <a:chOff x="533520" y="457200"/>
                  <a:chExt cx="1447560" cy="507960"/>
                </a:xfrm>
              </p:grpSpPr>
              <p:grpSp>
                <p:nvGrpSpPr>
                  <p:cNvPr id="123" name="Group 11"/>
                  <p:cNvGrpSpPr/>
                  <p:nvPr/>
                </p:nvGrpSpPr>
                <p:grpSpPr>
                  <a:xfrm>
                    <a:off x="533520" y="485640"/>
                    <a:ext cx="833040" cy="474480"/>
                    <a:chOff x="533520" y="485640"/>
                    <a:chExt cx="833040" cy="474480"/>
                  </a:xfrm>
                </p:grpSpPr>
                <p:sp>
                  <p:nvSpPr>
                    <p:cNvPr id="124" name="Freeform 12"/>
                    <p:cNvSpPr/>
                    <p:nvPr/>
                  </p:nvSpPr>
                  <p:spPr>
                    <a:xfrm>
                      <a:off x="533520" y="485640"/>
                      <a:ext cx="833040" cy="355320"/>
                    </a:xfrm>
                    <a:custGeom>
                      <a:avLst/>
                      <a:gdLst>
                        <a:gd name="textAreaLeft" fmla="*/ 0 w 833040"/>
                        <a:gd name="textAreaRight" fmla="*/ 833400 w 833040"/>
                        <a:gd name="textAreaTop" fmla="*/ 0 h 355320"/>
                        <a:gd name="textAreaBottom" fmla="*/ 355680 h 355320"/>
                      </a:gdLst>
                      <a:ahLst/>
                      <a:rect l="textAreaLeft" t="textAreaTop" r="textAreaRight" b="textAreaBottom"/>
                      <a:pathLst>
                        <a:path w="1100" h="570">
                          <a:moveTo>
                            <a:pt x="0" y="570"/>
                          </a:moveTo>
                          <a:lnTo>
                            <a:pt x="0" y="0"/>
                          </a:lnTo>
                          <a:lnTo>
                            <a:pt x="1100" y="4"/>
                          </a:lnTo>
                          <a:lnTo>
                            <a:pt x="1100" y="301"/>
                          </a:lnTo>
                          <a:lnTo>
                            <a:pt x="1100" y="493"/>
                          </a:lnTo>
                        </a:path>
                      </a:pathLst>
                    </a:custGeom>
                    <a:noFill/>
                    <a:ln w="41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Freeform 13"/>
                    <p:cNvSpPr/>
                    <p:nvPr/>
                  </p:nvSpPr>
                  <p:spPr>
                    <a:xfrm>
                      <a:off x="533520" y="787320"/>
                      <a:ext cx="833040" cy="172800"/>
                    </a:xfrm>
                    <a:custGeom>
                      <a:avLst/>
                      <a:gdLst>
                        <a:gd name="textAreaLeft" fmla="*/ 0 w 833040"/>
                        <a:gd name="textAreaRight" fmla="*/ 833400 w 833040"/>
                        <a:gd name="textAreaTop" fmla="*/ 0 h 172800"/>
                        <a:gd name="textAreaBottom" fmla="*/ 173160 h 172800"/>
                      </a:gdLst>
                      <a:ahLst/>
                      <a:rect l="textAreaLeft" t="textAreaTop" r="textAreaRight" b="textAreaBottom"/>
                      <a:pathLst>
                        <a:path w="1100" h="277">
                          <a:moveTo>
                            <a:pt x="0" y="77"/>
                          </a:moveTo>
                          <a:lnTo>
                            <a:pt x="218" y="67"/>
                          </a:lnTo>
                          <a:lnTo>
                            <a:pt x="253" y="259"/>
                          </a:lnTo>
                          <a:lnTo>
                            <a:pt x="436" y="277"/>
                          </a:lnTo>
                          <a:lnTo>
                            <a:pt x="463" y="76"/>
                          </a:lnTo>
                          <a:lnTo>
                            <a:pt x="742" y="77"/>
                          </a:lnTo>
                          <a:lnTo>
                            <a:pt x="812" y="259"/>
                          </a:lnTo>
                          <a:lnTo>
                            <a:pt x="899" y="250"/>
                          </a:lnTo>
                          <a:lnTo>
                            <a:pt x="890" y="85"/>
                          </a:lnTo>
                          <a:lnTo>
                            <a:pt x="1100" y="0"/>
                          </a:ln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" name="Line 14"/>
                  <p:cNvSpPr/>
                  <p:nvPr/>
                </p:nvSpPr>
                <p:spPr>
                  <a:xfrm>
                    <a:off x="1369800" y="635400"/>
                    <a:ext cx="18144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15"/>
                  <p:cNvGrpSpPr/>
                  <p:nvPr/>
                </p:nvGrpSpPr>
                <p:grpSpPr>
                  <a:xfrm>
                    <a:off x="1544760" y="457200"/>
                    <a:ext cx="436320" cy="507960"/>
                    <a:chOff x="1544760" y="457200"/>
                    <a:chExt cx="436320" cy="507960"/>
                  </a:xfrm>
                </p:grpSpPr>
                <p:sp>
                  <p:nvSpPr>
                    <p:cNvPr id="128" name="Freeform 16"/>
                    <p:cNvSpPr/>
                    <p:nvPr/>
                  </p:nvSpPr>
                  <p:spPr>
                    <a:xfrm>
                      <a:off x="1551600" y="457200"/>
                      <a:ext cx="429480" cy="507960"/>
                    </a:xfrm>
                    <a:custGeom>
                      <a:avLst/>
                      <a:gdLst>
                        <a:gd name="textAreaLeft" fmla="*/ 0 w 429480"/>
                        <a:gd name="textAreaRight" fmla="*/ 429840 w 429480"/>
                        <a:gd name="textAreaTop" fmla="*/ 0 h 507960"/>
                        <a:gd name="textAreaBottom" fmla="*/ 508320 h 507960"/>
                      </a:gdLst>
                      <a:ahLst/>
                      <a:rect l="textAreaLeft" t="textAreaTop" r="textAreaRight" b="textAreaBottom"/>
                      <a:pathLst>
                        <a:path w="567" h="815">
                          <a:moveTo>
                            <a:pt x="0" y="0"/>
                          </a:moveTo>
                          <a:lnTo>
                            <a:pt x="0" y="815"/>
                          </a:lnTo>
                          <a:lnTo>
                            <a:pt x="393" y="792"/>
                          </a:lnTo>
                          <a:lnTo>
                            <a:pt x="567" y="600"/>
                          </a:lnTo>
                          <a:lnTo>
                            <a:pt x="432" y="110"/>
                          </a:lnTo>
                        </a:path>
                      </a:pathLst>
                    </a:custGeom>
                    <a:noFill/>
                    <a:ln w="41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Freeform 17"/>
                    <p:cNvSpPr/>
                    <p:nvPr/>
                  </p:nvSpPr>
                  <p:spPr>
                    <a:xfrm>
                      <a:off x="1544760" y="461520"/>
                      <a:ext cx="334080" cy="263520"/>
                    </a:xfrm>
                    <a:custGeom>
                      <a:avLst/>
                      <a:gdLst>
                        <a:gd name="textAreaLeft" fmla="*/ 0 w 334080"/>
                        <a:gd name="textAreaRight" fmla="*/ 334440 w 334080"/>
                        <a:gd name="textAreaTop" fmla="*/ 0 h 263520"/>
                        <a:gd name="textAreaBottom" fmla="*/ 263880 h 263520"/>
                      </a:gdLst>
                      <a:ahLst/>
                      <a:rect l="textAreaLeft" t="textAreaTop" r="textAreaRight" b="textAreaBottom"/>
                      <a:pathLst>
                        <a:path w="441" h="423">
                          <a:moveTo>
                            <a:pt x="0" y="0"/>
                          </a:moveTo>
                          <a:lnTo>
                            <a:pt x="95" y="178"/>
                          </a:lnTo>
                          <a:lnTo>
                            <a:pt x="108" y="402"/>
                          </a:lnTo>
                          <a:lnTo>
                            <a:pt x="180" y="423"/>
                          </a:lnTo>
                          <a:lnTo>
                            <a:pt x="191" y="189"/>
                          </a:lnTo>
                          <a:lnTo>
                            <a:pt x="300" y="190"/>
                          </a:lnTo>
                          <a:lnTo>
                            <a:pt x="328" y="402"/>
                          </a:lnTo>
                          <a:lnTo>
                            <a:pt x="362" y="392"/>
                          </a:lnTo>
                          <a:lnTo>
                            <a:pt x="359" y="199"/>
                          </a:lnTo>
                          <a:lnTo>
                            <a:pt x="441" y="100"/>
                          </a:ln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30" name="Line 18"/>
              <p:cNvSpPr/>
              <p:nvPr/>
            </p:nvSpPr>
            <p:spPr>
              <a:xfrm>
                <a:off x="1219320" y="1752480"/>
                <a:ext cx="0" cy="38124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Group 19"/>
              <p:cNvGrpSpPr/>
              <p:nvPr/>
            </p:nvGrpSpPr>
            <p:grpSpPr>
              <a:xfrm>
                <a:off x="609480" y="2133720"/>
                <a:ext cx="1371600" cy="1218240"/>
                <a:chOff x="609480" y="2133720"/>
                <a:chExt cx="1371600" cy="1218240"/>
              </a:xfrm>
            </p:grpSpPr>
            <p:grpSp>
              <p:nvGrpSpPr>
                <p:cNvPr id="132" name="Group 20"/>
                <p:cNvGrpSpPr/>
                <p:nvPr/>
              </p:nvGrpSpPr>
              <p:grpSpPr>
                <a:xfrm>
                  <a:off x="609480" y="2582640"/>
                  <a:ext cx="1371600" cy="769320"/>
                  <a:chOff x="609480" y="2582640"/>
                  <a:chExt cx="1371600" cy="769320"/>
                </a:xfrm>
              </p:grpSpPr>
              <p:sp>
                <p:nvSpPr>
                  <p:cNvPr id="133" name="Freeform 21"/>
                  <p:cNvSpPr/>
                  <p:nvPr/>
                </p:nvSpPr>
                <p:spPr>
                  <a:xfrm>
                    <a:off x="609480" y="2590560"/>
                    <a:ext cx="1371600" cy="7614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761400"/>
                      <a:gd name="textAreaBottom" fmla="*/ 761760 h 761400"/>
                    </a:gdLst>
                    <a:ahLst/>
                    <a:rect l="textAreaLeft" t="textAreaTop" r="textAreaRight" b="textAreaBottom"/>
                    <a:pathLst>
                      <a:path w="1187" h="1431">
                        <a:moveTo>
                          <a:pt x="0" y="0"/>
                        </a:moveTo>
                        <a:lnTo>
                          <a:pt x="0" y="1431"/>
                        </a:lnTo>
                        <a:lnTo>
                          <a:pt x="1187" y="1431"/>
                        </a:lnTo>
                        <a:lnTo>
                          <a:pt x="1187" y="0"/>
                        </a:lnTo>
                      </a:path>
                    </a:pathLst>
                  </a:custGeom>
                  <a:noFill/>
                  <a:ln w="41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2"/>
                  <p:cNvSpPr/>
                  <p:nvPr/>
                </p:nvSpPr>
                <p:spPr>
                  <a:xfrm>
                    <a:off x="609480" y="2582640"/>
                    <a:ext cx="1371600" cy="1710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1920" h="192">
                        <a:moveTo>
                          <a:pt x="0" y="18"/>
                        </a:moveTo>
                        <a:lnTo>
                          <a:pt x="192" y="18"/>
                        </a:lnTo>
                        <a:lnTo>
                          <a:pt x="192" y="184"/>
                        </a:lnTo>
                        <a:lnTo>
                          <a:pt x="506" y="184"/>
                        </a:lnTo>
                        <a:lnTo>
                          <a:pt x="506" y="18"/>
                        </a:lnTo>
                        <a:lnTo>
                          <a:pt x="742" y="18"/>
                        </a:lnTo>
                        <a:lnTo>
                          <a:pt x="751" y="175"/>
                        </a:lnTo>
                        <a:lnTo>
                          <a:pt x="951" y="175"/>
                        </a:lnTo>
                        <a:lnTo>
                          <a:pt x="951" y="0"/>
                        </a:lnTo>
                        <a:lnTo>
                          <a:pt x="1283" y="0"/>
                        </a:lnTo>
                        <a:lnTo>
                          <a:pt x="1283" y="192"/>
                        </a:lnTo>
                        <a:lnTo>
                          <a:pt x="1763" y="192"/>
                        </a:lnTo>
                        <a:lnTo>
                          <a:pt x="1920" y="35"/>
                        </a:lnTo>
                      </a:path>
                    </a:pathLst>
                  </a:custGeom>
                  <a:noFill/>
                  <a:ln w="22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Freeform 23"/>
                <p:cNvSpPr/>
                <p:nvPr/>
              </p:nvSpPr>
              <p:spPr>
                <a:xfrm>
                  <a:off x="609480" y="2168280"/>
                  <a:ext cx="753120" cy="434160"/>
                </a:xfrm>
                <a:custGeom>
                  <a:avLst/>
                  <a:gdLst>
                    <a:gd name="textAreaLeft" fmla="*/ 0 w 753120"/>
                    <a:gd name="textAreaRight" fmla="*/ 753480 w 753120"/>
                    <a:gd name="textAreaTop" fmla="*/ 0 h 434160"/>
                    <a:gd name="textAreaBottom" fmla="*/ 434520 h 43416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24"/>
                <p:cNvSpPr/>
                <p:nvPr/>
              </p:nvSpPr>
              <p:spPr>
                <a:xfrm>
                  <a:off x="609480" y="2529000"/>
                  <a:ext cx="753120" cy="213840"/>
                </a:xfrm>
                <a:custGeom>
                  <a:avLst/>
                  <a:gdLst>
                    <a:gd name="textAreaLeft" fmla="*/ 0 w 753120"/>
                    <a:gd name="textAreaRight" fmla="*/ 753480 w 75312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580" h="160">
                      <a:moveTo>
                        <a:pt x="0" y="50"/>
                      </a:moveTo>
                      <a:lnTo>
                        <a:pt x="136" y="40"/>
                      </a:lnTo>
                      <a:lnTo>
                        <a:pt x="128" y="136"/>
                      </a:lnTo>
                      <a:lnTo>
                        <a:pt x="256" y="144"/>
                      </a:lnTo>
                      <a:lnTo>
                        <a:pt x="240" y="0"/>
                      </a:lnTo>
                      <a:lnTo>
                        <a:pt x="424" y="0"/>
                      </a:lnTo>
                      <a:lnTo>
                        <a:pt x="416" y="152"/>
                      </a:lnTo>
                      <a:lnTo>
                        <a:pt x="512" y="160"/>
                      </a:lnTo>
                      <a:lnTo>
                        <a:pt x="520" y="72"/>
                      </a:lnTo>
                      <a:lnTo>
                        <a:pt x="580" y="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25"/>
                <p:cNvSpPr/>
                <p:nvPr/>
              </p:nvSpPr>
              <p:spPr>
                <a:xfrm>
                  <a:off x="1365480" y="2351520"/>
                  <a:ext cx="1648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26"/>
                <p:cNvGrpSpPr/>
                <p:nvPr/>
              </p:nvGrpSpPr>
              <p:grpSpPr>
                <a:xfrm>
                  <a:off x="1544400" y="2133720"/>
                  <a:ext cx="394920" cy="621360"/>
                  <a:chOff x="1544400" y="2133720"/>
                  <a:chExt cx="394920" cy="621360"/>
                </a:xfrm>
              </p:grpSpPr>
              <p:sp>
                <p:nvSpPr>
                  <p:cNvPr id="139" name="Freeform 27"/>
                  <p:cNvSpPr/>
                  <p:nvPr/>
                </p:nvSpPr>
                <p:spPr>
                  <a:xfrm>
                    <a:off x="1550520" y="2133720"/>
                    <a:ext cx="388800" cy="621360"/>
                  </a:xfrm>
                  <a:custGeom>
                    <a:avLst/>
                    <a:gdLst>
                      <a:gd name="textAreaLeft" fmla="*/ 0 w 388800"/>
                      <a:gd name="textAreaRight" fmla="*/ 389160 w 388800"/>
                      <a:gd name="textAreaTop" fmla="*/ 0 h 621360"/>
                      <a:gd name="textAreaBottom" fmla="*/ 621720 h 621360"/>
                    </a:gdLst>
                    <a:ahLst/>
                    <a:rect l="textAreaLeft" t="textAreaTop" r="textAreaRight" b="textAreaBottom"/>
                    <a:pathLst>
                      <a:path w="567" h="815">
                        <a:moveTo>
                          <a:pt x="0" y="0"/>
                        </a:moveTo>
                        <a:lnTo>
                          <a:pt x="0" y="815"/>
                        </a:lnTo>
                        <a:lnTo>
                          <a:pt x="393" y="792"/>
                        </a:lnTo>
                        <a:lnTo>
                          <a:pt x="567" y="600"/>
                        </a:lnTo>
                        <a:lnTo>
                          <a:pt x="432" y="110"/>
                        </a:lnTo>
                      </a:path>
                    </a:pathLst>
                  </a:custGeom>
                  <a:noFill/>
                  <a:ln w="41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8"/>
                  <p:cNvSpPr/>
                  <p:nvPr/>
                </p:nvSpPr>
                <p:spPr>
                  <a:xfrm>
                    <a:off x="1544400" y="2138760"/>
                    <a:ext cx="302400" cy="322200"/>
                  </a:xfrm>
                  <a:custGeom>
                    <a:avLst/>
                    <a:gdLst>
                      <a:gd name="textAreaLeft" fmla="*/ 0 w 302400"/>
                      <a:gd name="textAreaRight" fmla="*/ 302760 w 302400"/>
                      <a:gd name="textAreaTop" fmla="*/ 0 h 322200"/>
                      <a:gd name="textAreaBottom" fmla="*/ 322560 h 322200"/>
                    </a:gdLst>
                    <a:ahLst/>
                    <a:rect l="textAreaLeft" t="textAreaTop" r="textAreaRight" b="textAreaBottom"/>
                    <a:pathLst>
                      <a:path w="441" h="423">
                        <a:moveTo>
                          <a:pt x="0" y="0"/>
                        </a:moveTo>
                        <a:lnTo>
                          <a:pt x="95" y="178"/>
                        </a:lnTo>
                        <a:lnTo>
                          <a:pt x="108" y="402"/>
                        </a:lnTo>
                        <a:lnTo>
                          <a:pt x="180" y="423"/>
                        </a:lnTo>
                        <a:lnTo>
                          <a:pt x="191" y="189"/>
                        </a:lnTo>
                        <a:lnTo>
                          <a:pt x="300" y="190"/>
                        </a:lnTo>
                        <a:lnTo>
                          <a:pt x="328" y="402"/>
                        </a:lnTo>
                        <a:lnTo>
                          <a:pt x="362" y="392"/>
                        </a:lnTo>
                        <a:lnTo>
                          <a:pt x="359" y="199"/>
                        </a:lnTo>
                        <a:lnTo>
                          <a:pt x="441" y="10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Line 29"/>
              <p:cNvSpPr/>
              <p:nvPr/>
            </p:nvSpPr>
            <p:spPr>
              <a:xfrm>
                <a:off x="1219320" y="3429000"/>
                <a:ext cx="0" cy="3808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30"/>
              <p:cNvGrpSpPr/>
              <p:nvPr/>
            </p:nvGrpSpPr>
            <p:grpSpPr>
              <a:xfrm>
                <a:off x="609480" y="4280040"/>
                <a:ext cx="1295640" cy="672480"/>
                <a:chOff x="609480" y="4280040"/>
                <a:chExt cx="1295640" cy="672480"/>
              </a:xfrm>
            </p:grpSpPr>
            <p:sp>
              <p:nvSpPr>
                <p:cNvPr id="143" name="Freeform 31"/>
                <p:cNvSpPr/>
                <p:nvPr/>
              </p:nvSpPr>
              <p:spPr>
                <a:xfrm>
                  <a:off x="609480" y="4286880"/>
                  <a:ext cx="1295640" cy="66564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665640"/>
                    <a:gd name="textAreaBottom" fmla="*/ 666000 h 6656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32"/>
                <p:cNvSpPr/>
                <p:nvPr/>
              </p:nvSpPr>
              <p:spPr>
                <a:xfrm>
                  <a:off x="609480" y="4280040"/>
                  <a:ext cx="1295640" cy="14940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3"/>
              <p:cNvGrpSpPr/>
              <p:nvPr/>
            </p:nvGrpSpPr>
            <p:grpSpPr>
              <a:xfrm>
                <a:off x="609480" y="3886200"/>
                <a:ext cx="711360" cy="507960"/>
                <a:chOff x="609480" y="3886200"/>
                <a:chExt cx="711360" cy="507960"/>
              </a:xfrm>
            </p:grpSpPr>
            <p:sp>
              <p:nvSpPr>
                <p:cNvPr id="146" name="Freeform 34"/>
                <p:cNvSpPr/>
                <p:nvPr/>
              </p:nvSpPr>
              <p:spPr>
                <a:xfrm>
                  <a:off x="609480" y="3886200"/>
                  <a:ext cx="711360" cy="3812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35"/>
                <p:cNvSpPr/>
                <p:nvPr/>
              </p:nvSpPr>
              <p:spPr>
                <a:xfrm>
                  <a:off x="609480" y="4191120"/>
                  <a:ext cx="711360" cy="2030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448" h="128">
                      <a:moveTo>
                        <a:pt x="0" y="37"/>
                      </a:moveTo>
                      <a:lnTo>
                        <a:pt x="105" y="30"/>
                      </a:lnTo>
                      <a:lnTo>
                        <a:pt x="99" y="100"/>
                      </a:lnTo>
                      <a:lnTo>
                        <a:pt x="180" y="112"/>
                      </a:lnTo>
                      <a:lnTo>
                        <a:pt x="185" y="0"/>
                      </a:lnTo>
                      <a:lnTo>
                        <a:pt x="328" y="0"/>
                      </a:lnTo>
                      <a:lnTo>
                        <a:pt x="336" y="112"/>
                      </a:lnTo>
                      <a:lnTo>
                        <a:pt x="388" y="128"/>
                      </a:lnTo>
                      <a:lnTo>
                        <a:pt x="402" y="53"/>
                      </a:lnTo>
                      <a:lnTo>
                        <a:pt x="448" y="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6"/>
              <p:cNvGrpSpPr/>
              <p:nvPr/>
            </p:nvGrpSpPr>
            <p:grpSpPr>
              <a:xfrm>
                <a:off x="1523880" y="3809880"/>
                <a:ext cx="373320" cy="544680"/>
                <a:chOff x="1523880" y="3809880"/>
                <a:chExt cx="373320" cy="544680"/>
              </a:xfrm>
            </p:grpSpPr>
            <p:sp>
              <p:nvSpPr>
                <p:cNvPr id="149" name="Freeform 37"/>
                <p:cNvSpPr/>
                <p:nvPr/>
              </p:nvSpPr>
              <p:spPr>
                <a:xfrm>
                  <a:off x="1529640" y="3809880"/>
                  <a:ext cx="367560" cy="544680"/>
                </a:xfrm>
                <a:custGeom>
                  <a:avLst/>
                  <a:gdLst>
                    <a:gd name="textAreaLeft" fmla="*/ 0 w 367560"/>
                    <a:gd name="textAreaRight" fmla="*/ 367920 w 367560"/>
                    <a:gd name="textAreaTop" fmla="*/ 0 h 544680"/>
                    <a:gd name="textAreaBottom" fmla="*/ 545040 h 544680"/>
                  </a:gdLst>
                  <a:ahLst/>
                  <a:rect l="textAreaLeft" t="textAreaTop" r="textAreaRight" b="textAreaBottom"/>
                  <a:pathLst>
                    <a:path w="567" h="815">
                      <a:moveTo>
                        <a:pt x="0" y="0"/>
                      </a:moveTo>
                      <a:lnTo>
                        <a:pt x="0" y="815"/>
                      </a:lnTo>
                      <a:lnTo>
                        <a:pt x="393" y="792"/>
                      </a:lnTo>
                      <a:lnTo>
                        <a:pt x="567" y="600"/>
                      </a:lnTo>
                      <a:lnTo>
                        <a:pt x="432" y="11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38"/>
                <p:cNvSpPr/>
                <p:nvPr/>
              </p:nvSpPr>
              <p:spPr>
                <a:xfrm>
                  <a:off x="1523880" y="3814560"/>
                  <a:ext cx="285840" cy="28260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441" h="423">
                      <a:moveTo>
                        <a:pt x="0" y="0"/>
                      </a:moveTo>
                      <a:lnTo>
                        <a:pt x="95" y="178"/>
                      </a:lnTo>
                      <a:lnTo>
                        <a:pt x="108" y="402"/>
                      </a:lnTo>
                      <a:lnTo>
                        <a:pt x="180" y="423"/>
                      </a:lnTo>
                      <a:lnTo>
                        <a:pt x="191" y="189"/>
                      </a:lnTo>
                      <a:lnTo>
                        <a:pt x="300" y="190"/>
                      </a:lnTo>
                      <a:lnTo>
                        <a:pt x="328" y="402"/>
                      </a:lnTo>
                      <a:lnTo>
                        <a:pt x="362" y="392"/>
                      </a:lnTo>
                      <a:lnTo>
                        <a:pt x="359" y="199"/>
                      </a:lnTo>
                      <a:lnTo>
                        <a:pt x="441" y="10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Line 39"/>
              <p:cNvSpPr/>
              <p:nvPr/>
            </p:nvSpPr>
            <p:spPr>
              <a:xfrm>
                <a:off x="1219320" y="5105520"/>
                <a:ext cx="0" cy="3808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Group 40"/>
              <p:cNvGrpSpPr/>
              <p:nvPr/>
            </p:nvGrpSpPr>
            <p:grpSpPr>
              <a:xfrm>
                <a:off x="533520" y="6019920"/>
                <a:ext cx="1295280" cy="672480"/>
                <a:chOff x="533520" y="6019920"/>
                <a:chExt cx="1295280" cy="672480"/>
              </a:xfrm>
            </p:grpSpPr>
            <p:sp>
              <p:nvSpPr>
                <p:cNvPr id="153" name="Freeform 41"/>
                <p:cNvSpPr/>
                <p:nvPr/>
              </p:nvSpPr>
              <p:spPr>
                <a:xfrm>
                  <a:off x="533520" y="6026760"/>
                  <a:ext cx="1295280" cy="665640"/>
                </a:xfrm>
                <a:custGeom>
                  <a:avLst/>
                  <a:gdLst>
                    <a:gd name="textAreaLeft" fmla="*/ 0 w 1295280"/>
                    <a:gd name="textAreaRight" fmla="*/ 1295280 w 1295280"/>
                    <a:gd name="textAreaTop" fmla="*/ 0 h 665640"/>
                    <a:gd name="textAreaBottom" fmla="*/ 666000 h 6656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42"/>
                <p:cNvSpPr/>
                <p:nvPr/>
              </p:nvSpPr>
              <p:spPr>
                <a:xfrm>
                  <a:off x="533520" y="6019920"/>
                  <a:ext cx="1295280" cy="14940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43"/>
              <p:cNvGrpSpPr/>
              <p:nvPr/>
            </p:nvGrpSpPr>
            <p:grpSpPr>
              <a:xfrm>
                <a:off x="228600" y="5334120"/>
                <a:ext cx="711360" cy="507960"/>
                <a:chOff x="228600" y="5334120"/>
                <a:chExt cx="711360" cy="507960"/>
              </a:xfrm>
            </p:grpSpPr>
            <p:sp>
              <p:nvSpPr>
                <p:cNvPr id="156" name="Freeform 44"/>
                <p:cNvSpPr/>
                <p:nvPr/>
              </p:nvSpPr>
              <p:spPr>
                <a:xfrm>
                  <a:off x="228600" y="5334120"/>
                  <a:ext cx="711360" cy="3812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45"/>
                <p:cNvSpPr/>
                <p:nvPr/>
              </p:nvSpPr>
              <p:spPr>
                <a:xfrm>
                  <a:off x="228600" y="5639040"/>
                  <a:ext cx="711360" cy="2030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448" h="128">
                      <a:moveTo>
                        <a:pt x="0" y="37"/>
                      </a:moveTo>
                      <a:lnTo>
                        <a:pt x="105" y="30"/>
                      </a:lnTo>
                      <a:lnTo>
                        <a:pt x="99" y="100"/>
                      </a:lnTo>
                      <a:lnTo>
                        <a:pt x="180" y="112"/>
                      </a:lnTo>
                      <a:lnTo>
                        <a:pt x="185" y="0"/>
                      </a:lnTo>
                      <a:lnTo>
                        <a:pt x="328" y="0"/>
                      </a:lnTo>
                      <a:lnTo>
                        <a:pt x="336" y="112"/>
                      </a:lnTo>
                      <a:lnTo>
                        <a:pt x="388" y="128"/>
                      </a:lnTo>
                      <a:lnTo>
                        <a:pt x="402" y="53"/>
                      </a:lnTo>
                      <a:lnTo>
                        <a:pt x="448" y="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46"/>
              <p:cNvGrpSpPr/>
              <p:nvPr/>
            </p:nvGrpSpPr>
            <p:grpSpPr>
              <a:xfrm>
                <a:off x="1752480" y="5257800"/>
                <a:ext cx="373320" cy="544680"/>
                <a:chOff x="1752480" y="5257800"/>
                <a:chExt cx="373320" cy="544680"/>
              </a:xfrm>
            </p:grpSpPr>
            <p:sp>
              <p:nvSpPr>
                <p:cNvPr id="159" name="Freeform 47"/>
                <p:cNvSpPr/>
                <p:nvPr/>
              </p:nvSpPr>
              <p:spPr>
                <a:xfrm>
                  <a:off x="1758240" y="5257800"/>
                  <a:ext cx="367560" cy="544680"/>
                </a:xfrm>
                <a:custGeom>
                  <a:avLst/>
                  <a:gdLst>
                    <a:gd name="textAreaLeft" fmla="*/ 0 w 367560"/>
                    <a:gd name="textAreaRight" fmla="*/ 367920 w 367560"/>
                    <a:gd name="textAreaTop" fmla="*/ 0 h 544680"/>
                    <a:gd name="textAreaBottom" fmla="*/ 545040 h 544680"/>
                  </a:gdLst>
                  <a:ahLst/>
                  <a:rect l="textAreaLeft" t="textAreaTop" r="textAreaRight" b="textAreaBottom"/>
                  <a:pathLst>
                    <a:path w="567" h="815">
                      <a:moveTo>
                        <a:pt x="0" y="0"/>
                      </a:moveTo>
                      <a:lnTo>
                        <a:pt x="0" y="815"/>
                      </a:lnTo>
                      <a:lnTo>
                        <a:pt x="393" y="792"/>
                      </a:lnTo>
                      <a:lnTo>
                        <a:pt x="567" y="600"/>
                      </a:lnTo>
                      <a:lnTo>
                        <a:pt x="432" y="11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48"/>
                <p:cNvSpPr/>
                <p:nvPr/>
              </p:nvSpPr>
              <p:spPr>
                <a:xfrm>
                  <a:off x="1752480" y="5262480"/>
                  <a:ext cx="285840" cy="28260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441" h="423">
                      <a:moveTo>
                        <a:pt x="0" y="0"/>
                      </a:moveTo>
                      <a:lnTo>
                        <a:pt x="95" y="178"/>
                      </a:lnTo>
                      <a:lnTo>
                        <a:pt x="108" y="402"/>
                      </a:lnTo>
                      <a:lnTo>
                        <a:pt x="180" y="423"/>
                      </a:lnTo>
                      <a:lnTo>
                        <a:pt x="191" y="189"/>
                      </a:lnTo>
                      <a:lnTo>
                        <a:pt x="300" y="190"/>
                      </a:lnTo>
                      <a:lnTo>
                        <a:pt x="328" y="402"/>
                      </a:lnTo>
                      <a:lnTo>
                        <a:pt x="362" y="392"/>
                      </a:lnTo>
                      <a:lnTo>
                        <a:pt x="359" y="199"/>
                      </a:lnTo>
                      <a:lnTo>
                        <a:pt x="441" y="10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49"/>
              <p:cNvSpPr/>
              <p:nvPr/>
            </p:nvSpPr>
            <p:spPr>
              <a:xfrm>
                <a:off x="380880" y="5334120"/>
                <a:ext cx="427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r>
                  <a:rPr b="1" lang="ru-RU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50"/>
              <p:cNvSpPr/>
              <p:nvPr/>
            </p:nvSpPr>
            <p:spPr>
              <a:xfrm>
                <a:off x="1752480" y="5486400"/>
                <a:ext cx="427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r>
                  <a:rPr b="1" lang="ru-RU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Line 51"/>
          <p:cNvSpPr/>
          <p:nvPr/>
        </p:nvSpPr>
        <p:spPr>
          <a:xfrm>
            <a:off x="3276720" y="167652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2819520" y="838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3"/>
          <p:cNvSpPr/>
          <p:nvPr/>
        </p:nvSpPr>
        <p:spPr>
          <a:xfrm>
            <a:off x="29718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4"/>
          <p:cNvSpPr/>
          <p:nvPr/>
        </p:nvSpPr>
        <p:spPr>
          <a:xfrm>
            <a:off x="3200400" y="335268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5"/>
          <p:cNvSpPr/>
          <p:nvPr/>
        </p:nvSpPr>
        <p:spPr>
          <a:xfrm>
            <a:off x="2971800" y="426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6"/>
          <p:cNvSpPr/>
          <p:nvPr/>
        </p:nvSpPr>
        <p:spPr>
          <a:xfrm>
            <a:off x="3200400" y="502920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7"/>
          <p:cNvSpPr/>
          <p:nvPr/>
        </p:nvSpPr>
        <p:spPr>
          <a:xfrm>
            <a:off x="2743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8"/>
          <p:cNvSpPr/>
          <p:nvPr/>
        </p:nvSpPr>
        <p:spPr>
          <a:xfrm>
            <a:off x="4876920" y="762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ближение и ориентация субстрата относительно актив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9"/>
          <p:cNvSpPr/>
          <p:nvPr/>
        </p:nvSpPr>
        <p:spPr>
          <a:xfrm>
            <a:off x="4876920" y="23623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е фермент – субстратного комплек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0"/>
          <p:cNvSpPr/>
          <p:nvPr/>
        </p:nvSpPr>
        <p:spPr>
          <a:xfrm>
            <a:off x="4876920" y="4191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е нестабильного комплекса фермент - проду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1"/>
          <p:cNvSpPr/>
          <p:nvPr/>
        </p:nvSpPr>
        <p:spPr>
          <a:xfrm>
            <a:off x="4876920" y="57913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пад комплекса с высвобождением продуктов реа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62"/>
          <p:cNvGrpSpPr/>
          <p:nvPr/>
        </p:nvGrpSpPr>
        <p:grpSpPr>
          <a:xfrm>
            <a:off x="3809880" y="685800"/>
            <a:ext cx="838080" cy="762120"/>
            <a:chOff x="3809880" y="685800"/>
            <a:chExt cx="838080" cy="762120"/>
          </a:xfrm>
        </p:grpSpPr>
        <p:sp>
          <p:nvSpPr>
            <p:cNvPr id="175" name="Oval 63"/>
            <p:cNvSpPr/>
            <p:nvPr/>
          </p:nvSpPr>
          <p:spPr>
            <a:xfrm>
              <a:off x="3809880" y="6858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4038480" y="838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5"/>
          <p:cNvGrpSpPr/>
          <p:nvPr/>
        </p:nvGrpSpPr>
        <p:grpSpPr>
          <a:xfrm>
            <a:off x="3809880" y="2286000"/>
            <a:ext cx="838080" cy="762120"/>
            <a:chOff x="3809880" y="2286000"/>
            <a:chExt cx="838080" cy="762120"/>
          </a:xfrm>
        </p:grpSpPr>
        <p:sp>
          <p:nvSpPr>
            <p:cNvPr id="178" name="Oval 66"/>
            <p:cNvSpPr/>
            <p:nvPr/>
          </p:nvSpPr>
          <p:spPr>
            <a:xfrm>
              <a:off x="3809880" y="22860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4038480" y="24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68"/>
          <p:cNvGrpSpPr/>
          <p:nvPr/>
        </p:nvGrpSpPr>
        <p:grpSpPr>
          <a:xfrm>
            <a:off x="3809880" y="4114800"/>
            <a:ext cx="838080" cy="762120"/>
            <a:chOff x="3809880" y="4114800"/>
            <a:chExt cx="838080" cy="762120"/>
          </a:xfrm>
        </p:grpSpPr>
        <p:sp>
          <p:nvSpPr>
            <p:cNvPr id="181" name="Oval 69"/>
            <p:cNvSpPr/>
            <p:nvPr/>
          </p:nvSpPr>
          <p:spPr>
            <a:xfrm>
              <a:off x="3809880" y="41148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0"/>
            <p:cNvSpPr/>
            <p:nvPr/>
          </p:nvSpPr>
          <p:spPr>
            <a:xfrm>
              <a:off x="4038480" y="4267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1"/>
          <p:cNvGrpSpPr/>
          <p:nvPr/>
        </p:nvGrpSpPr>
        <p:grpSpPr>
          <a:xfrm>
            <a:off x="3809880" y="5715000"/>
            <a:ext cx="838080" cy="762120"/>
            <a:chOff x="3809880" y="5715000"/>
            <a:chExt cx="838080" cy="762120"/>
          </a:xfrm>
        </p:grpSpPr>
        <p:sp>
          <p:nvSpPr>
            <p:cNvPr id="184" name="Oval 72"/>
            <p:cNvSpPr/>
            <p:nvPr/>
          </p:nvSpPr>
          <p:spPr>
            <a:xfrm>
              <a:off x="3809880" y="57150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73"/>
            <p:cNvSpPr/>
            <p:nvPr/>
          </p:nvSpPr>
          <p:spPr>
            <a:xfrm>
              <a:off x="4038480" y="5867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фикация ферментов, отличие ферментов от биологических катализато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50920" y="1700280"/>
            <a:ext cx="85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рменты называются добавлением суффикса 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за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азванию субстрата, на который данный фермент действует. Например, уреаза катализирует гидролиз мочевины; ферменты, гидролизующие крахмал (амилон), были названы амилазами; гидролизующис жиры (липос) — липазами; ферменты, гидролизующис белки (протеины) — протеиназам 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50920" y="327888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спользуются названия для групп ферме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тализирующих сходные по механизму реакции. Их название строится по принципу — «субстрат-тип реакции». Например, ферменты, которые переносят остаток фосфорной кислоты от АТФ на другую молекулу, называются киназами (глюкокиназа катализирует перенос фосфорильного остатка от АТФ на глюкоз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ривиальные наз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показывают механизма действия, но они широко используются. Например, пепсин, трипсин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еждународный Совет Биохим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U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едложил систематическое название и классификацию ферментов по типу и механизму катализируемой 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rcRect l="3180" t="3339" r="3119" b="2756"/>
          <a:stretch/>
        </p:blipFill>
        <p:spPr>
          <a:xfrm rot="21540000">
            <a:off x="1906200" y="1698120"/>
            <a:ext cx="4683240" cy="43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258920" y="6021360"/>
          <a:ext cx="6481800" cy="60480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мость скорости реакции от концентрации фермен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1"/>
          <a:srcRect l="3695" t="9417" r="48418" b="5008"/>
          <a:stretch/>
        </p:blipFill>
        <p:spPr>
          <a:xfrm>
            <a:off x="2050920" y="1698480"/>
            <a:ext cx="4819680" cy="4035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2"/>
          <p:cNvSpPr/>
          <p:nvPr/>
        </p:nvSpPr>
        <p:spPr>
          <a:xfrm>
            <a:off x="1127880" y="5804640"/>
            <a:ext cx="69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исимость скорости реакции от концентрации субст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 Л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 flipV="1" rot="10800000">
            <a:off x="682560" y="1847520"/>
            <a:ext cx="806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едмет и задачи биохим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троение и свойства бел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Функциональное многообразие бел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лассификация белков по биологическим функ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троение фер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лассификация ферментов, отличие ферментов от биологических катализат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Зависимость скорости ферментативной реакции от температуры, рН среды, концентрации фермента и субстр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ктиваторы и ингибиторы ферментативных реакций. Применение ферментов в медиц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39640" y="15638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а концентрации субстрата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|, при которой половина мест связывания в активном центре фермента заполнена субстратом. Ил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 равна концентрации субстрата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которой скорость реакции равна половине максима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яда ферментов установлено, что велич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а к концентрации субстра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11280" y="349884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ответств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нстанте диссоциации фермент-субстратного комплекс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если к1&lt; к2. В этих условия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зует проч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мплекса (аффинность, сродство субстрата к ферменту): высокое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идетельствует о слабом связывании субстрата с активным центром фермента, низкое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ет на сильное связывание (высокое сродство субстрата к фермент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238040" y="5869800"/>
            <a:ext cx="66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мость скорости реакции от рН (А) и температуры (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"/>
          <p:cNvPicPr/>
          <p:nvPr/>
        </p:nvPicPr>
        <p:blipFill>
          <a:blip r:embed="rId1"/>
          <a:srcRect l="2833" t="4230" r="4250" b="1861"/>
          <a:stretch/>
        </p:blipFill>
        <p:spPr>
          <a:xfrm>
            <a:off x="361800" y="1849320"/>
            <a:ext cx="8240760" cy="36673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539640" y="1989360"/>
            <a:ext cx="810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зимодиагно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сследование ферментов в биологических средах организма с диагностической ц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ьные уровни активности ферментов в сыворотке крови отражают соотношение между биосинтезом и высвобождением ферментов (при обычном обновлении клеток), а также их клиренсом из кровотока. Повышение скорости обновления ферментов, повреждения клеток или индуцирование синтеза обычно приводят к повышению активности ферментов в сыворотке крови. В сыворотке крови выделяют три группы ферментов: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клеточные, секреторные и экскреторны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50920" y="62280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леточ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локализации в тканях делят на несколько груп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еспецифические 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е катализируют общие для всех тканей реакции обменов белков, углеводов, липидов и находятся в большинстве органов и тканей. При повреждении мембран клеток и гистогематических барьеров эти ферменты появляются в крови или повышается их количество. Определение повышенного количества этих ферментов в крови не позволяет локализовать патологический проце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рганоспецифические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индикаторные, ферменты, специфичные только для определенного типа тканей. Как правило, эти ферменты катализируют реакции, обеспечивающие специфические функции органа. В клетках других органов этих ферментов нет или находят следы. Выход органоспецифических ферментов в кровь сигнализирует о поражении определен¬ного орг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зо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группа или семейство ферментов с четвертичной структурой, которые катализируют одну и ту же реакцию, но отличаются по строению (т. е. первичной структуре) субъединиц и физико-химическим свойствам. Например, фермент лактатдегидроген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ерменты, локализованные в органеллах кле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кислительно-восстановительные в митохондриях; кислые гидролазы в лизосом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), выходя в кровь, сигнализируют о глубоком поражении кле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4000" y="1773360"/>
            <a:ext cx="861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екретор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севдохолинэстераза) поступают непосредственно в кровь и выполняют в ней специфические функции. Эти ферменты синтезируются в печени и постоянно высвобождаются в кр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активность в сыворотке крови выше, чем в клетках или тканя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арушении функции печени их активность в сыворотке крови становится ниже н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11280" y="1844640"/>
            <a:ext cx="819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Экскретор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разуются органами пищеварительной системы (поджелудочной железой, слизистой оболочкой кишечника, печенью, эндотелием желчных путей). К ним относятся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милаза, щелочная фосфатаза. В норме их активность в сыворотке крови низкая и постоянная. Однако при патологии, когда блокирован любой из обычных путей экскреции, активность этих ферментов в сыворотке крови значительно увеличив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611280" y="1614240"/>
            <a:ext cx="8094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ледственные энзимопа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д пороков обмена веществ является результатом наследственного дефицита определенных ферментов. В этом случае диагноз ставится, главным образом, на основе исследования показателей обмена этих ферментативных реакций (биохимический диагно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9720360" y="2878200"/>
            <a:ext cx="0" cy="288720"/>
          </a:xfrm>
          <a:prstGeom prst="line">
            <a:avLst/>
          </a:prstGeom>
          <a:ln w="4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684360" y="1579680"/>
            <a:ext cx="799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зимотерап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спользование ферментов и метаболитов в качестве лечебных сред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замести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рапия ферментами используется при болезнях желудочно-кишечного факта (пепсин, трипсин, химотрипсин, амилаза, лип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для очистки ра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здействия на избыточно разрастающуюся соединительную ткань применяют гиалуронидазу, трипсин, химотрипс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ли применение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регуля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ктиваторы и ингибиторы) ферментов. Например, ингибиторы моноаминооксидазы используют при нервных и психических заболеваниях; тканевые ингибиторы протеиназ эффективны при лечении панкреатита, эмфиземы легких, инфаркте миокар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324000" y="2199240"/>
            <a:ext cx="8496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ерменты как аналитические реаг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о применяются в практике лабораторных исследований при определении субстратов, нуклеотидов и пр. В настоящее время выпускается ряд набор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пределения глюкозы, этанола, молочной кислоты, АТФ и п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исследуемом материале содержится неизвестное количество субстрата. Чтобы определить его количество, вводят фермент, катализирующий превращение только этого субстрата, создают оптимальные условия реакции (рН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) и регистрируют скорость реакции (по образованию продукта или изменению кофермента). Затем определяют концентрацию искомого субстрата по скорости реакции, используя калибровочный граф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55640" y="112536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ческая  химия  - это  наука  о молекулярных  основах  жизни,  которая  изучает  химический состав и химические  процессы,  лежащие  в основе 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84360" y="1787760"/>
            <a:ext cx="777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ческая химия изуч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ческую природу веществ, входящих в состав живых организ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превра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этих превращений с деятельностью клеток, тканей, органов и организма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биохим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ть, как функционируют живые системы с точки зрения молекулярных процессов в состоянии «здоровья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ть молекулярные процессы, лежащие в основе заболеваний и их эффективного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39640" y="16232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биохимии: 1) объяснить, как функционируют живые системы с точки зрения молекулярных процессов в состоянии «здоровья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объяснить молекулярные процессы, лежащие в основе заболеваний и их эффективного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Основные разделы и направления в био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95280" y="19861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разделы биохимии по направлениям исследований: техническая биохимия (молекулярные основы хлебопечения, сыроварения, виноделия и пр.); медицинская биохимия (биохимические процессы в организме человека в норме и при патологии), эволюционная биохимия (эволюция обмена веществ в рамках эволюции живых организмов); квантовая биохимия (квантово-физические характеристики метаболитов и их превращений в живом организме); энзимология.(структура, свойства и механизм действия ферментов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9684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три основных разде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атическ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зучает химическую природу орга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инамическ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зучает превращения химических веществ в организме (метаболиз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ункциональн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ет роль превращений химических веществ в проявлении функций клеток, тканей. органов,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несколько направлений (частная биохимия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биохимию систем органов (нервной, гепатобилпарной, сердечно-сосудистой, эндокринной и др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биохимию основных процессов (движения, пищеварения, размноже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рикладную биохимию (клиническая биохимия, биохимическая лабораторная диагност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539640" y="1844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лки являются основными биополимерами клеток, за счет которых осуществляются практически все функци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95280" y="278136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и являются линейными неразветвленными полимерами построенными из аминокислот. Информация о структуре белка закодирована в ДНК. Все живые организмы используют 20 идентичных аминокислот и, за некоторым исключением, имеют одинаковый генетический 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55640" y="1782720"/>
            <a:ext cx="79646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уктурные функц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структурными белками являю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ллаген, эласт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ормируют костный матрикс, сосудистую систему и другие органы)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-керат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исутствует в эпидермальной тка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ие функц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функции реализую разнообразные белки: ферменты, гормоны, факторы свертывания крови, иммуноглобулины, мембранные рецепторы, резервные белки, сократительные белки, дыхательные белки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504720" y="1581480"/>
            <a:ext cx="863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ют несколько принципов классификации белк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 по фун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 по химической структуре и раствори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 по биологической (пищевой) це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07:50:01Z</dcterms:created>
  <dc:creator>KozochkinDA</dc:creator>
  <dc:description/>
  <dc:language>en-US</dc:language>
  <cp:lastModifiedBy>LEGION</cp:lastModifiedBy>
  <dcterms:modified xsi:type="dcterms:W3CDTF">2015-05-01T12:04:22Z</dcterms:modified>
  <cp:revision>11</cp:revision>
  <dc:subject/>
  <dc:title>Вводная лекция</dc:title>
</cp:coreProperties>
</file>