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6789-C8DD-4767-822B-E867D24E4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76A5-91DA-4AE7-89A5-6E807F7BD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лиза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аторы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елков-ферментов характерна высокая степень структур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ы, благодаря чему возможен катализ химической реакции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активного центра и регуляция активности фермента чер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эффекторов с аллостерическим центром. Извест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-активаторы (апопротеин ) и ингибиторы (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псина из поджелудочной железы, соевых бобов;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аз из яда гадюки, ингибитор химотрипсина из картоф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белки (м. м. 20-30 кДа), которые содержат небольш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ы определяющие гормональную активность; относятс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е непроникающих в клетку гормонов, на поверх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рецепторами, гормональный эффект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внутриклеточные посредники (гормоны гипоталаму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физа, поджелудочной железы, паращитовидных желе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стоны стабилизируют структуру ДНК и регулир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ование генома (проявление матричной активности 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лаблении связей с гистонами); гетерогенна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истоновых белков (м. м. 5-200 кДа) участвует в формир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сом и взаимодействии с хроматином гормон - рецептор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ов, в регуляции процессов репликации, транскрипци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и; белки теплового шока (стрессовые белки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бе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ие синтез циклических нуклеотидов; онкобелк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онкобелки, определяющие малигнизацию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34CB-05FE-4F81-A284-6FDBAD110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тела (иммуноглобулины) вырабатываются в ответ на 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енов; белки системы свертывания крови; белки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мента; ферменты обезвреживания ксенобиот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оны, интерлейкины, лизоцим; белки-антифризы ры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ые белки растений; антибактериаль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молекулярные белковые токсины микроорганизмов и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тремя типами белков. Мультимерные дифтери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холерный токсины, токсин шигеллы построен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бъединицы типа А (20, 28 и 32 кДа, соответственно) и п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диниц типа В (25, 12 и 7,7 кДа, соответственно); субъединицы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ываются с клеточной поверхностью, а субъединица А проник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ь клетки, где блокирует синтез белков на рибосо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действуют растительные токсины — рицин, аб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цин, лектин. Энтеротоксин стафилококка или гемоли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шечной палочки, встраиваясь в плазматическую мембран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уют в ней поры, через которые теряются важные компон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ы клеток. Токсины ядов змей представлены мал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ами — 6,7-7 кДа (примерно 60 аминокислотных остат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 пептиды ядов скорпиона, пчелы и осы состоят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м из 45 аминокислотных остатков. Эти токсины связываютс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инергическими белками и оказывают нейротокс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2EF-2B1E-4EC7-AA42-EDDB49C47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умины и глобулины — переносчики различных вещест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зме крови. Порины — образуют поры для переноса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леточные мембраны. Транслоказы — обеспечивают обм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 различных компартментов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белки мембран являются их структу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, склонны к агрегации и специф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ям (процессы самосборки), содержат в своем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е до 20 % гидрофобных аминокислотных остатков и до 4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тся на долю а-спиральных участков. Эти белки лег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фосфолипидами мембран. Структу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выполняют также белки межклеточного матрик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ллаген, ретикулин, кератин), кристаллины, белки ядер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рикса, белки цитоплазматического ске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ют в механическом сокращении для осуществления движения(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6772-7C50-4E78-BEC1-68240C689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нутренней среде организма служат для взаимодействи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ми-биорегуляторами (сигнальными молекул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изуются в мембранных структурах клеток, а также могут быть в растворенном состоянии. Клетка, содержащая рецептор, является клеткой-мишенью для управляющего химического сигнала, а также для взаимодействия с липопротеинами или вирусами. Для восприятия сигналов внешней среды известны фоторецепторные белки (опсин), для оценки вкуса сладкочувствительный белок, для восприятия запаха обонятельный белок, для восприятия звука холинорецепторные белки; в жизнедеятельности живых организмов важное место занимает рецепция ферромонов, аттрактантов, репеллентов, стрессогенных веществ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CFA5-DAA3-4CF7-BF15-E3CD8E8DC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24BA-3889-40F9-B5D7-A787B72B9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4808-E042-4B26-8772-6728108BE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84F9-2332-4FC9-A2D5-89B8F0372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857-ED4B-49E5-8D62-E81EF0ED7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и и ферменты их катализирующие делят на 6 классов, каждый из которых состоит из 4—13 подклассов: оксидореКлассификация ферментов, отличие ферментов от биологических катализа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ктазы, трансферазы, гидролазы, лиазы, изомеразы, лигазы (синтетаз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88E1-8729-4D7E-A0A8-F644744D5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A83-AEE9-401D-8A06-36EA26411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7D51-7A5F-4D40-8AEC-D45507BB9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A9C-E04A-4755-97B4-4CBB7118D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080F-06EE-4C8A-995E-701E70545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9B8-905E-4A87-94D8-991F09B45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в течение многих лет приме­няются в различных областях практи­ческой деятельности человека: в коже­венной, пищевой, текстильной, фармацевтической и других отраслях промышленности, а также в медицине, сельском хозяйстве, химическом синте­зе. Эффективность действия ферментов многократно выше по сравнению с хи­мическими катализаторами, однако их промышленное применение затруднено из-за неустойчивости при хранении и температурных воздейст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F309-81EF-4200-AB61-88F7F5780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5CDD-11CE-44E7-B7B6-6154F1DD8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CCCA-8920-470A-9171-DA8FBEC98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1037-84B6-4CE8-97EE-C9E9147DE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CB49-69E2-4379-BA8A-A92C755A3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ECF3-A7C8-43CE-8C9B-4198BC5C2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C65-1E0F-4D21-9E31-4026A8084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8DC2-94A8-4458-AE7C-725C52A06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 выделяют: 1) биохимию микроорганизмов; 2) биохимию простейших; 3) биохимию растений; 4) биохим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х (ветеринарную биохимию); 5) биохимию человека (медицинск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ю). Однако, несмотря на определенные, порой принципиальные различия в химическом составе и обмене веществ тех или иных видов живых организмов, существу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иохимическое един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форм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C2A5-DC4F-4EF1-903A-36F7297169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7DDF-9833-4C74-AD33-E3D115529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940E-1516-4F3C-AAB5-C371CA433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белок» происходит от немецкого слов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we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, что означает яичный белок или вообще белок. Другое название — протеины, происходит от греческого слова «протос» — первич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629-920B-4AAD-B989-7B323A95C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0C15-2B1C-47ED-B06E-8BF5D4F0E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E0F-479A-43C1-89DF-BA104E12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676-93F4-45B0-96A4-DADA3159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CE3-C6C5-4D71-B127-FDE4D205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5FE-5C60-44BF-B073-ABEDB17E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9E5-B27F-4124-8840-0BDFB08B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3E9-F0C2-49AE-82BA-40156D6A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E4E-437F-4A05-B248-30A621C0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366-0DF2-4407-9FDC-BA80D64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3B0-9488-4AE0-A21F-30D5FD03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AC6-F375-4265-ADE4-20E9B86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826-E130-4BCB-BD15-32289828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1D9-5872-4BB7-BDFD-3F85F044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F64-6AD6-471F-80B8-BD2A2137C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589360"/>
            <a:ext cx="87850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11280" y="386064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ГИЧЕС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ФАКУЛЬТЕТ (ОЧНО-ЗАОЧНОЕ ОТДЕЛЕНИЕ) НА ТРЕТИЙ СЕМЕСТР 2013/2014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260280"/>
          <a:ext cx="8229600" cy="5999400"/>
        </p:xfrm>
        <a:graphic>
          <a:graphicData uri="http://schemas.openxmlformats.org/drawingml/2006/table">
            <a:tbl>
              <a:tblPr/>
              <a:tblGrid>
                <a:gridCol w="1708200"/>
                <a:gridCol w="6521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ы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иза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тиваторы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лков-ферментов характерна высокая степень структур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ы, благодаря чему возможен катализ химической реакции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и активного центра и регуляция активности фермента чер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эффекторов с аллостерическим центром. Извес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-активаторы (апопротеин ) и ингибиторы (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сина из поджелудочной железы, соевых бобов;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з из яда гадюки, ингибитор химотрипсина из картоф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м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белки (м. м. 20-30 кДа), которые содержат неболь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ы определяющие гормональную активность; относят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е непроникающих в клетку гормонов, на поверхност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рецепторами, гормональный эффект реализ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внутриклеточные посредники (гормоны гипоталамус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физа, поджелудочной железы, паращитовидных жел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уля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ны стабилизируют структуру ДНК и регулир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генома (проявление матричной активности Д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слаблении связей с гистонами); гетероген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истоновых белков (м. м. 5-200 кДа) участвует в форм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осом и взаимодействии с хроматином гормон - р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ов, в регуляции процессов репликации, транскрипци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ляции; белки теплового шока (стрессовые белки)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ующие синтез циклических нуклеотидов; онкобелк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нкобелки, определяющие малигнизацию кле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274680"/>
          <a:ext cx="8642160" cy="5546520"/>
        </p:xfrm>
        <a:graphic>
          <a:graphicData uri="http://schemas.openxmlformats.org/drawingml/2006/table">
            <a:tbl>
              <a:tblPr/>
              <a:tblGrid>
                <a:gridCol w="1793880"/>
                <a:gridCol w="68482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тела (иммуноглобулины) вырабатываются в ответ на в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генов; белки системы свертывания крови; белки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мента; ферменты обезвреживания ксенобиоти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фероны, интерлейкины, лизоцим; белки-антифризы рыб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вирусные белки растений; антибактериаль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молекулярные белковые токсины микроорганизмов и рас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ы тремя типами белков. Мультимерные дифтерий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олерный токсины, токсин шигеллы построены 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й субъединицы типа А (20, 28 и 32 кДа, соответственно) и п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диниц типа В (25, 12 и 7,7 кДа, соответственно); субъединицы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ываются с клеточной поверхностью, а субъединица А проник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ь клетки, где блокирует синтез белков на рибосо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о действуют растительные токсины — рицин, абри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цин, лектин. Энтеротоксин стафилококка или гемоли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ой палочки, встраиваясь в плазматическую мембран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 в ней поры, через которые теряются важны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ы клеток. Токсины ядов змей представлены ма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ами — 6,7-7 кДа (примерно 60 аминокислотных остатков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еские пептиды ядов скорпиона, пчелы и осы состоя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из 45 аминокислотных остатков. Эти токсины связываютс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инергическими белками и оказывают нейротокс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692280"/>
          <a:ext cx="8497800" cy="5222880"/>
        </p:xfrm>
        <a:graphic>
          <a:graphicData uri="http://schemas.openxmlformats.org/drawingml/2006/table">
            <a:tbl>
              <a:tblPr/>
              <a:tblGrid>
                <a:gridCol w="1873080"/>
                <a:gridCol w="6624720"/>
              </a:tblGrid>
              <a:tr h="1137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ьбумины и глобулины — переносчики различных вещест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 крови. Порины — образуют поры для переноса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клеточные мембраны. Транслоказы — обеспечивают об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 различных компартментов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 белки мембран являются их структур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, склонны к агрегации и специфическ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ям (процессы самосборки), содержат в своем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20 % гидрофобных аминокислотных остатков и до 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ходится на долю а-спиральных участков. Эти белки лег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уют с фосфолипидами мембран. Структур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также белки межклеточного матрик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оллаген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тикулин, кератин), кристаллины, белки ядер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рикса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цитоплазматического скел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т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вуют в механическом сокращении для осуществления дви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916280"/>
          <a:ext cx="8229600" cy="3260520"/>
        </p:xfrm>
        <a:graphic>
          <a:graphicData uri="http://schemas.openxmlformats.org/drawingml/2006/table">
            <a:tbl>
              <a:tblPr/>
              <a:tblGrid>
                <a:gridCol w="1577880"/>
                <a:gridCol w="66517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цеп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внутренней среде организма служат для взаимодействи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екулами-биорегуляторами (сигнальными молекул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кализуются в мембранных структурах клеток, а также могут быть 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енном состоянии. Клетка, содержащая рецептор, являе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еткой-мишенью для управляющего химического сигнала, а так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заимодействия с липопротеинами или вирусами. Д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риятия сигналов внешней среды известны фоторецептор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(опсин), для оценки вкуса сладкочувствительный бело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осприятия запаха обонятельный белок, для восприя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а холинорецепторные белки; в жизнедеятельности жив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мов важное место занимает рецепция ферромонов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рактантов, репеллентов, стрессогенных веществ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11280" y="90684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Фермент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ие катализаторы белковой природы 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 дрожжах или 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mentati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бр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4360" y="169992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4360" y="2492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360" y="3832920"/>
            <a:ext cx="81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04920" y="976320"/>
            <a:ext cx="4114800" cy="24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28600" y="5132520"/>
            <a:ext cx="5280120" cy="1465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066680" y="4191120"/>
            <a:ext cx="2928600" cy="1828800"/>
            <a:chOff x="1066680" y="4191120"/>
            <a:chExt cx="2928600" cy="1828800"/>
          </a:xfrm>
        </p:grpSpPr>
        <p:sp>
          <p:nvSpPr>
            <p:cNvPr id="96" name="Line 5"/>
            <p:cNvSpPr/>
            <p:nvPr/>
          </p:nvSpPr>
          <p:spPr>
            <a:xfrm flipH="1">
              <a:off x="1066680" y="4191120"/>
              <a:ext cx="190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57480" y="4191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1257480" y="4191120"/>
              <a:ext cx="381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257480" y="4191120"/>
              <a:ext cx="1846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257480" y="4191120"/>
              <a:ext cx="2737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"/>
          <p:cNvSpPr/>
          <p:nvPr/>
        </p:nvSpPr>
        <p:spPr>
          <a:xfrm>
            <a:off x="0" y="35053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минокислоты, образующие акти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875200" y="4535640"/>
            <a:ext cx="1185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зы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934320" y="455616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талит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rot="5400000">
            <a:off x="6977880" y="3186000"/>
            <a:ext cx="331920" cy="2313000"/>
          </a:xfrm>
          <a:custGeom>
            <a:avLst/>
            <a:gdLst>
              <a:gd name="textAreaLeft" fmla="*/ 0 w 331920"/>
              <a:gd name="textAreaRight" fmla="*/ 119880 w 331920"/>
              <a:gd name="textAreaTop" fmla="*/ 53640 h 2313000"/>
              <a:gd name="textAreaBottom" fmla="*/ 225936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1"/>
                  <a:pt x="10800" y="1602"/>
                </a:cubicBezTo>
                <a:lnTo>
                  <a:pt x="10800" y="8298"/>
                </a:lnTo>
                <a:cubicBezTo>
                  <a:pt x="10800" y="9099"/>
                  <a:pt x="16200" y="9900"/>
                  <a:pt x="21600" y="9900"/>
                </a:cubicBezTo>
                <a:cubicBezTo>
                  <a:pt x="16200" y="9900"/>
                  <a:pt x="10800" y="10701"/>
                  <a:pt x="10800" y="11502"/>
                </a:cubicBezTo>
                <a:lnTo>
                  <a:pt x="10800" y="19998"/>
                </a:lnTo>
                <a:cubicBezTo>
                  <a:pt x="10800" y="2079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270480" y="398772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ый 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2637000"/>
            <a:ext cx="3260880" cy="3066840"/>
            <a:chOff x="5410080" y="2637000"/>
            <a:chExt cx="3260880" cy="3066840"/>
          </a:xfrm>
        </p:grpSpPr>
        <p:sp>
          <p:nvSpPr>
            <p:cNvPr id="107" name="Freeform 16"/>
            <p:cNvSpPr/>
            <p:nvPr/>
          </p:nvSpPr>
          <p:spPr>
            <a:xfrm>
              <a:off x="5410080" y="3309840"/>
              <a:ext cx="3260880" cy="2394000"/>
            </a:xfrm>
            <a:custGeom>
              <a:avLst/>
              <a:gdLst/>
              <a:ahLst/>
              <a:rect l="l" t="t" r="r" b="b"/>
              <a:pathLst>
                <a:path w="2774" h="1733">
                  <a:moveTo>
                    <a:pt x="2495" y="135"/>
                  </a:moveTo>
                  <a:cubicBezTo>
                    <a:pt x="2440" y="137"/>
                    <a:pt x="2251" y="125"/>
                    <a:pt x="2172" y="179"/>
                  </a:cubicBezTo>
                  <a:cubicBezTo>
                    <a:pt x="2093" y="233"/>
                    <a:pt x="2078" y="452"/>
                    <a:pt x="2024" y="458"/>
                  </a:cubicBezTo>
                  <a:cubicBezTo>
                    <a:pt x="1970" y="464"/>
                    <a:pt x="1970" y="260"/>
                    <a:pt x="1849" y="214"/>
                  </a:cubicBezTo>
                  <a:cubicBezTo>
                    <a:pt x="1728" y="168"/>
                    <a:pt x="1421" y="144"/>
                    <a:pt x="1299" y="179"/>
                  </a:cubicBezTo>
                  <a:cubicBezTo>
                    <a:pt x="1177" y="214"/>
                    <a:pt x="1199" y="379"/>
                    <a:pt x="1116" y="423"/>
                  </a:cubicBezTo>
                  <a:cubicBezTo>
                    <a:pt x="1033" y="467"/>
                    <a:pt x="891" y="483"/>
                    <a:pt x="802" y="441"/>
                  </a:cubicBezTo>
                  <a:cubicBezTo>
                    <a:pt x="713" y="399"/>
                    <a:pt x="683" y="0"/>
                    <a:pt x="584" y="170"/>
                  </a:cubicBezTo>
                  <a:cubicBezTo>
                    <a:pt x="485" y="340"/>
                    <a:pt x="0" y="1218"/>
                    <a:pt x="208" y="1462"/>
                  </a:cubicBezTo>
                  <a:cubicBezTo>
                    <a:pt x="416" y="1706"/>
                    <a:pt x="1429" y="1613"/>
                    <a:pt x="1832" y="1636"/>
                  </a:cubicBezTo>
                  <a:cubicBezTo>
                    <a:pt x="2119" y="1663"/>
                    <a:pt x="2491" y="1733"/>
                    <a:pt x="2626" y="1601"/>
                  </a:cubicBezTo>
                  <a:cubicBezTo>
                    <a:pt x="2774" y="1445"/>
                    <a:pt x="2743" y="941"/>
                    <a:pt x="2722" y="702"/>
                  </a:cubicBezTo>
                  <a:cubicBezTo>
                    <a:pt x="2701" y="463"/>
                    <a:pt x="2540" y="260"/>
                    <a:pt x="2502" y="166"/>
                  </a:cubicBezTo>
                  <a:cubicBezTo>
                    <a:pt x="2464" y="72"/>
                    <a:pt x="2550" y="133"/>
                    <a:pt x="2495" y="135"/>
                  </a:cubicBezTo>
                  <a:close/>
                </a:path>
              </a:pathLst>
            </a:custGeom>
            <a:blipFill rotWithShape="0">
              <a:blip r:embed="rId3">
                <a:alphaModFix amt="35000"/>
              </a:blip>
              <a:srcRect/>
              <a:stretch/>
            </a:blip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7"/>
            <p:cNvGrpSpPr/>
            <p:nvPr/>
          </p:nvGrpSpPr>
          <p:grpSpPr>
            <a:xfrm>
              <a:off x="6294600" y="2637000"/>
              <a:ext cx="1858680" cy="1350720"/>
              <a:chOff x="6294600" y="2637000"/>
              <a:chExt cx="1858680" cy="1350720"/>
            </a:xfrm>
          </p:grpSpPr>
          <p:sp>
            <p:nvSpPr>
              <p:cNvPr id="109" name="Freeform 18"/>
              <p:cNvSpPr/>
              <p:nvPr/>
            </p:nvSpPr>
            <p:spPr>
              <a:xfrm>
                <a:off x="6294600" y="2637000"/>
                <a:ext cx="1838160" cy="1350720"/>
              </a:xfrm>
              <a:custGeom>
                <a:avLst/>
                <a:gdLst/>
                <a:ahLst/>
                <a:rect l="l" t="t" r="r" b="b"/>
                <a:pathLst>
                  <a:path w="1158" h="851">
                    <a:moveTo>
                      <a:pt x="1158" y="291"/>
                    </a:moveTo>
                    <a:cubicBezTo>
                      <a:pt x="1137" y="311"/>
                      <a:pt x="1076" y="344"/>
                      <a:pt x="1038" y="405"/>
                    </a:cubicBezTo>
                    <a:cubicBezTo>
                      <a:pt x="1001" y="466"/>
                      <a:pt x="974" y="636"/>
                      <a:pt x="934" y="653"/>
                    </a:cubicBezTo>
                    <a:cubicBezTo>
                      <a:pt x="893" y="671"/>
                      <a:pt x="881" y="538"/>
                      <a:pt x="793" y="512"/>
                    </a:cubicBezTo>
                    <a:cubicBezTo>
                      <a:pt x="705" y="485"/>
                      <a:pt x="498" y="453"/>
                      <a:pt x="405" y="489"/>
                    </a:cubicBezTo>
                    <a:cubicBezTo>
                      <a:pt x="311" y="525"/>
                      <a:pt x="286" y="684"/>
                      <a:pt x="234" y="727"/>
                    </a:cubicBezTo>
                    <a:cubicBezTo>
                      <a:pt x="183" y="771"/>
                      <a:pt x="123" y="851"/>
                      <a:pt x="94" y="748"/>
                    </a:cubicBezTo>
                    <a:cubicBezTo>
                      <a:pt x="65" y="645"/>
                      <a:pt x="0" y="216"/>
                      <a:pt x="58" y="108"/>
                    </a:cubicBezTo>
                    <a:cubicBezTo>
                      <a:pt x="116" y="0"/>
                      <a:pt x="313" y="100"/>
                      <a:pt x="442" y="99"/>
                    </a:cubicBezTo>
                    <a:cubicBezTo>
                      <a:pt x="571" y="98"/>
                      <a:pt x="737" y="101"/>
                      <a:pt x="835" y="99"/>
                    </a:cubicBezTo>
                    <a:cubicBezTo>
                      <a:pt x="1000" y="112"/>
                      <a:pt x="976" y="56"/>
                      <a:pt x="1030" y="88"/>
                    </a:cubicBezTo>
                    <a:cubicBezTo>
                      <a:pt x="1084" y="120"/>
                      <a:pt x="1131" y="249"/>
                      <a:pt x="1158" y="291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9"/>
              <p:cNvSpPr/>
              <p:nvPr/>
            </p:nvSpPr>
            <p:spPr>
              <a:xfrm>
                <a:off x="6629400" y="30369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Arial"/>
                  </a:rPr>
                  <a:t>Субстра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5257800" y="1295280"/>
            <a:ext cx="3657600" cy="70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е активного центра  фер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3440" y="116856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03440" y="45720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28600" y="457200"/>
            <a:ext cx="1951200" cy="6235200"/>
            <a:chOff x="228600" y="457200"/>
            <a:chExt cx="1951200" cy="6235200"/>
          </a:xfrm>
        </p:grpSpPr>
        <p:sp>
          <p:nvSpPr>
            <p:cNvPr id="117" name="Text Box 5"/>
            <p:cNvSpPr/>
            <p:nvPr/>
          </p:nvSpPr>
          <p:spPr>
            <a:xfrm>
              <a:off x="990720" y="62485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228600" y="457200"/>
              <a:ext cx="1951200" cy="6235200"/>
              <a:chOff x="228600" y="457200"/>
              <a:chExt cx="1951200" cy="6235200"/>
            </a:xfrm>
          </p:grpSpPr>
          <p:grpSp>
            <p:nvGrpSpPr>
              <p:cNvPr id="119" name="Group 7"/>
              <p:cNvGrpSpPr/>
              <p:nvPr/>
            </p:nvGrpSpPr>
            <p:grpSpPr>
              <a:xfrm>
                <a:off x="533520" y="457200"/>
                <a:ext cx="1447560" cy="1219320"/>
                <a:chOff x="533520" y="457200"/>
                <a:chExt cx="1447560" cy="1219320"/>
              </a:xfrm>
            </p:grpSpPr>
            <p:sp>
              <p:nvSpPr>
                <p:cNvPr id="120" name="Freeform 8"/>
                <p:cNvSpPr/>
                <p:nvPr/>
              </p:nvSpPr>
              <p:spPr>
                <a:xfrm>
                  <a:off x="619200" y="1054080"/>
                  <a:ext cx="1361880" cy="62244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"/>
                <p:cNvSpPr/>
                <p:nvPr/>
              </p:nvSpPr>
              <p:spPr>
                <a:xfrm>
                  <a:off x="619200" y="1047600"/>
                  <a:ext cx="1361880" cy="13968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10"/>
                <p:cNvGrpSpPr/>
                <p:nvPr/>
              </p:nvGrpSpPr>
              <p:grpSpPr>
                <a:xfrm>
                  <a:off x="533520" y="457200"/>
                  <a:ext cx="1447560" cy="507960"/>
                  <a:chOff x="533520" y="457200"/>
                  <a:chExt cx="1447560" cy="507960"/>
                </a:xfrm>
              </p:grpSpPr>
              <p:grpSp>
                <p:nvGrpSpPr>
                  <p:cNvPr id="123" name="Group 11"/>
                  <p:cNvGrpSpPr/>
                  <p:nvPr/>
                </p:nvGrpSpPr>
                <p:grpSpPr>
                  <a:xfrm>
                    <a:off x="533520" y="485640"/>
                    <a:ext cx="833040" cy="474480"/>
                    <a:chOff x="533520" y="485640"/>
                    <a:chExt cx="833040" cy="474480"/>
                  </a:xfrm>
                </p:grpSpPr>
                <p:sp>
                  <p:nvSpPr>
                    <p:cNvPr id="124" name="Freeform 12"/>
                    <p:cNvSpPr/>
                    <p:nvPr/>
                  </p:nvSpPr>
                  <p:spPr>
                    <a:xfrm>
                      <a:off x="533520" y="485640"/>
                      <a:ext cx="833040" cy="35532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100" h="570">
                          <a:moveTo>
                            <a:pt x="0" y="570"/>
                          </a:moveTo>
                          <a:lnTo>
                            <a:pt x="0" y="0"/>
                          </a:lnTo>
                          <a:lnTo>
                            <a:pt x="1100" y="4"/>
                          </a:lnTo>
                          <a:lnTo>
                            <a:pt x="1100" y="301"/>
                          </a:lnTo>
                          <a:lnTo>
                            <a:pt x="1100" y="493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Freeform 13"/>
                    <p:cNvSpPr/>
                    <p:nvPr/>
                  </p:nvSpPr>
                  <p:spPr>
                    <a:xfrm>
                      <a:off x="533520" y="787320"/>
                      <a:ext cx="833040" cy="17280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172800"/>
                        <a:gd name="textAreaBottom" fmla="*/ 173160 h 172800"/>
                      </a:gdLst>
                      <a:ahLst/>
                      <a:rect l="textAreaLeft" t="textAreaTop" r="textAreaRight" b="textAreaBottom"/>
                      <a:pathLst>
                        <a:path w="1100" h="277">
                          <a:moveTo>
                            <a:pt x="0" y="77"/>
                          </a:moveTo>
                          <a:lnTo>
                            <a:pt x="218" y="67"/>
                          </a:lnTo>
                          <a:lnTo>
                            <a:pt x="253" y="259"/>
                          </a:lnTo>
                          <a:lnTo>
                            <a:pt x="436" y="277"/>
                          </a:lnTo>
                          <a:lnTo>
                            <a:pt x="463" y="76"/>
                          </a:lnTo>
                          <a:lnTo>
                            <a:pt x="742" y="77"/>
                          </a:lnTo>
                          <a:lnTo>
                            <a:pt x="812" y="259"/>
                          </a:lnTo>
                          <a:lnTo>
                            <a:pt x="899" y="250"/>
                          </a:lnTo>
                          <a:lnTo>
                            <a:pt x="890" y="85"/>
                          </a:lnTo>
                          <a:lnTo>
                            <a:pt x="1100" y="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Line 14"/>
                  <p:cNvSpPr/>
                  <p:nvPr/>
                </p:nvSpPr>
                <p:spPr>
                  <a:xfrm>
                    <a:off x="1369800" y="635400"/>
                    <a:ext cx="1814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5"/>
                  <p:cNvGrpSpPr/>
                  <p:nvPr/>
                </p:nvGrpSpPr>
                <p:grpSpPr>
                  <a:xfrm>
                    <a:off x="1544760" y="457200"/>
                    <a:ext cx="436320" cy="507960"/>
                    <a:chOff x="1544760" y="457200"/>
                    <a:chExt cx="436320" cy="507960"/>
                  </a:xfrm>
                </p:grpSpPr>
                <p:sp>
                  <p:nvSpPr>
                    <p:cNvPr id="128" name="Freeform 16"/>
                    <p:cNvSpPr/>
                    <p:nvPr/>
                  </p:nvSpPr>
                  <p:spPr>
                    <a:xfrm>
                      <a:off x="1551600" y="457200"/>
                      <a:ext cx="429480" cy="507960"/>
                    </a:xfrm>
                    <a:custGeom>
                      <a:avLst/>
                      <a:gdLst>
                        <a:gd name="textAreaLeft" fmla="*/ 0 w 429480"/>
                        <a:gd name="textAreaRight" fmla="*/ 429840 w 429480"/>
                        <a:gd name="textAreaTop" fmla="*/ 0 h 507960"/>
                        <a:gd name="textAreaBottom" fmla="*/ 508320 h 507960"/>
                      </a:gdLst>
                      <a:ahLst/>
                      <a:rect l="textAreaLeft" t="textAreaTop" r="textAreaRight" b="textAreaBottom"/>
                      <a:pathLst>
                        <a:path w="567" h="815">
                          <a:moveTo>
                            <a:pt x="0" y="0"/>
                          </a:moveTo>
                          <a:lnTo>
                            <a:pt x="0" y="815"/>
                          </a:lnTo>
                          <a:lnTo>
                            <a:pt x="393" y="792"/>
                          </a:lnTo>
                          <a:lnTo>
                            <a:pt x="567" y="600"/>
                          </a:lnTo>
                          <a:lnTo>
                            <a:pt x="432" y="110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Freeform 17"/>
                    <p:cNvSpPr/>
                    <p:nvPr/>
                  </p:nvSpPr>
                  <p:spPr>
                    <a:xfrm>
                      <a:off x="1544760" y="461520"/>
                      <a:ext cx="334080" cy="263520"/>
                    </a:xfrm>
                    <a:custGeom>
                      <a:avLst/>
                      <a:gdLst>
                        <a:gd name="textAreaLeft" fmla="*/ 0 w 334080"/>
                        <a:gd name="textAreaRight" fmla="*/ 334440 w 334080"/>
                        <a:gd name="textAreaTop" fmla="*/ 0 h 263520"/>
                        <a:gd name="textAreaBottom" fmla="*/ 263880 h 263520"/>
                      </a:gdLst>
                      <a:ahLst/>
                      <a:rect l="textAreaLeft" t="textAreaTop" r="textAreaRight" b="textAreaBottom"/>
                      <a:pathLst>
                        <a:path w="441" h="423">
                          <a:moveTo>
                            <a:pt x="0" y="0"/>
                          </a:moveTo>
                          <a:lnTo>
                            <a:pt x="95" y="178"/>
                          </a:lnTo>
                          <a:lnTo>
                            <a:pt x="108" y="402"/>
                          </a:lnTo>
                          <a:lnTo>
                            <a:pt x="180" y="423"/>
                          </a:lnTo>
                          <a:lnTo>
                            <a:pt x="191" y="189"/>
                          </a:lnTo>
                          <a:lnTo>
                            <a:pt x="300" y="190"/>
                          </a:lnTo>
                          <a:lnTo>
                            <a:pt x="328" y="402"/>
                          </a:lnTo>
                          <a:lnTo>
                            <a:pt x="362" y="392"/>
                          </a:lnTo>
                          <a:lnTo>
                            <a:pt x="359" y="199"/>
                          </a:lnTo>
                          <a:lnTo>
                            <a:pt x="441" y="10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0" name="Line 18"/>
              <p:cNvSpPr/>
              <p:nvPr/>
            </p:nvSpPr>
            <p:spPr>
              <a:xfrm>
                <a:off x="1219320" y="1752480"/>
                <a:ext cx="0" cy="38124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19"/>
              <p:cNvGrpSpPr/>
              <p:nvPr/>
            </p:nvGrpSpPr>
            <p:grpSpPr>
              <a:xfrm>
                <a:off x="609480" y="2133720"/>
                <a:ext cx="1371600" cy="1218240"/>
                <a:chOff x="609480" y="2133720"/>
                <a:chExt cx="1371600" cy="1218240"/>
              </a:xfrm>
            </p:grpSpPr>
            <p:grpSp>
              <p:nvGrpSpPr>
                <p:cNvPr id="132" name="Group 20"/>
                <p:cNvGrpSpPr/>
                <p:nvPr/>
              </p:nvGrpSpPr>
              <p:grpSpPr>
                <a:xfrm>
                  <a:off x="609480" y="2582640"/>
                  <a:ext cx="1371600" cy="769320"/>
                  <a:chOff x="609480" y="2582640"/>
                  <a:chExt cx="1371600" cy="76932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>
                    <a:off x="609480" y="2590560"/>
                    <a:ext cx="1371600" cy="7614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761400"/>
                      <a:gd name="textAreaBottom" fmla="*/ 761760 h 761400"/>
                    </a:gdLst>
                    <a:ahLst/>
                    <a:rect l="textAreaLeft" t="textAreaTop" r="textAreaRight" b="textAreaBottom"/>
                    <a:pathLst>
                      <a:path w="1187" h="1431">
                        <a:moveTo>
                          <a:pt x="0" y="0"/>
                        </a:moveTo>
                        <a:lnTo>
                          <a:pt x="0" y="1431"/>
                        </a:lnTo>
                        <a:lnTo>
                          <a:pt x="1187" y="1431"/>
                        </a:lnTo>
                        <a:lnTo>
                          <a:pt x="1187" y="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>
                    <a:off x="609480" y="2582640"/>
                    <a:ext cx="1371600" cy="1710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920" h="192">
                        <a:moveTo>
                          <a:pt x="0" y="18"/>
                        </a:moveTo>
                        <a:lnTo>
                          <a:pt x="192" y="18"/>
                        </a:lnTo>
                        <a:lnTo>
                          <a:pt x="192" y="184"/>
                        </a:lnTo>
                        <a:lnTo>
                          <a:pt x="506" y="184"/>
                        </a:lnTo>
                        <a:lnTo>
                          <a:pt x="506" y="18"/>
                        </a:lnTo>
                        <a:lnTo>
                          <a:pt x="742" y="18"/>
                        </a:lnTo>
                        <a:lnTo>
                          <a:pt x="751" y="175"/>
                        </a:lnTo>
                        <a:lnTo>
                          <a:pt x="951" y="175"/>
                        </a:lnTo>
                        <a:lnTo>
                          <a:pt x="951" y="0"/>
                        </a:lnTo>
                        <a:lnTo>
                          <a:pt x="1283" y="0"/>
                        </a:lnTo>
                        <a:lnTo>
                          <a:pt x="1283" y="192"/>
                        </a:lnTo>
                        <a:lnTo>
                          <a:pt x="1763" y="192"/>
                        </a:lnTo>
                        <a:lnTo>
                          <a:pt x="1920" y="35"/>
                        </a:lnTo>
                      </a:path>
                    </a:pathLst>
                  </a:cu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Freeform 23"/>
                <p:cNvSpPr/>
                <p:nvPr/>
              </p:nvSpPr>
              <p:spPr>
                <a:xfrm>
                  <a:off x="609480" y="2168280"/>
                  <a:ext cx="753120" cy="43416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4"/>
                <p:cNvSpPr/>
                <p:nvPr/>
              </p:nvSpPr>
              <p:spPr>
                <a:xfrm>
                  <a:off x="609480" y="2529000"/>
                  <a:ext cx="753120" cy="21384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580" h="160">
                      <a:moveTo>
                        <a:pt x="0" y="50"/>
                      </a:moveTo>
                      <a:lnTo>
                        <a:pt x="136" y="40"/>
                      </a:lnTo>
                      <a:lnTo>
                        <a:pt x="128" y="136"/>
                      </a:lnTo>
                      <a:lnTo>
                        <a:pt x="256" y="144"/>
                      </a:lnTo>
                      <a:lnTo>
                        <a:pt x="240" y="0"/>
                      </a:lnTo>
                      <a:lnTo>
                        <a:pt x="424" y="0"/>
                      </a:lnTo>
                      <a:lnTo>
                        <a:pt x="416" y="152"/>
                      </a:lnTo>
                      <a:lnTo>
                        <a:pt x="512" y="160"/>
                      </a:lnTo>
                      <a:lnTo>
                        <a:pt x="520" y="72"/>
                      </a:lnTo>
                      <a:lnTo>
                        <a:pt x="580" y="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5"/>
                <p:cNvSpPr/>
                <p:nvPr/>
              </p:nvSpPr>
              <p:spPr>
                <a:xfrm>
                  <a:off x="1365480" y="2351520"/>
                  <a:ext cx="164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26"/>
                <p:cNvGrpSpPr/>
                <p:nvPr/>
              </p:nvGrpSpPr>
              <p:grpSpPr>
                <a:xfrm>
                  <a:off x="1544400" y="2133720"/>
                  <a:ext cx="394920" cy="621360"/>
                  <a:chOff x="1544400" y="2133720"/>
                  <a:chExt cx="394920" cy="62136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>
                    <a:off x="1550520" y="2133720"/>
                    <a:ext cx="388800" cy="621360"/>
                  </a:xfrm>
                  <a:custGeom>
                    <a:avLst/>
                    <a:gdLst>
                      <a:gd name="textAreaLeft" fmla="*/ 0 w 388800"/>
                      <a:gd name="textAreaRight" fmla="*/ 389160 w 388800"/>
                      <a:gd name="textAreaTop" fmla="*/ 0 h 621360"/>
                      <a:gd name="textAreaBottom" fmla="*/ 621720 h 621360"/>
                    </a:gdLst>
                    <a:ahLst/>
                    <a:rect l="textAreaLeft" t="textAreaTop" r="textAreaRight" b="textAreaBottom"/>
                    <a:pathLst>
                      <a:path w="567" h="815">
                        <a:moveTo>
                          <a:pt x="0" y="0"/>
                        </a:moveTo>
                        <a:lnTo>
                          <a:pt x="0" y="815"/>
                        </a:lnTo>
                        <a:lnTo>
                          <a:pt x="393" y="792"/>
                        </a:lnTo>
                        <a:lnTo>
                          <a:pt x="567" y="600"/>
                        </a:lnTo>
                        <a:lnTo>
                          <a:pt x="432" y="11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>
                    <a:off x="1544400" y="2138760"/>
                    <a:ext cx="302400" cy="322200"/>
                  </a:xfrm>
                  <a:custGeom>
                    <a:avLst/>
                    <a:gdLst>
                      <a:gd name="textAreaLeft" fmla="*/ 0 w 302400"/>
                      <a:gd name="textAreaRight" fmla="*/ 302760 w 30240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441" h="423">
                        <a:moveTo>
                          <a:pt x="0" y="0"/>
                        </a:moveTo>
                        <a:lnTo>
                          <a:pt x="95" y="178"/>
                        </a:lnTo>
                        <a:lnTo>
                          <a:pt x="108" y="402"/>
                        </a:lnTo>
                        <a:lnTo>
                          <a:pt x="180" y="423"/>
                        </a:lnTo>
                        <a:lnTo>
                          <a:pt x="191" y="189"/>
                        </a:lnTo>
                        <a:lnTo>
                          <a:pt x="300" y="190"/>
                        </a:lnTo>
                        <a:lnTo>
                          <a:pt x="328" y="402"/>
                        </a:lnTo>
                        <a:lnTo>
                          <a:pt x="362" y="392"/>
                        </a:lnTo>
                        <a:lnTo>
                          <a:pt x="359" y="199"/>
                        </a:lnTo>
                        <a:lnTo>
                          <a:pt x="441" y="10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Line 29"/>
              <p:cNvSpPr/>
              <p:nvPr/>
            </p:nvSpPr>
            <p:spPr>
              <a:xfrm>
                <a:off x="1219320" y="342900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0"/>
              <p:cNvGrpSpPr/>
              <p:nvPr/>
            </p:nvGrpSpPr>
            <p:grpSpPr>
              <a:xfrm>
                <a:off x="609480" y="4280040"/>
                <a:ext cx="1295640" cy="672480"/>
                <a:chOff x="609480" y="4280040"/>
                <a:chExt cx="1295640" cy="672480"/>
              </a:xfrm>
            </p:grpSpPr>
            <p:sp>
              <p:nvSpPr>
                <p:cNvPr id="143" name="Freeform 31"/>
                <p:cNvSpPr/>
                <p:nvPr/>
              </p:nvSpPr>
              <p:spPr>
                <a:xfrm>
                  <a:off x="609480" y="4286880"/>
                  <a:ext cx="1295640" cy="66564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609480" y="4280040"/>
                  <a:ext cx="1295640" cy="1494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3"/>
              <p:cNvGrpSpPr/>
              <p:nvPr/>
            </p:nvGrpSpPr>
            <p:grpSpPr>
              <a:xfrm>
                <a:off x="609480" y="3886200"/>
                <a:ext cx="711360" cy="507960"/>
                <a:chOff x="609480" y="3886200"/>
                <a:chExt cx="711360" cy="507960"/>
              </a:xfrm>
            </p:grpSpPr>
            <p:sp>
              <p:nvSpPr>
                <p:cNvPr id="146" name="Freeform 34"/>
                <p:cNvSpPr/>
                <p:nvPr/>
              </p:nvSpPr>
              <p:spPr>
                <a:xfrm>
                  <a:off x="609480" y="388620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5"/>
                <p:cNvSpPr/>
                <p:nvPr/>
              </p:nvSpPr>
              <p:spPr>
                <a:xfrm>
                  <a:off x="609480" y="419112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1523880" y="3809880"/>
                <a:ext cx="373320" cy="544680"/>
                <a:chOff x="1523880" y="3809880"/>
                <a:chExt cx="373320" cy="544680"/>
              </a:xfrm>
            </p:grpSpPr>
            <p:sp>
              <p:nvSpPr>
                <p:cNvPr id="149" name="Freeform 37"/>
                <p:cNvSpPr/>
                <p:nvPr/>
              </p:nvSpPr>
              <p:spPr>
                <a:xfrm>
                  <a:off x="1529640" y="380988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8"/>
                <p:cNvSpPr/>
                <p:nvPr/>
              </p:nvSpPr>
              <p:spPr>
                <a:xfrm>
                  <a:off x="1523880" y="381456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39"/>
              <p:cNvSpPr/>
              <p:nvPr/>
            </p:nvSpPr>
            <p:spPr>
              <a:xfrm>
                <a:off x="1219320" y="510552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40"/>
              <p:cNvGrpSpPr/>
              <p:nvPr/>
            </p:nvGrpSpPr>
            <p:grpSpPr>
              <a:xfrm>
                <a:off x="533520" y="6019920"/>
                <a:ext cx="1295280" cy="672480"/>
                <a:chOff x="533520" y="6019920"/>
                <a:chExt cx="1295280" cy="672480"/>
              </a:xfrm>
            </p:grpSpPr>
            <p:sp>
              <p:nvSpPr>
                <p:cNvPr id="153" name="Freeform 41"/>
                <p:cNvSpPr/>
                <p:nvPr/>
              </p:nvSpPr>
              <p:spPr>
                <a:xfrm>
                  <a:off x="533520" y="6026760"/>
                  <a:ext cx="1295280" cy="66564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42"/>
                <p:cNvSpPr/>
                <p:nvPr/>
              </p:nvSpPr>
              <p:spPr>
                <a:xfrm>
                  <a:off x="533520" y="6019920"/>
                  <a:ext cx="1295280" cy="149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3"/>
              <p:cNvGrpSpPr/>
              <p:nvPr/>
            </p:nvGrpSpPr>
            <p:grpSpPr>
              <a:xfrm>
                <a:off x="228600" y="5334120"/>
                <a:ext cx="711360" cy="507960"/>
                <a:chOff x="228600" y="5334120"/>
                <a:chExt cx="711360" cy="507960"/>
              </a:xfrm>
            </p:grpSpPr>
            <p:sp>
              <p:nvSpPr>
                <p:cNvPr id="156" name="Freeform 44"/>
                <p:cNvSpPr/>
                <p:nvPr/>
              </p:nvSpPr>
              <p:spPr>
                <a:xfrm>
                  <a:off x="228600" y="533412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5"/>
                <p:cNvSpPr/>
                <p:nvPr/>
              </p:nvSpPr>
              <p:spPr>
                <a:xfrm>
                  <a:off x="228600" y="563904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6"/>
              <p:cNvGrpSpPr/>
              <p:nvPr/>
            </p:nvGrpSpPr>
            <p:grpSpPr>
              <a:xfrm>
                <a:off x="1752480" y="5257800"/>
                <a:ext cx="373320" cy="544680"/>
                <a:chOff x="1752480" y="5257800"/>
                <a:chExt cx="373320" cy="544680"/>
              </a:xfrm>
            </p:grpSpPr>
            <p:sp>
              <p:nvSpPr>
                <p:cNvPr id="159" name="Freeform 47"/>
                <p:cNvSpPr/>
                <p:nvPr/>
              </p:nvSpPr>
              <p:spPr>
                <a:xfrm>
                  <a:off x="1758240" y="525780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8"/>
                <p:cNvSpPr/>
                <p:nvPr/>
              </p:nvSpPr>
              <p:spPr>
                <a:xfrm>
                  <a:off x="1752480" y="526248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49"/>
              <p:cNvSpPr/>
              <p:nvPr/>
            </p:nvSpPr>
            <p:spPr>
              <a:xfrm>
                <a:off x="380880" y="533412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0"/>
              <p:cNvSpPr/>
              <p:nvPr/>
            </p:nvSpPr>
            <p:spPr>
              <a:xfrm>
                <a:off x="1752480" y="548640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Line 51"/>
          <p:cNvSpPr/>
          <p:nvPr/>
        </p:nvSpPr>
        <p:spPr>
          <a:xfrm>
            <a:off x="3276720" y="167652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819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2971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29718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6"/>
          <p:cNvSpPr/>
          <p:nvPr/>
        </p:nvSpPr>
        <p:spPr>
          <a:xfrm>
            <a:off x="3200400" y="502920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2743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4876920" y="762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лижение и ориентация субстрата относительно актив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4876920" y="2362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фермент – субстратного 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0"/>
          <p:cNvSpPr/>
          <p:nvPr/>
        </p:nvSpPr>
        <p:spPr>
          <a:xfrm>
            <a:off x="487692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нестабильного комплекса фермент -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1"/>
          <p:cNvSpPr/>
          <p:nvPr/>
        </p:nvSpPr>
        <p:spPr>
          <a:xfrm>
            <a:off x="487692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ад комплекса с высвобождением продуктов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2"/>
          <p:cNvGrpSpPr/>
          <p:nvPr/>
        </p:nvGrpSpPr>
        <p:grpSpPr>
          <a:xfrm>
            <a:off x="3809880" y="685800"/>
            <a:ext cx="838080" cy="762120"/>
            <a:chOff x="3809880" y="685800"/>
            <a:chExt cx="838080" cy="762120"/>
          </a:xfrm>
        </p:grpSpPr>
        <p:sp>
          <p:nvSpPr>
            <p:cNvPr id="175" name="Oval 63"/>
            <p:cNvSpPr/>
            <p:nvPr/>
          </p:nvSpPr>
          <p:spPr>
            <a:xfrm>
              <a:off x="3809880" y="685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4038480" y="838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5"/>
          <p:cNvGrpSpPr/>
          <p:nvPr/>
        </p:nvGrpSpPr>
        <p:grpSpPr>
          <a:xfrm>
            <a:off x="3809880" y="2286000"/>
            <a:ext cx="838080" cy="762120"/>
            <a:chOff x="3809880" y="2286000"/>
            <a:chExt cx="838080" cy="762120"/>
          </a:xfrm>
        </p:grpSpPr>
        <p:sp>
          <p:nvSpPr>
            <p:cNvPr id="178" name="Oval 66"/>
            <p:cNvSpPr/>
            <p:nvPr/>
          </p:nvSpPr>
          <p:spPr>
            <a:xfrm>
              <a:off x="3809880" y="2286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038480" y="24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8"/>
          <p:cNvGrpSpPr/>
          <p:nvPr/>
        </p:nvGrpSpPr>
        <p:grpSpPr>
          <a:xfrm>
            <a:off x="3809880" y="4114800"/>
            <a:ext cx="838080" cy="762120"/>
            <a:chOff x="3809880" y="4114800"/>
            <a:chExt cx="838080" cy="762120"/>
          </a:xfrm>
        </p:grpSpPr>
        <p:sp>
          <p:nvSpPr>
            <p:cNvPr id="181" name="Oval 69"/>
            <p:cNvSpPr/>
            <p:nvPr/>
          </p:nvSpPr>
          <p:spPr>
            <a:xfrm>
              <a:off x="3809880" y="4114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0"/>
            <p:cNvSpPr/>
            <p:nvPr/>
          </p:nvSpPr>
          <p:spPr>
            <a:xfrm>
              <a:off x="4038480" y="4267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1"/>
          <p:cNvGrpSpPr/>
          <p:nvPr/>
        </p:nvGrpSpPr>
        <p:grpSpPr>
          <a:xfrm>
            <a:off x="3809880" y="5715000"/>
            <a:ext cx="838080" cy="762120"/>
            <a:chOff x="3809880" y="5715000"/>
            <a:chExt cx="838080" cy="762120"/>
          </a:xfrm>
        </p:grpSpPr>
        <p:sp>
          <p:nvSpPr>
            <p:cNvPr id="184" name="Oval 72"/>
            <p:cNvSpPr/>
            <p:nvPr/>
          </p:nvSpPr>
          <p:spPr>
            <a:xfrm>
              <a:off x="3809880" y="5715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3"/>
            <p:cNvSpPr/>
            <p:nvPr/>
          </p:nvSpPr>
          <p:spPr>
            <a:xfrm>
              <a:off x="4038480" y="5867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ферментов, отличие ферментов от биологических катализат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50920" y="170028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50920" y="32788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rcRect l="3180" t="3339" r="3119" b="2756"/>
          <a:stretch/>
        </p:blipFill>
        <p:spPr>
          <a:xfrm rot="21540000">
            <a:off x="1906200" y="1698120"/>
            <a:ext cx="468324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258920" y="6021360"/>
          <a:ext cx="6481800" cy="6048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скорости реакции от концентрации фермен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rcRect l="3695" t="9417" r="48418" b="5008"/>
          <a:stretch/>
        </p:blipFill>
        <p:spPr>
          <a:xfrm>
            <a:off x="2050920" y="1698480"/>
            <a:ext cx="4819680" cy="403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2"/>
          <p:cNvSpPr/>
          <p:nvPr/>
        </p:nvSpPr>
        <p:spPr>
          <a:xfrm>
            <a:off x="1127880" y="580464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концентрации субст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 flipV="1" rot="10800000">
            <a:off x="682560" y="1847520"/>
            <a:ext cx="806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9640" y="1563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280" y="3498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38040" y="5869800"/>
            <a:ext cx="66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рН (А) и температуры (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rcRect l="2833" t="4230" r="4250" b="1861"/>
          <a:stretch/>
        </p:blipFill>
        <p:spPr>
          <a:xfrm>
            <a:off x="361800" y="1849320"/>
            <a:ext cx="8240760" cy="36673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39640" y="1989360"/>
            <a:ext cx="81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6228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773360"/>
            <a:ext cx="861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11280" y="1844640"/>
            <a:ext cx="819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1280" y="1614240"/>
            <a:ext cx="8094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9720360" y="2878200"/>
            <a:ext cx="0" cy="288720"/>
          </a:xfrm>
          <a:prstGeom prst="line">
            <a:avLst/>
          </a:prstGeom>
          <a:ln w="4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84360" y="1579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24000" y="2199240"/>
            <a:ext cx="849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5640" y="1125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 химия  - это  наука  о молекулярных  основах  жизни,  которая  изучает  химический состав и химические  процессы,  лежащие  в основе 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4360" y="178776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9640" y="1623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95280" y="1986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684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9640" y="184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ки являются основными биополимерами клеток, за счет которых осуществляются практически все функци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2781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1782720"/>
            <a:ext cx="7964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04720" y="1581480"/>
            <a:ext cx="863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50:01Z</dcterms:created>
  <dc:creator>KozochkinDA</dc:creator>
  <dc:description/>
  <dc:language>en-US</dc:language>
  <cp:lastModifiedBy>LEGION</cp:lastModifiedBy>
  <dcterms:modified xsi:type="dcterms:W3CDTF">2015-05-01T12:04:22Z</dcterms:modified>
  <cp:revision>11</cp:revision>
  <dc:subject/>
  <dc:title>Вводная лекция</dc:title>
</cp:coreProperties>
</file>