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6.gif" ContentType="image/gif"/>
  <Override PartName="/ppt/media/image8.wmf" ContentType="image/x-wmf"/>
  <Override PartName="/ppt/media/image17.gif" ContentType="image/gif"/>
  <Override PartName="/ppt/media/image1.gif" ContentType="image/gif"/>
  <Override PartName="/ppt/media/image2.gif" ContentType="image/gif"/>
  <Override PartName="/ppt/media/image10.wmf" ContentType="image/x-wmf"/>
  <Override PartName="/ppt/media/image11.png" ContentType="image/png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png" ContentType="image/png"/>
  <Override PartName="/ppt/media/image7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D61C-6DBF-40BB-85C8-3830931EE8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 </a:t>
            </a:r>
            <a:br>
              <a:rPr sz="1200"/>
            </a:b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г</a:t>
            </a:r>
            <a:r>
              <a:rPr b="0" i="1" lang="ru-RU" sz="12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нетическая связь</a:t>
            </a:r>
            <a:r>
              <a:rPr b="0" lang="ru-RU" sz="1200" spc="-1" strike="noStrike">
                <a:solidFill>
                  <a:srgbClr val="83bcc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классами органических 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ы опытно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кспериментальной работы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темова О.Г., Стесякова М.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78C8-1E87-4D96-B820-2F250493FE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6820-F4DF-49F6-8F54-18C9724AB2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262C-7F2B-45F6-BD27-DCBD183F4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D884-9749-46EB-82D2-3B9EDE91EB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ы - связи между классам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6FD2-FA7D-4654-9E6A-F48C6672E5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 предложенных веществ составьте как минимум 2 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их ряд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7538-C81E-4975-8694-C1C32BC8BB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7C22-3A85-416B-8BA8-C5F5A01BD4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12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FC5F-7097-40D1-A189-266B3296F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, используя условия ре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9F1-1A3F-4D5F-B2A1-8B9B841E85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 по следующей схем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DBF1-B86C-4838-9382-0F8A90D27F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8DFA-8130-47EB-92B5-ED48C23D2D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046E-10D7-41ED-872F-554F659062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AF60-00C3-45AC-9400-8EA4CFA195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лись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и особенности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ли диагностику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и схемы-связ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ами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9EFD-E5D1-4FCB-A903-830F193C8E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арев Б. Н. Любознательным об органической химии.— М.: Химия,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химии для поступающих в вузы./ Хомченко Г.П. Новая волн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ткрытые уроки хим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бнева Е.П., Скачков А.В. «Феникс» Ростов-на-Дону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, справочные материалы, под ред. Третьякова Ю.Д., М., Просвещение, 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дин А.М., Сучков В.Н., Коростелин Ю.А.,  «Химия для вас» - М. 198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6020-CF89-4CE6-B326-F4440DAAD4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7521-B57C-4BF9-9CB2-8701EABA34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66A-BB75-4482-B0D4-7F29AAE3D9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тиворечия между необходимостью использования понятия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ем полученных знан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стью разработки методического обеспеч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системы в формировании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методических рекомендаций по особенностям освоения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0301-A173-4EC7-A25A-4A06451C76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пределиться с особенностями освоения учащимися понятия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9404-A553-4CBF-9A8D-FC9BAD6DE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собенностей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B0E8-D681-4364-B681-55D532C9AD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ться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собенности освоени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диагностику учащихся 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схемы-связи между классами для освоения понятия 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0542-68F6-4590-A67C-794D39FABF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е осв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хем – связей в процессе изучения классов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ноуровне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возможностей Ц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формы взаимодействия учащихся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275F-B495-474B-97C6-F4212D9374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09B5-E8BF-449C-9BC8-5DB34BB39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9AC-2E2D-4DDF-A157-F4C46CBB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C6E-6F08-444D-82AB-FAE885A0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A10-5DCF-4978-BB4F-CC1F081E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FFE-89F3-4302-A494-06278666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2694-8BAE-4C5E-BFDE-4BCDE7AD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DD78-2D39-4EA7-A54D-CF8638C3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ED71-9431-4C87-ABD5-CE27D240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D787-6D64-4BE8-9D5C-C70161D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F12E-BD9A-4227-90FA-D8C6B143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E31D-AB0D-4F06-8BA5-377B2646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A707-6D53-4061-92B0-A6392C13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2E1-503D-4C2B-99A6-F42A7917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FC53-D69A-4534-A84F-14A26AFA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D7BE-9468-44D4-AD53-946D2825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3A71-B824-421F-8CDF-2C9BB73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617A-03F1-4522-A584-5C2F41B1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42EC-2FF9-4D0F-8581-28AA778D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CF2F3-A350-4251-9980-422DBF45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EEFD8-7F03-46C8-A90A-5EFF9336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C627D-A3C8-42EB-8195-2DED0282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2E751-D2E2-4140-AEFB-B51DB7D5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92F8A-7F60-4EA7-B60E-39C7EC95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F54-FBDE-4E86-B035-D103352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2FD0D-F0C0-4BDD-A184-4B936B52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F050F-4338-487D-982C-09BEF92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2F7D5-07CE-4AA2-82BA-B53F3EB1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AE108-6EF9-4A1C-91D6-1D345F60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B792D-A86A-4D57-B1CB-4F081564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8EE21-D540-470A-B0C2-95C3649F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19D6A-F207-4F64-ABD4-1A87BFB9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D239-3539-4FB3-B3A5-15B50A45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5F6C-8C71-41A1-98BC-7EDBDC66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1CE1-12F5-43BE-B7E0-E2947284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A74-2CC7-48E1-A11C-2B315340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C21C-F481-49C7-BFEF-D697298A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1718-8DC5-44E0-8B58-0FA7FB83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BEF2-A87D-4E37-A1B1-AD46F085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DDB9-4915-4400-BCE1-600822D6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DC11-1FEB-44AC-AC30-E075A77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BFBD8-C691-42BE-A00E-7C9205C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DE3E-C18F-493D-9930-F2A5003E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969A-4FAA-4B95-A5FA-33D20874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1B28-08A1-4319-BDBB-5866E840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B2250-4071-4BF5-893D-9C425774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B76-EFCD-49FE-BC9D-8B3A610B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073E4-7DD7-45A6-9210-A6A49A06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FD2BD-638F-4C0F-8ABA-0EFA5647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00C6C-30D0-44EF-BC1E-651F49C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3D7C9-02DF-4392-83A6-DA1E08C7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7956D-3520-48C6-AEBA-EEFEB5D8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D727E-833A-463D-8017-2ECB45BF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4CE49-1744-4B75-B15D-478FF77F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781CC-2DE2-44FD-BDC6-4DA8BB0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91AF5-2F81-4FDB-9249-1B05EA1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DB82D-6F0C-4C6C-80A7-58BDA7F1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1F4-D7FC-48B9-ADE3-C7980808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DF5C7-BCA2-4A2C-B467-DD3FEF52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4AB2C-EE2D-4CEC-AC08-DC2DB0C3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C3DEA-8013-47CE-AFDA-6395269E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9B51D-1EBD-4562-8391-2AD392E1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6A83B-AAAD-4203-8A7E-D5ADBDA4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2AF4C-5A50-4546-8C7A-304A0151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B380D-6EBB-49A3-841E-1DF87429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1194D-E25E-4800-944E-34F4EA93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B6C7C-96FC-433D-8586-6FBA9F2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F6D67-1DAD-4609-BFEB-FA6D958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216-3F5C-4373-BF1A-C60408F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4F033-9743-4084-A72D-379276DA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CEDD6-9396-4424-B6EE-7ECA9544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C34015-BD36-408F-A6A8-B6B78283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8C3-D8F5-4E6D-86EF-9A2AB920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5E2-1E64-4FC8-BE76-9955B53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68BD-4133-447F-B117-BAD940F4762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0D4-075F-41F7-B258-2B4C3530CFE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E528-C5F2-458B-A950-F10A13CDCC0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730-94F8-4750-8F0B-9877453DD43A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5EBB-5E4C-44BB-B696-B84FA27628A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01B4-1D49-496C-BA15-F0B2A0DA220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984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обенности освоения понятия </a:t>
            </a:r>
            <a:br>
              <a:rPr sz="4000"/>
            </a:b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г</a:t>
            </a:r>
            <a:r>
              <a:rPr b="0" i="1" lang="ru-RU" sz="40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нетическая связь</a:t>
            </a:r>
            <a:r>
              <a:rPr b="0" lang="ru-RU" sz="4000" spc="-1" strike="noStrike">
                <a:solidFill>
                  <a:srgbClr val="83bcc1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между классами органических и неорганических вещест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79640" y="441324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вторы опытно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экспериментальной работы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: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ртемова О.Г., Стесякова М.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MM900356765"/>
          <p:cNvPicPr/>
          <p:nvPr/>
        </p:nvPicPr>
        <p:blipFill>
          <a:blip r:embed="rId1"/>
          <a:stretch/>
        </p:blipFill>
        <p:spPr>
          <a:xfrm>
            <a:off x="826920" y="42195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10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ей дегидрирования можно осуществить генетическую связь между классами углеводо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ходиться в одном генетическом ряд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тан, бутадиен, бензо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одной реакцией получить пропан из проп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9"/>
          <p:cNvSpPr/>
          <p:nvPr/>
        </p:nvSpPr>
        <p:spPr>
          <a:xfrm>
            <a:off x="262728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399564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4" name="Object 7"/>
          <p:cNvGraphicFramePr/>
          <p:nvPr/>
        </p:nvGraphicFramePr>
        <p:xfrm>
          <a:off x="779400" y="914400"/>
          <a:ext cx="78375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914400"/>
                    <a:ext cx="78375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446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355680" y="914400"/>
          <a:ext cx="85471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14400"/>
                    <a:ext cx="85471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неорганических вещест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82" name="Group 23"/>
          <p:cNvGrpSpPr/>
          <p:nvPr/>
        </p:nvGrpSpPr>
        <p:grpSpPr>
          <a:xfrm>
            <a:off x="684360" y="1843200"/>
            <a:ext cx="7990920" cy="865080"/>
            <a:chOff x="684360" y="1843200"/>
            <a:chExt cx="7990920" cy="865080"/>
          </a:xfrm>
        </p:grpSpPr>
        <p:sp>
          <p:nvSpPr>
            <p:cNvPr id="383" name="Rectangle 24"/>
            <p:cNvSpPr/>
            <p:nvPr/>
          </p:nvSpPr>
          <p:spPr>
            <a:xfrm>
              <a:off x="68436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немета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5"/>
            <p:cNvSpPr/>
            <p:nvPr/>
          </p:nvSpPr>
          <p:spPr>
            <a:xfrm>
              <a:off x="28198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495540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ДР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70912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226836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40424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6541560" y="2241720"/>
              <a:ext cx="5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"/>
          <p:cNvPicPr/>
          <p:nvPr/>
        </p:nvPicPr>
        <p:blipFill>
          <a:blip r:embed="rId1"/>
          <a:srcRect l="3030" t="14516" r="8234" b="4957"/>
          <a:stretch/>
        </p:blipFill>
        <p:spPr>
          <a:xfrm>
            <a:off x="2771640" y="2925720"/>
            <a:ext cx="3719520" cy="3672000"/>
          </a:xfrm>
          <a:prstGeom prst="rect">
            <a:avLst/>
          </a:prstGeom>
          <a:ln w="0">
            <a:noFill/>
          </a:ln>
        </p:spPr>
      </p:pic>
      <p:sp>
        <p:nvSpPr>
          <p:cNvPr id="39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1"/>
          <p:cNvGrpSpPr/>
          <p:nvPr/>
        </p:nvGrpSpPr>
        <p:grpSpPr>
          <a:xfrm>
            <a:off x="684360" y="1990800"/>
            <a:ext cx="7703640" cy="574560"/>
            <a:chOff x="684360" y="1990800"/>
            <a:chExt cx="7703640" cy="574560"/>
          </a:xfrm>
        </p:grpSpPr>
        <p:sp>
          <p:nvSpPr>
            <p:cNvPr id="393" name="Rectangle 10"/>
            <p:cNvSpPr/>
            <p:nvPr/>
          </p:nvSpPr>
          <p:spPr>
            <a:xfrm>
              <a:off x="68436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274320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480204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686088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Р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221148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427032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6330960" y="22554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2"/>
          <p:cNvSpPr/>
          <p:nvPr/>
        </p:nvSpPr>
        <p:spPr>
          <a:xfrm>
            <a:off x="324000" y="6922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"/>
          <p:cNvPicPr/>
          <p:nvPr/>
        </p:nvPicPr>
        <p:blipFill>
          <a:blip r:embed="rId1"/>
          <a:srcRect l="0" t="3360" r="2614" b="2954"/>
          <a:stretch/>
        </p:blipFill>
        <p:spPr>
          <a:xfrm>
            <a:off x="2050920" y="2924280"/>
            <a:ext cx="5329440" cy="367344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Из предложенных веществ составьте как минимум 2 г</a:t>
            </a:r>
            <a:r>
              <a:rPr b="1" lang="ru-RU" sz="32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етических ряд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79280" y="2062080"/>
            <a:ext cx="8209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Н=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835280" y="4292640"/>
            <a:ext cx="815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OH, 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11600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2" descr="J0076135"/>
          <p:cNvPicPr/>
          <p:nvPr/>
        </p:nvPicPr>
        <p:blipFill>
          <a:blip r:embed="rId1"/>
          <a:stretch/>
        </p:blipFill>
        <p:spPr>
          <a:xfrm>
            <a:off x="539640" y="4581360"/>
            <a:ext cx="2571840" cy="18478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0" name="Group 59"/>
          <p:cNvGrpSpPr/>
          <p:nvPr/>
        </p:nvGrpSpPr>
        <p:grpSpPr>
          <a:xfrm>
            <a:off x="400320" y="2313720"/>
            <a:ext cx="8203680" cy="3636000"/>
            <a:chOff x="400320" y="2313720"/>
            <a:chExt cx="8203680" cy="3636000"/>
          </a:xfrm>
        </p:grpSpPr>
        <p:sp>
          <p:nvSpPr>
            <p:cNvPr id="411" name="Text Box 38"/>
            <p:cNvSpPr/>
            <p:nvPr/>
          </p:nvSpPr>
          <p:spPr>
            <a:xfrm>
              <a:off x="626040" y="2773440"/>
              <a:ext cx="137628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22766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7"/>
            <p:cNvSpPr/>
            <p:nvPr/>
          </p:nvSpPr>
          <p:spPr>
            <a:xfrm>
              <a:off x="39272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577840" y="2760480"/>
              <a:ext cx="137592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722772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26040" y="3754080"/>
              <a:ext cx="1376280" cy="57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6260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626040" y="53730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227664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"/>
            <p:cNvSpPr/>
            <p:nvPr/>
          </p:nvSpPr>
          <p:spPr>
            <a:xfrm>
              <a:off x="22766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22766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3927240" y="3743280"/>
              <a:ext cx="1376280" cy="57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272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9272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(N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77840" y="3738960"/>
              <a:ext cx="137592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22772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5577840" y="4543920"/>
              <a:ext cx="137592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22772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5577840" y="5360400"/>
              <a:ext cx="302616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P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31364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>
              <a:off x="131364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>
              <a:off x="131364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>
              <a:off x="29638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29638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29638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46162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46162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62665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79171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2665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9171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62665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79171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400320" y="2313720"/>
              <a:ext cx="715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1)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2)                              3)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4)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0"/>
          <p:cNvSpPr/>
          <p:nvPr/>
        </p:nvSpPr>
        <p:spPr>
          <a:xfrm>
            <a:off x="1800" y="254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2160" y="323100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dobe Song Std 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2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8"/>
          <p:cNvGrpSpPr/>
          <p:nvPr/>
        </p:nvGrpSpPr>
        <p:grpSpPr>
          <a:xfrm>
            <a:off x="660240" y="2492280"/>
            <a:ext cx="7872480" cy="3335400"/>
            <a:chOff x="660240" y="2492280"/>
            <a:chExt cx="7872480" cy="3335400"/>
          </a:xfrm>
        </p:grpSpPr>
        <p:sp>
          <p:nvSpPr>
            <p:cNvPr id="453" name="Rectangle 20"/>
            <p:cNvSpPr/>
            <p:nvPr/>
          </p:nvSpPr>
          <p:spPr>
            <a:xfrm>
              <a:off x="660240" y="2492280"/>
              <a:ext cx="160992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n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0656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477504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"/>
            <p:cNvSpPr/>
            <p:nvPr/>
          </p:nvSpPr>
          <p:spPr>
            <a:xfrm>
              <a:off x="6923160" y="2492280"/>
              <a:ext cx="16095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5"/>
            <p:cNvGrpSpPr/>
            <p:nvPr/>
          </p:nvGrpSpPr>
          <p:grpSpPr>
            <a:xfrm>
              <a:off x="660240" y="3440160"/>
              <a:ext cx="7872480" cy="2387520"/>
              <a:chOff x="660240" y="3440160"/>
              <a:chExt cx="7872480" cy="2387520"/>
            </a:xfrm>
          </p:grpSpPr>
          <p:sp>
            <p:nvSpPr>
              <p:cNvPr id="458" name="Rectangle 16"/>
              <p:cNvSpPr/>
              <p:nvPr/>
            </p:nvSpPr>
            <p:spPr>
              <a:xfrm>
                <a:off x="660240" y="3440160"/>
                <a:ext cx="160992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5"/>
              <p:cNvSpPr/>
              <p:nvPr/>
            </p:nvSpPr>
            <p:spPr>
              <a:xfrm>
                <a:off x="280656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5"/>
              <p:cNvSpPr/>
              <p:nvPr/>
            </p:nvSpPr>
            <p:spPr>
              <a:xfrm>
                <a:off x="477504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6"/>
              <p:cNvSpPr/>
              <p:nvPr/>
            </p:nvSpPr>
            <p:spPr>
              <a:xfrm>
                <a:off x="6923160" y="3440160"/>
                <a:ext cx="16095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280656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660240" y="4357440"/>
                <a:ext cx="160992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80656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660240" y="5276880"/>
                <a:ext cx="160992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2"/>
              <p:cNvSpPr/>
              <p:nvPr/>
            </p:nvSpPr>
            <p:spPr>
              <a:xfrm>
                <a:off x="6923160" y="4357440"/>
                <a:ext cx="16095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477504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лкадие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477504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"/>
              <p:cNvSpPr/>
              <p:nvPr/>
            </p:nvSpPr>
            <p:spPr>
              <a:xfrm>
                <a:off x="6923160" y="5276880"/>
                <a:ext cx="16095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6"/>
            <p:cNvSpPr/>
            <p:nvPr/>
          </p:nvSpPr>
          <p:spPr>
            <a:xfrm>
              <a:off x="147636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3564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5580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774072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147636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147636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>
              <a:off x="3564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564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>
              <a:off x="5580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5"/>
            <p:cNvSpPr/>
            <p:nvPr/>
          </p:nvSpPr>
          <p:spPr>
            <a:xfrm>
              <a:off x="5580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6"/>
            <p:cNvSpPr/>
            <p:nvPr/>
          </p:nvSpPr>
          <p:spPr>
            <a:xfrm>
              <a:off x="774072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7"/>
            <p:cNvSpPr/>
            <p:nvPr/>
          </p:nvSpPr>
          <p:spPr>
            <a:xfrm>
              <a:off x="7740720" y="4892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, используя условия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1978560" y="2408400"/>
            <a:ext cx="5255280" cy="648720"/>
            <a:chOff x="1978560" y="2408400"/>
            <a:chExt cx="5255280" cy="648720"/>
          </a:xfrm>
        </p:grpSpPr>
        <p:sp>
          <p:nvSpPr>
            <p:cNvPr id="487" name="Rectangle 15"/>
            <p:cNvSpPr/>
            <p:nvPr/>
          </p:nvSpPr>
          <p:spPr>
            <a:xfrm>
              <a:off x="1978560" y="244224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Fe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Object 16"/>
                <p:cNvSpPr txBox="1"/>
                <p:nvPr/>
              </p:nvSpPr>
              <p:spPr>
                <a:xfrm>
                  <a:off x="3113640" y="2514240"/>
                  <a:ext cx="79956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18"/>
            <p:cNvSpPr/>
            <p:nvPr/>
          </p:nvSpPr>
          <p:spPr>
            <a:xfrm>
              <a:off x="4129200" y="2408400"/>
              <a:ext cx="69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9"/>
                <p:cNvSpPr txBox="1"/>
                <p:nvPr/>
              </p:nvSpPr>
              <p:spPr>
                <a:xfrm>
                  <a:off x="5127480" y="2514240"/>
                  <a:ext cx="121572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HC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22"/>
            <p:cNvSpPr/>
            <p:nvPr/>
          </p:nvSpPr>
          <p:spPr>
            <a:xfrm>
              <a:off x="6650640" y="24084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24"/>
          <p:cNvSpPr/>
          <p:nvPr/>
        </p:nvSpPr>
        <p:spPr>
          <a:xfrm>
            <a:off x="125892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-236880" y="4728960"/>
            <a:ext cx="844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бромбутан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2627280" y="5229360"/>
            <a:ext cx="5040360" cy="0"/>
            <a:chOff x="2627280" y="5229360"/>
            <a:chExt cx="5040360" cy="0"/>
          </a:xfrm>
        </p:grpSpPr>
        <p:sp>
          <p:nvSpPr>
            <p:cNvPr id="495" name="Line 26"/>
            <p:cNvSpPr/>
            <p:nvPr/>
          </p:nvSpPr>
          <p:spPr>
            <a:xfrm>
              <a:off x="2627280" y="522936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4643280" y="52293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6011640" y="5229360"/>
              <a:ext cx="165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 по следующей схеме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72360" y="2512440"/>
            <a:ext cx="7304400" cy="751320"/>
            <a:chOff x="972360" y="2512440"/>
            <a:chExt cx="7304400" cy="751320"/>
          </a:xfrm>
        </p:grpSpPr>
        <p:sp>
          <p:nvSpPr>
            <p:cNvPr id="501" name="Rectangle 5"/>
            <p:cNvSpPr/>
            <p:nvPr/>
          </p:nvSpPr>
          <p:spPr>
            <a:xfrm>
              <a:off x="972360" y="2578320"/>
              <a:ext cx="813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ccecff"/>
                  </a:solidFill>
                  <a:latin typeface="Arial"/>
                </a:rPr>
                <a:t>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2982960" y="2544480"/>
              <a:ext cx="69588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99ccff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823640" y="2512440"/>
              <a:ext cx="58320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67afbd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67afbd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931400" y="2938320"/>
              <a:ext cx="9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377388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553500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6744240" y="2615040"/>
              <a:ext cx="153252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CaSO</a:t>
              </a:r>
              <a:r>
                <a:rPr b="1" lang="pt-PT" sz="3200" spc="-1" strike="noStrike" baseline="-25000">
                  <a:solidFill>
                    <a:srgbClr val="33cccc"/>
                  </a:solidFill>
                  <a:latin typeface="Arial"/>
                </a:rPr>
                <a:t>4</a:t>
              </a: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5"/>
          <p:cNvSpPr/>
          <p:nvPr/>
        </p:nvSpPr>
        <p:spPr>
          <a:xfrm>
            <a:off x="118728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08000" y="4583880"/>
            <a:ext cx="9144000" cy="5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Н</a:t>
            </a:r>
            <a:r>
              <a:rPr b="1" lang="ru-RU" sz="26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О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ccff"/>
                </a:solidFill>
                <a:latin typeface="Arial"/>
              </a:rPr>
              <a:t>X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Х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H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I</a:t>
            </a:r>
            <a:r>
              <a:rPr b="1" lang="ru-RU" sz="2600" spc="-1" strike="noStrike">
                <a:solidFill>
                  <a:srgbClr val="67afb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       X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этан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3"/>
          <p:cNvGrpSpPr/>
          <p:nvPr/>
        </p:nvGrpSpPr>
        <p:grpSpPr>
          <a:xfrm>
            <a:off x="2340000" y="4869000"/>
            <a:ext cx="5472000" cy="0"/>
            <a:chOff x="2340000" y="4869000"/>
            <a:chExt cx="5472000" cy="0"/>
          </a:xfrm>
        </p:grpSpPr>
        <p:sp>
          <p:nvSpPr>
            <p:cNvPr id="511" name="Line 17"/>
            <p:cNvSpPr/>
            <p:nvPr/>
          </p:nvSpPr>
          <p:spPr>
            <a:xfrm>
              <a:off x="2340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341964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4572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63738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738036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</a:t>
            </a: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етическая связ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9130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5" name="Picture 6" descr="MM900356744"/>
          <p:cNvPicPr/>
          <p:nvPr/>
        </p:nvPicPr>
        <p:blipFill>
          <a:blip r:embed="rId1"/>
          <a:stretch/>
        </p:blipFill>
        <p:spPr>
          <a:xfrm>
            <a:off x="4052880" y="4005360"/>
            <a:ext cx="1095480" cy="151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MM900356742"/>
          <p:cNvPicPr/>
          <p:nvPr/>
        </p:nvPicPr>
        <p:blipFill>
          <a:blip r:embed="rId2"/>
          <a:stretch/>
        </p:blipFill>
        <p:spPr>
          <a:xfrm>
            <a:off x="6659640" y="429264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MM900356743"/>
          <p:cNvPicPr/>
          <p:nvPr/>
        </p:nvPicPr>
        <p:blipFill>
          <a:blip r:embed="rId3"/>
          <a:stretch/>
        </p:blipFill>
        <p:spPr>
          <a:xfrm>
            <a:off x="1332000" y="4184640"/>
            <a:ext cx="1096920" cy="1332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826920" y="914400"/>
          <a:ext cx="75949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5949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198440" y="981000"/>
          <a:ext cx="711864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81000"/>
                    <a:ext cx="711864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лись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ли особенности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ли диагностику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ли схемы-связи меж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лассами соедин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4" descr="MC900353772"/>
          <p:cNvPicPr/>
          <p:nvPr/>
        </p:nvPicPr>
        <p:blipFill>
          <a:blip r:embed="rId1"/>
          <a:stretch/>
        </p:blipFill>
        <p:spPr>
          <a:xfrm>
            <a:off x="7164360" y="3716280"/>
            <a:ext cx="1792440" cy="29973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арев Б. Н. Любознательным об органической химии.— М.: Химия, 198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обие по химии для поступающих в вузы./ Хомченко Г.П. Новая волна, 200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ые открытые уроки хими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гибнева Е.П., Скачков А.В. «Феникс» Ростов-на-Дону 200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имия, справочные материалы, под ред. Третьякова Ю.Д., М., Просвещение, 198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Юдин А.М., Сучков В.Н., Коростелин Ю.А.,  «Химия для вас» - М. 198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1" name="Picture 4" descr="MM900354499"/>
          <p:cNvPicPr/>
          <p:nvPr/>
        </p:nvPicPr>
        <p:blipFill>
          <a:blip r:embed="rId1"/>
          <a:stretch/>
        </p:blipFill>
        <p:spPr>
          <a:xfrm>
            <a:off x="7507440" y="841320"/>
            <a:ext cx="1312560" cy="10033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1600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68360" y="3860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Актуа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28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Picture 5" descr="MM900254466"/>
          <p:cNvPicPr/>
          <p:nvPr/>
        </p:nvPicPr>
        <p:blipFill>
          <a:blip r:embed="rId1"/>
          <a:stretch/>
        </p:blipFill>
        <p:spPr>
          <a:xfrm>
            <a:off x="5867280" y="4387680"/>
            <a:ext cx="2305080" cy="17053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Противоречия между необходимостью использования понятия </a:t>
            </a:r>
            <a:r>
              <a:rPr b="1" lang="ru-RU" sz="2900" spc="-1" strike="noStrike">
                <a:solidFill>
                  <a:srgbClr val="438086"/>
                </a:solidFill>
                <a:latin typeface="Trebuchet MS"/>
              </a:rPr>
              <a:t>генетическая связь</a:t>
            </a: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 и</a:t>
            </a:r>
            <a:r>
              <a:rPr b="1" lang="en-US" sz="29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711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внем полученных знан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статочностью разработки методического обеспечен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системы в формировании понят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методических рекомендаций по особенностям освоения понят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ипотез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57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определиться с особенностями освоения учащимися понятия     </a:t>
            </a:r>
            <a:r>
              <a:rPr b="1" lang="ru-RU" sz="32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4" descr="MM900205403"/>
          <p:cNvPicPr/>
          <p:nvPr/>
        </p:nvPicPr>
        <p:blipFill>
          <a:blip r:embed="rId1"/>
          <a:stretch/>
        </p:blipFill>
        <p:spPr>
          <a:xfrm>
            <a:off x="6227640" y="765000"/>
            <a:ext cx="1843200" cy="15940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особенностей освоения понятия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2" name="Picture 5" descr="MC900237411"/>
          <p:cNvPicPr/>
          <p:nvPr/>
        </p:nvPicPr>
        <p:blipFill>
          <a:blip r:embed="rId1"/>
          <a:stretch/>
        </p:blipFill>
        <p:spPr>
          <a:xfrm>
            <a:off x="6227640" y="4292640"/>
            <a:ext cx="2438640" cy="2189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ться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особенности освоения понятия </a:t>
            </a:r>
            <a:r>
              <a:rPr b="1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диагностику учащихся 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схемы-связи между классами для освоения понятия 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Picture 5" descr="MC900215584"/>
          <p:cNvPicPr/>
          <p:nvPr/>
        </p:nvPicPr>
        <p:blipFill>
          <a:blip r:embed="rId1"/>
          <a:stretch/>
        </p:blipFill>
        <p:spPr>
          <a:xfrm>
            <a:off x="7885080" y="4005360"/>
            <a:ext cx="1093680" cy="27082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собенности освоения понят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довательное осво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схем – связей в процессе изучения классов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разноуровневых зад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зможностей ЦД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личные формы взаимодействия учащихся на уро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8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й оксид и кислота относятся к одному генетическому ря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получить одной реакцией из оксида фосфора фосфорную кислот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а из одного генетического ряда могут взаимодействовать между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             CaO                 Ca(OH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a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9"/>
          <p:cNvSpPr/>
          <p:nvPr/>
        </p:nvSpPr>
        <p:spPr>
          <a:xfrm>
            <a:off x="291456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0"/>
          <p:cNvSpPr/>
          <p:nvPr/>
        </p:nvSpPr>
        <p:spPr>
          <a:xfrm>
            <a:off x="478800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1:42:18Z</dcterms:created>
  <dc:creator>Student</dc:creator>
  <dc:description/>
  <dc:language>en-US</dc:language>
  <cp:lastModifiedBy>LEGION</cp:lastModifiedBy>
  <dcterms:modified xsi:type="dcterms:W3CDTF">2015-05-01T12:05:06Z</dcterms:modified>
  <cp:revision>41</cp:revision>
  <dc:subject/>
  <dc:title>Особенности освоения понятия генетическая связь между классами органических и неорганических веществ</dc:title>
</cp:coreProperties>
</file>