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C247-1689-4F7D-BA9F-3CCE552BD7A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ПЕКТИВЫ МЕДИЦИНСКОГО ОБРАЗОВАНИЯ В РОССИИ: НОВЫЕ ОБРАЗОВАТЕЛЬНЫЕ СТАНД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роректор, проф.Масуев К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ECAB-4BC4-40E3-AF10-C819B0403BA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КОНЦЕПЦИЯ РАЗВИТИЯ ЗДРАВООХРАНЕНИЯ РФ </a:t>
            </a:r>
            <a:br>
              <a:rPr sz="1200"/>
            </a:b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ДО 202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17C8-A896-499F-9A3C-788CB584A3C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8D25-ED07-45F3-A7C6-A3DF1F1240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670C-5688-4228-BA51-4150B0F7A52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50F0-6D37-4BB5-856A-F2E192FFB42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0545-3895-4D0F-AA37-929F9A6B37F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2449-85B5-48C2-8948-0A9E32F1847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B88B-E630-4552-BFEC-75AA0173C8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ВРАЧЕБ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AD59-3589-4C08-8472-A935E72539C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8CE8-653D-4A98-A082-E9FCD488E4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CF91-0ED5-409B-9C2A-97F127B08C7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D219-5B60-4D22-B6F9-052A3FB6912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B47A-D99E-4142-9C0B-908631A31A0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F91F-66E7-4FA0-B105-10CE701F24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ЭТО ПРОИСХОДИТ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52EB-E0BD-4530-B5C8-C56F441402A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8FDD-7A5C-4F2C-9DFE-CA3A9FC9503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042B-78DF-46ED-B7A2-9AF4F5D6CF8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ми причинами врачебных ошибок по результатам независимых экспертиз являются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хо собранный анамнез – в 23% случа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клиническом обследовании (осмотр, пальпация, аускультация) - 2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ечебно-профилактических мероприятиях - 19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абораторно-инструментальном обследовании - 1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форме ведения приема - 11,2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 в экспертизе трудоспособности - 7,2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9BA1-B329-4BD4-8831-58D9F75CA51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ознакомление с информаци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выполнение обучающих задан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9B2F-CFCC-4187-A3E1-645B53C076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Новые ФГОСы основную задачу обучения определяют как «овладение компетенция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55BB-8DDE-4F6C-B9E8-A071A41A138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1200" spc="-1" strike="noStrike">
                <a:solidFill>
                  <a:srgbClr val="f0f93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6B98-EC4A-4DEA-92C3-84AD9D2028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758A-EAED-42D1-B03E-41E28EB80C3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F05A-A44D-4A33-A859-6FAA27475CA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2DC9-CAD0-421E-8B46-1979454A099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A547-3672-4A55-8037-E987ADE9C3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45D9-F632-4056-BC8E-E1AF2F08872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582F-8E84-480B-A908-5C26A91D7E0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D896-21B6-4F2C-8A2F-039865090E5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EDF3-D318-4C73-91CC-9EC1BC62CF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084D-BDEF-4469-B792-2951651A920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больного научить врачебным умениям студента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B518-1C71-4233-ADE9-C6E1882D0E0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ятие «Положения о клинической больнице» в 2020 г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5DE1-996F-4067-BFAE-B66703F028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РФ N 323-ФЗ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21 ноября 2011 г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Об основах охраны здоровья граждан в Российской Федер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77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подготовки медицинских работников и фармацевт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3D50-6530-402D-AA6B-04915016DD9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ED48-33A6-4A8F-B4DC-2CEE71649A8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1200" spc="-1" strike="noStrike">
                <a:solidFill>
                  <a:srgbClr val="f0f93d"/>
                </a:solidFill>
                <a:latin typeface="Calibri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C92E-4401-460D-B2B0-4E02F644111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1200" spc="-1" strike="noStrike">
                <a:solidFill>
                  <a:srgbClr val="f0f93d"/>
                </a:solidFill>
                <a:latin typeface="Calibri"/>
              </a:rPr>
              <a:t>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B0A8-09BD-4F97-89AF-CC0224B27F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A3C4-9153-46D8-B651-D207474EBAD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D29-F5AE-48CF-B7E7-D8F802DA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533-A324-480C-8184-D863E67F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1FE-8030-46AF-AAD8-A85D6257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E4F-159B-43D9-BEEA-E0FDB2B8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8812-A067-43D7-B3EC-8979257A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1C32-81E5-48F8-BD93-AF8C32BC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5F12-3CAB-40DA-9974-D24498E9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A288-DCFB-42A9-81F7-6146143E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967C-F986-4B08-8E2F-D6C3D6D7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B86D-BEAF-492E-8BD2-A8B7A378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71BC-F863-4DCA-A8DE-0B2A60C0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227-D633-4251-B0D4-B203ADC8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74B8-EE30-4D31-BCC7-114DFF27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E9DE-1AF2-4924-82B7-A3738070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9F73-50B3-4A05-B32B-525D0710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3987-BFF0-4E01-B3CE-68617DB6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F882-C410-4121-8B5A-E6C2281F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44FC5-DE91-4717-9146-82E59F2B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69E4-8378-4B42-8F5D-AD42B067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54A7-50D4-4D1A-A380-D0ECC6FF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252C-A7E7-4386-AFDB-54E216F9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0C1EC-5548-43B3-ACF9-07A1A3E0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D92-8BFA-408D-AB94-5BFD1CE2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BC9B-D3AF-4D81-8033-DA753AA9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ACFD6-C32B-4877-A229-C3A76776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40BEA-618B-4201-99DC-28ED602A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5989B-0647-4E15-939B-32C49D4F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1259-5D2E-4B8C-B13D-9FB33DE1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8EC01-C0C5-418B-84C3-CD319C26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1128-0AF8-4D0A-82E2-E7E05BD2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21F2-18C1-4CEC-BB4F-E8518A26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ACE4C-59B7-4278-92E5-033E3244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61C3A-0A9C-4977-9D35-3208521F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87A-10FD-4521-8FC4-F0E3A9E0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D089A-91DF-45C3-812B-AB366315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61F83-7407-49E6-94C4-44BDCE79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759CE-1E3D-4E28-861B-1EAF4A5D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E45D-F0B6-44AB-94AF-83083EC4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144FC-8E90-460E-84ED-8A69F130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567B-55F8-4F4C-A3C7-6BA8B274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12943-BBD3-488F-9CA1-6A1DDEDA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83E6C-2827-4662-AEFB-338D3B6B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AEB63-C771-4D05-88E4-2E2E8FF5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B22-E709-4C8A-9202-4A950351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7B0-E1EB-47AF-B2D2-64280587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3EC-EEB4-441C-9E19-1DC4EC5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8FF-6B94-427F-8CEC-AF3B349E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B7B-5581-45BA-84B0-0BD881A5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9486-E989-4AB9-ABE7-4A2E47441EB4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BEC6-E912-482E-8C37-2518C9A4368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3038-987B-45A8-8AC0-5917036EF616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C33B-CAA7-470D-884C-649CFD1E759A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D72C-EE70-4C6F-B213-1F2B970B2D28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3682-8150-430C-ACE4-BAC45AE7C56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6D02-AA94-48B1-9301-5986770CE355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9C8D-0B4B-45E5-A19E-B6139B9CEB08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474040" cy="4638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03280" y="536868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Проректор, проф.Масуев К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5520" y="285732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КОНЦЕПЦИЯ РАЗВИТИЯ ЗДРАВООХРАНЕНИЯ РФ </a:t>
            </a:r>
            <a:br>
              <a:rPr sz="4400"/>
            </a:b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ДО 2020 ГОД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571800" y="6214680"/>
            <a:ext cx="17146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6715080" y="607212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Прямая соединительная линия 9"/>
          <p:cNvSpPr/>
          <p:nvPr/>
        </p:nvSpPr>
        <p:spPr>
          <a:xfrm>
            <a:off x="631800" y="2565360"/>
            <a:ext cx="0" cy="2879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8501040" y="3714840"/>
            <a:ext cx="64296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8"/>
          <p:cNvGraphicFramePr/>
          <p:nvPr/>
        </p:nvGraphicFramePr>
        <p:xfrm>
          <a:off x="0" y="500040"/>
          <a:ext cx="8786880" cy="603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0040"/>
                    <a:ext cx="87868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3"/>
          <p:cNvSpPr/>
          <p:nvPr/>
        </p:nvSpPr>
        <p:spPr>
          <a:xfrm>
            <a:off x="8501040" y="4643280"/>
            <a:ext cx="642960" cy="57168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9"/>
          <p:cNvGraphicFramePr/>
          <p:nvPr/>
        </p:nvGraphicFramePr>
        <p:xfrm>
          <a:off x="182520" y="0"/>
          <a:ext cx="8961480" cy="638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0"/>
                    <a:ext cx="89614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9"/>
          <p:cNvGraphicFramePr/>
          <p:nvPr/>
        </p:nvGraphicFramePr>
        <p:xfrm>
          <a:off x="66600" y="189000"/>
          <a:ext cx="9026640" cy="58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89000"/>
                    <a:ext cx="90266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571680" y="50004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едеральные государственные образовательные стандарты (ФГОС) представляют собой совокупность требований, обязательных при реализации основных образовательных программ общего и высшего профессионального образования образовательными учреждениями, имеющими государственную аккредит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357120" y="1225440"/>
            <a:ext cx="8421840" cy="527544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ТРЕБОВАНИЯ К РЕЗУЛЬТАТАМ ОСВОЕНИЯ ООП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14200" y="2285640"/>
            <a:ext cx="8786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ОБЩЕКУЛЬТУРНЫЕ КОМПЕТЕН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29600" cy="2846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285840" y="4714920"/>
            <a:ext cx="8410320" cy="1595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ПРОФЕССИОНАЛЬ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8512200" cy="37180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"/>
          <p:cNvSpPr/>
          <p:nvPr/>
        </p:nvSpPr>
        <p:spPr>
          <a:xfrm>
            <a:off x="0" y="2000160"/>
            <a:ext cx="9144000" cy="428796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429680" y="6357600"/>
            <a:ext cx="1714320" cy="428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Helios"/>
              </a:rPr>
              <a:t>РОССИЯ 2011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Прямая соединительная линия 9"/>
          <p:cNvSpPr/>
          <p:nvPr/>
        </p:nvSpPr>
        <p:spPr>
          <a:xfrm flipH="1">
            <a:off x="684360" y="2565360"/>
            <a:ext cx="1440" cy="3225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0" y="2000160"/>
            <a:ext cx="9144000" cy="28728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Рисунок 10" descr="logo.jpg"/>
          <p:cNvPicPr/>
          <p:nvPr/>
        </p:nvPicPr>
        <p:blipFill>
          <a:blip r:embed="rId1"/>
          <a:stretch/>
        </p:blipFill>
        <p:spPr>
          <a:xfrm>
            <a:off x="185760" y="189000"/>
            <a:ext cx="2154240" cy="971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838080" y="3098160"/>
            <a:ext cx="812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БЩЕВРАЧЕБ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2560" y="1714680"/>
            <a:ext cx="9001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7858080" cy="1523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428760" y="2071800"/>
            <a:ext cx="7929360" cy="2071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3"/>
          <a:stretch/>
        </p:blipFill>
        <p:spPr>
          <a:xfrm>
            <a:off x="357120" y="4572000"/>
            <a:ext cx="8005680" cy="160488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2428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8794800" cy="4025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1332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79280" y="2773440"/>
            <a:ext cx="8964720" cy="28162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2793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500040" y="142920"/>
            <a:ext cx="8358120" cy="1343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500040" y="4929120"/>
            <a:ext cx="8434440" cy="124308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85840" y="1196640"/>
            <a:ext cx="885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92880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3240" y="189000"/>
          <a:ext cx="9061560" cy="60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890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3" name="Object 3"/>
          <p:cNvGraphicFramePr/>
          <p:nvPr/>
        </p:nvGraphicFramePr>
        <p:xfrm>
          <a:off x="0" y="214200"/>
          <a:ext cx="9061560" cy="604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142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278136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ЧЕМУ ЭТО ПРОИСХОДИТ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00" y="85716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12760" y="-133200"/>
            <a:ext cx="8718480" cy="1985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500040" y="1856880"/>
            <a:ext cx="8429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охо собранный анамнез – в 23% случае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клиническом обследовании (осмотр, пальпация, аускультация) - 20,3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ечебно-профилактических мероприятиях - 19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абораторно-инструментальном обследовании - 14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форме ведения приема - 11,2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шибки в экспертизе трудоспособности - 7,2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0920" y="1341000"/>
            <a:ext cx="86788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ознакомление с информацие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выполнение обучающих задани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876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Новые ФГОСы основную задачу обучения определяют как «овладение компетенция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3200" spc="-1" strike="noStrike">
                <a:solidFill>
                  <a:srgbClr val="f0f9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3040" y="260280"/>
          <a:ext cx="8832960" cy="58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60280"/>
                    <a:ext cx="883296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00040" y="4996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260280"/>
            <a:ext cx="8964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836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95280" y="83628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85480" y="150012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000" y="1052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6760" y="713880"/>
            <a:ext cx="854388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з больного научить врачебным умениям студента не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4200" y="1599840"/>
            <a:ext cx="8786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ятие «Положения о клинической больнице» в 2020 го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Федеральный закон РФ N 323-ФЗ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т 21 ноября 2011 г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"Об основах охраны здоровья граждан в Российской Федерации"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тья 77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подготовки медицинских работников и фармацевтических работ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54936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9997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2200" spc="-1" strike="noStrike">
                <a:solidFill>
                  <a:srgbClr val="f0f93d"/>
                </a:solidFill>
                <a:latin typeface="Tahoma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3200" spc="-1" strike="noStrike">
                <a:solidFill>
                  <a:srgbClr val="f0f93d"/>
                </a:solidFill>
                <a:latin typeface="Tahoma"/>
              </a:rPr>
              <a:t>безвозмездной осн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000080"/>
            <a:ext cx="8472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6:49:56Z</dcterms:created>
  <dc:creator>Администратор</dc:creator>
  <dc:description/>
  <dc:language>en-US</dc:language>
  <cp:lastModifiedBy>RomaK</cp:lastModifiedBy>
  <dcterms:modified xsi:type="dcterms:W3CDTF">2014-10-31T13:53:47Z</dcterms:modified>
  <cp:revision>88</cp:revision>
  <dc:subject/>
  <dc:title>РАЗВИТИЕ МЕДИЦИНСКОГО ОБРАЗОВАНИЯ В РОССИИ: НОВЫЕ ОБРАЗОВАТЕЛЬНЫЕ СТАНДАРТЫ.</dc:title>
</cp:coreProperties>
</file>