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602C-AF37-4374-9336-A26C574A2A7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ПЕКТИВЫ МЕДИЦИНСКОГО ОБРАЗОВАНИЯ В РОССИИ: НОВЫЕ ОБРАЗОВАТЕЛЬНЫЕ СТАНДА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Проректор, проф.Масуев К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9068-B40E-4DFC-9AF0-0DDE7C39013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Helios"/>
              </a:rPr>
              <a:t>КОНЦЕПЦИЯ РАЗВИТИЯ ЗДРАВООХРАНЕНИЯ РФ </a:t>
            </a:r>
            <a:br>
              <a:rPr sz="1200"/>
            </a:br>
            <a:r>
              <a:rPr b="1" lang="ru-RU" sz="1200" spc="-1" strike="noStrike">
                <a:solidFill>
                  <a:srgbClr val="fac090"/>
                </a:solidFill>
                <a:latin typeface="Helios"/>
              </a:rPr>
              <a:t>ДО 2020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Helios"/>
              </a:rPr>
              <a:t>РОССИЯ 200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FDB7-83A7-4403-BA76-88B50E90ED3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1AFE-8D1B-455D-8A6D-041B4A922E8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ЕБОВАНИЯ К РЕЗУЛЬТАТАМ ОСВОЕНИЯ ОО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УСКНИК ДОЛЖЕН ОБЛАДАТЬ ОБЩЕКУЛЬТУРНЫМИ И ПРОФЕССИОНАЛЬНЫМИ КОМПЕТЕНЦИЯМИ (НАВЫК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9A84-3F9D-4C05-8958-3B7254D96EE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КУЛЬТУР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B6AA-BEB8-434B-B9F0-175CF6652D3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27F0-1D31-4F83-9C6C-DD89F178F09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FC65-49CB-4B25-A7EC-EDA74A4FCD3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4909-A6F9-4BDE-BBE6-E31DCBD7BAD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3fa3c"/>
                </a:solidFill>
                <a:latin typeface="Calibri"/>
              </a:rPr>
              <a:t>Федеральный закон от 21 ноября 2011 г. № 323-ФЗ «Об основах охраны здоровья граждан в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ВРАЧЕБ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УЧНО-ИССЛЕДОВАТЕЛЬСКОЙ ДЕЯТЕЛЬНОСТИ:                                                   - СПОСОБНОСТЬЮ И ГОТОВНОСТЬЮ ИЗУЧАТЬ НАУЧНО-МЕДИЦИНСКУЮ ИНФОРМАЦИЮ, ОТЕЧЕСТВЕННЫЙ И ЗАРУБЕЖНЫЙ ОПЫТ ПО ТЕМАТИКЕ ИССЛЕДОВАНИЯ (ПК 3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СПОСОБНОСТЬЮ И ГОТОВНОСТЬЮ К ОСВОЕНИЮ СОВРЕМЕННЫХ МЕТОДОВ ИССЛЕДОВАНИЯ С ЦЕЛЬЮ ПРАКТИЧЕСКОГО ИХ ВНЕДРЕНИЯ (ПК 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D022-29B5-4237-90DD-3127D06FA50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ятельность будущего профессионала должна быть в основе всех преобразований в системе образования и явится фактором для ликвидации проблемы недостаточной практической подготовки выпускников вуз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EE39-9A56-45EC-A0F0-07E4C789EC8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натура, введенная в 1969 г., способствовала повышению уровня практической подготовки врачей. Непосредственное руководство по принципу наставничества осуществляли заведующие отделениями и имеющие большой стаж и высокую профессиональную квалификацию ведущие специалист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D279-44BC-4544-8940-FF51828E6B6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F953-7555-4D89-AAF7-96C45AF7BA7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сравнение качества практической профессиональной подготовки врачей в России и развитых странах Западной Европы, Северной Америки и Азии, по мнению зарубежных и отечественных экспертов, далеко не в пользу врачей Росс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8D41-ABF4-4D2F-8BD1-B8AD8F6E67D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инство зарубежных специалистов отмечают более высокую и качественную теоретическую подготовку российских студентов в процессе их обучения в медицинских вузах по сравнению со студентами зарубежных стран, в т.ч. и лидеров в области высшего образования, которыми признаны США и Япо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3A2A-DD40-4690-BFA9-5172B4DF9EC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ЭТО ПРОИСХОДИТ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76C3-794E-46D6-8E44-4CEEB3287DA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ческая подготовка учащихся не соответствует требованиям подготовки современного специалиста  и    безопасности допуска их  к осуществлению медицинской помощи пациент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775C-8800-4F27-8255-D65A2BE14BC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ле получения диплома и сертификата специалиста, выпускник, имея тот же самый недостаточный уровень профессиональной подготовки, теперь допускается к помощи пациентам, наверстывая в процессе ее осуществления свою практическую подготовку. Причем это обучение происходит методом проб и ошибок в условиях дефицита времени, отпускаемого на прием каждого паци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юда рост раздражения и грубости, за масками которых скрывается незнание очевидных, простых профессиональных приё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2C4D-56E9-4CDE-AA79-AC31C6220BE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ми причинами врачебных ошибок по результатам независимых экспертиз являются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хо собранный анамнез – в 23% случа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клиническом обследовании (осмотр, пальпация, аускультация) - 20,3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лечебно-профилактических мероприятиях - 19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лабораторно-инструментальном обследовании - 14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форме ведения приема - 11,2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шибки в экспертизе трудоспособности - 7,2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1092-0F8B-4C6D-85D0-5C864BBB085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методы обучения (чтение лекций, просмотр видеофильмов, наблюдение за работой специалистов, изучение нагляд-ных пособий и препаратов, проведение учебного исследования, решение ситуационных задач, участие в конференции, семинаре, учебная игра и т.д.), можно свести к двум принципиально разным методам обуч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«ознакомление с информаци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«выполнение обучающих задан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DE1C-B7E7-480F-9613-E73D65F3446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Новые ФГОСы основную задачу обучения определяют как «овладение компетенциям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Если в целях обучения стоит задача усилить практическую подготовку, то это означает, что метод обучения «выполнения обучающих заданий» должен преобладать над методом «ознакомления с информацие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C5CC-F3EF-4241-B262-8C5DD4A78AB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Формирование практических умений и навыков может осуществляться только с применением деятельностного подхода в обуч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Суть методик деятельностного подхода в том, чтобы учить деятельности, действиям, а не знаниям и умениям их применять</a:t>
            </a:r>
            <a:r>
              <a:rPr b="0" lang="ru-RU" sz="1200" spc="-1" strike="noStrike">
                <a:solidFill>
                  <a:srgbClr val="f0f93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E963-BF41-49F8-8CBF-660FFF063DC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обучении нужно создавать условия для выполнения обучающимся действия неоднократно, под контролем правильности его выполнения, до полного овладения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8D74-B632-4F57-9CDD-0B42711961E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ое состоит в том, что для значительного повышения качества практической подготовки студентов и собственно обучения их врачебному искусству, требуется наличие у медицинских вузов достаточной клинической ба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обучение у постели больного имеет существенный недостаток: оно может нарушить право пациента на оказание ему качественной медицинской услуг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Приказ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3298-5910-4737-8522-1672F7D8C45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дицинских вузах РФ стали организовываться фантомные центры практической подготовки или отдельные модули фантомного обучения на соответствующих кафед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их обучение практическим врачебным умениям (от инъекции лекарственных препаратов до проведения сердечно-легочной реанимации) проводится на тренажерах, муляжах и фантом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м проектом в Российском образовании стало создание отдельного структурного подразделения - Центра практической подготовки, позволившего использовать междисциплинарный (межкафедрального) подход в обучении как студентов, так и слушателей системы послевузовской подготовки врачей (интернов, ординаторов и п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089C-EDB1-4076-82FB-A32CF9376B0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фантомных центров диктуется также требованиями приказа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, в соответствии с которым «…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 участию в оказании медицинской помощи гражданам допускаются студенты высших и средних медицинских учебных заведений, успешно прошедшие необходимую теоретическую подготовку, имеющие практические навыки, приобретенные на муляжах (фантомах), тренажерах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84D7-BF10-4018-86C5-30AC2058A7E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центрах тренажерного обучения возможно широкое использование такого метода обучения как ролевая иг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евая игра помещает обучающегося в ситуацию, которая включает те же ограничения, мотивацию и принуждение, какие существуют в жизни, но это не становится реальной трагедией, и даёт возможность понять, достаточна ли подготовка, что осталось упущенным в ходе обучения, имеющего строго дисциплинарный подход с регламентированными лекциями и практическими занятиям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8E5A-AEF1-4A77-82EB-7BBED3743EE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ходе ролевой игры студенту необходимо актуализировать имеющиеся у него умения и сведения, не только те, которые он готовил к конкретной теме занятия, а все, что у него имеются, в том числе именно здесь начинают становиться остро востребованными компетенции по таким дисциплинам как психология, биоэтика, правоведение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91FF-F9CF-4ABE-9160-788AC80141B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ыт создания и функционирования Центра для практической подготовки вне клиники, выявил, что такое обучение имеет некоторые ограничения. Прежде всего оно требует больших материальных затрат, т.к. тренажеры стоят дорого из-за технической сло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F972-9B2E-469A-B4DD-214B563FBFE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и функционирование Центра позволяет реализовывать требования Международного стандарта медицинского образования Всемирной Федерации Медицинского Образования (ВФМО), направленные на улучшение качества медицин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C584-2AC6-454B-8552-988827A2604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численные выше преобразования требуют пересмотра действующих учебных планов медицинских вузов, значительных первоначальных капиталовложений для закупки тренажеров, изменений организационных подходов в финансировании учебного процесса и разработку специальных методик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1425-BD1F-4280-ADB2-46F0EACA48B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ко для обеспечения высокого качества практической подготовки только наличия тренажеров не достаточн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 больного научить врачебным умениям студента невозм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ы здравоохранения не озабочены предоставлением клиническим кафедрам условий для качественной подготовки вра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66B7-1C18-4FF1-94D4-DEF9E43D053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в ближайшее время не будут созданы условия для обучения на больном, то через десяток лет преподавание медицины может стать заочны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ятие «Положения о клинической больнице» в 2020 год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9BF1-D483-489F-A466-4DFA111ECDB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РФ N 323-ФЗ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21 ноября 2011 г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Об основах охраны здоровья граждан в Российской Федер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77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подготовки медицинских работников и фармацевтических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24E6-F342-4892-B512-859699CE8B5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актическая подготовка лиц, получающих высшее и послевузовское медицинское или фармацевтическое образование…, обеспечивается путем их участия в осуществлении медицинской деятельности и фармацевтической деятельности в соответствии с образовательными программами и орган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базе структурных подразделений образовательных организаций, осуществляющих медицинскую деятельность (клини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 базе медицинских организаций…, в которых располагаются структурные подразделения образовательных организаций (клинической баз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а базе организаций – аптечных, судебно-экспертных учреждений и иных организаций, осуществляющих деятельность в сфере охраны здоровья, …в которых располагаются структурные подразделения образовательных и науч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621C-C8FC-44C4-87FE-AC2676F35BE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рганизация практической подготовки медицинских работников….., осуществляется на основании договора, заключаемого между образовательной организацией и медицинской организацией….. …….Указанный договор должен содержать положения, определяющие порядок и условия использования имущества сторон договора, необходимого для организации практической подготовки, </a:t>
            </a:r>
            <a:r>
              <a:rPr b="1" i="1" lang="ru-RU" sz="1200" spc="-1" strike="noStrike">
                <a:solidFill>
                  <a:srgbClr val="f0f93d"/>
                </a:solidFill>
                <a:latin typeface="Calibri"/>
              </a:rPr>
              <a:t>участия обучающихся и работников образовательных …организаций в медицинской и фармацевтической деятельности, в том числе порядок их участия в оказании медицинской помощи гражданам, порядок участия работников медицинских организаций…..или иных организаций, осуществляющих деятельность в сфере охраны здоровья, в образовательном проце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C1FF-C5CE-43AD-B8A1-91668A73FA3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ктическая подготовка на базе государственных и муниципальных организаций, осуществляющих деятельность в сфере охраны здоровья, организуется для государственной или муниципальной образовательной ….. организации на </a:t>
            </a:r>
            <a:r>
              <a:rPr b="0" i="1" lang="ru-RU" sz="1200" spc="-1" strike="noStrike">
                <a:solidFill>
                  <a:srgbClr val="f0f93d"/>
                </a:solidFill>
                <a:latin typeface="Calibri"/>
              </a:rPr>
              <a:t>безвозмезд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0196-E32B-44FE-8A2D-601E782BFE9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и оказании медицинской помощи в рамках практической подготовки медицинских работников пациент должен быть проинформирован об участии обучающихся в оказании ему медицинской помощи и вправе отказаться от участия обучающихся в оказании ему медицинской помощи. В этом случае медицинская организация обязана оказать такому пациенту медицинскую помощь без участия обуч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9024-6FB7-4957-B75A-9092717F270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B97-1A9B-4B54-AC28-78379AF1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5E5-9051-4C29-86E0-A7F9A8CE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F55-1AE0-4F91-A907-C51B5E0A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C7E-3B29-44B6-8428-0E166AE8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AF33-BECA-480E-84A8-85CBE1C0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A88B-5C76-4E94-B5B0-6F58053F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7505-85A6-40D0-BAD4-D4AD64EE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3A61-E749-4CFB-937D-2C8A0827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B1A2-28B2-4D3E-B29D-A6D6620E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F4AB-8D1D-4882-8E15-1FF5808A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AC19-75DA-40E5-90EA-6F56009A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6B8F-52E2-41FA-8016-79BD4D85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CC7E-B1CA-48CD-824B-5404ECF8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A910-95C9-4C9A-9730-0D497A6A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8B0C-FA07-4FD7-A1F7-45E1C28A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CDA8-8D63-4F33-A623-ADA294B6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B30D-C4EF-4286-94A5-390436A0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B2D6E-F00B-4E5C-B534-259F892C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DAAF8-339B-4439-AE50-7DBC7135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EF600-CF71-44B2-9FFE-D8CB0FDF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11A5-833B-43B3-B8B5-5C042DA0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41EC3-AC37-4BAF-87DA-C643AE98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85D-3BF5-4C1A-B12F-445C6F58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BB611-C657-4A53-96AB-294C7014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7BA6A-F019-4FB9-B8E4-84E089FF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30088-1193-41D7-A5A9-A7CBE19F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07843-3F6D-473F-AEF1-3D844527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4D5CC-0F7C-4673-A8DF-14924A24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9708-6CA2-4DC4-A207-EFD82D00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F1D8C-7443-4CF3-A63E-9F978135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9CFDC-FAB1-4A21-82CC-F2E726F9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D7A60-C04B-48AB-AFAE-5A5E05CC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D1465-DA09-414B-911D-999E9002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A17-4F36-4995-B9E8-BA0BC9B7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EED72-BEE4-40DA-B57F-18FB7CF8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BB3F8-85F2-45FA-9E48-603A1A20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7662E-96F4-4CAB-9044-48882CF9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0FF3E-1233-4666-A271-1877810C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02F82-CE49-4432-9945-AEE15B7E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65E16-CBBA-437F-8E3D-CB922475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C4A98-9D76-4182-AC14-6856F8B2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928F0-B028-4EC7-9583-8B6A61E1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36927-9399-4130-B0C5-4D547CDF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D83-0648-48D6-99D6-014260C0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7AA-11D0-40E3-932E-C69AD88B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2AB6-25A3-4E81-94F2-B257F185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8A2-B2A7-4E23-A1EC-E5061403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047-7CBA-474A-88C1-90441DD3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94BA-2856-4C60-B28D-C6E320AA8B24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8B2A-0112-481D-BB68-FF48EDA50EF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C35D-0620-4F51-AADE-D473C4E3DAF9}" type="datetime">
              <a:rPr b="0" lang="ru-RU" sz="1200" spc="-1" strike="noStrike">
                <a:solidFill>
                  <a:srgbClr val="bcbcbc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B669-E1BA-4DD4-BB2D-2F4CC491B2B6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ADA9-F136-4C48-A23D-7183092B6158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F42A-42AF-4A49-8FBA-ADDFDFA8583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E3A1-B614-44B4-AF6D-C7F93894A588}" type="datetime">
              <a:rPr b="0" lang="ru-RU" sz="1200" spc="-1" strike="noStrike">
                <a:solidFill>
                  <a:srgbClr val="bcbcbc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0C0A-0F26-42BA-8C41-E53ED5B6C41E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420840" y="701640"/>
            <a:ext cx="8474040" cy="46386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03280" y="536868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Проректор, проф.Масуев К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3"/>
          <p:cNvSpPr/>
          <p:nvPr/>
        </p:nvSpPr>
        <p:spPr>
          <a:xfrm>
            <a:off x="0" y="2000160"/>
            <a:ext cx="9144000" cy="42865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85520" y="285732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12"/>
                </a:solidFill>
                <a:latin typeface="Helios"/>
              </a:rPr>
              <a:t>КОНЦЕПЦИЯ РАЗВИТИЯ ЗДРАВООХРАНЕНИЯ РФ </a:t>
            </a:r>
            <a:br>
              <a:rPr sz="4400"/>
            </a:br>
            <a:r>
              <a:rPr b="1" lang="ru-RU" sz="4400" spc="-1" strike="noStrike">
                <a:solidFill>
                  <a:srgbClr val="ffff12"/>
                </a:solidFill>
                <a:latin typeface="Helios"/>
              </a:rPr>
              <a:t>ДО 2020 ГОД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571800" y="6214680"/>
            <a:ext cx="171468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РОССИЯ 200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6715080" y="607212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Прямая соединительная линия 9"/>
          <p:cNvSpPr/>
          <p:nvPr/>
        </p:nvSpPr>
        <p:spPr>
          <a:xfrm>
            <a:off x="631800" y="2565360"/>
            <a:ext cx="0" cy="2879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Прямоугольник 11"/>
          <p:cNvSpPr/>
          <p:nvPr/>
        </p:nvSpPr>
        <p:spPr>
          <a:xfrm>
            <a:off x="0" y="200016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Рисунок 10" descr="logo.jpg"/>
          <p:cNvPicPr/>
          <p:nvPr/>
        </p:nvPicPr>
        <p:blipFill>
          <a:blip r:embed="rId1"/>
          <a:stretch/>
        </p:blipFill>
        <p:spPr>
          <a:xfrm>
            <a:off x="1571760" y="285840"/>
            <a:ext cx="3071520" cy="138744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Прямоугольник 13"/>
          <p:cNvSpPr/>
          <p:nvPr/>
        </p:nvSpPr>
        <p:spPr>
          <a:xfrm>
            <a:off x="8501040" y="3714840"/>
            <a:ext cx="64296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Calibri"/>
              </a:rPr>
              <a:t>!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5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8"/>
          <p:cNvGraphicFramePr/>
          <p:nvPr/>
        </p:nvGraphicFramePr>
        <p:xfrm>
          <a:off x="0" y="500040"/>
          <a:ext cx="8786880" cy="603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0040"/>
                    <a:ext cx="87868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3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Прямоугольник 13"/>
          <p:cNvSpPr/>
          <p:nvPr/>
        </p:nvSpPr>
        <p:spPr>
          <a:xfrm>
            <a:off x="8501040" y="4643280"/>
            <a:ext cx="642960" cy="57168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6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9"/>
          <p:cNvGraphicFramePr/>
          <p:nvPr/>
        </p:nvGraphicFramePr>
        <p:xfrm>
          <a:off x="182520" y="0"/>
          <a:ext cx="8961480" cy="638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520" y="0"/>
                    <a:ext cx="8961480" cy="63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Object 9"/>
          <p:cNvGraphicFramePr/>
          <p:nvPr/>
        </p:nvGraphicFramePr>
        <p:xfrm>
          <a:off x="66600" y="189000"/>
          <a:ext cx="9026640" cy="58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89000"/>
                    <a:ext cx="902664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/>
          <p:cNvSpPr/>
          <p:nvPr/>
        </p:nvSpPr>
        <p:spPr>
          <a:xfrm>
            <a:off x="571680" y="50004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едеральные государственные образовательные стандарты (ФГОС) представляют собой совокупность требований, обязательных при реализации основных образовательных программ общего и высшего профессионального образования образовательными учреждениями, имеющими государственную аккредит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8224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357120" y="1225440"/>
            <a:ext cx="8421840" cy="527544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ТРЕБОВАНИЯ К РЕЗУЛЬТАТАМ ОСВОЕНИЯ ООП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14200" y="2285640"/>
            <a:ext cx="87868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ПУСКНИК ДОЛЖЕН ОБЛАДАТЬ ОБЩЕКУЛЬТУРНЫМИ И ПРОФЕССИОНАЛЬНЫМИ КОМПЕТЕНЦИЯМИ (НАВЫКАМ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ОБЩЕКУЛЬТУРНЫЕ КОМПЕТЕН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229600" cy="2846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285840" y="4714920"/>
            <a:ext cx="8410320" cy="1595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ПРОФЕССИОНАЛЬНЫЕ КОМПЕТЕН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357120" y="2143080"/>
            <a:ext cx="8512200" cy="371808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"/>
          <p:cNvSpPr/>
          <p:nvPr/>
        </p:nvSpPr>
        <p:spPr>
          <a:xfrm>
            <a:off x="0" y="2000160"/>
            <a:ext cx="9144000" cy="428796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7429680" y="6357600"/>
            <a:ext cx="1714320" cy="428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900" spc="-1" strike="noStrike">
                <a:solidFill>
                  <a:srgbClr val="7f7f7f"/>
                </a:solidFill>
                <a:latin typeface="Helios"/>
              </a:rPr>
              <a:t>РОССИЯ 2011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6715080" y="621504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Прямая соединительная линия 9"/>
          <p:cNvSpPr/>
          <p:nvPr/>
        </p:nvSpPr>
        <p:spPr>
          <a:xfrm flipH="1">
            <a:off x="684360" y="2565360"/>
            <a:ext cx="1440" cy="32259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Прямоугольник 11"/>
          <p:cNvSpPr/>
          <p:nvPr/>
        </p:nvSpPr>
        <p:spPr>
          <a:xfrm>
            <a:off x="0" y="2000160"/>
            <a:ext cx="9144000" cy="28728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Рисунок 10" descr="logo.jpg"/>
          <p:cNvPicPr/>
          <p:nvPr/>
        </p:nvPicPr>
        <p:blipFill>
          <a:blip r:embed="rId1"/>
          <a:stretch/>
        </p:blipFill>
        <p:spPr>
          <a:xfrm>
            <a:off x="185760" y="189000"/>
            <a:ext cx="2154240" cy="971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2"/>
          <p:cNvSpPr/>
          <p:nvPr/>
        </p:nvSpPr>
        <p:spPr>
          <a:xfrm>
            <a:off x="838080" y="3098160"/>
            <a:ext cx="812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fa3c"/>
                </a:solidFill>
                <a:latin typeface="Calibri"/>
              </a:rPr>
              <a:t>Федеральный закон от 21 ноября 2011 г. № 323-ФЗ «Об основах охраны здоровья граждан в Российской Федераци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ОБЩЕВРАЧЕБНЫЕ КОМПЕТЕН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2560" y="1714680"/>
            <a:ext cx="90010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НАУЧНО-ИССЛЕДОВАТЕЛЬСКОЙ ДЕЯТЕЛЬНОСТИ:                                                   - СПОСОБНОСТЬЮ И ГОТОВНОСТЬЮ ИЗУЧАТЬ НАУЧНО-МЕДИЦИНСКУЮ ИНФОРМАЦИЮ, ОТЕЧЕСТВЕННЫЙ И ЗАРУБЕЖНЫЙ ОПЫТ ПО ТЕМАТИКЕ ИССЛЕДОВАНИЯ (ПК 3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СПОСОБНОСТЬЮ И ГОТОВНОСТЬЮ К ОСВОЕНИЮ СОВРЕМЕННЫХ МЕТОДОВ ИССЛЕДОВАНИЯ С ЦЕЛЬЮ ПРАКТИЧЕСКОГО ИХ ВНЕДРЕНИЯ (ПК 3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7858080" cy="1523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428760" y="2071800"/>
            <a:ext cx="7929360" cy="2071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3"/>
          <a:stretch/>
        </p:blipFill>
        <p:spPr>
          <a:xfrm>
            <a:off x="357120" y="4572000"/>
            <a:ext cx="8005680" cy="160488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242892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85840" y="1981080"/>
            <a:ext cx="8794800" cy="40258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1332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179280" y="2773440"/>
            <a:ext cx="8964720" cy="28162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358120" cy="2793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500040" y="142920"/>
            <a:ext cx="8358120" cy="13431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3"/>
          <a:stretch/>
        </p:blipFill>
        <p:spPr>
          <a:xfrm>
            <a:off x="500040" y="4929120"/>
            <a:ext cx="8434440" cy="124308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85840" y="1196640"/>
            <a:ext cx="885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еятельность будущего профессионала должна быть в основе всех преобразований в системе образования и явится фактором для ликвидации проблемы недостаточной практической подготовки выпускников вуз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92880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тернатура, введенная в 1969 г., способствовала повышению уровня практической подготовки врачей. Непосредственное руководство по принципу наставничества осуществляли заведующие отделениями и имеющие большой стаж и высокую профессиональную квалификацию ведущие специалисты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Прямая соединительная линия 9"/>
          <p:cNvSpPr/>
          <p:nvPr/>
        </p:nvSpPr>
        <p:spPr>
          <a:xfrm>
            <a:off x="790560" y="6286680"/>
            <a:ext cx="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Заголовок 11"/>
          <p:cNvSpPr/>
          <p:nvPr/>
        </p:nvSpPr>
        <p:spPr>
          <a:xfrm>
            <a:off x="971640" y="18900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Object 2"/>
          <p:cNvGraphicFramePr/>
          <p:nvPr/>
        </p:nvGraphicFramePr>
        <p:xfrm>
          <a:off x="3240" y="189000"/>
          <a:ext cx="9061560" cy="60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89000"/>
                    <a:ext cx="90615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1" name="Рисунок 10" descr="logo.jpg"/>
          <p:cNvPicPr/>
          <p:nvPr/>
        </p:nvPicPr>
        <p:blipFill>
          <a:blip r:embed="rId3"/>
          <a:stretch/>
        </p:blipFill>
        <p:spPr>
          <a:xfrm>
            <a:off x="838080" y="6227640"/>
            <a:ext cx="1297080" cy="5860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1"/>
          <p:cNvSpPr/>
          <p:nvPr/>
        </p:nvSpPr>
        <p:spPr>
          <a:xfrm>
            <a:off x="8604360" y="6345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alibri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3" name="Object 3"/>
          <p:cNvGraphicFramePr/>
          <p:nvPr/>
        </p:nvGraphicFramePr>
        <p:xfrm>
          <a:off x="0" y="214200"/>
          <a:ext cx="9061560" cy="604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14200"/>
                    <a:ext cx="90615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 сравнение качества практической профессиональной подготовки врачей в России и развитых странах Западной Европы, Северной Америки и Азии, по мнению зарубежных и отечественных экспертов, далеко не в пользу врачей Росси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ольшинство зарубежных специалистов отмечают более высокую и качественную теоретическую подготовку российских студентов в процессе их обучения в медицинских вузах по сравнению со студентами зарубежных стран, в т.ч. и лидеров в области высшего образования, которыми признаны США и Япо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278136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ОЧЕМУ ЭТО ПРОИСХОДИТ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актическая подготовка учащихся не соответствует требованиям подготовки современного специалиста  и    безопасности допуска их  к осуществлению медицинской помощи пациента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4200" y="85716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сле получения диплома и сертификата специалиста, выпускник, имея тот же самый недостаточный уровень профессиональной подготовки, теперь допускается к помощи пациентам, наверстывая в процессе ее осуществления свою практическую подготовку. Причем это обучение происходит методом проб и ошибок в условиях дефицита времени, отпускаемого на прием каждого пациен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сюда рост раздражения и грубости, за масками которых скрывается незнание очевидных, простых профессиональных приём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212760" y="-133200"/>
            <a:ext cx="8718480" cy="1985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500040" y="1856880"/>
            <a:ext cx="842976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лохо собранный анамнез – в 23% случае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клиническом обследовании (осмотр, пальпация, аускультация) - 20,3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лечебно-профилактических мероприятиях - 19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лабораторно-инструментальном обследовании - 14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форме ведения приема - 11,2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шибки в экспертизе трудоспособности - 7,2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0920" y="1341000"/>
            <a:ext cx="86788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се методы обучения (чтение лекций, просмотр видеофильмов, наблюдение за работой специалистов, изучение нагляд-ных пособий и препаратов, проведение учебного исследования, решение ситуационных задач, участие в конференции, семинаре, учебная игра и т.д.), можно свести к двум принципиально разным методам обучения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«ознакомление с информацией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«выполнение обучающих заданий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2876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Новые ФГОСы основную задачу обучения определяют как «овладение компетенция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Если в целях обучения стоит задача усилить практическую подготовку, то это означает, что метод обучения «выполнения обучающих заданий» должен преобладать над методом «ознакомления с информацией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Формирование практических умений и навыков может осуществляться только с применением деятельностного подхода в обучен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Суть методик деятельностного подхода в том, чтобы учить деятельности, действиям, а не знаниям и умениям их применять</a:t>
            </a:r>
            <a:r>
              <a:rPr b="0" lang="ru-RU" sz="3200" spc="-1" strike="noStrike">
                <a:solidFill>
                  <a:srgbClr val="f0f9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 обучении нужно создавать условия для выполнения обучающимся действия неоднократно, под контролем правильности его выполнения, до полного овладения 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Прямая соединительная линия 9"/>
          <p:cNvSpPr/>
          <p:nvPr/>
        </p:nvSpPr>
        <p:spPr>
          <a:xfrm>
            <a:off x="790560" y="6286680"/>
            <a:ext cx="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Заголовок 11"/>
          <p:cNvSpPr/>
          <p:nvPr/>
        </p:nvSpPr>
        <p:spPr>
          <a:xfrm>
            <a:off x="971640" y="18900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203040" y="260280"/>
          <a:ext cx="8832960" cy="588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260280"/>
                    <a:ext cx="8832960" cy="58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5" name="Рисунок 10" descr="logo.jpg"/>
          <p:cNvPicPr/>
          <p:nvPr/>
        </p:nvPicPr>
        <p:blipFill>
          <a:blip r:embed="rId3"/>
          <a:stretch/>
        </p:blipFill>
        <p:spPr>
          <a:xfrm>
            <a:off x="838080" y="6227640"/>
            <a:ext cx="1297080" cy="5860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1"/>
          <p:cNvSpPr/>
          <p:nvPr/>
        </p:nvSpPr>
        <p:spPr>
          <a:xfrm>
            <a:off x="8604360" y="6345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4c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00040" y="4996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авное состоит в том, что для значительного повышения качества практической подготовки студентов и собственно обучения их врачебному искусству, требуется наличие у медицинских вузов достаточной клинической баз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о обучение у постели больного имеет существенный недостаток: оно может нарушить право пациента на оказание ему качественной медицинской услуги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риказ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260280"/>
            <a:ext cx="896472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едицинских вузах РФ стали организовываться фантомные центры практической подготовки или отдельные модули фантомного обучения на соответствующих кафедр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их обучение практическим врачебным умениям (от инъекции лекарственных препаратов до проведения сердечно-легочной реанимации) проводится на тренажерах, муляжах и фантом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новационным проектом в Российском образовании стало создание отдельного структурного подразделения - Центра практической подготовки, позволившего использовать междисциплинарный (межкафедрального) подход в обучении как студентов, так и слушателей системы послевузовской подготовки врачей (интернов, ординаторов и пр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здание фантомных центров диктуется также требованиями приказа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, в соответствии с которым «…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 участию в оказании медицинской помощи гражданам допускаются студенты высших и средних медицинских учебных заведений, успешно прошедшие необходимую теоретическую подготовку, имеющие практические навыки, приобретенные на муляжах (фантомах), тренажерах»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8000" y="836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центрах тренажерного обучения возможно широкое использование такого метода обучения как ролевая иг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олевая игра помещает обучающегося в ситуацию, которая включает те же ограничения, мотивацию и принуждение, какие существуют в жизни, но это не становится реальной трагедией, и даёт возможность понять, достаточна ли подготовка, что осталось упущенным в ходе обучения, имеющего строго дисциплинарный подход с регламентированными лекциями и практическими занятиям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95280" y="83628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ходе ролевой игры студенту необходимо актуализировать имеющиеся у него умения и сведения, не только те, которые он готовил к конкретной теме занятия, а все, что у него имеются, в том числе именно здесь начинают становиться остро востребованными компетенции по таким дисциплинам как психология, биоэтика, правоведение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85480" y="150012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пыт создания и функционирования Центра для практической подготовки вне клиники, выявил, что такое обучение имеет некоторые ограничения. Прежде всего оно требует больших материальных затрат, т.к. тренажеры стоят дорого из-за технической слож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000" y="105228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здание и функционирование Центра позволяет реализовывать требования Международного стандарта медицинского образования Всемирной Федерации Медицинского Образования (ВФМО), направленные на улучшение качества медицинского обра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еречисленные выше преобразования требуют пересмотра действующих учебных планов медицинских вузов, значительных первоначальных капиталовложений для закупки тренажеров, изменений организационных подходов в финансировании учебного процесса и разработку специальных методик обу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56760" y="713880"/>
            <a:ext cx="854388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днако для обеспечения высокого качества практической подготовки только наличия тренажеров не достаточно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ез больного научить врачебным умениям студента невозмож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рганы здравоохранения не озабочены предоставлением клиническим кафедрам условий для качественной подготовки врач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4200" y="1599840"/>
            <a:ext cx="87868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сли в ближайшее время не будут созданы условия для обучения на больном, то через десяток лет преподавание медицины может стать заочны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нятие «Положения о клинической больнице» в 2020 год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Федеральный закон РФ N 323-ФЗ </a:t>
            </a: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от 21 ноября 2011 г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"Об основах охраны здоровья граждан в Российской Федерации"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33573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тья 77.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обенности подготовки медицинских работников и фармацевтических работ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549360"/>
            <a:ext cx="9001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. Практическая подготовка лиц, получающих высшее и послевузовское медицинское или фармацевтическое образование…, обеспечивается путем их участия в осуществлении медицинской деятельности и фармацевтической деятельности в соответствии с образовательными программами и организуется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) на базе структурных подразделений образовательных организаций, осуществляющих медицинскую деятельность (клиник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) на базе медицинских организаций…, в которых располагаются структурные подразделения образовательных организаций (клинической базе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) на базе организаций – аптечных, судебно-экспертных учреждений и иных организаций, осуществляющих деятельность в сфере охраны здоровья, …в которых располагаются структурные подразделения образовательных и научных организаци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99972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. Организация практической подготовки медицинских работников….., осуществляется на основании договора, заключаемого между образовательной организацией и медицинской организацией….. …….Указанный договор должен содержать положения, определяющие порядок и условия использования имущества сторон договора, необходимого для организации практической подготовки, </a:t>
            </a:r>
            <a:r>
              <a:rPr b="1" i="1" lang="ru-RU" sz="2200" spc="-1" strike="noStrike">
                <a:solidFill>
                  <a:srgbClr val="f0f93d"/>
                </a:solidFill>
                <a:latin typeface="Tahoma"/>
              </a:rPr>
              <a:t>участия обучающихся и работников образовательных …организаций в медицинской и фармацевтической деятельности, в том числе порядок их участия в оказании медицинской помощи гражданам, порядок участия работников медицинских организаций…..или иных организаций, осуществляющих деятельность в сфере охраны здоровья, в образовательном процесс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Практическая подготовка на базе государственных и муниципальных организаций, осуществляющих деятельность в сфере охраны здоровья, организуется для государственной или муниципальной образовательной ….. организации на </a:t>
            </a:r>
            <a:r>
              <a:rPr b="0" i="1" lang="ru-RU" sz="3200" spc="-1" strike="noStrike">
                <a:solidFill>
                  <a:srgbClr val="f0f93d"/>
                </a:solidFill>
                <a:latin typeface="Tahoma"/>
              </a:rPr>
              <a:t>безвозмездной осно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000080"/>
            <a:ext cx="8472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При оказании медицинской помощи в рамках практической подготовки медицинских работников пациент должен быть проинформирован об участии обучающихся в оказании ему медицинской помощи и вправе отказаться от участия обучающихся в оказании ему медицинской помощи. В этом случае медицинская организация обязана оказать такому пациенту медицинскую помощь без участия обучаю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6:49:56Z</dcterms:created>
  <dc:creator>Администратор</dc:creator>
  <dc:description/>
  <dc:language>en-US</dc:language>
  <cp:lastModifiedBy>RomaK</cp:lastModifiedBy>
  <dcterms:modified xsi:type="dcterms:W3CDTF">2014-10-31T13:53:47Z</dcterms:modified>
  <cp:revision>88</cp:revision>
  <dc:subject/>
  <dc:title>РАЗВИТИЕ МЕДИЦИНСКОГО ОБРАЗОВАНИЯ В РОССИИ: НОВЫЕ ОБРАЗОВАТЕЛЬНЫЕ СТАНДАРТЫ.</dc:title>
</cp:coreProperties>
</file>